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131A-B222-4754-832A-0CA212D30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420E-856C-434C-9C94-9E003ECF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FC0A-E07B-4865-AA19-FECC0A411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59DD-F8AE-4EEE-90A8-D42F8F54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9E3C-8162-4BEA-97E9-24FB042DC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0E3B-B643-430E-8373-130005A8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BurnRate runs continuously on its own, prompting the user for a new burn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design the “compute new values” determines how much time has passed.  Could alternatively do that in the GetBurnRate filter.  Would change semantics a b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BF6B-DA9F-4B77-8C1C-3E6DE40EF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program displays greetings and instructions, then enters a loop in which it calls the three subroutines in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6FBF-8C4D-4B78-9643-8B6EA9DD5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8B68-0341-4995-9216-C7D22D25C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2E52-E80C-44C5-B4DF-95C7A3965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8586-1917-4049-BD0C-5478B8150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6C2B-AA26-4802-9641-F98EDF770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D92D-8C4A-4395-8E89-8080EF9D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D1BF-F0A1-4BDF-88D0-B8802CEF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E92B0-18E6-420B-A935-175BF898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13EC-29A7-4196-BF11-A0497DA3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F637-9F7B-47B9-92FC-7E41FC24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6E55-6D12-43E0-8A50-3AF01AA8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5FCC-C278-458B-85A4-7E0A934B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4EF8-0116-43C5-837F-ED3FC29A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42FA-C16D-4761-98E8-82FDB912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1001-02E7-4B66-8220-67E78D54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03B7-DC70-4115-8618-1A8C8F42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02D3F-0C0D-4CB8-81FD-82AB1908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AD45-297F-4BB4-AED1-A948A847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3217-69FF-46B9-830B-C8D4EF1D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44A1-1BE5-42AC-BF2B-99E5CD01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D3C1-BE8C-453E-B304-C776F1C2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51A1-4727-4CFF-9B0B-323B90C0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FAFC3-63C0-404C-801C-3D51481B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B590-D453-457B-AB81-7656028D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B7FD9-631E-4784-A8C0-0215B2C9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0CEA-5B8C-467E-B0BD-2C63C478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764A-427D-4782-A8B5-5440B458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5F5D-B136-42E5-9AD2-8DECFC70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7779-0921-420D-AA58-8074D78A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2FEB-AA9E-4E93-A7C3-E5F2050569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D48-D20F-402C-878C-4E8E797852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ctural Styles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rt I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5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yered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66FC-353F-406D-A237-7ECC7129D3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layeredVM_Use"/>
          <p:cNvPicPr/>
          <p:nvPr/>
        </p:nvPicPr>
        <p:blipFill>
          <a:blip r:embed="rId1"/>
          <a:stretch/>
        </p:blipFill>
        <p:spPr>
          <a:xfrm>
            <a:off x="5867280" y="990720"/>
            <a:ext cx="1386000" cy="5422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ent-Server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clients and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do not know number or identities of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s know server’s id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 are RPC-based network interactio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E276-093D-4547-9052-87140337F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ent-Server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9087-5583-47DC-82D7-630EA4B588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clientServer_Use"/>
          <p:cNvPicPr/>
          <p:nvPr/>
        </p:nvPicPr>
        <p:blipFill>
          <a:blip r:embed="rId1"/>
          <a:stretch/>
        </p:blipFill>
        <p:spPr>
          <a:xfrm>
            <a:off x="1884240" y="1994040"/>
            <a:ext cx="5375520" cy="4089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-Flow Sty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 Sequen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programs are executed in order; data is passed as an aggregate from one program to the nex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: “The human hand” carrying tapes between the programs, a.k.a. “sneaker-net 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lements: Explicit, aggregate elements passed from one component to the next upon completion of the producing program’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 uses: Transaction processing in financial systems. “The Granddaddy of Styl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7374-3101-4FE2-8ECC-CEDC871898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tch-Sequential: A Financial Applic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48BF-2F0B-48A9-96A1-797013CD1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Fig4-13BatchSequential(Financial)"/>
          <p:cNvPicPr/>
          <p:nvPr/>
        </p:nvPicPr>
        <p:blipFill>
          <a:blip r:embed="rId1"/>
          <a:stretch/>
        </p:blipFill>
        <p:spPr>
          <a:xfrm>
            <a:off x="609480" y="2286000"/>
            <a:ext cx="7885080" cy="3100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tch-Sequential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174D-37A0-4A92-BFDF-0381A4E20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Fig4-14LLBatchSequential"/>
          <p:cNvPicPr/>
          <p:nvPr/>
        </p:nvPicPr>
        <p:blipFill>
          <a:blip r:embed="rId1"/>
          <a:stretch/>
        </p:blipFill>
        <p:spPr>
          <a:xfrm>
            <a:off x="685800" y="2349360"/>
            <a:ext cx="7808760" cy="2033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524960" y="5181480"/>
            <a:ext cx="59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recipe for a successful lunar miss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ipe and Filter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are fil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form input data streams into output data stre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y incremental production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nectors are pip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uits for data stre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yle invaria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ters are independent (no shared stat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ter has no knowledge of up- or down-stream filt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X she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syste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llel programm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s invoices | grep -e August | s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E3D1-5A6E-400A-898D-96A76F5D6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ipe and Filter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lines — linear sequences of fil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unded pipes — limited amount of data on a pi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d pipes — data strongly typ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stem behavior is a succession of component behavi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 addition, replacement, and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sible to hook any two filters together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ertain analy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roughput, latency, deadloc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urrent exec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2B88-0AB1-47C1-AB77-98ABA346AE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ipe and Filter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 organization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common denominator on data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38BB-5240-400D-83B9-7FBE2BA52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ipe and Filter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1EBF-F9D0-4247-90AB-CEFFA906F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pipeFilter_Use"/>
          <p:cNvPicPr/>
          <p:nvPr/>
        </p:nvPicPr>
        <p:blipFill>
          <a:blip r:embed="rId1"/>
          <a:stretch/>
        </p:blipFill>
        <p:spPr>
          <a:xfrm>
            <a:off x="932040" y="2855880"/>
            <a:ext cx="7278480" cy="11448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in Program and Subroutines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432F-1D06-4BF1-B8E4-97B12A0F8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mainProcSubs_Use"/>
          <p:cNvPicPr/>
          <p:nvPr/>
        </p:nvPicPr>
        <p:blipFill>
          <a:blip r:embed="rId1"/>
          <a:stretch/>
        </p:blipFill>
        <p:spPr>
          <a:xfrm>
            <a:off x="685800" y="2057400"/>
            <a:ext cx="7715160" cy="3305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lackboard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kinds of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data structure — black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operating on the blackbo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control is entirely driven by the blackboard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d for AI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ed software environments (e.g., Interlis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D18F-7629-4219-B191-CFC68FCA7A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lackboard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1A52-1F44-4095-8ABF-0A2B9C26EF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blackboard_Use"/>
          <p:cNvPicPr/>
          <p:nvPr/>
        </p:nvPicPr>
        <p:blipFill>
          <a:blip r:embed="rId1"/>
          <a:stretch/>
        </p:blipFill>
        <p:spPr>
          <a:xfrm>
            <a:off x="1614600" y="1860480"/>
            <a:ext cx="5914800" cy="3137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ule-Based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ence engine parses user input and determines whether it is a fact/rule or a query. If it is a fact/rule, it adds this entry to the knowledge base. Otherwise, it queries the knowledge base for applicable rules and attempts to resolve the que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6317-0F5D-4E8D-B30D-AA4D35750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ule-Based Style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: User interface, inference engine, knowledge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: Components are tightly interconnected, with direct procedure calls and/or shared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lements: Facts and que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of the application can be very easily modified through addition or deletion of rules from the knowledge ba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tion: When a large number of rules are involved understanding the interactions between multiple rules affected by the same facts can bec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fficu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23CB-D29C-4CCD-817D-DDC36155ED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ule Based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77CC-0935-4DD2-B0EA-D803B2C11E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3" descr="ruleBased_ExpertSystem_Use"/>
          <p:cNvPicPr/>
          <p:nvPr/>
        </p:nvPicPr>
        <p:blipFill>
          <a:blip r:embed="rId1"/>
          <a:stretch/>
        </p:blipFill>
        <p:spPr>
          <a:xfrm>
            <a:off x="4800600" y="914400"/>
            <a:ext cx="3143160" cy="53229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rpreter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preter parses and executes input commands, updating the state maintained by the interpre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onents: Command interpreter, program/interpreter state, user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nectors: Typically very closely bound with direct procedure calls and shared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ly dynamic behavior possible, where the set of commands is dynamically modified.  System architecture may remain constant while new capabilities are created based upon existing primiti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erb for end-user programmability; supports dynamically changing set of capabil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p and Sche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62B4-BA44-4EE5-84D6-D7D258EA7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rpreter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CFE1-0D72-48B0-8F09-136EE6D8E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3" descr="interpreter_Use"/>
          <p:cNvPicPr/>
          <p:nvPr/>
        </p:nvPicPr>
        <p:blipFill>
          <a:blip r:embed="rId1"/>
          <a:stretch/>
        </p:blipFill>
        <p:spPr>
          <a:xfrm>
            <a:off x="4876920" y="990720"/>
            <a:ext cx="3227400" cy="53038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bile-Code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: a data element (some representation of a program) is dynamically transformed into a data processing compon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: “Execution dock”, which handles receipt of code and state; code compiler/interpr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: Network protocols and elements for packaging code and data for transmi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lements: Representations of code as data; program state;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nts: Code-on-demand, remote evaluation, and mobile ag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C989-E005-4DEA-952F-D1CECE103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bile Code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6B59-D32B-418E-BDB1-422A8CEDDF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3" descr="mobileCode_Use"/>
          <p:cNvPicPr/>
          <p:nvPr/>
        </p:nvPicPr>
        <p:blipFill>
          <a:blip r:embed="rId1"/>
          <a:stretch/>
        </p:blipFill>
        <p:spPr>
          <a:xfrm>
            <a:off x="1884240" y="1828800"/>
            <a:ext cx="5375520" cy="3549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462240" y="563868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ing languages (i.e. JavaScrip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BScript), ActiveX contro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dded Word/Excel mac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-Oriented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onents are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and associated oper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nectors are messages and method invo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yle invari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s are responsible for their internal representation integr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 representation is hidden from other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inite malleability” of object intern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ystem decomposition into sets of interacting ag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s must know identities of serv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de effects in object method invo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3E19-101B-4CA6-9B44-808EDD010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-Oriented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EED4-A469-4A11-A0A0-8D2EFAC30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objectOriented_Use"/>
          <p:cNvPicPr/>
          <p:nvPr/>
        </p:nvPicPr>
        <p:blipFill>
          <a:blip r:embed="rId1"/>
          <a:stretch/>
        </p:blipFill>
        <p:spPr>
          <a:xfrm>
            <a:off x="1517760" y="1789200"/>
            <a:ext cx="6108480" cy="3278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O/LL in UM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1BAC-2E68-4FCE-9765-AECDC9339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objectOriented_uml"/>
          <p:cNvPicPr/>
          <p:nvPr/>
        </p:nvPicPr>
        <p:blipFill>
          <a:blip r:embed="rId1"/>
          <a:stretch/>
        </p:blipFill>
        <p:spPr>
          <a:xfrm>
            <a:off x="2419200" y="1662120"/>
            <a:ext cx="4303800" cy="3532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yered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erarchical system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level client-serve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ayer exposes an interface (API) to be used by above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ayer acts a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rvice provider to layers “abov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rvice consumer of layer(s) “below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 are protocols of layer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operat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irtual mach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yle results from fully opaque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5A03-4410-400A-B642-2261874E9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yered Style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in a layer affect at most the adjacent two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implementations of layer are allowed as long as interface is p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d layer interfaces for libraries and frame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A50D-DD55-4D79-9663-DFEE001EB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yered Style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niversally appli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may have to be skipp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ing the correct abstract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971E-A497-422C-991B-6AAAEEFDAC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yered Systems/Virtual Machin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3D02-8179-4257-9314-CBA466A67A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Fig4-10LayeredSystemsNotional"/>
          <p:cNvPicPr/>
          <p:nvPr/>
        </p:nvPicPr>
        <p:blipFill>
          <a:blip r:embed="rId1"/>
          <a:stretch/>
        </p:blipFill>
        <p:spPr>
          <a:xfrm>
            <a:off x="2057400" y="1689120"/>
            <a:ext cx="5105520" cy="4629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10-29T20:12:03Z</dcterms:modified>
  <cp:revision>43</cp:revision>
  <dc:subject>Software Architecture: Foundations, Theory, and Practice</dc:subject>
  <dc:title>Architectural Styles</dc:title>
</cp:coreProperties>
</file>