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CDFF-D551-41D5-9426-0731CCB1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2F11-C551-40D2-91E1-B8B90B8BA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FB55-4DA7-4B99-BFC5-1DFBA4C66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C5A-0707-46CA-9C6A-21982B9B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444B-7CB7-4357-8A2C-738D7469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7DD-755A-449C-9681-7073B137A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BurnRate runs continuously on its own, prompting the user for a new burn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design the “compute new values” determines how much time has passed.  Could alternatively do that in the GetBurnRate filter.  Would change semantics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FCE5-2FF9-468A-9253-7DCD3F72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rogram displays greetings and instructions, then enters a loop in which it calls the three subroutines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71A6-19D1-48BC-9233-09F0355EE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5542-CEE3-4AF0-B402-35776369A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94DA-7C2C-42E9-9F1C-380CCA5F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5726-4EB9-4D61-946A-49EF0BE0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0C04-7A4D-42ED-9792-190BFBAE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F61B-50E8-4E71-B8A6-FF5B702C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997A-59AE-4232-9A4A-F40FB47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C298-2130-4939-B698-C45C0CB0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273E-2BAB-40A7-A9EF-7621DB77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3A58-8A73-4F00-86CA-E78DA703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FC13-C603-4E49-9E40-A13C4217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0DAC-C61E-4375-B2B6-09739400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FFDE-2420-4D6F-9A43-658758A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9909-303F-4B77-987D-8382AE02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3BFE-979C-4678-87A1-C3F5A0AE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25D1-ED5B-4788-A1AB-1DB5E9E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04CE-07F1-40AB-995F-5024956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C6D9-4D61-45CE-A0C1-B7BB857A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682F-2570-46B7-AB7C-3404FFBC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5764-C5BB-49E4-B84B-97B3C684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A104-146C-4DB9-9564-AEEDAC24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FF69-F80F-4ECD-A7AB-A691BBD5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D593-AAA8-4F44-A8BD-478B001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C990-B968-4F05-9E89-986BE868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5362-5BEF-4A85-8CB0-7F0BFE36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039B-19B7-499F-AB17-8A9C435B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14A0-AA5F-4B90-BCCF-84BA5CF9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1D3F-3252-468F-B4C6-0F02F870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20E1-5711-42D7-B996-F845A419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B42B-5352-40D9-B763-49398A927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811-3862-40EE-BFE0-DAB1EFDD7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ctural Styles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rt 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9C7-EAA1-4F57-93A9-048E5EA1F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layeredVM_Use"/>
          <p:cNvPicPr/>
          <p:nvPr/>
        </p:nvPicPr>
        <p:blipFill>
          <a:blip r:embed="rId1"/>
          <a:stretch/>
        </p:blipFill>
        <p:spPr>
          <a:xfrm>
            <a:off x="5867280" y="990720"/>
            <a:ext cx="1386000" cy="542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ent-Server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clients and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do not know number or identities of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know server’s id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are RPC-based network interactio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EE45-8C06-4653-9877-AC3F6F644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ent-Server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0382-00B2-4124-B911-D66D0D435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clientServer_Use"/>
          <p:cNvPicPr/>
          <p:nvPr/>
        </p:nvPicPr>
        <p:blipFill>
          <a:blip r:embed="rId1"/>
          <a:stretch/>
        </p:blipFill>
        <p:spPr>
          <a:xfrm>
            <a:off x="1884240" y="1994040"/>
            <a:ext cx="5375520" cy="4089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-Flow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 Sequ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programs are executed in order; data is passed as an aggregate from one program to the n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: “The human hand” carrying tapes between the programs, a.k.a. “sneaker-net 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lements: Explicit, aggregate elements passed from one component to the next upon completion of the producing program’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uses: Transaction processing in financial systems. “The Granddaddy of Styl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B569-9169-41CA-8733-58BE4E174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tch-Sequential: A Financial Applic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D928-666E-4D35-8B3A-6D2ED72FD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Fig4-13BatchSequential(Financial)"/>
          <p:cNvPicPr/>
          <p:nvPr/>
        </p:nvPicPr>
        <p:blipFill>
          <a:blip r:embed="rId1"/>
          <a:stretch/>
        </p:blipFill>
        <p:spPr>
          <a:xfrm>
            <a:off x="609480" y="2286000"/>
            <a:ext cx="7885080" cy="3100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tch-Sequential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AB7B-6B8A-4CE1-B252-B4E3E1363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Fig4-14LLBatchSequential"/>
          <p:cNvPicPr/>
          <p:nvPr/>
        </p:nvPicPr>
        <p:blipFill>
          <a:blip r:embed="rId1"/>
          <a:stretch/>
        </p:blipFill>
        <p:spPr>
          <a:xfrm>
            <a:off x="685800" y="2349360"/>
            <a:ext cx="7808760" cy="2033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524960" y="518148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recipe for a successful lunar miss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pe and Filter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are fil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form input data streams into output data stre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y incremental production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nectors are pi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its for data stre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yle invaria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ters are independent (no shared stat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ter has no knowledge of up- or down-stream fil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X she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syste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llel program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 invoices | grep -e August | s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1303-7BBB-4D93-AA27-55A061153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pe and Filter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es — linear sequences of fil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unded pipes — limited amount of data on a pi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d pipes — data strongly typ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stem behavior is a succession of component behavi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 addition, replacement, and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sible to hook any two filters togethe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rtain analy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ughput, latency, dead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urrent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3967-5BBC-4C52-9B80-199A79BBC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pe and Filter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 organization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common denominator on data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CBD9-18CA-4FA3-908E-447134B28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pe and Filter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625D-37FA-4E0A-93EE-5B1C3EF7D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pipeFilter_Use"/>
          <p:cNvPicPr/>
          <p:nvPr/>
        </p:nvPicPr>
        <p:blipFill>
          <a:blip r:embed="rId1"/>
          <a:stretch/>
        </p:blipFill>
        <p:spPr>
          <a:xfrm>
            <a:off x="932040" y="2855880"/>
            <a:ext cx="7278480" cy="1144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in Program and Subroutines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595F-541B-418F-A8B2-B42DA7F85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mainProcSubs_Use"/>
          <p:cNvPicPr/>
          <p:nvPr/>
        </p:nvPicPr>
        <p:blipFill>
          <a:blip r:embed="rId1"/>
          <a:stretch/>
        </p:blipFill>
        <p:spPr>
          <a:xfrm>
            <a:off x="685800" y="2057400"/>
            <a:ext cx="7715160" cy="3305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ackboard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kinds of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data structure — black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operating on the black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control is entirely driven by the blackboard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d for AI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ed software environments (e.g., Interli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D63E-3DF9-437C-8727-003743413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ackboard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B172-1DE9-4681-B2E4-DA426094A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blackboard_Use"/>
          <p:cNvPicPr/>
          <p:nvPr/>
        </p:nvPicPr>
        <p:blipFill>
          <a:blip r:embed="rId1"/>
          <a:stretch/>
        </p:blipFill>
        <p:spPr>
          <a:xfrm>
            <a:off x="1614600" y="1860480"/>
            <a:ext cx="5914800" cy="3137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ule-Based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ence engine parses user input and determines whether it is a fact/rule or a query. If it is a fact/rule, it adds this entry to the knowledge base. Otherwise, it queries the knowledge base for applicable rules and attempts to resolve the que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0D12-A7CD-4EB0-BFB1-506BB40E3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ule-Based Styl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: User interface, inference engine, knowledge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: Components are tightly interconnected, with direct procedure calls and/or shared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lements: Facts and qu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of the application can be very easily modified through addition or deletion of rules from the knowledge ba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tion: When a large number of rules are involved understanding the interactions between multiple rules affected by the same facts can bec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ffic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E8F-61A4-4DB1-86BD-DFC0896D3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ule Based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E431-BDD7-4B71-A362-CF45FE290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ruleBased_ExpertSystem_Use"/>
          <p:cNvPicPr/>
          <p:nvPr/>
        </p:nvPicPr>
        <p:blipFill>
          <a:blip r:embed="rId1"/>
          <a:stretch/>
        </p:blipFill>
        <p:spPr>
          <a:xfrm>
            <a:off x="4800600" y="914400"/>
            <a:ext cx="3143160" cy="5322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preter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reter parses and executes input commands, updating the state maintained by the interpre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nents: Command interpreter, program/interpreter state, user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nectors: Typically very closely bound with direct procedure calls and shared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ly dynamic behavior possible, where the set of commands is dynamically modified.  System architecture may remain constant while new capabilities are created based upon existing primiti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erb for end-user programmability; supports dynamically changing set of capabil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 and Sche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814-60A6-4303-B977-855CE9DD6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preter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0468-2BE1-4C58-893F-FB40ACE5B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interpreter_Use"/>
          <p:cNvPicPr/>
          <p:nvPr/>
        </p:nvPicPr>
        <p:blipFill>
          <a:blip r:embed="rId1"/>
          <a:stretch/>
        </p:blipFill>
        <p:spPr>
          <a:xfrm>
            <a:off x="4876920" y="990720"/>
            <a:ext cx="3227400" cy="5303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e-Cod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: a data element (some representation of a program) is dynamically transformed into a data processing compon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: “Execution dock”, which handles receipt of code and state; code compiler/interpr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: Network protocols and elements for packaging code and data for transmi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lements: Representations of code as data; program state;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s: Code-on-demand, remote evaluation, and mobile ag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FA75-B2C6-425E-9272-EB58132E8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e Code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3AB-2DDF-4175-84AC-43A78E509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3" descr="mobileCode_Use"/>
          <p:cNvPicPr/>
          <p:nvPr/>
        </p:nvPicPr>
        <p:blipFill>
          <a:blip r:embed="rId1"/>
          <a:stretch/>
        </p:blipFill>
        <p:spPr>
          <a:xfrm>
            <a:off x="1884240" y="1828800"/>
            <a:ext cx="5375520" cy="3549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462240" y="56386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ing languages (i.e. JavaScrip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Script), ActiveX contr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ed Word/Excel mac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-Oriented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nents are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nd associ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nectors are messages and method invo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yle invari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s are responsible for their internal representation integr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 representation is hidden from other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inite malleability” of object intern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stem decomposition into sets of interacting ag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s must know identities of serv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de effects in object method invo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B259-9718-4AFA-A7A2-D3C66BDD8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-Oriented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D39-5835-497A-B224-877006BAB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objectOriented_Use"/>
          <p:cNvPicPr/>
          <p:nvPr/>
        </p:nvPicPr>
        <p:blipFill>
          <a:blip r:embed="rId1"/>
          <a:stretch/>
        </p:blipFill>
        <p:spPr>
          <a:xfrm>
            <a:off x="1517760" y="1789200"/>
            <a:ext cx="6108480" cy="3278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O/LL in UM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F216-298F-4CDF-975B-8751A3DA3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objectOriented_uml"/>
          <p:cNvPicPr/>
          <p:nvPr/>
        </p:nvPicPr>
        <p:blipFill>
          <a:blip r:embed="rId1"/>
          <a:stretch/>
        </p:blipFill>
        <p:spPr>
          <a:xfrm>
            <a:off x="2419200" y="1662120"/>
            <a:ext cx="4303800" cy="353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ical system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level client-serv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ayer exposes an interface (API) to be used by above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ayer acts a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rvice provider to layers “abov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rvice consumer of layer(s) “below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are protocols of layer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opera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rtual mach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yle results from fully opaque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EE3A-9BEF-46CC-87F7-6717F776C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Styl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in a layer affect at most the adjacent two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implementations of layer are allowed as long as interface is p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d layer interfaces for libraries and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7BC4-AA23-4976-AB2C-0235DA4EB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Styl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niversally appli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may have to be skip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ing the correct abstrac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CB61-F6B5-47EB-AC7E-806777F13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Systems/Virtual Machin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C27F-5BD7-432B-99D0-A745E7610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Fig4-10LayeredSystemsNotional"/>
          <p:cNvPicPr/>
          <p:nvPr/>
        </p:nvPicPr>
        <p:blipFill>
          <a:blip r:embed="rId1"/>
          <a:stretch/>
        </p:blipFill>
        <p:spPr>
          <a:xfrm>
            <a:off x="2057400" y="1689120"/>
            <a:ext cx="5105520" cy="4629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10-29T20:12:03Z</dcterms:modified>
  <cp:revision>43</cp:revision>
  <dc:subject>Software Architecture: Foundations, Theory, and Practice</dc:subject>
  <dc:title>Architectural Styles</dc:title>
</cp:coreProperties>
</file>