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DA1-4F96-4C3A-A62F-3A4404C9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398-7B0C-4919-847B-ADD7E969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A5F9F-799C-4B8D-B543-A9619B1C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8A43F-65F8-476C-B392-D21B24F3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FCAC3-EA64-4C61-A658-6F33C7EC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5F121-016C-4704-9AE7-6C3F5E8B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6BCAD-ADF7-4B77-B349-84F2F9D0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070A3-0CE3-4525-A611-B41654A0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EDB46-7DFA-4AD9-8D3B-4A362420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2A5AF-9FAF-4E85-AF97-445307F3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EDF2F-1182-4A6A-A4A2-B20B2664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F6B-1D85-4D10-A0BA-D7FD2BBB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EB2-1763-45D8-9A3E-F4A8C984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124B-2D91-4084-88B3-37CA3A5E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E64D-F277-403E-8885-F9C592D5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94C1-D44A-409F-BB03-6FA6E8DD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3088-853F-4E2B-8224-37A1D760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6C0A-B125-4076-A93D-67C17C2A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071F-059F-4D60-848E-30F875AE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71E9-F2EA-4F58-A801-48A3EA00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647-C217-499F-AB16-BCF464E2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6F92-670F-48FE-BBCE-8DB4A5EF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2E54-728D-40D4-9A6C-7E6E0459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BD83-85A0-443D-B63B-812B6366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AAEB-2B1D-457C-B41A-88827465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08A8-520D-4653-9772-85C093C4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EF377-2E00-448F-A17E-F66FD11B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AB896-15D7-4495-9B82-B173AD3C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A5667-43E7-470F-8746-F9A651C9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4520A-232B-4E00-9409-0FFB2CBD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E69D3-94B5-4A15-8505-954E6683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93C-E1D1-48D7-A970-0C5C052C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DC73A-A80B-4C67-BFE5-1FE656D4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9A8A2-EC62-4EBB-993F-E0142B67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DD5F2-2ADA-4DED-A30D-CCED8D0A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02800-BC6F-4619-9C2A-456D55DB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8858F-232E-4F8E-A5C4-7AF76D51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356DC-F46E-4F89-B8E8-50793BAE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8A795-A29D-46BB-AE44-F826DA93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F7167-B2F5-4D22-A1D6-693BAFEC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23B3B-F162-4EFE-9713-56D8DDA9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125CB-FAA2-4785-B975-386639B8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3BE-86D5-4EFB-AC26-E0B18DFA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14122-3D2D-48DF-8792-8A969701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4116F4-45FE-4AEB-B315-909A9DD1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A9B4E3-6C2E-46B2-A903-C1509467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D94A4-4CAD-42B5-B1E0-3EA33EB9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725B4-528F-4C8B-86FF-49B97C27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7478BC-078B-4881-9F89-1769446B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5C5E74-1976-4076-A94D-551F079B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7FAE9-74E5-4E10-A58B-9B0815F4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5BCDA-A4D9-4B26-8EA6-56B4B825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E9434-BA25-4C29-AB67-D74E69AC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4CF-DB87-441C-97BB-B9AFC77A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B23FC-9A5B-4A3F-B10B-1DCCC645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492E2-10FC-4C1B-8270-E267E4F9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1F968-5FA5-4893-A50C-72B20E14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BFEE3-9699-44A0-98C4-8067F620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926CF-26EF-4D5E-B2F7-208B3D4B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F23EF-D8D8-4ACB-B6AA-F520425D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44DEA-2563-4B83-A051-6297850D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CF49E-79A6-4920-B59A-D242AC4A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AEFA0-6122-4C59-894B-F745FFBE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DCD08-F467-41EC-81FB-D152AC3A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904-C441-4542-B0BD-050320E5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A820E-FFDF-4EDB-9DFE-A27A03D9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08F9E-BED1-4641-BD48-A788E5AE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61CED-3511-4FAB-816D-C3E531FC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46B7B-C5A0-4AAD-B910-F1E6A155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430F3-193D-4DCE-8512-7C9E3007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ACB38-1E8C-4BB8-B174-F1050ADA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E2E8A-D332-418B-AF3C-C5DD904F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99E0A-0A29-4923-ADBC-D20E73F5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6E161-8602-41C5-80C4-DDF1AE85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DF5B2-E51D-4913-A7C8-12E23DE3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E9D-AD3C-48A2-BC9C-ABDAB2AD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2DAEE-89EB-4C5C-9BAA-EE23D13D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8BA08-3A8E-4DF1-9A23-6A7E9B83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81987-8BEC-4F27-84AB-F1899E13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7C8B81-9C28-4575-BE96-EF2411D0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779AA-55D2-4133-851D-9177A7EF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3358FC-B7C9-43A6-A70F-AE68572A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E9FFFB-2C24-4B47-9080-74BBBD72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468306-411F-4802-BD4B-5FF07ECD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A55FB-4CDE-4810-A06B-F18705C9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A2F37-A229-43B7-BC20-44A196FA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9E5-771E-493A-A339-7D62C1A5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A4355-4200-4594-BBE1-57047C63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0ED0D-7C7D-4E2E-8567-9E0E7D20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B0B59-1F0A-41B7-98AF-A71D0882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B8C9E-0BCB-44F9-8AAE-48E5392C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CF2AC4-DA31-43E5-8531-124DEC17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B701E-9B46-4686-B83C-868C55D2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7D943-DF64-4CAF-A31A-5CCBA143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97A87-8D48-4384-906B-047B0498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9D10E-B853-4994-AE7A-74F18D09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6BE5C-37FF-49E6-A869-A85007CA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A02-D69F-4705-9F71-E8316ECA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ED038-9AB5-4ECB-977B-36964099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CC1AF-BABA-4D05-924E-13BEE6E0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41410-67E6-4F75-88AA-55E56665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B258D-6B00-4332-A6C9-4B7C1D57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A3463-829F-4B85-86A4-E333D315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9225C-0DDB-4D02-BAA3-C1A55C61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C2602-0BB3-4252-8CB3-CE70C7E9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E0609-5833-49C9-8E4A-F584818E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3BECA-04A4-427A-B754-11854391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10390-DA57-47D5-90AA-FB52EAE3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7554-6E3B-43AE-97EF-5FA6A06F291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487E-34CF-4D45-9801-E6B541C8D102}" type="slidenum">
              <a:rPr b="1" lang="ar-SA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A458-2844-4B3B-89EE-1ADB0C9C2818}" type="slidenum"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6B7D-DFB4-40F7-A0D6-CEE378CD1EF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7CD1-6AAF-47A8-A0E7-C4A91206CA2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F1EB-7C84-4B55-8B70-422526D21A6D}" type="slidenum">
              <a:rPr b="1" lang="ar-SA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C969-8277-48FF-891F-84DDDAD654EA}" type="slidenum"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6D47-B49E-4B72-9D7C-AA0F38CDF86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6709-F425-468F-87D6-4D40FFEBC16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900000" y="189000"/>
            <a:ext cx="8064720" cy="2574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</a:rPr>
              <a:t>الـــصعوبات الــتي تـعيق استخدام الأســــلوب الــــــعلمي في إدارة الــــــمزار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4211640" y="5013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4"/>
          <p:cNvSpPr/>
          <p:nvPr/>
        </p:nvSpPr>
        <p:spPr>
          <a:xfrm>
            <a:off x="1042920" y="2781360"/>
            <a:ext cx="7777080" cy="3384360"/>
          </a:xfrm>
          <a:custGeom>
            <a:avLst/>
            <a:gdLst>
              <a:gd name="textAreaLeft" fmla="*/ 398880 w 7777080"/>
              <a:gd name="textAreaRight" fmla="*/ 7378200 w 7777080"/>
              <a:gd name="textAreaTop" fmla="*/ 398880 h 3384360"/>
              <a:gd name="textAreaBottom" fmla="*/ 2985480 h 3384360"/>
            </a:gdLst>
            <a:ahLst/>
            <a:rect l="textAreaLeft" t="textAreaTop" r="textAreaRight" b="textAreaBottom"/>
            <a:pathLst>
              <a:path w="4963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6033" y="21600"/>
                </a:lnTo>
                <a:arcTo wR="3600" hR="3600" stAng="10800000" swAng="5400000"/>
                <a:lnTo>
                  <a:pt x="49633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614e4e"/>
              </a:gs>
            </a:gsLst>
            <a:lin ang="5400000"/>
          </a:grad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Monotype Koufi"/>
              </a:rPr>
              <a:t>تعاني أغلب الأقطار العربية من غياب أو ضعف الدور الذي يقوم به قطا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Monotype Koufi"/>
              </a:rPr>
              <a:t>الإرشاد الزراعي في الزراعة الحديثة، ومن المعروف أن للإرشاد الزرا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Monotype Koufi"/>
              </a:rPr>
              <a:t> دوراً هاماً وضرورياً في الزراعة الحديثة فيناط بهذا القطاع مهم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Monotype Koufi"/>
              </a:rPr>
              <a:t> تحويل نتائج البحوث والتجارب إلى تطبيق على أرض الواقع. ويعاني هذ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Monotype Koufi"/>
              </a:rPr>
              <a:t>القطاع من نقص شديد في المختصين في هذا المجال، وبالتال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Monotype Koufi"/>
              </a:rPr>
              <a:t>غياب البرامج العلمية لتحويل نتائج البحوث وتطبيقها وإستخدا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Monotype Koufi"/>
              </a:rPr>
              <a:t>الاسلوب العلمي في الزراع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WordArt 15"/>
          <p:cNvSpPr txBox="1"/>
          <p:nvPr/>
        </p:nvSpPr>
        <p:spPr>
          <a:xfrm>
            <a:off x="2843280" y="1989000"/>
            <a:ext cx="59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PT Bold Heading"/>
              </a:rPr>
              <a:t>1-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PT Bold Heading"/>
              </a:rPr>
              <a:t>ضعف برامج الارشاد الزراعي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PT Bold Heading"/>
              <a:ea typeface="PT Bold Heading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50"/>
                            </p:stCondLst>
                            <p:childTnLst>
                              <p:par>
                                <p:cTn id="13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6"/>
          <p:cNvSpPr/>
          <p:nvPr/>
        </p:nvSpPr>
        <p:spPr>
          <a:xfrm>
            <a:off x="611280" y="134136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9"/>
          <p:cNvSpPr txBox="1"/>
          <p:nvPr/>
        </p:nvSpPr>
        <p:spPr>
          <a:xfrm>
            <a:off x="1116000" y="406440"/>
            <a:ext cx="799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2-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الــــفارق الــــــكبير بين الــــتنمية الــــمادية والــــبشرية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PT Bold Heading"/>
              <a:ea typeface="PT Bold Heading"/>
            </a:endParaRPr>
          </a:p>
        </p:txBody>
      </p:sp>
      <p:sp>
        <p:nvSpPr>
          <p:cNvPr id="401" name="AutoShape 10"/>
          <p:cNvSpPr/>
          <p:nvPr/>
        </p:nvSpPr>
        <p:spPr>
          <a:xfrm>
            <a:off x="468360" y="1628640"/>
            <a:ext cx="8280360" cy="4176720"/>
          </a:xfrm>
          <a:prstGeom prst="bevel">
            <a:avLst>
              <a:gd name="adj" fmla="val 3824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660033"/>
            </a:solidFill>
            <a:miter/>
          </a:ln>
          <a:effectLst>
            <a:outerShdw dist="137587" dir="19578596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80"/>
                </a:solidFill>
                <a:latin typeface="Arial"/>
                <a:cs typeface="Monotype Koufi"/>
              </a:rPr>
              <a:t>بلغت الاستثمارات المادية في قطاع الزراعة في أغلب أقطار الوطن العربي وخاصة في الأقط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 النفطية درجة كبيرة على المستوى المادي وتم استصلاح الآلاف من الهكتار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 وإقامة الآلاف من المزارع إلا أنه ولد واعي أحداث تنمية زراعية سريع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 لايجاد مصدر بديل للدخل (لاعتماد الاقتصاد الوطني على قطاع النفط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80"/>
                </a:solidFill>
                <a:latin typeface="Arial"/>
                <a:cs typeface="Monotype Koufi"/>
              </a:rPr>
              <a:t>أدى إلى وجود فوارق بين التنمية المادية مما أدى إلى قصور ونق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80"/>
                </a:solidFill>
                <a:latin typeface="Arial"/>
                <a:ea typeface="Monotype Koufi"/>
              </a:rPr>
              <a:t> في الكوادر الفنية (من حيث النوعية وليس العدد) اللازمة للتنم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80"/>
                </a:solidFill>
                <a:latin typeface="Arial"/>
                <a:cs typeface="Monotype Koufi"/>
              </a:rPr>
              <a:t>الزراعية المتمثلة في الاستثمارات الضخمة في قطاع الزراع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WordArt 6"/>
          <p:cNvSpPr txBox="1"/>
          <p:nvPr/>
        </p:nvSpPr>
        <p:spPr>
          <a:xfrm>
            <a:off x="611280" y="476280"/>
            <a:ext cx="85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3-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نـــقص الــــخريجين والــكوادر الـــفنية في مـــجالات الــزراعة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PT Bold Heading"/>
              <a:ea typeface="PT Bold Heading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539640" y="2492280"/>
            <a:ext cx="8064720" cy="26654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01ec4"/>
                </a:solidFill>
                <a:latin typeface="Arial"/>
                <a:cs typeface="Monotype Koufi"/>
              </a:rPr>
              <a:t>بالرغم من وجود العديد من المعاهد العليا والمتوسطة والكليات الجامع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01ec4"/>
                </a:solidFill>
                <a:latin typeface="Arial"/>
                <a:cs typeface="Monotype Koufi"/>
              </a:rPr>
              <a:t>المتخصصة في المجلات الزراعية والبيطرية إلا أنه لازالت هناك حاجة ماس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01ec4"/>
                </a:solidFill>
                <a:latin typeface="Arial"/>
                <a:ea typeface="Monotype Koufi"/>
              </a:rPr>
              <a:t> الى مزيد من الاهتمام الخريجين ونوعية البرامج في هذه المؤسس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01ec4"/>
                </a:solidFill>
                <a:latin typeface="Arial"/>
                <a:ea typeface="Monotype Koufi"/>
              </a:rPr>
              <a:t> حتى ترقى الى المستوى الاكاديمي والتطبيقي كما في الدول المتطو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13"/>
          <p:cNvPicPr/>
          <p:nvPr/>
        </p:nvPicPr>
        <p:blipFill>
          <a:blip r:embed="rId1"/>
          <a:stretch/>
        </p:blipFill>
        <p:spPr>
          <a:xfrm>
            <a:off x="0" y="260280"/>
            <a:ext cx="1258920" cy="792360"/>
          </a:xfrm>
          <a:prstGeom prst="rect">
            <a:avLst/>
          </a:prstGeom>
          <a:ln w="0">
            <a:noFill/>
          </a:ln>
        </p:spPr>
      </p:pic>
      <p:sp>
        <p:nvSpPr>
          <p:cNvPr id="405" name="WordArt 6"/>
          <p:cNvSpPr txBox="1"/>
          <p:nvPr/>
        </p:nvSpPr>
        <p:spPr>
          <a:xfrm>
            <a:off x="1187280" y="476280"/>
            <a:ext cx="795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4-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الـــتقسيم الاكــــاديمي لــعلم إدارة الــمزارع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PT Bold Heading"/>
              <a:ea typeface="PT Bold Heading"/>
            </a:endParaRPr>
          </a:p>
        </p:txBody>
      </p:sp>
      <p:sp>
        <p:nvSpPr>
          <p:cNvPr id="406" name="AutoShape 9"/>
          <p:cNvSpPr/>
          <p:nvPr/>
        </p:nvSpPr>
        <p:spPr>
          <a:xfrm>
            <a:off x="539640" y="2205000"/>
            <a:ext cx="8064720" cy="2952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Arial"/>
                <a:cs typeface="Monotype Koufi"/>
              </a:rPr>
              <a:t>لم يجد الفرع من المعارف الاهتمام الكافي في الزراع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Arial"/>
                <a:cs typeface="Monotype Koufi"/>
              </a:rPr>
              <a:t>العربية عموماً إلا حديثاً فهو في تقسيمه كان يقع ضم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Arial"/>
                <a:ea typeface="Monotype Koufi"/>
              </a:rPr>
              <a:t> علم الإنتاج الزراعي أحد فروع الاقتصاد الزر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Arial"/>
                <a:ea typeface="Monotype Koufi"/>
              </a:rPr>
              <a:t> وهو من العلوم الاجتماعية وفي بداية الست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Arial"/>
                <a:ea typeface="Monotype Koufi"/>
              </a:rPr>
              <a:t> بدأت أهمية هذا الفرع تظهر عل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ff"/>
                </a:solidFill>
                <a:latin typeface="Arial"/>
                <a:ea typeface="Monotype Koufi"/>
              </a:rPr>
              <a:t> المستوى المحلي والعالم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4"/>
          <p:cNvSpPr txBox="1"/>
          <p:nvPr/>
        </p:nvSpPr>
        <p:spPr>
          <a:xfrm>
            <a:off x="611280" y="477720"/>
            <a:ext cx="8532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5-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الــــزراعة لم تـــعـد حــــرفة مــــحلية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PT Bold Heading"/>
              <a:ea typeface="PT Bold Heading"/>
            </a:endParaRPr>
          </a:p>
        </p:txBody>
      </p:sp>
      <p:sp>
        <p:nvSpPr>
          <p:cNvPr id="408" name="AutoShape 8"/>
          <p:cNvSpPr/>
          <p:nvPr/>
        </p:nvSpPr>
        <p:spPr>
          <a:xfrm>
            <a:off x="539640" y="2133720"/>
            <a:ext cx="8064720" cy="38163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/>
              </a:gs>
              <a:gs pos="100000">
                <a:srgbClr val="339966"/>
              </a:gs>
            </a:gsLst>
            <a:lin ang="5400000"/>
          </a:grad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فنظراً لتفاعل الموارد البشرية مع الموارد الارضية والمائية والطبيعية في الزرا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 لإنتاج كافة النواتج الزراعية على اختلاف انواعها فقد أتاح لها مجالا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واسعاً لتطبيق معظم العلوم البيولوجية مثل الكيمياء الحيوية والنبات والحيوان وعلو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الاراضي والفيزياء وغيرها بالاضافة الى كافة العلوم الاجتماعية مثل الاقتصاد والاقتصا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 الزراعي والمجتمع الريفي وعلم النفس وغير ذلك ، مما أدى إلى وصف الزراعة بأن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 صناعة مفتوحة للتحسينات العلمية وكما هو معروف من أن تلك العلوم دائما متطور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ومتجددة في العالم. فقد أصبح من الضروري ألا تكون الزراعة في الدول وخصوصاً النا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 صناعة مغلقة بل أوجب ذلك الاطلاع وباستمرار على المستحدثات العل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 والتكنولوجية في العالم الخارجي والدول العربية المتقد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 في هذا المجال وذلك لمواكبة أعلى المستويات الإنتاج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3300"/>
                </a:solidFill>
                <a:latin typeface="Arial"/>
              </a:rPr>
              <a:t> النباتية منها والحيوانية بل وأيضاً دراسة الاسواق المحلية والاسواق العال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12"/>
          <p:cNvSpPr/>
          <p:nvPr/>
        </p:nvSpPr>
        <p:spPr>
          <a:xfrm>
            <a:off x="3024360" y="2421000"/>
            <a:ext cx="3528720" cy="2520720"/>
          </a:xfrm>
          <a:custGeom>
            <a:avLst/>
            <a:gdLst>
              <a:gd name="textAreaLeft" fmla="*/ 805320 w 3528720"/>
              <a:gd name="textAreaRight" fmla="*/ 2723400 w 3528720"/>
              <a:gd name="textAreaTop" fmla="*/ 575280 h 2520720"/>
              <a:gd name="textAreaBottom" fmla="*/ 194544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e181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جال الثالث</a:t>
            </a:r>
            <a:r>
              <a:rPr b="1" i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هو المخاطرة ، وتنعك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خاطرة جزئياً في تقلبات الدخ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يمكن أن يكون التأمين ضد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منظماً وغير منظ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3"/>
          <p:cNvSpPr/>
          <p:nvPr/>
        </p:nvSpPr>
        <p:spPr>
          <a:xfrm>
            <a:off x="6192720" y="1268280"/>
            <a:ext cx="2951280" cy="2376720"/>
          </a:xfrm>
          <a:custGeom>
            <a:avLst/>
            <a:gdLst>
              <a:gd name="textAreaLeft" fmla="*/ 673560 w 2951280"/>
              <a:gd name="textAreaRight" fmla="*/ 2277720 w 2951280"/>
              <a:gd name="textAreaTop" fmla="*/ 542520 h 2376720"/>
              <a:gd name="textAreaBottom" fmla="*/ 183420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e181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جال الأول</a:t>
            </a:r>
            <a:r>
              <a:rPr b="1" i="1" lang="ar-SA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أنه يجب عليه أ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يقاوم باستمرار النقص ف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المعلومات الجارية الخاص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بكل المجالات في الزرا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4"/>
          <p:cNvSpPr/>
          <p:nvPr/>
        </p:nvSpPr>
        <p:spPr>
          <a:xfrm>
            <a:off x="5869080" y="3789360"/>
            <a:ext cx="2950920" cy="2376360"/>
          </a:xfrm>
          <a:custGeom>
            <a:avLst/>
            <a:gdLst>
              <a:gd name="textAreaLeft" fmla="*/ 673560 w 2950920"/>
              <a:gd name="textAreaRight" fmla="*/ 2277360 w 2950920"/>
              <a:gd name="textAreaTop" fmla="*/ 542520 h 2376360"/>
              <a:gd name="textAreaBottom" fmla="*/ 18338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e181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جال الرابع :وهو الذي يشت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على مشكلات إقتصاد المد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قصير ومتطلبات الإنتا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في مقابلة متطلب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دى الطو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5"/>
          <p:cNvSpPr/>
          <p:nvPr/>
        </p:nvSpPr>
        <p:spPr>
          <a:xfrm>
            <a:off x="431640" y="1136520"/>
            <a:ext cx="3137040" cy="2281320"/>
          </a:xfrm>
          <a:custGeom>
            <a:avLst/>
            <a:gdLst>
              <a:gd name="textAreaLeft" fmla="*/ 716040 w 3137040"/>
              <a:gd name="textAreaRight" fmla="*/ 2421000 w 3137040"/>
              <a:gd name="textAreaTop" fmla="*/ 520560 h 2281320"/>
              <a:gd name="textAreaBottom" fmla="*/ 1760760 h 228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e181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جال الثاني :هو الذي يتصل بمقد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المدير على التوافق بنجاح م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غيرات سعر السوق والتغير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نظيمية والتغيرات السياس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6"/>
          <p:cNvSpPr/>
          <p:nvPr/>
        </p:nvSpPr>
        <p:spPr>
          <a:xfrm>
            <a:off x="576360" y="3956040"/>
            <a:ext cx="3136680" cy="2281320"/>
          </a:xfrm>
          <a:custGeom>
            <a:avLst/>
            <a:gdLst>
              <a:gd name="textAreaLeft" fmla="*/ 716040 w 3136680"/>
              <a:gd name="textAreaRight" fmla="*/ 2420640 w 3136680"/>
              <a:gd name="textAreaTop" fmla="*/ 520560 h 2281320"/>
              <a:gd name="textAreaBottom" fmla="*/ 1760760 h 228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e181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جال الخامس :يشمل ثبات موا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المزرعة والإنتفاع بها، وقيمت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المقدرة وكيف يعمل منها أحس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توليفة من الموارد المتغير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ي يملكها يهدف معظمة الرب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WordArt 19"/>
          <p:cNvSpPr txBox="1"/>
          <p:nvPr/>
        </p:nvSpPr>
        <p:spPr>
          <a:xfrm>
            <a:off x="324000" y="476280"/>
            <a:ext cx="8820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PT Bold Heading"/>
              </a:rPr>
              <a:t>ماقد يواجه مدير المشروع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PT Bold Heading"/>
              <a:ea typeface="PT Bold Heading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7T19:29:49Z</dcterms:created>
  <dc:creator>user</dc:creator>
  <dc:description/>
  <dc:language>en-US</dc:language>
  <cp:lastModifiedBy>A.E.C</cp:lastModifiedBy>
  <dcterms:modified xsi:type="dcterms:W3CDTF">2011-02-26T08:46:53Z</dcterms:modified>
  <cp:revision>34</cp:revision>
  <dc:subject/>
  <dc:title>الشريحة 1</dc:title>
</cp:coreProperties>
</file>