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47F-DC71-49F8-9C5D-793E490C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C62-1144-4C09-B5CA-D04BD0D1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5221F-A5A7-4A87-BA28-C6456535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F187C-3313-48AE-813E-001A5876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EAD55-9950-4579-BB5C-603C99CF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37AC8-13EA-4FD4-9B24-6A9033FD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F8023-1BBC-4ED3-9D13-9CD4747B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096F5-0379-46D9-B8CA-F216B276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D50B2-F8C7-4AF3-A914-9C08804E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DA537-255E-428C-9209-39B931DD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D521A-27ED-44CC-8E36-AAFA519A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7834-A2E9-43D4-8507-41B77108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24C-E0D3-42A8-876D-EF705D8E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8CEE-2A79-4CB3-9558-C5C6C99F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06BE-D54F-4720-AC7C-F798CA12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DAD3-28B7-4569-93A5-26155E24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CBAD-E553-4A86-9012-59197EC7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9726-6B74-4737-ACBD-B4AFB0BA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56A7-41D5-408E-922A-DB6DD36E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AC01-C802-4F5A-A1DD-A16145D3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30B5-605C-49CF-A446-285BEACA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7C20-C975-4F60-8572-AB380E7D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3187-AD04-4478-BE58-EB8A4E6D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56E2-7319-4AB4-A896-7C044F16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C0C8-1E0E-4167-8907-6083AB3B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D0D0-3788-44D9-AA97-5898D258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9D95F-D0B2-461B-A8C6-82B68D9D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25026-7240-458B-A99F-82FCF608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08B90-E0B5-4E26-87C0-A68B3C44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BBD990-D92E-4EE1-9091-C01EA8F3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83CD0-EAAC-4F2A-92A1-ABA15A03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5CB6-2F16-436E-BA3C-1D8D2F17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3B601-9889-49E5-8CE9-64DBB2AF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24D17-87E3-489F-AB1D-82C390A1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1F38B-F59F-4324-ACDC-A4CC1DD1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56D64-410D-4797-ADBE-EE3984C0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EADE5-C8A2-4C39-87F8-124DA184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78C7D-0061-4D90-888C-B2251A9B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54FF3-D629-4B3A-86FB-E1E01DC4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3B00D0-C4DD-4BEE-8C15-E79FF057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07BD0E-7065-40A1-917C-FABCD4A4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B7025A-4403-4EE9-BFC9-9D4C5112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9E3C-28FF-4574-8807-80F98803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94BEE0-17C1-4E40-B78C-D810288C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BBE1A3-A51D-484C-B60E-5DA9BBDA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4EB2E3-AE01-4200-B14E-12D5CF1F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F33A38-151D-4F94-871E-F503123B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DE3115-31CB-438D-AD7E-7B653108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5CE7E1-BB5A-4AA9-8BF4-67F06FC2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994B2B-AD17-4C37-A82E-DDC4235F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C9CE12-A8E4-4687-B247-60D69A9E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662B57-95A8-4F6A-B360-0FF9D6E8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EE69A0-8B85-439C-B056-E8BFE50D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F56-95CB-4F6E-A646-5C7FA7E4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A9B1AC-78CC-41D0-B30D-7B5F0C99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B71E2-84D2-4DE0-93AE-121802B3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FC9D5B-F4FA-4DDB-8E74-15B82BB4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7E730E-F5BE-443D-AADC-25B64535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22EAD-25BC-43A8-8EBC-EBB06664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37089B-FC81-4CD2-9260-C2B61354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E8B85E-4BEB-498A-9C61-72CCD62D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58E5B-1CFD-448C-8F42-348C28BF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D413A-129D-41FA-BBA3-7166DD89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F422FF-A577-4EA5-A24E-A5538FC6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D67-E444-4344-9487-5D07D0A4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653014-87F7-4A75-82CC-2C546D99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5A767-8440-4ABB-A516-76C34B38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863B2-5412-40F8-AF45-4B917ACB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92003-3BA5-4D70-A923-516B5C66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8B3F3-0C87-4336-B06D-14548905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637D1-B915-4558-859F-2ED81C6A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B02E0-9587-4E16-A1EF-2D0F976E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1C2BD-606C-4423-98DB-57D70511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AA948-EE54-4120-A41D-E5E2146E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539F9-1A34-4B27-BA15-E0626D25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1F34-E51C-4CED-B813-C5768558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B6DB7-8B6A-4EB8-A3AA-405FD32B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4D781-69B8-4DA5-9DD9-F042D5C8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7FE32-595E-4108-8C92-A665B876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737FFB-BC59-4C41-8078-FE151001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27DBD7-A55E-48A8-AFF2-397906D9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2E23B-B3E4-42AF-AF05-B4A9201D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A8B3D-81BB-4367-B5D1-EE05258A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1C59DD-130E-45EA-87BB-B00A0FAF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378300-805D-4BBE-9455-6EBE496F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23C165-029C-41DF-B4CF-4930E64F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DA2-2C0C-49F3-91E9-8881D24E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1E83D3-0C04-4BB6-8936-D5651405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1619E5-C95E-4D78-9C2A-057AC7A3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AC8255-4BF6-48CB-A14E-160AB575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385AF9-E1DA-47D3-A130-B3434515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54250A-5025-40EB-B487-F19A1FBD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CE5D2-9FD9-4C85-A8E2-11A95DD0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B6B27-0303-4B5A-B158-76FF3AB7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6D4C2-557F-4E73-BAFE-5478C11F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DE430-7856-44E7-9318-71220061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78417-E0CE-4337-87B7-402878B0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D18-29D5-42BC-8A06-709CB4F2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728F8-BA44-4102-98A3-9227FFB7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40066-5499-4C9F-A751-121341CB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15AD0-1325-4861-9DB7-855370C6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DED43-1FEF-4D4D-9FBE-B3C40C75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802C2-153B-4851-9C5D-C4C70A53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AA058-BD80-4BFC-8F5A-D8B28B03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05B99-5BC3-46B5-8853-FCA9B8CD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40B49-F4F5-416E-ABED-0DBFBCEE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2F519-1F9C-476E-A232-C5CE4D1C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5D1A9-7F59-47C8-922D-A2FB4CB2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6860-5588-4E69-AB34-7F856DE5F43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58D2-368D-470C-8F4F-2C4AF1D9DEC9}" type="slidenum">
              <a:rPr b="1" lang="ar-SA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3F5C-E963-49A6-B3FB-1E10DFA1035B}" type="slidenum"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F201-FB06-4696-9CE1-47B7FC13084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53E3-ECB5-4CDC-8AB7-4286B7F8E1B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BD70-A86A-4DD0-B73A-E52A9C4AF0DD}" type="slidenum">
              <a:rPr b="1" lang="ar-SA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A63B-F321-4181-8955-5333B6A9DBEB}" type="slidenum"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8961-3844-4F8E-9973-D6EB9316654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6289-B9FC-4CBC-94E7-0899F8E7832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900000" y="189000"/>
            <a:ext cx="8064720" cy="2574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</a:rPr>
              <a:t>الـــصعوبات الــتي تـعيق استخدام الأســــلوب الــــــعلمي في إدارة الــــــمزار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4211640" y="5013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4"/>
          <p:cNvSpPr/>
          <p:nvPr/>
        </p:nvSpPr>
        <p:spPr>
          <a:xfrm>
            <a:off x="1042920" y="2781360"/>
            <a:ext cx="7777080" cy="3384360"/>
          </a:xfrm>
          <a:custGeom>
            <a:avLst/>
            <a:gdLst>
              <a:gd name="textAreaLeft" fmla="*/ 398880 w 7777080"/>
              <a:gd name="textAreaRight" fmla="*/ 7378200 w 7777080"/>
              <a:gd name="textAreaTop" fmla="*/ 398880 h 3384360"/>
              <a:gd name="textAreaBottom" fmla="*/ 2985480 h 3384360"/>
            </a:gdLst>
            <a:ahLst/>
            <a:rect l="textAreaLeft" t="textAreaTop" r="textAreaRight" b="textAreaBottom"/>
            <a:pathLst>
              <a:path w="4963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6033" y="21600"/>
                </a:lnTo>
                <a:arcTo wR="3600" hR="3600" stAng="10800000" swAng="5400000"/>
                <a:lnTo>
                  <a:pt x="49633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614e4e"/>
              </a:gs>
            </a:gsLst>
            <a:lin ang="5400000"/>
          </a:gra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Monotype Koufi"/>
              </a:rPr>
              <a:t>تعاني أغلب الأقطار العربية من غياب أو ضعف الدور الذي يقوم به قطا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Monotype Koufi"/>
              </a:rPr>
              <a:t>الإرشاد الزراعي في الزراعة الحديثة، ومن المعروف أن للإرشاد الزراع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Monotype Koufi"/>
              </a:rPr>
              <a:t> دوراً هاماً وضرورياً في الزراعة الحديثة فيناط بهذا القطاع مهم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Monotype Koufi"/>
              </a:rPr>
              <a:t> تحويل نتائج البحوث والتجارب إلى تطبيق على أرض الواقع. ويعاني هذ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Monotype Koufi"/>
              </a:rPr>
              <a:t>القطاع من نقص شديد في المختصين في هذا المجال، وبالتال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Monotype Koufi"/>
              </a:rPr>
              <a:t>غياب البرامج العلمية لتحويل نتائج البحوث وتطبيقها وإستخدا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Monotype Koufi"/>
              </a:rPr>
              <a:t>الاسلوب العلمي في الزراع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WordArt 15"/>
          <p:cNvSpPr txBox="1"/>
          <p:nvPr/>
        </p:nvSpPr>
        <p:spPr>
          <a:xfrm>
            <a:off x="2843280" y="1989000"/>
            <a:ext cx="594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PT Bold Heading"/>
              </a:rPr>
              <a:t>1-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PT Bold Heading"/>
              </a:rPr>
              <a:t>ضعف برامج الارشاد الزراعي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PT Bold Heading"/>
              <a:ea typeface="PT Bold Heading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50"/>
                            </p:stCondLst>
                            <p:childTnLst>
                              <p:par>
                                <p:cTn id="13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6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WordArt 9"/>
          <p:cNvSpPr txBox="1"/>
          <p:nvPr/>
        </p:nvSpPr>
        <p:spPr>
          <a:xfrm>
            <a:off x="1116000" y="406440"/>
            <a:ext cx="799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PT Bold Heading"/>
              </a:rPr>
              <a:t>2-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PT Bold Heading"/>
              </a:rPr>
              <a:t>الــــفارق الــــــكبير بين الــــتنمية الــــمادية والــــبشرية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PT Bold Heading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PT Bold Heading"/>
              <a:ea typeface="PT Bold Heading"/>
            </a:endParaRPr>
          </a:p>
        </p:txBody>
      </p:sp>
      <p:sp>
        <p:nvSpPr>
          <p:cNvPr id="401" name="AutoShape 10"/>
          <p:cNvSpPr/>
          <p:nvPr/>
        </p:nvSpPr>
        <p:spPr>
          <a:xfrm>
            <a:off x="468360" y="1628640"/>
            <a:ext cx="8280360" cy="4176720"/>
          </a:xfrm>
          <a:prstGeom prst="bevel">
            <a:avLst>
              <a:gd name="adj" fmla="val 3824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660033"/>
            </a:solidFill>
            <a:miter/>
          </a:ln>
          <a:effectLst>
            <a:outerShdw dist="137587" dir="19578596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80"/>
                </a:solidFill>
                <a:latin typeface="Arial"/>
                <a:cs typeface="Monotype Koufi"/>
              </a:rPr>
              <a:t>بلغت الاستثمارات المادية في قطاع الزراعة في أغلب أقطار الوطن العربي وخاصة في الأقط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80"/>
                </a:solidFill>
                <a:latin typeface="Arial"/>
                <a:ea typeface="Monotype Koufi"/>
              </a:rPr>
              <a:t> النفطية درجة كبيرة على المستوى المادي وتم استصلاح الآلاف من الهكتار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80"/>
                </a:solidFill>
                <a:latin typeface="Arial"/>
                <a:ea typeface="Monotype Koufi"/>
              </a:rPr>
              <a:t> وإقامة الآلاف من المزارع إلا أنه ولد واعي أحداث تنمية زراعية سريع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80"/>
                </a:solidFill>
                <a:latin typeface="Arial"/>
                <a:ea typeface="Monotype Koufi"/>
              </a:rPr>
              <a:t> لايجاد مصدر بديل للدخل (لاعتماد الاقتصاد الوطني على قطاع النفط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80"/>
                </a:solidFill>
                <a:latin typeface="Arial"/>
                <a:cs typeface="Monotype Koufi"/>
              </a:rPr>
              <a:t>أدى إلى وجود فوارق بين التنمية المادية مما أدى إلى قصور ونق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80"/>
                </a:solidFill>
                <a:latin typeface="Arial"/>
                <a:ea typeface="Monotype Koufi"/>
              </a:rPr>
              <a:t> في الكوادر الفنية (من حيث النوعية وليس العدد) اللازمة للتنم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80"/>
                </a:solidFill>
                <a:latin typeface="Arial"/>
                <a:cs typeface="Monotype Koufi"/>
              </a:rPr>
              <a:t>الزراعية المتمثلة في الاستثمارات الضخمة في قطاع الزراع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WordArt 6"/>
          <p:cNvSpPr txBox="1"/>
          <p:nvPr/>
        </p:nvSpPr>
        <p:spPr>
          <a:xfrm>
            <a:off x="611280" y="476280"/>
            <a:ext cx="85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PT Bold Heading"/>
              </a:rPr>
              <a:t>3-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PT Bold Heading"/>
              </a:rPr>
              <a:t>نـــقص الــــخريجين والــكوادر الـــفنية في مـــجالات الــزراعة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PT Bold Heading"/>
              <a:ea typeface="PT Bold Heading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539640" y="2492280"/>
            <a:ext cx="8064720" cy="26654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01ec4"/>
                </a:solidFill>
                <a:latin typeface="Arial"/>
                <a:cs typeface="Monotype Koufi"/>
              </a:rPr>
              <a:t>بالرغم من وجود العديد من المعاهد العليا والمتوسطة والكليات الجامع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01ec4"/>
                </a:solidFill>
                <a:latin typeface="Arial"/>
                <a:cs typeface="Monotype Koufi"/>
              </a:rPr>
              <a:t>المتخصصة في المجلات الزراعية والبيطرية إلا أنه لازالت هناك حاجة ماس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01ec4"/>
                </a:solidFill>
                <a:latin typeface="Arial"/>
                <a:ea typeface="Monotype Koufi"/>
              </a:rPr>
              <a:t> الى مزيد من الاهتمام الخريجين ونوعية البرامج في هذه المؤسس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01ec4"/>
                </a:solidFill>
                <a:latin typeface="Arial"/>
                <a:ea typeface="Monotype Koufi"/>
              </a:rPr>
              <a:t> حتى ترقى الى المستوى الاكاديمي والتطبيقي كما في الدول المتطو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4" descr="13"/>
          <p:cNvPicPr/>
          <p:nvPr/>
        </p:nvPicPr>
        <p:blipFill>
          <a:blip r:embed="rId1"/>
          <a:stretch/>
        </p:blipFill>
        <p:spPr>
          <a:xfrm>
            <a:off x="0" y="260280"/>
            <a:ext cx="1258920" cy="792360"/>
          </a:xfrm>
          <a:prstGeom prst="rect">
            <a:avLst/>
          </a:prstGeom>
          <a:ln w="0">
            <a:noFill/>
          </a:ln>
        </p:spPr>
      </p:pic>
      <p:sp>
        <p:nvSpPr>
          <p:cNvPr id="405" name="WordArt 6"/>
          <p:cNvSpPr txBox="1"/>
          <p:nvPr/>
        </p:nvSpPr>
        <p:spPr>
          <a:xfrm>
            <a:off x="1187280" y="476280"/>
            <a:ext cx="795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PT Bold Heading"/>
              </a:rPr>
              <a:t>4-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PT Bold Heading"/>
              </a:rPr>
              <a:t>الـــتقسيم الاكــــاديمي لــعلم إدارة الــمزارع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PT Bold Heading"/>
              <a:ea typeface="PT Bold Heading"/>
            </a:endParaRPr>
          </a:p>
        </p:txBody>
      </p:sp>
      <p:sp>
        <p:nvSpPr>
          <p:cNvPr id="406" name="AutoShape 9"/>
          <p:cNvSpPr/>
          <p:nvPr/>
        </p:nvSpPr>
        <p:spPr>
          <a:xfrm>
            <a:off x="539640" y="2205000"/>
            <a:ext cx="8064720" cy="2952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ff"/>
                </a:solidFill>
                <a:latin typeface="Arial"/>
                <a:cs typeface="Monotype Koufi"/>
              </a:rPr>
              <a:t>لم يجد الفرع من المعارف الاهتمام الكافي في الزراع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ff"/>
                </a:solidFill>
                <a:latin typeface="Arial"/>
                <a:cs typeface="Monotype Koufi"/>
              </a:rPr>
              <a:t>العربية عموماً إلا حديثاً فهو في تقسيمه كان يقع ضم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ff"/>
                </a:solidFill>
                <a:latin typeface="Arial"/>
                <a:ea typeface="Monotype Koufi"/>
              </a:rPr>
              <a:t> علم الإنتاج الزراعي أحد فروع الاقتصاد الزرا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ff"/>
                </a:solidFill>
                <a:latin typeface="Arial"/>
                <a:ea typeface="Monotype Koufi"/>
              </a:rPr>
              <a:t> وهو من العلوم الاجتماعية وفي بداية الست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ff"/>
                </a:solidFill>
                <a:latin typeface="Arial"/>
                <a:ea typeface="Monotype Koufi"/>
              </a:rPr>
              <a:t> بدأت أهمية هذا الفرع تظهر عل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ff"/>
                </a:solidFill>
                <a:latin typeface="Arial"/>
                <a:ea typeface="Monotype Koufi"/>
              </a:rPr>
              <a:t> المستوى المحلي والعالم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WordArt 4"/>
          <p:cNvSpPr txBox="1"/>
          <p:nvPr/>
        </p:nvSpPr>
        <p:spPr>
          <a:xfrm>
            <a:off x="611280" y="477720"/>
            <a:ext cx="8532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PT Bold Heading"/>
              </a:rPr>
              <a:t>5-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PT Bold Heading"/>
              </a:rPr>
              <a:t>الــــزراعة لم تـــعـد حــــرفة مــــحلية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PT Bold Heading"/>
              <a:ea typeface="PT Bold Heading"/>
            </a:endParaRPr>
          </a:p>
        </p:txBody>
      </p:sp>
      <p:sp>
        <p:nvSpPr>
          <p:cNvPr id="408" name="AutoShape 8"/>
          <p:cNvSpPr/>
          <p:nvPr/>
        </p:nvSpPr>
        <p:spPr>
          <a:xfrm>
            <a:off x="539640" y="2133720"/>
            <a:ext cx="8064720" cy="38163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5400000"/>
          </a:gradFill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3300"/>
                </a:solidFill>
                <a:latin typeface="Arial"/>
              </a:rPr>
              <a:t>فنظراً لتفاعل الموارد البشرية مع الموارد الارضية والمائية والطبيعية في الزرا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3300"/>
                </a:solidFill>
                <a:latin typeface="Arial"/>
              </a:rPr>
              <a:t> لإنتاج كافة النواتج الزراعية على اختلاف انواعها فقد أتاح لها مجالا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3300"/>
                </a:solidFill>
                <a:latin typeface="Arial"/>
              </a:rPr>
              <a:t>واسعاً لتطبيق معظم العلوم البيولوجية مثل الكيمياء الحيوية والنبات والحيوان وعلو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3300"/>
                </a:solidFill>
                <a:latin typeface="Arial"/>
              </a:rPr>
              <a:t>الاراضي والفيزياء وغيرها بالاضافة الى كافة العلوم الاجتماعية مثل الاقتصاد والاقتصا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3300"/>
                </a:solidFill>
                <a:latin typeface="Arial"/>
              </a:rPr>
              <a:t> الزراعي والمجتمع الريفي وعلم النفس وغير ذلك ، مما أدى إلى وصف الزراعة بأن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3300"/>
                </a:solidFill>
                <a:latin typeface="Arial"/>
              </a:rPr>
              <a:t> صناعة مفتوحة للتحسينات العلمية وكما هو معروف من أن تلك العلوم دائما متطور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3300"/>
                </a:solidFill>
                <a:latin typeface="Arial"/>
              </a:rPr>
              <a:t>ومتجددة في العالم. فقد أصبح من الضروري ألا تكون الزراعة في الدول وخصوصاً النا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3300"/>
                </a:solidFill>
                <a:latin typeface="Arial"/>
              </a:rPr>
              <a:t> صناعة مغلقة بل أوجب ذلك الاطلاع وباستمرار على المستحدثات العل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3300"/>
                </a:solidFill>
                <a:latin typeface="Arial"/>
              </a:rPr>
              <a:t> والتكنولوجية في العالم الخارجي والدول العربية المتقدم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3300"/>
                </a:solidFill>
                <a:latin typeface="Arial"/>
              </a:rPr>
              <a:t> في هذا المجال وذلك لمواكبة أعلى المستويات الإنتاج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3300"/>
                </a:solidFill>
                <a:latin typeface="Arial"/>
              </a:rPr>
              <a:t> النباتية منها والحيوانية بل وأيضاً دراسة الاسواق المحلية والاسواق العال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12"/>
          <p:cNvSpPr/>
          <p:nvPr/>
        </p:nvSpPr>
        <p:spPr>
          <a:xfrm>
            <a:off x="3024360" y="2421000"/>
            <a:ext cx="3528720" cy="2520720"/>
          </a:xfrm>
          <a:custGeom>
            <a:avLst/>
            <a:gdLst>
              <a:gd name="textAreaLeft" fmla="*/ 805320 w 3528720"/>
              <a:gd name="textAreaRight" fmla="*/ 2723400 w 3528720"/>
              <a:gd name="textAreaTop" fmla="*/ 575280 h 2520720"/>
              <a:gd name="textAreaBottom" fmla="*/ 194544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be181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جال الثالث</a:t>
            </a:r>
            <a:r>
              <a:rPr b="1" i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هو المخاطرة ، وتنعك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خاطرة جزئياً في تقلبات الدخ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يمكن أن يكون التأمين ضد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منظماً وغير منظ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3"/>
          <p:cNvSpPr/>
          <p:nvPr/>
        </p:nvSpPr>
        <p:spPr>
          <a:xfrm>
            <a:off x="6192720" y="1268280"/>
            <a:ext cx="2951280" cy="2376720"/>
          </a:xfrm>
          <a:custGeom>
            <a:avLst/>
            <a:gdLst>
              <a:gd name="textAreaLeft" fmla="*/ 673560 w 2951280"/>
              <a:gd name="textAreaRight" fmla="*/ 2277720 w 2951280"/>
              <a:gd name="textAreaTop" fmla="*/ 542520 h 2376720"/>
              <a:gd name="textAreaBottom" fmla="*/ 183420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be181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جال الأول</a:t>
            </a:r>
            <a:r>
              <a:rPr b="1" i="1" lang="ar-SA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أنه يجب عليه أ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يقاوم باستمرار النقص ف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المعلومات الجارية الخاص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بكل المجالات في الزراع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4"/>
          <p:cNvSpPr/>
          <p:nvPr/>
        </p:nvSpPr>
        <p:spPr>
          <a:xfrm>
            <a:off x="5869080" y="3789360"/>
            <a:ext cx="2950920" cy="2376360"/>
          </a:xfrm>
          <a:custGeom>
            <a:avLst/>
            <a:gdLst>
              <a:gd name="textAreaLeft" fmla="*/ 673560 w 2950920"/>
              <a:gd name="textAreaRight" fmla="*/ 2277360 w 2950920"/>
              <a:gd name="textAreaTop" fmla="*/ 542520 h 2376360"/>
              <a:gd name="textAreaBottom" fmla="*/ 183384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be181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جال الرابع :وهو الذي يشتم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على مشكلات إقتصاد المد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قصير ومتطلبات الإنتا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في مقابلة متطلبا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دى الطو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5"/>
          <p:cNvSpPr/>
          <p:nvPr/>
        </p:nvSpPr>
        <p:spPr>
          <a:xfrm>
            <a:off x="431640" y="1136520"/>
            <a:ext cx="3137040" cy="2281320"/>
          </a:xfrm>
          <a:custGeom>
            <a:avLst/>
            <a:gdLst>
              <a:gd name="textAreaLeft" fmla="*/ 716040 w 3137040"/>
              <a:gd name="textAreaRight" fmla="*/ 2421000 w 3137040"/>
              <a:gd name="textAreaTop" fmla="*/ 520560 h 2281320"/>
              <a:gd name="textAreaBottom" fmla="*/ 1760760 h 228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be181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جال الثاني :هو الذي يتصل بمقد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المدير على التوافق بنجاح م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غيرات سعر السوق والتغيرا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نظيمية والتغيرات السياس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6"/>
          <p:cNvSpPr/>
          <p:nvPr/>
        </p:nvSpPr>
        <p:spPr>
          <a:xfrm>
            <a:off x="576360" y="3956040"/>
            <a:ext cx="3136680" cy="2281320"/>
          </a:xfrm>
          <a:custGeom>
            <a:avLst/>
            <a:gdLst>
              <a:gd name="textAreaLeft" fmla="*/ 716040 w 3136680"/>
              <a:gd name="textAreaRight" fmla="*/ 2420640 w 3136680"/>
              <a:gd name="textAreaTop" fmla="*/ 520560 h 2281320"/>
              <a:gd name="textAreaBottom" fmla="*/ 1760760 h 228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be181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جال الخامس :يشمل ثبات موا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المزرعة والإنتفاع بها، وقيمت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المقدرة وكيف يعمل منها أحس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توليفة من الموارد المتغير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ي يملكها يهدف معظمة الرب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WordArt 19"/>
          <p:cNvSpPr txBox="1"/>
          <p:nvPr/>
        </p:nvSpPr>
        <p:spPr>
          <a:xfrm>
            <a:off x="324000" y="476280"/>
            <a:ext cx="8820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PT Bold Heading"/>
              </a:rPr>
              <a:t>ماقد يواجه مدير المشروع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PT Bold Heading"/>
              <a:ea typeface="PT Bold Heading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7T19:29:49Z</dcterms:created>
  <dc:creator>user</dc:creator>
  <dc:description/>
  <dc:language>en-US</dc:language>
  <cp:lastModifiedBy>A.E.C</cp:lastModifiedBy>
  <dcterms:modified xsi:type="dcterms:W3CDTF">2011-02-26T08:46:53Z</dcterms:modified>
  <cp:revision>34</cp:revision>
  <dc:subject/>
  <dc:title>الشريحة 1</dc:title>
</cp:coreProperties>
</file>