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7894-059D-455C-A46F-615A435E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3C33-D4B6-42E6-B82D-DDB04AB2C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72E4-B55C-4A78-B4CF-F74AD18C4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15F0-7715-41B9-B663-519BAAA82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4541-5A49-4C11-AEDB-A3884395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80D0-D4C5-4E47-9651-45DC3FB49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82AB-67F1-4C3C-B5C5-5836538D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9936-D4E2-41D4-817D-54ED7B3F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9D6E-B74C-4DCE-B147-FE6B0CFD3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BA5-CE7B-47D8-A2AB-39C8F8E3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D012-E528-4BE2-8D44-B94988C44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FA65-3F97-4B08-B9FD-5185D39D7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DDC5-35DD-4DBA-9D18-C0B773991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3BE7-4D73-4FC2-98DE-7C03C350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300B-3AF8-4028-96FC-BF8AD7D3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8BCE-0B18-49ED-A964-5A7C0C606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00DE-51B6-4E15-8509-D9382B98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B5A9-5D64-4B86-817E-CFD0733BE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4F75-3C87-4FF3-98E0-415683A54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1EA-7227-426E-8562-0C3ECF57E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743-135F-451B-A0FE-DBB2573D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2C3-DCAF-409B-82FE-3B4341A8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1043-15D6-4B4B-8A80-0A225A061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5E45-2FD2-4E10-89AF-3C851570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1936-9D26-4F80-8415-9D5C1D6A9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29C4-B871-4D78-B068-35E739EC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B896-37AE-4C44-854F-0115B3FE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3084-7D3D-4C52-A10D-CEF434A6C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ADC2-B40F-40CB-853C-F927FE33C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E371-2FAE-4D58-9516-5AE06BC2A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9D26-F0C5-4286-86F0-7C924F47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CBE7-9EE6-4185-92BB-42C8DABDD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0FC7-49EE-411F-974B-4C216C15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1D1-79DE-4B84-B7F1-08C85B2C7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C041-9903-40F3-9D83-F833B1928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3DCC-A02F-48FB-8A11-F52D68DA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8F69-C0F5-49DF-918B-3D2FD3B7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FEF7-D768-4D9C-8FDE-82DD415F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195B-4CC6-4A90-B64E-BFE15147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1920-C045-44A7-AB0F-FA9AF875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9D5E-6E4F-436C-9A03-1971B50E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057D-E4C1-4516-AC61-4E68F01D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D08C-5AAD-4A6E-8954-B34DBAB6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5ACB-030D-4DA4-8D00-64CDC9A1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2BD9-F5CD-4F36-92C4-246AD354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6768-A682-4810-B5D8-1ED2C1F5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32F4-31E9-479C-BE3F-22C86152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F80E-E551-4C67-B1B9-CB1B57B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E19C-5855-46EE-8EF1-7D7A849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D205-4D66-4449-9E67-A459A4B2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DF4B-787F-4BCD-B2E7-6D3082D4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BBEB-5BD2-49E0-8A77-C71F886B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1C80-D2D1-4984-ACCA-9B88EF1D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45F3-CD46-41D7-ABFC-66A6FEBA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CBD1-44E9-4768-AB51-EF09F2E7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D892-8D6B-4645-9844-FCB52D2B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B673-9BED-4461-BB12-663FFC5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3CDC-9CB7-4465-8109-76A7BABA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6D99-4D83-4B29-B3AE-83D058C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2831-82B8-424E-8154-F87D38C3D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1F4D-DEDD-494F-9C6F-5039DF336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oftware Connector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 Example of Explicit Connectors (cont’d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2F89-D6BB-4617-A5F6-1EA8085FC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264200" y="3048120"/>
            <a:ext cx="729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oudy"/>
                <a:ea typeface="Arial Unicode MS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-4827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" descr="fig_05_02.jpg"/>
          <p:cNvPicPr/>
          <p:nvPr/>
        </p:nvPicPr>
        <p:blipFill>
          <a:blip r:embed="rId1"/>
          <a:stretch/>
        </p:blipFill>
        <p:spPr>
          <a:xfrm>
            <a:off x="1676520" y="4025880"/>
            <a:ext cx="5905440" cy="214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fig_05_01.jpg"/>
          <p:cNvPicPr/>
          <p:nvPr/>
        </p:nvPicPr>
        <p:blipFill>
          <a:blip r:embed="rId2"/>
          <a:stretch/>
        </p:blipFill>
        <p:spPr>
          <a:xfrm>
            <a:off x="750960" y="1957320"/>
            <a:ext cx="5600520" cy="126684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2895480" y="2925720"/>
            <a:ext cx="2514600" cy="217332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 Ro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us of interaction among set of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tocol specification (sometimes implicit) that defines its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s of interfaces it is able to medi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rances about interaction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les about interaction ord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action commitments (e.g., performanc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o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cili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CFE6-BAA3-4F5F-AE6F-6DBF320E1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 as Communic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role associated with connec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t communication mechanis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 procedure call, RPC, shared data access, message pa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ts on communication structure/dir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 pi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ts on quality of servi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 persist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parates communication from compu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 influence non-functional system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 performance, scalability, secur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C8EB-304A-4E73-B8E0-8064ADA1D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 as Coordin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 computa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livery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control fro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gonal to communication, conversion, and facil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control are in communication, conversion and facil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272E-9EB7-480D-A0E7-7EB26690E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 as Convert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interaction of independently developed, mismatch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matches based on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conver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1AC7-762B-4896-961F-4E2156E73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 as Facilit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interaction of components intended to interop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te and streamline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vern access to share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proper performance pro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ynchronization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s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0EEB-4924-47F1-B615-B261796AB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 Typ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1B35-1BB9-40ED-83AF-2810B096F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Framework for Classifying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11D7-8952-490E-872B-4A9C44E41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Fig5-3"/>
          <p:cNvPicPr/>
          <p:nvPr/>
        </p:nvPicPr>
        <p:blipFill>
          <a:blip r:embed="rId1"/>
          <a:stretch/>
        </p:blipFill>
        <p:spPr>
          <a:xfrm>
            <a:off x="2057400" y="1600200"/>
            <a:ext cx="4799160" cy="4919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-55908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dure Call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377B-0D5A-474A-BBC2-C5E12F5AA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Procedure Call"/>
          <p:cNvPicPr/>
          <p:nvPr/>
        </p:nvPicPr>
        <p:blipFill>
          <a:blip r:embed="rId1"/>
          <a:stretch/>
        </p:blipFill>
        <p:spPr>
          <a:xfrm>
            <a:off x="1152360" y="1905120"/>
            <a:ext cx="7000920" cy="4190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ent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5" descr="Event"/>
          <p:cNvPicPr/>
          <p:nvPr/>
        </p:nvPicPr>
        <p:blipFill>
          <a:blip r:embed="rId1"/>
          <a:stretch/>
        </p:blipFill>
        <p:spPr>
          <a:xfrm>
            <a:off x="984240" y="1905120"/>
            <a:ext cx="7175520" cy="419076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0693-1A93-4AEC-BD6F-28F43F0EF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a Software Connecto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element that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actions amo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les that govern those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dure c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variable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 &amp; semantically rich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-server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base access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ynchronous event multica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connector provi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action duc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fer of control and/o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90AA-5A19-44B3-86DC-B1AEC5C79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 Access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5" descr="Data Access"/>
          <p:cNvPicPr/>
          <p:nvPr/>
        </p:nvPicPr>
        <p:blipFill>
          <a:blip r:embed="rId1"/>
          <a:stretch/>
        </p:blipFill>
        <p:spPr>
          <a:xfrm>
            <a:off x="682560" y="1905120"/>
            <a:ext cx="7778880" cy="419076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0DA8-94B5-4707-AACC-4F4E24D96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age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Linkage"/>
          <p:cNvPicPr/>
          <p:nvPr/>
        </p:nvPicPr>
        <p:blipFill>
          <a:blip r:embed="rId1"/>
          <a:stretch/>
        </p:blipFill>
        <p:spPr>
          <a:xfrm>
            <a:off x="685800" y="2494080"/>
            <a:ext cx="7808760" cy="30128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34D8-1045-4BCD-B023-060E6B3FB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ream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5" descr="Stream"/>
          <p:cNvPicPr/>
          <p:nvPr/>
        </p:nvPicPr>
        <p:blipFill>
          <a:blip r:embed="rId1"/>
          <a:stretch/>
        </p:blipFill>
        <p:spPr>
          <a:xfrm>
            <a:off x="1143000" y="1905120"/>
            <a:ext cx="6934320" cy="419076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5E6B-5B3A-4263-97CF-64B4C34D3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bitrator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5" descr="Arbitrator"/>
          <p:cNvPicPr/>
          <p:nvPr/>
        </p:nvPicPr>
        <p:blipFill>
          <a:blip r:embed="rId1"/>
          <a:stretch/>
        </p:blipFill>
        <p:spPr>
          <a:xfrm>
            <a:off x="990720" y="1600200"/>
            <a:ext cx="6781680" cy="449568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7112-7E96-400D-B1E3-B11230C7E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aptor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5" descr="Adaptor"/>
          <p:cNvPicPr/>
          <p:nvPr/>
        </p:nvPicPr>
        <p:blipFill>
          <a:blip r:embed="rId1"/>
          <a:stretch/>
        </p:blipFill>
        <p:spPr>
          <a:xfrm>
            <a:off x="457200" y="2773440"/>
            <a:ext cx="8229600" cy="245412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15F-6CA7-4D4E-AC90-827C08FFF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-55908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tributor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Distributor"/>
          <p:cNvPicPr/>
          <p:nvPr/>
        </p:nvPicPr>
        <p:blipFill>
          <a:blip r:embed="rId1"/>
          <a:stretch/>
        </p:blipFill>
        <p:spPr>
          <a:xfrm>
            <a:off x="457200" y="2265480"/>
            <a:ext cx="8229600" cy="3470040"/>
          </a:xfrm>
          <a:prstGeom prst="rect">
            <a:avLst/>
          </a:prstGeom>
          <a:ln w="0">
            <a:noFill/>
          </a:ln>
        </p:spPr>
      </p:pic>
      <p:sp>
        <p:nvSpPr>
          <p:cNvPr id="18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48D2-E58A-4E70-92EA-6923D79D9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-55908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es One Select a Connecto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676520"/>
            <a:ext cx="77724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a system’s interconnection and interaction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interconnection models can hel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roles to be fulfilled by the system’s conn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, coordination, conversion, facili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conn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ts appropriate type(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ts dimensions of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ppropriate values for each dim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multi-type, i.e., composite conn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atomic connector compati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3009-F44A-4D1A-896F-F2E218240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ple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components will execute in two processes on the same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ly intra-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asionally inter-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action among the components is 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onents are primarily computation-int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some data storage needs, but those are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8F90-E90E-4D27-9FBF-916B6017E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ple Exampl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procedure call connectors for intra-process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 procedure call connectors with distributor connectors for inter-process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values for the different connector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appropriate valu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values are imposed by your favorite programming language(s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1F1D-ED0D-4F4D-9464-08305B8D1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wo Connector Types in Tan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F1CB-D175-419B-B734-DEAE738C5D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2"/>
          <p:cNvGrpSpPr/>
          <p:nvPr/>
        </p:nvGrpSpPr>
        <p:grpSpPr>
          <a:xfrm>
            <a:off x="1324080" y="1353960"/>
            <a:ext cx="5076720" cy="5122800"/>
            <a:chOff x="1324080" y="1353960"/>
            <a:chExt cx="5076720" cy="5122800"/>
          </a:xfrm>
        </p:grpSpPr>
        <p:pic>
          <p:nvPicPr>
            <p:cNvPr id="198" name="Picture 5" descr="Distributor"/>
            <p:cNvPicPr/>
            <p:nvPr/>
          </p:nvPicPr>
          <p:blipFill>
            <a:blip r:embed="rId1"/>
            <a:srcRect l="0" t="8490" r="0" b="0"/>
            <a:stretch/>
          </p:blipFill>
          <p:spPr>
            <a:xfrm>
              <a:off x="1324080" y="4598640"/>
              <a:ext cx="4895640" cy="18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4" descr="Procedure Call"/>
            <p:cNvPicPr/>
            <p:nvPr/>
          </p:nvPicPr>
          <p:blipFill>
            <a:blip r:embed="rId2"/>
            <a:stretch/>
          </p:blipFill>
          <p:spPr>
            <a:xfrm>
              <a:off x="1324080" y="1353960"/>
              <a:ext cx="5076720" cy="32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13"/>
          <p:cNvSpPr/>
          <p:nvPr/>
        </p:nvSpPr>
        <p:spPr>
          <a:xfrm>
            <a:off x="6400800" y="3124080"/>
            <a:ext cx="243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Arial"/>
              </a:rPr>
              <a:t>Select the appropriate</a:t>
            </a:r>
            <a:br>
              <a:rPr sz="2400"/>
            </a:br>
            <a:r>
              <a:rPr b="0" i="1" lang="en-US" sz="2400" spc="-1" strike="noStrike">
                <a:solidFill>
                  <a:srgbClr val="00355e"/>
                </a:solidFill>
                <a:latin typeface="Arial"/>
              </a:rPr>
              <a:t>values for PC and RP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-56052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ere are Connectors in Software Systems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8E79-4E5C-45AD-A2F0-99EFA3B00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5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51600" cy="460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Interconnection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on models (IM) as defined by Per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ctic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hree are present in each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all equally appropriate at architectural leve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1F34-AF40-4554-BDD8-804EF4CAF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nit Interconn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59984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s relations between system’s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ts are components (modules or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unit relationship is depend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t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{units},{“depends on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ng context of compi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C preproc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{files},{“include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ng recompilation strate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Make fac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{compile_units},{“depends on”,“has changed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CS, DVS, SVS, SC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{systems, files},{“is composed of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274A-975C-4640-97D8-C20AFDA21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ntactic Interconn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59984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s relations among syntactic element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definition/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definition/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oc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def 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set 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used 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del 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changed 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added 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software change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Interlisp’s master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Detection of unreachable code by compil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rt recompi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inside uni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compilation of only the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er level of granularity than unit-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0344-3D1F-4372-9E81-25274F09C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mantic Interconn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676160"/>
            <a:ext cx="81345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es how system components are meant to be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designers’ inten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s how system components are actual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users’ (i.e., system builders’) i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on semantics can be formally spec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 &amp; post-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interaction protocols (e.g. CSP, FS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dic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s set 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s used 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ed b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...,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atisf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}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0145-6D1D-4DB5-8D30-F395BA906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osing Basic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systems a connector of multiple types may be required to service (a subset of) th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nectors cannot be com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re naturally interope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re incompat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re likely to require trade-of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osition can be considered at the level of connector type dimensions and sub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3ACE-3177-4AFE-9A07-D8A5011A17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ll Known Composite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59984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id connectors (e.g., Glob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-to-peer connectors (e.g., Bittor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-server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-based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1EE0-0AB6-4A63-A718-51E3FAA0AE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lemented vs. Conceptual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in software system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tly no dedic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tly no id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do not correspond to compilation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ss multiple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ss interaction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103-3E22-4364-BE06-BB0EA1071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mplemented vs. Conceptual Connectors (cont’d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in software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-class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id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ll system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led to their own specifications &amp; abst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DE72-D7D0-414E-89F5-36A3EFD61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sons for Treating Connectors Independentl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provide application-specific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provide application-independent interaction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abstraction and/or paramete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 of complex inte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vs. N-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c vs. Symmet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7F53-68B9-4656-98BE-1E36DE96F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ating Connectors Independently (cont’d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of interaction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-component system (interaction)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in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interaction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F495-4F10-42CB-998C-0231284C0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nefits of First-Class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omputation from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component inter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software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component-, connector-, &amp; system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 for supporting dynam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heterogene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ome points of distrib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 system analysis &amp;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471A-E43F-4002-84A1-6ED52B742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 Example of Explicit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4325-2D55-4DEB-A48E-581FC9B8F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659160" y="601992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" descr="fig_05_01.jpg"/>
          <p:cNvPicPr/>
          <p:nvPr/>
        </p:nvPicPr>
        <p:blipFill>
          <a:blip r:embed="rId1"/>
          <a:stretch/>
        </p:blipFill>
        <p:spPr>
          <a:xfrm>
            <a:off x="750960" y="1957320"/>
            <a:ext cx="5600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5T18:27:57Z</dcterms:modified>
  <cp:revision>36</cp:revision>
  <dc:subject>Software Architecture: Foundations, Theory, and Practice</dc:subject>
  <dc:title>Software Connectors</dc:title>
</cp:coreProperties>
</file>