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DA48E-15FD-41EF-ADD0-85DA198BF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6A011-0139-46F9-AE84-2DF944A56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4981F-A13E-44DC-86F6-0C839D5898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7C170-B7AF-4048-BA6B-607056FFE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F731C-FC14-4449-8281-23C1FE82A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D0FE1-2E2A-46B6-993E-DD8790114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9931E-1D35-4DE3-A8B1-E433E1FBFD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686B7-32B7-4AD7-A9EF-75A5CE9B2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82B35-CF63-4875-9C27-5B6FB7E902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A703B-D3B3-4538-BBE6-7CEBECB07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F912B-0882-4BA7-AB5F-8C7CA158E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DBA9B-9E2B-48B2-AB59-53EEC1521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DFF32-164E-43EE-AFFD-F48205AED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903CA-230A-428A-AC4C-0F2A9FDF63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C41B9-C0DF-4519-AA73-30A776419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AC20E-DA2E-486A-97D5-39844E6083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AE591-997D-40B2-A419-62B026B481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6874F-8B97-4AE3-863C-63B669C3D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CB476-C76A-405A-A1BA-B59CD63E0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B6666-D6E0-4C39-B202-9309A6B3A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88A19-F5E8-47C9-B8A7-99602CDFA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BEF50-2731-46F2-82D2-C85BBAD46C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7B927-7EA7-440D-B921-62B74942B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30450-C885-425E-A5C7-6DAFFD63E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953F0-73DD-48B2-8B8A-0AC65C1D3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5A295-4B23-48F3-9B0E-DD3848420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A5471-4B2E-4DFF-BA76-FB2595C21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0E55E-2025-4E4A-9AF6-656A5C178D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46431-F8C3-441D-B528-0243F53D4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8D79A-594C-4DB0-9249-487BE713B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EFDAC-6F39-42F8-8CA5-7FF548E807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57C26-99AD-4D45-AD88-B5E6FAF6A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F01A5-65B2-4376-9650-203ED9D43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A6094-8D41-4862-9DA7-09B18D0201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609A0-8B81-4ED6-9B90-7AF1D8E50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580D6-7065-4839-90EF-52E8E9166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0939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50A14-4C9E-4C23-A20F-A8A6A86C3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AE633-23B3-4465-B73D-DD3EE5F45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24C1D-4EEE-4664-8A79-7E2A94256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9E1C1-5871-4B7C-B939-F5A0508B5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5011C-A7EB-47B7-8201-16462F34F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7385F-92EA-4989-AFD4-79B2955F9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655E8-1311-42BF-855C-E01BBBE9C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AEC92-7C9D-4A6D-98C7-984F7CEA8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7621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8BD3E-05EE-4AC1-B52E-FEB380D3A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79A31-48DF-4450-87E6-765CBF365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AA076-FDEE-48AF-89A8-4F977EA25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4406A-7755-499A-B95B-AC9CEB29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90443-9A93-4822-99BF-2AC159E3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0939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D10BF-3D68-443A-8B44-D8C51E26A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57D7F-12BD-4C95-808E-697026548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5EA1F-C97B-4F20-8C31-79AAB8DB9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EC235-1BF7-4BDE-9E6A-BE830FE54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9C37B-2E52-4752-938C-7C1B31D97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361D3-352B-4EBC-94A2-725470600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7621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ACF85-D724-4548-92C9-56171F164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E7894-4B97-4378-9E55-189A24AF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BBA02-EFF1-4E79-8314-67027ADE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93072-7291-41E5-9F59-DF04E40E7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f4eb"/>
            </a:gs>
            <a:gs pos="100000">
              <a:srgbClr val="e5e2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C2B43-800C-444F-B004-72044E1D91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8fbac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dt" idx="3"/>
          </p:nvPr>
        </p:nvSpPr>
        <p:spPr>
          <a:xfrm>
            <a:off x="45684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42"/>
          <p:cNvSpPr/>
          <p:nvPr/>
        </p:nvSpPr>
        <p:spPr>
          <a:xfrm>
            <a:off x="380880" y="685800"/>
            <a:ext cx="4876920" cy="76320"/>
          </a:xfrm>
          <a:prstGeom prst="rect">
            <a:avLst/>
          </a:prstGeom>
          <a:gradFill rotWithShape="0">
            <a:gsLst>
              <a:gs pos="0">
                <a:srgbClr val="00355e"/>
              </a:gs>
              <a:gs pos="100000">
                <a:srgbClr val="00355e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47"/>
          <p:cNvSpPr/>
          <p:nvPr/>
        </p:nvSpPr>
        <p:spPr>
          <a:xfrm>
            <a:off x="380880" y="165240"/>
            <a:ext cx="8305920" cy="419040"/>
          </a:xfrm>
          <a:prstGeom prst="rect">
            <a:avLst/>
          </a:prstGeom>
          <a:gradFill rotWithShape="0">
            <a:gsLst>
              <a:gs pos="0">
                <a:srgbClr val="00355e"/>
              </a:gs>
              <a:gs pos="100000">
                <a:srgbClr val="00355e">
                  <a:alpha val="29019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oftware Architecture: Foundations, Theory, and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62"/>
          <p:cNvSpPr/>
          <p:nvPr/>
        </p:nvSpPr>
        <p:spPr>
          <a:xfrm rot="5400000">
            <a:off x="-2019240" y="3162240"/>
            <a:ext cx="4876560" cy="76320"/>
          </a:xfrm>
          <a:prstGeom prst="rect">
            <a:avLst/>
          </a:prstGeom>
          <a:gradFill rotWithShape="0">
            <a:gsLst>
              <a:gs pos="0">
                <a:srgbClr val="00355e"/>
              </a:gs>
              <a:gs pos="100000">
                <a:srgbClr val="00355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63"/>
          <p:cNvSpPr/>
          <p:nvPr/>
        </p:nvSpPr>
        <p:spPr>
          <a:xfrm>
            <a:off x="3886200" y="6553080"/>
            <a:ext cx="4876920" cy="76320"/>
          </a:xfrm>
          <a:prstGeom prst="rect">
            <a:avLst/>
          </a:prstGeom>
          <a:gradFill rotWithShape="0">
            <a:gsLst>
              <a:gs pos="0">
                <a:srgbClr val="00355e">
                  <a:alpha val="0"/>
                </a:srgbClr>
              </a:gs>
              <a:gs pos="100000">
                <a:srgbClr val="00355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64"/>
          <p:cNvSpPr/>
          <p:nvPr/>
        </p:nvSpPr>
        <p:spPr>
          <a:xfrm rot="5400000">
            <a:off x="6400800" y="4190760"/>
            <a:ext cx="4647960" cy="76320"/>
          </a:xfrm>
          <a:prstGeom prst="rect">
            <a:avLst/>
          </a:prstGeom>
          <a:gradFill rotWithShape="0">
            <a:gsLst>
              <a:gs pos="0">
                <a:srgbClr val="00355e">
                  <a:alpha val="0"/>
                </a:srgbClr>
              </a:gs>
              <a:gs pos="100000">
                <a:srgbClr val="0035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9"/>
          <p:cNvSpPr/>
          <p:nvPr/>
        </p:nvSpPr>
        <p:spPr>
          <a:xfrm>
            <a:off x="0" y="1219320"/>
            <a:ext cx="9144000" cy="75960"/>
          </a:xfrm>
          <a:prstGeom prst="rect">
            <a:avLst/>
          </a:prstGeom>
          <a:gradFill rotWithShape="0">
            <a:gsLst>
              <a:gs pos="0">
                <a:srgbClr val="00355e"/>
              </a:gs>
              <a:gs pos="100000">
                <a:srgbClr val="00355e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0"/>
          <p:cNvSpPr/>
          <p:nvPr/>
        </p:nvSpPr>
        <p:spPr>
          <a:xfrm>
            <a:off x="0" y="5943600"/>
            <a:ext cx="9144000" cy="76320"/>
          </a:xfrm>
          <a:prstGeom prst="rect">
            <a:avLst/>
          </a:prstGeom>
          <a:gradFill rotWithShape="0">
            <a:gsLst>
              <a:gs pos="0">
                <a:srgbClr val="00355e">
                  <a:alpha val="0"/>
                </a:srgbClr>
              </a:gs>
              <a:gs pos="100000">
                <a:srgbClr val="00355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1"/>
          <p:cNvSpPr/>
          <p:nvPr/>
        </p:nvSpPr>
        <p:spPr>
          <a:xfrm>
            <a:off x="2645640" y="6583320"/>
            <a:ext cx="665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© Richard N. Taylor, Nenad Medvidovic, and Eric M. Dashofy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8fbac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A3574-691E-4768-AE22-D82DDC3DA0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666880" y="167652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Software Connectors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666880" y="4114440"/>
            <a:ext cx="60199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oftware Architectur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Lecture 7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An Example of Explicit Connectors (cont’d)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B1E85-6323-4F55-B9F8-A4B74283C1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4264200" y="3048120"/>
            <a:ext cx="72936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Goudy"/>
                <a:ea typeface="Arial Unicode MS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-48276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" descr="fig_05_02.jpg"/>
          <p:cNvPicPr/>
          <p:nvPr/>
        </p:nvPicPr>
        <p:blipFill>
          <a:blip r:embed="rId1"/>
          <a:stretch/>
        </p:blipFill>
        <p:spPr>
          <a:xfrm>
            <a:off x="1676520" y="4025880"/>
            <a:ext cx="5905440" cy="21463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" descr="fig_05_01.jpg"/>
          <p:cNvPicPr/>
          <p:nvPr/>
        </p:nvPicPr>
        <p:blipFill>
          <a:blip r:embed="rId2"/>
          <a:stretch/>
        </p:blipFill>
        <p:spPr>
          <a:xfrm>
            <a:off x="750960" y="1957320"/>
            <a:ext cx="5600520" cy="1266840"/>
          </a:xfrm>
          <a:prstGeom prst="rect">
            <a:avLst/>
          </a:prstGeom>
          <a:ln w="0">
            <a:noFill/>
          </a:ln>
        </p:spPr>
      </p:pic>
      <p:sp>
        <p:nvSpPr>
          <p:cNvPr id="131" name="Line 4"/>
          <p:cNvSpPr/>
          <p:nvPr/>
        </p:nvSpPr>
        <p:spPr>
          <a:xfrm>
            <a:off x="2895480" y="2925720"/>
            <a:ext cx="2514600" cy="217332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oftware Connector Rol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7524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cus of interaction among set of compon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tocol specification (sometimes implicit) that defines its properti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ypes of interfaces it is able to mediat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surances about interaction properti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ules about interaction order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raction commitments (e.g., performanc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ol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mun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ordin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vers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acili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39287-F80C-4B07-8A04-74CC08DC06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nectors as Communicator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in role associated with connecto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uppor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ifferent communication mechanism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.g. procedure call, RPC, shared data access, message pa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straints on communication structure/dire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.g. pip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straints on quality of servi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.g. persiste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parates communication from compu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y influence non-functional system characteristic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.g. performance, scalability, secur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65A6F-EA8A-4827-A535-9A95C6070C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nectors as Coordinator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 computa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delivery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s control fro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thogonal to communication, conversion, and facili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ments of control are in communication, conversion and facili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8021C-96EF-449D-8A71-F71574D47E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nectors as Converter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 interaction of independently developed, mismatched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smatches based on inter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s of conver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app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315D2-C8B1-43A1-86F4-97E4991B72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nectors as Facilitator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 interaction of components intended to interope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ate and streamline inter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vern access to shared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proper performance pro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ynchronization mechanis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itical s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ni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D2205-1FD1-48C3-9963-EAE5D37F45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nector Typ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e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1E662-7D8A-4026-9ADE-7E1D2FD63A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Framework for Classifying Connector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0581D-774D-4E0C-9E70-938B2A3503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4" descr="Fig5-3"/>
          <p:cNvPicPr/>
          <p:nvPr/>
        </p:nvPicPr>
        <p:blipFill>
          <a:blip r:embed="rId1"/>
          <a:stretch/>
        </p:blipFill>
        <p:spPr>
          <a:xfrm>
            <a:off x="2057400" y="1600200"/>
            <a:ext cx="4799160" cy="491976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-55908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rocedure Call Connector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72DAC-2E53-4E49-9EE7-CA540C5141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5" descr="Procedure Call"/>
          <p:cNvPicPr/>
          <p:nvPr/>
        </p:nvPicPr>
        <p:blipFill>
          <a:blip r:embed="rId1"/>
          <a:stretch/>
        </p:blipFill>
        <p:spPr>
          <a:xfrm>
            <a:off x="1152360" y="1905120"/>
            <a:ext cx="7000920" cy="41907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6"/>
          <p:cNvSpPr/>
          <p:nvPr/>
        </p:nvSpPr>
        <p:spPr>
          <a:xfrm>
            <a:off x="-63540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vent Connector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Picture 5" descr="Event"/>
          <p:cNvPicPr/>
          <p:nvPr/>
        </p:nvPicPr>
        <p:blipFill>
          <a:blip r:embed="rId1"/>
          <a:stretch/>
        </p:blipFill>
        <p:spPr>
          <a:xfrm>
            <a:off x="984240" y="1905120"/>
            <a:ext cx="7175520" cy="4190760"/>
          </a:xfrm>
          <a:prstGeom prst="rect">
            <a:avLst/>
          </a:prstGeom>
          <a:ln w="0">
            <a:noFill/>
          </a:ln>
        </p:spPr>
      </p:pic>
      <p:sp>
        <p:nvSpPr>
          <p:cNvPr id="160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BB74D-6A9F-44E1-9A8D-CF062194F8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-63540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hat is a Software Connector?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chitectural element that model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ractions among compon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ules that govern those interac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imple interac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cedure call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hared variable acces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lex &amp; semantically rich interac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ient-server protocol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atabase access protocol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ynchronous event multica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connector provid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raction duct(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ransfer of control and/or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8B1A9-F24E-42AC-939A-F171054B04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ata Access Connector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3" name="Picture 5" descr="Data Access"/>
          <p:cNvPicPr/>
          <p:nvPr/>
        </p:nvPicPr>
        <p:blipFill>
          <a:blip r:embed="rId1"/>
          <a:stretch/>
        </p:blipFill>
        <p:spPr>
          <a:xfrm>
            <a:off x="682560" y="1905120"/>
            <a:ext cx="7778880" cy="4190760"/>
          </a:xfrm>
          <a:prstGeom prst="rect">
            <a:avLst/>
          </a:prstGeom>
          <a:ln w="0">
            <a:noFill/>
          </a:ln>
        </p:spPr>
      </p:pic>
      <p:sp>
        <p:nvSpPr>
          <p:cNvPr id="164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AF336-9535-424E-A856-38735FA80D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-63540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inkage Connector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7" name="Picture 5" descr="Linkage"/>
          <p:cNvPicPr/>
          <p:nvPr/>
        </p:nvPicPr>
        <p:blipFill>
          <a:blip r:embed="rId1"/>
          <a:stretch/>
        </p:blipFill>
        <p:spPr>
          <a:xfrm>
            <a:off x="685800" y="2494080"/>
            <a:ext cx="7808760" cy="3012840"/>
          </a:xfrm>
          <a:prstGeom prst="rect">
            <a:avLst/>
          </a:prstGeom>
          <a:ln w="0">
            <a:noFill/>
          </a:ln>
        </p:spPr>
      </p:pic>
      <p:sp>
        <p:nvSpPr>
          <p:cNvPr id="168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F6F27-798B-49A2-AA15-E9DB7DC32F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-63540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ream Connector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1" name="Picture 5" descr="Stream"/>
          <p:cNvPicPr/>
          <p:nvPr/>
        </p:nvPicPr>
        <p:blipFill>
          <a:blip r:embed="rId1"/>
          <a:stretch/>
        </p:blipFill>
        <p:spPr>
          <a:xfrm>
            <a:off x="1143000" y="1905120"/>
            <a:ext cx="6934320" cy="4190760"/>
          </a:xfrm>
          <a:prstGeom prst="rect">
            <a:avLst/>
          </a:prstGeom>
          <a:ln w="0">
            <a:noFill/>
          </a:ln>
        </p:spPr>
      </p:pic>
      <p:sp>
        <p:nvSpPr>
          <p:cNvPr id="172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B6700-FA13-4F75-9F94-2629487194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-63540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rbitrator Connector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5" name="Picture 5" descr="Arbitrator"/>
          <p:cNvPicPr/>
          <p:nvPr/>
        </p:nvPicPr>
        <p:blipFill>
          <a:blip r:embed="rId1"/>
          <a:stretch/>
        </p:blipFill>
        <p:spPr>
          <a:xfrm>
            <a:off x="990720" y="1600200"/>
            <a:ext cx="6781680" cy="4495680"/>
          </a:xfrm>
          <a:prstGeom prst="rect">
            <a:avLst/>
          </a:prstGeom>
          <a:ln w="0">
            <a:noFill/>
          </a:ln>
        </p:spPr>
      </p:pic>
      <p:sp>
        <p:nvSpPr>
          <p:cNvPr id="176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CC6AD-8D44-4ABA-AD5F-E671E4A90E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-63540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daptor Connector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9" name="Picture 5" descr="Adaptor"/>
          <p:cNvPicPr/>
          <p:nvPr/>
        </p:nvPicPr>
        <p:blipFill>
          <a:blip r:embed="rId1"/>
          <a:stretch/>
        </p:blipFill>
        <p:spPr>
          <a:xfrm>
            <a:off x="457200" y="2773440"/>
            <a:ext cx="8229600" cy="2454120"/>
          </a:xfrm>
          <a:prstGeom prst="rect">
            <a:avLst/>
          </a:prstGeom>
          <a:ln w="0">
            <a:noFill/>
          </a:ln>
        </p:spPr>
      </p:pic>
      <p:sp>
        <p:nvSpPr>
          <p:cNvPr id="180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772B9-2373-4C89-8139-9127FF231F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-55908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istributor Connector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Picture 5" descr="Distributor"/>
          <p:cNvPicPr/>
          <p:nvPr/>
        </p:nvPicPr>
        <p:blipFill>
          <a:blip r:embed="rId1"/>
          <a:stretch/>
        </p:blipFill>
        <p:spPr>
          <a:xfrm>
            <a:off x="457200" y="2265480"/>
            <a:ext cx="8229600" cy="3470040"/>
          </a:xfrm>
          <a:prstGeom prst="rect">
            <a:avLst/>
          </a:prstGeom>
          <a:ln w="0">
            <a:noFill/>
          </a:ln>
        </p:spPr>
      </p:pic>
      <p:sp>
        <p:nvSpPr>
          <p:cNvPr id="184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88F80-3049-45B5-A616-568BC6E5B2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-55908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w Does One Select a Connector?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1676520"/>
            <a:ext cx="7772400" cy="48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a system’s interconnection and interaction nee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ftware interconnection models can hel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roles to be fulfilled by the system’s connec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ion, coordination, conversion, facili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ach connec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ts appropriate type(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ts dimensions of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lect appropriate values for each dimen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multi-type, i.e., composite connec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the atomic connector compatibil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F53F9-2125-4D66-BEA0-925A3BC1D8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imple Examp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 components will execute in two processes on the same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ly intra-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casionally inter-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interaction among the components is 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mponents are primarily computation-int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are some data storage needs, but those are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BCA04-1655-4DA0-A1A6-204552CAC1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imple Example (cont’d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 procedure call connectors for intra-process inter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e procedure call connectors with distributor connectors for inter-process inter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 the values for the different connector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are the appropriate value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values are imposed by your favorite programming language(s)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A07E2-F2FF-4CD6-AD46-40E5AEF735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7617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wo Connector Types in Tandem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6ECD8-D928-4202-B892-CCCA953F8C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Group 12"/>
          <p:cNvGrpSpPr/>
          <p:nvPr/>
        </p:nvGrpSpPr>
        <p:grpSpPr>
          <a:xfrm>
            <a:off x="1324080" y="1353960"/>
            <a:ext cx="5076720" cy="5122800"/>
            <a:chOff x="1324080" y="1353960"/>
            <a:chExt cx="5076720" cy="5122800"/>
          </a:xfrm>
        </p:grpSpPr>
        <p:pic>
          <p:nvPicPr>
            <p:cNvPr id="198" name="Picture 5" descr="Distributor"/>
            <p:cNvPicPr/>
            <p:nvPr/>
          </p:nvPicPr>
          <p:blipFill>
            <a:blip r:embed="rId1"/>
            <a:srcRect l="0" t="8490" r="0" b="0"/>
            <a:stretch/>
          </p:blipFill>
          <p:spPr>
            <a:xfrm>
              <a:off x="1324080" y="4598640"/>
              <a:ext cx="4895640" cy="187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Picture 4" descr="Procedure Call"/>
            <p:cNvPicPr/>
            <p:nvPr/>
          </p:nvPicPr>
          <p:blipFill>
            <a:blip r:embed="rId2"/>
            <a:stretch/>
          </p:blipFill>
          <p:spPr>
            <a:xfrm>
              <a:off x="1324080" y="1353960"/>
              <a:ext cx="5076720" cy="329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0" name="Text Box 13"/>
          <p:cNvSpPr/>
          <p:nvPr/>
        </p:nvSpPr>
        <p:spPr>
          <a:xfrm>
            <a:off x="6400800" y="3124080"/>
            <a:ext cx="243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55e"/>
                </a:solidFill>
                <a:latin typeface="Arial"/>
              </a:rPr>
              <a:t>Select the appropriate</a:t>
            </a:r>
            <a:br>
              <a:rPr sz="2400"/>
            </a:br>
            <a:r>
              <a:rPr b="0" i="1" lang="en-US" sz="2400" spc="-1" strike="noStrike">
                <a:solidFill>
                  <a:srgbClr val="00355e"/>
                </a:solidFill>
                <a:latin typeface="Arial"/>
              </a:rPr>
              <a:t>values for PC and RPC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14"/>
          <p:cNvSpPr/>
          <p:nvPr/>
        </p:nvSpPr>
        <p:spPr>
          <a:xfrm>
            <a:off x="-56052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Where are Connectors in Software Systems?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A273D-7A5A-4CA6-8D9B-C0524AF2B3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15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7851600" cy="46083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6"/>
          <p:cNvSpPr/>
          <p:nvPr/>
        </p:nvSpPr>
        <p:spPr>
          <a:xfrm>
            <a:off x="-63540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oftware Interconnection Model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on models (IM) as defined by Per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t inter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ctic inter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antic inter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three are present in each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e all equally appropriate at architectural level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29739-10F4-4324-B705-CCC9C58B80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Unit Interconnectio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762120" y="159984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es relations between system’s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its are components (modules or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 unit relationship is depend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it-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I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({units},{“depends on”}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ing context of compi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, C preprocess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I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({files},{“include”}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ing recompilation strateg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, Make fac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I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({compile_units},{“depends on”,“has changed”}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ystem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, RCS, DVS, SVS, SC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I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({systems, files},{“is composed of”}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F973A-4ED7-4126-AF6E-C50845BE16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yntactic Interconnectio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85800" y="159984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cribes relations among syntactic elements of programming langu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able definition/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 definition/invo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8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I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(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{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method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yp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variabl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location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}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{“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is def 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”, “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is set 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”, “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is used 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”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“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is del fro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”, “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is changed t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”, “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is added t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”}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utomated software change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8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, Interlisp’s mastersco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c analy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8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, Detection of unreachable code by compil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mart recompi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8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nges inside uni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ecompilation of only the chan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ystem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8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ner level of granularity than unit-I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42BE0-2114-4446-9BF1-24D85EB5D9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mantic Interconnectio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09480" y="1676160"/>
            <a:ext cx="813456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resses how system components are meant to be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designers’ inten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s how system components are actual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users’ (i.e., system builders’) i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on semantics can be formally spec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- &amp; post-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interaction protocols (e.g. CSP, FS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9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ethod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yp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ariabl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edicat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s set a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s used a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l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lled b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..., 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atisf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}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26BD5-87F9-401C-BC2B-5EAE22003F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osing Basic Connector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many systems a connector of multiple types may be required to service (a subset of) the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nectors cannot be com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are naturally interoper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are incompat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re likely to require trade-off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mposition can be considered at the level of connector type dimensions and sub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817DA-86C6-4D38-B477-C3FFA9B906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ell Known Composite Connector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85800" y="1599840"/>
            <a:ext cx="777240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id connectors (e.g., Globu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e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-to-peer connectors (e.g., Bittorre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-server conne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-based conne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B7843-F87F-4A3C-A920-C90C1C42DD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mplemented vs. Conceptual Connector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ors in software system implemen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tly no dedic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tly no id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do not correspond to compilation un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implem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ross multiple modu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ross interaction mechanis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6E256-F563-41E2-A616-A4F5F65193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Implemented vs. Conceptual Connectors (cont’d)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ors in software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-class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ve id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 all system inter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led to their own specifications &amp; abstra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EF1A7-F2B9-418D-B21F-B670F834FD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Reasons for Treating Connectors Independently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s provide application-specific function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ors provide application-independent interaction mechanis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on abstraction and/or paramete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ication of complex intera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vs. N-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mmetric vs. Symmetr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o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E33DF-0E49-4F29-AE89-62A1041829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reating Connectors Independently (cont’d)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ization of interaction defi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ra-component system (interaction)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indepen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interaction 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522A3-B7B0-435B-92DC-B4FBA29C98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enefits of First-Class Connector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computation from inter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component interdepend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software ev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component-, connector-, &amp; system-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tential for supporting dynam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ate heterogene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come points of distrib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id system analysis &amp;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3FAE1-1874-49A0-AFC1-8D57666EAF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n Example of Explicit Connector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96808-3858-448F-A7D0-1B5AE4D28A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-659160" y="601992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" descr="fig_05_01.jpg"/>
          <p:cNvPicPr/>
          <p:nvPr/>
        </p:nvPicPr>
        <p:blipFill>
          <a:blip r:embed="rId1"/>
          <a:stretch/>
        </p:blipFill>
        <p:spPr>
          <a:xfrm>
            <a:off x="750960" y="1957320"/>
            <a:ext cx="560052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7:40:37Z</dcterms:created>
  <dc:creator>Taylor, Medvidovic, and Dashofy</dc:creator>
  <dc:description>Copyright (C) Richard N. Taylor, Nenad Medvidovic, and Eric M. Dashofy. All rights reserved.</dc:description>
  <dc:language>en-US</dc:language>
  <cp:lastModifiedBy>zakarya</cp:lastModifiedBy>
  <dcterms:modified xsi:type="dcterms:W3CDTF">2011-09-25T18:27:57Z</dcterms:modified>
  <cp:revision>36</cp:revision>
  <dc:subject>Software Architecture: Foundations, Theory, and Practice</dc:subject>
  <dc:title>Software Connectors</dc:title>
</cp:coreProperties>
</file>