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5AAB0-B45B-4D14-9518-109DE291B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73FB7-C960-4E38-9AD0-9BBBE2C82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7654E-C2EC-47C9-9FEB-E75ED7BAA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D482D-FBCF-444C-90DD-44BDCF62C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14648-893A-42B2-8396-EFD066322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EB5A2-2194-4F46-AAF5-4A71000C3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FF648-0C35-4E2E-B0FC-CDA2FD035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68ACB-40E2-4EB5-8FAE-EB9220AE1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FDE7A-49EF-477B-81AD-72D988D10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0ED1C-DFBA-467C-A329-3736EAA1A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7D17D-9697-42B6-B97C-FB61D10E5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803E1-B3ED-4427-81F6-9244EBC5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A2CAD-52CD-4556-9A02-0B68DC1C4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462A0-CAC5-40DB-96F0-6132E46F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5BEBC-58CF-4ADF-8289-5C967444D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CCED9-499D-4D9A-91AC-E5E896C06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689F2-0493-4F29-A675-4533665EB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20EF4A-9F02-4C0E-AF31-F669EA20FF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1BD8F-806A-44B7-AA38-3CC7DC5AE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CC99F-7A75-46ED-986B-C206231D0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8E6A2-71B7-4151-9011-373F8E8DB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1F6B9-063F-4838-801B-EF7098B46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BFE07-1CD7-44C6-B66C-41B8B61F0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D5FF6-63B2-4D19-A026-71511EFCA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BF98A-FC09-4BA0-B888-598D5EAAF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C669F-72D9-4391-A764-117FCEC7F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3CF61-B7DD-4130-92C2-E54C6E280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17CBC-C1F0-4840-975E-41ED45C95B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92B678-E916-4AAC-9DD6-C4EB3C5DE7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CA6C6-C92A-4984-AE3D-69FB5A1E7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03A14-9DD8-4CB0-9BA3-BDFE48F102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0276A-4EC4-4A24-B51A-02E983657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C4D89-FD69-48B9-92A8-EB62FC3E8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814D8-BF5E-4109-A04C-EBA6F7D5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CFB1E-5B21-4D21-8063-456447FB3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5E375-F8B2-46AD-B363-2986F5B79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C78A7-7783-49F0-93A4-B1E18F6C6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588E9-8F94-4E24-9CE4-389E43D502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C7B3D-1452-407F-8509-C5BB8C3CC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0A030-FDFD-4321-A1FA-7FA036EC1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09E16-41EE-46A4-A0E0-282ED3B97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366837-DDCD-4BD2-84B3-36EDF35F8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8940D8-7E4E-4866-B8C2-BB8A939962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B89FA-2BD8-4FA8-9EEA-CCBCD8F8F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17306-BB9A-46B7-9279-6EA81D904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73A12-3E01-4191-A822-9ED67A168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EBB03-CEB3-4BA1-813C-0FCC735E5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A0D21-AAE6-494A-A51A-E739A59937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F8B05-6126-4BE5-ADD1-6E2E8EF6A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04C61-0375-4FCB-A944-DF0573BB4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DB7A5-1589-4C3F-9B52-EE945EB55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3D003-329C-45EB-BFAE-BE5969007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261A7-D57E-46C5-B584-61F44E7B5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FC723-E5E1-4DD9-987C-A8A576B1FF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E910B1-057C-4F82-AFDE-7934A18226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4E830-8C1A-4CA1-BB2F-F06A0EAB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38567E-AD59-46B6-8121-25C39F37B1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A53722-B1A6-4A24-9E81-6EDFFC05FF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FB507A-6D09-466A-811B-D424F98110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2BD00-F387-4BB3-B82A-5E7E89C16B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3A1798-17AA-45A3-8642-DDCA09575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80C00-39B1-41C1-A2FD-6D3E3FD647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B00B2-5F30-448A-8D1E-6754784E84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FA9C1-81E2-403E-A9F3-BA05910C8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D038D-5BA3-473E-98B4-DEBB249C1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F3AD2-9F53-4812-8088-8E82708A7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6EFB-213E-4F83-9BCE-1D3C6948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C6BC3-C8CF-4A6C-9E26-3993B079B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6ABE8-AFFD-4895-AAF6-923BA8289F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A2B01A-3A12-4925-AF83-0B914C4A77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54BA7D-5FFC-4733-B9A4-F212855522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2A6761-648E-477F-ADEC-5F20D144F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070E1-8962-441B-B409-A31B8F39A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9CCFE1-86BD-47F6-A872-EE048F57D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48FC6E-7CFF-4C7E-98F2-04EC3B8545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F7E73-9301-4688-9115-F65BCBB99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0E834D-E850-42E2-8B15-3647274F7D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745DE-0EF7-4575-95AD-8C8E8FC8B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F5EB5-3DDB-4BDE-B2C4-295A99524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39589-4E0F-415D-A758-D0B4BBD4B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116FE-03D6-489F-BF99-D88338432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41EC54-B345-4BB5-8791-FB654CA70F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41C102-1E29-43BF-9A7A-9545862FB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7101-63C6-4723-BA05-14F762010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B78D-FEE2-416D-B50E-7093F9E09C8E}"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F07A-40AB-4D06-B080-DBAB1130825A}"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8477-4FB2-4ADB-8759-89385F2059EE}"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0529-5DD6-4D34-BDE6-1153325CE4F0}"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2960-C51F-4D5E-A881-EA0A9442EA29}"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0AC1-DDA5-4691-AF29-D9C13C83C738}"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EEAD-501B-4849-AB82-7DD16DD2D582}" type="slidenum">
              <a:rPr b="0" lang="ar-SA" sz="1200" spc="-1" strike="noStrike">
                <a:solidFill>
                  <a:srgbClr val="b5a788"/>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42800" y="103320"/>
            <a:ext cx="8244000" cy="736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rPr>
              <a:t>تحليل السجلات المزرعية</a:t>
            </a:r>
            <a:endParaRPr b="0" lang="en-US" sz="3900" spc="-1" strike="noStrike">
              <a:solidFill>
                <a:srgbClr val="572314"/>
              </a:solidFill>
              <a:latin typeface="Gill Sans MT"/>
            </a:endParaRPr>
          </a:p>
        </p:txBody>
      </p:sp>
      <p:sp>
        <p:nvSpPr>
          <p:cNvPr id="319" name=""/>
          <p:cNvSpPr txBox="1"/>
          <p:nvPr/>
        </p:nvSpPr>
        <p:spPr>
          <a:xfrm>
            <a:off x="1066320" y="1066680"/>
            <a:ext cx="7620120" cy="5181840"/>
          </a:xfrm>
          <a:prstGeom prst="rect">
            <a:avLst/>
          </a:prstGeom>
          <a:noFill/>
          <a:ln w="0">
            <a:noFill/>
          </a:ln>
        </p:spPr>
        <p:txBody>
          <a:bodyPr lIns="90000" rIns="90000" tIns="46800" bIns="46800" anchor="t">
            <a:normAutofit fontScale="88000"/>
          </a:bodyPr>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أتي أهمية السجلات المزرعيّة من مقدرة المزارع على الرجوع لها وتحليل بياناتها والاستفادة منها في الأوجه المختلفة للإدارة المزرعية. ويجري تحليل السجلات المزرعية في الغالب للحصول على ما يلي:</a:t>
            </a:r>
            <a:endParaRPr b="0" lang="en-US" sz="2800" spc="-1" strike="noStrike">
              <a:solidFill>
                <a:srgbClr val="000000"/>
              </a:solidFill>
              <a:latin typeface="Gill Sans MT"/>
            </a:endParaRPr>
          </a:p>
          <a:p>
            <a:pPr lvl="1" marL="562680" indent="-208080" algn="r" rtl="1">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Gill Sans MT"/>
              </a:rPr>
              <a:t>تقدير الكفاءة الإقتصادية لعناصر الإنتاج في المزرعة،</a:t>
            </a:r>
            <a:endParaRPr b="0" lang="en-US" sz="2400" spc="-1" strike="noStrike">
              <a:solidFill>
                <a:srgbClr val="000000"/>
              </a:solidFill>
              <a:latin typeface="Gill Sans MT"/>
            </a:endParaRPr>
          </a:p>
          <a:p>
            <a:pPr lvl="1" marL="562680" indent="-208080" algn="r" rtl="1">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Gill Sans MT"/>
              </a:rPr>
              <a:t>تقدير النجاح المالي للوحدات الإنتاجية،</a:t>
            </a:r>
            <a:endParaRPr b="0" lang="en-US" sz="2400" spc="-1" strike="noStrike">
              <a:solidFill>
                <a:srgbClr val="000000"/>
              </a:solidFill>
              <a:latin typeface="Gill Sans MT"/>
            </a:endParaRPr>
          </a:p>
          <a:p>
            <a:pPr lvl="1" marL="562680" indent="-208080" algn="r" rtl="1">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271c"/>
                </a:solidFill>
                <a:latin typeface="Gill Sans MT"/>
              </a:rPr>
              <a:t>تقدير احتياجات وإمكانيات التوسع المزرعي والنمو.</a:t>
            </a:r>
            <a:endParaRPr b="0" lang="en-US" sz="24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نستعرض فيما يلي بعض المعايير في تحليل السجلات المزرعية.</a:t>
            </a:r>
            <a:endParaRPr b="0" lang="en-US" sz="28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تــقدير الـــــكفاءة الإقتصادية لـــــعناصر الإنتاج في الــــمزرعة:</a:t>
            </a:r>
            <a:endParaRPr b="0" lang="en-US" sz="28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مكن تقسيم عناصر الإنتاج في المزرعة إلى الأقسام التالية:</a:t>
            </a:r>
            <a:endParaRPr b="0" lang="en-US" sz="2800" spc="-1" strike="noStrike">
              <a:solidFill>
                <a:srgbClr val="000000"/>
              </a:solidFill>
              <a:latin typeface="Gill Sans MT"/>
            </a:endParaRPr>
          </a:p>
          <a:p>
            <a:pPr marL="321120" indent="-2484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زارع المنتجة، الآلة، الأرض الزراعية. وهذه أهم عناصر الإنتاج بالمزرعة التي تهتم الإدارة المزرعية بتقدير كفاءة أدائها من الناحية الإقتصادية لارتباطها بالإنتاج والدخل المزرعي المتوقع من النشاط الزراعي الإنتاجي.</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1066680" y="304920"/>
            <a:ext cx="7848720" cy="6248160"/>
          </a:xfrm>
          <a:prstGeom prst="rect">
            <a:avLst/>
          </a:prstGeom>
          <a:noFill/>
          <a:ln w="0">
            <a:noFill/>
          </a:ln>
        </p:spPr>
        <p:txBody>
          <a:bodyPr lIns="90000" rIns="90000" tIns="46800" bIns="46800" anchor="t">
            <a:normAutofit/>
          </a:bodyPr>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271c"/>
                </a:solidFill>
                <a:latin typeface="Gill Sans MT"/>
              </a:rPr>
              <a:t>نسبة العوائد للتكاليف:</a:t>
            </a:r>
            <a:endParaRPr b="0" lang="en-US" sz="32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أحد المعايير المستخدمة كمؤشر للتقويم المالي لأداء وحدات الإنتاج هو نسبة العوائد للتكاليف. </a:t>
            </a:r>
            <a:endParaRPr b="0" lang="en-US" sz="24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لا يختلف هذا المدلول عن القيمة الحالية الصافية للاستثمار في استخداماته من حيث المعلومات التي يتطلبها لتقويم الأداء الماضي من خلال السجلات. ويبحث عن مؤشرات لتصحيح المشكلات المالية إن وجدت ودعم العناصر الإيجابية في ممارسات المشروع من الناحية المالية، وتحسب نسبة العائد للتكاليف كالآتي:</a:t>
            </a:r>
            <a:r>
              <a:rPr b="1" lang="ar-SA" sz="2400" spc="-1" strike="noStrike">
                <a:solidFill>
                  <a:srgbClr val="000000"/>
                </a:solidFill>
                <a:latin typeface="Gill Sans MT"/>
              </a:rPr>
              <a:t>	</a:t>
            </a:r>
            <a:endParaRPr b="0" lang="en-US" sz="24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0000"/>
                </a:solidFill>
                <a:uFillTx/>
                <a:latin typeface="Times New Roman"/>
                <a:cs typeface="Times New Roman"/>
              </a:rPr>
              <a:t>نسبة العائد للتكاليف= إجمالي العوائد خلال مدة معينة/ إجمالي التكاليف خلال نفس المدة</a:t>
            </a:r>
            <a:endParaRPr b="0" lang="en-US" sz="1900" spc="-1" strike="noStrike">
              <a:solidFill>
                <a:srgbClr val="000000"/>
              </a:solidFill>
              <a:latin typeface="Gill Sans MT"/>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609480" indent="-6094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ل ذلك مقوماً بالقيمة الحالية سواء في ناحية العوائد أو التكاليف. ولمعرفة كيفية حساب هذه النسبة نفترض المثال التالي من خلال الجدول والذي يحوي تدفق العوائد والتكاليف في أحد المزارع الإنتاجي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0" name="Object 4"/>
          <p:cNvGraphicFramePr/>
          <p:nvPr/>
        </p:nvGraphicFramePr>
        <p:xfrm>
          <a:off x="1295280" y="457200"/>
          <a:ext cx="7620120" cy="6172200"/>
        </p:xfrm>
        <a:graphic>
          <a:graphicData uri="http://schemas.openxmlformats.org/presentationml/2006/ole">
            <p:oleObj progId="Word.Document.12" r:id="rId1" spid="">
              <p:embed/>
              <p:pic>
                <p:nvPicPr>
                  <p:cNvPr id="341" name="Object 4" descr=""/>
                  <p:cNvPicPr/>
                  <p:nvPr/>
                </p:nvPicPr>
                <p:blipFill>
                  <a:blip r:embed="rId2"/>
                  <a:stretch/>
                </p:blipFill>
                <p:spPr>
                  <a:xfrm>
                    <a:off x="1295280" y="457200"/>
                    <a:ext cx="7620120" cy="6172200"/>
                  </a:xfrm>
                  <a:prstGeom prst="rect">
                    <a:avLst/>
                  </a:prstGeom>
                  <a:ln w="0">
                    <a:noFill/>
                  </a:ln>
                </p:spPr>
              </p:pic>
            </p:oleObj>
          </a:graphicData>
        </a:graphic>
      </p:graphicFrame>
      <p:sp>
        <p:nvSpPr>
          <p:cNvPr id="342" name="Rectangle 6"/>
          <p:cNvSpPr/>
          <p:nvPr/>
        </p:nvSpPr>
        <p:spPr>
          <a:xfrm>
            <a:off x="0" y="4610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143000" y="304920"/>
            <a:ext cx="7772400" cy="5821200"/>
          </a:xfrm>
          <a:prstGeom prst="rect">
            <a:avLst/>
          </a:prstGeom>
          <a:noFill/>
          <a:ln w="0">
            <a:noFill/>
          </a:ln>
        </p:spPr>
        <p:txBody>
          <a:bodyPr lIns="90000" rIns="90000" tIns="46800" bIns="46800" anchor="t">
            <a:normAutofit fontScale="89000"/>
          </a:bodyPr>
          <a:p>
            <a:pPr marL="542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ن الملاحظ أن نسبة العائد للتكاليف أكبر من الواحد الصحيح وهذا يعني نجاح مالي لوحدة الإنتاج، ونسبة تساوي الواحد الصحيح تعني التعادل من الناحية المالية، بينما أقل من واحد تعني وجود مشكلات مالية في الإنتاج تحتاج إلى معالجة باجراءات مختلفة.</a:t>
            </a:r>
            <a:endParaRPr b="0" lang="en-US" sz="2800" spc="-1" strike="noStrike">
              <a:solidFill>
                <a:srgbClr val="000000"/>
              </a:solidFill>
              <a:latin typeface="Gill Sans MT"/>
            </a:endParaRPr>
          </a:p>
          <a:p>
            <a:pPr marL="5421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جد بالملاحظة عند أحتساب هذه النسبة ما يلي:</a:t>
            </a:r>
            <a:endParaRPr b="0" lang="en-US" sz="2800" spc="-1" strike="noStrike">
              <a:solidFill>
                <a:srgbClr val="000000"/>
              </a:solidFill>
              <a:latin typeface="Gill Sans MT"/>
            </a:endParaRPr>
          </a:p>
          <a:p>
            <a:pPr marL="542160" indent="-542160" algn="r" rtl="1">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إحتساب القيمة لكافة التدفقات الإيجابية بما في ذلك قيمة الإنتاج الذي يتم استغلالة داخل المزرعة من قبل الأسرة.</a:t>
            </a:r>
            <a:endParaRPr b="0" lang="en-US" sz="2800" spc="-1" strike="noStrike">
              <a:solidFill>
                <a:srgbClr val="000000"/>
              </a:solidFill>
              <a:latin typeface="Gill Sans MT"/>
            </a:endParaRPr>
          </a:p>
          <a:p>
            <a:pPr marL="542160" indent="-542160" algn="r" rtl="1">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إحتساب القيمة لكافة التكاليف المباشرة وغير المباشرة والتي لها علاقة بوحدة الإنتاج ووفق ما يتوفر لدى الإدارة من معلومات.</a:t>
            </a:r>
            <a:endParaRPr b="0" lang="en-US" sz="2800" spc="-1" strike="noStrike">
              <a:solidFill>
                <a:srgbClr val="000000"/>
              </a:solidFill>
              <a:latin typeface="Gill Sans MT"/>
            </a:endParaRPr>
          </a:p>
          <a:p>
            <a:pPr marL="542160" indent="-542160" algn="r" rtl="1">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لعب نسبة الفائدة التي يتم إختيارها للخصم دور مهم في تحديد أربحية ونجاح وحدات الإنتاج (تتناسب نسبة العائد والتكاليف عكسياً مع قيمة نسبة الفائدة التي يتم إستخدامها في الحساب).</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1066680" y="456840"/>
            <a:ext cx="7391520" cy="5668920"/>
          </a:xfrm>
          <a:prstGeom prst="rect">
            <a:avLst/>
          </a:prstGeom>
          <a:noFill/>
          <a:ln w="0">
            <a:noFill/>
          </a:ln>
        </p:spPr>
        <p:txBody>
          <a:bodyPr lIns="90000" rIns="90000" tIns="46800" bIns="46800" anchor="t">
            <a:normAutofit/>
          </a:bodyPr>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العائد الداخلي للمشروع:</a:t>
            </a:r>
            <a:endParaRPr b="0" lang="en-US" sz="28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يقصد بالعائد الداخلي قدرة المزرعة أو المشروع على إحداث عائد داخلي من الأنشطة الإنتاجية بالمزرعة على الإستثمارات الزراعية التي لها علاقة بالإنتاج. والعائد الداخلي للمشروع هو تلك القيمة التي تجعل من القيمة الحالية الصافية للإستثمار تساوي صفراً. ومن خلال المعادلة التالية:</a:t>
            </a: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حــيث أن:</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N</a:t>
            </a:r>
            <a:r>
              <a:rPr b="0" lang="ar-SA" sz="2000" spc="-1" strike="noStrike">
                <a:solidFill>
                  <a:srgbClr val="000000"/>
                </a:solidFill>
                <a:latin typeface="Gill Sans MT"/>
              </a:rPr>
              <a:t>= 1</a:t>
            </a:r>
            <a:r>
              <a:rPr b="0" lang="ar-SA" sz="2000" spc="-1" strike="noStrike">
                <a:solidFill>
                  <a:srgbClr val="000000"/>
                </a:solidFill>
                <a:latin typeface="Gill Sans MT"/>
              </a:rPr>
              <a:t>،</a:t>
            </a:r>
            <a:r>
              <a:rPr b="0" lang="ar-SA" sz="2000" spc="-1" strike="noStrike">
                <a:solidFill>
                  <a:srgbClr val="000000"/>
                </a:solidFill>
                <a:latin typeface="Gill Sans MT"/>
              </a:rPr>
              <a:t>2</a:t>
            </a:r>
            <a:r>
              <a:rPr b="0" lang="ar-SA" sz="2000" spc="-1" strike="noStrike">
                <a:solidFill>
                  <a:srgbClr val="000000"/>
                </a:solidFill>
                <a:latin typeface="Gill Sans MT"/>
              </a:rPr>
              <a:t>،</a:t>
            </a:r>
            <a:r>
              <a:rPr b="0" lang="ar-SA" sz="2000" spc="-1" strike="noStrike">
                <a:solidFill>
                  <a:srgbClr val="000000"/>
                </a:solidFill>
                <a:latin typeface="Gill Sans MT"/>
              </a:rPr>
              <a:t>3</a:t>
            </a:r>
            <a:r>
              <a:rPr b="0" lang="ar-SA" sz="2000" spc="-1" strike="noStrike">
                <a:solidFill>
                  <a:srgbClr val="000000"/>
                </a:solidFill>
                <a:latin typeface="Gill Sans MT"/>
              </a:rPr>
              <a:t>،</a:t>
            </a:r>
            <a:r>
              <a:rPr b="0" lang="ar-SA" sz="2000" spc="-1" strike="noStrike">
                <a:solidFill>
                  <a:srgbClr val="000000"/>
                </a:solidFill>
                <a:latin typeface="Gill Sans MT"/>
              </a:rPr>
              <a:t>....</a:t>
            </a:r>
            <a:r>
              <a:rPr b="0" lang="ar-SA" sz="2000" spc="-1" strike="noStrike">
                <a:solidFill>
                  <a:srgbClr val="000000"/>
                </a:solidFill>
                <a:latin typeface="Gill Sans MT"/>
              </a:rPr>
              <a:t>،</a:t>
            </a:r>
            <a:r>
              <a:rPr b="0" lang="en-US" sz="2000" spc="-1" strike="noStrike">
                <a:solidFill>
                  <a:srgbClr val="000000"/>
                </a:solidFill>
                <a:latin typeface="Gill Sans MT"/>
              </a:rPr>
              <a:t>M</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Rn</a:t>
            </a:r>
            <a:r>
              <a:rPr b="0" lang="ar-SA" sz="2000" spc="-1" strike="noStrike">
                <a:solidFill>
                  <a:srgbClr val="000000"/>
                </a:solidFill>
                <a:latin typeface="Gill Sans MT"/>
              </a:rPr>
              <a:t>=العائد الإجمالي في السنة </a:t>
            </a:r>
            <a:r>
              <a:rPr b="0" lang="en-US" sz="2000" spc="-1" strike="noStrike">
                <a:solidFill>
                  <a:srgbClr val="000000"/>
                </a:solidFill>
                <a:latin typeface="Gill Sans MT"/>
              </a:rPr>
              <a:t>n</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n</a:t>
            </a:r>
            <a:r>
              <a:rPr b="0" lang="ar-SA" sz="2000" spc="-1" strike="noStrike">
                <a:solidFill>
                  <a:srgbClr val="000000"/>
                </a:solidFill>
                <a:latin typeface="Gill Sans MT"/>
              </a:rPr>
              <a:t>=التكاليف الإجمالية في السنة </a:t>
            </a:r>
            <a:r>
              <a:rPr b="0" lang="en-US" sz="2000" spc="-1" strike="noStrike">
                <a:solidFill>
                  <a:srgbClr val="000000"/>
                </a:solidFill>
                <a:latin typeface="Gill Sans MT"/>
              </a:rPr>
              <a:t>n</a:t>
            </a:r>
            <a:r>
              <a:rPr b="0" lang="ar-SA" sz="2000" spc="-1" strike="noStrike">
                <a:solidFill>
                  <a:srgbClr val="000000"/>
                </a:solidFill>
                <a:latin typeface="Gill Sans MT"/>
              </a:rPr>
              <a:t>.</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a:t>
            </a:r>
            <a:r>
              <a:rPr b="0" lang="ar-SA" sz="2000" spc="-1" strike="noStrike">
                <a:solidFill>
                  <a:srgbClr val="000000"/>
                </a:solidFill>
                <a:latin typeface="Gill Sans MT"/>
              </a:rPr>
              <a:t> =العائد الداخلي للمشروع </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n</a:t>
            </a:r>
            <a:r>
              <a:rPr b="0" lang="ar-SA" sz="2000" spc="-1" strike="noStrike">
                <a:solidFill>
                  <a:srgbClr val="000000"/>
                </a:solidFill>
                <a:latin typeface="Gill Sans MT"/>
              </a:rPr>
              <a:t>= الفترة الزمنية</a:t>
            </a:r>
            <a:endParaRPr b="0" lang="en-US" sz="2000" spc="-1" strike="noStrike">
              <a:solidFill>
                <a:srgbClr val="000000"/>
              </a:solidFill>
              <a:latin typeface="Gill Sans MT"/>
            </a:endParaRPr>
          </a:p>
          <a:p>
            <a:pPr marL="365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في هذه الحالة يتم مقارنة (</a:t>
            </a:r>
            <a:r>
              <a:rPr b="0" lang="en-US" sz="2000" spc="-1" strike="noStrike">
                <a:solidFill>
                  <a:srgbClr val="000000"/>
                </a:solidFill>
                <a:latin typeface="Gill Sans MT"/>
              </a:rPr>
              <a:t>t</a:t>
            </a:r>
            <a:r>
              <a:rPr b="0" lang="ar-SA" sz="2000" spc="-1" strike="noStrike">
                <a:solidFill>
                  <a:srgbClr val="000000"/>
                </a:solidFill>
                <a:latin typeface="Gill Sans MT"/>
              </a:rPr>
              <a:t>) بتكلفة الفرصة البديلة للإستثمارات الزراعية وليكن سعر الفائدة التي تمنحها المصارف على ودائع المستثمرين. ويعد المشروع ناجح من الناحية المالية إذا كانت قيمة العائد الداخلي أكبر من سعر الفائدة ويعاني المشروع من بعض المشكلات المالية إذا كانت تلك القيمة أقل من سعر الفائدة.</a:t>
            </a:r>
            <a:endParaRPr b="0" lang="en-US" sz="2000" spc="-1" strike="noStrike">
              <a:solidFill>
                <a:srgbClr val="000000"/>
              </a:solidFill>
              <a:latin typeface="Gill Sans MT"/>
            </a:endParaRPr>
          </a:p>
        </p:txBody>
      </p:sp>
      <p:sp>
        <p:nvSpPr>
          <p:cNvPr id="3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46" name="Object 4"/>
              <p:cNvSpPr txBox="1"/>
              <p:nvPr/>
            </p:nvSpPr>
            <p:spPr>
              <a:xfrm>
                <a:off x="2971800" y="1905120"/>
                <a:ext cx="27907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r>
                          <m:t xml:space="preserve">=</m:t>
                        </m:r>
                        <m:r>
                          <m:t xml:space="preserve">m</m:t>
                        </m:r>
                      </m:sup>
                      <m:e>
                        <m:d>
                          <m:dPr>
                            <m:begChr m:val="("/>
                            <m:endChr m:val=")"/>
                          </m:dPr>
                          <m:e>
                            <m:f>
                              <m:num>
                                <m:sSub>
                                  <m:e>
                                    <m:r>
                                      <m:t xml:space="preserve">R</m:t>
                                    </m:r>
                                  </m:e>
                                  <m:sub>
                                    <m:r>
                                      <m:t xml:space="preserve">n</m:t>
                                    </m:r>
                                  </m:sub>
                                </m:sSub>
                                <m:r>
                                  <m:t xml:space="preserve">−</m:t>
                                </m:r>
                                <m:sSub>
                                  <m:e>
                                    <m:r>
                                      <m:t xml:space="preserve">T</m:t>
                                    </m:r>
                                  </m:e>
                                  <m:sub>
                                    <m:r>
                                      <m:t xml:space="preserve">n</m:t>
                                    </m:r>
                                  </m:sub>
                                </m:sSub>
                              </m:num>
                              <m:den>
                                <m:r>
                                  <m:t xml:space="preserve">(</m:t>
                                </m:r>
                                <m:r>
                                  <m:t xml:space="preserve">1</m:t>
                                </m:r>
                                <m:r>
                                  <m:t xml:space="preserve">+</m:t>
                                </m:r>
                                <m:r>
                                  <m:t xml:space="preserve">t</m:t>
                                </m:r>
                                <m:sSup>
                                  <m:e>
                                    <m:r>
                                      <m:t xml:space="preserve">)</m:t>
                                    </m:r>
                                  </m:e>
                                  <m:sup>
                                    <m:r>
                                      <m:t xml:space="preserve">n</m:t>
                                    </m:r>
                                  </m:sup>
                                </m:sSup>
                              </m:den>
                            </m:f>
                          </m:e>
                        </m:d>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1142640" y="380520"/>
            <a:ext cx="7467480" cy="5745240"/>
          </a:xfrm>
          <a:prstGeom prst="rect">
            <a:avLst/>
          </a:prstGeom>
          <a:noFill/>
          <a:ln w="0">
            <a:noFill/>
          </a:ln>
        </p:spPr>
        <p:txBody>
          <a:bodyPr lIns="90000" rIns="90000" tIns="46800" bIns="46800" anchor="t">
            <a:normAutofit fontScale="88000"/>
          </a:bodyPr>
          <a:p>
            <a:pPr marL="321120" indent="-2484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يجب التذكير هنا بإن كل هذه المعايير تعالج النجاح المالي فقط ولا تأخذ في الإعتبار النواحي الإقتصادية والإجتماعية الأخرى التي قد تكون تحققت ولا تظهر آثارها الإيجابية في مثل هذا النوع من التحليل. مثال ذلك تأثير المشروع على بقية القطاعات الإقتصادية الأخرى وتأثير المشروع على أحداث الإستيطان والتوازن المطلوب في التنمية المحلية وغيرها من المناطق.</a:t>
            </a:r>
            <a:endParaRPr b="0" lang="en-US" sz="2400" spc="-1" strike="noStrike">
              <a:solidFill>
                <a:srgbClr val="000000"/>
              </a:solidFill>
              <a:latin typeface="Gill Sans MT"/>
            </a:endParaRPr>
          </a:p>
          <a:p>
            <a:pPr marL="32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4</a:t>
            </a:r>
            <a:r>
              <a:rPr b="1" lang="ar-SA" sz="2800" spc="-1" strike="noStrike">
                <a:solidFill>
                  <a:srgbClr val="4f271c"/>
                </a:solidFill>
                <a:latin typeface="Gill Sans MT"/>
              </a:rPr>
              <a:t> - فترة إسترداد رأس المال:</a:t>
            </a:r>
            <a:endParaRPr b="0" lang="en-US" sz="2800" spc="-1" strike="noStrike">
              <a:solidFill>
                <a:srgbClr val="000000"/>
              </a:solidFill>
              <a:latin typeface="Gill Sans MT"/>
            </a:endParaRPr>
          </a:p>
          <a:p>
            <a:pPr marL="321120" indent="-2484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ستخدم هذا المعيار في إتخاذ القرار بشأن الإستثمار في المشروع الزراعي عندما يكون رأس المال بفرص متعددة لإعادة الإستثمار بحيث يفضل في كل الأحوال إسترداد رأس المال المستثمر في فترة أقصر، وذلك حتى يمكن من إعادة استثماره مضاعفة العائد المتوقع منه.  والإدارة المزرعية تهتم بهذا المعيار بغرض المقارنة بين ما قررته الدراسات ليكون فترة متوقعة لإسترداد رأس المال وبين الواقع الفعلي من خلال السجلات المزرعية والبيانات المتوفرة بها.</a:t>
            </a:r>
            <a:endParaRPr b="0" lang="en-US" sz="2400" spc="-1" strike="noStrike">
              <a:solidFill>
                <a:srgbClr val="000000"/>
              </a:solidFill>
              <a:latin typeface="Gill Sans MT"/>
            </a:endParaRPr>
          </a:p>
          <a:p>
            <a:pPr marL="321120" indent="-2484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مكن أستخدام المثال الإفتراضي التالي رقم ( ) لحساب فترة أسترداد رأس المال ومقداره </a:t>
            </a:r>
            <a:r>
              <a:rPr b="0" lang="ar-SA" sz="2400" spc="-1" strike="noStrike">
                <a:solidFill>
                  <a:srgbClr val="000000"/>
                </a:solidFill>
                <a:latin typeface="Gill Sans MT"/>
              </a:rPr>
              <a:t>15000</a:t>
            </a:r>
            <a:r>
              <a:rPr b="0" lang="ar-SA" sz="2400" spc="-1" strike="noStrike">
                <a:solidFill>
                  <a:srgbClr val="000000"/>
                </a:solidFill>
                <a:latin typeface="Gill Sans MT"/>
              </a:rPr>
              <a:t> ريال في المشاريع الثلاثة (أ)، (ب)، (ج).</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9" name="Object 366"/>
          <p:cNvGraphicFramePr/>
          <p:nvPr/>
        </p:nvGraphicFramePr>
        <p:xfrm>
          <a:off x="1066680" y="528480"/>
          <a:ext cx="7782120" cy="3192480"/>
        </p:xfrm>
        <a:graphic>
          <a:graphicData uri="http://schemas.openxmlformats.org/presentationml/2006/ole">
            <p:oleObj progId="Word.Document.12" r:id="rId1" spid="">
              <p:embed/>
              <p:pic>
                <p:nvPicPr>
                  <p:cNvPr id="350" name="Object 366" descr=""/>
                  <p:cNvPicPr/>
                  <p:nvPr/>
                </p:nvPicPr>
                <p:blipFill>
                  <a:blip r:embed="rId2"/>
                  <a:stretch/>
                </p:blipFill>
                <p:spPr>
                  <a:xfrm>
                    <a:off x="1066680" y="528480"/>
                    <a:ext cx="7782120" cy="3192480"/>
                  </a:xfrm>
                  <a:prstGeom prst="rect">
                    <a:avLst/>
                  </a:prstGeom>
                  <a:ln w="0">
                    <a:noFill/>
                  </a:ln>
                </p:spPr>
              </p:pic>
            </p:oleObj>
          </a:graphicData>
        </a:graphic>
      </p:graphicFrame>
      <p:sp>
        <p:nvSpPr>
          <p:cNvPr id="351" name="PlaceHolder 1"/>
          <p:cNvSpPr>
            <a:spLocks noGrp="1"/>
          </p:cNvSpPr>
          <p:nvPr>
            <p:ph/>
          </p:nvPr>
        </p:nvSpPr>
        <p:spPr>
          <a:xfrm>
            <a:off x="1142640" y="4212720"/>
            <a:ext cx="7620120" cy="2187720"/>
          </a:xfrm>
          <a:prstGeom prst="rect">
            <a:avLst/>
          </a:prstGeom>
          <a:noFill/>
          <a:ln w="0">
            <a:noFill/>
          </a:ln>
        </p:spPr>
        <p:txBody>
          <a:bodyPr lIns="90000" rIns="90000" tIns="46800" bIns="46800" anchor="t">
            <a:normAutofit fontScale="87000"/>
          </a:bodyPr>
          <a:p>
            <a:pPr marL="317520" indent="-2455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لاحظ من الجدول أن المشروع (أ) يسترد استثماره بين السنة الرابعة والخامسة بينما يسترد المشروع (ب) استثماره بين السنة الثالثة والرابعة والمشروع (ج) بسترد استثماره في السنة الثالثة وهو يعد افضل المشاريع الثلاثة في سرعة استرداده لراس المال. ويفضل المشروع (ج) في حالة تساوي إجمالي العائد كما في هذا المثال</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
        <p:nvSpPr>
          <p:cNvPr id="352" name="Rectangle 368"/>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990360" y="228600"/>
            <a:ext cx="7924680" cy="640080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تقدير احتياجات وإمكانيات التوسع والنمو المزرعي:</a:t>
            </a:r>
            <a:endParaRPr b="0" lang="en-US" sz="2800" spc="-1" strike="noStrike">
              <a:solidFill>
                <a:srgbClr val="000000"/>
              </a:solidFill>
              <a:latin typeface="Gill Sans MT"/>
            </a:endParaRPr>
          </a:p>
          <a:p>
            <a:pPr marL="411480" indent="-4114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توسع المزرعي والنمو من الأهداف المهمة التي تسعى الإدارة المزرعية لتحقيقها وتقدير السجلات المزرعية من خلال البيانات المهمة المتوافرة فيها الأساس لتنفيذ الخطط المزرعية في اتجاه التوسع والنمو. ومن المعروف أن هناك قواعد مهمة من النواحي الفنية ويجب إتّباعها عند التوسع في إنتاج محاصيل معينة أو أنشطة إنتاجية مختلفة. من هذه القواعد المهمة ما يلي:</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لا يتم التوسع في محاصيل أو أنشطة زراعية متنافسة، فأن ذلك سوف يؤدي الى درجة من عدم الكفاءة تؤثر على أداء وحدات الإنتاج. ويمكن أن تساعد السجلات المزرعية في تحديد المحاصيل المتنافسة أو الأنشطة المتنافسة ودرجة التنافس وهي معلومات تفيد في إتخاذ القرار المزرعي بشأن النمو والتوسع.</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لا يتم التوسع في المحاصيل أو الانشطة المتعارضة، لأسباب فنية أو إقتصادية للمبررات السابقة نفسها. ومن المهم جداً الإطلاع على المحاصيل الزراعية من خلال السجلات المزرعية وتحليل وتحديد ما يمكن أن يكون متعارض مع محاصيل أو أنشطة أخرى مرشحة للتوسع أو النمو.</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قصر التوسع في الانشطة والمحاصيل المدعمة أو المكملة، دون الوصول بالاستثمار إلى درجة المنافسة مع الأنشطة الزراعية القائمة.</a:t>
            </a:r>
            <a:endParaRPr b="0" lang="en-US" sz="2000" spc="-1" strike="noStrike">
              <a:solidFill>
                <a:srgbClr val="000000"/>
              </a:solidFill>
              <a:latin typeface="Gill Sans MT"/>
            </a:endParaRPr>
          </a:p>
          <a:p>
            <a:pPr marL="411480" indent="-4114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تقدم السجلات المزرعية المعلومات المتعلقة بالقدرة على الوفاء بالتزامات الاقتراض بغرض التوسع وفي تحديد الأزمنة المناسبة لذلك. بالإضافة إلى ما سبق فيمكن للسجلات المزرعية ان تقدم المعلومات التي تتعلق بقصور رأس المال المزرعي في الوصول بالاستثمار المزرعي الى مراحله المثلى وعلاقة ذلك بارتفاع تكاليف الإنتاج وعدم القدرة على توفير رأس المال اللازم للوصول الى المرحلة المثلى للإنتاج.</a:t>
            </a:r>
            <a:endParaRPr b="0" lang="en-US" sz="2000" spc="-1" strike="noStrike">
              <a:solidFill>
                <a:srgbClr val="000000"/>
              </a:solidFill>
              <a:latin typeface="Gill Sans MT"/>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يمكن من خلال الجدول توضيح إمكانية التوسع والنمو في بعض الأنشطة والمحاصيل من خلال العلاقات بين الإنتاجية كما سبق التعرض لها.</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55" name="Object 4"/>
          <p:cNvGraphicFramePr/>
          <p:nvPr/>
        </p:nvGraphicFramePr>
        <p:xfrm>
          <a:off x="990720" y="770040"/>
          <a:ext cx="7704000" cy="5478480"/>
        </p:xfrm>
        <a:graphic>
          <a:graphicData uri="http://schemas.openxmlformats.org/presentationml/2006/ole">
            <p:oleObj progId="Word.Document.12" r:id="rId1" spid="">
              <p:embed/>
              <p:pic>
                <p:nvPicPr>
                  <p:cNvPr id="356" name="Object 4" descr=""/>
                  <p:cNvPicPr/>
                  <p:nvPr/>
                </p:nvPicPr>
                <p:blipFill>
                  <a:blip r:embed="rId2"/>
                  <a:stretch/>
                </p:blipFill>
                <p:spPr>
                  <a:xfrm>
                    <a:off x="990720" y="770040"/>
                    <a:ext cx="7704000" cy="5478480"/>
                  </a:xfrm>
                  <a:prstGeom prst="rect">
                    <a:avLst/>
                  </a:prstGeom>
                  <a:ln w="0">
                    <a:noFill/>
                  </a:ln>
                </p:spPr>
              </p:pic>
            </p:oleObj>
          </a:graphicData>
        </a:graphic>
      </p:graphicFrame>
      <p:sp>
        <p:nvSpPr>
          <p:cNvPr id="357" name="Rectangle 6"/>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066680" y="456840"/>
            <a:ext cx="7467840" cy="5668920"/>
          </a:xfrm>
          <a:prstGeom prst="rect">
            <a:avLst/>
          </a:prstGeom>
          <a:noFill/>
          <a:ln w="0">
            <a:noFill/>
          </a:ln>
        </p:spPr>
        <p:txBody>
          <a:bodyPr lIns="90000" rIns="90000" tIns="46800" bIns="46800" anchor="t">
            <a:normAutofit fontScale="91000"/>
          </a:bodyPr>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من خلال الجدول يتضح أمام الإدارة المزرعية الإمكانيات المتاحة للتوسع والنمو المزرعي دون الإخلال بالمبادئ الهامة التي يجب مراعاتها. </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ما يلاحظ أن العلاقة بين زراعة الخضر وزراعة الخضر في نفس المزرعة والموسم الزراعي علاقة تنافسية، وذلك من خلال التنافس على الأرض والموارد الإنتاجية الأخرى.</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ما أن العلاقة بين زراعة الخضر والأعلاف قد تكون علاقة تكاملية، ومع تربية الماشية علاقة مـــدعمة من خلال إستفادة الماشية من فائض وقت المزارع ومخلفات الــخضر.</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بينما قد تكون العلاقة بين زراعة الخضر والفاكهة علاقة تــــنافسية لتنافسها على مساحة الأرض ووقت المزارع والموارد المائية وغيرها.</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ما يلاحظ أن زراعة العلف تتكامل مع تربية الماشية والدواجن وتـــتنافس مع زراعة الفاكهة للأسباب التي سبق ذكرها</a:t>
            </a:r>
            <a:r>
              <a:rPr b="0" lang="en-US" sz="2200" spc="-1" strike="noStrike">
                <a:solidFill>
                  <a:srgbClr val="000000"/>
                </a:solidFill>
                <a:latin typeface="Gill Sans MT"/>
              </a:rPr>
              <a:t> </a:t>
            </a:r>
            <a:endParaRPr b="0" lang="en-US" sz="22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من خلال وضع العلاقات بين الأنتجة في الجدول أعلاه يتضح من خلاله إمكانيات التوسع المزرعي. وحيث من المعروف أنه لايمكن التوسع في الأنشطة المتعارضة والمتنافسة، ولكن يمكن الإستفادة من العلاقات التكاملية والمدعمة للأنشطة الإنتاجية في الخطط والبرامج الــتوسعية وفي تحديد إمكانيات النمو المزرعي.</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42800" y="103320"/>
            <a:ext cx="8244000" cy="736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rPr>
              <a:t>تقدير كفاءة المنتج الزراعي</a:t>
            </a:r>
            <a:endParaRPr b="0" lang="en-US" sz="3900" spc="-1" strike="noStrike">
              <a:solidFill>
                <a:srgbClr val="572314"/>
              </a:solidFill>
              <a:latin typeface="Gill Sans MT"/>
            </a:endParaRPr>
          </a:p>
        </p:txBody>
      </p:sp>
      <p:sp>
        <p:nvSpPr>
          <p:cNvPr id="321" name=""/>
          <p:cNvSpPr txBox="1"/>
          <p:nvPr/>
        </p:nvSpPr>
        <p:spPr>
          <a:xfrm>
            <a:off x="1371240" y="990360"/>
            <a:ext cx="7467480" cy="5638680"/>
          </a:xfrm>
          <a:prstGeom prst="rect">
            <a:avLst/>
          </a:prstGeom>
          <a:noFill/>
          <a:ln w="0">
            <a:noFill/>
          </a:ln>
        </p:spPr>
        <p:txBody>
          <a:bodyPr lIns="90000" rIns="90000" tIns="46800" bIns="46800" anchor="t">
            <a:normAutofit fontScale="97000"/>
          </a:bodyPr>
          <a:p>
            <a:pPr marL="353880" indent="-273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 الزراعي من اهم عناصر الإنتاج وقد استخدم الاقتصاديون مبدأ المقارنة بمعدلات </a:t>
            </a:r>
            <a:r>
              <a:rPr b="1" lang="ar-SA" sz="3200" spc="-1" strike="noStrike">
                <a:solidFill>
                  <a:srgbClr val="000000"/>
                </a:solidFill>
                <a:latin typeface="Gill Sans MT"/>
              </a:rPr>
              <a:t>نمطية</a:t>
            </a:r>
            <a:r>
              <a:rPr b="0" lang="ar-SA" sz="3200" spc="-1" strike="noStrike">
                <a:solidFill>
                  <a:srgbClr val="000000"/>
                </a:solidFill>
                <a:latin typeface="Gill Sans MT"/>
              </a:rPr>
              <a:t> متعارف عليها لمقياس مدى تقارب الاداء الفعلي للمنتج مع هذه المعدلات النمطية ومن المعروف ان هذه المعدلات النمطية تختلف باختلاف:</a:t>
            </a:r>
            <a:endParaRPr b="0" lang="en-US" sz="3200" spc="-1" strike="noStrike">
              <a:solidFill>
                <a:srgbClr val="000000"/>
              </a:solidFill>
              <a:latin typeface="Gill Sans MT"/>
            </a:endParaRPr>
          </a:p>
          <a:p>
            <a:pPr lvl="1" marL="620280" indent="-22932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نوع الإنتاج وطبيعته.</a:t>
            </a:r>
            <a:endParaRPr b="0" lang="en-US" sz="2800" spc="-1" strike="noStrike">
              <a:solidFill>
                <a:srgbClr val="000000"/>
              </a:solidFill>
              <a:latin typeface="Gill Sans MT"/>
            </a:endParaRPr>
          </a:p>
          <a:p>
            <a:pPr lvl="1" marL="620280" indent="-22932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درجة التكثيف الزراعي.</a:t>
            </a:r>
            <a:endParaRPr b="0" lang="en-US" sz="2800" spc="-1" strike="noStrike">
              <a:solidFill>
                <a:srgbClr val="000000"/>
              </a:solidFill>
              <a:latin typeface="Gill Sans MT"/>
            </a:endParaRPr>
          </a:p>
          <a:p>
            <a:pPr lvl="1" marL="620280" indent="-229320" algn="r"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حجم الاستثمار في الآلات الزراعية وغيرها المصاحب بمجهودات المنتج الزراعي.</a:t>
            </a:r>
            <a:endParaRPr b="0" lang="en-US" sz="2800" spc="-1" strike="noStrike">
              <a:solidFill>
                <a:srgbClr val="000000"/>
              </a:solidFill>
              <a:latin typeface="Gill Sans MT"/>
            </a:endParaRPr>
          </a:p>
          <a:p>
            <a:pPr marL="353880" indent="-273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قد اثبتت الدراسات تأثير هذه العوامل على كفاءة أداء المنتج الزراعي.</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066680" y="304920"/>
            <a:ext cx="7925040" cy="6324480"/>
          </a:xfrm>
          <a:prstGeom prst="rect">
            <a:avLst/>
          </a:prstGeom>
          <a:noFill/>
          <a:ln w="0">
            <a:noFill/>
          </a:ln>
        </p:spPr>
        <p:txBody>
          <a:bodyPr lIns="90000" rIns="90000" tIns="46800" bIns="46800" anchor="t">
            <a:normAutofit fontScale="94000"/>
          </a:bodyPr>
          <a:p>
            <a:pPr marL="343080" indent="-2653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كيف يمكن إستخدام المعدلات النمطية في تحديد كفاءة أداء المنتج الزراعي؟</a:t>
            </a:r>
            <a:endParaRPr b="0" lang="en-US" sz="2800" spc="-1" strike="noStrike">
              <a:solidFill>
                <a:srgbClr val="000000"/>
              </a:solidFill>
              <a:latin typeface="Gill Sans MT"/>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بافتراض أن العمليات الزراعية الّلازمة في مشاريع الحبوب تحت الميكنة التامة (الري المحوري، الجرارات الزراعية، الحاصدات الزراعية،... الخ). تتطلب جهد منتج واحد لكل </a:t>
            </a:r>
            <a:r>
              <a:rPr b="0" lang="ar-SA" sz="2800" spc="-1" strike="noStrike">
                <a:solidFill>
                  <a:srgbClr val="000000"/>
                </a:solidFill>
                <a:latin typeface="Gill Sans MT"/>
              </a:rPr>
              <a:t>35</a:t>
            </a:r>
            <a:r>
              <a:rPr b="0" lang="ar-SA" sz="2800" spc="-1" strike="noStrike">
                <a:solidFill>
                  <a:srgbClr val="000000"/>
                </a:solidFill>
                <a:latin typeface="Gill Sans MT"/>
              </a:rPr>
              <a:t> هكتار من مساحات الحبوب فيمكن استخدام هذا المعدل النمطي في تحديد كفاءة المنتج الزراعي في مثل تلك المشاريع بمقارنة التواجد الفعلي للمنتجين بحيث يحسب عدد المنتجين الى عدد المنتجين النمطي في المشروع الزراعي لتحديد الكفاءة الفعلية. فالمعدلات النمطية تختلف باختلاف العوامل المشار اليها سابقاً ومن امثلة المعدلات النمطية في ابقار الحليب منتج لكل </a:t>
            </a:r>
            <a:r>
              <a:rPr b="0" lang="ar-SA" sz="2800" spc="-1" strike="noStrike">
                <a:solidFill>
                  <a:srgbClr val="000000"/>
                </a:solidFill>
                <a:latin typeface="Gill Sans MT"/>
              </a:rPr>
              <a:t>25</a:t>
            </a:r>
            <a:r>
              <a:rPr b="0" lang="ar-SA" sz="2800" spc="-1" strike="noStrike">
                <a:solidFill>
                  <a:srgbClr val="000000"/>
                </a:solidFill>
                <a:latin typeface="Gill Sans MT"/>
              </a:rPr>
              <a:t> رأس من الابقار المنتجة وفي الاغنام منتج لكل </a:t>
            </a:r>
            <a:r>
              <a:rPr b="0" lang="ar-SA" sz="2800" spc="-1" strike="noStrike">
                <a:solidFill>
                  <a:srgbClr val="000000"/>
                </a:solidFill>
                <a:latin typeface="Gill Sans MT"/>
              </a:rPr>
              <a:t>200</a:t>
            </a:r>
            <a:r>
              <a:rPr b="0" lang="ar-SA" sz="2800" spc="-1" strike="noStrike">
                <a:solidFill>
                  <a:srgbClr val="000000"/>
                </a:solidFill>
                <a:latin typeface="Gill Sans MT"/>
              </a:rPr>
              <a:t> رأس وفي دواجن البيض منتج لكل </a:t>
            </a:r>
            <a:r>
              <a:rPr b="0" lang="ar-SA" sz="2800" spc="-1" strike="noStrike">
                <a:solidFill>
                  <a:srgbClr val="000000"/>
                </a:solidFill>
                <a:latin typeface="Gill Sans MT"/>
              </a:rPr>
              <a:t>2000</a:t>
            </a:r>
            <a:r>
              <a:rPr b="0" lang="ar-SA" sz="2800" spc="-1" strike="noStrike">
                <a:solidFill>
                  <a:srgbClr val="000000"/>
                </a:solidFill>
                <a:latin typeface="Gill Sans MT"/>
              </a:rPr>
              <a:t> طير وفي إنتاج الخضر منتج لكل هكتار وهكذا يمكن استخدام المعدلات النمطية في تقدير كفاءة المنتج الزراعي بالمزرع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24" name="Object 4"/>
          <p:cNvGraphicFramePr/>
          <p:nvPr/>
        </p:nvGraphicFramePr>
        <p:xfrm>
          <a:off x="1066680" y="385920"/>
          <a:ext cx="7853400" cy="6243480"/>
        </p:xfrm>
        <a:graphic>
          <a:graphicData uri="http://schemas.openxmlformats.org/presentationml/2006/ole">
            <p:oleObj progId="Word.Document.12" r:id="rId1" spid="">
              <p:embed/>
              <p:pic>
                <p:nvPicPr>
                  <p:cNvPr id="325" name="Object 4" descr=""/>
                  <p:cNvPicPr/>
                  <p:nvPr/>
                </p:nvPicPr>
                <p:blipFill>
                  <a:blip r:embed="rId2"/>
                  <a:stretch/>
                </p:blipFill>
                <p:spPr>
                  <a:xfrm>
                    <a:off x="1066680" y="385920"/>
                    <a:ext cx="7853400" cy="6243480"/>
                  </a:xfrm>
                  <a:prstGeom prst="rect">
                    <a:avLst/>
                  </a:prstGeom>
                  <a:ln w="0">
                    <a:noFill/>
                  </a:ln>
                </p:spPr>
              </p:pic>
            </p:oleObj>
          </a:graphicData>
        </a:graphic>
      </p:graphicFrame>
      <p:sp>
        <p:nvSpPr>
          <p:cNvPr id="326" name="Rectangle 6"/>
          <p:cNvSpPr/>
          <p:nvPr/>
        </p:nvSpPr>
        <p:spPr>
          <a:xfrm>
            <a:off x="0" y="5896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1066320" y="228600"/>
            <a:ext cx="7543800" cy="6324480"/>
          </a:xfrm>
          <a:prstGeom prst="rect">
            <a:avLst/>
          </a:prstGeom>
          <a:noFill/>
          <a:ln w="0">
            <a:noFill/>
          </a:ln>
        </p:spPr>
        <p:txBody>
          <a:bodyPr lIns="90000" rIns="90000" tIns="46800" bIns="46800" anchor="t">
            <a:normAutofit fontScale="95000"/>
          </a:bodyPr>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271c"/>
                </a:solidFill>
                <a:latin typeface="Gill Sans MT"/>
              </a:rPr>
              <a:t>تقدير كفاءة استخدام الأراضي الزراعية:</a:t>
            </a:r>
            <a:endParaRPr b="0" lang="en-US" sz="2800" spc="-1" strike="noStrike">
              <a:solidFill>
                <a:srgbClr val="000000"/>
              </a:solidFill>
              <a:latin typeface="Gill Sans MT"/>
            </a:endParaRPr>
          </a:p>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ض الزراعية من أهم الاستثمارات الزراعية من حيث القيمة والمساهمة في العملية الإنتاجية، وتهتم الإدارة المزرعية بكفاءة استخدامها والتي تحدد لمجموعة من المعطيات الفنية والطبيعية والإقتصادية. وهي جميعها عامل محدد لقدرة الأراضي الزراعية على الإنتاج.</a:t>
            </a:r>
            <a:endParaRPr b="0" lang="en-US" sz="2400" spc="-1" strike="noStrike">
              <a:solidFill>
                <a:srgbClr val="000000"/>
              </a:solidFill>
              <a:latin typeface="Gill Sans MT"/>
            </a:endParaRPr>
          </a:p>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على سبيل المثال تُحدّد المكونات الطبيعية والكيميائية للتربة قدرتها على إنتاج مختلف المحاصيل من النمطية الكيفية والكمية، كما تُحدّد الدورة الزراعية وتعاقب المحاصيل على الأراضي الزراعية إنتاجية تلك المحاصيل، وتحدد درجة التكثيف والاستغلال المردود الاقتصادي للإنتاج الزراعي المحقق. وبالرغم من هذه العوامل المتداخلة إلاّ أنه يمكن استخدام الأرقام القياسية للمحاصيل كمقياس لكفاءة استخدام الأراضي الزراعية بغرض المقارنة داخل المناطق الزراعية وبين المناطق المختلفة.</a:t>
            </a:r>
            <a:endParaRPr b="0" lang="en-US" sz="2400" spc="-1" strike="noStrike">
              <a:solidFill>
                <a:srgbClr val="000000"/>
              </a:solidFill>
              <a:latin typeface="Gill Sans MT"/>
            </a:endParaRPr>
          </a:p>
          <a:p>
            <a:pPr marL="346680" indent="-2682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للتعرف على كيفية حساب الرقم القياسي للمحاصيل يمكن اعتبار الجدول التالي الذي يبين المساحات المزروعة من قائمة من المحاصيل بمزرعة ما والمنطقة المطلوب المقارنة به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29" name="Object 4"/>
          <p:cNvGraphicFramePr/>
          <p:nvPr/>
        </p:nvGraphicFramePr>
        <p:xfrm>
          <a:off x="1295280" y="528480"/>
          <a:ext cx="7543800" cy="6024600"/>
        </p:xfrm>
        <a:graphic>
          <a:graphicData uri="http://schemas.openxmlformats.org/presentationml/2006/ole">
            <p:oleObj progId="Word.Document.12" r:id="rId1" spid="">
              <p:embed/>
              <p:pic>
                <p:nvPicPr>
                  <p:cNvPr id="330" name="Object 4" descr=""/>
                  <p:cNvPicPr/>
                  <p:nvPr/>
                </p:nvPicPr>
                <p:blipFill>
                  <a:blip r:embed="rId2"/>
                  <a:stretch/>
                </p:blipFill>
                <p:spPr>
                  <a:xfrm>
                    <a:off x="1295280" y="528480"/>
                    <a:ext cx="7543800" cy="6024600"/>
                  </a:xfrm>
                  <a:prstGeom prst="rect">
                    <a:avLst/>
                  </a:prstGeom>
                  <a:ln w="0">
                    <a:noFill/>
                  </a:ln>
                </p:spPr>
              </p:pic>
            </p:oleObj>
          </a:graphicData>
        </a:graphic>
      </p:graphicFrame>
      <p:sp>
        <p:nvSpPr>
          <p:cNvPr id="331" name="Rectangle 6"/>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143000" y="228600"/>
            <a:ext cx="7772400" cy="6400800"/>
          </a:xfrm>
          <a:prstGeom prst="rect">
            <a:avLst/>
          </a:prstGeom>
          <a:noFill/>
          <a:ln w="0">
            <a:noFill/>
          </a:ln>
        </p:spPr>
        <p:txBody>
          <a:bodyPr lIns="90000" rIns="90000" tIns="46800" bIns="46800" anchor="t">
            <a:normAutofit fontScale="95000"/>
          </a:bodyPr>
          <a:p>
            <a:pPr marL="361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ill Sans MT"/>
              </a:rPr>
              <a:t>تقدير النجاح المالي لوحدات الإنتاج:</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لاشك أن تقدير النجاح المالي لوحدات الإنتاج من أهم المعايير التي تسعى الإدارة المزرعية إلى معرفتها عند تقويم الأداء لتلك الوحدات.</a:t>
            </a:r>
            <a:endParaRPr b="0" lang="en-US" sz="21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وتفيد السجلات المزرعية في توفير المعلومات والبيانات الّلازمة لإحتساب عدد من المؤشرات المهمة في تقدير النجاح وذلك من وجهة نظر تقويم الأداء الماضي من الناحية المالية بهدف التعرف على عناصر النجاح والفشل لتعزيز الناجح منها ومعالجة القصور المسبب للمشكلات المالية في الوحدات الإنتاجية.</a:t>
            </a:r>
            <a:endParaRPr b="0" lang="en-US" sz="2100" spc="-1" strike="noStrike">
              <a:solidFill>
                <a:srgbClr val="000000"/>
              </a:solidFill>
              <a:latin typeface="Gill Sans MT"/>
            </a:endParaRPr>
          </a:p>
          <a:p>
            <a:pPr marL="361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Gill Sans MT"/>
              </a:rPr>
              <a:t>ومن أهم مؤشرات النجاح المالي ما يلي:</a:t>
            </a:r>
            <a:endParaRPr b="0" lang="en-US" sz="21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القيمة الحالية الصافية للاستثمار الزراعي.</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نسبة العوائد للنكاليف</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العائد الداخلي للمشروع</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rPr>
              <a:t>فترة استرداد راس المال.</a:t>
            </a:r>
            <a:endParaRPr b="0" lang="en-US" sz="26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جديرٌ بالملاحظة أن حساب هذه المعايير يتخلف في حالات تقويم المشاريع، حيث أن الأخير يُعني بالنظرة المستقبلية للأداء، من توقعات للإيرادات والتكاليف بينما الإستخدام في الإدارة المزرعية يُعني بالأداء الماضي لوحدات الإنتاج من واقع الأرقام الواقعية من السجلات المزرعية. </a:t>
            </a:r>
            <a:endParaRPr b="0" lang="en-US" sz="2100" spc="-1" strike="noStrike">
              <a:solidFill>
                <a:srgbClr val="000000"/>
              </a:solidFill>
              <a:latin typeface="Gill Sans MT"/>
            </a:endParaRPr>
          </a:p>
          <a:p>
            <a:pPr marL="361800" indent="-361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Gill Sans MT"/>
              </a:rPr>
              <a:t>كما أن الهدف في حالة تقويم المشروعات يكون في المساعدة في إتّخاذ القرار بالإستثمار المزرعي من عدمه، بينما يكون في الإدارة المزرعية بغرض البحث عن أسباب النجاح وتقويتها وأسباب القصور وأيجاد الحلول الملائمة.</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1066320" y="152280"/>
            <a:ext cx="7696440" cy="5973840"/>
          </a:xfrm>
          <a:prstGeom prst="rect">
            <a:avLst/>
          </a:prstGeom>
          <a:noFill/>
          <a:ln w="0">
            <a:noFill/>
          </a:ln>
        </p:spPr>
        <p:txBody>
          <a:bodyPr lIns="90000" rIns="90000" tIns="46800" bIns="46800" anchor="t">
            <a:normAutofit fontScale="90000"/>
          </a:bodyPr>
          <a:p>
            <a:pPr marL="548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ill Sans MT"/>
              </a:rPr>
              <a:t>القيمة الحالية الصافية للإستثمار:</a:t>
            </a:r>
            <a:endParaRPr b="0" lang="en-US" sz="3200" spc="-1" strike="noStrike">
              <a:solidFill>
                <a:srgbClr val="000000"/>
              </a:solidFill>
              <a:latin typeface="Gill Sans MT"/>
            </a:endParaRPr>
          </a:p>
          <a:p>
            <a:pPr marL="548280" indent="-5482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رّف القيمة الحالية الصافية للإستثمار: بأنها إجمالي صافي العوائد بعد دفع التكاليف للإستثمار لمدة زمنية محدّدة آخذين في الإعتبار قيمة العائد بالنسبة للزمن.</a:t>
            </a:r>
            <a:endParaRPr b="0" lang="en-US" sz="3200" spc="-1" strike="noStrike">
              <a:solidFill>
                <a:srgbClr val="000000"/>
              </a:solidFill>
              <a:latin typeface="Gill Sans MT"/>
            </a:endParaRPr>
          </a:p>
          <a:p>
            <a:pPr marL="548280" indent="-5482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من المعروف أن قيمة </a:t>
            </a:r>
            <a:r>
              <a:rPr b="0" lang="ar-SA" sz="3200" spc="-1" strike="noStrike">
                <a:solidFill>
                  <a:srgbClr val="000000"/>
                </a:solidFill>
                <a:latin typeface="Gill Sans MT"/>
              </a:rPr>
              <a:t>100</a:t>
            </a:r>
            <a:r>
              <a:rPr b="0" lang="ar-SA" sz="3200" spc="-1" strike="noStrike">
                <a:solidFill>
                  <a:srgbClr val="000000"/>
                </a:solidFill>
                <a:latin typeface="Gill Sans MT"/>
              </a:rPr>
              <a:t> ريال في السنة </a:t>
            </a:r>
            <a:r>
              <a:rPr b="0" lang="ar-SA" sz="3200" spc="-1" strike="noStrike">
                <a:solidFill>
                  <a:srgbClr val="000000"/>
                </a:solidFill>
                <a:latin typeface="Gill Sans MT"/>
              </a:rPr>
              <a:t>2000</a:t>
            </a:r>
            <a:r>
              <a:rPr b="0" lang="ar-SA" sz="3200" spc="-1" strike="noStrike">
                <a:solidFill>
                  <a:srgbClr val="000000"/>
                </a:solidFill>
                <a:latin typeface="Gill Sans MT"/>
              </a:rPr>
              <a:t>تختلف عن قيمة </a:t>
            </a:r>
            <a:r>
              <a:rPr b="0" lang="ar-SA" sz="3200" spc="-1" strike="noStrike">
                <a:solidFill>
                  <a:srgbClr val="000000"/>
                </a:solidFill>
                <a:latin typeface="Gill Sans MT"/>
              </a:rPr>
              <a:t>100</a:t>
            </a:r>
            <a:r>
              <a:rPr b="0" lang="ar-SA" sz="3200" spc="-1" strike="noStrike">
                <a:solidFill>
                  <a:srgbClr val="000000"/>
                </a:solidFill>
                <a:latin typeface="Gill Sans MT"/>
              </a:rPr>
              <a:t> ريال في سنة </a:t>
            </a:r>
            <a:r>
              <a:rPr b="0" lang="ar-SA" sz="3200" spc="-1" strike="noStrike">
                <a:solidFill>
                  <a:srgbClr val="000000"/>
                </a:solidFill>
                <a:latin typeface="Gill Sans MT"/>
              </a:rPr>
              <a:t>2010</a:t>
            </a:r>
            <a:r>
              <a:rPr b="0" lang="ar-SA" sz="3200" spc="-1" strike="noStrike">
                <a:solidFill>
                  <a:srgbClr val="000000"/>
                </a:solidFill>
                <a:latin typeface="Gill Sans MT"/>
              </a:rPr>
              <a:t>وذلك بسبب التضخم، وإنخفاض القيمة الــشرائية في سنة </a:t>
            </a:r>
            <a:r>
              <a:rPr b="0" lang="ar-SA" sz="3200" spc="-1" strike="noStrike">
                <a:solidFill>
                  <a:srgbClr val="000000"/>
                </a:solidFill>
                <a:latin typeface="Gill Sans MT"/>
              </a:rPr>
              <a:t>2010</a:t>
            </a:r>
            <a:r>
              <a:rPr b="0" lang="ar-SA" sz="3200" spc="-1" strike="noStrike">
                <a:solidFill>
                  <a:srgbClr val="000000"/>
                </a:solidFill>
                <a:latin typeface="Gill Sans MT"/>
              </a:rPr>
              <a:t>عنها في سنة </a:t>
            </a:r>
            <a:r>
              <a:rPr b="0" lang="ar-SA" sz="3200" spc="-1" strike="noStrike">
                <a:solidFill>
                  <a:srgbClr val="000000"/>
                </a:solidFill>
                <a:latin typeface="Gill Sans MT"/>
              </a:rPr>
              <a:t>2000</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548280" indent="-54828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ولمتابعة حساب القيمة الحالية الصافية للإستثمار نفرض المثال التحليلي التالي في الجدول والذي يختص بتدفق تقدير العوائد والتكاليف من سنة </a:t>
            </a:r>
            <a:r>
              <a:rPr b="0" lang="ar-SA" sz="3200" spc="-1" strike="noStrike">
                <a:solidFill>
                  <a:srgbClr val="000000"/>
                </a:solidFill>
                <a:latin typeface="Gill Sans MT"/>
              </a:rPr>
              <a:t>1990</a:t>
            </a:r>
            <a:r>
              <a:rPr b="0" lang="ar-SA" sz="3200" spc="-1" strike="noStrike">
                <a:solidFill>
                  <a:srgbClr val="000000"/>
                </a:solidFill>
                <a:latin typeface="Gill Sans MT"/>
              </a:rPr>
              <a:t> – </a:t>
            </a:r>
            <a:r>
              <a:rPr b="0" lang="ar-SA" sz="3200" spc="-1" strike="noStrike">
                <a:solidFill>
                  <a:srgbClr val="000000"/>
                </a:solidFill>
                <a:latin typeface="Gill Sans MT"/>
              </a:rPr>
              <a:t>2000</a:t>
            </a:r>
            <a:r>
              <a:rPr b="0" lang="ar-SA" sz="3200" spc="-1" strike="noStrike">
                <a:solidFill>
                  <a:srgbClr val="000000"/>
                </a:solidFill>
                <a:latin typeface="Gill Sans MT"/>
              </a:rPr>
              <a:t> لاحد المزارع الإنتاجي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5" name="Object 4"/>
          <p:cNvGraphicFramePr/>
          <p:nvPr/>
        </p:nvGraphicFramePr>
        <p:xfrm>
          <a:off x="1066680" y="304920"/>
          <a:ext cx="7848720" cy="6324480"/>
        </p:xfrm>
        <a:graphic>
          <a:graphicData uri="http://schemas.openxmlformats.org/presentationml/2006/ole">
            <p:oleObj progId="Word.Document.12" r:id="rId1" spid="">
              <p:embed/>
              <p:pic>
                <p:nvPicPr>
                  <p:cNvPr id="336" name="Object 4" descr=""/>
                  <p:cNvPicPr/>
                  <p:nvPr/>
                </p:nvPicPr>
                <p:blipFill>
                  <a:blip r:embed="rId2"/>
                  <a:stretch/>
                </p:blipFill>
                <p:spPr>
                  <a:xfrm>
                    <a:off x="1066680" y="304920"/>
                    <a:ext cx="7848720" cy="6324480"/>
                  </a:xfrm>
                  <a:prstGeom prst="rect">
                    <a:avLst/>
                  </a:prstGeom>
                  <a:ln w="0">
                    <a:noFill/>
                  </a:ln>
                </p:spPr>
              </p:pic>
            </p:oleObj>
          </a:graphicData>
        </a:graphic>
      </p:graphicFrame>
      <p:sp>
        <p:nvSpPr>
          <p:cNvPr id="337" name="Rectangle 6"/>
          <p:cNvSpPr/>
          <p:nvPr/>
        </p:nvSpPr>
        <p:spPr>
          <a:xfrm>
            <a:off x="0" y="621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17T17:08:03Z</dcterms:modified>
  <cp:revision>54</cp:revision>
  <dc:subject/>
  <dc:title>مـحـــــاضـرات  فــي  إقتصــــاديات الإنـتــــــــاج الــــــزراعـي قصر 428</dc:title>
</cp:coreProperties>
</file>