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20.wmf" ContentType="image/x-wmf"/>
  <Override PartName="/ppt/media/image4.png" ContentType="image/png"/>
  <Override PartName="/ppt/media/image19.wmf" ContentType="image/x-wmf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7.png" ContentType="image/png"/>
  <Override PartName="/ppt/media/image1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70BCE-DE2A-48E6-9069-6A0C62BC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3300-93F2-4816-B86F-0ABE276B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BD9C7-3718-4E6C-A2A3-95C0D2E3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46078-926E-405D-B85D-7F0FC178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3E7A-A676-4458-8234-B3DCB002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454D-C7BC-4C97-AE1B-FCAB1536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EA5C-CE92-4C36-8B82-5F06DACB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9F10-0744-4FA7-A2DF-ED6A038C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943F-5A00-4FBC-A2E4-D6B379A8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3264-FC31-4E86-9FF4-F88641F2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295C-3B71-44C4-B797-50B8CD39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6DEFF-0750-48F9-BBCC-264F98CC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F1AC-CF46-4CF4-B24A-2A4069CE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70A5-6D5D-4326-A779-BADB113D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238F-5081-40B8-A528-CAA46581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AAFC-D1EC-4772-8ED1-7B7B53EB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D6FF-589F-4EFA-B137-66EFB154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09EA-FE7D-4A02-925E-DB943156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76900-6983-467F-A49C-AC1AE312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61B01-062F-471A-8F29-86588634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01EC-D94B-4BA5-A812-9A581DD9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F1BD-5DC3-4543-B69E-59CA8094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351CC-B5BD-4018-93D0-74BBC44C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0447F-5DE7-4AE9-822E-BD0753DB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657F-4E61-45F4-8E2E-DE400A3DBA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5E5D-44C1-4D0A-875E-45C33D458A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Visualizing Software Architectures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9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xt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visualizations are generally provided through text edi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: Windows Notepad, SimpleText, pico, jo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perts: vi, ema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underlying language support: Eclipse, UltraEdit, many HTML edi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-form text documents: Microsoft Word, other word proces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4903-97F9-4FBA-A590-C351B2945E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xtual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346D-23BB-47DA-A0C5-AB072C6870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571320" y="1676520"/>
            <a:ext cx="5575680" cy="429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instance:xArch xsi:type=”instance:XArch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ypes:archStructure xsi:type=”types:ArchStructur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ypes:id=”ClientArch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ypes:description xsi:type=”instance:Description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types:descrip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ypes:component xsi:type=”types:Component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ypes:id=”WebBrowser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ypes:description xsi:type=”instance:Description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eb 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types:descrip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ypes:interface xsi:type=”types:Interfa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ypes:id=”WebBrowserInterface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ypes:description xsi:type=”instance:Description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eb Brow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types:descrip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ypes:direction xsi:type=”instance:Direction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types:dire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types:interfa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types: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types:archStructur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instance:xArc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176880" y="160020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-48456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xtual Visualizations: Interac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through an ordinary text editor or word proc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dvanced mechanisms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highligh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che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al fo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B78E-CC48-4689-AFE1-D8D2A0740B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vanced Interaction Mechanism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BF00-AB5B-42D1-80BD-F0355ABDF0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4" descr="7-text-codefolding"/>
          <p:cNvPicPr/>
          <p:nvPr/>
        </p:nvPicPr>
        <p:blipFill>
          <a:blip r:embed="rId1"/>
          <a:stretch/>
        </p:blipFill>
        <p:spPr>
          <a:xfrm>
            <a:off x="533520" y="1959120"/>
            <a:ext cx="4114800" cy="2384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7-text-template"/>
          <p:cNvPicPr/>
          <p:nvPr/>
        </p:nvPicPr>
        <p:blipFill>
          <a:blip r:embed="rId2"/>
          <a:stretch/>
        </p:blipFill>
        <p:spPr>
          <a:xfrm>
            <a:off x="4724280" y="2062080"/>
            <a:ext cx="3962520" cy="2281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7-text-autocomplete"/>
          <p:cNvPicPr/>
          <p:nvPr/>
        </p:nvPicPr>
        <p:blipFill>
          <a:blip r:embed="rId3"/>
          <a:stretch/>
        </p:blipFill>
        <p:spPr>
          <a:xfrm>
            <a:off x="1828800" y="4648320"/>
            <a:ext cx="5562720" cy="16351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-4082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xtual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ict entire architecture in a single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linear or hierarchical stru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editors available to suit any n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tantial tool support if syntax is rigorous (e.g., defined in something like BN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incorporate advanced ‘content assist’ cap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text editors can be extended to handle new languages or integrate new tools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a uniform way of working with many different underlying no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B996-2A93-4254-93FB-53D1051E75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xt Visualizations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overwhel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d for graphlike organizations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reorganize information meaningfu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ing curve for syntax/seman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ing complexity as models get big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handle graph structures and complex interrlationship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93C1-9561-4E14-8D68-6322D795C0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nds of Visualizations: Graphical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ict architectures (primarily) as graphical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, shapes, pictures, clip-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s, arrows, other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tographic 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ons, sh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D or 3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conform to a symbolic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may also be ‘free-form’ and stylis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PowerPoint, OmniGraffl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point-and-click manipulation of graphical symbols, interconnections, and tex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99C6-65BC-40FC-9588-87156B2AF6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aphical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D576-3EE9-4172-8CF1-D55FB8C658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lunar-lander"/>
          <p:cNvPicPr/>
          <p:nvPr/>
        </p:nvPicPr>
        <p:blipFill>
          <a:blip r:embed="rId1"/>
          <a:stretch/>
        </p:blipFill>
        <p:spPr>
          <a:xfrm>
            <a:off x="533520" y="1676520"/>
            <a:ext cx="5410080" cy="41338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6048000" y="1523880"/>
            <a:ext cx="24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, styliz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-4082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aphical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DE3A-BA41-424C-90D0-1F7F0D794E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3" descr="lunar-lander"/>
          <p:cNvPicPr/>
          <p:nvPr/>
        </p:nvPicPr>
        <p:blipFill>
          <a:blip r:embed="rId1"/>
          <a:stretch/>
        </p:blipFill>
        <p:spPr>
          <a:xfrm>
            <a:off x="533520" y="1676520"/>
            <a:ext cx="5410080" cy="41338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5971680" y="1447920"/>
            <a:ext cx="24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, styliz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5" descr="ll-logical"/>
          <p:cNvPicPr/>
          <p:nvPr/>
        </p:nvPicPr>
        <p:blipFill>
          <a:blip r:embed="rId2"/>
          <a:srcRect l="-3321" t="-2953" r="-3321" b="-2953"/>
          <a:stretch/>
        </p:blipFill>
        <p:spPr>
          <a:xfrm>
            <a:off x="4884840" y="2314440"/>
            <a:ext cx="3421080" cy="41626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6"/>
          <p:cNvSpPr/>
          <p:nvPr/>
        </p:nvSpPr>
        <p:spPr>
          <a:xfrm>
            <a:off x="1748520" y="5791320"/>
            <a:ext cx="314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igorous deploy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-4082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aphical Visualizations: Interac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graphical editors with point-and-click interf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ploy metaphors like scrolling, zooming, ‘drill-down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itors have varying levels of awareness for different target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you can develop UML models in PowerPoint (or Photoshop), but the tools won’t help mu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exotic editors and interaction mechanisms exist i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D e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ketching-based” e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2E00-0CA5-4A54-A1BF-42F2D7894D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ep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visualiz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erences between modeling and visualiz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kinds of visualizations do we u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isualizations and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characterize and evaluate visualization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crete examples of a diverse array of visual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ucting visual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idelines for constructing new visual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tfalls to avoid when constructing new visual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ordinating visual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5BA8-3281-4748-8F17-2768E538F3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eneral Graphical Examp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CAF2-7B9D-4383-AB22-85B6410B35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5" descr="7-powerpoint-screenshot"/>
          <p:cNvPicPr/>
          <p:nvPr/>
        </p:nvPicPr>
        <p:blipFill>
          <a:blip r:embed="rId1"/>
          <a:stretch/>
        </p:blipFill>
        <p:spPr>
          <a:xfrm>
            <a:off x="1676520" y="1704960"/>
            <a:ext cx="5486400" cy="46958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-4082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aphical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bols, colors, and visual decorations more easily parsed by humans than structured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e non-hierarchical relationship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erse spatial interaction metaphors (scrolling, zooming) allow intuitive navi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iendly UI can create nice-looking dep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hidden; no information difference between model and depi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3D30-9C6C-4A2C-90A0-E1CD84535A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eneral Graphical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derlying semantics; difficult to add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io is a partial 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eans that interaction mechanisms can offer minimal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connect to other visualiz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 of building and maintaining tool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incorporate new semantics into existing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scale as well as text to very large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163F-86FE-45DE-9066-73B8855B23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ybrid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visualizations are text-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graphical notations are purely symbo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labels, at a minim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tations are generally textual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notations incorporate substantial parts that are mostly graphical alongside substantial parts that are mostly or wholly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E695-4148-42C3-BEC0-E1335A3C6A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ybrid Visualizations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47A3-6F71-4194-A13E-33BE7DC27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4" descr="figure-class-ll"/>
          <p:cNvPicPr/>
          <p:nvPr/>
        </p:nvPicPr>
        <p:blipFill>
          <a:blip r:embed="rId1"/>
          <a:stretch/>
        </p:blipFill>
        <p:spPr>
          <a:xfrm>
            <a:off x="1371600" y="1905120"/>
            <a:ext cx="2760840" cy="3286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4687560" y="2979720"/>
            <a:ext cx="36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Inte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_burn_rate &gt;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74920" y="5562720"/>
            <a:ext cx="289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chitectural constraint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pressed in O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1750680" y="5562720"/>
            <a:ext cx="236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imarily graphical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ML class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-4082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ML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onical graphical depictions + tool-specific inter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MI: Textual depiction in XML + text-editor inter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onical graphical depiction common across to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aphical visualizations have similar UI metaphors to PowerPoint-style editors, but with UML seman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MI projection provides textual alternat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ndard for interaction as there is for depi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some tools hard to tell where UML model ends and auxiliary models beg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UML visualizations are restricted to (slight variants) of the canonical UML depi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BCA7-0317-4193-B096-71AA06375C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ML Visualiz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6B38-9336-4963-8028-A520777211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4" descr="7-argouml-screenshot"/>
          <p:cNvPicPr/>
          <p:nvPr/>
        </p:nvPicPr>
        <p:blipFill>
          <a:blip r:embed="rId1"/>
          <a:stretch/>
        </p:blipFill>
        <p:spPr>
          <a:xfrm>
            <a:off x="1295280" y="1371600"/>
            <a:ext cx="6400800" cy="51055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5"/>
          <p:cNvSpPr/>
          <p:nvPr/>
        </p:nvSpPr>
        <p:spPr>
          <a:xfrm>
            <a:off x="-401040" y="6629400"/>
            <a:ext cx="1004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ML Visualiz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82EC-2DE9-4BA1-8B6C-4C02D102E7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3" descr="7-argouml-screenshot"/>
          <p:cNvPicPr/>
          <p:nvPr/>
        </p:nvPicPr>
        <p:blipFill>
          <a:blip r:embed="rId1"/>
          <a:stretch/>
        </p:blipFill>
        <p:spPr>
          <a:xfrm>
            <a:off x="533520" y="1523880"/>
            <a:ext cx="5449680" cy="47865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"/>
          <p:cNvSpPr/>
          <p:nvPr/>
        </p:nvSpPr>
        <p:spPr>
          <a:xfrm>
            <a:off x="4267080" y="1447920"/>
            <a:ext cx="4267440" cy="48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UML:Class xmi.id = '723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ame = 'Data Stor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isibility = 'public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Specification = 'fals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Root = 'false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Leaf = 'fals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Abstract = 'fals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Active = 'false'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UML:Association xmi.id = '725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ame = '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Specification = 'fals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Root = 'fals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Leaf = 'fals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Abstract = 'false'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UML:Association.connection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UML:AssociationEnd xmi.id = '726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isibility = 'public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Specification = 'fals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Navigable = 'tru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rdering = 'unordered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ggregation = 'non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argetScope = 'instance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hangeability = 'changeable'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UML:AssociationEnd.multiplicity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UML:Multiplicity xmi.id = '727'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UML:Multiplicity.rang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UML:MultiplicityRange xmi.id = '728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ower = '1'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pper = '1'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-401040" y="6629400"/>
            <a:ext cx="1004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ＭＳ Ｐゴシック"/>
              </a:rPr>
              <a:t>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iews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iewpoints, &amp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isualiza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0C12-25FA-443A-BFEE-D50C29F4AF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all that a view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a subset of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 decision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a viewpoint 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erspective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a view i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n (i.e.,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ter that sele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ubs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ualizations a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ocia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viewpo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4" descr="uml2diagrambunch"/>
          <p:cNvPicPr/>
          <p:nvPr/>
        </p:nvPicPr>
        <p:blipFill>
          <a:blip r:embed="rId1"/>
          <a:stretch/>
        </p:blipFill>
        <p:spPr>
          <a:xfrm>
            <a:off x="3505320" y="914400"/>
            <a:ext cx="5029200" cy="53290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5"/>
          <p:cNvSpPr/>
          <p:nvPr/>
        </p:nvSpPr>
        <p:spPr>
          <a:xfrm>
            <a:off x="-4082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ffect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all visualizations used in architecture-centric development depict design decisions direc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depict the results or effects of design deci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call these ‘effect visualizations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textual, graphical, hybrid, et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B797-808B-4865-8213-7B2DE86CE9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4" descr="7-effect-visualizations"/>
          <p:cNvPicPr/>
          <p:nvPr/>
        </p:nvPicPr>
        <p:blipFill>
          <a:blip r:embed="rId1"/>
          <a:stretch/>
        </p:blipFill>
        <p:spPr>
          <a:xfrm>
            <a:off x="990720" y="3602160"/>
            <a:ext cx="7238880" cy="28749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5"/>
          <p:cNvSpPr/>
          <p:nvPr/>
        </p:nvSpPr>
        <p:spPr>
          <a:xfrm>
            <a:off x="-4082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is Architectural Visualization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all that we have characterized architecture a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he set of principal design decisio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de about a 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all also that models are artifacts that capture some or all of the design decisions that comprise an archite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rchitectural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isualizatio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s how architectural models are depicted, and how stakeholders interact with those depi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wo key aspects he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pictio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a picture or other visual representation of design dec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a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chanisms allow stakeholders to interact with design decisions in terms of the depic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5211-733E-4DCD-B3CA-B7344E0ED1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ope and Purp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visualization for? What can it visualiz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ual? Graphical? Hybrid? Effec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i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epiction mechanisms and metaphors are primarily employed by the visualiz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nteraction mechanisms and metaphors are primarily employed by the visualiz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573A-C9A9-4ED9-A893-899FDFAE9B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Visualizations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de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ell/completely does the visualization reflect the information in the underlying mode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ency should be a minimum requirement, but details are often left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ell does the visualization use similar representations for similar concep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rehens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easy is it for stakeholders to understand and use a visu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function of both the visualization and the stakehol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A6C1-5E05-4586-A365-8E53C52554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Visualizations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ell does the visualization support models that change over time (dynamic models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ew Coord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ell the visualization is connected to and kept consistent with other visualiz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pleasing is the visualization (look and feel) to its use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subjective ju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easy is it to add new capabilities to a visualiz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EEB7-85E7-4020-B8AC-14C58AA8E9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xt Visualizations: Evalu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3160" y="152352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ope/Purpo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ualizing design decisions or effects as (structured)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ic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xtu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i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dered lines of characters possibly grouped into toke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ic: insert, delete, copy, pas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anced: coloring, code folding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del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lly canonic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7960" y="1523520"/>
            <a:ext cx="41907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st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lly good; depends on underlying no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ehensibil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ops with increasing complex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s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, but depends on edi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ew coordin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ends on edi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esthetic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ies; can be overwhelming or elegant and structu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nsibil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62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y extensible edi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05A1-A85D-4A2F-B463-10E016DA8C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6"/>
          <p:cNvSpPr/>
          <p:nvPr/>
        </p:nvSpPr>
        <p:spPr>
          <a:xfrm>
            <a:off x="4572000" y="14479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eneral Graphical: Evalu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447920"/>
            <a:ext cx="4191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pe/Purp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ualizing design decisions as symbolic pi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ic 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i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ossibly) interconnected symbols on a finite canv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a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 and click, drag-and-drop direct interactions with symbols, augmented by menus and dialo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de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cano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0" y="1447560"/>
            <a:ext cx="4191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74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sten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2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374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rehensi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2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ends on skill of the modeler and use of consistent symbols/patter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374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ynami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2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animation capab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374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ew coordin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2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icult at b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374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esthe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2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eler’s respons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374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2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ing new symbols is easy, adding semantics is hard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871F-733E-4F7D-9399-6BAFD7E474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5"/>
          <p:cNvSpPr/>
          <p:nvPr/>
        </p:nvSpPr>
        <p:spPr>
          <a:xfrm>
            <a:off x="4538520" y="9907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ML Visualizations: Evalu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676520"/>
            <a:ext cx="3962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ope/Purpo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isualization of UML mod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ic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phical (diagrams), textual (XM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i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agrams in UML symbolic vocabulary/XML-formatted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ends on the editor; generally point-and-click for diagrams; text editor for XM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del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agrams are canonical, XMI elides layout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8320" y="16761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st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nerally good across diagrams; small exce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rehensibil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biquity assists interpre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s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iew coordin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editors better than oth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esthetic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e symbols reduce complexity; uniform diagra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ensibil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37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file support OK; major language extensions har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9868-E993-42D0-890E-23F3E75B9D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4549680" y="151596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uman Computer Interactio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ues involved in HC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put and output dev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cognitive characteristics, background and knowledge of the us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tasks which the users wish to carry 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types of interface available (GUIs, command-line interfaces, menu-driven interfaces and prompted-user interface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signing f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cademic disciplines necessary to design interfaces: cognitive psychology, sociology, and linguistics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rinciples of good interface design: visibility, affordance, and feedback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2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sability of a HCI means; How easily and quickly users can achieve their goals, how quickly users can learn to use the interface, and the attitude of the users to the interface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25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ACCA-43E8-45C0-91C1-AAFA6EDC09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Human factors in interface desig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mited short-term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ople can instantaneously remember about 7 items of information. If you present more than this, they are more liable to make mistak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ople make mist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hen people make mistakes and systems go wrong, inappropriate alarms and messages can increase stress and hence the likelihood of more mistak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ople are diffe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ople have a wide range of physical capabilities. Designers should not just design for their own capabilit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ople have different interaction prefer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me like pictures, some like tex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2D8C-6AFF-4465-991E-ACB16ADE96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User interface design principl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685800" y="1828800"/>
          <a:ext cx="7543800" cy="40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54380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42F3-F906-4DD6-A718-84A7F688B2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raction styl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1" name="Object 7"/>
          <p:cNvGraphicFramePr/>
          <p:nvPr/>
        </p:nvGraphicFramePr>
        <p:xfrm>
          <a:off x="762120" y="1676520"/>
          <a:ext cx="7086600" cy="46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08660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C0EE-0FFD-402C-91BD-755F0C2356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els vs.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asy to confuse models and visualizations because they are very closely re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previous lectures, we have not drawn out this distinction, but now we make it explic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just abstract information – a set of design dec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sualiz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ive those design decisions form: they let u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i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ose design decisions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m in different w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the interaction aspect, visualizations are often active – they are both pictures AND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A2E7-EDDA-4E68-910F-29D47D300C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els vs.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2313-1972-4DC7-B7D8-BDDFA2AFC0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21"/>
          <p:cNvGrpSpPr/>
          <p:nvPr/>
        </p:nvGrpSpPr>
        <p:grpSpPr>
          <a:xfrm>
            <a:off x="2514600" y="2743200"/>
            <a:ext cx="4114800" cy="2757600"/>
            <a:chOff x="2514600" y="2743200"/>
            <a:chExt cx="4114800" cy="2757600"/>
          </a:xfrm>
        </p:grpSpPr>
        <p:sp>
          <p:nvSpPr>
            <p:cNvPr id="104" name="Cloud"/>
            <p:cNvSpPr/>
            <p:nvPr/>
          </p:nvSpPr>
          <p:spPr>
            <a:xfrm>
              <a:off x="2514600" y="2743200"/>
              <a:ext cx="4114800" cy="2757600"/>
            </a:xfrm>
            <a:custGeom>
              <a:avLst/>
              <a:gdLst>
                <a:gd name="textAreaLeft" fmla="*/ 566640 w 4114800"/>
                <a:gd name="textAreaRight" fmla="*/ 3254400 w 4114800"/>
                <a:gd name="textAreaTop" fmla="*/ 415800 h 2757600"/>
                <a:gd name="textAreaBottom" fmla="*/ 2213280 h 27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Cloud"/>
            <p:cNvSpPr/>
            <p:nvPr/>
          </p:nvSpPr>
          <p:spPr>
            <a:xfrm>
              <a:off x="2895840" y="3048120"/>
              <a:ext cx="1295280" cy="868320"/>
            </a:xfrm>
            <a:custGeom>
              <a:avLst/>
              <a:gdLst>
                <a:gd name="textAreaLeft" fmla="*/ 177840 w 1295280"/>
                <a:gd name="textAreaRight" fmla="*/ 1025640 w 1295280"/>
                <a:gd name="textAreaTop" fmla="*/ 131760 h 868320"/>
                <a:gd name="textAreaBottom" fmla="*/ 69696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Cloud"/>
            <p:cNvSpPr/>
            <p:nvPr/>
          </p:nvSpPr>
          <p:spPr>
            <a:xfrm>
              <a:off x="4953240" y="3048120"/>
              <a:ext cx="1295280" cy="868320"/>
            </a:xfrm>
            <a:custGeom>
              <a:avLst/>
              <a:gdLst>
                <a:gd name="textAreaLeft" fmla="*/ 177840 w 1295280"/>
                <a:gd name="textAreaRight" fmla="*/ 1025640 w 1295280"/>
                <a:gd name="textAreaTop" fmla="*/ 131760 h 868320"/>
                <a:gd name="textAreaBottom" fmla="*/ 69696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Cloud"/>
            <p:cNvSpPr/>
            <p:nvPr/>
          </p:nvSpPr>
          <p:spPr>
            <a:xfrm>
              <a:off x="3810240" y="4343400"/>
              <a:ext cx="1295280" cy="868320"/>
            </a:xfrm>
            <a:custGeom>
              <a:avLst/>
              <a:gdLst>
                <a:gd name="textAreaLeft" fmla="*/ 177840 w 1295280"/>
                <a:gd name="textAreaRight" fmla="*/ 1025640 w 1295280"/>
                <a:gd name="textAreaTop" fmla="*/ 131760 h 868320"/>
                <a:gd name="textAreaBottom" fmla="*/ 69696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Cloud"/>
            <p:cNvSpPr/>
            <p:nvPr/>
          </p:nvSpPr>
          <p:spPr>
            <a:xfrm>
              <a:off x="2667240" y="4114800"/>
              <a:ext cx="1295280" cy="868320"/>
            </a:xfrm>
            <a:custGeom>
              <a:avLst/>
              <a:gdLst>
                <a:gd name="textAreaLeft" fmla="*/ 177840 w 1295280"/>
                <a:gd name="textAreaRight" fmla="*/ 1025640 w 1295280"/>
                <a:gd name="textAreaTop" fmla="*/ 131760 h 868320"/>
                <a:gd name="textAreaBottom" fmla="*/ 69696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Cloud"/>
            <p:cNvSpPr/>
            <p:nvPr/>
          </p:nvSpPr>
          <p:spPr>
            <a:xfrm>
              <a:off x="5029200" y="4038840"/>
              <a:ext cx="1295640" cy="868320"/>
            </a:xfrm>
            <a:custGeom>
              <a:avLst/>
              <a:gdLst>
                <a:gd name="textAreaLeft" fmla="*/ 177840 w 1295640"/>
                <a:gd name="textAreaRight" fmla="*/ 1026000 w 1295640"/>
                <a:gd name="textAreaTop" fmla="*/ 131760 h 868320"/>
                <a:gd name="textAreaBottom" fmla="*/ 696960 h 86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600" h="21600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600" h="21600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600" h="21600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600" h="21600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600" h="21600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600" h="21600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600" h="21600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600" h="21600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600" h="21600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600" h="21600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600" h="21600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4041720" y="3810240"/>
              <a:ext cx="100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2974680" y="434340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4191120" y="4496040"/>
              <a:ext cx="6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16"/>
            <p:cNvSpPr/>
            <p:nvPr/>
          </p:nvSpPr>
          <p:spPr>
            <a:xfrm>
              <a:off x="3203280" y="327672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17"/>
            <p:cNvSpPr/>
            <p:nvPr/>
          </p:nvSpPr>
          <p:spPr>
            <a:xfrm>
              <a:off x="5260680" y="327672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18"/>
            <p:cNvSpPr/>
            <p:nvPr/>
          </p:nvSpPr>
          <p:spPr>
            <a:xfrm>
              <a:off x="5337000" y="426744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AutoShape 19"/>
          <p:cNvSpPr/>
          <p:nvPr/>
        </p:nvSpPr>
        <p:spPr>
          <a:xfrm rot="18942600">
            <a:off x="1752120" y="4800240"/>
            <a:ext cx="914400" cy="533520"/>
          </a:xfrm>
          <a:prstGeom prst="leftRightArrow">
            <a:avLst>
              <a:gd name="adj1" fmla="val 50000"/>
              <a:gd name="adj2" fmla="val 34119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228600" y="1676520"/>
            <a:ext cx="259092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?xml version=“1.0”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model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&lt;decision num=“1”…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&lt;decision num=“2”…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mode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304920" y="5486400"/>
            <a:ext cx="259056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r first decision 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hat the system will have two components, C1 and C2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7162920" y="3048120"/>
            <a:ext cx="17524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5"/>
          <p:cNvSpPr/>
          <p:nvPr/>
        </p:nvSpPr>
        <p:spPr>
          <a:xfrm>
            <a:off x="7620120" y="3166920"/>
            <a:ext cx="761760" cy="6098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6"/>
          <p:cNvSpPr/>
          <p:nvPr/>
        </p:nvSpPr>
        <p:spPr>
          <a:xfrm>
            <a:off x="7620120" y="4157640"/>
            <a:ext cx="76176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AutoShape 27"/>
          <p:cNvCxnSpPr>
            <a:stCxn id="120" idx="2"/>
            <a:endCxn id="121" idx="0"/>
          </p:cNvCxnSpPr>
          <p:nvPr/>
        </p:nvCxnSpPr>
        <p:spPr>
          <a:xfrm>
            <a:off x="8000640" y="3795840"/>
            <a:ext cx="108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AutoShape 28"/>
          <p:cNvSpPr/>
          <p:nvPr/>
        </p:nvSpPr>
        <p:spPr>
          <a:xfrm rot="2134200">
            <a:off x="1752120" y="3047760"/>
            <a:ext cx="914400" cy="533160"/>
          </a:xfrm>
          <a:prstGeom prst="leftRightArrow">
            <a:avLst>
              <a:gd name="adj1" fmla="val 50000"/>
              <a:gd name="adj2" fmla="val 3414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6477120" y="3657600"/>
            <a:ext cx="914400" cy="533520"/>
          </a:xfrm>
          <a:prstGeom prst="leftRightArrow">
            <a:avLst>
              <a:gd name="adj1" fmla="val 50000"/>
              <a:gd name="adj2" fmla="val 34119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0"/>
          <p:cNvSpPr/>
          <p:nvPr/>
        </p:nvSpPr>
        <p:spPr>
          <a:xfrm>
            <a:off x="2977920" y="160020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ML-based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1"/>
          <p:cNvSpPr/>
          <p:nvPr/>
        </p:nvSpPr>
        <p:spPr>
          <a:xfrm>
            <a:off x="2980080" y="6019920"/>
            <a:ext cx="42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tural language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2"/>
          <p:cNvSpPr/>
          <p:nvPr/>
        </p:nvSpPr>
        <p:spPr>
          <a:xfrm>
            <a:off x="6556680" y="4952880"/>
            <a:ext cx="21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x-and-arrow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nonical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odeling notation is associated with one or more canonical visual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makes it easy to think of a notation and a visualization as the same thing, even though they are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notations are canonically text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tural language, XML-based AD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graphic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werPoint-sty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a little of bo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M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have multiple canonical visual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rw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B8D1-D0D8-488D-887A-FF7B11E97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other Way to Think About I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ay ask “isn’t the canonical visualization the same as the notation since that is how the information is fundamentally organized?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haps, but consider a piece of software that edits an architectur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A868-F9BB-4668-863C-3B0784ED93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ower"/>
          <p:cNvSpPr/>
          <p:nvPr/>
        </p:nvSpPr>
        <p:spPr>
          <a:xfrm>
            <a:off x="3200400" y="4971960"/>
            <a:ext cx="905040" cy="1809720"/>
          </a:xfrm>
          <a:custGeom>
            <a:avLst/>
            <a:gdLst>
              <a:gd name="textAreaLeft" fmla="*/ 19080 w 905040"/>
              <a:gd name="textAreaRight" fmla="*/ 900360 w 905040"/>
              <a:gd name="textAreaTop" fmla="*/ 1888560 h 1809720"/>
              <a:gd name="textAreaBottom" fmla="*/ 226260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2184"/>
                </a:moveTo>
                <a:lnTo>
                  <a:pt x="6664" y="0"/>
                </a:lnTo>
                <a:lnTo>
                  <a:pt x="10800" y="0"/>
                </a:lnTo>
                <a:lnTo>
                  <a:pt x="21600" y="0"/>
                </a:lnTo>
                <a:lnTo>
                  <a:pt x="21600" y="11649"/>
                </a:lnTo>
                <a:lnTo>
                  <a:pt x="21600" y="19416"/>
                </a:lnTo>
                <a:lnTo>
                  <a:pt x="15166" y="21600"/>
                </a:lnTo>
                <a:lnTo>
                  <a:pt x="10570" y="21600"/>
                </a:lnTo>
                <a:lnTo>
                  <a:pt x="0" y="21600"/>
                </a:lnTo>
                <a:lnTo>
                  <a:pt x="0" y="11528"/>
                </a:lnTo>
                <a:lnTo>
                  <a:pt x="0" y="2184"/>
                </a:lnTo>
                <a:close/>
              </a:path>
              <a:path w="21600" h="21600">
                <a:moveTo>
                  <a:pt x="0" y="2184"/>
                </a:moveTo>
                <a:lnTo>
                  <a:pt x="0" y="2184"/>
                </a:lnTo>
                <a:lnTo>
                  <a:pt x="14706" y="2184"/>
                </a:lnTo>
                <a:lnTo>
                  <a:pt x="21600" y="0"/>
                </a:lnTo>
                <a:moveTo>
                  <a:pt x="0" y="2184"/>
                </a:moveTo>
                <a:lnTo>
                  <a:pt x="14706" y="2184"/>
                </a:lnTo>
                <a:lnTo>
                  <a:pt x="14706" y="5339"/>
                </a:lnTo>
                <a:lnTo>
                  <a:pt x="14706" y="17474"/>
                </a:lnTo>
                <a:lnTo>
                  <a:pt x="14706" y="21600"/>
                </a:lnTo>
                <a:moveTo>
                  <a:pt x="1149" y="3034"/>
                </a:moveTo>
                <a:lnTo>
                  <a:pt x="13328" y="3034"/>
                </a:lnTo>
                <a:lnTo>
                  <a:pt x="13328" y="3519"/>
                </a:lnTo>
                <a:lnTo>
                  <a:pt x="1149" y="3519"/>
                </a:lnTo>
                <a:lnTo>
                  <a:pt x="1149" y="3034"/>
                </a:lnTo>
                <a:moveTo>
                  <a:pt x="1149" y="4490"/>
                </a:moveTo>
                <a:lnTo>
                  <a:pt x="13328" y="4490"/>
                </a:lnTo>
                <a:lnTo>
                  <a:pt x="13328" y="4854"/>
                </a:lnTo>
                <a:lnTo>
                  <a:pt x="1149" y="4854"/>
                </a:lnTo>
                <a:lnTo>
                  <a:pt x="1149" y="4490"/>
                </a:lnTo>
                <a:moveTo>
                  <a:pt x="1149" y="5946"/>
                </a:moveTo>
                <a:lnTo>
                  <a:pt x="13328" y="5946"/>
                </a:lnTo>
                <a:lnTo>
                  <a:pt x="13328" y="6310"/>
                </a:lnTo>
                <a:lnTo>
                  <a:pt x="1149" y="6310"/>
                </a:lnTo>
                <a:lnTo>
                  <a:pt x="1149" y="5946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MCj04325170000[1]"/>
          <p:cNvPicPr/>
          <p:nvPr/>
        </p:nvPicPr>
        <p:blipFill>
          <a:blip r:embed="rId2"/>
          <a:stretch/>
        </p:blipFill>
        <p:spPr>
          <a:xfrm>
            <a:off x="228600" y="47242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/>
          <p:cNvPicPr/>
          <p:nvPr/>
        </p:nvPicPr>
        <p:blipFill>
          <a:blip r:embed="rId3"/>
          <a:stretch/>
        </p:blipFill>
        <p:spPr>
          <a:xfrm>
            <a:off x="838080" y="4971960"/>
            <a:ext cx="1390680" cy="14479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0"/>
          <p:cNvSpPr/>
          <p:nvPr/>
        </p:nvSpPr>
        <p:spPr>
          <a:xfrm>
            <a:off x="685800" y="3753000"/>
            <a:ext cx="3124080" cy="1143000"/>
          </a:xfrm>
          <a:prstGeom prst="cloudCallout">
            <a:avLst>
              <a:gd name="adj1" fmla="val 44106"/>
              <a:gd name="adj2" fmla="val 63611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1295280" y="436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12"/>
          <p:cNvSpPr/>
          <p:nvPr/>
        </p:nvSpPr>
        <p:spPr>
          <a:xfrm>
            <a:off x="1828800" y="3981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2133720" y="45147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14"/>
          <p:cNvSpPr/>
          <p:nvPr/>
        </p:nvSpPr>
        <p:spPr>
          <a:xfrm>
            <a:off x="2590920" y="40575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15"/>
          <p:cNvSpPr/>
          <p:nvPr/>
        </p:nvSpPr>
        <p:spPr>
          <a:xfrm>
            <a:off x="2666880" y="443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16"/>
          <p:cNvCxnSpPr>
            <a:stCxn id="141" idx="4"/>
            <a:endCxn id="142" idx="0"/>
          </p:cNvCxnSpPr>
          <p:nvPr/>
        </p:nvCxnSpPr>
        <p:spPr>
          <a:xfrm>
            <a:off x="2705040" y="4286160"/>
            <a:ext cx="766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AutoShape 17"/>
          <p:cNvCxnSpPr>
            <a:stCxn id="141" idx="2"/>
            <a:endCxn id="139" idx="6"/>
          </p:cNvCxnSpPr>
          <p:nvPr/>
        </p:nvCxnSpPr>
        <p:spPr>
          <a:xfrm flipH="1" flipV="1">
            <a:off x="2057040" y="4095720"/>
            <a:ext cx="5342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18"/>
          <p:cNvCxnSpPr>
            <a:stCxn id="138" idx="6"/>
            <a:endCxn id="140" idx="2"/>
          </p:cNvCxnSpPr>
          <p:nvPr/>
        </p:nvCxnSpPr>
        <p:spPr>
          <a:xfrm>
            <a:off x="1523880" y="4476600"/>
            <a:ext cx="61056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AutoShape 19"/>
          <p:cNvCxnSpPr>
            <a:stCxn id="140" idx="7"/>
            <a:endCxn id="141" idx="3"/>
          </p:cNvCxnSpPr>
          <p:nvPr/>
        </p:nvCxnSpPr>
        <p:spPr>
          <a:xfrm flipV="1">
            <a:off x="2328840" y="4253040"/>
            <a:ext cx="295560" cy="295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" name="tower"/>
          <p:cNvSpPr/>
          <p:nvPr/>
        </p:nvSpPr>
        <p:spPr>
          <a:xfrm flipH="1">
            <a:off x="4952880" y="4971960"/>
            <a:ext cx="905040" cy="1809720"/>
          </a:xfrm>
          <a:custGeom>
            <a:avLst/>
            <a:gdLst>
              <a:gd name="textAreaLeft" fmla="*/ 19080 w 905040"/>
              <a:gd name="textAreaRight" fmla="*/ 900360 w 905040"/>
              <a:gd name="textAreaTop" fmla="*/ 1888560 h 1809720"/>
              <a:gd name="textAreaBottom" fmla="*/ 226260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2184"/>
                </a:moveTo>
                <a:lnTo>
                  <a:pt x="6664" y="0"/>
                </a:lnTo>
                <a:lnTo>
                  <a:pt x="10800" y="0"/>
                </a:lnTo>
                <a:lnTo>
                  <a:pt x="21600" y="0"/>
                </a:lnTo>
                <a:lnTo>
                  <a:pt x="21600" y="11649"/>
                </a:lnTo>
                <a:lnTo>
                  <a:pt x="21600" y="19416"/>
                </a:lnTo>
                <a:lnTo>
                  <a:pt x="15166" y="21600"/>
                </a:lnTo>
                <a:lnTo>
                  <a:pt x="10570" y="21600"/>
                </a:lnTo>
                <a:lnTo>
                  <a:pt x="0" y="21600"/>
                </a:lnTo>
                <a:lnTo>
                  <a:pt x="0" y="11528"/>
                </a:lnTo>
                <a:lnTo>
                  <a:pt x="0" y="2184"/>
                </a:lnTo>
                <a:close/>
              </a:path>
              <a:path w="21600" h="21600">
                <a:moveTo>
                  <a:pt x="0" y="2184"/>
                </a:moveTo>
                <a:lnTo>
                  <a:pt x="0" y="2184"/>
                </a:lnTo>
                <a:lnTo>
                  <a:pt x="14706" y="2184"/>
                </a:lnTo>
                <a:lnTo>
                  <a:pt x="21600" y="0"/>
                </a:lnTo>
                <a:moveTo>
                  <a:pt x="0" y="2184"/>
                </a:moveTo>
                <a:lnTo>
                  <a:pt x="14706" y="2184"/>
                </a:lnTo>
                <a:lnTo>
                  <a:pt x="14706" y="5339"/>
                </a:lnTo>
                <a:lnTo>
                  <a:pt x="14706" y="17474"/>
                </a:lnTo>
                <a:lnTo>
                  <a:pt x="14706" y="21600"/>
                </a:lnTo>
                <a:moveTo>
                  <a:pt x="1149" y="3034"/>
                </a:moveTo>
                <a:lnTo>
                  <a:pt x="13328" y="3034"/>
                </a:lnTo>
                <a:lnTo>
                  <a:pt x="13328" y="3519"/>
                </a:lnTo>
                <a:lnTo>
                  <a:pt x="1149" y="3519"/>
                </a:lnTo>
                <a:lnTo>
                  <a:pt x="1149" y="3034"/>
                </a:lnTo>
                <a:moveTo>
                  <a:pt x="1149" y="4490"/>
                </a:moveTo>
                <a:lnTo>
                  <a:pt x="13328" y="4490"/>
                </a:lnTo>
                <a:lnTo>
                  <a:pt x="13328" y="4854"/>
                </a:lnTo>
                <a:lnTo>
                  <a:pt x="1149" y="4854"/>
                </a:lnTo>
                <a:lnTo>
                  <a:pt x="1149" y="4490"/>
                </a:lnTo>
                <a:moveTo>
                  <a:pt x="1149" y="5946"/>
                </a:moveTo>
                <a:lnTo>
                  <a:pt x="13328" y="5946"/>
                </a:lnTo>
                <a:lnTo>
                  <a:pt x="13328" y="6310"/>
                </a:lnTo>
                <a:lnTo>
                  <a:pt x="1149" y="6310"/>
                </a:lnTo>
                <a:lnTo>
                  <a:pt x="1149" y="5946"/>
                </a:lnTo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21" descr="MCj04325170000[1]"/>
          <p:cNvPicPr/>
          <p:nvPr/>
        </p:nvPicPr>
        <p:blipFill>
          <a:blip r:embed="rId6"/>
          <a:stretch/>
        </p:blipFill>
        <p:spPr>
          <a:xfrm flipH="1">
            <a:off x="6019920" y="4591080"/>
            <a:ext cx="2666880" cy="2133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6172200" y="5124600"/>
            <a:ext cx="228600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r first decision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at the system will have two components, C1 and C2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24"/>
          <p:cNvSpPr/>
          <p:nvPr/>
        </p:nvSpPr>
        <p:spPr>
          <a:xfrm>
            <a:off x="5029200" y="3371760"/>
            <a:ext cx="3352680" cy="1143000"/>
          </a:xfrm>
          <a:prstGeom prst="cloudCallout">
            <a:avLst>
              <a:gd name="adj1" fmla="val -39013"/>
              <a:gd name="adj2" fmla="val 94166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5715000" y="3524400"/>
            <a:ext cx="10666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r 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7010280" y="3448080"/>
            <a:ext cx="12956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cis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6705720" y="3981600"/>
            <a:ext cx="10666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a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5181480" y="4057560"/>
            <a:ext cx="1219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ystem w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AutoShape 30"/>
          <p:cNvCxnSpPr>
            <a:stCxn id="151" idx="3"/>
            <a:endCxn id="152" idx="1"/>
          </p:cNvCxnSpPr>
          <p:nvPr/>
        </p:nvCxnSpPr>
        <p:spPr>
          <a:xfrm flipV="1">
            <a:off x="6781320" y="3590280"/>
            <a:ext cx="22932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31"/>
          <p:cNvCxnSpPr>
            <a:stCxn id="152" idx="2"/>
            <a:endCxn id="153" idx="0"/>
          </p:cNvCxnSpPr>
          <p:nvPr/>
        </p:nvCxnSpPr>
        <p:spPr>
          <a:xfrm flipH="1">
            <a:off x="7238160" y="3731760"/>
            <a:ext cx="420120" cy="25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AutoShape 32"/>
          <p:cNvCxnSpPr>
            <a:stCxn id="153" idx="1"/>
            <a:endCxn id="154" idx="3"/>
          </p:cNvCxnSpPr>
          <p:nvPr/>
        </p:nvCxnSpPr>
        <p:spPr>
          <a:xfrm flipH="1">
            <a:off x="6400080" y="4124160"/>
            <a:ext cx="30564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fferent Relationship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EC1C-0C20-477A-9B43-C93055187B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029200" y="1736640"/>
            <a:ext cx="1066680" cy="60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3200400" y="1736640"/>
            <a:ext cx="1219320" cy="609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6"/>
          <p:cNvCxnSpPr>
            <a:stCxn id="161" idx="6"/>
            <a:endCxn id="160" idx="1"/>
          </p:cNvCxnSpPr>
          <p:nvPr/>
        </p:nvCxnSpPr>
        <p:spPr>
          <a:xfrm>
            <a:off x="4419360" y="204120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3" name="Text Box 7"/>
          <p:cNvSpPr/>
          <p:nvPr/>
        </p:nvSpPr>
        <p:spPr>
          <a:xfrm>
            <a:off x="2895480" y="25750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e (canonical) visualization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mm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1752480" y="4327560"/>
            <a:ext cx="106704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304920" y="4937040"/>
            <a:ext cx="1218960" cy="609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AutoShape 14"/>
          <p:cNvCxnSpPr>
            <a:stCxn id="165" idx="7"/>
            <a:endCxn id="164" idx="1"/>
          </p:cNvCxnSpPr>
          <p:nvPr/>
        </p:nvCxnSpPr>
        <p:spPr>
          <a:xfrm flipV="1">
            <a:off x="1345680" y="4631760"/>
            <a:ext cx="40716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7" name="Oval 15"/>
          <p:cNvSpPr/>
          <p:nvPr/>
        </p:nvSpPr>
        <p:spPr>
          <a:xfrm>
            <a:off x="1676520" y="3413160"/>
            <a:ext cx="121896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3048120" y="4937040"/>
            <a:ext cx="1218960" cy="609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17"/>
          <p:cNvCxnSpPr>
            <a:stCxn id="167" idx="4"/>
            <a:endCxn id="164" idx="0"/>
          </p:cNvCxnSpPr>
          <p:nvPr/>
        </p:nvCxnSpPr>
        <p:spPr>
          <a:xfrm>
            <a:off x="2285640" y="40222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0" name="AutoShape 18"/>
          <p:cNvCxnSpPr>
            <a:stCxn id="168" idx="1"/>
            <a:endCxn id="164" idx="3"/>
          </p:cNvCxnSpPr>
          <p:nvPr/>
        </p:nvCxnSpPr>
        <p:spPr>
          <a:xfrm flipH="1" flipV="1">
            <a:off x="2818800" y="4631760"/>
            <a:ext cx="407160" cy="39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1" name="Text Box 19"/>
          <p:cNvSpPr/>
          <p:nvPr/>
        </p:nvSpPr>
        <p:spPr>
          <a:xfrm>
            <a:off x="380880" y="57754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ny visualizations for one model (comm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6248520" y="3413160"/>
            <a:ext cx="106668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5105520" y="4937040"/>
            <a:ext cx="1066680" cy="60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2"/>
          <p:cNvSpPr/>
          <p:nvPr/>
        </p:nvSpPr>
        <p:spPr>
          <a:xfrm>
            <a:off x="7315200" y="4937040"/>
            <a:ext cx="1066680" cy="609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23"/>
          <p:cNvSpPr/>
          <p:nvPr/>
        </p:nvSpPr>
        <p:spPr>
          <a:xfrm>
            <a:off x="6172200" y="4251240"/>
            <a:ext cx="1219320" cy="6098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24"/>
          <p:cNvCxnSpPr>
            <a:stCxn id="175" idx="3"/>
            <a:endCxn id="173" idx="0"/>
          </p:cNvCxnSpPr>
          <p:nvPr/>
        </p:nvCxnSpPr>
        <p:spPr>
          <a:xfrm flipH="1">
            <a:off x="5638320" y="4772160"/>
            <a:ext cx="71208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7" name="AutoShape 25"/>
          <p:cNvCxnSpPr>
            <a:stCxn id="174" idx="0"/>
            <a:endCxn id="175" idx="5"/>
          </p:cNvCxnSpPr>
          <p:nvPr/>
        </p:nvCxnSpPr>
        <p:spPr>
          <a:xfrm flipH="1" flipV="1">
            <a:off x="7213320" y="4771800"/>
            <a:ext cx="63576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8" name="AutoShape 26"/>
          <p:cNvCxnSpPr>
            <a:stCxn id="172" idx="2"/>
            <a:endCxn id="175" idx="0"/>
          </p:cNvCxnSpPr>
          <p:nvPr/>
        </p:nvCxnSpPr>
        <p:spPr>
          <a:xfrm>
            <a:off x="6781320" y="40222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9" name="Text Box 27"/>
          <p:cNvSpPr/>
          <p:nvPr/>
        </p:nvSpPr>
        <p:spPr>
          <a:xfrm>
            <a:off x="4419720" y="5775480"/>
            <a:ext cx="44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e visualization bringing together many models (uncomm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inds of Visualizations: Textual Visualiz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ict architectures through ordinary text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conform to some syntactic format, like programs conform to a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natural language, in which case the format is defined by the spelling and grammar rules of th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rative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nts, colors, bold/ital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bles, bulleted lists/out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EAD9-C2ED-4B20-BD70-661059BD3E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7:40:37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11-19T22:07:23Z</dcterms:modified>
  <cp:revision>44</cp:revision>
  <dc:subject>Software Architecture: Foundations, Theory, and Practice</dc:subject>
  <dc:title>Visualizing Software Architectures</dc:title>
</cp:coreProperties>
</file>