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4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20.wmf" ContentType="image/x-wmf"/>
  <Override PartName="/ppt/media/image4.png" ContentType="image/png"/>
  <Override PartName="/ppt/media/image19.wmf" ContentType="image/x-wmf"/>
  <Override PartName="/ppt/media/image18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7.png" ContentType="image/png"/>
  <Override PartName="/ppt/media/image1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5EF64-5324-4F7D-B539-922689882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94C26-17D3-4C7E-A7E5-707D2821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FC3BF-BC46-4A2C-B819-798FD401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1DB47-162C-41FD-A475-C50B92D4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DC36-9ACE-4AC4-8CF0-19E74EC1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D2FB-70DD-4506-B8C6-D4C377EC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AF83-C2C2-45A0-9C0C-3D8BB8CE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A7C5-09E0-4ACE-A104-861C15DA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0942-CED4-4B88-879B-F70A8975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CCEE-4E2C-422D-ADBD-7E227A74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A25F-3AEE-464E-99A9-6A43A83C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BFF00-9F06-4754-9F87-ED25E039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218A-3DB4-40FB-B936-B3EC8724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68D2-803F-48FB-B8A8-CC35B2CA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8092-A79A-461B-9E1D-1A543337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DACC-9801-4045-9668-333962BB5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CD2E-8254-4587-A795-C67FC893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8BB35-3F24-41A4-B89D-578B8332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EEE6A-11C2-4018-A317-2303F79C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CD66A-195A-4104-B5B2-DEB2BB70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A61DB-820A-4630-9884-EEDA4A03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1E3BE-B207-4B1F-8B51-D43BE90F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2742F-F592-4E8A-B2DB-8F32ECFF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33E28-436F-4013-B822-7A90090C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16AB-B306-4F51-96D9-1FC74F0B18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42"/>
          <p:cNvSpPr/>
          <p:nvPr/>
        </p:nvSpPr>
        <p:spPr>
          <a:xfrm>
            <a:off x="380880" y="68580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47"/>
          <p:cNvSpPr/>
          <p:nvPr/>
        </p:nvSpPr>
        <p:spPr>
          <a:xfrm>
            <a:off x="380880" y="165240"/>
            <a:ext cx="8305920" cy="41904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29019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ftware Architecture: Foundations, Theory, and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2"/>
          <p:cNvSpPr/>
          <p:nvPr/>
        </p:nvSpPr>
        <p:spPr>
          <a:xfrm rot="5400000">
            <a:off x="-2019240" y="3162240"/>
            <a:ext cx="487656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3"/>
          <p:cNvSpPr/>
          <p:nvPr/>
        </p:nvSpPr>
        <p:spPr>
          <a:xfrm>
            <a:off x="3886200" y="655308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64"/>
          <p:cNvSpPr/>
          <p:nvPr/>
        </p:nvSpPr>
        <p:spPr>
          <a:xfrm rot="5400000">
            <a:off x="6400800" y="4190760"/>
            <a:ext cx="464796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9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0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1"/>
          <p:cNvSpPr/>
          <p:nvPr/>
        </p:nvSpPr>
        <p:spPr>
          <a:xfrm>
            <a:off x="2645640" y="6583320"/>
            <a:ext cx="665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© Richard N. Taylor, Nenad Medvidovic, and Eric M. Dashofy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1688-9A0E-4C49-A0E1-26496846F1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5.wmf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66880" y="16765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Visualizing Software Architectures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666880" y="4114440"/>
            <a:ext cx="6019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oftware Architect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ecture 9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xt Visualiz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visualizations are generally provided through text edi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: Windows Notepad, SimpleText, pico, jo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perts: vi, ema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underlying language support: Eclipse, UltraEdit, many HTML edi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-form text documents: Microsoft Word, other word process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51E5-A116-4C54-B458-9CF6F08CAA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xtual Visualiz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1AB1-92D8-431B-B743-3EC9C33903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571320" y="1676520"/>
            <a:ext cx="5575680" cy="429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instance:xArch xsi:type=”instance:XArch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types:archStructure xsi:type=”types:ArchStructur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ypes:id=”ClientArch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types:description xsi:type=”instance:Description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types:descrip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types:component xsi:type=”types:Component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ypes:id=”WebBrowser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types:description xsi:type=”instance:Description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eb 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types:descrip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types:interface xsi:type=”types:Interfac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ypes:id=”WebBrowserInterface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types:description xsi:type=”instance:Description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eb Browser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types:descrip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types:direction xsi:type=”instance:Direction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types:direc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types:interfac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types: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types:archStructur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instance:xArc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6176880" y="1600200"/>
            <a:ext cx="25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-48456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xtual Visualizations: Interac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through an ordinary text editor or word proc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advanced mechanisms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highligh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che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al fol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32C7-9602-4598-96D2-6BAB571F63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dvanced Interaction Mechanism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5B81-7572-4B54-8678-5A767B52EA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4" descr="7-text-codefolding"/>
          <p:cNvPicPr/>
          <p:nvPr/>
        </p:nvPicPr>
        <p:blipFill>
          <a:blip r:embed="rId1"/>
          <a:stretch/>
        </p:blipFill>
        <p:spPr>
          <a:xfrm>
            <a:off x="533520" y="1959120"/>
            <a:ext cx="4114800" cy="2384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7-text-template"/>
          <p:cNvPicPr/>
          <p:nvPr/>
        </p:nvPicPr>
        <p:blipFill>
          <a:blip r:embed="rId2"/>
          <a:stretch/>
        </p:blipFill>
        <p:spPr>
          <a:xfrm>
            <a:off x="4724280" y="2062080"/>
            <a:ext cx="3962520" cy="22813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7-text-autocomplete"/>
          <p:cNvPicPr/>
          <p:nvPr/>
        </p:nvPicPr>
        <p:blipFill>
          <a:blip r:embed="rId3"/>
          <a:stretch/>
        </p:blipFill>
        <p:spPr>
          <a:xfrm>
            <a:off x="1828800" y="4648320"/>
            <a:ext cx="5562720" cy="16351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7"/>
          <p:cNvSpPr/>
          <p:nvPr/>
        </p:nvSpPr>
        <p:spPr>
          <a:xfrm>
            <a:off x="-4082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xtual Visualiz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ict entire architecture in a single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linear or hierarchical stru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editors available to suit any n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tantial tool support if syntax is rigorous (e.g., defined in something like BN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incorporate advanced ‘content assist’ capa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text editors can be extended to handle new languages or integrate new tools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a uniform way of working with many different underlying no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D6F2-2A6A-4223-9879-5F106F9E6B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xt Visualizations (cont’d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overwhel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d for graphlike organizations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reorganize information meaningfu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ing curve for syntax/seman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ing complexity as models get big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handle graph structures and complex interrlationship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3095-9401-4A55-93A0-7DED1F5084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Kinds of Visualizations: Graphical Visualiz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ict architectures (primarily) as graphical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, shapes, pictures, clip-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s, arrows, other conn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otographic 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ions, sha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D or 3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conform to a symbolic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may also be ‘free-form’ and stylis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PowerPoint, OmniGraffl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point-and-click manipulation of graphical symbols, interconnections, and tex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FEE4-5B62-4C33-8FCF-9D0DFB8EFF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aphical Visualiz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35D6-BBC1-4DBB-B2F3-A4783B251E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4" descr="lunar-lander"/>
          <p:cNvPicPr/>
          <p:nvPr/>
        </p:nvPicPr>
        <p:blipFill>
          <a:blip r:embed="rId1"/>
          <a:stretch/>
        </p:blipFill>
        <p:spPr>
          <a:xfrm>
            <a:off x="533520" y="1676520"/>
            <a:ext cx="5410080" cy="41338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6048000" y="1523880"/>
            <a:ext cx="24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tract, styliz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-4082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aphical Visualiz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AE43-39F0-44DD-9F25-64E8C161F1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3" descr="lunar-lander"/>
          <p:cNvPicPr/>
          <p:nvPr/>
        </p:nvPicPr>
        <p:blipFill>
          <a:blip r:embed="rId1"/>
          <a:stretch/>
        </p:blipFill>
        <p:spPr>
          <a:xfrm>
            <a:off x="533520" y="1676520"/>
            <a:ext cx="5410080" cy="41338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5971680" y="1447920"/>
            <a:ext cx="24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tract, styliz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5" descr="ll-logical"/>
          <p:cNvPicPr/>
          <p:nvPr/>
        </p:nvPicPr>
        <p:blipFill>
          <a:blip r:embed="rId2"/>
          <a:srcRect l="-3321" t="-2953" r="-3321" b="-2953"/>
          <a:stretch/>
        </p:blipFill>
        <p:spPr>
          <a:xfrm>
            <a:off x="4884840" y="2314440"/>
            <a:ext cx="3421080" cy="41626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6"/>
          <p:cNvSpPr/>
          <p:nvPr/>
        </p:nvSpPr>
        <p:spPr>
          <a:xfrm>
            <a:off x="1748520" y="5791320"/>
            <a:ext cx="314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rigorous deploy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-4082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aphical Visualizations: Interac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graphical editors with point-and-click interfa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ploy metaphors like scrolling, zooming, ‘drill-down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itors have varying levels of awareness for different target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xample, you can develop UML models in PowerPoint (or Photoshop), but the tools won’t help mu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exotic editors and interaction mechanisms exist i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D e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ketching-based” e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A4DB-082E-4F89-A9A9-E94DFDFE73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bjectiv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cep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visualiza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fferences between modeling and visualiz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kinds of visualizations do we u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isualizations and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characterize and evaluate visualization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crete examples of a diverse array of visual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tructing visual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uidelines for constructing new visual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itfalls to avoid when constructing new visual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ordinating visual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9F81-0A85-4854-B4DA-F95FA53564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eneral Graphical Examp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184D-9A69-4EF2-BAFE-AA06E7470D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5" descr="7-powerpoint-screenshot"/>
          <p:cNvPicPr/>
          <p:nvPr/>
        </p:nvPicPr>
        <p:blipFill>
          <a:blip r:embed="rId1"/>
          <a:stretch/>
        </p:blipFill>
        <p:spPr>
          <a:xfrm>
            <a:off x="1676520" y="1704960"/>
            <a:ext cx="5486400" cy="469584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6"/>
          <p:cNvSpPr/>
          <p:nvPr/>
        </p:nvSpPr>
        <p:spPr>
          <a:xfrm>
            <a:off x="-4082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aphical Visualiz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mbols, colors, and visual decorations more easily parsed by humans than structured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le non-hierarchical relationship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verse spatial interaction metaphors (scrolling, zooming) allow intuitive navi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iendly UI can create nice-looking dep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hidden; no information difference between model and depi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1046-05E0-4F46-85F9-A264447AD7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eneral Graphical Visualiz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derlying semantics; difficult to add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sio is a partial ex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eans that interaction mechanisms can offer minimal sup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connect to other visualiz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 of building and maintaining tool sup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incorporate new semantics into existing 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scale as well as text to very large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F761-65D6-443F-87FA-3C3372FD70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ybrid Visualiz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visualizations are text-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 graphical notations are purely symbo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labels, at a minim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notations are generally textual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notations incorporate substantial parts that are mostly graphical alongside substantial parts that are mostly or wholly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C8E7-0EE2-472A-9FBC-4C2163126E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ybrid Visualizations (cont’d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B224-BB71-41A2-AFE7-3E6124279F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4" descr="figure-class-ll"/>
          <p:cNvPicPr/>
          <p:nvPr/>
        </p:nvPicPr>
        <p:blipFill>
          <a:blip r:embed="rId1"/>
          <a:stretch/>
        </p:blipFill>
        <p:spPr>
          <a:xfrm>
            <a:off x="1371600" y="1905120"/>
            <a:ext cx="2760840" cy="32860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5"/>
          <p:cNvSpPr/>
          <p:nvPr/>
        </p:nvSpPr>
        <p:spPr>
          <a:xfrm>
            <a:off x="4687560" y="2979720"/>
            <a:ext cx="36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rInterf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w_burn_rate &gt;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74920" y="5562720"/>
            <a:ext cx="289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chitectural constraint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pressed in O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1750680" y="5562720"/>
            <a:ext cx="236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imarily graphical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ML class 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-4082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ML Visualiz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onical graphical depictions + tool-specific intera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XMI: Textual depiction in XML + text-editor intera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onical graphical depiction common across too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raphical visualizations have similar UI metaphors to PowerPoint-style editors, but with UML semantic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XMI projection provides textual alternati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ndard for interaction as there is for depi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some tools hard to tell where UML model ends and auxiliary models beg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st UML visualizations are restricted to (slight variants) of the canonical UML depi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6B14-19B0-4C1B-89DC-165803107C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ML Visualiz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5BA1-0386-424F-9D57-776C1FC478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4" descr="7-argouml-screenshot"/>
          <p:cNvPicPr/>
          <p:nvPr/>
        </p:nvPicPr>
        <p:blipFill>
          <a:blip r:embed="rId1"/>
          <a:stretch/>
        </p:blipFill>
        <p:spPr>
          <a:xfrm>
            <a:off x="1295280" y="1371600"/>
            <a:ext cx="6400800" cy="510552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5"/>
          <p:cNvSpPr/>
          <p:nvPr/>
        </p:nvSpPr>
        <p:spPr>
          <a:xfrm>
            <a:off x="-401040" y="6629400"/>
            <a:ext cx="1004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ML Visualiz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3DAD-5ABA-45D6-B2CA-F52121543F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3" descr="7-argouml-screenshot"/>
          <p:cNvPicPr/>
          <p:nvPr/>
        </p:nvPicPr>
        <p:blipFill>
          <a:blip r:embed="rId1"/>
          <a:stretch/>
        </p:blipFill>
        <p:spPr>
          <a:xfrm>
            <a:off x="533520" y="1523880"/>
            <a:ext cx="5449680" cy="478656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4"/>
          <p:cNvSpPr/>
          <p:nvPr/>
        </p:nvSpPr>
        <p:spPr>
          <a:xfrm>
            <a:off x="4267080" y="1447920"/>
            <a:ext cx="4267440" cy="481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UML:Class xmi.id = '723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ame = 'Data Store'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isibility = 'public'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sSpecification = 'false'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sRoot = 'false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sLeaf = 'false'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sAbstract = 'false'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sActive = 'false'/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UML:Association xmi.id = '725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ame = ''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sSpecification = 'false'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sRoot = 'false'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sLeaf = 'false'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sAbstract = 'false'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UML:Association.connec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UML:AssociationEnd xmi.id = '726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isibility = 'public'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sSpecification = 'false'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sNavigable = 'true'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rdering = 'unordered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ggregation = 'none'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argetScope = 'instance'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hangeability = 'changeable'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UML:AssociationEnd.multiplicity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UML:Multiplicity xmi.id = '727'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UML:Multiplicity.rang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UML:MultiplicityRange xmi.id = '728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ower = '1'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pper = '1'/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-401040" y="6629400"/>
            <a:ext cx="1004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iews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iewpoints, &amp;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isualiza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C4C8-7691-4B6B-B248-F35672C93D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3429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all that a view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a subset of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 decision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a viewpoint i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erspective fro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a view i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ken (i.e.,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ter that selec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ubse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sualizations a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ociat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viewpo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9" name="Picture 4" descr="uml2diagrambunch"/>
          <p:cNvPicPr/>
          <p:nvPr/>
        </p:nvPicPr>
        <p:blipFill>
          <a:blip r:embed="rId1"/>
          <a:stretch/>
        </p:blipFill>
        <p:spPr>
          <a:xfrm>
            <a:off x="3505320" y="914400"/>
            <a:ext cx="5029200" cy="532908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5"/>
          <p:cNvSpPr/>
          <p:nvPr/>
        </p:nvSpPr>
        <p:spPr>
          <a:xfrm>
            <a:off x="-4082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ffect Visualiz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all visualizations used in architecture-centric development depict design decisions direc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depict the results or effects of design deci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call these ‘effect visualizations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textual, graphical, hybrid, et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48E8-CBEF-4248-B3E9-CECF9F04B0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cture 4" descr="7-effect-visualizations"/>
          <p:cNvPicPr/>
          <p:nvPr/>
        </p:nvPicPr>
        <p:blipFill>
          <a:blip r:embed="rId1"/>
          <a:stretch/>
        </p:blipFill>
        <p:spPr>
          <a:xfrm>
            <a:off x="990720" y="3602160"/>
            <a:ext cx="7238880" cy="287496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5"/>
          <p:cNvSpPr/>
          <p:nvPr/>
        </p:nvSpPr>
        <p:spPr>
          <a:xfrm>
            <a:off x="-4082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is Architectural Visualization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all that we have characterized architecture a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the set of principal design decisio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ade about a syst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all also that models are artifacts that capture some or all of the design decisions that comprise an architec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architectural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isualization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s how architectural models are depicted, and how stakeholders interact with those depi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wo key aspects he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epiction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a picture or other visual representation of design decis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a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chanisms allow stakeholders to interact with design decisions in terms of the depic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AA77-B748-4549-9ECA-A4DEE15B2D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valuating Visualiz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ope and Purp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visualization for? What can it visualiz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ual? Graphical? Hybrid? Effec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i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depiction mechanisms and metaphors are primarily employed by the visualiz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nteraction mechanisms and metaphors are primarily employed by the visualiz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950B-B1BB-4014-BABB-3B1B4747F9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valuating Visualizations (cont’d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de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ell/completely does the visualization reflect the information in the underlying model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stency should be a minimum requirement, but details are often left 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s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ell does the visualization use similar representations for similar concep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rehens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easy is it for stakeholders to understand and use a visu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function of both the visualization and the stakehol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CC0F-2610-4CB9-94E6-C7E6EA9DED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valuating Visualizations (cont’d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ell does the visualization support models that change over time (dynamic models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ew Coord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ell the visualization is connected to and kept consistent with other visualiz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esthe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pleasing is the visualization (look and feel) to its user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subjective ju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easy is it to add new capabilities to a visualiz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15CD-5D5C-4F51-97AD-CEF814D5B8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xt Visualizations: Evalu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33160" y="1523520"/>
            <a:ext cx="3886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ope/Purpo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isualizing design decisions or effects as (structured) 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sic Typ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xtu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i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dered lines of characters possibly grouped into toke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a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sic: insert, delete, copy, pas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vanced: coloring, code folding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del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nerally canonic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47960" y="1523520"/>
            <a:ext cx="41907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37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ist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74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nerally good; depends on underlying no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37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rehensibil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74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ops with increasing complex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37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s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74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, but depends on edi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37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iew coordin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74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pends on edi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37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esthetic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74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ries; can be overwhelming or elegant and structu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37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tensibil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62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y extensible edito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Slide Number Placeholder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72D3-D07C-46CD-ABC9-19BFD694BF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6"/>
          <p:cNvSpPr/>
          <p:nvPr/>
        </p:nvSpPr>
        <p:spPr>
          <a:xfrm>
            <a:off x="4572000" y="14479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eneral Graphical: Evalu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447920"/>
            <a:ext cx="4191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ope/Purp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sualizing design decisions as symbolic pi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sic Typ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pi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ossibly) interconnected symbols on a finite canv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a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int and click, drag-and-drop direct interactions with symbols, augmented by menus and dialo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de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cano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0" y="1447560"/>
            <a:ext cx="4191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374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istenc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25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374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rehensi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25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ends on skill of the modeler and use of consistent symbols/patter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374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ynami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25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animation capabil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374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iew coordin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25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icult at b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374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esthe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25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eler’s responsi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374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25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ing new symbols is easy, adding semantics is hard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Slide Number Placeholder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28C8-F8E9-4017-ADAD-FFEC97C80B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5"/>
          <p:cNvSpPr/>
          <p:nvPr/>
        </p:nvSpPr>
        <p:spPr>
          <a:xfrm>
            <a:off x="4538520" y="9907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ML Visualizations: Evalu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1676520"/>
            <a:ext cx="3962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ope/Purpo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isualization of UML mode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sic Typ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aphical (diagrams), textual (XMI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i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agrams in UML symbolic vocabulary/XML-formatted 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a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pends on the editor; generally point-and-click for diagrams; text editor for XM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del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agrams are canonical, XMI elides layout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48320" y="1676160"/>
            <a:ext cx="4038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ist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nerally good across diagrams; small exce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rehensibil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biquity assists interpre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s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iew coordin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 editors better than oth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esthetic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ple symbols reduce complexity; uniform diagra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tensibil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37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file support OK; major language extensions har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Slide Number Placeholder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F544-6C42-49D8-A7B0-E0DD89E17F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5"/>
          <p:cNvSpPr/>
          <p:nvPr/>
        </p:nvSpPr>
        <p:spPr>
          <a:xfrm>
            <a:off x="4549680" y="151596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uman Computer Interaction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1904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sues involved in HC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put and output devi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cognitive characteristics, background and knowledge of the us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tasks which the users wish to carry 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types of interface available (GUIs, command-line interfaces, menu-driven interfaces and prompted-user interface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signing f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25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cademic disciplines necessary to design interfaces: cognitive psychology, sociology, and linguistics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25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rinciples of good interface design: visibility, affordance, and feedback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25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Usability of a HCI means; How easily and quickly users can achieve their goals, how quickly users can learn to use the interface, and the attitude of the users to the interface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25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FEDD-4E78-448E-AC0C-0E308648A1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Human factors in interface desig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mited short-term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eople can instantaneously remember about 7 items of information. If you present more than this, they are more liable to make mistak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eople make mista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hen people make mistakes and systems go wrong, inappropriate alarms and messages can increase stress and hence the likelihood of more mistak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eople are diffe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eople have a wide range of physical capabilities. Designers should not just design for their own capabilit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eople have different interaction prefer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ome like pictures, some like tex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14C6-9EA9-40A9-A210-E4345A56DA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User interface design principl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7" name="Object 6"/>
          <p:cNvGraphicFramePr/>
          <p:nvPr/>
        </p:nvGraphicFramePr>
        <p:xfrm>
          <a:off x="685800" y="1828800"/>
          <a:ext cx="7543800" cy="409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543800" cy="40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FED4-0DB1-4D64-B2C8-FABD72AD5D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raction styl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1" name="Object 7"/>
          <p:cNvGraphicFramePr/>
          <p:nvPr/>
        </p:nvGraphicFramePr>
        <p:xfrm>
          <a:off x="762120" y="1676520"/>
          <a:ext cx="7086600" cy="461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08660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8A14-1E7C-4E5B-AF55-EC3F5A0CD8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dels vs. Visualiz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easy to confuse models and visualizations because they are very closely re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previous lectures, we have not drawn out this distinction, but now we make it explic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d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just abstract information – a set of design dec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sualiz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ive those design decisions form: they let u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i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ose design decisions an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a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hem in different w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the interaction aspect, visualizations are often active – they are both pictures AND 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2BA7-A74C-479C-9B47-055E7990F5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dels vs. Visualiz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0768-2974-4082-83A3-7DBB69AAA1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21"/>
          <p:cNvGrpSpPr/>
          <p:nvPr/>
        </p:nvGrpSpPr>
        <p:grpSpPr>
          <a:xfrm>
            <a:off x="2514600" y="2743200"/>
            <a:ext cx="4114800" cy="2757600"/>
            <a:chOff x="2514600" y="2743200"/>
            <a:chExt cx="4114800" cy="2757600"/>
          </a:xfrm>
        </p:grpSpPr>
        <p:sp>
          <p:nvSpPr>
            <p:cNvPr id="104" name="Cloud"/>
            <p:cNvSpPr/>
            <p:nvPr/>
          </p:nvSpPr>
          <p:spPr>
            <a:xfrm>
              <a:off x="2514600" y="2743200"/>
              <a:ext cx="4114800" cy="2757600"/>
            </a:xfrm>
            <a:custGeom>
              <a:avLst/>
              <a:gdLst>
                <a:gd name="textAreaLeft" fmla="*/ 566640 w 4114800"/>
                <a:gd name="textAreaRight" fmla="*/ 3254400 w 4114800"/>
                <a:gd name="textAreaTop" fmla="*/ 415800 h 2757600"/>
                <a:gd name="textAreaBottom" fmla="*/ 2213280 h 27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Cloud"/>
            <p:cNvSpPr/>
            <p:nvPr/>
          </p:nvSpPr>
          <p:spPr>
            <a:xfrm>
              <a:off x="2895840" y="3048120"/>
              <a:ext cx="1295280" cy="868320"/>
            </a:xfrm>
            <a:custGeom>
              <a:avLst/>
              <a:gdLst>
                <a:gd name="textAreaLeft" fmla="*/ 177840 w 1295280"/>
                <a:gd name="textAreaRight" fmla="*/ 1025640 w 1295280"/>
                <a:gd name="textAreaTop" fmla="*/ 131760 h 868320"/>
                <a:gd name="textAreaBottom" fmla="*/ 696960 h 86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Cloud"/>
            <p:cNvSpPr/>
            <p:nvPr/>
          </p:nvSpPr>
          <p:spPr>
            <a:xfrm>
              <a:off x="4953240" y="3048120"/>
              <a:ext cx="1295280" cy="868320"/>
            </a:xfrm>
            <a:custGeom>
              <a:avLst/>
              <a:gdLst>
                <a:gd name="textAreaLeft" fmla="*/ 177840 w 1295280"/>
                <a:gd name="textAreaRight" fmla="*/ 1025640 w 1295280"/>
                <a:gd name="textAreaTop" fmla="*/ 131760 h 868320"/>
                <a:gd name="textAreaBottom" fmla="*/ 696960 h 86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Cloud"/>
            <p:cNvSpPr/>
            <p:nvPr/>
          </p:nvSpPr>
          <p:spPr>
            <a:xfrm>
              <a:off x="3810240" y="4343400"/>
              <a:ext cx="1295280" cy="868320"/>
            </a:xfrm>
            <a:custGeom>
              <a:avLst/>
              <a:gdLst>
                <a:gd name="textAreaLeft" fmla="*/ 177840 w 1295280"/>
                <a:gd name="textAreaRight" fmla="*/ 1025640 w 1295280"/>
                <a:gd name="textAreaTop" fmla="*/ 131760 h 868320"/>
                <a:gd name="textAreaBottom" fmla="*/ 696960 h 86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Cloud"/>
            <p:cNvSpPr/>
            <p:nvPr/>
          </p:nvSpPr>
          <p:spPr>
            <a:xfrm>
              <a:off x="2667240" y="4114800"/>
              <a:ext cx="1295280" cy="868320"/>
            </a:xfrm>
            <a:custGeom>
              <a:avLst/>
              <a:gdLst>
                <a:gd name="textAreaLeft" fmla="*/ 177840 w 1295280"/>
                <a:gd name="textAreaRight" fmla="*/ 1025640 w 1295280"/>
                <a:gd name="textAreaTop" fmla="*/ 131760 h 868320"/>
                <a:gd name="textAreaBottom" fmla="*/ 696960 h 86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Cloud"/>
            <p:cNvSpPr/>
            <p:nvPr/>
          </p:nvSpPr>
          <p:spPr>
            <a:xfrm>
              <a:off x="5029200" y="4038840"/>
              <a:ext cx="1295640" cy="868320"/>
            </a:xfrm>
            <a:custGeom>
              <a:avLst/>
              <a:gdLst>
                <a:gd name="textAreaLeft" fmla="*/ 177840 w 1295640"/>
                <a:gd name="textAreaRight" fmla="*/ 1026000 w 1295640"/>
                <a:gd name="textAreaTop" fmla="*/ 131760 h 868320"/>
                <a:gd name="textAreaBottom" fmla="*/ 696960 h 86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11"/>
            <p:cNvSpPr/>
            <p:nvPr/>
          </p:nvSpPr>
          <p:spPr>
            <a:xfrm>
              <a:off x="4041720" y="3810240"/>
              <a:ext cx="100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2974680" y="4343400"/>
              <a:ext cx="6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15"/>
            <p:cNvSpPr/>
            <p:nvPr/>
          </p:nvSpPr>
          <p:spPr>
            <a:xfrm>
              <a:off x="4191120" y="4496040"/>
              <a:ext cx="6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16"/>
            <p:cNvSpPr/>
            <p:nvPr/>
          </p:nvSpPr>
          <p:spPr>
            <a:xfrm>
              <a:off x="3203280" y="3276720"/>
              <a:ext cx="6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17"/>
            <p:cNvSpPr/>
            <p:nvPr/>
          </p:nvSpPr>
          <p:spPr>
            <a:xfrm>
              <a:off x="5260680" y="3276720"/>
              <a:ext cx="6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18"/>
            <p:cNvSpPr/>
            <p:nvPr/>
          </p:nvSpPr>
          <p:spPr>
            <a:xfrm>
              <a:off x="5337000" y="4267440"/>
              <a:ext cx="6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AutoShape 19"/>
          <p:cNvSpPr/>
          <p:nvPr/>
        </p:nvSpPr>
        <p:spPr>
          <a:xfrm rot="18942600">
            <a:off x="1752120" y="4800240"/>
            <a:ext cx="914400" cy="533520"/>
          </a:xfrm>
          <a:prstGeom prst="leftRightArrow">
            <a:avLst>
              <a:gd name="adj1" fmla="val 50000"/>
              <a:gd name="adj2" fmla="val 34119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228600" y="1676520"/>
            <a:ext cx="2590920" cy="115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?xml version=“1.0”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model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&lt;decision num=“1”…/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&lt;decision num=“2”…/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mode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304920" y="5486400"/>
            <a:ext cx="259056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ur first decision i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hat the system will have two components, C1 and C2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24"/>
          <p:cNvSpPr/>
          <p:nvPr/>
        </p:nvSpPr>
        <p:spPr>
          <a:xfrm>
            <a:off x="7162920" y="3048120"/>
            <a:ext cx="17524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5"/>
          <p:cNvSpPr/>
          <p:nvPr/>
        </p:nvSpPr>
        <p:spPr>
          <a:xfrm>
            <a:off x="7620120" y="3166920"/>
            <a:ext cx="761760" cy="6098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26"/>
          <p:cNvSpPr/>
          <p:nvPr/>
        </p:nvSpPr>
        <p:spPr>
          <a:xfrm>
            <a:off x="7620120" y="4157640"/>
            <a:ext cx="761760" cy="6094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AutoShape 27"/>
          <p:cNvCxnSpPr>
            <a:stCxn id="120" idx="2"/>
            <a:endCxn id="121" idx="0"/>
          </p:cNvCxnSpPr>
          <p:nvPr/>
        </p:nvCxnSpPr>
        <p:spPr>
          <a:xfrm>
            <a:off x="8000640" y="3795840"/>
            <a:ext cx="1080" cy="343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AutoShape 28"/>
          <p:cNvSpPr/>
          <p:nvPr/>
        </p:nvSpPr>
        <p:spPr>
          <a:xfrm rot="2134200">
            <a:off x="1752120" y="3047760"/>
            <a:ext cx="914400" cy="533160"/>
          </a:xfrm>
          <a:prstGeom prst="leftRightArrow">
            <a:avLst>
              <a:gd name="adj1" fmla="val 50000"/>
              <a:gd name="adj2" fmla="val 34142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29"/>
          <p:cNvSpPr/>
          <p:nvPr/>
        </p:nvSpPr>
        <p:spPr>
          <a:xfrm>
            <a:off x="6477120" y="3657600"/>
            <a:ext cx="914400" cy="533520"/>
          </a:xfrm>
          <a:prstGeom prst="leftRightArrow">
            <a:avLst>
              <a:gd name="adj1" fmla="val 50000"/>
              <a:gd name="adj2" fmla="val 34119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0"/>
          <p:cNvSpPr/>
          <p:nvPr/>
        </p:nvSpPr>
        <p:spPr>
          <a:xfrm>
            <a:off x="2977920" y="1600200"/>
            <a:ext cx="34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ML-based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1"/>
          <p:cNvSpPr/>
          <p:nvPr/>
        </p:nvSpPr>
        <p:spPr>
          <a:xfrm>
            <a:off x="2980080" y="6019920"/>
            <a:ext cx="42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tural language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2"/>
          <p:cNvSpPr/>
          <p:nvPr/>
        </p:nvSpPr>
        <p:spPr>
          <a:xfrm>
            <a:off x="6556680" y="4952880"/>
            <a:ext cx="217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x-and-arrow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nonical Visualiz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modeling notation is associated with one or more canonical visual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makes it easy to think of a notation and a visualization as the same thing, even though they are no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notations are canonically textu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atural language, XML-based AD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graphic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werPoint-sty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a little of bo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M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have multiple canonical visual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rw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B4F5-3156-4534-85DB-3BB06723F2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nother Way to Think About I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may ask “isn’t the canonical visualization the same as the notation since that is how the information is fundamentally organized?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haps, but consider a piece of software that edits an architectur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5594-881D-431C-9AC1-781E258242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ower"/>
          <p:cNvSpPr/>
          <p:nvPr/>
        </p:nvSpPr>
        <p:spPr>
          <a:xfrm>
            <a:off x="3200400" y="4971960"/>
            <a:ext cx="905040" cy="1809720"/>
          </a:xfrm>
          <a:custGeom>
            <a:avLst/>
            <a:gdLst>
              <a:gd name="textAreaLeft" fmla="*/ 19080 w 905040"/>
              <a:gd name="textAreaRight" fmla="*/ 900360 w 905040"/>
              <a:gd name="textAreaTop" fmla="*/ 1888560 h 1809720"/>
              <a:gd name="textAreaBottom" fmla="*/ 226260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2184"/>
                </a:moveTo>
                <a:lnTo>
                  <a:pt x="6664" y="0"/>
                </a:lnTo>
                <a:lnTo>
                  <a:pt x="10800" y="0"/>
                </a:lnTo>
                <a:lnTo>
                  <a:pt x="21600" y="0"/>
                </a:lnTo>
                <a:lnTo>
                  <a:pt x="21600" y="11649"/>
                </a:lnTo>
                <a:lnTo>
                  <a:pt x="21600" y="19416"/>
                </a:lnTo>
                <a:lnTo>
                  <a:pt x="15166" y="21600"/>
                </a:lnTo>
                <a:lnTo>
                  <a:pt x="10570" y="21600"/>
                </a:lnTo>
                <a:lnTo>
                  <a:pt x="0" y="21600"/>
                </a:lnTo>
                <a:lnTo>
                  <a:pt x="0" y="11528"/>
                </a:lnTo>
                <a:lnTo>
                  <a:pt x="0" y="2184"/>
                </a:lnTo>
                <a:close/>
              </a:path>
              <a:path w="21600" h="21600">
                <a:moveTo>
                  <a:pt x="0" y="2184"/>
                </a:moveTo>
                <a:lnTo>
                  <a:pt x="0" y="2184"/>
                </a:lnTo>
                <a:lnTo>
                  <a:pt x="14706" y="2184"/>
                </a:lnTo>
                <a:lnTo>
                  <a:pt x="21600" y="0"/>
                </a:lnTo>
                <a:moveTo>
                  <a:pt x="0" y="2184"/>
                </a:moveTo>
                <a:lnTo>
                  <a:pt x="14706" y="2184"/>
                </a:lnTo>
                <a:lnTo>
                  <a:pt x="14706" y="5339"/>
                </a:lnTo>
                <a:lnTo>
                  <a:pt x="14706" y="17474"/>
                </a:lnTo>
                <a:lnTo>
                  <a:pt x="14706" y="21600"/>
                </a:lnTo>
                <a:moveTo>
                  <a:pt x="1149" y="3034"/>
                </a:moveTo>
                <a:lnTo>
                  <a:pt x="13328" y="3034"/>
                </a:lnTo>
                <a:lnTo>
                  <a:pt x="13328" y="3519"/>
                </a:lnTo>
                <a:lnTo>
                  <a:pt x="1149" y="3519"/>
                </a:lnTo>
                <a:lnTo>
                  <a:pt x="1149" y="3034"/>
                </a:lnTo>
                <a:moveTo>
                  <a:pt x="1149" y="4490"/>
                </a:moveTo>
                <a:lnTo>
                  <a:pt x="13328" y="4490"/>
                </a:lnTo>
                <a:lnTo>
                  <a:pt x="13328" y="4854"/>
                </a:lnTo>
                <a:lnTo>
                  <a:pt x="1149" y="4854"/>
                </a:lnTo>
                <a:lnTo>
                  <a:pt x="1149" y="4490"/>
                </a:lnTo>
                <a:moveTo>
                  <a:pt x="1149" y="5946"/>
                </a:moveTo>
                <a:lnTo>
                  <a:pt x="13328" y="5946"/>
                </a:lnTo>
                <a:lnTo>
                  <a:pt x="13328" y="6310"/>
                </a:lnTo>
                <a:lnTo>
                  <a:pt x="1149" y="6310"/>
                </a:lnTo>
                <a:lnTo>
                  <a:pt x="1149" y="5946"/>
                </a:lnTo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MCj04325170000[1]"/>
          <p:cNvPicPr/>
          <p:nvPr/>
        </p:nvPicPr>
        <p:blipFill>
          <a:blip r:embed="rId2"/>
          <a:stretch/>
        </p:blipFill>
        <p:spPr>
          <a:xfrm>
            <a:off x="228600" y="4724280"/>
            <a:ext cx="2666880" cy="2133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"/>
          <p:cNvPicPr/>
          <p:nvPr/>
        </p:nvPicPr>
        <p:blipFill>
          <a:blip r:embed="rId3"/>
          <a:stretch/>
        </p:blipFill>
        <p:spPr>
          <a:xfrm>
            <a:off x="838080" y="4971960"/>
            <a:ext cx="1390680" cy="144792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10"/>
          <p:cNvSpPr/>
          <p:nvPr/>
        </p:nvSpPr>
        <p:spPr>
          <a:xfrm>
            <a:off x="685800" y="3753000"/>
            <a:ext cx="3124080" cy="1143000"/>
          </a:xfrm>
          <a:prstGeom prst="cloudCallout">
            <a:avLst>
              <a:gd name="adj1" fmla="val 44106"/>
              <a:gd name="adj2" fmla="val 63611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11"/>
          <p:cNvSpPr/>
          <p:nvPr/>
        </p:nvSpPr>
        <p:spPr>
          <a:xfrm>
            <a:off x="1295280" y="4362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12"/>
          <p:cNvSpPr/>
          <p:nvPr/>
        </p:nvSpPr>
        <p:spPr>
          <a:xfrm>
            <a:off x="1828800" y="3981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13"/>
          <p:cNvSpPr/>
          <p:nvPr/>
        </p:nvSpPr>
        <p:spPr>
          <a:xfrm>
            <a:off x="2133720" y="451476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14"/>
          <p:cNvSpPr/>
          <p:nvPr/>
        </p:nvSpPr>
        <p:spPr>
          <a:xfrm>
            <a:off x="2590920" y="405756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15"/>
          <p:cNvSpPr/>
          <p:nvPr/>
        </p:nvSpPr>
        <p:spPr>
          <a:xfrm>
            <a:off x="2666880" y="4438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AutoShape 16"/>
          <p:cNvCxnSpPr>
            <a:stCxn id="141" idx="4"/>
            <a:endCxn id="142" idx="0"/>
          </p:cNvCxnSpPr>
          <p:nvPr/>
        </p:nvCxnSpPr>
        <p:spPr>
          <a:xfrm>
            <a:off x="2705040" y="4286160"/>
            <a:ext cx="766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" name="AutoShape 17"/>
          <p:cNvCxnSpPr>
            <a:stCxn id="141" idx="2"/>
            <a:endCxn id="139" idx="6"/>
          </p:cNvCxnSpPr>
          <p:nvPr/>
        </p:nvCxnSpPr>
        <p:spPr>
          <a:xfrm flipH="1" flipV="1">
            <a:off x="2057040" y="4095720"/>
            <a:ext cx="53424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" name="AutoShape 18"/>
          <p:cNvCxnSpPr>
            <a:stCxn id="138" idx="6"/>
            <a:endCxn id="140" idx="2"/>
          </p:cNvCxnSpPr>
          <p:nvPr/>
        </p:nvCxnSpPr>
        <p:spPr>
          <a:xfrm>
            <a:off x="1523880" y="4476600"/>
            <a:ext cx="61056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" name="AutoShape 19"/>
          <p:cNvCxnSpPr>
            <a:stCxn id="140" idx="7"/>
            <a:endCxn id="141" idx="3"/>
          </p:cNvCxnSpPr>
          <p:nvPr/>
        </p:nvCxnSpPr>
        <p:spPr>
          <a:xfrm flipV="1">
            <a:off x="2328840" y="4253040"/>
            <a:ext cx="295560" cy="295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7" name="tower"/>
          <p:cNvSpPr/>
          <p:nvPr/>
        </p:nvSpPr>
        <p:spPr>
          <a:xfrm flipH="1">
            <a:off x="4952880" y="4971960"/>
            <a:ext cx="905040" cy="1809720"/>
          </a:xfrm>
          <a:custGeom>
            <a:avLst/>
            <a:gdLst>
              <a:gd name="textAreaLeft" fmla="*/ 19080 w 905040"/>
              <a:gd name="textAreaRight" fmla="*/ 900360 w 905040"/>
              <a:gd name="textAreaTop" fmla="*/ 1888560 h 1809720"/>
              <a:gd name="textAreaBottom" fmla="*/ 226260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2184"/>
                </a:moveTo>
                <a:lnTo>
                  <a:pt x="6664" y="0"/>
                </a:lnTo>
                <a:lnTo>
                  <a:pt x="10800" y="0"/>
                </a:lnTo>
                <a:lnTo>
                  <a:pt x="21600" y="0"/>
                </a:lnTo>
                <a:lnTo>
                  <a:pt x="21600" y="11649"/>
                </a:lnTo>
                <a:lnTo>
                  <a:pt x="21600" y="19416"/>
                </a:lnTo>
                <a:lnTo>
                  <a:pt x="15166" y="21600"/>
                </a:lnTo>
                <a:lnTo>
                  <a:pt x="10570" y="21600"/>
                </a:lnTo>
                <a:lnTo>
                  <a:pt x="0" y="21600"/>
                </a:lnTo>
                <a:lnTo>
                  <a:pt x="0" y="11528"/>
                </a:lnTo>
                <a:lnTo>
                  <a:pt x="0" y="2184"/>
                </a:lnTo>
                <a:close/>
              </a:path>
              <a:path w="21600" h="21600">
                <a:moveTo>
                  <a:pt x="0" y="2184"/>
                </a:moveTo>
                <a:lnTo>
                  <a:pt x="0" y="2184"/>
                </a:lnTo>
                <a:lnTo>
                  <a:pt x="14706" y="2184"/>
                </a:lnTo>
                <a:lnTo>
                  <a:pt x="21600" y="0"/>
                </a:lnTo>
                <a:moveTo>
                  <a:pt x="0" y="2184"/>
                </a:moveTo>
                <a:lnTo>
                  <a:pt x="14706" y="2184"/>
                </a:lnTo>
                <a:lnTo>
                  <a:pt x="14706" y="5339"/>
                </a:lnTo>
                <a:lnTo>
                  <a:pt x="14706" y="17474"/>
                </a:lnTo>
                <a:lnTo>
                  <a:pt x="14706" y="21600"/>
                </a:lnTo>
                <a:moveTo>
                  <a:pt x="1149" y="3034"/>
                </a:moveTo>
                <a:lnTo>
                  <a:pt x="13328" y="3034"/>
                </a:lnTo>
                <a:lnTo>
                  <a:pt x="13328" y="3519"/>
                </a:lnTo>
                <a:lnTo>
                  <a:pt x="1149" y="3519"/>
                </a:lnTo>
                <a:lnTo>
                  <a:pt x="1149" y="3034"/>
                </a:lnTo>
                <a:moveTo>
                  <a:pt x="1149" y="4490"/>
                </a:moveTo>
                <a:lnTo>
                  <a:pt x="13328" y="4490"/>
                </a:lnTo>
                <a:lnTo>
                  <a:pt x="13328" y="4854"/>
                </a:lnTo>
                <a:lnTo>
                  <a:pt x="1149" y="4854"/>
                </a:lnTo>
                <a:lnTo>
                  <a:pt x="1149" y="4490"/>
                </a:lnTo>
                <a:moveTo>
                  <a:pt x="1149" y="5946"/>
                </a:moveTo>
                <a:lnTo>
                  <a:pt x="13328" y="5946"/>
                </a:lnTo>
                <a:lnTo>
                  <a:pt x="13328" y="6310"/>
                </a:lnTo>
                <a:lnTo>
                  <a:pt x="1149" y="6310"/>
                </a:lnTo>
                <a:lnTo>
                  <a:pt x="1149" y="5946"/>
                </a:lnTo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1" descr="MCj04325170000[1]"/>
          <p:cNvPicPr/>
          <p:nvPr/>
        </p:nvPicPr>
        <p:blipFill>
          <a:blip r:embed="rId6"/>
          <a:stretch/>
        </p:blipFill>
        <p:spPr>
          <a:xfrm flipH="1">
            <a:off x="6019920" y="4591080"/>
            <a:ext cx="2666880" cy="2133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3"/>
          <p:cNvSpPr/>
          <p:nvPr/>
        </p:nvSpPr>
        <p:spPr>
          <a:xfrm>
            <a:off x="6172200" y="5124600"/>
            <a:ext cx="228600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r first decision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at the system will have two components, C1 and C2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24"/>
          <p:cNvSpPr/>
          <p:nvPr/>
        </p:nvSpPr>
        <p:spPr>
          <a:xfrm>
            <a:off x="5029200" y="3371760"/>
            <a:ext cx="3352680" cy="1143000"/>
          </a:xfrm>
          <a:prstGeom prst="cloudCallout">
            <a:avLst>
              <a:gd name="adj1" fmla="val -39013"/>
              <a:gd name="adj2" fmla="val 94166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5"/>
          <p:cNvSpPr/>
          <p:nvPr/>
        </p:nvSpPr>
        <p:spPr>
          <a:xfrm>
            <a:off x="5715000" y="3524400"/>
            <a:ext cx="10666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r f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6"/>
          <p:cNvSpPr/>
          <p:nvPr/>
        </p:nvSpPr>
        <p:spPr>
          <a:xfrm>
            <a:off x="7010280" y="3448080"/>
            <a:ext cx="12956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cis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7"/>
          <p:cNvSpPr/>
          <p:nvPr/>
        </p:nvSpPr>
        <p:spPr>
          <a:xfrm>
            <a:off x="6705720" y="3981600"/>
            <a:ext cx="10666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at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9"/>
          <p:cNvSpPr/>
          <p:nvPr/>
        </p:nvSpPr>
        <p:spPr>
          <a:xfrm>
            <a:off x="5181480" y="4057560"/>
            <a:ext cx="12193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stem w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AutoShape 30"/>
          <p:cNvCxnSpPr>
            <a:stCxn id="151" idx="3"/>
            <a:endCxn id="152" idx="1"/>
          </p:cNvCxnSpPr>
          <p:nvPr/>
        </p:nvCxnSpPr>
        <p:spPr>
          <a:xfrm flipV="1">
            <a:off x="6781320" y="3590280"/>
            <a:ext cx="22932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31"/>
          <p:cNvCxnSpPr>
            <a:stCxn id="152" idx="2"/>
            <a:endCxn id="153" idx="0"/>
          </p:cNvCxnSpPr>
          <p:nvPr/>
        </p:nvCxnSpPr>
        <p:spPr>
          <a:xfrm flipH="1">
            <a:off x="7238160" y="3731760"/>
            <a:ext cx="420120" cy="25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AutoShape 32"/>
          <p:cNvCxnSpPr>
            <a:stCxn id="153" idx="1"/>
            <a:endCxn id="154" idx="3"/>
          </p:cNvCxnSpPr>
          <p:nvPr/>
        </p:nvCxnSpPr>
        <p:spPr>
          <a:xfrm flipH="1">
            <a:off x="6400080" y="4124160"/>
            <a:ext cx="30564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fferent Relationship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1AE9-BEFE-4179-B049-270286C916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029200" y="1736640"/>
            <a:ext cx="1066680" cy="60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5"/>
          <p:cNvSpPr/>
          <p:nvPr/>
        </p:nvSpPr>
        <p:spPr>
          <a:xfrm>
            <a:off x="3200400" y="1736640"/>
            <a:ext cx="1219320" cy="609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AutoShape 6"/>
          <p:cNvCxnSpPr>
            <a:stCxn id="161" idx="6"/>
            <a:endCxn id="160" idx="1"/>
          </p:cNvCxnSpPr>
          <p:nvPr/>
        </p:nvCxnSpPr>
        <p:spPr>
          <a:xfrm>
            <a:off x="4419360" y="204120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3" name="Text Box 7"/>
          <p:cNvSpPr/>
          <p:nvPr/>
        </p:nvSpPr>
        <p:spPr>
          <a:xfrm>
            <a:off x="2895480" y="25750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e (canonical) visualization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comm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1752480" y="4327560"/>
            <a:ext cx="106704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13"/>
          <p:cNvSpPr/>
          <p:nvPr/>
        </p:nvSpPr>
        <p:spPr>
          <a:xfrm>
            <a:off x="304920" y="4937040"/>
            <a:ext cx="1218960" cy="609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AutoShape 14"/>
          <p:cNvCxnSpPr>
            <a:stCxn id="165" idx="7"/>
            <a:endCxn id="164" idx="1"/>
          </p:cNvCxnSpPr>
          <p:nvPr/>
        </p:nvCxnSpPr>
        <p:spPr>
          <a:xfrm flipV="1">
            <a:off x="1345680" y="4631760"/>
            <a:ext cx="407160" cy="39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7" name="Oval 15"/>
          <p:cNvSpPr/>
          <p:nvPr/>
        </p:nvSpPr>
        <p:spPr>
          <a:xfrm>
            <a:off x="1676520" y="3413160"/>
            <a:ext cx="121896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16"/>
          <p:cNvSpPr/>
          <p:nvPr/>
        </p:nvSpPr>
        <p:spPr>
          <a:xfrm>
            <a:off x="3048120" y="4937040"/>
            <a:ext cx="1218960" cy="609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AutoShape 17"/>
          <p:cNvCxnSpPr>
            <a:stCxn id="167" idx="4"/>
            <a:endCxn id="164" idx="0"/>
          </p:cNvCxnSpPr>
          <p:nvPr/>
        </p:nvCxnSpPr>
        <p:spPr>
          <a:xfrm>
            <a:off x="2285640" y="40222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0" name="AutoShape 18"/>
          <p:cNvCxnSpPr>
            <a:stCxn id="168" idx="1"/>
            <a:endCxn id="164" idx="3"/>
          </p:cNvCxnSpPr>
          <p:nvPr/>
        </p:nvCxnSpPr>
        <p:spPr>
          <a:xfrm flipH="1" flipV="1">
            <a:off x="2818800" y="4631760"/>
            <a:ext cx="407160" cy="39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1" name="Text Box 19"/>
          <p:cNvSpPr/>
          <p:nvPr/>
        </p:nvSpPr>
        <p:spPr>
          <a:xfrm>
            <a:off x="380880" y="57754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ny visualizations for one model (comm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6248520" y="3413160"/>
            <a:ext cx="106668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21"/>
          <p:cNvSpPr/>
          <p:nvPr/>
        </p:nvSpPr>
        <p:spPr>
          <a:xfrm>
            <a:off x="5105520" y="4937040"/>
            <a:ext cx="1066680" cy="60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22"/>
          <p:cNvSpPr/>
          <p:nvPr/>
        </p:nvSpPr>
        <p:spPr>
          <a:xfrm>
            <a:off x="7315200" y="4937040"/>
            <a:ext cx="1066680" cy="60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23"/>
          <p:cNvSpPr/>
          <p:nvPr/>
        </p:nvSpPr>
        <p:spPr>
          <a:xfrm>
            <a:off x="6172200" y="4251240"/>
            <a:ext cx="1219320" cy="609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24"/>
          <p:cNvCxnSpPr>
            <a:stCxn id="175" idx="3"/>
            <a:endCxn id="173" idx="0"/>
          </p:cNvCxnSpPr>
          <p:nvPr/>
        </p:nvCxnSpPr>
        <p:spPr>
          <a:xfrm flipH="1">
            <a:off x="5638320" y="4772160"/>
            <a:ext cx="712080" cy="16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7" name="AutoShape 25"/>
          <p:cNvCxnSpPr>
            <a:stCxn id="174" idx="0"/>
            <a:endCxn id="175" idx="5"/>
          </p:cNvCxnSpPr>
          <p:nvPr/>
        </p:nvCxnSpPr>
        <p:spPr>
          <a:xfrm flipH="1" flipV="1">
            <a:off x="7213320" y="4771800"/>
            <a:ext cx="635760" cy="16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8" name="AutoShape 26"/>
          <p:cNvCxnSpPr>
            <a:stCxn id="172" idx="2"/>
            <a:endCxn id="175" idx="0"/>
          </p:cNvCxnSpPr>
          <p:nvPr/>
        </p:nvCxnSpPr>
        <p:spPr>
          <a:xfrm>
            <a:off x="6781320" y="40222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9" name="Text Box 27"/>
          <p:cNvSpPr/>
          <p:nvPr/>
        </p:nvSpPr>
        <p:spPr>
          <a:xfrm>
            <a:off x="4419720" y="5775480"/>
            <a:ext cx="44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e visualization bringing together many models (uncomm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Kinds of Visualizations: Textual Visualiz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ict architectures through ordinary text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conform to some syntactic format, like programs conform to a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natural language, in which case the format is defined by the spelling and grammar rules of th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rative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nts, colors, bold/ital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bles, bulleted lists/out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2678-4914-485A-92A6-DF634EF260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7:40:37Z</dcterms:created>
  <dc:creator>Taylor, Medvidovic, and Dashofy</dc:creator>
  <dc:description>Copyright (C) Richard N. Taylor, Nenad Medvidovic, and Eric M. Dashofy. All rights reserved.</dc:description>
  <dc:language>en-US</dc:language>
  <cp:lastModifiedBy>zakarya</cp:lastModifiedBy>
  <dcterms:modified xsi:type="dcterms:W3CDTF">2011-11-19T22:07:23Z</dcterms:modified>
  <cp:revision>44</cp:revision>
  <dc:subject>Software Architecture: Foundations, Theory, and Practice</dc:subject>
  <dc:title>Visualizing Software Architectures</dc:title>
</cp:coreProperties>
</file>