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4B884-C270-4CE2-B7F6-4AC1997A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9E7D-5F75-4ACA-BFBF-824047EC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2E75-33AE-461F-944A-A75418A3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8EAC6-EEC5-4E37-B68D-7E21CB16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5BB3-0851-44A6-8EE8-70069F2D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841C-4219-49F0-959D-F4FE9352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3BAD-106E-45B2-9803-8987BD45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285F-4AA5-495C-A895-DC110E37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0F9E-5C41-4C92-9DB7-826A69E7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2088-0BF6-412F-AC27-0AD914CF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F0CA-5AED-447F-9CE9-DE82E147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4A3E7-A1FA-4C13-A5B1-5C9CE775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DA2A-3666-4E5E-9404-4E68EFC5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15BA-B65D-491E-8806-FBCA325E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3B65-2D52-4597-9ECA-B0B36A34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C912-6E21-4FC0-A86C-155A9CD0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97B6-7E34-4AE1-85DA-C075FBC1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6009F-19D4-45DB-833B-4C00D0FC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ED619-AEBF-47B4-9BCC-F3ECD068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1828-5C1B-40DB-8CF7-F9379E1F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5B7C-15CE-4187-A25D-08B9EF0A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B2AD-58B6-4EB2-A539-5AF2813E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24949-B163-4854-A09C-BC1E5919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B89EC-B72E-4DA4-8E1A-CB079D4F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DF0F-680E-496C-91C4-6D281F9C547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87E5-0588-4224-AAD9-56E9CF90AE8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terile Products Lab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HT 434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Sterile Area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lean Area Separ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Positive pressure differential between rooms of different cla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Use of a double-door, airlocks or integrated sterilizer helps ensure direct product flow, often from a lower to a higher classified are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B0B3-0094-4C6A-B764-DEADD8DF20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67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-filtered air should be supplied 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velocity sufficient to sweep particles away from the filling/closing are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intain unidirectional airflow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88131-6E51-4346-B967-B0023E9C76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mbrane filters can be used to filte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ressed ga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meet an appropriate high-quality standa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filters are often used to produce a sterile compressed gas to conduct operations involving sterile materials, such as components and equipm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05699-1344-492C-AFFF-6E04514F40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Desig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eptic processes are designed to minimize exposure of sterile articles to the potential contamination hazards of the manufacturing ope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th personnel and material flow should be optimized to prevent unnecessary activities that could increase the potential for introducing contaminants to exposed product, container-closures, or the surrounding environmen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AA8F-2EC9-4E58-86E3-F4C124C6CA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leading into class A and B environment should be designed as airl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should be physical separation of the different stages of changing to minimize microbial and particulate contamination of clean room clot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for all classes should be flushed effectively with filtered ai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01ED-93E3-42C1-9C18-AA09AF1A6C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inal stage of the changing room should be the same grade as the area into which it lea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use of separate changing rooms for entering and leaving clean areas is sometimes desirab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general, hand washing facilities should be provided only in the first stage of the changing roo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8F5BA-1D17-479A-8DF7-3FCB55BC01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qui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be appropriately designed to facilitate ease of steriliz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not obstruct airflow and, in critical areas, its design should not disturb unidirectional airfl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8263-98BF-4F5B-A904-1BFE66CEE0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GMP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wning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ri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n- shed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ver skin and hair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e-masks, hoods, beard/moustache covers, protective goggles, and elastic gloves are examples of common elements of gow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1FC2-91FC-46A7-97F5-15B25F97A1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 of personnel per a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2083-E930-4C92-B3A5-BA0B7EA934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onents, containers, clo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important to characterize the microbial content (e.g., bioburden, endotoxin) of each component that could be contaminated and establish appropriate acceptance limit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sterilization preparation of glass containers usually involves a series of wash and rinse cycles. These cycles serve an important role in removing foreign matter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should be subjected to sterilization and depyrogenation proce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0B88-097C-4D08-A838-34E53BF7F5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erilizatio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s to any process that effectively kills or eliminates living microorganisms. It is not absolute. It is acceptable when it achieves killing effect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.e. every 1 million sterile items have a chance for only 1 item to be non-sterile.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ean ro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has a controlled level of contamination that is specified by the number of particles per cubic meter at a specified particle siz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aminar flow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 airflow moving in a single direction and in parallel layers at constant velocity from the beginning to the end of a straight line vector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FFE2-5496-4EA1-A71B-B730E1D1A8A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techn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units are purpose built machines in which, in one continuous oper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tainers are formed from a thermoplastic granulate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lled with the sterile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 then seal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 by the one automatic mac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1408-5524-430F-A324-68A6561E1B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 filters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Efficiency Particulate Air: 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7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3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LPA filt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Ultra Low Particulate Air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99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12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irlock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mall room with interlocked doors, constructed to maintain air pressure control between adjoining rooms (generally with different air cleanliness standards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802F-AC92-4BCA-B413-DF5F51262AB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oburde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otal number of microorganisms associated with a specific item prior to steriliz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lony Forming Unit (CFU)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microbiological term that describes the formation of a single macroscopic colony after the introduction of one or more microorganisms to microbiological growth media.  One colony forming unit is expressed as 1 CF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ndotoxi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pyrogenic product (e.g., lipopolysaccharide) present in the bacterial cell wall.  Endotoxin can lead to reactions in patients receiving injections ranging from fever to dea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CA91-5081-4C1F-B7A0-A0C8C947D4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ods of sterilizatio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rminal steril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, container, and closure have low bioburden, but they are not steri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 in its final container is then subjected to a sterilization process such as heat or irradiatio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eptic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rug product, container, and closure are first subjected to sterilization methods separately, as appropriate, and then brought toget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4703-D5C3-41F8-B6D3-F9B89534EF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e classification system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 US Federal Standard 209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, 1000, 10000, 100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 means: not more than 1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O 14644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, ISO 6, ISO 7, ISO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uropean GMP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, B, C, 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7B25-ADF5-4CC7-89DD-3E7AD7A2FA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3 classification syste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 = ISO 5 = Class 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0 = ISO 6 = Class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,000 = ISO 7 = Class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,000 = ISO 8 = Class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100 = ISO 5 = Class A: contain less than 1 CFU/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FU/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DCD9D-5396-47B4-B1F1-75BB554AF6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ritical Area (class 100) (ISO 5) (Class A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era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- Sterile ingredients ad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- fil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- clos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529272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B8D0-E9F7-4070-9986-42898B124C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Supporting Clean Area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nction as zones in which non-sterile components, formulated products, in-process materials, equipment, and container/closures are prepared, held, or transferred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DA recommends that the area immediately adjacent to the aseptic processing line meet, at a minimum, Class 10,000 (ISO 7) standard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 area classified at a Class 100,000 (ISO 8)  is appropriate for less critical activities (e.g., equipment cleaning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355B7-0C47-4387-BD10-F5F1AC0F9A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1:59:31Z</dcterms:created>
  <dc:creator>usama</dc:creator>
  <dc:description/>
  <dc:language>en-US</dc:language>
  <cp:lastModifiedBy>User</cp:lastModifiedBy>
  <dcterms:modified xsi:type="dcterms:W3CDTF">2010-10-05T09:39:37Z</dcterms:modified>
  <cp:revision>10</cp:revision>
  <dc:subject/>
  <dc:title>Sterile Products Lab PHC 434</dc:title>
</cp:coreProperties>
</file>