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11D05-939E-4D11-821B-9162EB0E8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D7AFB-D63C-4BDC-A0C8-9EA2CB0EA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A4CF8-985B-4C51-A2CF-1B094A7AB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D98BD-97B0-45F1-B856-40E6C7237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059ED-8DFA-4DBE-83F1-1CF05F3CB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598BF-441B-4DED-A868-51A090BF2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BF3DD-936B-43E5-AB39-5AA0BFC09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31CFB-01F1-4931-A2AA-A0E2D62B9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83453-26BB-4B98-8A18-7291C09B9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A66E1-58EE-4A3E-B9CE-D5DD4E447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F5290-2BAF-497F-8ED5-2CD232E0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D4809-B7EF-4830-8E34-98934F610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49762-7327-436E-988B-B9D1B4BA2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86E72-2C82-4DD7-A3AC-FE76D486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67E34-649D-47E4-A9FF-76BE1B796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A9B1D-BA03-4215-81AE-D10813911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B6986-0580-47F8-AB06-9DB608C29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30AC6-4EA3-4E52-BA23-B3B3E0384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2031F-3303-4FD0-A583-D9A6C8D6F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BD619-DA84-4335-BE11-9F7B9A0CC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183F3-4A35-4B56-99F4-8E96C5ED4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9D4A1-BE44-4918-A011-263CE6A27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FC48D-5047-4DD0-B74D-FE884F2F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4CA35-6436-4B39-95C5-6BC2AB5B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C4B40-A674-4F2A-B771-381C7291306B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51162-56F0-47F5-A29D-E8ABE649F86A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Sterile Products Lab</a:t>
            </a:r>
            <a:br>
              <a:rPr sz="5400"/>
            </a:b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PHT 434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068280"/>
            <a:ext cx="64008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Garamond"/>
              </a:rPr>
              <a:t>Sterile Area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Buildings and Facilities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Clean Area Separation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- Positive pressure differential between rooms of different class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- Use of a double-door, airlocks or integrated sterilizer helps ensure direct product flow, often from a lower to a higher classified are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24AA0-4966-4429-A80B-B4231903864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Buildings and Facilities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ir Filtra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672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lass A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HEPA-filtered air should be supplied a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velocity sufficient to sweep particles away from the filling/closing area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maintain unidirectional airflow during opera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211640" y="1413000"/>
            <a:ext cx="4932360" cy="544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3D01E-01C1-4EB5-9B34-512CB26B27F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uildings and Facilities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ir Filtr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6756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lass A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mbrane filters can be used to filter a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mpressed ga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to meet an appropriate high-quality standard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se filters are often used to produce a sterile compressed gas to conduct operations involving sterile materials, such as components and equipmen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EA48A-BE3D-494D-9204-7B10978B773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uildings and Facilities</a:t>
            </a:r>
            <a:br>
              <a:rPr sz="4400"/>
            </a:b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Design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6756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eptic processes are designed to minimize exposure of sterile articles to the potential contamination hazards of the manufacturing opera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oth personnel and material flow should be optimized to prevent unnecessary activities that could increase the potential for introducing contaminants to exposed product, container-closures, or the surrounding environment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4FD30-822A-43D2-A48A-7055EA494A7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uildings and Facilities</a:t>
            </a:r>
            <a:br>
              <a:rPr sz="4400"/>
            </a:b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Changing room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6756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anging rooms leading into class A and B environment should be designed as airlock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re should be physical separation of the different stages of changing to minimize microbial and particulate contamination of clean room cloth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anging rooms for all classes should be flushed effectively with filtered air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0A0DF-35B7-45CA-A042-C2D91C463B9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uildings and Facilities</a:t>
            </a:r>
            <a:br>
              <a:rPr sz="4400"/>
            </a:b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Changing room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6756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final stage of the changing room should be the same grade as the area into which it lead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use of separate changing rooms for entering and leaving clean areas is sometimes desirabl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general, hand washing facilities should be provided only in the first stage of the changing room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C3A26-AC78-40DE-97D1-1CEE995699C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quipm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hould be appropriately designed to facilitate ease of sterilizatio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hould not obstruct airflow and, in critical areas, its design should not disturb unidirectional airflow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1328D-0629-4578-8B98-079BED6ABEF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ersonnel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56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GMP train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owning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316520" indent="-43884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teriliz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316520" indent="-43884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on- shedd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316520" indent="-43884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ver skin and hair (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ace-masks, hoods, beard/moustache covers, protective goggles, and elastic gloves are examples of common elements of gown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eep the entire body out of the path of unidirectional airflow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183F0-4EB6-4BE4-83F3-FD3DD82D955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ersonnel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8920" y="1700280"/>
            <a:ext cx="3961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Keep the entire body out of the path of unidirectional airflow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umber of personnel per are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211640" y="1413000"/>
            <a:ext cx="4932360" cy="544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BE7F6-CFE3-479F-96AF-73FB6C9546E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onents, containers, closur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t is important to characterize the microbial content (e.g., bioburden, endotoxin) of each component that could be contaminated and establish appropriate acceptance limits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-sterilization preparation of glass containers usually involves a series of wash and rinse cycles. These cycles serve an important role in removing foreign matter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y should be subjected to sterilization and depyrogenation process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3547D-CEC6-4DEE-BF96-0953AFD7E38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finitions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terilization: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fers to any process that effectively kills or eliminates living microorganisms. It is not absolute. It is acceptable when it achieves killing effect of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-6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.e. every 1 million sterile items have a chance for only 1 item to be non-sterile.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lean room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 has a controlled level of contamination that is specified by the number of particles per cubic meter at a specified particle siz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aminar flow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n airflow moving in a single direction and in parallel layers at constant velocity from the beginning to the end of a straight line vector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1F9F4-DB0B-4AE5-BF22-757CE650AD36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New featur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low/fill/seal technolog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low/fill/seal units are purpose built machines in which, in one continuous operation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ntainers are formed from a thermoplastic granulate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illed with the sterile formul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nd then sealed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ll by the one automatic machin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DD510-7868-405C-9878-37BD6203B39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finitions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HEPA filters: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igh Efficiency Particulate Air: remove at leas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99.97%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of airborne particle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0.3 µm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n diameter.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ULPA filter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 Ultra Low Particulate Air: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move at leas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99.999%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of airborne particle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0.12 µm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n diameter.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irlock: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small room with interlocked doors, constructed to maintain air pressure control between adjoining rooms (generally with different air cleanliness standards).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CACC1-346C-4B16-9A30-5FFCF1608D0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finitions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Bioburden: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total number of microorganisms associated with a specific item prior to sterilizati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lony Forming Unit (CFU)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 microbiological term that describes the formation of a single macroscopic colony after the introduction of one or more microorganisms to microbiological growth media.  One colony forming unit is expressed as 1 CFU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ndotoxin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 pyrogenic product (e.g., lipopolysaccharide) present in the bacterial cell wall.  Endotoxin can lead to reactions in patients receiving injections ranging from fever to death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4731F-F0C6-4D84-ADF3-4E92C166949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ethods of sterilization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erminal steriliz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product, container, and closure have low bioburden, but they are not sterile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product in its final container is then subjected to a sterilization process such as heat or irradiation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septic condi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drug product, container, and closure are first subjected to sterilization methods separately, as appropriate, and then brought togethe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E80EB-6FD5-44B5-9CA4-A6D6DF1AD3C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Buildings and Facilities</a:t>
            </a:r>
            <a:br>
              <a:rPr sz="4000"/>
            </a:b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Clean rooms classification system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ree classification system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- US Federal Standard 209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easuring unit: max particles/ft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lass 100, 1000, 10000, 10000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lass 100 means: not more than 100 particles of siz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≥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0.5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 present in one ft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aramond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-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ISO 14644-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easuring unit: max particles/m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lass ISO 5, ISO 6, ISO 7, ISO8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lass ISO 5 means: not more than 3500 particles of siz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≥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0.5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 present in one m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-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European GMP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easuring unit: max particles/m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lass A, B, C, 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lass A means: not more than 3500 particles of siz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≥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0.5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 present in one m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A71C1-C1B7-4612-9E18-A42CE5EC3B6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Buildings and Facilities</a:t>
            </a:r>
            <a:br>
              <a:rPr sz="4000"/>
            </a:b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Clean rooms classification system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3 classification system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 100 = ISO 5 = Class 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 1000 = ISO 6 = Class B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 10,000 = ISO 7 = Class 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 100,000 = ISO 8 = Class 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 100 = ISO 5 = Class A: contain less than 1 CFU/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CFU/ft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DC4DD-43F3-4C27-829A-794473B4208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Buildings and Facilities</a:t>
            </a: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 </a:t>
            </a:r>
            <a:br>
              <a:rPr sz="36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Critical Area (class 100) (ISO 5) (Class A)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381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peration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- Sterile ingredients addi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2- fill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3- closu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851280" y="1413000"/>
            <a:ext cx="5292720" cy="544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6052C-7833-45CC-BA81-08276A6CFF6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Buildings and Facilities</a:t>
            </a:r>
            <a:r>
              <a:rPr b="0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e5e5ff"/>
                </a:solidFill>
                <a:latin typeface="Garamond"/>
              </a:rPr>
              <a:t>Supporting Clean Area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unction as zones in which non-sterile components, formulated products, in-process materials, equipment, and container/closures are prepared, held, or transferred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DA recommends that the area immediately adjacent to the aseptic processing line meet, at a minimum, Class 10,000 (ISO 7) standards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n area classified at a Class 100,000 (ISO 8)  is appropriate for less critical activities (e.g., equipment cleaning).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67A7D-22BA-414F-9EA6-8769425AA5B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6T21:59:31Z</dcterms:created>
  <dc:creator>usama</dc:creator>
  <dc:description/>
  <dc:language>en-US</dc:language>
  <cp:lastModifiedBy>User</cp:lastModifiedBy>
  <dcterms:modified xsi:type="dcterms:W3CDTF">2010-10-05T09:39:37Z</dcterms:modified>
  <cp:revision>10</cp:revision>
  <dc:subject/>
  <dc:title>Sterile Products Lab PHC 434</dc:title>
</cp:coreProperties>
</file>