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2460E-3C69-4325-B3AF-B814F716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1C279-C6BA-4BC5-BBF6-8FCAD880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70885-9740-4566-991B-CDD41394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EDED-3EF3-4EBE-AB74-DF91A4A4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0C46-5A5E-4E09-97E7-7F677095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0B86-DC14-4497-A092-783DDCBC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412D-56D8-4A42-9DB6-C2F400BE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90CD-0D8B-40ED-8984-364CFFE7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3A5C-68F4-4C47-BFA0-69CC7B65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5984-655B-4AA9-865A-4CD52806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8D01-0DB4-44F4-AA02-CBA49A4E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C64DD-30CC-457E-BF48-1FAF23D6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F67E-ED5B-4AAB-915C-95EACDC3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6B2D-3090-466A-8916-F4FA6D2B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0864-A6F6-4406-8BFD-7AE0BD15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2123-CFD6-40A3-8E86-35EADE12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60E1-EEA1-4941-B61B-915858FB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CDFE9-1C05-4A74-BEDC-AFF93337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B77BE-4AAC-45EF-ACE0-393A9224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1A4BD-25C3-402A-A5FB-20F2302B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29A7C-0E60-450B-872F-53A29983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4B7B7-EDB5-4F88-B004-799057A8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105C1-AE31-4D14-8DEC-B2B11BAE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BF09D-16FC-4064-898B-22A81212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1249-6926-4248-B9FA-C22D43D6A66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489E-328C-4B4C-9EC6-48EFC07C04E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terile Products Lab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PHT 434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64008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Sterile Area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lean Area Separ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- Positive pressure differential between rooms of different cla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 Use of a double-door, airlocks or integrated sterilizer helps ensure direct product flow, often from a lower to a higher classified are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B9A3-C06C-46FA-8EAF-7F9FD02523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67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PA-filtered air should be supplied 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velocity sufficient to sweep particles away from the filling/closing are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intain unidirectional airflow during oper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1C1C6-A335-4E61-9FFB-E226A74E8D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mbrane filters can be used to filter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pressed ga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 meet an appropriate high-quality standar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filters are often used to produce a sterile compressed gas to conduct operations involving sterile materials, such as components and equipmen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42119-36AB-4460-8B44-853445A5D5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Desig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eptic processes are designed to minimize exposure of sterile articles to the potential contamination hazards of the manufacturing oper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th personnel and material flow should be optimized to prevent unnecessary activities that could increase the potential for introducing contaminants to exposed product, container-closures, or the surrounding environmen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3B99-376D-4DE7-AE62-EAA5B0337F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leading into class A and B environment should be designed as airloc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should be physical separation of the different stages of changing to minimize microbial and particulate contamination of clean room cloth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for all classes should be flushed effectively with filtered ai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36117-90A9-4B4A-9A77-6BA9D978FF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inal stage of the changing room should be the same grade as the area into which it lea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use of separate changing rooms for entering and leaving clean areas is sometimes desirabl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general, hand washing facilities should be provided only in the first stage of the changing roo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88947-00A5-413A-8A98-588529990D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quip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be appropriately designed to facilitate ease of steriliz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not obstruct airflow and, in critical areas, its design should not disturb unidirectional airflo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C9A0D-A10E-49FF-B0CE-5ADADE7CC9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GMP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wning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eriliz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n- shed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ver skin and hair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ce-masks, hoods, beard/moustache covers, protective goggles, and elastic gloves are examples of common elements of gow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CB698-23A1-4165-B1E3-AC98E844B8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39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mber of personnel per a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E921D-11D6-4F27-852C-F48994578F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onents, containers, clo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important to characterize the microbial content (e.g., bioburden, endotoxin) of each component that could be contaminated and establish appropriate acceptance limits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sterilization preparation of glass containers usually involves a series of wash and rinse cycles. These cycles serve an important role in removing foreign matter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should be subjected to sterilization and depyrogenation proce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B6B48-3094-4A95-9F50-4E76BC57BF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erilizatio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s to any process that effectively kills or eliminates living microorganisms. It is not absolute. It is acceptable when it achieves killing effect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.e. every 1 million sterile items have a chance for only 1 item to be non-sterile.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ean roo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has a controlled level of contamination that is specified by the number of particles per cubic meter at a specified particle siz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aminar flow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 airflow moving in a single direction and in parallel layers at constant velocity from the beginning to the end of a straight line vector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490A5-7C73-46B4-8986-C3507F4A742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w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techn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units are purpose built machines in which, in one continuous oper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tainers are formed from a thermoplastic granulate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lled with the sterile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d then seal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l by the one automatic mac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21E4-E4D4-4EE2-8F1B-AC339939F2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PA filters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 Efficiency Particulate Air: 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7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3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LPA filte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Ultra Low Particulate Air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99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12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irlock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mall room with interlocked doors, constructed to maintain air pressure control between adjoining rooms (generally with different air cleanliness standards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7B8EB-D491-4ED7-A780-15FD6C55501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ioburde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otal number of microorganisms associated with a specific item prior to steriliz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lony Forming Unit (CFU)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microbiological term that describes the formation of a single macroscopic colony after the introduction of one or more microorganisms to microbiological growth media.  One colony forming unit is expressed as 1 CF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ndotoxi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pyrogenic product (e.g., lipopolysaccharide) present in the bacterial cell wall.  Endotoxin can lead to reactions in patients receiving injections ranging from fever to dea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2A1F9-EFE5-4DCC-B15F-96F0615EA84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ods of sterilization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erminal steril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, container, and closure have low bioburden, but they are not steri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 in its final container is then subjected to a sterilization process such as heat or irradiation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septic con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rug product, container, and closure are first subjected to sterilization methods separately, as appropriate, and then brought togeth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BD4CD-713D-4A12-996C-1805CE6776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ee classification system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- US Federal Standard 209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, 1000, 10000, 100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 means: not more than 1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O 14644-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, ISO 6, ISO 7, ISO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uropean GMP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, B, C, 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933E2-2CCB-40B0-AAB4-4BC5FC45B3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3 classification syste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 = ISO 5 = Class 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0 = ISO 6 = Class 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,000 = ISO 7 = Class 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,000 = ISO 8 = Class 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100 = ISO 5 = Class A: contain less than 1 CFU/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FU/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0844F-1B9D-4874-9D1D-7279431EF1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ritical Area (class 100) (ISO 5) (Class A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pera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- Sterile ingredients add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- fil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- clos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51280" y="1413000"/>
            <a:ext cx="529272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DCAE5-2C84-4748-8923-F2AB27AC05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Supporting Clean Area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unction as zones in which non-sterile components, formulated products, in-process materials, equipment, and container/closures are prepared, held, or transferred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DA recommends that the area immediately adjacent to the aseptic processing line meet, at a minimum, Class 10,000 (ISO 7) standards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 area classified at a Class 100,000 (ISO 8)  is appropriate for less critical activities (e.g., equipment cleaning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CA942-D34F-485F-B884-26E2612F2A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21:59:31Z</dcterms:created>
  <dc:creator>usama</dc:creator>
  <dc:description/>
  <dc:language>en-US</dc:language>
  <cp:lastModifiedBy>User</cp:lastModifiedBy>
  <dcterms:modified xsi:type="dcterms:W3CDTF">2010-10-05T09:39:37Z</dcterms:modified>
  <cp:revision>10</cp:revision>
  <dc:subject/>
  <dc:title>Sterile Products Lab PHC 434</dc:title>
</cp:coreProperties>
</file>