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6E2A-DBC4-44F1-8F54-63423EA5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ECE3B-15DD-4A1A-B22B-C282B51C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0AEC9-6EF3-4D41-A2DB-705DE5C6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45A4-DFD3-4BBA-8F62-53EAA56A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3B5B7-FFCD-474C-924C-CB5A892E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94B8-B195-444B-BBF8-EA43F0C1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12AD-69C3-4CDC-AEB8-4140E1AD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0223-413E-432D-B3F6-849E50B5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BF0A-67A8-4E57-ADD1-9527BA47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4BEE-DBB6-4308-B46D-52ED50F6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CF2D-A01C-47CD-ADCC-FAF8CFE2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603F-154A-4C19-B4BD-E9D75175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52C9-889B-4BD0-92C8-C80807C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FAAA-E5F7-4285-967D-E45595B7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3E6A-468D-40A1-ADD1-895E82B7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3582-A012-42C4-A574-60BCD8AFF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B81D-705D-43E3-A356-7A5BA3C1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20B4E-5B1C-497B-899C-73C61696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6E5D-5A96-450A-AE2C-0C50197F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BA4CC-3471-4FB4-889F-1B90A430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2FF9-FF45-47E9-A0A2-602FA96A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15C5-06A5-431A-A7B8-924FA028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F779D-F395-4539-9552-EA65F137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DD70-2DDC-4635-9E47-7C1EC219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8064-D801-4F9B-85E7-19DAA2E31C6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81A9-FF35-43EB-9028-20AB6FB7E07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Sterile Products Lab</a:t>
            </a:r>
            <a:br>
              <a:rPr sz="5400"/>
            </a:b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PHT 434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4008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Sterile Area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lean Area Separ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- Positive pressure differential between rooms of different cla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 Use of a double-door, airlocks or integrated sterilizer helps ensure direct product flow, often from a lower to a higher classified are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9810A-7578-441C-9870-C4FE170108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0672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-filtered air should be supplied a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velocity sufficient to sweep particles away from the filling/closing are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aintain unidirectional airflow during operation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5CA9E-CA3B-4500-B592-7EE6ADDF03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ir Filt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lass 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mbrane filters can be used to filter a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ressed ga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to meet an appropriate high-quality standar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se filters are often used to produce a sterile compressed gas to conduct operations involving sterile materials, such as components and equipmen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0EC3-6A21-4764-A077-120CDD0CF2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Desig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septic processes are designed to minimize exposure of sterile articles to the potential contamination hazards of the manufacturing ope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th personnel and material flow should be optimized to prevent unnecessary activities that could increase the potential for introducing contaminants to exposed product, container-closures, or the surrounding environment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788A0-C686-434E-B7BA-E247AE0119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leading into class A and B environment should be designed as airlock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re should be physical separation of the different stages of changing to minimize microbial and particulate contamination of clean room cloth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anging rooms for all classes should be flushed effectively with filtered air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E025-8A63-41BB-8920-3CC6302B50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hanging room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67564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final stage of the changing room should be the same grade as the area into which it lead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use of separate changing rooms for entering and leaving clean areas is sometimes desirabl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general, hand washing facilities should be provided only in the first stage of the changing roo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DD0D5-E90A-472D-BA75-6C9B189238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quip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be appropriately designed to facilitate ease of sterilizatio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hould not obstruct airflow and, in critical areas, its design should not disturb unidirectional airflow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F1FF-53EA-4974-B785-413D60D9A2D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GMP train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owning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teriliz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n- sheddi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316520" indent="-43884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over skin and hair (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ace-masks, hoods, beard/moustache covers, protective goggles, and elastic gloves are examples of common elements of gowns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9237-42EC-40E7-9BAA-994A6B1BA18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ersonne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39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Keep the entire body out of the path of unidirectional airflow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umber of personnel per are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211640" y="1413000"/>
            <a:ext cx="493236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6D3CA-0775-4350-A1F6-89F5FF7C2E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onents, containers, clos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important to characterize the microbial content (e.g., bioburden, endotoxin) of each component that could be contaminated and establish appropriate acceptance limits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-sterilization preparation of glass containers usually involves a series of wash and rinse cycles. These cycles serve an important role in removing foreign matter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y should be subjected to sterilization and depyrogenation process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29CF6-2C78-4122-897A-C2A55D462F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erilizatio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ers to any process that effectively kills or eliminates living microorganisms. It is not absolute. It is acceptable when it achieves killing effect of 10</a:t>
            </a:r>
            <a:r>
              <a:rPr b="0" lang="en-US" sz="2800" spc="-1" strike="noStrike" baseline="30000">
                <a:solidFill>
                  <a:srgbClr val="ffffff"/>
                </a:solidFill>
                <a:latin typeface="Garamond"/>
              </a:rPr>
              <a:t>-6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.e. every 1 million sterile items have a chance for only 1 item to be non-sterile.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ean roo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has a controlled level of contamination that is specified by the number of particles per cubic meter at a specified particle siz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aminar flow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 airflow moving in a single direction and in parallel layers at constant velocity from the beginning to the end of a straight line vector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65B2C-4EFB-4E47-85D6-78786402C9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New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technolog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low/fill/seal units are purpose built machines in which, in one continuous operation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tainers are formed from a thermoplastic granulate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lled with the sterile form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d then sealed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ll by the one automatic mach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921D-7801-4A72-82BE-A65A6A4B6E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EPA filters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gh Efficiency Particulate Air: 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7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3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LPA filte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 Ultra Low Particulate Air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move at leas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99.999%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f airborne particl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0.12 µm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 diameter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irlock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small room with interlocked doors, constructed to maintain air pressure control between adjoining rooms (generally with different air cleanliness standards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DE56A-5C20-447D-8DDD-D8C146DACF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finition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ioburden: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total number of microorganisms associated with a specific item prior to sterilizatio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lony Forming Unit (CFU)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microbiological term that describes the formation of a single macroscopic colony after the introduction of one or more microorganisms to microbiological growth media.  One colony forming unit is expressed as 1 CFU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ndotoxin: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 pyrogenic product (e.g., lipopolysaccharide) present in the bacterial cell wall.  Endotoxin can lead to reactions in patients receiving injections ranging from fever to dea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05782-5664-42EA-AE39-F255FCD638C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ethods of sterilization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rminal steriliz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, container, and closure have low bioburden, but they are not sterile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product in its final container is then subjected to a sterilization process such as heat or irradiation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septic con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e drug product, container, and closure are first subjected to sterilization methods separately, as appropriate, and then brought togeth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A3196-487A-456E-AF14-6684F07B37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ree classification system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- US Federal Standard 209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, 1000, 10000, 100000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100 means: not more than 1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ft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ISO 14644-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, ISO 6, ISO 7, ISO8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ISO 5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-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European GMP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easuring unit: max particles/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, B, C, 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lass A means: not more than 3500 particles of siz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0.5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 present in one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3F869-2EB6-477D-88DA-3ADADB78BC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br>
              <a:rPr sz="40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Clean rooms classification system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3 classification system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 = ISO 5 = Class 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0 = ISO 6 = Class B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,000 = ISO 7 = Class 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 100,000 = ISO 8 = Class 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100 = ISO 5 = Class A: contain less than 1 CFU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CFU/ft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254D-9121-456A-8C95-4CC8E6BAD9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Critical Area (class 100) (ISO 5) (Class A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pera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- Sterile ingredients addi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- fil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- clos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51280" y="1413000"/>
            <a:ext cx="5292720" cy="544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A6BF7-8A5C-4DBD-AF22-F1B26ED372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uildings and Facilities</a:t>
            </a:r>
            <a:r>
              <a:rPr b="0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r>
              <a:rPr b="0" lang="en-US" sz="3600" spc="-1" strike="noStrike">
                <a:solidFill>
                  <a:srgbClr val="e5e5ff"/>
                </a:solidFill>
                <a:latin typeface="Garamond"/>
              </a:rPr>
              <a:t>Supporting Clean Area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unction as zones in which non-sterile components, formulated products, in-process materials, equipment, and container/closures are prepared, held, or transferred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DA recommends that the area immediately adjacent to the aseptic processing line meet, at a minimum, Class 10,000 (ISO 7) standards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n area classified at a Class 100,000 (ISO 8)  is appropriate for less critical activities (e.g., equipment cleaning).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6250-C08F-400A-AA1F-4D2823B783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21:59:31Z</dcterms:created>
  <dc:creator>usama</dc:creator>
  <dc:description/>
  <dc:language>en-US</dc:language>
  <cp:lastModifiedBy>User</cp:lastModifiedBy>
  <dcterms:modified xsi:type="dcterms:W3CDTF">2010-10-05T09:39:37Z</dcterms:modified>
  <cp:revision>10</cp:revision>
  <dc:subject/>
  <dc:title>Sterile Products Lab PHC 434</dc:title>
</cp:coreProperties>
</file>