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647C2-B597-462D-8BD1-C1C1370B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46474-B066-41E7-A6DD-A342E013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7497A-5EF3-4CF2-BCD1-10342645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88CD1-E527-43EB-B301-81EDAE4F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70B8-0025-43A9-9006-6134A015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BCFB-3910-47BB-8359-52A6A63E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64AD-EA20-43E5-87ED-4D771509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A796-1FC1-454F-8C93-769725AF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84D5-EA28-4D5E-B225-1BD3AFB8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A47E-6B5A-48F3-BE9C-5F3885D0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AD25-DE04-44F1-A9CA-462AE544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4AFFF-7203-49C6-B8DC-0FB9D325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5D4F-89FF-4917-A818-CB55188F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345C-7C01-411C-AC45-7EC28ACB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C00F-CCBC-4C9D-B0C8-64B39BD6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0FBA-1EAA-45CD-92E5-76856605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4766-6A6F-425B-A11F-5178A9E0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743F9-55A9-419C-B87C-282697C9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D033F-0B8A-48C2-9E85-05E0E459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EFAA4-B226-4CE6-A6FB-EFC4F147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26F0B-43C4-4A33-9C88-A6572434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77DA9-6594-44F0-A709-225B4BAB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9F006-B050-4958-B81A-939DA027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BFB4D-21A6-4B07-A10E-838EFF05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C974-3BB9-4556-813C-210A81F4BBC8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2745-D94D-421D-8B4D-5DC2C28B376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terile Products Lab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HT 434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64008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Sterile Area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lean Area Separ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Positive pressure differential between rooms of different cla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Use of a double-door, airlocks or integrated sterilizer helps ensure direct product flow, often from a lower to a higher classified are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C307B-B412-4259-9E7D-D2734A2BD6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67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-filtered air should be supplied 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velocity sufficient to sweep particles away from the filling/closing are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intain unidirectional airflow during op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44986-1686-4947-AFE4-98B44F1609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mbrane filters can be used to filter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pressed ga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meet an appropriate high-quality standar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filters are often used to produce a sterile compressed gas to conduct operations involving sterile materials, such as components and equipme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9E82-D69D-4E84-8D4E-1C263F85B6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Desig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eptic processes are designed to minimize exposure of sterile articles to the potential contamination hazards of the manufacturing oper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th personnel and material flow should be optimized to prevent unnecessary activities that could increase the potential for introducing contaminants to exposed product, container-closures, or the surrounding environmen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D0248-88B1-411C-8B2B-AD20EC44E8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leading into class A and B environment should be designed as airl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should be physical separation of the different stages of changing to minimize microbial and particulate contamination of clean room clot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for all classes should be flushed effectively with filtered ai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BA751-BD32-435B-B3D6-C002BEDDDE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inal stage of the changing room should be the same grade as the area into which it lea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use of separate changing rooms for entering and leaving clean areas is sometimes desirab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general, hand washing facilities should be provided only in the first stage of the changing roo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0F20B-BF44-4AC8-BA3F-4E16238EED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quip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be appropriately designed to facilitate ease of steriliz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not obstruct airflow and, in critical areas, its design should not disturb unidirectional airflo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19CB1-B0EB-40C0-9E83-3D315CE138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GMP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wning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eril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n- shed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ver skin and hair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ce-masks, hoods, beard/moustache covers, protective goggles, and elastic gloves are examples of common elements of gow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D85C2-42EA-4F92-87EE-38D8620BB7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39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 of personnel per a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58F73-7E1E-4F2A-A6DD-41FE2A80D8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onents, containers, clo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important to characterize the microbial content (e.g., bioburden, endotoxin) of each component that could be contaminated and establish appropriate acceptance limits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sterilization preparation of glass containers usually involves a series of wash and rinse cycles. These cycles serve an important role in removing foreign matter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should be subjected to sterilization and depyrogenation proce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FDB11-D6BB-49C3-B494-51DE8A2340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erilizatio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s to any process that effectively kills or eliminates living microorganisms. It is not absolute. It is acceptable when it achieves killing effect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.e. every 1 million sterile items have a chance for only 1 item to be non-sterile.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ean roo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has a controlled level of contamination that is specified by the number of particles per cubic meter at a specified particle siz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aminar flow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 airflow moving in a single direction and in parallel layers at constant velocity from the beginning to the end of a straight line vector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5A72-0854-411A-AFA3-4A086F054D1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w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techn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units are purpose built machines in which, in one continuous oper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tainers are formed from a thermoplastic granulate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lled with the sterile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d then seal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 by the one automatic mac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DAE15-3D3F-4E02-995A-53547CFC4A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 filters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Efficiency Particulate Air: 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7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3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LPA filte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Ultra Low Particulate Air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99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12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irlock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mall room with interlocked doors, constructed to maintain air pressure control between adjoining rooms (generally with different air cleanliness standards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D13A8-B6BC-457D-94D5-FD504D65AFD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ioburde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otal number of microorganisms associated with a specific item prior to steriliz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lony Forming Unit (CFU)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microbiological term that describes the formation of a single macroscopic colony after the introduction of one or more microorganisms to microbiological growth media.  One colony forming unit is expressed as 1 CF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ndotoxi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pyrogenic product (e.g., lipopolysaccharide) present in the bacterial cell wall.  Endotoxin can lead to reactions in patients receiving injections ranging from fever to dea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70C9-D862-4D9C-94B0-256C0D29FEF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ods of sterilization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erminal steril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, container, and closure have low bioburden, but they are not steri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 in its final container is then subjected to a sterilization process such as heat or irradiatio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eptic con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rug product, container, and closure are first subjected to sterilization methods separately, as appropriate, and then brought toget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5EDF1-907D-48C6-BCEB-BFAB3F60E5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ee classification system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- US Federal Standard 209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, 1000, 10000, 100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 means: not more than 1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O 14644-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, ISO 6, ISO 7, ISO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uropean GMP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, B, C, 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B8A5C-883B-4187-89FC-185A9E44BF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3 classification syste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 = ISO 5 = Class 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0 = ISO 6 = Class 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,000 = ISO 7 = Class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,000 = ISO 8 = Class 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100 = ISO 5 = Class A: contain less than 1 CFU/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FU/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30706-7B6E-4896-9D4A-C8DF50D831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ritical Area (class 100) (ISO 5) (Class A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pera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- Sterile ingredients add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- fil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- clos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529272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B37E3-681A-46BD-9F3D-B4939FFADA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Supporting Clean Area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nction as zones in which non-sterile components, formulated products, in-process materials, equipment, and container/closures are prepared, held, or transferred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DA recommends that the area immediately adjacent to the aseptic processing line meet, at a minimum, Class 10,000 (ISO 7) standards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 area classified at a Class 100,000 (ISO 8)  is appropriate for less critical activities (e.g., equipment cleaning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EA796-1358-49BD-89EE-00D8ADAFFB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21:59:31Z</dcterms:created>
  <dc:creator>usama</dc:creator>
  <dc:description/>
  <dc:language>en-US</dc:language>
  <cp:lastModifiedBy>User</cp:lastModifiedBy>
  <dcterms:modified xsi:type="dcterms:W3CDTF">2010-10-05T09:39:37Z</dcterms:modified>
  <cp:revision>10</cp:revision>
  <dc:subject/>
  <dc:title>Sterile Products Lab PHC 434</dc:title>
</cp:coreProperties>
</file>