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bomb.wav" ContentType="audio/x-wav"/>
  <Override PartName="/ppt/media/whoosh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4C7-8C1D-42E3-B894-2BACFF8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74F-53EC-4869-B7D4-806DA1D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947-3B9A-480C-B6F2-A404F77C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8BB-C730-495C-A767-08BF8E36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618-0820-461F-9C92-37070FE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D9C-259C-4E32-A6E9-68E13CA8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560-E0A9-41CD-B0D6-748CD03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F9F-8038-4A8B-ABCC-E9A685D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F96-967F-478B-BE98-39B64D45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FF9-C83D-4688-A351-5AEFA2B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F1B-0E99-45E0-827E-E05D301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E91-B37A-40BE-9EBF-9817888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156B-9ED7-4302-B72A-7078F5789B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85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Combination of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med through chemical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combine by chemical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o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form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val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Ioni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onds are the strongest kind of chemical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Hydrogen bon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e weakest bo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936440" y="7632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28600" y="1147680"/>
            <a:ext cx="87631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liquid that is a completely homogeneous mixture of two or more substances is called 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ugar cube in a glass of water will eventually dissolve to form a uniform mixture of sugar and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ssolving agent i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ubstance that is dissolved is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ur example, water is the solvent and sugar the sol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a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ater is the solv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ter is not a universal solvent, but it is very versatile because of the polarity of water molec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ubstance that has an affinity for water i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1711440"/>
            <a:ext cx="84582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ubstances are dominated by ionic or polar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rm includes substances that do not dissolve because their molecules are too large and too tightly hel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cotton is hydrophilic because it has numerous polar covalent bonds in cellulose, its major constitu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s that have no affinity for water ar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ydrophobic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3520" y="1800360"/>
            <a:ext cx="845820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ubstances are dominated by non-ionic and nonpolar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s, such as vegetable oil, are hydrophobic because the dominant bonds, carbon-carbon and carbon-hydrogen, exhibit equal or near equal sharing of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phobic molecules are major ingredients of cell membr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80880" y="152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Organisms are sensitive to changes in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8600" y="1676520"/>
            <a:ext cx="868680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hydrochloric acid is added to water, hydrogen ions dissociate from chloride 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-&gt;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base</a:t>
            </a: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4876920" y="152280"/>
            <a:ext cx="3900240" cy="6019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228600" y="1049400"/>
            <a:ext cx="45720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centrations are typically expressed via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ca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H scale, ranging from 1 to 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457200" y="22860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Buff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processes in the cell can be disrupted by changes to the H+ and OH- concentrations away from their normal values near pH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intain cellular pH values at a constant level, biological fluids have buff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ist changes to the pH of a solution when H+ or OH- is added to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s accept hydrogen ions from the solution when they are in excess and donate hydrogen ions when they have been deple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- Covalent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514600" y="838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- Double Covalent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20"/>
          <p:cNvGrpSpPr/>
          <p:nvPr/>
        </p:nvGrpSpPr>
        <p:grpSpPr>
          <a:xfrm>
            <a:off x="990720" y="1701720"/>
            <a:ext cx="1778040" cy="1650960"/>
            <a:chOff x="990720" y="1701720"/>
            <a:chExt cx="1778040" cy="1650960"/>
          </a:xfrm>
        </p:grpSpPr>
        <p:sp>
          <p:nvSpPr>
            <p:cNvPr id="45" name="Oval 8"/>
            <p:cNvSpPr/>
            <p:nvPr/>
          </p:nvSpPr>
          <p:spPr>
            <a:xfrm>
              <a:off x="1016280" y="1727280"/>
              <a:ext cx="167652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9"/>
            <p:cNvSpPr/>
            <p:nvPr/>
          </p:nvSpPr>
          <p:spPr>
            <a:xfrm>
              <a:off x="1244880" y="196848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10"/>
            <p:cNvSpPr/>
            <p:nvPr/>
          </p:nvSpPr>
          <p:spPr>
            <a:xfrm>
              <a:off x="1587600" y="228600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1"/>
            <p:cNvSpPr/>
            <p:nvPr/>
          </p:nvSpPr>
          <p:spPr>
            <a:xfrm>
              <a:off x="1384560" y="2019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12"/>
            <p:cNvSpPr/>
            <p:nvPr/>
          </p:nvSpPr>
          <p:spPr>
            <a:xfrm>
              <a:off x="990720" y="27687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3"/>
            <p:cNvSpPr/>
            <p:nvPr/>
          </p:nvSpPr>
          <p:spPr>
            <a:xfrm>
              <a:off x="1524240" y="170172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4"/>
            <p:cNvSpPr/>
            <p:nvPr/>
          </p:nvSpPr>
          <p:spPr>
            <a:xfrm>
              <a:off x="2375280" y="1917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5"/>
            <p:cNvSpPr/>
            <p:nvPr/>
          </p:nvSpPr>
          <p:spPr>
            <a:xfrm>
              <a:off x="1981440" y="193032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6"/>
            <p:cNvSpPr/>
            <p:nvPr/>
          </p:nvSpPr>
          <p:spPr>
            <a:xfrm>
              <a:off x="1524240" y="3200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7"/>
            <p:cNvSpPr/>
            <p:nvPr/>
          </p:nvSpPr>
          <p:spPr>
            <a:xfrm>
              <a:off x="2375280" y="3009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8"/>
            <p:cNvSpPr/>
            <p:nvPr/>
          </p:nvSpPr>
          <p:spPr>
            <a:xfrm>
              <a:off x="2616480" y="2463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21"/>
          <p:cNvGrpSpPr/>
          <p:nvPr/>
        </p:nvGrpSpPr>
        <p:grpSpPr>
          <a:xfrm>
            <a:off x="6375240" y="1752480"/>
            <a:ext cx="1778040" cy="1650960"/>
            <a:chOff x="6375240" y="1752480"/>
            <a:chExt cx="1778040" cy="1650960"/>
          </a:xfrm>
        </p:grpSpPr>
        <p:sp>
          <p:nvSpPr>
            <p:cNvPr id="57" name="Oval 22"/>
            <p:cNvSpPr/>
            <p:nvPr/>
          </p:nvSpPr>
          <p:spPr>
            <a:xfrm>
              <a:off x="6400800" y="1778040"/>
              <a:ext cx="167652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3"/>
            <p:cNvSpPr/>
            <p:nvPr/>
          </p:nvSpPr>
          <p:spPr>
            <a:xfrm>
              <a:off x="6629400" y="201924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6972120" y="233676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6769080" y="20700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6375240" y="28195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7"/>
            <p:cNvSpPr/>
            <p:nvPr/>
          </p:nvSpPr>
          <p:spPr>
            <a:xfrm>
              <a:off x="6908760" y="1752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8"/>
            <p:cNvSpPr/>
            <p:nvPr/>
          </p:nvSpPr>
          <p:spPr>
            <a:xfrm>
              <a:off x="7759800" y="19684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29"/>
            <p:cNvSpPr/>
            <p:nvPr/>
          </p:nvSpPr>
          <p:spPr>
            <a:xfrm>
              <a:off x="7365960" y="1981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6908760" y="3251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31"/>
            <p:cNvSpPr/>
            <p:nvPr/>
          </p:nvSpPr>
          <p:spPr>
            <a:xfrm>
              <a:off x="7759800" y="3060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32"/>
            <p:cNvSpPr/>
            <p:nvPr/>
          </p:nvSpPr>
          <p:spPr>
            <a:xfrm>
              <a:off x="8001000" y="25146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71"/>
          <p:cNvGrpSpPr/>
          <p:nvPr/>
        </p:nvGrpSpPr>
        <p:grpSpPr>
          <a:xfrm>
            <a:off x="2895480" y="1676520"/>
            <a:ext cx="3047760" cy="1726920"/>
            <a:chOff x="2895480" y="1676520"/>
            <a:chExt cx="3047760" cy="1726920"/>
          </a:xfrm>
        </p:grpSpPr>
        <p:grpSp>
          <p:nvGrpSpPr>
            <p:cNvPr id="69" name="Group 70"/>
            <p:cNvGrpSpPr/>
            <p:nvPr/>
          </p:nvGrpSpPr>
          <p:grpSpPr>
            <a:xfrm>
              <a:off x="2895480" y="1676520"/>
              <a:ext cx="1701720" cy="1625040"/>
              <a:chOff x="2895480" y="1676520"/>
              <a:chExt cx="1701720" cy="1625040"/>
            </a:xfrm>
          </p:grpSpPr>
          <p:sp>
            <p:nvSpPr>
              <p:cNvPr id="70" name="Oval 34"/>
              <p:cNvSpPr/>
              <p:nvPr/>
            </p:nvSpPr>
            <p:spPr>
              <a:xfrm>
                <a:off x="2921040" y="1701720"/>
                <a:ext cx="1676160" cy="1599840"/>
              </a:xfrm>
              <a:prstGeom prst="ellipse">
                <a:avLst/>
              </a:prstGeom>
              <a:solidFill>
                <a:srgbClr val="ff3300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35"/>
              <p:cNvSpPr/>
              <p:nvPr/>
            </p:nvSpPr>
            <p:spPr>
              <a:xfrm>
                <a:off x="3301920" y="2057040"/>
                <a:ext cx="914400" cy="8762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36"/>
              <p:cNvSpPr/>
              <p:nvPr/>
            </p:nvSpPr>
            <p:spPr>
              <a:xfrm>
                <a:off x="3492360" y="2260440"/>
                <a:ext cx="533520" cy="45684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59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80808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7"/>
              <p:cNvSpPr/>
              <p:nvPr/>
            </p:nvSpPr>
            <p:spPr>
              <a:xfrm>
                <a:off x="3429000" y="20570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8"/>
              <p:cNvSpPr/>
              <p:nvPr/>
            </p:nvSpPr>
            <p:spPr>
              <a:xfrm>
                <a:off x="2895480" y="22856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9"/>
              <p:cNvSpPr/>
              <p:nvPr/>
            </p:nvSpPr>
            <p:spPr>
              <a:xfrm>
                <a:off x="3429000" y="167652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41"/>
              <p:cNvSpPr/>
              <p:nvPr/>
            </p:nvSpPr>
            <p:spPr>
              <a:xfrm>
                <a:off x="3886200" y="201924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3200400" y="3047760"/>
                <a:ext cx="152280" cy="1519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4038480" y="3149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69"/>
            <p:cNvGrpSpPr/>
            <p:nvPr/>
          </p:nvGrpSpPr>
          <p:grpSpPr>
            <a:xfrm>
              <a:off x="4267080" y="1752480"/>
              <a:ext cx="1676160" cy="1650960"/>
              <a:chOff x="4267080" y="1752480"/>
              <a:chExt cx="1676160" cy="1650960"/>
            </a:xfrm>
          </p:grpSpPr>
          <p:sp>
            <p:nvSpPr>
              <p:cNvPr id="80" name="Oval 56"/>
              <p:cNvSpPr/>
              <p:nvPr/>
            </p:nvSpPr>
            <p:spPr>
              <a:xfrm>
                <a:off x="4267080" y="1778040"/>
                <a:ext cx="1676160" cy="1600200"/>
              </a:xfrm>
              <a:prstGeom prst="ellipse">
                <a:avLst/>
              </a:prstGeom>
              <a:solidFill>
                <a:srgbClr val="ff3300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57"/>
              <p:cNvSpPr/>
              <p:nvPr/>
            </p:nvSpPr>
            <p:spPr>
              <a:xfrm>
                <a:off x="4647960" y="2133720"/>
                <a:ext cx="914400" cy="87624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58"/>
              <p:cNvSpPr/>
              <p:nvPr/>
            </p:nvSpPr>
            <p:spPr>
              <a:xfrm>
                <a:off x="4838400" y="2336760"/>
                <a:ext cx="533520" cy="45720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59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80808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59"/>
              <p:cNvSpPr/>
              <p:nvPr/>
            </p:nvSpPr>
            <p:spPr>
              <a:xfrm>
                <a:off x="4736880" y="21337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61"/>
              <p:cNvSpPr/>
              <p:nvPr/>
            </p:nvSpPr>
            <p:spPr>
              <a:xfrm>
                <a:off x="4775040" y="1752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62"/>
              <p:cNvSpPr/>
              <p:nvPr/>
            </p:nvSpPr>
            <p:spPr>
              <a:xfrm>
                <a:off x="5689440" y="2057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63"/>
              <p:cNvSpPr/>
              <p:nvPr/>
            </p:nvSpPr>
            <p:spPr>
              <a:xfrm>
                <a:off x="5232240" y="20829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64"/>
              <p:cNvSpPr/>
              <p:nvPr/>
            </p:nvSpPr>
            <p:spPr>
              <a:xfrm>
                <a:off x="4775040" y="3251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65"/>
              <p:cNvSpPr/>
              <p:nvPr/>
            </p:nvSpPr>
            <p:spPr>
              <a:xfrm>
                <a:off x="5625720" y="306072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28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Oval 60"/>
            <p:cNvSpPr/>
            <p:nvPr/>
          </p:nvSpPr>
          <p:spPr>
            <a:xfrm>
              <a:off x="4330440" y="289548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66"/>
            <p:cNvSpPr/>
            <p:nvPr/>
          </p:nvSpPr>
          <p:spPr>
            <a:xfrm>
              <a:off x="4330440" y="27306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40"/>
            <p:cNvSpPr/>
            <p:nvPr/>
          </p:nvSpPr>
          <p:spPr>
            <a:xfrm>
              <a:off x="4381560" y="2044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44"/>
            <p:cNvSpPr/>
            <p:nvPr/>
          </p:nvSpPr>
          <p:spPr>
            <a:xfrm>
              <a:off x="4381560" y="22096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77"/>
          <p:cNvGrpSpPr/>
          <p:nvPr/>
        </p:nvGrpSpPr>
        <p:grpSpPr>
          <a:xfrm>
            <a:off x="7162920" y="2209680"/>
            <a:ext cx="1828800" cy="703440"/>
            <a:chOff x="7162920" y="2209680"/>
            <a:chExt cx="1828800" cy="703440"/>
          </a:xfrm>
        </p:grpSpPr>
        <p:sp>
          <p:nvSpPr>
            <p:cNvPr id="94" name="Text Box 72"/>
            <p:cNvSpPr/>
            <p:nvPr/>
          </p:nvSpPr>
          <p:spPr>
            <a:xfrm>
              <a:off x="7162920" y="22096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Tahoma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3"/>
            <p:cNvSpPr/>
            <p:nvPr/>
          </p:nvSpPr>
          <p:spPr>
            <a:xfrm>
              <a:off x="8305920" y="22096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Tahoma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76"/>
            <p:cNvGrpSpPr/>
            <p:nvPr/>
          </p:nvGrpSpPr>
          <p:grpSpPr>
            <a:xfrm>
              <a:off x="7696440" y="2514600"/>
              <a:ext cx="685800" cy="152280"/>
              <a:chOff x="7696440" y="2514600"/>
              <a:chExt cx="685800" cy="152280"/>
            </a:xfrm>
          </p:grpSpPr>
          <p:sp>
            <p:nvSpPr>
              <p:cNvPr id="97" name="Line 74"/>
              <p:cNvSpPr/>
              <p:nvPr/>
            </p:nvSpPr>
            <p:spPr>
              <a:xfrm>
                <a:off x="7696440" y="2514600"/>
                <a:ext cx="68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75"/>
              <p:cNvSpPr/>
              <p:nvPr/>
            </p:nvSpPr>
            <p:spPr>
              <a:xfrm>
                <a:off x="7696440" y="2666880"/>
                <a:ext cx="68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Group 104"/>
          <p:cNvGrpSpPr/>
          <p:nvPr/>
        </p:nvGrpSpPr>
        <p:grpSpPr>
          <a:xfrm>
            <a:off x="1104840" y="4038480"/>
            <a:ext cx="1739880" cy="1650960"/>
            <a:chOff x="1104840" y="4038480"/>
            <a:chExt cx="1739880" cy="1650960"/>
          </a:xfrm>
        </p:grpSpPr>
        <p:sp>
          <p:nvSpPr>
            <p:cNvPr id="100" name="Oval 79"/>
            <p:cNvSpPr/>
            <p:nvPr/>
          </p:nvSpPr>
          <p:spPr>
            <a:xfrm>
              <a:off x="1168560" y="4089240"/>
              <a:ext cx="1676160" cy="1600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80"/>
            <p:cNvSpPr/>
            <p:nvPr/>
          </p:nvSpPr>
          <p:spPr>
            <a:xfrm>
              <a:off x="1397160" y="4330800"/>
              <a:ext cx="121896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81"/>
            <p:cNvSpPr/>
            <p:nvPr/>
          </p:nvSpPr>
          <p:spPr>
            <a:xfrm>
              <a:off x="1739880" y="46483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82"/>
            <p:cNvSpPr/>
            <p:nvPr/>
          </p:nvSpPr>
          <p:spPr>
            <a:xfrm>
              <a:off x="1536840" y="43815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83"/>
            <p:cNvSpPr/>
            <p:nvPr/>
          </p:nvSpPr>
          <p:spPr>
            <a:xfrm>
              <a:off x="1104840" y="486396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84"/>
            <p:cNvSpPr/>
            <p:nvPr/>
          </p:nvSpPr>
          <p:spPr>
            <a:xfrm>
              <a:off x="1371600" y="4267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85"/>
            <p:cNvSpPr/>
            <p:nvPr/>
          </p:nvSpPr>
          <p:spPr>
            <a:xfrm>
              <a:off x="2057400" y="4038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86"/>
            <p:cNvSpPr/>
            <p:nvPr/>
          </p:nvSpPr>
          <p:spPr>
            <a:xfrm>
              <a:off x="2133720" y="42926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87"/>
            <p:cNvSpPr/>
            <p:nvPr/>
          </p:nvSpPr>
          <p:spPr>
            <a:xfrm>
              <a:off x="1447920" y="5486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3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03"/>
          <p:cNvGrpSpPr/>
          <p:nvPr/>
        </p:nvGrpSpPr>
        <p:grpSpPr>
          <a:xfrm>
            <a:off x="4800600" y="4038480"/>
            <a:ext cx="1218960" cy="1143000"/>
            <a:chOff x="4800600" y="4038480"/>
            <a:chExt cx="1218960" cy="1143000"/>
          </a:xfrm>
        </p:grpSpPr>
        <p:sp>
          <p:nvSpPr>
            <p:cNvPr id="110" name="Oval 90"/>
            <p:cNvSpPr/>
            <p:nvPr/>
          </p:nvSpPr>
          <p:spPr>
            <a:xfrm>
              <a:off x="4800600" y="4038480"/>
              <a:ext cx="1218960" cy="1143000"/>
            </a:xfrm>
            <a:prstGeom prst="ellipse">
              <a:avLst/>
            </a:prstGeom>
            <a:solidFill>
              <a:srgbClr val="ff0066">
                <a:alpha val="51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92"/>
            <p:cNvSpPr/>
            <p:nvPr/>
          </p:nvSpPr>
          <p:spPr>
            <a:xfrm>
              <a:off x="4952880" y="49150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91"/>
            <p:cNvSpPr/>
            <p:nvPr/>
          </p:nvSpPr>
          <p:spPr>
            <a:xfrm>
              <a:off x="5181480" y="4495680"/>
              <a:ext cx="380880" cy="3049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2"/>
          <p:cNvGrpSpPr/>
          <p:nvPr/>
        </p:nvGrpSpPr>
        <p:grpSpPr>
          <a:xfrm>
            <a:off x="4800600" y="5410080"/>
            <a:ext cx="1218960" cy="1143000"/>
            <a:chOff x="4800600" y="5410080"/>
            <a:chExt cx="1218960" cy="1143000"/>
          </a:xfrm>
        </p:grpSpPr>
        <p:grpSp>
          <p:nvGrpSpPr>
            <p:cNvPr id="114" name="Group 101"/>
            <p:cNvGrpSpPr/>
            <p:nvPr/>
          </p:nvGrpSpPr>
          <p:grpSpPr>
            <a:xfrm>
              <a:off x="4800600" y="5410080"/>
              <a:ext cx="1218960" cy="1143000"/>
              <a:chOff x="4800600" y="5410080"/>
              <a:chExt cx="1218960" cy="1143000"/>
            </a:xfrm>
          </p:grpSpPr>
          <p:sp>
            <p:nvSpPr>
              <p:cNvPr id="115" name="Oval 97"/>
              <p:cNvSpPr/>
              <p:nvPr/>
            </p:nvSpPr>
            <p:spPr>
              <a:xfrm>
                <a:off x="4800600" y="5410080"/>
                <a:ext cx="1218960" cy="1143000"/>
              </a:xfrm>
              <a:prstGeom prst="ellipse">
                <a:avLst/>
              </a:prstGeom>
              <a:solidFill>
                <a:srgbClr val="ff0066">
                  <a:alpha val="51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99"/>
              <p:cNvSpPr/>
              <p:nvPr/>
            </p:nvSpPr>
            <p:spPr>
              <a:xfrm>
                <a:off x="5181480" y="5867280"/>
                <a:ext cx="380520" cy="304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66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Oval 98"/>
            <p:cNvSpPr/>
            <p:nvPr/>
          </p:nvSpPr>
          <p:spPr>
            <a:xfrm>
              <a:off x="4952880" y="5562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Oval 88"/>
          <p:cNvSpPr/>
          <p:nvPr/>
        </p:nvSpPr>
        <p:spPr>
          <a:xfrm>
            <a:off x="2438280" y="544824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9"/>
          <p:cNvSpPr/>
          <p:nvPr/>
        </p:nvSpPr>
        <p:spPr>
          <a:xfrm>
            <a:off x="2590920" y="4343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12"/>
          <p:cNvGrpSpPr/>
          <p:nvPr/>
        </p:nvGrpSpPr>
        <p:grpSpPr>
          <a:xfrm>
            <a:off x="5181480" y="4267080"/>
            <a:ext cx="2210040" cy="1646280"/>
            <a:chOff x="5181480" y="4267080"/>
            <a:chExt cx="2210040" cy="1646280"/>
          </a:xfrm>
        </p:grpSpPr>
        <p:grpSp>
          <p:nvGrpSpPr>
            <p:cNvPr id="121" name="Group 110"/>
            <p:cNvGrpSpPr/>
            <p:nvPr/>
          </p:nvGrpSpPr>
          <p:grpSpPr>
            <a:xfrm>
              <a:off x="5181480" y="4267080"/>
              <a:ext cx="1447560" cy="1531800"/>
              <a:chOff x="5181480" y="4267080"/>
              <a:chExt cx="1447560" cy="1531800"/>
            </a:xfrm>
          </p:grpSpPr>
          <p:sp>
            <p:nvSpPr>
              <p:cNvPr id="122" name="Text Box 105"/>
              <p:cNvSpPr/>
              <p:nvPr/>
            </p:nvSpPr>
            <p:spPr>
              <a:xfrm>
                <a:off x="5181480" y="430524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106"/>
              <p:cNvSpPr/>
              <p:nvPr/>
            </p:nvSpPr>
            <p:spPr>
              <a:xfrm>
                <a:off x="6095880" y="4267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107"/>
              <p:cNvSpPr/>
              <p:nvPr/>
            </p:nvSpPr>
            <p:spPr>
              <a:xfrm>
                <a:off x="5206680" y="5156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08"/>
              <p:cNvSpPr/>
              <p:nvPr/>
            </p:nvSpPr>
            <p:spPr>
              <a:xfrm>
                <a:off x="5638680" y="461016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9"/>
              <p:cNvSpPr/>
              <p:nvPr/>
            </p:nvSpPr>
            <p:spPr>
              <a:xfrm>
                <a:off x="5460840" y="485136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111"/>
            <p:cNvSpPr/>
            <p:nvPr/>
          </p:nvSpPr>
          <p:spPr>
            <a:xfrm>
              <a:off x="6477120" y="533376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13"/>
          <p:cNvSpPr/>
          <p:nvPr/>
        </p:nvSpPr>
        <p:spPr>
          <a:xfrm>
            <a:off x="68580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611 0.00185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85185E-006 L 0.19166 1.85185E-006 E">
                                      <p:cBhvr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24167 -0.00555 E">
                                      <p:cBhvr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0834 0.00556 E">
                                      <p:cBhvr>
                                        <p:cTn id="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5"/>
          <p:cNvSpPr/>
          <p:nvPr/>
        </p:nvSpPr>
        <p:spPr>
          <a:xfrm>
            <a:off x="1117440" y="2743200"/>
            <a:ext cx="2489400" cy="2362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- Ionic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28600" y="1004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Formed by the transfer of one or more electron from an atom to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7"/>
          <p:cNvGrpSpPr/>
          <p:nvPr/>
        </p:nvGrpSpPr>
        <p:grpSpPr>
          <a:xfrm>
            <a:off x="1371600" y="3009960"/>
            <a:ext cx="1968480" cy="1778040"/>
            <a:chOff x="1371600" y="3009960"/>
            <a:chExt cx="1968480" cy="1778040"/>
          </a:xfrm>
        </p:grpSpPr>
        <p:sp>
          <p:nvSpPr>
            <p:cNvPr id="133" name="Oval 11"/>
            <p:cNvSpPr/>
            <p:nvPr/>
          </p:nvSpPr>
          <p:spPr>
            <a:xfrm>
              <a:off x="1422360" y="3060720"/>
              <a:ext cx="1879560" cy="17272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778040" y="336564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2120760" y="368316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59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1917720" y="34164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5"/>
            <p:cNvSpPr/>
            <p:nvPr/>
          </p:nvSpPr>
          <p:spPr>
            <a:xfrm>
              <a:off x="1460520" y="42166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1676520" y="318780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2438280" y="300996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2514600" y="3327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2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1866960" y="4584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0"/>
            <p:cNvSpPr/>
            <p:nvPr/>
          </p:nvSpPr>
          <p:spPr>
            <a:xfrm>
              <a:off x="2679840" y="46101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3137040" y="35308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3187800" y="41785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1371600" y="36705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5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Oval 28"/>
          <p:cNvSpPr/>
          <p:nvPr/>
        </p:nvSpPr>
        <p:spPr>
          <a:xfrm>
            <a:off x="5283360" y="2895480"/>
            <a:ext cx="2489040" cy="236232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9"/>
          <p:cNvGrpSpPr/>
          <p:nvPr/>
        </p:nvGrpSpPr>
        <p:grpSpPr>
          <a:xfrm>
            <a:off x="5537160" y="3162240"/>
            <a:ext cx="1968480" cy="1778040"/>
            <a:chOff x="5537160" y="3162240"/>
            <a:chExt cx="1968480" cy="1778040"/>
          </a:xfrm>
        </p:grpSpPr>
        <p:sp>
          <p:nvSpPr>
            <p:cNvPr id="148" name="Oval 30"/>
            <p:cNvSpPr/>
            <p:nvPr/>
          </p:nvSpPr>
          <p:spPr>
            <a:xfrm>
              <a:off x="5587920" y="3213000"/>
              <a:ext cx="1879560" cy="1727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1"/>
            <p:cNvSpPr/>
            <p:nvPr/>
          </p:nvSpPr>
          <p:spPr>
            <a:xfrm>
              <a:off x="5943600" y="3517920"/>
              <a:ext cx="1219320" cy="114300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2"/>
            <p:cNvSpPr/>
            <p:nvPr/>
          </p:nvSpPr>
          <p:spPr>
            <a:xfrm>
              <a:off x="6286320" y="383544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Tahoma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3"/>
            <p:cNvSpPr/>
            <p:nvPr/>
          </p:nvSpPr>
          <p:spPr>
            <a:xfrm>
              <a:off x="6083280" y="35686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4"/>
            <p:cNvSpPr/>
            <p:nvPr/>
          </p:nvSpPr>
          <p:spPr>
            <a:xfrm>
              <a:off x="5626080" y="4368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5"/>
            <p:cNvSpPr/>
            <p:nvPr/>
          </p:nvSpPr>
          <p:spPr>
            <a:xfrm>
              <a:off x="5842080" y="3340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6"/>
            <p:cNvSpPr/>
            <p:nvPr/>
          </p:nvSpPr>
          <p:spPr>
            <a:xfrm>
              <a:off x="6603840" y="316224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7"/>
            <p:cNvSpPr/>
            <p:nvPr/>
          </p:nvSpPr>
          <p:spPr>
            <a:xfrm>
              <a:off x="6680160" y="3479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8"/>
            <p:cNvSpPr/>
            <p:nvPr/>
          </p:nvSpPr>
          <p:spPr>
            <a:xfrm>
              <a:off x="6032520" y="47372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9"/>
            <p:cNvSpPr/>
            <p:nvPr/>
          </p:nvSpPr>
          <p:spPr>
            <a:xfrm>
              <a:off x="6845400" y="47624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40"/>
            <p:cNvSpPr/>
            <p:nvPr/>
          </p:nvSpPr>
          <p:spPr>
            <a:xfrm>
              <a:off x="7302600" y="3683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1"/>
            <p:cNvSpPr/>
            <p:nvPr/>
          </p:nvSpPr>
          <p:spPr>
            <a:xfrm>
              <a:off x="7353360" y="4330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42"/>
            <p:cNvSpPr/>
            <p:nvPr/>
          </p:nvSpPr>
          <p:spPr>
            <a:xfrm>
              <a:off x="5537160" y="3822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Oval 43"/>
          <p:cNvSpPr/>
          <p:nvPr/>
        </p:nvSpPr>
        <p:spPr>
          <a:xfrm>
            <a:off x="637524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1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17524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ffff"/>
                </a:solidFill>
                <a:latin typeface="Tahom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6019920" y="359424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ahom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51"/>
          <p:cNvGrpSpPr/>
          <p:nvPr/>
        </p:nvGrpSpPr>
        <p:grpSpPr>
          <a:xfrm>
            <a:off x="1447920" y="1905120"/>
            <a:ext cx="5867280" cy="4056480"/>
            <a:chOff x="1447920" y="1905120"/>
            <a:chExt cx="5867280" cy="4056480"/>
          </a:xfrm>
        </p:grpSpPr>
        <p:sp>
          <p:nvSpPr>
            <p:cNvPr id="166" name="Text Box 47"/>
            <p:cNvSpPr/>
            <p:nvPr/>
          </p:nvSpPr>
          <p:spPr>
            <a:xfrm>
              <a:off x="1600200" y="1905120"/>
              <a:ext cx="8380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+ 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48"/>
            <p:cNvSpPr/>
            <p:nvPr/>
          </p:nvSpPr>
          <p:spPr>
            <a:xfrm>
              <a:off x="6248520" y="2057400"/>
              <a:ext cx="8380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- 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9"/>
            <p:cNvSpPr/>
            <p:nvPr/>
          </p:nvSpPr>
          <p:spPr>
            <a:xfrm>
              <a:off x="1447920" y="5518080"/>
              <a:ext cx="10666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50"/>
            <p:cNvSpPr/>
            <p:nvPr/>
          </p:nvSpPr>
          <p:spPr>
            <a:xfrm>
              <a:off x="6248520" y="5562720"/>
              <a:ext cx="1066680" cy="3988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ahoma"/>
                  <a:ea typeface="Arial"/>
                </a:rPr>
                <a:t>An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Oval 52"/>
          <p:cNvSpPr/>
          <p:nvPr/>
        </p:nvSpPr>
        <p:spPr>
          <a:xfrm>
            <a:off x="7315200" y="313704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3"/>
          <p:cNvSpPr/>
          <p:nvPr/>
        </p:nvSpPr>
        <p:spPr>
          <a:xfrm>
            <a:off x="7696080" y="388620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7467480" y="4724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55"/>
          <p:cNvSpPr/>
          <p:nvPr/>
        </p:nvSpPr>
        <p:spPr>
          <a:xfrm>
            <a:off x="6553080" y="516888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56"/>
          <p:cNvSpPr/>
          <p:nvPr/>
        </p:nvSpPr>
        <p:spPr>
          <a:xfrm>
            <a:off x="548640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7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505320" y="5105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Ionic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18519E-006 C 0.0566 -0.03033 0.1132 -0.06043 0.1599 -0.07223 C 0.2066 -0.08404 0.23594 -0.0882 0.28004 -0.07038 C 0.32413 -0.05256 0.40035 0.01712 0.42431 0.03448 E">
                                      <p:cBhvr>
                                        <p:cTn id="97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7917 0.3 E">
                                      <p:cBhvr>
                                        <p:cTn id="11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8334 0.32222 E">
                                      <p:cBhvr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5486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3- Hydrogen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28600" y="1004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Formed between a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  <a:ea typeface="Arial"/>
              </a:rPr>
              <a:t>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atom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+v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) and a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–v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atom (e.g.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  <a:ea typeface="Arial"/>
              </a:rPr>
              <a:t> Nitrogen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8"/>
          <p:cNvGrpSpPr/>
          <p:nvPr/>
        </p:nvGrpSpPr>
        <p:grpSpPr>
          <a:xfrm>
            <a:off x="1828800" y="2057400"/>
            <a:ext cx="1828800" cy="1778040"/>
            <a:chOff x="1828800" y="2057400"/>
            <a:chExt cx="1828800" cy="1778040"/>
          </a:xfrm>
        </p:grpSpPr>
        <p:sp>
          <p:nvSpPr>
            <p:cNvPr id="180" name="Oval 7"/>
            <p:cNvSpPr/>
            <p:nvPr/>
          </p:nvSpPr>
          <p:spPr>
            <a:xfrm>
              <a:off x="2438640" y="205740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2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ahoma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2514600" y="2997360"/>
              <a:ext cx="9144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r>
                <a:rPr b="1" lang="en-GB" sz="2800" spc="-1" strike="noStrike" baseline="30000">
                  <a:solidFill>
                    <a:srgbClr val="0000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1828800" y="226044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>
              <a:off x="2463480" y="2666880"/>
              <a:ext cx="3812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>
              <a:off x="2971440" y="2819520"/>
              <a:ext cx="25560" cy="4572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1"/>
          <p:cNvGrpSpPr/>
          <p:nvPr/>
        </p:nvGrpSpPr>
        <p:grpSpPr>
          <a:xfrm>
            <a:off x="4978440" y="2108160"/>
            <a:ext cx="2336760" cy="1778040"/>
            <a:chOff x="4978440" y="2108160"/>
            <a:chExt cx="2336760" cy="1778040"/>
          </a:xfrm>
        </p:grpSpPr>
        <p:sp>
          <p:nvSpPr>
            <p:cNvPr id="186" name="Oval 15"/>
            <p:cNvSpPr/>
            <p:nvPr/>
          </p:nvSpPr>
          <p:spPr>
            <a:xfrm>
              <a:off x="4978440" y="253980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>
              <a:off x="5549760" y="2108160"/>
              <a:ext cx="1219320" cy="11430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392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80808"/>
                  </a:solidFill>
                  <a:latin typeface="Tahoma"/>
                </a:rPr>
                <a:t>N</a:t>
              </a:r>
              <a:r>
                <a:rPr b="1" lang="en-GB" sz="3200" spc="-1" strike="noStrike" baseline="30000">
                  <a:solidFill>
                    <a:srgbClr val="080808"/>
                  </a:solidFill>
                  <a:latin typeface="Tahoma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 flipH="1">
              <a:off x="5562000" y="2717640"/>
              <a:ext cx="406440" cy="177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6400800" y="2717640"/>
              <a:ext cx="9144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4"/>
            <p:cNvSpPr/>
            <p:nvPr/>
          </p:nvSpPr>
          <p:spPr>
            <a:xfrm>
              <a:off x="5651280" y="3047760"/>
              <a:ext cx="914400" cy="838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 flipH="1">
              <a:off x="6134040" y="2857320"/>
              <a:ext cx="2520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6350040" y="2781360"/>
              <a:ext cx="304560" cy="3045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4"/>
          <p:cNvGrpSpPr/>
          <p:nvPr/>
        </p:nvGrpSpPr>
        <p:grpSpPr>
          <a:xfrm>
            <a:off x="2895480" y="3886200"/>
            <a:ext cx="152280" cy="685800"/>
            <a:chOff x="2895480" y="3886200"/>
            <a:chExt cx="152280" cy="685800"/>
          </a:xfrm>
        </p:grpSpPr>
        <p:sp>
          <p:nvSpPr>
            <p:cNvPr id="194" name="Line 22"/>
            <p:cNvSpPr/>
            <p:nvPr/>
          </p:nvSpPr>
          <p:spPr>
            <a:xfrm>
              <a:off x="2895480" y="388620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3047760" y="388620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25"/>
          <p:cNvSpPr/>
          <p:nvPr/>
        </p:nvSpPr>
        <p:spPr>
          <a:xfrm>
            <a:off x="7391520" y="2133720"/>
            <a:ext cx="1447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NH</a:t>
            </a:r>
            <a:r>
              <a:rPr b="1" lang="en-GB" sz="4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52280" y="2209680"/>
            <a:ext cx="1447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GB" sz="44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>
            <a:off x="7696080" y="28195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114800" y="3886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Very weak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C -0.00208 0.05417 0.00087 0.10903 -0.00573 0.16273 C -0.00642 0.17778 -0.0033 0.19306 -0.01129 0.20324 C -0.01337 0.21134 -0.01597 0.21458 -0.0184 0.22361 C -0.02222 0.23866 -0.02379 0.25764 -0.03229 0.26968 C -0.03403 0.27639 -0.03733 0.2787 -0.03906 0.28472 C -0.04566 0.3044 -0.03854 0.28866 -0.04479 0.30093 C -0.04809 0.31991 -0.04358 0.30046 -0.04879 0.31227 C -0.05208 0.31898 -0.05017 0.32523 -0.05469 0.33079 C -0.05747 0.3419 -0.05365 0.33148 -0.06007 0.34005 C -0.06684 0.34838 -0.05851 0.34375 -0.06736 0.34745 C -0.06945 0.34954 -0.0717 0.35278 -0.07431 0.3544 C -0.08438 0.36273 -0.07257 0.35 -0.08247 0.36042 C -0.08629 0.36435 -0.08872 0.36759 -0.09375 0.36968 C -0.09688 0.37431 -0.09879 0.37662 -0.10365 0.37894 C -0.10799 0.38519 -0.11424 0.38519 -0.12014 0.38819 C -0.13872 0.40486 -0.16771 0.39954 -0.18906 0.40278 C -0.19809 0.40718 -0.20729 0.41134 -0.21684 0.41435 C -0.23767 0.41273 -0.25816 0.4125 -0.27813 0.40486 C -0.2849 0.40208 -0.29132 0.40046 -0.29792 0.39745 C -0.30208 0.39537 -0.31059 0.3919 -0.31059 0.39213 C -0.31129 0.39051 -0.31181 0.38912 -0.3132 0.38819 C -0.3158 0.38611 -0.32136 0.38449 -0.32136 0.38472 C -0.32691 0.37732 -0.32153 0.38333 -0.32865 0.37894 C -0.33004 0.37801 -0.33142 0.37639 -0.33264 0.375 C -0.33368 0.37407 -0.33455 0.37222 -0.33577 0.3713 C -0.33854 0.36968 -0.34549 0.36597 -0.34913 0.36597 E">
                                      <p:cBhvr>
                                        <p:cTn id="159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0.22917 0.17731 0.45886 0.35486 0.5915 0.38078 C 0.72414 0.40671 0.76164 0.19375 0.79584 0.15602 E">
                                      <p:cBhvr>
                                        <p:cTn id="17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457200" y="2473200"/>
            <a:ext cx="82296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are composed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anything that takes up space and has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bstance that cannot be broken down to other substances by chemical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92 naturally-occurring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has a unique symbol, usually from the first one or two letters of the name, often from Latin or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28600" y="228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Matter consists of chemical elements in pure form and in combinations called com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76320"/>
            <a:ext cx="8229600" cy="33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tance consisting of two or more elements in a fixed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alt (sodium chloride or NaCl) is a compound with equal numbers of chlorine and sodium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pure sodium is a metal and chlorine is a gas, their combination forms an edible compound, an emergent prope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0" t="0" r="0" b="14233"/>
          <a:stretch/>
        </p:blipFill>
        <p:spPr>
          <a:xfrm>
            <a:off x="1981080" y="3657600"/>
            <a:ext cx="59295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396800" y="104760"/>
            <a:ext cx="63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Life requires about 25 chemical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1752480"/>
            <a:ext cx="8229600" cy="46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25 of the 92 natural elements are known to be essential fo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elements - carbon (C), oxygen (O), hydrogen (H), and nitrogen (N) - make up 96% of living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remaining 4% of an organism’s weight consists of phosphorus (P), sulfur (S), calcium (Ca), and potassium (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required by an organism but only in minute qua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5790960" cy="609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8080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Element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 substance cannot be broken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Compound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omposed of 2 or more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Essential elements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bout 25 (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out of 92 natural element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 required essentially for li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Times New Roman"/>
              </a:rPr>
              <a:t>Trace elements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e.g.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F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required in minute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095880" y="533520"/>
            <a:ext cx="2514600" cy="304776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sp>
        <p:nvSpPr>
          <p:cNvPr id="210" name="Text Box 7"/>
          <p:cNvSpPr/>
          <p:nvPr/>
        </p:nvSpPr>
        <p:spPr>
          <a:xfrm>
            <a:off x="5105520" y="3809880"/>
            <a:ext cx="373356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example, a daily intak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0.15 milligrams of iodi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required for norm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ity of the huma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yroid 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597-E37E-4E26-A627-D6F7D1F589A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0"/>
            <a:ext cx="6781680" cy="6834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0" y="6248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ge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05:31:04Z</dcterms:created>
  <dc:creator>Home</dc:creator>
  <dc:description/>
  <dc:language>en-US</dc:language>
  <cp:lastModifiedBy>User</cp:lastModifiedBy>
  <dcterms:modified xsi:type="dcterms:W3CDTF">2015-02-17T10:56:17Z</dcterms:modified>
  <cp:revision>39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