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1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18141-74FF-4DB5-A301-E972A4838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DA4FD-ECFC-4167-9F5D-E3B3DFD3F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891CA1-06BD-4256-A88E-CCFB66A33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F8ACA-0E8A-472F-9CC6-40675C905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BED88-B5C2-4B95-83A2-C73E6F4BC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AC3B9-1E47-41B8-A657-D44F1B625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85FB6-20BE-4DE2-A160-CE6D6206A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30AF8-037E-4BE9-9FF5-C6ACAEBA9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D3849-6F18-4238-B74E-08F8F5B97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C8B51-A519-458D-A6CA-1FC71BAFF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45582-443C-4B3D-869A-ACE5B9E87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BC078-30FD-4B90-A076-4388FE2F4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2C9CD-D0EB-4432-B634-AC8DCD183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6AE14-5BB8-402F-ADE2-69E06AE19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E25BD-AD86-4934-82FF-871EA8C33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8559E-1317-4594-A3CB-3ED79199D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D57A0-4D82-4DF9-99DA-ED6C82098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E3F65-7934-4C7B-923A-51823F9EA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74AE1D-67FB-4DC1-8692-E02421486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00DA1-131F-457D-8D46-574ED4D98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24A91-8A67-4441-BACC-7806C8B1C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9BA22-B992-4A03-A3E5-0ED8FAA07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CE1CB-311E-4818-819D-516651B51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B4A4-AB97-4C5F-B38C-F75688FBC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F0CA-3750-44FA-AEBF-4D384F41DB8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02C42-6EB7-4F45-98A7-6E3211DD9AE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DD093-7D16-4917-8C19-99854FABA2A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E5A1B-794D-4E1D-9918-D5358A6BB8F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5F9DB-0CEE-4A87-9F38-EC5FC8BA726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B7E8D-5AE1-4F4E-8043-05FA60CD6BA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79005-5E74-4376-BDFC-2E78E0921AD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B69DB-1163-4176-A276-5F100BF6BEC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1D3EB-CE76-4E42-A2A7-12D9738BD3F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72B6A-DEDB-45C5-A3B3-FB48F7F9EC5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63E3F3-3129-47A0-A769-9AA3719CD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9CCF-F5E4-4A60-9B78-3A3B1B310B9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68FB91-003C-4149-BD90-E4F128DFFA7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A32EB4-F67A-43C6-A065-6FED481EA52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9494E7-17D9-4399-9D23-C7B520DE008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F62E77-0AD2-4025-9831-67A7EE43019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35C434-5443-44D9-9E1C-E3C6CD73604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0DBCD5-3C6D-44A1-B17E-36E76DBF20A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59A6D1-3DDC-40FD-9F79-4BA8D1FA1A6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4D9EF7-E2F5-42F3-A4E8-E585FD19B45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64FC8B-3A37-4F3A-888A-4BA6AE055FE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724B16-9AB8-4BF0-B30C-EDC030F52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B832-F91E-425D-8300-D3E7173722F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462A95-1F06-4730-B46A-9080F79F717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96F9D3-04B3-410C-85E3-8627C5242C9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AB3F29-676C-4263-9DBB-353971E10A7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F7E30E-CD69-4391-A408-DC57BC7E42B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4AEF7D-667F-4E70-8D86-993BA04E0B2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1B8623-5DE1-498C-B42D-DA0366D6172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347D9-14B0-43E3-854E-E89C2A2F0C0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09E4C-AF6A-4745-9552-5B09319C20C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884064-7B8A-4DAA-A07A-CE30CD236FC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997B52-5EF6-4ADF-BBAE-7FE792D67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E37F8D-693B-421E-BBEB-3DE4F45C167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32AA1-F849-4805-A74D-8BE04C264D3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75456-094E-4891-BD26-97E2442F7EC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29D63-80AC-4DD4-9990-DED83AC9765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F7269-361F-4A21-831A-7CFFBF0757A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ED911-DF46-4F86-B50A-A535EB11FC4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3F0AA-111A-4CD9-AC2D-6EEABF21375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2084A-13B0-4700-B243-8E2FA5F2EE6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312AB-FE2C-40B2-8F19-075B9C3A0BC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3E5FA-83E4-4156-8A3A-1F1EA5CA24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D7DBD-ABC5-4E52-B7AF-7FD8A79F972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14295-F00A-4B95-8B2F-B7804BD290C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98746-463A-42DC-BE34-7E199FA61AB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382BE-90CE-4F30-B09A-277A5FF08C9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419A4-9570-4B7E-9136-1ECB5913AB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6902-7983-4FA1-A566-D0E273A0A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16F2-564D-4764-A0E5-8E94D1E659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56B-83D0-4517-B351-5F0B5730BA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E48-1E7D-4053-85EC-E831179CD9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2A5-47E3-48A0-9A3A-EDC2168868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471-21C8-4630-82A1-662A7FB63B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E0A8-D925-4F7F-AE54-F0E5B8E7F8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270-0425-4699-8DBC-5F61028D9A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55D-2680-454E-BE24-A3DC9589FE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E1F-A027-4426-8CF8-417C00C839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E64C-479C-4AF6-AF85-055F813029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9F3-77C7-4C11-A51F-016CFA761A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116B-9DD4-4A67-A620-24AF001ED2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83C0-CB3C-4340-AE58-CFB11F5C75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CE66E-7702-4EB1-8BC2-EC84D35EC3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2681B-06E3-451F-BCE9-67146B1056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3146A-9B62-4673-924C-02DF4136E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0D99-AA9C-4BA5-BAF1-2FE015021B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D931F-F58E-45FD-8CCB-104624F21E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7F9A5-E8D7-4D98-B043-C36FF83D1C5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45913-939D-45D0-829C-E959D01F83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7BCDD-EAF2-4DD5-8528-4BB2B05933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6FE70-E3A1-4FDA-90C4-BCA9E039757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592D5-9367-40A1-90FE-9B367CD304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A47E1-40F3-4875-8BB9-9C7333BB07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8994C-16C2-4D41-9ECE-CE17DE7277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F65A0-84DC-4035-9ABB-C89CE2B3765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3BC08-4346-4AB2-8489-FD7E81E2A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D2B5-4072-4707-A367-2F8B803B9BA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41F07-358B-4EDA-95A3-0F25B3C2572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15EE6-E8E8-4D2F-BC82-53FB4FBC56B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71BCA-593A-476E-860E-971A3D390E0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09272-0870-409F-A148-1552D5ABAB2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A0610-8620-4A46-8AA6-A02923DE22F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C6814-6113-4B99-9239-B50B4DFD290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5258C-EE28-4ED8-94FE-54D56A418A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2892B-E1CE-4DC1-8E84-695899CFEF0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5C93A-75F1-4669-9631-B6EA38EBED6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353EA-6671-47CE-BF7D-F44DBB065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E5CB-5056-454E-B11D-24D367AF057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53A50-A232-45CD-92CA-6571CEA44DB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E5D4-4A94-415B-85E6-660CF2E4813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39F8-D563-4F4E-8F21-2D922976760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9888-11B8-4233-A47E-B017F910A07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1D77-A393-42A1-A460-7C922CAC1EC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70E9-0890-4730-9EB9-543F773001D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18E5-868E-4588-AB69-BE3F663D286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754E-BCC4-495A-97DA-8D2B521C751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A639-5B91-4E27-910E-B848340A492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97C3-66BD-4C7A-B9EA-0330F612E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F05F-1FC3-4C77-9A67-75AE7E9FEAE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D70F-0DC0-4B95-A433-90DA93B196F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FB3C-D354-44AE-9707-3B4AB2FFC80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0965-C1B0-400F-A9D9-B00AFC10E9E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4982E2-EA3B-4BD3-B15A-7720525C469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A7DFD3-368A-46EE-A063-9EF1D0FF424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2D3B47-490E-45D0-A8DD-60FA37A26C0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7E422C-A3D0-400D-9448-8FD1FC5B6B3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4FC5EA-1AAA-4582-9CC8-C6F4B713CEB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AABF38-A4D2-467D-A712-10808AFEF15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8645FD-CB06-482C-ADB0-9F8A1AB74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5752-7069-4352-A4D1-CC792CC532B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77F812-8669-4EF9-8624-8525DDA7EB9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1682EA-E89B-41BD-BFEF-31B88356F58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45A343-2F6D-43AE-B33D-8E3B9D6A6DA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0B9A5A-7BE0-4C1C-BF7D-2840DC20517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8C43FD-994E-4C45-BDDC-4EAA4BAED4E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23982-EDC8-4A9B-9FAA-DAF3F846186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04854-1E5E-4851-8072-065E643B2E0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24813-449E-42B2-B8B8-C66294E1750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95DD2-0A4E-4DDC-ADB7-612F083AEE5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B84B2-62CE-4170-A2A5-756BCEA36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4667-5A73-440A-89F4-E8BD14AC066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B99C6-70F6-441C-899A-7CCAB72FBE4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B2D92-6C4E-4D4D-ADEA-BBF256075B0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28907-4AAA-4BAC-B2CA-829E0C13B55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00B6B-3284-4FCE-9DE5-8BC46C54654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F5949-AE2F-4432-BEB6-BFA2DBCAD36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7B2E8-C17A-4F00-8B85-34D6ACF97AB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F65CB-002F-4F08-BD9B-4003E444D9C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32EDA-952D-4B2B-ACDB-F8B5657CC57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F62B0-DA6E-4452-BA64-9C76ADA57B1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F4ED0-6BEC-4FAD-87DC-116E63D05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34906CF4-1759-4D1D-ACE7-1B6F53B39C1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0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1 -</a:t>
            </a:r>
            <a:fld id="{5943E795-FA62-4BCB-A8C0-15A71763B4F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11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1 -</a:t>
            </a:r>
            <a:fld id="{63E34678-8A2B-4636-834B-C8E5CA849DD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2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h1 -</a:t>
            </a:r>
            <a:fld id="{41434759-ADE1-4C60-8692-57074A706CE7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0" descr="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2"/>
          <p:cNvSpPr/>
          <p:nvPr/>
        </p:nvSpPr>
        <p:spPr>
          <a:xfrm>
            <a:off x="0" y="231840"/>
            <a:ext cx="91440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HAPTER 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eceef"/>
                </a:solidFill>
                <a:latin typeface="Arial"/>
              </a:rPr>
              <a:t>Risks of Financial Instit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1752480"/>
            <a:ext cx="9171000" cy="4572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4723920" y="6610320"/>
            <a:ext cx="4419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Copyright © 2014  by the McGraw-Hill Compani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-</a:t>
            </a:r>
            <a:fld id="{E56DEC58-6EDF-4B0C-A650-1E9FD1C49ED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4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-</a:t>
            </a:r>
            <a:fld id="{6656FD78-B55A-488A-91A1-85F0FC96640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5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-</a:t>
            </a:r>
            <a:fld id="{FD717476-1D9F-4F34-817E-685198F6749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6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-</a:t>
            </a:r>
            <a:fld id="{C8E94ABC-AF01-46DF-AC10-E8E59F0F0A5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7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1 -</a:t>
            </a:r>
            <a:fld id="{A0B57F3E-822E-4A30-93B5-D3C6B55691F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8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-</a:t>
            </a:r>
            <a:fld id="{DF569EA8-C8E7-4227-A1B6-AE9F1C9EBEE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9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1 -</a:t>
            </a:r>
            <a:fld id="{382C1178-888D-4CE0-BDEF-1F79053E7AE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is.org/" TargetMode="External"/><Relationship Id="rId2" Type="http://schemas.openxmlformats.org/officeDocument/2006/relationships/hyperlink" Target="http://www.federalreserve.gov/" TargetMode="External"/><Relationship Id="rId3" Type="http://schemas.openxmlformats.org/officeDocument/2006/relationships/hyperlink" Target="http://www.fdic.gov/" TargetMode="External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5"/>
          <p:cNvSpPr/>
          <p:nvPr/>
        </p:nvSpPr>
        <p:spPr>
          <a:xfrm>
            <a:off x="4724280" y="66103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Copyright © 2014  by the McGraw-Hill Companies, Inc. All rights reserved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Country or Sovereign Ri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esult of exposure to foreign government which may impose restrictions on repayments to foreig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Often lack usual recourse via court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xampl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Rus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Argen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23B22F62-18B7-462F-B854-A09506B4433F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 the event of restrictions, reschedulings, or outright prohibition of repayments, a FI’s remaining bargaining chip is future supply of lo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Weak position if currency collapsing or government fai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2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0B0168B4-C7DB-44FD-8536-A005F387B8B9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Country or Sovereign Ri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Market Ri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457200" y="1295280"/>
            <a:ext cx="822960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curred in trading of assets and liabilities (and derivativ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Short view of time horiz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Value at risk (VAR), daily earnings at risk (DE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rket meltdown 2008-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Mortgage backed secur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Toxic” ass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Lehman Brothers, Merrill Lynch, AI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ED91460C-43B5-477F-9DEB-FF3BEE2104C0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Market Ri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rket, or trading, risk present whenever a FI takes an open or unhedged long or short position in securities or foreign ex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mplications for regulators and manage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Need for contr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Need for measurement of risk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0B7A8211-D012-4AA7-93FB-C44369027390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Off-Balance-Sheet Ri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triking growth of off-balance-sheet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Letters of cred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Loan commi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Derivative pos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peculative activities using off-balance-sheet items create considerable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B35A85F5-2618-458D-B2DD-F39662EFE4EB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entury Gothic"/>
              </a:rPr>
              <a:t>Technology and Operational R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isk of losses resulting from inadequate or failed internal processes, people and systems, or from external 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Loss of backup files by BO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Unsecured wireless network at TJ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Jerome Kerviel (Société Général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Bernie Mad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‘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London Whale’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EFAD348A-1314-4B5B-B668-02BA6F66FEEF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Technology Ri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echnological innovation has seen rapid grow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Automated clearing houses (A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C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Real time interconnection of global FIs via satellite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7210CC3F-3D86-46F2-B12D-28D62DC6826C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conomies of s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conomies of sc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Operational risk not exclusively technolog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Employee fraud and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Losses magnified since they affect reputation and future pot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2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119176DC-E2ED-4DFB-B86E-A3E722BEAA12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entury Gothic"/>
              </a:rPr>
              <a:t>Technology and Operational R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Insolvency Ri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2"/>
          <p:cNvSpPr/>
          <p:nvPr/>
        </p:nvSpPr>
        <p:spPr>
          <a:xfrm>
            <a:off x="457200" y="1371600"/>
            <a:ext cx="822960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isk of insufficient capital to offset sudden decline in value of assets relative to li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Original cause may be excessive interest rate, market, credit, off-balance-sheet, technological, FX, sovereign, and liquidity r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Washington Mu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oo big to fail” (e.g., Citigrou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88ABD344-70B9-4382-8201-00A6D999E537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1"/>
          <p:cNvSpPr/>
          <p:nvPr/>
        </p:nvSpPr>
        <p:spPr>
          <a:xfrm>
            <a:off x="304920" y="380880"/>
            <a:ext cx="8534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entury Gothic"/>
              </a:rPr>
              <a:t>  </a:t>
            </a:r>
            <a:r>
              <a:rPr b="0" lang="en-US" sz="4000" spc="-1" strike="noStrike">
                <a:solidFill>
                  <a:srgbClr val="990033"/>
                </a:solidFill>
                <a:latin typeface="Century Gothic"/>
              </a:rPr>
              <a:t>Other Risks &amp; Interaction of Risk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Interdependencies among r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Example: Interest rates and credi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Interest rates and derivative counterparty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Discrete R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Examples include effects of war or terrorist acts, market crashes, theft, and malfeas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Changes in regulatory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48CAD712-AAF6-466C-B13C-AE5D0788B993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Overview</a:t>
            </a:r>
            <a:r>
              <a:rPr b="0" lang="en-US" sz="2800" spc="-1" strike="noStrike">
                <a:solidFill>
                  <a:srgbClr val="990033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2"/>
          <p:cNvSpPr/>
          <p:nvPr/>
        </p:nvSpPr>
        <p:spPr>
          <a:xfrm>
            <a:off x="38088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s chapter discusses the risks faced by financial institu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Interest rate risk, market risk, credit risk, off-balance-sheet risk, foreign exchange risk, country or sovereign risk, technology risk, operational risk, liquidity risk, and insolvency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Note: These risks are not unique to F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Faced by all global fi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A3375DD7-0EE0-4D2B-997F-266FC9F0FE5F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Pertinent Websit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2"/>
          <p:cNvSpPr/>
          <p:nvPr/>
        </p:nvSpPr>
        <p:spPr>
          <a:xfrm>
            <a:off x="304920" y="1600200"/>
            <a:ext cx="3886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Bank for International Sett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ederal Reser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ederal Deposit Insurance Corpo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74811FB3-392D-439E-AF23-9168483CDEF4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4267080" y="1600200"/>
            <a:ext cx="45720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bis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www.federalreserve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www.fdic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1"/>
          <p:cNvSpPr/>
          <p:nvPr/>
        </p:nvSpPr>
        <p:spPr>
          <a:xfrm>
            <a:off x="304920" y="2746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entury Gothic"/>
              </a:rPr>
              <a:t>Risks of Financial Intermedi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457200" y="13716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terest rate risk resulting from mismatch in asset &amp; liability matur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Spread changes as interest rates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Since value = PV(Cash flows), equity affect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Balance sheet hedge via matching maturities of assets and liabilities is problematic for F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Inconsistent with asset transformation 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Refinancing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Reinvestmen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DED4ED41-E779-418F-96EA-96ED6114139E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Credit Ri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2"/>
          <p:cNvSpPr/>
          <p:nvPr/>
        </p:nvSpPr>
        <p:spPr>
          <a:xfrm>
            <a:off x="457200" y="13716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isk that promised cash flows are not paid in f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High rate of charge-offs of debt in the 1980s, most of the 1990s, and 2000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harge-offs continued to grow until late 200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rm specific credit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ystematic credit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76F64A15-1C8F-4647-AE2E-35879D438754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1"/>
          <p:cNvSpPr/>
          <p:nvPr/>
        </p:nvSpPr>
        <p:spPr>
          <a:xfrm>
            <a:off x="304920" y="3808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Charge-Off Rates for Commercial Ba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566CEA9B-3F38-4553-AD84-7D6CD2CD06D2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509760" y="1371600"/>
            <a:ext cx="794844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entury Gothic"/>
              </a:rPr>
              <a:t>Implications of Growing Credit R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mportance of credit screening &amp; monito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iversification of credit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an sales, reschedul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redit deriv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7EE65EF5-3521-445A-9C35-0466782CE479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Liquidity Ri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Text Box 2"/>
          <p:cNvSpPr/>
          <p:nvPr/>
        </p:nvSpPr>
        <p:spPr>
          <a:xfrm>
            <a:off x="457200" y="15238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isk of being forced to borrow or sell assets in a very short period of ti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Low prices res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y generate ru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Runs may turn liquidity problem into solvency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Failure of IndyMac in summer of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19897FFB-EE3C-46E1-AF00-83EB2D132EFD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Foreign Exchange Risk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57200" y="1523880"/>
            <a:ext cx="822960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I may be net long or net short in various curr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eturns on foreign and domestic investment are not perfectly cor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X rates may not be cor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Example: $/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  <a:ea typeface="Times New Roman"/>
              </a:rPr>
              <a:t>€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 may be increasing while $/¥ decreasing and relationship between ¥ and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  <a:ea typeface="Times New Roman"/>
              </a:rPr>
              <a:t>€ time var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Undiversified foreign exposure creates FX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B958AF60-38B3-45F8-8D48-BA5B0327F149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"/>
          <p:cNvSpPr/>
          <p:nvPr/>
        </p:nvSpPr>
        <p:spPr>
          <a:xfrm>
            <a:off x="457200" y="1600200"/>
            <a:ext cx="822960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Note that completely hedging foreign exposure by matching foreign assets and liabilities requires matching the maturities as well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Otherwise, exposure to foreign interest rate risk rem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*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  <a:ea typeface="Microsoft YaHei"/>
              </a:rPr>
              <a:t>More correctly, FI must match durations, rather than maturities. See Chapter 8-9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2"/>
          <p:cNvSpPr/>
          <p:nvPr/>
        </p:nvSpPr>
        <p:spPr>
          <a:xfrm>
            <a:off x="6781680" y="6248520"/>
            <a:ext cx="1981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36B99F06-D478-4043-9354-60099CABC678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Foreign Exchange Risk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1T18:12:47Z</dcterms:created>
  <dc:creator>Kenneth R. Stanton</dc:creator>
  <dc:description/>
  <dc:language>en-US</dc:language>
  <cp:lastModifiedBy>monera</cp:lastModifiedBy>
  <dcterms:modified xsi:type="dcterms:W3CDTF">2015-01-27T06:33:07Z</dcterms:modified>
  <cp:revision>137</cp:revision>
  <dc:subject>Depository Institutions</dc:subject>
  <dc:title>Chapter 2</dc:title>
</cp:coreProperties>
</file>