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37C2E-69BA-4569-98F5-D77C73DB1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2428A-DEB4-495F-AFB2-00125C172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F8BBB1-23A4-429B-ADD1-D09F07385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F3764-8898-4147-A2B8-894F5C8F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3B1B2-F2AE-412B-9762-4B34FCE6D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16E67-1261-4DB9-AE5B-2A051723E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D639D-2DD3-41C5-A613-2C5FEF966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F58E9-3286-4ED0-89D8-263690EC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96DCA-B69F-4D80-845B-DF0ABCC6C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1E685-17EF-4E6F-B458-EBB362771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F06F6-8825-44B5-9946-4B0734349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FDE35-ACDB-4098-B6D7-0B8342BC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C6F1E-A06A-43D0-8A50-FD0371C35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FE7C8-4FCE-49C2-B61B-2F3E751F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989C9-8148-4922-8E25-8C5AF4A63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516F3-9F16-4CD8-94D8-93F84770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BB45F-BEF6-4FA5-A256-AB2E85917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9E75C-5D75-4DB7-A942-0F42DD47C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EE9476-BA05-4EFA-96D3-5BF05E152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72AB4-E21A-48DA-B61B-CBC3D8041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496FF-7F18-4127-94BF-3933432D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F4025-91F4-4AE4-9CC5-D94CAB884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CF111-3F63-4008-8477-7D6CF4D5A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1385-68F8-405C-9ADE-B2C989663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DD18-DDDA-4ECF-AB82-4E1A1F3E26C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3DD8-1A0D-4D95-A3A3-29C576524B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970E-2AFD-4449-BE6D-2FC10FA74C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625C-D25E-4C90-B11A-E0EA785374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29EC-0036-40DA-822B-486FF2B0EEB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4B2F-3D68-46B2-886C-E83C87DED06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69BD-0467-40BF-952D-B6E06DE66B0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85C5-1EC8-4F2F-8A5A-825975C690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7F0C-1C52-441D-A368-E71AD4C3411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69C2-2EEA-4AF3-8FE1-F3DC2DD9762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F5D711-9498-436E-8DE8-26257F1B8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B3CF-BF5F-4BF5-ABE5-F6DB137ABBF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0083B-D239-48AA-AA4E-958B9D13EB5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18E5E-D85B-49D7-BE8C-776D605B3D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DA1CF-9012-4C61-9A18-B8959D5820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1AC90-CE1C-4B38-BE93-78EB236DF2E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4BA83-7B2B-4D59-9765-AFEE7A84FEF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74AA3-C5E8-41A6-8205-0037B8F6DCE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6C772-C4FA-4C87-A6DC-E10BBEB14D7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C1987-68DD-464E-A8F6-AFCAD5593B2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EE046B-AA6C-486A-A9DD-D29F27D731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7DF76-5AFE-4364-A59D-C37DB3A9C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618C-61BD-4DF8-B83F-26AC7C1BC8C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BE559-DB15-4531-87B2-C0C2FE8BDE4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B1CCE-86B4-4B6C-8C9B-294441374D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BFE9A-FAF7-42D4-A9E6-AA03A738017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0FE428-40C0-4657-8F0D-FD459FB8847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D666C-E631-466F-BD9B-4960FA57193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CA337-C63D-4DA1-A1D7-3AAE55FEB1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45C14-01F4-45F6-B69E-7C4F522B945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DD974-F511-42C3-A96D-BCA574644A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4757B-4AB3-425E-926E-8756D004B32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1C6E7-3EB3-4E71-B383-F460CFA11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3D51C-8039-41E0-B560-31B3E1EAD52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9DCAF-0285-4325-B92D-0E0E1C46F08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564A9-1386-4FB5-86E5-FB345723F39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944D-4882-47E7-9659-B96B3BDF875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8458F-B6E4-4F2F-99BF-5F32ED40CEA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C611B-1F3C-41CA-94FC-2186410E1FB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C1CC-1443-43A1-8F4C-35D1178F225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4BC0-DD61-4393-B9BE-899FF868EDC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30703-611D-47BC-8C30-1ECDE346E5E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82AC-2E31-4F89-AE9D-392C75DF58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F1B9-8B86-4BE6-9861-CE7321E2F54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ADD4-67F8-41BD-AC56-8F75E966483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0F9BA-A56D-47A4-B83C-082F77A92D2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FE3C5-2B1B-4FE8-82DB-60F1810445E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78CF-F3E7-4ACF-ADD3-7370673CC3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95DB-E3F3-4A7E-A1AE-7F95EF3BF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E43-6084-4F86-8161-F88830894A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2AE-4B12-4D80-A525-0F65D4669B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ECE-80A1-4159-876C-8DFB3D5C6D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D26-1605-414B-A5F3-6AE86F15E4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81A-7F30-4377-8FA5-659B01D330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B97E-5F14-4148-9504-7F4D8496B1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146-67A1-4F5C-8C55-1B6D485AD8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EDC-BF4D-4A7F-A400-CDF7E08C60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2B5-90E0-46E7-89BF-599D763061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CA3-1395-4D84-A219-97E842EEDF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CF6-7669-4F92-B0C1-022B1C8D03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ED6-79BD-4143-A289-3A48B2029F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048-A50E-4698-984E-F1E5392691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ED0B0-99A3-4D03-B6DE-47BB9FB5B2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52E0B-C03F-4294-9800-FA693B09D9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14BD7-E44C-40C9-B89D-BF24D2FE8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AED0-8C8D-4BC3-B5FE-CFAD48F08C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EC8F1-CBC5-442A-BED8-01E2EC08E3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0AA32-03A3-40D7-A7D1-13DB74455E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C2362-AA58-46E2-B075-7A230A90C3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DEAF0-0181-4EAA-B1DB-0013B981C0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6657E-4EA6-47A4-A95F-7E3B3B4802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4CF58-A54C-40DE-9E6A-54857AEA12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E3573-C3DD-41DE-8197-AF08747741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6CC51-7739-4923-BFD5-00AA3E75CF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75C12-C424-4E75-838F-7FC8CAAB74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9A683-3E51-4898-AA22-3D9E43280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1F14-46F0-46DF-AEA8-26064A5EAD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2927D-5D2E-4F48-A878-B637C003D3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D8A00-86C2-45FB-8EEF-2E4899DE75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7DBFB-E4C9-470F-B6B2-67CF9F40D2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7B82B-9610-49C0-B6F7-BE5C00FF6B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E24C8-44C2-40E2-96D7-B8BCE0D07F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421A3-BF87-4035-A2BE-FC294AE527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C1670-158B-4D6C-85F7-47F9F2AD73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38600-98B6-4D67-A67B-4692F087B16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7950E-785A-4D4C-B34F-5E4216A308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27292-6539-4F90-9A4E-050E8EF6B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FF35-6FB7-42BB-9F50-F4F8F64CC59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D0260-1786-4024-ABEB-10961076EF2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7D2C-27F3-4702-A3C1-387A270FC3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9D5F-BDE6-4788-A7E6-9F3A51199DC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59AC-2621-412B-AFEA-017C93F1010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F0E3-6F92-4BAB-8F05-55D9BB4FB0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DF31-AAED-44E8-BC61-8F071C1E1E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2864-CFFD-4BA7-8C3D-11F6DFFDE8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98A7-E830-4F70-8885-E56A2DBCE9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BA13-7E10-49FE-9B81-7EB1BF84E6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9BF7-B95A-412A-A9DF-42EFBE362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7EE5-C06C-4CF1-A5DA-98E4BF5D0D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0C55-8D7D-4B91-ADD2-812CE434110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91EE-57A3-400E-B6F5-AB35C9091A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42D9-100E-499C-A484-00AEA17B23A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82F510-FFDC-410B-BABB-91FDDCE482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4D81E-0EA4-4E2E-942C-FC5EF1B5178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A2E492-757E-40AC-961E-DCEB829F8D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933FA-FFDA-4D44-AFC6-0D20B3E8FA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6432F-4EAA-48D3-876C-ADBF56D513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727E0-D2F0-40C2-A3E4-17EAFAC247D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1431C-D8EE-45E1-BD28-B8A80D822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D5D4-FEF6-442B-83A0-BF942F0F34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7DF79-C379-45D2-864A-2D8A3D0F1A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CDD0E-B49D-462A-9F22-E4561D4D55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54D4C-5030-4F07-B289-D25139BE76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C789E-CF8C-46FC-B95D-7331A084A6F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9E7D5-E02C-40F0-A563-EA478AC9EEF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03FC6-3CC3-4B91-9F17-76EC46A5822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FCBEF-12A5-4A20-A09D-5E7B3C1DF90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EF858-E29F-4FBB-B529-77604C6C42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4A22F-4C2C-4639-B93F-A13CCFC9879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887E6-9F0D-47EA-9349-14AF21AB6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0DA6-6D7F-4AA2-8632-D0C67821AA5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6AC40-E8B2-43B8-B952-149589BF9D4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73197-E2EB-4C05-891B-3B11BE4E3A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17658-6DCA-47FD-8C79-0AB54C5B09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293BC-D097-4445-9BF0-2E1FB83314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B3B7C-4366-4AAD-BE5C-5E857D35CF4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1E3F4-596C-4F49-AAEF-6727A443CFA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9EC09-EF43-49C3-B93F-E73255B4C7C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4DEF-366D-4132-A761-6A96A9E9BB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AF51-DDB1-47C1-ADC4-B7791C82B3C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A7B0-8955-4F92-9F75-B66A227D2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392E4CC0-0813-4FB0-B058-2793783C227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0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1 -</a:t>
            </a:r>
            <a:fld id="{8BC26917-7D23-40C0-B6A3-2600178B21B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1 -</a:t>
            </a:r>
            <a:fld id="{B2547D2E-6B7A-48D0-82FC-8F36867A74B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2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h1 -</a:t>
            </a:r>
            <a:fld id="{920549EA-3DA0-46C7-BE9B-D7CDA01D0DE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2"/>
          <p:cNvSpPr/>
          <p:nvPr/>
        </p:nvSpPr>
        <p:spPr>
          <a:xfrm>
            <a:off x="0" y="231840"/>
            <a:ext cx="914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eceef"/>
                </a:solidFill>
                <a:latin typeface="Arial"/>
              </a:rPr>
              <a:t>Risks of Financial Instit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1752480"/>
            <a:ext cx="91710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472392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Copyright © 2014  by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5AEAC44D-0969-4509-BD6B-FCE0B8A5BB0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1E1CA0B8-B302-4044-8946-2E17F2E58FD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32F69483-316A-4FB2-B7D2-E9CB849EACF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DF0A4FD1-E1CE-4518-91E4-3F66C1108E6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1 -</a:t>
            </a:r>
            <a:fld id="{CF9182DA-AEA2-4006-81D9-FA8FE31892D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64A820EB-6768-453B-B7F9-3A187E9510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1 -</a:t>
            </a:r>
            <a:fld id="{BFBD69F3-AF2B-47A1-9517-73BCCE335E7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is.org/" TargetMode="External"/><Relationship Id="rId2" Type="http://schemas.openxmlformats.org/officeDocument/2006/relationships/hyperlink" Target="http://www.federalreserve.gov/" TargetMode="External"/><Relationship Id="rId3" Type="http://schemas.openxmlformats.org/officeDocument/2006/relationships/hyperlink" Target="http://www.fdic.gov/" TargetMode="External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5"/>
          <p:cNvSpPr/>
          <p:nvPr/>
        </p:nvSpPr>
        <p:spPr>
          <a:xfrm>
            <a:off x="472428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 by the McGraw-Hill Companies, Inc. All rights reserved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ountry or Sovereign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sult of exposure to foreign government which may impose restrictions on repayments to foreig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ften lack usual recourse via court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ampl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us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Argen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E44217B5-321E-48DE-95DA-36DD83676353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 the event of restrictions, reschedulings, or outright prohibition of repayments, a FI’s remaining bargaining chip is future supply of lo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Weak position if currency collapsing or government fai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9029444A-EAD4-4FEA-9AE0-7F614FAEEF87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ountry or Sovereign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Market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457200" y="1295280"/>
            <a:ext cx="822960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curred in trading of assets and liabilities (and derivati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Short view of time horiz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Value at risk (VAR), daily earnings at risk (D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et meltdown 2008-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Mortgage backed secu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Toxic” as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ehman Brothers, Merrill Lynch, A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FA0AA69C-22DD-4E60-85B7-64C9E241CFF0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Market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et, or trading, risk present whenever a FI takes an open or unhedged long or short position in securities or foreign ex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mplications for regulators and manage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Need for 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Need for measurement of risk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D1F17897-6178-4720-BA45-CF0D05C66371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Off-Balance-Sheet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triking growth of off-balance-sheet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etters of cred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an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Derivative pos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peculative activities using off-balance-sheet items create considerable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78B81D5C-9C10-4B04-9907-556B9A15F4EB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entury Gothic"/>
              </a:rPr>
              <a:t>Technology and Operational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isk of losses resulting from inadequate or failed internal processes, people and systems, or from external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ss of backup files by BO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Unsecured wireless network at TJ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Jerome Kerviel (Société Général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Bernie Mad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‘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ndon Whale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E974A97B-5C8D-47FC-AE71-7D23AD6DBAC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Technology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echnological innovation has seen rapid grow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Automated clearing houses (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C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eal time interconnection of global FIs via satellit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2A657A85-FADC-482D-BA38-0F5C8F0B8D65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conomies of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conomies of 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perational risk not exclusively technolog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Employee fraud and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sses magnified since they affect reputation and future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2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A3830456-984E-4CED-B443-9131D7842BB1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entury Gothic"/>
              </a:rPr>
              <a:t>Technology and Operational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Insolvency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2"/>
          <p:cNvSpPr/>
          <p:nvPr/>
        </p:nvSpPr>
        <p:spPr>
          <a:xfrm>
            <a:off x="457200" y="1371600"/>
            <a:ext cx="82296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isk of insufficient capital to offset sudden decline in value of assets relative to li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riginal cause may be excessive interest rate, market, credit, off-balance-sheet, technological, FX, sovereign, and liquidity r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ashington Mu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oo big to fail” (e.g., Citigrou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CE2F2B34-182D-43FC-A938-60DB42E9DAB0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  </a:t>
            </a:r>
            <a:r>
              <a:rPr b="0" lang="en-US" sz="4000" spc="-1" strike="noStrike">
                <a:solidFill>
                  <a:srgbClr val="990033"/>
                </a:solidFill>
                <a:latin typeface="Century Gothic"/>
              </a:rPr>
              <a:t>Other Risks &amp; Interaction of Ris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Interdependencies among r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Example: Interest rates and credi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Interest rates and derivative counterparty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Discrete R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Examples include effects of war or terrorist acts, market crashes, theft, and malfeas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Changes in regulatory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5B5AEE3B-A727-46A3-9550-78D2FBFC549D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Overview</a:t>
            </a: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2"/>
          <p:cNvSpPr/>
          <p:nvPr/>
        </p:nvSpPr>
        <p:spPr>
          <a:xfrm>
            <a:off x="3808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s chapter discusses the risks faced by financial instit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Interest rate risk, market risk, credit risk, off-balance-sheet risk, foreign exchange risk, country or sovereign risk, technology risk, operational risk, liquidity risk, and insolvency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Note: These risks are not unique to F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Faced by all global fi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71B33F69-5931-45A3-9F2D-A7BF7F71581C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Pertinent Websi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2"/>
          <p:cNvSpPr/>
          <p:nvPr/>
        </p:nvSpPr>
        <p:spPr>
          <a:xfrm>
            <a:off x="304920" y="1600200"/>
            <a:ext cx="3886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nk for International Sett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deral Rese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deral Deposit Insurance Corp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FBE73542-4FD8-4874-AF3D-E9C2E3042197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4267080" y="1600200"/>
            <a:ext cx="45720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bis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federalreserve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fdic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30492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entury Gothic"/>
              </a:rPr>
              <a:t>Risks of Financial Intermedi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457200" y="13716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rate risk resulting from mismatch in asset &amp; liability matur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Spread changes as interest rates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Since value = PV(Cash flows), equity affect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Balance sheet hedge via matching maturities of assets and liabilities is problematic for F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Inconsistent with asset transformation 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efinancing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einvestmen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3A5C40C7-61B0-4FBF-A947-FAEAF49642C3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redit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457200" y="13716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isk that promised cash flows are not paid in 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High rate of charge-offs of debt in the 1980s, most of the 1990s, and 2000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harge-offs continued to grow until late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rm specific credit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ystematic credit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743CEC69-82B3-4E0A-91B4-2679ECA1A0D3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304920" y="3808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Charge-Off Rates for Commercial B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E9AD9089-BD6E-4F00-878D-961792E77E62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509760" y="1371600"/>
            <a:ext cx="79484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entury Gothic"/>
              </a:rPr>
              <a:t>Implications of Growing Credit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mportance of credit screening &amp; 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iversification of credit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sales, reschedul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redit deriv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29E31BE9-9A44-44B1-8D15-E68D114901E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Liquidity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457200" y="15238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isk of being forced to borrow or sell assets in a very short period of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w prices 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y generate 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uns may turn liquidity problem into solvency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Failure of IndyMac in summer of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57EAC79B-F329-403C-BF8F-63F7D9D9B65E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Foreign Exchange Ris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57200" y="1523880"/>
            <a:ext cx="822960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may be net long or net short in various curr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turns on foreign and domestic investment are not perfectly cor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X rates may not be cor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Example: $/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Times New Roman"/>
              </a:rPr>
              <a:t>€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 may be increasing while $/¥ decreasing and relationship between ¥ and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Times New Roman"/>
              </a:rPr>
              <a:t>€ time var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ndiversified foreign exposure creates FX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2885CEF1-6F72-4FBF-A4B9-E3C925D69092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457200" y="1600200"/>
            <a:ext cx="82296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Note that completely hedging foreign exposure by matching foreign assets and liabilities requires matching the maturities as well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Otherwise, exposure to foreign interest rate risk re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*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More correctly, FI must match durations, rather than maturities. See Chapter 8-9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43ACB03B-5B07-4742-818E-122BFC259703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Foreign Exchange Ris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8:12:47Z</dcterms:created>
  <dc:creator>Kenneth R. Stanton</dc:creator>
  <dc:description/>
  <dc:language>en-US</dc:language>
  <cp:lastModifiedBy>monera</cp:lastModifiedBy>
  <dcterms:modified xsi:type="dcterms:W3CDTF">2015-01-27T06:33:07Z</dcterms:modified>
  <cp:revision>137</cp:revision>
  <dc:subject>Depository Institutions</dc:subject>
  <dc:title>Chapter 2</dc:title>
</cp:coreProperties>
</file>