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F200-C4A0-4F5C-A4AE-0C5AD3BF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05F9-86D6-4EA2-A331-5E30D35B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8FCE-1719-4F8B-BFB5-F31FE112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9CEA-DC9A-46CE-B90F-B202D635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921B-01E3-49EB-96FB-CAF19735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F33C-3185-49F1-A27E-15413E9C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B21B-81FC-4EC2-A2FC-004D3337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E0D2-E172-4B7B-ACCB-45A82C03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5BE6-7F54-4F27-9DF1-7B5B091A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9AC0-6876-4019-9570-CB60D12E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E42D-D671-45E6-955D-F8703CDA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0995-9152-42C2-A781-2E616C05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-245160" y="647712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70A3D40-8244-49AD-B75C-3E866EBF19FF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-245160" y="647712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6B7A65C-6F6B-4B00-9737-C9CC2D4FDB94}" type="slidenum">
              <a:rPr b="1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317E-478A-459D-8E29-124A74E52169}" type="slidenum">
              <a:rPr b="0" lang="ar-S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balqahtani@ksu.edu.sa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152280" y="76320"/>
            <a:ext cx="87631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Name: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Applied Phys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 and number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305 Ph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ish of course : Engl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xt book: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hysics for Scientists and Engine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hor: Raymond A. Serwa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llege Publishing ISBN 0-03-015654-8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0" y="41148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dobe Caslon Pro Bold"/>
                <a:ea typeface="Arabic Typesetting"/>
              </a:rPr>
              <a:t>Dr. Mohamed Alqaht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790200" y="4876920"/>
            <a:ext cx="52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balqahtani@ksu.edu.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B310-6166-42A3-8915-D7CE0BFFD9B7}" type="slidenum">
              <a:rPr b="0" lang="ar-S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380880" y="152280"/>
            <a:ext cx="8077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Force F = mass x accel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                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= ma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M (L/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kg.m/s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New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228600" y="289548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Arial"/>
              </a:rPr>
              <a:t>III- Dimensionless Quant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 with no units) 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- refractive index 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- constant Pi 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- Atomic weight (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"/>
          <p:cNvSpPr/>
          <p:nvPr/>
        </p:nvSpPr>
        <p:spPr>
          <a:xfrm>
            <a:off x="304920" y="304920"/>
            <a:ext cx="8610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Quantities also classified  into 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calar Quant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fined by number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mass- length- time- 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Vector Quant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by number and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magnetic force, 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0" y="4114800"/>
            <a:ext cx="875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To measure any quantities there are two 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1- we must have a measuring instru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direct or indire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2- we must have a system unit of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7086600" y="3808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6858000" y="2362320"/>
            <a:ext cx="190512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52280" y="152280"/>
            <a:ext cx="8686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two types of uni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-Gauss Unit (cgs)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Length (cm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mass  (gram)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Time (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- System International  (S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Length (m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mass (kg)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Time (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physics, we deal with quantities which are very small to very large from 10</a:t>
            </a:r>
            <a:r>
              <a:rPr b="0" lang="en-US" sz="3600" spc="-1" strike="noStrike" baseline="40000">
                <a:solidFill>
                  <a:srgbClr val="000000"/>
                </a:solidFill>
                <a:latin typeface="Arial"/>
              </a:rPr>
              <a:t>-1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o 10</a:t>
            </a:r>
            <a:r>
              <a:rPr b="0" lang="en-US" sz="3600" spc="-1" strike="noStrike" baseline="40000">
                <a:solidFill>
                  <a:srgbClr val="000000"/>
                </a:solidFill>
                <a:latin typeface="Arial"/>
              </a:rPr>
              <a:t>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5F02-01CD-4671-93C6-2A604E364E1A}" type="slidenum">
              <a:rPr b="0" lang="ar-S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1295280"/>
          <a:ext cx="7315200" cy="495324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  <a:gridCol w="1219320"/>
              </a:tblGrid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act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Na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ymbo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40000">
                          <a:solidFill>
                            <a:srgbClr val="ff33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Yat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40000">
                          <a:solidFill>
                            <a:srgbClr val="ff33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Zet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40000">
                          <a:solidFill>
                            <a:srgbClr val="ff33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Ex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40000">
                          <a:solidFill>
                            <a:srgbClr val="ff33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40000">
                          <a:solidFill>
                            <a:srgbClr val="ff33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40000">
                          <a:solidFill>
                            <a:srgbClr val="ff33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Gi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</a:rPr>
                        <a:t>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40000">
                          <a:solidFill>
                            <a:srgbClr val="ff33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e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</a:rPr>
                        <a:t>-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40000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ki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</a:rPr>
                        <a:t>-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40000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he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</a:rPr>
                        <a:t>-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p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40000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e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</a:rPr>
                        <a:t>-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5" name="TextBox 28"/>
          <p:cNvSpPr/>
          <p:nvPr/>
        </p:nvSpPr>
        <p:spPr>
          <a:xfrm>
            <a:off x="1794600" y="6094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9"/>
          <p:cNvSpPr/>
          <p:nvPr/>
        </p:nvSpPr>
        <p:spPr>
          <a:xfrm>
            <a:off x="5383080" y="60948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3. Ve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610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ctors has magnitude as well as dir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 symb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perties of V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 of Vector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Magnitude and direction of vect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nd the two components of vect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A co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0 cos 60 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A s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 sin 60 = 8.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"/>
          <p:cNvSpPr/>
          <p:nvPr/>
        </p:nvSpPr>
        <p:spPr>
          <a:xfrm flipV="1">
            <a:off x="7162920" y="914040"/>
            <a:ext cx="91440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783120" y="14479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2819520" y="1523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6934320" y="62485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 flipV="1">
            <a:off x="6934320" y="50288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 flipV="1">
            <a:off x="6934320" y="533412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7848720" y="4952880"/>
            <a:ext cx="4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6934320" y="5943600"/>
            <a:ext cx="52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6172200" y="2057400"/>
            <a:ext cx="2540160" cy="2082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Object 9"/>
          <p:cNvGraphicFramePr/>
          <p:nvPr/>
        </p:nvGraphicFramePr>
        <p:xfrm>
          <a:off x="380880" y="2819520"/>
          <a:ext cx="395604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819520"/>
                    <a:ext cx="39560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10"/>
          <p:cNvGraphicFramePr/>
          <p:nvPr/>
        </p:nvGraphicFramePr>
        <p:xfrm>
          <a:off x="380880" y="3809880"/>
          <a:ext cx="4114800" cy="968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3809880"/>
                    <a:ext cx="41148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ectors in thre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 component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 magnitu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Vector A= 4i+2j-4k, find the magnitude IAI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4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-4  and the magn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5"/>
          <p:cNvSpPr/>
          <p:nvPr/>
        </p:nvSpPr>
        <p:spPr>
          <a:xfrm flipV="1">
            <a:off x="5715000" y="2742480"/>
            <a:ext cx="1752480" cy="74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5486400" y="762120"/>
            <a:ext cx="3406680" cy="2514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6" name="Object 19"/>
              <p:cNvSpPr txBox="1"/>
              <p:nvPr/>
            </p:nvSpPr>
            <p:spPr>
              <a:xfrm>
                <a:off x="905040" y="1328760"/>
                <a:ext cx="32176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j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21"/>
              <p:cNvSpPr txBox="1"/>
              <p:nvPr/>
            </p:nvSpPr>
            <p:spPr>
              <a:xfrm>
                <a:off x="533520" y="2514600"/>
                <a:ext cx="41796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ad>
                      <m:deg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9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3"/>
              <p:cNvSpPr txBox="1"/>
              <p:nvPr/>
            </p:nvSpPr>
            <p:spPr>
              <a:xfrm>
                <a:off x="838080" y="5867280"/>
                <a:ext cx="42674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ad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5943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4. Adding Vecto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vector        added to vector      equal vecto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y draw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f                                an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i + 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j + 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vector  A= 3i+5j+2k and vector B= -i+2j-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+3-1)i +(+5+2)j + (+2-1) 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i + 7j+k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4724280" y="1295280"/>
            <a:ext cx="3621240" cy="14479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23"/>
              <p:cNvSpPr txBox="1"/>
              <p:nvPr/>
            </p:nvSpPr>
            <p:spPr>
              <a:xfrm>
                <a:off x="1523880" y="880920"/>
                <a:ext cx="6858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25"/>
              <p:cNvSpPr txBox="1"/>
              <p:nvPr/>
            </p:nvSpPr>
            <p:spPr>
              <a:xfrm>
                <a:off x="4724280" y="949320"/>
                <a:ext cx="45720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7"/>
              <p:cNvSpPr txBox="1"/>
              <p:nvPr/>
            </p:nvSpPr>
            <p:spPr>
              <a:xfrm>
                <a:off x="7315200" y="880920"/>
                <a:ext cx="5335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30"/>
              <p:cNvSpPr txBox="1"/>
              <p:nvPr/>
            </p:nvSpPr>
            <p:spPr>
              <a:xfrm>
                <a:off x="0" y="45720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29"/>
              <p:cNvSpPr txBox="1"/>
              <p:nvPr/>
            </p:nvSpPr>
            <p:spPr>
              <a:xfrm>
                <a:off x="1371600" y="2028960"/>
                <a:ext cx="29894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Rectangle 32"/>
          <p:cNvSpPr/>
          <p:nvPr/>
        </p:nvSpPr>
        <p:spPr>
          <a:xfrm>
            <a:off x="0" y="6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33"/>
              <p:cNvSpPr txBox="1"/>
              <p:nvPr/>
            </p:nvSpPr>
            <p:spPr>
              <a:xfrm>
                <a:off x="1363680" y="2824200"/>
                <a:ext cx="26067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x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y</m:t>
                    </m:r>
                    <m:r>
                      <m:t xml:space="preserve">j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z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35"/>
              <p:cNvSpPr txBox="1"/>
              <p:nvPr/>
            </p:nvSpPr>
            <p:spPr>
              <a:xfrm>
                <a:off x="5156280" y="2921040"/>
                <a:ext cx="24876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j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37"/>
              <p:cNvSpPr txBox="1"/>
              <p:nvPr/>
            </p:nvSpPr>
            <p:spPr>
              <a:xfrm>
                <a:off x="863640" y="3395520"/>
                <a:ext cx="26906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38"/>
              <p:cNvSpPr txBox="1"/>
              <p:nvPr/>
            </p:nvSpPr>
            <p:spPr>
              <a:xfrm>
                <a:off x="560520" y="5521320"/>
                <a:ext cx="276372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76320" y="990720"/>
            <a:ext cx="4267080" cy="64306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calar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•B=IAIIBI Cos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0</a:t>
            </a:r>
            <a:r>
              <a:rPr b="0" lang="en-US" sz="3200" spc="-1" strike="noStrike" baseline="30000">
                <a:solidFill>
                  <a:srgbClr val="00b0f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o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9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and B are parall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= 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Cos 0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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•B=IAIIBI       1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and B are perpendicul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90 , Cos 0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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•B=0          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572000" y="990720"/>
            <a:ext cx="4267080" cy="570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ctor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xB=IAIIBI si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9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and B are parall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0 , sin 0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xB = 0            1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and B are perpendicu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90 , sin90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xB=IAIIBI      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3"/>
          <p:cNvSpPr/>
          <p:nvPr/>
        </p:nvSpPr>
        <p:spPr>
          <a:xfrm>
            <a:off x="2598840" y="152280"/>
            <a:ext cx="419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Vector produc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52280" y="1447920"/>
          <a:ext cx="8839440" cy="4992480"/>
        </p:xfrm>
        <a:graphic>
          <a:graphicData uri="http://schemas.openxmlformats.org/drawingml/2006/table">
            <a:tbl>
              <a:tblPr/>
              <a:tblGrid>
                <a:gridCol w="762120"/>
                <a:gridCol w="7010280"/>
                <a:gridCol w="1067040"/>
              </a:tblGrid>
              <a:tr h="636120"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26"/>
                        </a:spcBef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p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26"/>
                        </a:spcBef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26"/>
                        </a:spcBef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e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3600"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26"/>
                        </a:spcBef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ic physical concep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Units – Physical quantizes , Vectors , Vectors addition,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ctor multiplication 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4040"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26"/>
                        </a:spcBef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ctric Fie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lomb’s Law, The Electric Field, Electric Field Lin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8720"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26"/>
                        </a:spcBef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rrent and Resistance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ctric Current, Resistance, Resistance and Temperature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ctric Powe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26"/>
                        </a:spcBef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Rectangle 1"/>
          <p:cNvSpPr/>
          <p:nvPr/>
        </p:nvSpPr>
        <p:spPr>
          <a:xfrm>
            <a:off x="2133720" y="45864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COURSE SYLLABUS</a:t>
            </a:r>
            <a:r>
              <a:rPr b="1" i="1" lang="en-US" sz="1300" spc="-1" strike="noStrike">
                <a:solidFill>
                  <a:srgbClr val="0000ff"/>
                </a:solidFill>
                <a:latin typeface="Arial"/>
                <a:ea typeface="Times New Roman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380880" y="990720"/>
          <a:ext cx="8382240" cy="4962240"/>
        </p:xfrm>
        <a:graphic>
          <a:graphicData uri="http://schemas.openxmlformats.org/drawingml/2006/table">
            <a:tbl>
              <a:tblPr/>
              <a:tblGrid>
                <a:gridCol w="762120"/>
                <a:gridCol w="6477120"/>
                <a:gridCol w="1066680"/>
                <a:gridCol w="76320"/>
              </a:tblGrid>
              <a:tr h="239400">
                <a:tc rowSpan="2"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26"/>
                        </a:spcBef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tion of Capacitance, Calculating Capacitance, Combinations of Capacitors and Energy Stored in a Charged Capacitor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26"/>
                        </a:spcBef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26"/>
                        </a:spcBef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0">
                <a:tc rowSpan="2"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26"/>
                        </a:spcBef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rect Current Circuit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ctromotive Force, Resistors in Series and Parallel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irchoff’s Rules, RC Circu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26"/>
                        </a:spcBef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8760"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26"/>
                        </a:spcBef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uctance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f Inductance, RL Circuits, Energy in a Magnetic field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tual Inductance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26"/>
                        </a:spcBef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228600" y="533520"/>
          <a:ext cx="8686800" cy="5479920"/>
        </p:xfrm>
        <a:graphic>
          <a:graphicData uri="http://schemas.openxmlformats.org/drawingml/2006/table">
            <a:tbl>
              <a:tblPr/>
              <a:tblGrid>
                <a:gridCol w="592200"/>
                <a:gridCol w="7027920"/>
                <a:gridCol w="1066680"/>
              </a:tblGrid>
              <a:tr h="3518280"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26"/>
                        </a:spcBef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ernating Current Circuit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 Sources, Resistors in an AC circuit, Inductors in an AC Circuit, Capacitors in an AC Circuit, The RLC Series Circuit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wer in an AC Circuit, Resonance in a Series RLC Circui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spcBef>
                          <a:spcPts val="726"/>
                        </a:spcBef>
                        <a:spcAft>
                          <a:spcPts val="4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26"/>
                        </a:spcBef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1640"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26"/>
                        </a:spcBef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tes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- AND- OR- XORNAND- NOR- NX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1296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26"/>
                        </a:spcBef>
                        <a:spcAft>
                          <a:spcPts val="7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960" marR="12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990720" y="1219320"/>
          <a:ext cx="7391160" cy="5092560"/>
        </p:xfrm>
        <a:graphic>
          <a:graphicData uri="http://schemas.openxmlformats.org/drawingml/2006/table">
            <a:tbl>
              <a:tblPr/>
              <a:tblGrid>
                <a:gridCol w="2639880"/>
                <a:gridCol w="1398600"/>
                <a:gridCol w="1504800"/>
                <a:gridCol w="1847880"/>
              </a:tblGrid>
              <a:tr h="536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x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rk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63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1st Midterm </a:t>
                      </a:r>
                      <a:r>
                        <a:rPr b="0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65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2nd Midterm </a:t>
                      </a:r>
                      <a:r>
                        <a:rPr b="0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49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Lab Experimen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&amp; Exam </a:t>
                      </a:r>
                      <a:r>
                        <a:rPr b="0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9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Attendance and 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63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Final </a:t>
                      </a:r>
                      <a:r>
                        <a:rPr b="0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65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TOTAL </a:t>
                      </a: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85" name="TextBox 2"/>
          <p:cNvSpPr/>
          <p:nvPr/>
        </p:nvSpPr>
        <p:spPr>
          <a:xfrm>
            <a:off x="2819520" y="228600"/>
            <a:ext cx="360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o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physical concepts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1676520" y="2514600"/>
            <a:ext cx="6019560" cy="31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spcAft>
                <a:spcPts val="437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s and dimensional 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spcAft>
                <a:spcPts val="437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quantizes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spcAft>
                <a:spcPts val="437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tors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spcAft>
                <a:spcPts val="437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tors addition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spcAft>
                <a:spcPts val="437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tor multiplication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B6BC-028F-420F-8B1B-5C33FAD19AEA}" type="slidenum">
              <a:rPr b="0" lang="ar-S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1.Units and Dimensional Analys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152280" y="3809880"/>
            <a:ext cx="86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use many quantities in everyday lif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Arial"/>
              </a:rPr>
              <a:t>Length – Mass – Time – temperature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b0f0"/>
                </a:solidFill>
                <a:latin typeface="Arial"/>
              </a:rPr>
              <a:t>Current- Voltage – Power- velocity – et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228600" y="762120"/>
            <a:ext cx="876312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 quantity that we can measure by measuring tool and express as number is call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0f0"/>
                </a:solidFill>
                <a:latin typeface="Arial"/>
              </a:rPr>
              <a:t>Physical Quantities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2"/>
          <p:cNvSpPr/>
          <p:nvPr/>
        </p:nvSpPr>
        <p:spPr>
          <a:xfrm>
            <a:off x="380880" y="228600"/>
            <a:ext cx="83059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Physical quantities are divided i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Arial"/>
              </a:rPr>
              <a:t>I- basic or fundamentals quant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They can not be expressed in terms of other quant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09480" y="2666880"/>
          <a:ext cx="7543800" cy="3733920"/>
        </p:xfrm>
        <a:graphic>
          <a:graphicData uri="http://schemas.openxmlformats.org/drawingml/2006/table">
            <a:tbl>
              <a:tblPr/>
              <a:tblGrid>
                <a:gridCol w="2514600"/>
                <a:gridCol w="1540080"/>
                <a:gridCol w="3489120"/>
              </a:tblGrid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ntiti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mbo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(met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 (kilogra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(seco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Ampe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olute Temperatu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 (degree Kelv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 of substan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 (mo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minous intens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 (cande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228600" y="152280"/>
            <a:ext cx="868680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Arial"/>
              </a:rPr>
              <a:t>II- Derived Quanti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quantities which expressed in terms of the fundamental quantities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Velocity (v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=  length / 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L /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m /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cceleration (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Velocity / 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L/T)/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L/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m /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ensity (D)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ass/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M /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kg 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0T19:21:44Z</dcterms:created>
  <dc:creator>Laura Murray</dc:creator>
  <dc:description/>
  <dc:language>en-US</dc:language>
  <cp:lastModifiedBy>admin</cp:lastModifiedBy>
  <dcterms:modified xsi:type="dcterms:W3CDTF">2016-10-05T07:34:23Z</dcterms:modified>
  <cp:revision>186</cp:revision>
  <dc:subject/>
  <dc:title>Slide 1</dc:title>
</cp:coreProperties>
</file>