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86F-34FB-42C5-9249-00E54522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380-9B96-43F4-9907-98CF4A2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435-25C3-463B-97FF-0CB0FF1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F6F-4E72-4220-837B-6DB110B0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8AC-EA71-47F0-BAFF-D2572A8C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7D1-6471-4A1F-9DF5-CAA989B9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DD2-F5BE-47CB-B09B-D9724EC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1A8-16FF-4021-98D8-143FFA0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82A-344B-412C-B8B3-30F5D457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B30-54FC-4640-81DA-EF39130B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824-44C6-4B29-92D6-4189D546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457-8D73-4BA3-8619-2646C86E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231C18D-BB6A-4AE0-A0CC-6FCE53C5475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A11791-00A7-41BA-95A2-C5E2EC447C8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9975-70D6-400A-AEB2-137E4490E60A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balqahtani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152280" y="76320"/>
            <a:ext cx="8763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Name: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Applied Phy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and numb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305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ish of course :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book: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for Scientists and Engine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hor: Raymond A. Serw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ge Publishing ISBN 0-03-015654-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0" y="4114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dobe Caslon Pro Bold"/>
                <a:ea typeface="Arabic Typesetting"/>
              </a:rPr>
              <a:t>Dr. Mohamed Alqaht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90200" y="4876920"/>
            <a:ext cx="52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balqahtani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7B2-5155-418D-A3BF-B835D9F6E2F5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152280"/>
            <a:ext cx="8077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Force F = mass x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 m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M (L/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kg.m/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28600" y="2895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II- Dimensionless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with no units)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 refractive index 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constant Pi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- Atomic weight 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04920" y="30492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Quantities also classified  into 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ar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ned by numbe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ass- length- time-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number and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agnetic force,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0" y="4114800"/>
            <a:ext cx="875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o measure any quantities there are two 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- we must have a measuring instr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direct or in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2- we must have a system unit of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280" y="15228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two types of un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Gauss Unit (cgs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ength (c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ass  (gram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ime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System International  (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ength (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ass (kg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ime (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hysics, we deal with quantities which are very small to very large from 10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10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BDC2-73A2-4CC3-B389-7CEA8864DA90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295280"/>
          <a:ext cx="7315200" cy="4953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ymb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a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Z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p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28"/>
          <p:cNvSpPr/>
          <p:nvPr/>
        </p:nvSpPr>
        <p:spPr>
          <a:xfrm>
            <a:off x="1794600" y="609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538308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s has magnitude as well as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sym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erties of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Vect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agnitude and direction of vec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nd the two components of vec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 cos 60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sin 60 = 8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V="1">
            <a:off x="7162920" y="91404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783120" y="14479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19520" y="1523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6934320" y="6248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V="1">
            <a:off x="6934320" y="5028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6934320" y="5334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7848720" y="4952880"/>
            <a:ext cx="4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6934320" y="594360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540160" cy="208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9"/>
          <p:cNvGraphicFramePr/>
          <p:nvPr/>
        </p:nvGraphicFramePr>
        <p:xfrm>
          <a:off x="380880" y="2819520"/>
          <a:ext cx="39560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3956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380880" y="3809880"/>
          <a:ext cx="4114800" cy="96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809880"/>
                    <a:ext cx="41148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ctors in thre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componen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magn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A= 4i+2j-4k, find the magnitude IA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-4  and the magn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5"/>
          <p:cNvSpPr/>
          <p:nvPr/>
        </p:nvSpPr>
        <p:spPr>
          <a:xfrm flipV="1">
            <a:off x="5715000" y="2742480"/>
            <a:ext cx="1752480" cy="7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340668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9"/>
              <p:cNvSpPr txBox="1"/>
              <p:nvPr/>
            </p:nvSpPr>
            <p:spPr>
              <a:xfrm>
                <a:off x="905040" y="1328760"/>
                <a:ext cx="321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1"/>
              <p:cNvSpPr txBox="1"/>
              <p:nvPr/>
            </p:nvSpPr>
            <p:spPr>
              <a:xfrm>
                <a:off x="533520" y="2514600"/>
                <a:ext cx="4179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3"/>
              <p:cNvSpPr txBox="1"/>
              <p:nvPr/>
            </p:nvSpPr>
            <p:spPr>
              <a:xfrm>
                <a:off x="838080" y="5867280"/>
                <a:ext cx="4267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4. Adding Vec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       added to vector      equal vect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 dra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f                                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 +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j +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vector  A= 3i+5j+2k and vector B= -i+2j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+3-1)i +(+5+2)j + (+2-1)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i + 7j+k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62124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3"/>
              <p:cNvSpPr txBox="1"/>
              <p:nvPr/>
            </p:nvSpPr>
            <p:spPr>
              <a:xfrm>
                <a:off x="1523880" y="880920"/>
                <a:ext cx="685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5"/>
              <p:cNvSpPr txBox="1"/>
              <p:nvPr/>
            </p:nvSpPr>
            <p:spPr>
              <a:xfrm>
                <a:off x="4724280" y="949320"/>
                <a:ext cx="457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7315200" y="880920"/>
                <a:ext cx="533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0" y="4572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9"/>
              <p:cNvSpPr txBox="1"/>
              <p:nvPr/>
            </p:nvSpPr>
            <p:spPr>
              <a:xfrm>
                <a:off x="1371600" y="2028960"/>
                <a:ext cx="2989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32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3"/>
              <p:cNvSpPr txBox="1"/>
              <p:nvPr/>
            </p:nvSpPr>
            <p:spPr>
              <a:xfrm>
                <a:off x="1363680" y="2824200"/>
                <a:ext cx="2606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y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z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5"/>
              <p:cNvSpPr txBox="1"/>
              <p:nvPr/>
            </p:nvSpPr>
            <p:spPr>
              <a:xfrm>
                <a:off x="5156280" y="2921040"/>
                <a:ext cx="2487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7"/>
              <p:cNvSpPr txBox="1"/>
              <p:nvPr/>
            </p:nvSpPr>
            <p:spPr>
              <a:xfrm>
                <a:off x="863640" y="3395520"/>
                <a:ext cx="2690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8"/>
              <p:cNvSpPr txBox="1"/>
              <p:nvPr/>
            </p:nvSpPr>
            <p:spPr>
              <a:xfrm>
                <a:off x="560520" y="5521320"/>
                <a:ext cx="2763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76320" y="990720"/>
            <a:ext cx="4267080" cy="643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ala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•B=IAIIBI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0</a:t>
            </a:r>
            <a:r>
              <a:rPr b="0" lang="en-US" sz="3200" spc="-1" strike="noStrike" baseline="30000">
                <a:solidFill>
                  <a:srgbClr val="00b0f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=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Cos 0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•B=IAIIBI       1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90 , Cos 0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•B=0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0" y="990720"/>
            <a:ext cx="4267080" cy="57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B=IAIIBI si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and B are parall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 , sin 0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xB = 0            1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and B are perpend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90 , sin90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xB=IAIIBI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598840" y="15228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Vecto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280" y="1447920"/>
          <a:ext cx="8839440" cy="4992480"/>
        </p:xfrm>
        <a:graphic>
          <a:graphicData uri="http://schemas.openxmlformats.org/drawingml/2006/table">
            <a:tbl>
              <a:tblPr/>
              <a:tblGrid>
                <a:gridCol w="762120"/>
                <a:gridCol w="7010280"/>
                <a:gridCol w="1067040"/>
              </a:tblGrid>
              <a:tr h="63612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physical concep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Units – Physical quantizes , Vectors , Vectors addition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tor multiplication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lomb’s Law, The Electric Field, Electric Field Lin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and Resistanc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Current, Resistance, Resistance and Temperatu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Pow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2133720" y="458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OURSE SYLLABUS</a:t>
            </a:r>
            <a:r>
              <a:rPr b="1" i="1" lang="en-US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990720"/>
          <a:ext cx="8382240" cy="4962240"/>
        </p:xfrm>
        <a:graphic>
          <a:graphicData uri="http://schemas.openxmlformats.org/drawingml/2006/table">
            <a:tbl>
              <a:tblPr/>
              <a:tblGrid>
                <a:gridCol w="762120"/>
                <a:gridCol w="6477120"/>
                <a:gridCol w="1066680"/>
                <a:gridCol w="76320"/>
              </a:tblGrid>
              <a:tr h="239400"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 of Capacitance, Calculating Capacitance, Combinations of Capacitors and Energy Stored in a Charged Capacito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Current Circui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motive Force, Resistors in Series and Parallel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rchoff’s Rules, RC Circ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876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tanc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 Inductance, RL Circuits, Energy in a Magnetic fiel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ual Inductan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533520"/>
          <a:ext cx="8686800" cy="5479920"/>
        </p:xfrm>
        <a:graphic>
          <a:graphicData uri="http://schemas.openxmlformats.org/drawingml/2006/table">
            <a:tbl>
              <a:tblPr/>
              <a:tblGrid>
                <a:gridCol w="592200"/>
                <a:gridCol w="7027920"/>
                <a:gridCol w="1066680"/>
              </a:tblGrid>
              <a:tr h="351828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ng Current Circui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Sources, Resistors in an AC circuit, Inductors in an AC Circuit, Capacitors in an AC Circuit, The RLC Series Circuit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in an AC Circuit, Resonance in a Series RLC Circu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164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te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- AND- OR- XORNAND- NOR- NX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90720" y="1219320"/>
          <a:ext cx="7391160" cy="5092560"/>
        </p:xfrm>
        <a:graphic>
          <a:graphicData uri="http://schemas.openxmlformats.org/drawingml/2006/table">
            <a:tbl>
              <a:tblPr/>
              <a:tblGrid>
                <a:gridCol w="2639880"/>
                <a:gridCol w="1398600"/>
                <a:gridCol w="1504800"/>
                <a:gridCol w="1847880"/>
              </a:tblGrid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1st Midter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2nd Midter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Lab Experi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&amp; Exa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Attendance and 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Final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TOTAL </a:t>
                      </a: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5" name="TextBox 2"/>
          <p:cNvSpPr/>
          <p:nvPr/>
        </p:nvSpPr>
        <p:spPr>
          <a:xfrm>
            <a:off x="2819520" y="228600"/>
            <a:ext cx="36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hysical concepts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676520" y="2514600"/>
            <a:ext cx="601956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and dimensional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quantize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additi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 multiplication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2F7-B56F-463D-84DC-AF1136E94833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.Units and Dimensional Analy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52280" y="38098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use many quantities in everyday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Length – Mass – Time – temperature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Current- Voltage – Power- velocity – et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762120"/>
            <a:ext cx="87631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ity that we can measure by measuring tool and express as number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Physical Quantiti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380880" y="228600"/>
            <a:ext cx="83059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hysical quantities are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- basic or fundamentals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They can not be expressed in terms of other quant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666880"/>
          <a:ext cx="7543800" cy="3733920"/>
        </p:xfrm>
        <a:graphic>
          <a:graphicData uri="http://schemas.openxmlformats.org/drawingml/2006/table">
            <a:tbl>
              <a:tblPr/>
              <a:tblGrid>
                <a:gridCol w="2514600"/>
                <a:gridCol w="1540080"/>
                <a:gridCol w="348912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(me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(kilogr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seco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Amp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 Tempera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(degree Kelv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subst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(mo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(cande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28600" y="152280"/>
            <a:ext cx="86868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I- Derived Quant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quantities which expressed in terms of the fundamental quantitie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locity 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=  length /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 /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eleration 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elocity /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L/T)/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/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ensity (D)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ss/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kg 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9:21:44Z</dcterms:created>
  <dc:creator>Laura Murray</dc:creator>
  <dc:description/>
  <dc:language>en-US</dc:language>
  <cp:lastModifiedBy>admin</cp:lastModifiedBy>
  <dcterms:modified xsi:type="dcterms:W3CDTF">2016-10-05T07:34:23Z</dcterms:modified>
  <cp:revision>186</cp:revision>
  <dc:subject/>
  <dc:title>Slide 1</dc:title>
</cp:coreProperties>
</file>