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whoosh.wav" ContentType="audio/x-wav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arrow.wav" ContentType="audio/x-wav"/>
  <Override PartName="/ppt/media/chimes.wav" ContentType="audio/x-wav"/>
  <Override PartName="/ppt/media/image1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414080" y="1162080"/>
            <a:ext cx="418140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9357-4CC7-41FD-A841-D8E753B42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414440" y="1162080"/>
            <a:ext cx="4181400" cy="31370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AF49-D424-4EDC-BBCC-ACD252B2C40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512-070D-4E76-9542-F662CF708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5449-758B-44B8-A39E-8C4EB267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D56-D56C-4B7B-8424-92015F58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3065-B893-43F2-86A6-FEE6B9E0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EBF-5341-4C2D-9E63-D32C7C81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D476-128D-4210-BD14-085F5AF0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7F3-6C89-4B8B-A1F4-3CEE70C8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F99-E8CC-404C-A2C1-DC28113D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5AF9-0D0A-41DD-9E02-4757FA8CD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7C8-CBA9-4417-A795-A3312479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343E-4A67-4A36-97A1-C4501FC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43D6-8A0C-459B-A7DD-D284F370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3066-6006-492E-9F01-82801B387EA6}" type="slidenum">
              <a:rPr b="0" lang="ar-SA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1080" y="1009440"/>
            <a:ext cx="2171880" cy="13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Slide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9560" y="4093920"/>
            <a:ext cx="557208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CH 101 (General Biochemistry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apter 1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الخلية</a:t>
            </a:r>
            <a:br>
              <a:rPr sz="2400"/>
            </a:br>
            <a:r>
              <a:rPr b="1" lang="ar-KW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oon 7"/>
          <p:cNvSpPr/>
          <p:nvPr/>
        </p:nvSpPr>
        <p:spPr>
          <a:xfrm rot="5400000">
            <a:off x="2709000" y="-1851840"/>
            <a:ext cx="3726000" cy="914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84" y="1680"/>
                  <a:pt x="9367" y="5080"/>
                  <a:pt x="9367" y="10800"/>
                </a:cubicBezTo>
                <a:cubicBezTo>
                  <a:pt x="9367" y="16520"/>
                  <a:pt x="15484" y="199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\AppData\Local\Temp\SNAGHTMLb486764.PNG"/>
          <p:cNvPicPr/>
          <p:nvPr/>
        </p:nvPicPr>
        <p:blipFill>
          <a:blip r:embed="rId1"/>
          <a:stretch/>
        </p:blipFill>
        <p:spPr>
          <a:xfrm>
            <a:off x="858960" y="24541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\AppData\Local\Temp\SNAGHTMLb49d034.PNG"/>
          <p:cNvPicPr/>
          <p:nvPr/>
        </p:nvPicPr>
        <p:blipFill>
          <a:blip r:embed="rId2"/>
          <a:stretch/>
        </p:blipFill>
        <p:spPr>
          <a:xfrm>
            <a:off x="4211640" y="10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Admin\AppData\Local\Temp\SNAGHTMLb4b1b57.PNG"/>
          <p:cNvPicPr/>
          <p:nvPr/>
        </p:nvPicPr>
        <p:blipFill>
          <a:blip r:embed="rId3"/>
          <a:stretch/>
        </p:blipFill>
        <p:spPr>
          <a:xfrm>
            <a:off x="7564320" y="2457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2179800" y="2519280"/>
            <a:ext cx="4524120" cy="1246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Calibri"/>
              </a:rPr>
              <a:t>King  Saud University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Calibri"/>
              </a:rPr>
              <a:t>College of  Science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Calibri"/>
              </a:rPr>
              <a:t>Department of Biochemi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3693960" y="1986120"/>
            <a:ext cx="1757520" cy="285480"/>
          </a:xfrm>
          <a:prstGeom prst="rect">
            <a:avLst/>
          </a:prstGeom>
          <a:ln w="0">
            <a:noFill/>
          </a:ln>
        </p:spPr>
      </p:pic>
      <p:sp>
        <p:nvSpPr>
          <p:cNvPr id="56" name="Subtitle 2"/>
          <p:cNvSpPr/>
          <p:nvPr/>
        </p:nvSpPr>
        <p:spPr>
          <a:xfrm>
            <a:off x="250920" y="6294600"/>
            <a:ext cx="874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Prepared by  Dr. Farid Ataya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                 http://faculty.ksu.edu.sa/75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7240" y="194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Cytoplasm </a:t>
            </a:r>
            <a:r>
              <a:rPr b="1" lang="ar-SA" sz="4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سيتوبلازم</a:t>
            </a:r>
            <a:r>
              <a:rPr b="1" lang="ar-SA" sz="48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40320" y="3068280"/>
            <a:ext cx="460368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-57168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شبكة الإندوبلازمية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جسام جولجي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يتوكندريا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رايبوسومات،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24000" y="981000"/>
            <a:ext cx="855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المادة البروتوبلازمية أو الوسط الذي تنغمس فيه النواة والأجزاء الخلوية الأخرى (العضيات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وجد عدة أنواع من العضيات مثل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34920" y="3103560"/>
            <a:ext cx="3193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ليسوسومات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جوات خلوية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جسام مركز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7"/>
          <p:cNvGraphicFramePr/>
          <p:nvPr/>
        </p:nvGraphicFramePr>
        <p:xfrm>
          <a:off x="142920" y="1000080"/>
          <a:ext cx="5186160" cy="559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000080"/>
                    <a:ext cx="5186160" cy="55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9"/>
          <p:cNvSpPr/>
          <p:nvPr/>
        </p:nvSpPr>
        <p:spPr>
          <a:xfrm>
            <a:off x="235440" y="311040"/>
            <a:ext cx="89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شبكة الإندوبلازمية </a:t>
            </a:r>
            <a:r>
              <a:rPr b="1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Endoplasmic 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مربع نص 6"/>
          <p:cNvSpPr/>
          <p:nvPr/>
        </p:nvSpPr>
        <p:spPr>
          <a:xfrm>
            <a:off x="5500800" y="1571760"/>
            <a:ext cx="3643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وجد منها نوعا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شبكة إندوبلازمية ملس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شبكة إندوبلازمية خش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تميز الشبكة الخشنة بوجو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ريبوزومات على سطح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تعطيها المظهر الخش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ريبوسومات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780000" y="2279160"/>
            <a:ext cx="490680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136800" indent="-136800" algn="just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هي مكان تصنيع البروتينات بالخلية وتتكون من عدة وحدات تتجمع معاً حين تصنيع البروتينات وتتفكك بعد إتمامها لمهمت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0" indent="-13680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ترجم الشفرة الوراثية المحملة على شريط الحمض النووي </a:t>
            </a:r>
            <a:r>
              <a:rPr b="0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RNA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وتنتج البروتي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36800" indent="-13680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490680" y="2125800"/>
            <a:ext cx="29289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ميتوكوندريا </a:t>
            </a:r>
            <a:r>
              <a:rPr b="1" lang="en-US" sz="33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Mitochondri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763640" y="1135080"/>
          <a:ext cx="540072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35080"/>
                    <a:ext cx="540072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7"/>
          <p:cNvSpPr/>
          <p:nvPr/>
        </p:nvSpPr>
        <p:spPr>
          <a:xfrm>
            <a:off x="325440" y="3860640"/>
            <a:ext cx="863928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أكياس صغيرة متساوية العدد بالنسبة للنوع الواحد من الخلايا. تتكون من غشائين (داخلى وخارج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غشاء الداخلي متعرج، وكلما كان احتياج الخلية للطاقة كبير كثر عدد الميتوكوندريا وكثرت الحواجز الداخلية  بها، غنية بإنزيمات الأكسدة وإنتاج الطاقة</a:t>
            </a:r>
            <a:r>
              <a:rPr b="0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TCA cycle</a:t>
            </a:r>
            <a:r>
              <a:rPr b="0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ليسوسومات </a:t>
            </a:r>
            <a:r>
              <a:rPr b="1" lang="en-US" sz="33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Lysoso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9" name="Object 6"/>
          <p:cNvGraphicFramePr/>
          <p:nvPr/>
        </p:nvGraphicFramePr>
        <p:xfrm>
          <a:off x="3132000" y="1125360"/>
          <a:ext cx="252432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125360"/>
                    <a:ext cx="25243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4"/>
          <p:cNvSpPr/>
          <p:nvPr/>
        </p:nvSpPr>
        <p:spPr>
          <a:xfrm>
            <a:off x="36360" y="5072040"/>
            <a:ext cx="896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أكياس صغيرة تحتوي على إنزيمات محل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سمى أحياناً بالجيوب الإنتحارية </a:t>
            </a:r>
            <a:r>
              <a:rPr b="0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Suicide bags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نظراً لأن خروج محتوياتها للسيتوبلازم يؤدي إلى تحلل الخلية وموت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جسام جولجي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3" name="Picture 4" descr="أجسام جولجي"/>
          <p:cNvPicPr/>
          <p:nvPr/>
        </p:nvPicPr>
        <p:blipFill>
          <a:blip r:embed="rId1"/>
          <a:stretch/>
        </p:blipFill>
        <p:spPr>
          <a:xfrm>
            <a:off x="2843280" y="1484280"/>
            <a:ext cx="3311280" cy="2954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7"/>
          <p:cNvSpPr/>
          <p:nvPr/>
        </p:nvSpPr>
        <p:spPr>
          <a:xfrm>
            <a:off x="325440" y="4724280"/>
            <a:ext cx="86392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أكياس صغيرة تحتوي على ليبوبروتينات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لعب جهاز جولجي دوراً مهماً في تحورات البروتينات بعد إنتاجها وفي نقل البروتينات في الخلي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golgi"/>
          <p:cNvPicPr/>
          <p:nvPr/>
        </p:nvPicPr>
        <p:blipFill>
          <a:blip r:embed="rId1"/>
          <a:stretch/>
        </p:blipFill>
        <p:spPr>
          <a:xfrm>
            <a:off x="428760" y="115920"/>
            <a:ext cx="4406760" cy="6583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4929120" y="357120"/>
            <a:ext cx="407196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يختلف شكل أجسام جولجي حسب حالة الخلية الفسيولوجية وحسب الكائن الحي نفس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منها ما يوجد بقمة الخلية أو حول النوا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ومنها ما هو مبعثر في السيتوبلاز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جسم المركزي (السنتروسوم </a:t>
            </a:r>
            <a:r>
              <a:rPr b="1" lang="en-US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Centrosome</a:t>
            </a: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755640" y="1628640"/>
          <a:ext cx="317808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628640"/>
                    <a:ext cx="3178080" cy="31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6" descr="Centrosome"/>
          <p:cNvPicPr/>
          <p:nvPr/>
        </p:nvPicPr>
        <p:blipFill>
          <a:blip r:embed="rId3"/>
          <a:stretch/>
        </p:blipFill>
        <p:spPr>
          <a:xfrm>
            <a:off x="4284720" y="1844640"/>
            <a:ext cx="3752640" cy="28148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254160" y="5000760"/>
            <a:ext cx="86389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وجد في الخلايا الحيوانية ذات القدرة على الانقسا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وجد به حبيباتان مركزيتان يخرج منهما خيوط تجذب الكروموسومات عند تضاعف عددها إستعداداً للإنقسا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611280" y="54936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قارنة بين الخلية النباتية والحيوانية</a:t>
            </a: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:-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601640"/>
          <a:ext cx="8820360" cy="5067360"/>
        </p:xfrm>
        <a:graphic>
          <a:graphicData uri="http://schemas.openxmlformats.org/drawingml/2006/table">
            <a:tbl>
              <a:tblPr/>
              <a:tblGrid>
                <a:gridCol w="4410360"/>
                <a:gridCol w="441000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6000" spc="-1" strike="noStrike" baseline="10000">
                          <a:solidFill>
                            <a:srgbClr val="6600ff"/>
                          </a:solidFill>
                          <a:latin typeface="Traditional Arabic"/>
                          <a:cs typeface="Traditional Arabic"/>
                        </a:rPr>
                        <a:t>الخلية النباتية</a:t>
                      </a:r>
                      <a:r>
                        <a:rPr b="1" lang="en-US" sz="6000" spc="-1" strike="noStrike" baseline="10000">
                          <a:solidFill>
                            <a:srgbClr val="6600ff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6000" spc="-1" strike="noStrike" baseline="10000">
                          <a:solidFill>
                            <a:srgbClr val="6600ff"/>
                          </a:solidFill>
                          <a:latin typeface="Traditional Arabic"/>
                          <a:cs typeface="Traditional Arabic"/>
                        </a:rPr>
                        <a:t>الخلية الحيوانية</a:t>
                      </a:r>
                      <a:r>
                        <a:rPr b="1" lang="en-US" sz="6000" spc="-1" strike="noStrike" baseline="10000">
                          <a:solidFill>
                            <a:srgbClr val="6600ff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يوجد بلاستيدات خضراء</a:t>
                      </a:r>
                      <a:r>
                        <a:rPr b="1" lang="en-US" sz="4400" spc="-1" strike="noStrike" baseline="10000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cs typeface="Traditional Arabic"/>
                        </a:rPr>
                        <a:t>لايوجد بلاستيدات خضراء</a:t>
                      </a:r>
                      <a:r>
                        <a:rPr b="1" lang="en-US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النواة طرفية</a:t>
                      </a:r>
                      <a:r>
                        <a:rPr b="1" lang="en-US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cs typeface="Traditional Arabic"/>
                        </a:rPr>
                        <a:t>النواة مركزية</a:t>
                      </a:r>
                      <a:r>
                        <a:rPr b="1" lang="en-US" sz="4400" spc="-1" strike="noStrike" baseline="10000">
                          <a:solidFill>
                            <a:srgbClr val="0033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لايوجد جسم مركزي</a:t>
                      </a:r>
                      <a:r>
                        <a:rPr b="1" lang="en-US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cs typeface="Traditional Arabic"/>
                        </a:rPr>
                        <a:t>يوجد جسم مركزي (سنتروسوم)</a:t>
                      </a:r>
                      <a:r>
                        <a:rPr b="1" lang="en-US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b9ca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cs typeface="Traditional Arabic"/>
                        </a:rPr>
                        <a:t>يوجد جدار خلوي</a:t>
                      </a:r>
                      <a:r>
                        <a:rPr b="1" lang="en-US" sz="4400" spc="-1" strike="noStrike" baseline="10000">
                          <a:solidFill>
                            <a:srgbClr val="0000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db9c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cs typeface="Traditional Arabic"/>
                        </a:rPr>
                        <a:t>لايوجد جدار خلوي</a:t>
                      </a:r>
                      <a:r>
                        <a:rPr b="1" lang="en-US" sz="4400" spc="-1" strike="noStrike" baseline="10000">
                          <a:solidFill>
                            <a:srgbClr val="003300"/>
                          </a:solidFill>
                          <a:latin typeface="Traditional Arabic"/>
                          <a:ea typeface="Traditional Arabic"/>
                        </a:rPr>
                        <a:t>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db9c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8"/>
          <p:cNvSpPr/>
          <p:nvPr/>
        </p:nvSpPr>
        <p:spPr>
          <a:xfrm>
            <a:off x="2417760" y="423720"/>
            <a:ext cx="397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كيمياء الحيو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428760" y="1557360"/>
            <a:ext cx="80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علم الذي يهتم بالتركيب الكيميائي للخلية الحية والتفاعلات الكيميائية التي تحدث داخل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571680" y="2840040"/>
            <a:ext cx="79149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لاقة الكيمياء الحيوية بالعلوم ال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رتبط كثير من العلوم الحيوية بعلم الكيمياء الحيوية لما له من صلة وثيقة بجميع العلوم التي تهتم بالخلية الحية سواء كانت نباتية أو حيوان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3336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The cell</a:t>
            </a:r>
            <a:r>
              <a:rPr b="0" lang="en-US" sz="3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ar-SA" sz="45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خلية</a:t>
            </a:r>
            <a:r>
              <a:rPr b="1" lang="ar-SA" sz="45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85480" y="1428840"/>
            <a:ext cx="8429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عتبر العالم روبرت هوك 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Robert  Hook 1665</a:t>
            </a:r>
            <a:r>
              <a:rPr b="1" lang="ar-SA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من أول العلماء الذين اكتشفوا الخلية الحية حيث توصل إلى أن الكائنات الحية على اختلاف أنواعها وأشكالها وأحجامها تتركب من وحدات تركيبية صغيرة تسمى خلايا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خلية </a:t>
            </a:r>
            <a:r>
              <a:rPr b="1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لها القدرة على القيام بجميع مظاهر الحياة التي تتميز بها الكائنات الحية وذلك بفضل المادة الحية المسماة بالبروتوبلازم </a:t>
            </a:r>
            <a:r>
              <a:rPr b="0" lang="en-US" sz="2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protopla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ختلف الخلايا في الحجم فمثلاً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تراوح حجمها في الانسان ما بين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00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– 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500</a:t>
            </a: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ميكرو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صل طول الخلايا العصبية في بعض الحيوانات الكبيرة إلى عدة أقدا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في بيض الطيور يمكن رؤية الخلية بالعين المجردة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كذلك تختلف الخلايا في أشكا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33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بروتوبلازم </a:t>
            </a:r>
            <a:r>
              <a:rPr b="1" lang="en-US" sz="33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Protoplas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4872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بروتوبلازم نظام معقد من مواد كيماوية وتراكيب ذات قوام جيلاتيني وهو نصف صلب أو نصف سائل.</a:t>
            </a:r>
            <a:r>
              <a:rPr b="0" lang="en-US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يعتبر البروتوبلازم المادة الحية التي لا تحيى الخلية بدونها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ختلف في تركيبها من خلية لأخرى ويمكن تميزها إلى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- غشاء بلازمي يحيط بمحتويات الخلي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- السيتوبلاز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- النواة وتحتوي على سائل نووي يسمى بالنيوكليوبلاز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1442880" y="893880"/>
          <a:ext cx="625824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2880" y="893880"/>
                    <a:ext cx="625824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6"/>
          <p:cNvSpPr/>
          <p:nvPr/>
        </p:nvSpPr>
        <p:spPr>
          <a:xfrm>
            <a:off x="1171440" y="5862600"/>
            <a:ext cx="69994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رسم توضيحي للخلية الحيوانية تحت الميكروسكوب الضوئ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349960" y="81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غشاء البلاز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781600" y="20480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سيتوبلاز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908000" y="1919160"/>
            <a:ext cx="9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311120" y="3276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ميتوكوند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819440" y="4111560"/>
            <a:ext cx="158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حبيبات ده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046920" y="2836800"/>
            <a:ext cx="100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5954760" y="2490840"/>
            <a:ext cx="170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يوكليوبلاز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1492200" y="2624040"/>
            <a:ext cx="13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كرومات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258920" y="14050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غشاء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826920" y="657360"/>
            <a:ext cx="25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حبيبتان مركزيت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867280" y="39466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فجو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989680" y="3214800"/>
            <a:ext cx="151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جليكوج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5867280" y="125568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جهاز جول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5923080" y="1665360"/>
            <a:ext cx="17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جسم المرك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784080" y="66600"/>
          <a:ext cx="7466040" cy="66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66600"/>
                    <a:ext cx="7466040" cy="66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6"/>
          <p:cNvSpPr/>
          <p:nvPr/>
        </p:nvSpPr>
        <p:spPr>
          <a:xfrm>
            <a:off x="-701640" y="6356520"/>
            <a:ext cx="9245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رسم توضيحي للخلية الحيوانية تحت الميكروسكوب الإلكترو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588000" y="18900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غشاء البلازم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11280" y="5516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سيتوبلاز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253280" y="22510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6588000" y="494172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ميتوكوند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504720" y="3500280"/>
            <a:ext cx="10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و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7308720" y="422100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النيوكليوبلاز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289080" y="422100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كروموس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81080" y="177336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غشاء النو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6804000" y="1484280"/>
            <a:ext cx="22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حبيبتان مركزيت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792000" y="4797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فجو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900000" y="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جهاز جولج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089840" y="907920"/>
            <a:ext cx="17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جسم المركز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7201080" y="30430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ff"/>
                </a:solidFill>
                <a:latin typeface="Traditional Arabic"/>
                <a:cs typeface="Traditional Arabic"/>
              </a:rPr>
              <a:t>ثقو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36360" y="62064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الشبكة الإندوبلازم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 flipH="1" flipV="1">
            <a:off x="4787640" y="3860280"/>
            <a:ext cx="259236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6012000" y="57801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6600"/>
                </a:solidFill>
                <a:latin typeface="Traditional Arabic"/>
                <a:cs typeface="Traditional Arabic"/>
              </a:rPr>
              <a:t>ليسوس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غشاء البلازمي </a:t>
            </a:r>
            <a:r>
              <a:rPr b="1" lang="en-US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Plasma membra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1187280" y="1268280"/>
          <a:ext cx="6564600" cy="31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268280"/>
                    <a:ext cx="656460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7"/>
          <p:cNvSpPr/>
          <p:nvPr/>
        </p:nvSpPr>
        <p:spPr>
          <a:xfrm>
            <a:off x="117360" y="4869000"/>
            <a:ext cx="89186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عبارة عن سياج الخلية ويشكل خط الدفاع الاول لها ، يمثل الغشاء البلازمي للخلية الحيوانية البوابة التي تتحكم في دخول وخروج المواد حسب حاجة الخل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2010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Nucleus</a:t>
            </a: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النواة</a:t>
            </a:r>
            <a:r>
              <a:rPr b="1" lang="ar-SA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640" y="1125000"/>
            <a:ext cx="867564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أبرز مكونات الخلية , شكلها له علاقة بالشكل العام للخلية فهي كروية الشكل بالخلايا المستديرة ومستطيلة في الخلايا المستطيلة أو غير  منتظمة كما في أنوية كرات الدم البيضاء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عتبر النواة اكبر أجزاء الخلية ويمكن مشاهدتها بسهولة خاصة عند اضافة الصبغات المختلفة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raditional Arabic"/>
                <a:cs typeface="Traditional Arabic"/>
              </a:rPr>
              <a:t>تتركب النواة من أربعة اجزاء: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409840" y="191916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 Light"/>
                <a:cs typeface="Simplified Arabic"/>
              </a:rPr>
              <a:t>وعدد الكروموسومات ثابت بالنسبة للنوع الواحد , ففي الانسان يوجد </a:t>
            </a:r>
            <a:r>
              <a:rPr b="1" lang="ar-SA" sz="2400" spc="-1" strike="noStrike">
                <a:solidFill>
                  <a:srgbClr val="000000"/>
                </a:solidFill>
                <a:latin typeface="Calibri Light"/>
                <a:ea typeface="Simplified Arabic"/>
              </a:rPr>
              <a:t>46</a:t>
            </a:r>
            <a:r>
              <a:rPr b="1" lang="ar-SA" sz="2400" spc="-1" strike="noStrike">
                <a:solidFill>
                  <a:srgbClr val="000000"/>
                </a:solidFill>
                <a:latin typeface="Calibri Light"/>
                <a:ea typeface="Simplified Arabic"/>
              </a:rPr>
              <a:t> كروموسوماً في خلاياه الجسدية</a:t>
            </a:r>
            <a:r>
              <a:rPr b="1" lang="ar-SA" sz="2400" spc="-1" strike="noStrike">
                <a:solidFill>
                  <a:srgbClr val="000000"/>
                </a:solidFill>
                <a:latin typeface="Calibri Light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 Light"/>
                <a:ea typeface="Simplified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8" name="Picture 3" descr="http://www.emc.maricopa.edu/faculty/farabee/BIOBK/nucleus_1.gif"/>
          <p:cNvPicPr/>
          <p:nvPr/>
        </p:nvPicPr>
        <p:blipFill>
          <a:blip r:embed="rId1"/>
          <a:stretch/>
        </p:blipFill>
        <p:spPr>
          <a:xfrm>
            <a:off x="73080" y="115920"/>
            <a:ext cx="3778200" cy="3816360"/>
          </a:xfrm>
          <a:prstGeom prst="rect">
            <a:avLst/>
          </a:prstGeom>
          <a:ln w="19080">
            <a:solidFill>
              <a:srgbClr val="44546a"/>
            </a:solidFill>
            <a:miter/>
          </a:ln>
        </p:spPr>
      </p:pic>
      <p:sp>
        <p:nvSpPr>
          <p:cNvPr id="109" name="Rectangle 4"/>
          <p:cNvSpPr/>
          <p:nvPr/>
        </p:nvSpPr>
        <p:spPr>
          <a:xfrm>
            <a:off x="3995640" y="220680"/>
            <a:ext cx="51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غلاف النووي :</a:t>
            </a: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حيط بالنواة ويحفظ مكوناتها ويتركب من غشائين: داخلي وخارجي  يتصل بالغشاء الخلوي عن طريق ممرات وقنوات الشبكة الإندوبلازم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067280" y="2092320"/>
            <a:ext cx="50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سائل النووي : توجد فيه جميع محتويات النواة  ويتركب من مواد عضوية  وبروتينات وسكريات وأحماض أمينية  وإنزي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140360" y="3645000"/>
            <a:ext cx="50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نوية : جسم صغير غني بالأحماض النووية والبروتينات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4838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-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شبكة الكروماتينية- الكروموسومات : عبارة عن خيوط رفيعة حاملة للمادة الوراثية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0T10:23:26Z</dcterms:created>
  <dc:creator>الطالبة فاطمة عبد المنعم البطاط</dc:creator>
  <dc:description/>
  <dc:language>en-US</dc:language>
  <cp:lastModifiedBy>DELL</cp:lastModifiedBy>
  <dcterms:modified xsi:type="dcterms:W3CDTF">2014-01-19T08:32:09Z</dcterms:modified>
  <cp:revision>145</cp:revision>
  <dc:subject>الخلية</dc:subject>
  <dc:title>بسم الله الرحمن الرحيم   قال تعالى:(( وما أوتيتم من العلم الا قليلا))  قال تعالى:(( انا كل شئ خلقناه بقدر ))   صدق الله العظيم</dc:title>
</cp:coreProperties>
</file>