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whoosh.wav" ContentType="audio/x-wav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arrow.wav" ContentType="audio/x-wav"/>
  <Override PartName="/ppt/media/chimes.wav" ContentType="audio/x-wav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414080" y="1162080"/>
            <a:ext cx="418140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4DF6-8D21-471B-B3A0-B263A2DD5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414440" y="1162080"/>
            <a:ext cx="4181400" cy="3137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B2FA-0A75-4E0F-A3F1-D87E37316BC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3E1-A817-4013-BA26-E6BBC0A7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F32-C4C0-4455-8D5E-C3A72D56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F5B-3D42-4962-8170-3ED36D4F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0BD-AA9A-4741-A091-2C534818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270-3B2E-448A-83C1-1F1D89B7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CBB-3D93-4F35-847B-64889528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08B-A900-4957-A2B1-16829430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19C-77D9-4D8D-8CEA-16FA6BC2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DC3-47DE-4A35-8CA4-2622F790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C6F-DA8A-4AEB-99DE-08C556DB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364-1010-480A-A2A9-314F1DED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0DA-5568-479A-857F-C633AA2A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C7AE-2901-402F-A8EF-29682E387598}" type="slidenum">
              <a:rPr b="0" lang="ar-SA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1080" y="1009440"/>
            <a:ext cx="217188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Slide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9560" y="4093920"/>
            <a:ext cx="557208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CH 101 (General Biochemistry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hapter 1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الخلية</a:t>
            </a:r>
            <a:br>
              <a:rPr sz="2400"/>
            </a:br>
            <a:r>
              <a:rPr b="1" lang="ar-KW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oon 7"/>
          <p:cNvSpPr/>
          <p:nvPr/>
        </p:nvSpPr>
        <p:spPr>
          <a:xfrm rot="5400000">
            <a:off x="2709000" y="-1851840"/>
            <a:ext cx="3726000" cy="914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84" y="1680"/>
                  <a:pt x="9367" y="5080"/>
                  <a:pt x="9367" y="10800"/>
                </a:cubicBezTo>
                <a:cubicBezTo>
                  <a:pt x="9367" y="16520"/>
                  <a:pt x="15484" y="1992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0"/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Admin\AppData\Local\Temp\SNAGHTMLb486764.PNG"/>
          <p:cNvPicPr/>
          <p:nvPr/>
        </p:nvPicPr>
        <p:blipFill>
          <a:blip r:embed="rId1"/>
          <a:stretch/>
        </p:blipFill>
        <p:spPr>
          <a:xfrm>
            <a:off x="858960" y="24541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\AppData\Local\Temp\SNAGHTMLb49d034.PNG"/>
          <p:cNvPicPr/>
          <p:nvPr/>
        </p:nvPicPr>
        <p:blipFill>
          <a:blip r:embed="rId2"/>
          <a:stretch/>
        </p:blipFill>
        <p:spPr>
          <a:xfrm>
            <a:off x="4211640" y="1025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Admin\AppData\Local\Temp\SNAGHTMLb4b1b57.PNG"/>
          <p:cNvPicPr/>
          <p:nvPr/>
        </p:nvPicPr>
        <p:blipFill>
          <a:blip r:embed="rId3"/>
          <a:stretch/>
        </p:blipFill>
        <p:spPr>
          <a:xfrm>
            <a:off x="7564320" y="24573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" name="Oval 13"/>
          <p:cNvSpPr/>
          <p:nvPr/>
        </p:nvSpPr>
        <p:spPr>
          <a:xfrm>
            <a:off x="2179800" y="2519280"/>
            <a:ext cx="4524120" cy="1246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2060"/>
                </a:solidFill>
                <a:latin typeface="Calibri"/>
              </a:rPr>
              <a:t>King  Saud University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Calibri"/>
              </a:rPr>
              <a:t>College of  Science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Calibri"/>
              </a:rPr>
              <a:t>Department of Biochemi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3693960" y="1986120"/>
            <a:ext cx="1757520" cy="285480"/>
          </a:xfrm>
          <a:prstGeom prst="rect">
            <a:avLst/>
          </a:prstGeom>
          <a:ln w="0">
            <a:noFill/>
          </a:ln>
        </p:spPr>
      </p:pic>
      <p:sp>
        <p:nvSpPr>
          <p:cNvPr id="56" name="Subtitle 2"/>
          <p:cNvSpPr/>
          <p:nvPr/>
        </p:nvSpPr>
        <p:spPr>
          <a:xfrm>
            <a:off x="250920" y="6294600"/>
            <a:ext cx="874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Prepared by  Dr. Farid Ataya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                 http://faculty.ksu.edu.sa/75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7240" y="194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Cytoplasm </a:t>
            </a:r>
            <a:r>
              <a:rPr b="1" lang="ar-SA" sz="4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سيتوبلازم</a:t>
            </a:r>
            <a:r>
              <a:rPr b="1" lang="ar-SA" sz="4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40320" y="3068280"/>
            <a:ext cx="460368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شبكة الإندوبلازمية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جسام جولجي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يتوكندريا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رايبوسومات،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24000" y="981000"/>
            <a:ext cx="855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بارة عن المادة البروتوبلازمية أو الوسط الذي تنغمس فيه النواة والأجزاء الخلوية الأخرى (العضيات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وجد عدة أنواع من العضيات مثل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4920" y="3103560"/>
            <a:ext cx="319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ليسوسومات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جوات خلوية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جسام مركز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7"/>
          <p:cNvGraphicFramePr/>
          <p:nvPr/>
        </p:nvGraphicFramePr>
        <p:xfrm>
          <a:off x="142920" y="1000080"/>
          <a:ext cx="5186160" cy="559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000080"/>
                    <a:ext cx="5186160" cy="55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9"/>
          <p:cNvSpPr/>
          <p:nvPr/>
        </p:nvSpPr>
        <p:spPr>
          <a:xfrm>
            <a:off x="235440" y="311040"/>
            <a:ext cx="89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شبكة الإندوبلازمية </a:t>
            </a:r>
            <a:r>
              <a:rPr b="1" lang="en-US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Endoplasmic 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مربع نص 6"/>
          <p:cNvSpPr/>
          <p:nvPr/>
        </p:nvSpPr>
        <p:spPr>
          <a:xfrm>
            <a:off x="5500800" y="1571760"/>
            <a:ext cx="3643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وجد منها نوعا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شبكة إندوبلازمية ملس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شبكة إندوبلازمية خش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تميز الشبكة الخشنة بوج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ريبوزومات على سطح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عطيها المظهر الخش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ريبوسومات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780000" y="2279160"/>
            <a:ext cx="490680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36800" indent="-13680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هي مكان تصنيع البروتينات بالخلية وتتكون من عدة وحدات تتجمع معاً حين تصنيع البروتينات وتتفكك بعد إتمامها لمهمت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0" indent="-13680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ترجم الشفرة الوراثية المحملة على شريط الحمض النووي </a:t>
            </a:r>
            <a:r>
              <a:rPr b="0" lang="en-US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RNA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وتنتج البروت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0" indent="-13680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90680" y="2125800"/>
            <a:ext cx="29289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يتوكوندريا </a:t>
            </a:r>
            <a:r>
              <a:rPr b="1" lang="en-US" sz="33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Mitochondri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763640" y="1135080"/>
          <a:ext cx="540072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35080"/>
                    <a:ext cx="540072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7"/>
          <p:cNvSpPr/>
          <p:nvPr/>
        </p:nvSpPr>
        <p:spPr>
          <a:xfrm>
            <a:off x="325440" y="3860640"/>
            <a:ext cx="863928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بارة عن أكياس صغيرة متساوية العدد بالنسبة للنوع الواحد من الخلايا. تتكون من غشائين (داخلى وخارجي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غشاء الداخلي متعرج، وكلما كان احتياج الخلية للطاقة كبير كثر عدد الميتوكوندريا وكثرت الحواجز الداخلية  بها، غنية بإنزيمات الأكسدة وإنتاج الطاقة</a:t>
            </a:r>
            <a:r>
              <a:rPr b="0" lang="en-US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TCA cycle</a:t>
            </a:r>
            <a:r>
              <a:rPr b="0" lang="en-US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ليسوسومات </a:t>
            </a:r>
            <a:r>
              <a:rPr b="1" lang="en-US" sz="33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Lysoso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29" name="Object 6"/>
          <p:cNvGraphicFramePr/>
          <p:nvPr/>
        </p:nvGraphicFramePr>
        <p:xfrm>
          <a:off x="3132000" y="1125360"/>
          <a:ext cx="25243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125360"/>
                    <a:ext cx="25243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4"/>
          <p:cNvSpPr/>
          <p:nvPr/>
        </p:nvSpPr>
        <p:spPr>
          <a:xfrm>
            <a:off x="36360" y="5072040"/>
            <a:ext cx="896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بارة عن أكياس صغيرة تحتوي على إنزيمات محل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سمى أحياناً بالجيوب الإنتحارية </a:t>
            </a:r>
            <a:r>
              <a:rPr b="0" lang="en-US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Suicide bags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نظراً لأن خروج محتوياتها للسيتوبلازم يؤدي إلى تحلل الخلية وموت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جسام جولجي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Picture 4" descr="أجسام جولجي"/>
          <p:cNvPicPr/>
          <p:nvPr/>
        </p:nvPicPr>
        <p:blipFill>
          <a:blip r:embed="rId1"/>
          <a:stretch/>
        </p:blipFill>
        <p:spPr>
          <a:xfrm>
            <a:off x="2843280" y="1484280"/>
            <a:ext cx="3311280" cy="2954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325440" y="4724280"/>
            <a:ext cx="86392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بارة عن أكياس صغيرة تحتوي على ليبوبروتينا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لعب جهاز جولجي دوراً مهماً في تحورات البروتينات بعد إنتاجها وفي نقل البروتينات في الخلي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golgi"/>
          <p:cNvPicPr/>
          <p:nvPr/>
        </p:nvPicPr>
        <p:blipFill>
          <a:blip r:embed="rId1"/>
          <a:stretch/>
        </p:blipFill>
        <p:spPr>
          <a:xfrm>
            <a:off x="428760" y="115920"/>
            <a:ext cx="4406760" cy="65833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929120" y="357120"/>
            <a:ext cx="407196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بارة عن يختلف شكل أجسام جولجي حسب حالة الخلية الفسيولوجية وحسب الكائن الحي نفس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منها ما يوجد بقمة الخلية أو حول النوا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منها ما هو مبعثر في السيتوبلاز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جسم المركزي (السنتروسوم </a:t>
            </a:r>
            <a:r>
              <a:rPr b="1" lang="en-US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Centrosome</a:t>
            </a: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755640" y="1628640"/>
          <a:ext cx="317808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3178080" cy="31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6" descr="Centrosome"/>
          <p:cNvPicPr/>
          <p:nvPr/>
        </p:nvPicPr>
        <p:blipFill>
          <a:blip r:embed="rId3"/>
          <a:stretch/>
        </p:blipFill>
        <p:spPr>
          <a:xfrm>
            <a:off x="4284720" y="1844640"/>
            <a:ext cx="3752640" cy="2814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254160" y="5000760"/>
            <a:ext cx="86389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وجد في الخلايا الحيوانية ذات القدرة على الانقسا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وجد به حبيباتان مركزيتان يخرج منهما خيوط تجذب الكروموسومات عند تضاعف عددها إستعداداً للإنقسا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611280" y="54936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قارنة بين الخلية النباتية والحيوانية</a:t>
            </a: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:-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601640"/>
          <a:ext cx="8820360" cy="5067360"/>
        </p:xfrm>
        <a:graphic>
          <a:graphicData uri="http://schemas.openxmlformats.org/drawingml/2006/table">
            <a:tbl>
              <a:tblPr/>
              <a:tblGrid>
                <a:gridCol w="4410360"/>
                <a:gridCol w="441000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6000" spc="-1" strike="noStrike" baseline="10000">
                          <a:solidFill>
                            <a:srgbClr val="6600ff"/>
                          </a:solidFill>
                          <a:latin typeface="Traditional Arabic"/>
                          <a:cs typeface="Traditional Arabic"/>
                        </a:rPr>
                        <a:t>الخلية النباتية</a:t>
                      </a:r>
                      <a:r>
                        <a:rPr b="1" lang="en-US" sz="6000" spc="-1" strike="noStrike" baseline="10000">
                          <a:solidFill>
                            <a:srgbClr val="6600ff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6000" spc="-1" strike="noStrike" baseline="10000">
                          <a:solidFill>
                            <a:srgbClr val="6600ff"/>
                          </a:solidFill>
                          <a:latin typeface="Traditional Arabic"/>
                          <a:cs typeface="Traditional Arabic"/>
                        </a:rPr>
                        <a:t>الخلية الحيوانية</a:t>
                      </a:r>
                      <a:r>
                        <a:rPr b="1" lang="en-US" sz="6000" spc="-1" strike="noStrike" baseline="10000">
                          <a:solidFill>
                            <a:srgbClr val="6600ff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يوجد بلاستيدات خضراء</a:t>
                      </a:r>
                      <a:r>
                        <a:rPr b="1" lang="en-US" sz="4400" spc="-1" strike="noStrike" baseline="10000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cs typeface="Traditional Arabic"/>
                        </a:rPr>
                        <a:t>لايوجد بلاستيدات خضراء</a:t>
                      </a:r>
                      <a:r>
                        <a:rPr b="1" lang="en-US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نواة طرفية</a:t>
                      </a:r>
                      <a:r>
                        <a:rPr b="1" lang="en-US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cs typeface="Traditional Arabic"/>
                        </a:rPr>
                        <a:t>النواة مركزية</a:t>
                      </a:r>
                      <a:r>
                        <a:rPr b="1" lang="en-US" sz="4400" spc="-1" strike="noStrike" baseline="10000">
                          <a:solidFill>
                            <a:srgbClr val="0033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لايوجد جسم مركزي</a:t>
                      </a:r>
                      <a:r>
                        <a:rPr b="1" lang="en-US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cs typeface="Traditional Arabic"/>
                        </a:rPr>
                        <a:t>يوجد جسم مركزي (سنتروسوم)</a:t>
                      </a:r>
                      <a:r>
                        <a:rPr b="1" lang="en-US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يوجد جدار خلوي</a:t>
                      </a:r>
                      <a:r>
                        <a:rPr b="1" lang="en-US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cs typeface="Traditional Arabic"/>
                        </a:rPr>
                        <a:t>لايوجد جدار خلوي</a:t>
                      </a:r>
                      <a:r>
                        <a:rPr b="1" lang="en-US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db9c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8"/>
          <p:cNvSpPr/>
          <p:nvPr/>
        </p:nvSpPr>
        <p:spPr>
          <a:xfrm>
            <a:off x="2417760" y="423720"/>
            <a:ext cx="397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كيمياء الحيو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428760" y="1557360"/>
            <a:ext cx="80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علم الذي يهتم بالتركيب الكيميائي للخلية الحية والتفاعلات الكيميائية التي تحدث داخل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571680" y="2840040"/>
            <a:ext cx="79149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لاقة الكيمياء الحيوية بالعلوم ال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رتبط كثير من العلوم الحيوية بعلم الكيمياء الحيوية لما له من صلة وثيقة بجميع العلوم التي تهتم بالخلية الحية سواء كانت نباتية أو حيوان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The cell</a:t>
            </a:r>
            <a:r>
              <a:rPr b="0" lang="en-US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خلية</a:t>
            </a:r>
            <a:r>
              <a:rPr b="1" lang="ar-SA" sz="45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85480" y="142884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عتبر العالم روبرت هوك </a:t>
            </a:r>
            <a:r>
              <a:rPr b="1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Robert  Hook 1665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ن أول العلماء الذين اكتشفوا الخلية الحية حيث توصل إلى أن الكائنات الحية على اختلاف أنواعها وأشكالها وأحجامها تتركب من وحدات تركيبية صغيرة تسمى خلاي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خلية </a:t>
            </a:r>
            <a:r>
              <a:rPr b="1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لها القدرة على القيام بجميع مظاهر الحياة التي تتميز بها الكائنات الحية وذلك بفضل المادة الحية المسماة بالبروتوبلازم </a:t>
            </a:r>
            <a:r>
              <a:rPr b="0" lang="en-US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protopla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ختلف الخلايا في الحجم فمثلا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تراوح حجمها في الانسان ما بين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00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–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500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ميكرو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صل طول الخلايا العصبية في بعض الحيوانات الكبيرة إلى عدة أقدا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ي بيض الطيور يمكن رؤية الخلية بالعين المجردة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كذلك تختلف الخلايا في أشكا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بروتوبلازم </a:t>
            </a:r>
            <a:r>
              <a:rPr b="1" lang="en-US" sz="33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Protoplas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48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بروتوبلازم نظام معقد من مواد كيماوية وتراكيب ذات قوام جيلاتيني وهو نصف صلب أو نصف سائل.</a:t>
            </a:r>
            <a:r>
              <a:rPr b="0" lang="en-US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عتبر البروتوبلازم المادة الحية التي لا تحيى الخلية بدون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ختلف في تركيبها من خلية لأخرى ويمكن تميزها إلى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- غشاء بلازمي يحيط بمحتويات ال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- السيتوبلاز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- النواة وتحتوي على سائل نووي يسمى بالنيوكليوبلاز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1442880" y="893880"/>
          <a:ext cx="625824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893880"/>
                    <a:ext cx="625824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6"/>
          <p:cNvSpPr/>
          <p:nvPr/>
        </p:nvSpPr>
        <p:spPr>
          <a:xfrm>
            <a:off x="1171440" y="5862600"/>
            <a:ext cx="69994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رسم توضيحي للخلية الحيوانية تحت الميكروسكوب الضوئ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349960" y="81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غشاء البلاز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781600" y="20480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السيتوبلاز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908000" y="1919160"/>
            <a:ext cx="9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311120" y="3276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الميتوكوند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819440" y="4111560"/>
            <a:ext cx="15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حبيبات ده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046920" y="2836800"/>
            <a:ext cx="100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ن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954760" y="2490840"/>
            <a:ext cx="170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نيوكليوبلاز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1492200" y="262404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كرومات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258920" y="14050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غشاء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826920" y="65736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حبيبتان مركزيت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867280" y="39466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فجو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989680" y="321480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جليكوج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5867280" y="125568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جهاز جول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5923080" y="1665360"/>
            <a:ext cx="17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الجسم المرك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"/>
          <p:cNvGraphicFramePr/>
          <p:nvPr/>
        </p:nvGraphicFramePr>
        <p:xfrm>
          <a:off x="784080" y="66600"/>
          <a:ext cx="7466040" cy="66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66600"/>
                    <a:ext cx="7466040" cy="66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6"/>
          <p:cNvSpPr/>
          <p:nvPr/>
        </p:nvSpPr>
        <p:spPr>
          <a:xfrm>
            <a:off x="-701640" y="6356520"/>
            <a:ext cx="9245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رسم توضيحي للخلية الحيوانية تحت الميكروسكوب الإلكترو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588000" y="1890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غشاء البلاز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11280" y="5516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السيتوبلاز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253280" y="22510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588000" y="4941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ميتوكوند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504720" y="3500280"/>
            <a:ext cx="10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ن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7308720" y="422100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نيوكليوبلاز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89080" y="422100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كروموسو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181080" y="177336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غشاء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6804000" y="148428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حبيبتان مركزيت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792000" y="4797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فجو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900000" y="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جهاز جول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7089840" y="907920"/>
            <a:ext cx="17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الجسم المرك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7201080" y="30430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ثق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36360" y="62064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الشبكة الإندوبلاز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 flipH="1" flipV="1">
            <a:off x="4787640" y="3860280"/>
            <a:ext cx="2592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6012000" y="57801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ليسوسو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غشاء البلازمي </a:t>
            </a:r>
            <a:r>
              <a:rPr b="1" lang="en-US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Plasma membra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1187280" y="1268280"/>
          <a:ext cx="656460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65646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7"/>
          <p:cNvSpPr/>
          <p:nvPr/>
        </p:nvSpPr>
        <p:spPr>
          <a:xfrm>
            <a:off x="117360" y="4869000"/>
            <a:ext cx="89186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بارة عن سياج الخلية ويشكل خط الدفاع الاول لها ، يمثل الغشاء البلازمي للخلية الحيوانية البوابة التي تتحكم في دخول وخروج المواد حسب حاجة الخ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2010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Nucleus</a:t>
            </a: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نواة</a:t>
            </a: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640" y="1125000"/>
            <a:ext cx="867564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برز مكونات الخلية , شكلها له علاقة بالشكل العام للخلية فهي كروية الشكل بالخلايا المستديرة ومستطيلة في الخلايا المستطيلة أو غير  منتظمة كما في أنوية كرات الدم البيضاء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عتبر النواة اكبر أجزاء الخلية ويمكن مشاهدتها بسهولة خاصة عند اضافة الصبغات المختلف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تركب النواة من أربعة اجزاء: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409840" y="191916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 Light"/>
                <a:cs typeface="Simplified Arabic"/>
              </a:rPr>
              <a:t>وعدد الكروموسومات ثابت بالنسبة للنوع الواحد , ففي الانسان يوجد </a:t>
            </a:r>
            <a:r>
              <a:rPr b="1" lang="ar-SA" sz="2400" spc="-1" strike="noStrike">
                <a:solidFill>
                  <a:srgbClr val="000000"/>
                </a:solidFill>
                <a:latin typeface="Calibri Light"/>
                <a:ea typeface="Simplified Arabic"/>
              </a:rPr>
              <a:t>46</a:t>
            </a:r>
            <a:r>
              <a:rPr b="1" lang="ar-SA" sz="2400" spc="-1" strike="noStrike">
                <a:solidFill>
                  <a:srgbClr val="000000"/>
                </a:solidFill>
                <a:latin typeface="Calibri Light"/>
                <a:ea typeface="Simplified Arabic"/>
              </a:rPr>
              <a:t> كروموسوماً في خلاياه الجسدية</a:t>
            </a:r>
            <a:r>
              <a:rPr b="1" lang="ar-SA" sz="2400" spc="-1" strike="noStrike">
                <a:solidFill>
                  <a:srgbClr val="000000"/>
                </a:solidFill>
                <a:latin typeface="Calibri Light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 Light"/>
                <a:ea typeface="Simplified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8" name="Picture 3" descr="http://www.emc.maricopa.edu/faculty/farabee/BIOBK/nucleus_1.gif"/>
          <p:cNvPicPr/>
          <p:nvPr/>
        </p:nvPicPr>
        <p:blipFill>
          <a:blip r:embed="rId1"/>
          <a:stretch/>
        </p:blipFill>
        <p:spPr>
          <a:xfrm>
            <a:off x="73080" y="115920"/>
            <a:ext cx="3778200" cy="3816360"/>
          </a:xfrm>
          <a:prstGeom prst="rect">
            <a:avLst/>
          </a:prstGeom>
          <a:ln w="19080">
            <a:solidFill>
              <a:srgbClr val="44546a"/>
            </a:solidFill>
            <a:miter/>
          </a:ln>
        </p:spPr>
      </p:pic>
      <p:sp>
        <p:nvSpPr>
          <p:cNvPr id="109" name="Rectangle 4"/>
          <p:cNvSpPr/>
          <p:nvPr/>
        </p:nvSpPr>
        <p:spPr>
          <a:xfrm>
            <a:off x="3995640" y="220680"/>
            <a:ext cx="51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غلاف النووي :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حيط بالنواة ويحفظ مكوناتها ويتركب من غشائين: داخلي وخارجي  يتصل بالغشاء الخلوي عن طريق ممرات وقنوات الشبكة الإندوبلازم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067280" y="2092320"/>
            <a:ext cx="50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سائل النووي : توجد فيه جميع محتويات النواة  ويتركب من مواد عضوية  وبروتينات وسكريات وأحماض أمينية  و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140360" y="3645000"/>
            <a:ext cx="50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نوية : جسم صغير غني بالأحماض النووية والبروتين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4838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4-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شبكة الكروماتينية- الكروموسومات : عبارة عن خيوط رفيعة حاملة للمادة الوراث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0T10:23:26Z</dcterms:created>
  <dc:creator>الطالبة فاطمة عبد المنعم البطاط</dc:creator>
  <dc:description/>
  <dc:language>en-US</dc:language>
  <cp:lastModifiedBy>DELL</cp:lastModifiedBy>
  <dcterms:modified xsi:type="dcterms:W3CDTF">2014-01-19T08:32:09Z</dcterms:modified>
  <cp:revision>145</cp:revision>
  <dc:subject>الخلية</dc:subject>
  <dc:title>بسم الله الرحمن الرحيم   قال تعالى:(( وما أوتيتم من العلم الا قليلا))  قال تعالى:(( انا كل شئ خلقناه بقدر ))   صدق الله العظيم</dc:title>
</cp:coreProperties>
</file>