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A76C-2EBF-49E2-8F82-905CB3286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EDCB-ED85-4522-8C14-82B34FB2A38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0A90-F35E-43AF-94F2-CA9EEB06C8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B47B-AD2B-47A4-A04C-A2E240DA1D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0487-81A7-4BFE-B7B7-0537B0949A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30A1-69A7-48B0-BC7C-4846ABCA71B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EE5E-F2DD-4D0E-9CD7-E893A99FFF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D497-100D-430F-8870-D283F832BF8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0AAA-5AD0-4AE4-87CB-97F2225DCE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71C6-C9E4-4F36-B3B7-B6EB15A192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64C0E-8370-4A11-A00A-75EC51E4C91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2F5A4-6F01-4212-87C5-247753226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7841-1769-4FC7-85B0-DCB0BA13EF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6DDC4-B981-40EC-9EEC-1BA35E082C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E1A20-5582-46C1-B1AB-7D18B472BC3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8DFDB-322D-4B1B-8336-B6DC52C6BE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1D233-3671-4985-AF79-E7D7D8C286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C0400-D11A-41AA-85C6-3A132491BF1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63A30-07E6-4A41-B7D4-725FEB71E0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0CDB6-E85E-47B8-B619-91CE355B843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74878-6E5F-4265-BE75-7BA8419EB4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67518-8B52-4BC8-99EB-448A605DDA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75D74-AB50-4150-BC11-A1EBA1903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A68D-5EA2-4385-93E6-3C63323544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7D6D8-180F-4A05-864D-565DC6230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C938-FA31-4285-90CF-AC15B5D3A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1178-B4BF-48EF-BE61-49B6285EAF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0216-B215-468D-BF2C-DDCB0B1F8E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F7BC-779A-4EE6-908F-87B4E6178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55E3-AD2F-4BA0-9CA0-898BAD7C1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C0B0-A4EC-468C-B8FF-7E9F6E4FAB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A1DE-70E9-4974-AA02-1CC6903E0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C3FB-820A-4172-94CE-5E23D566B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106F-1819-49A6-BEE6-5500A4F484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26ED-37ED-4888-B45F-6B0645897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1B0C-8AE9-459F-AA40-35AC421095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D90B-AF6E-460E-8FCB-90FE557B4B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1648-C37E-488D-9941-673F6423D0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B2B-743C-4E16-BA7F-737A843596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E81-B1A1-4252-8958-D08ECC3F55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79C-85EC-4F7D-BD32-383BCF063E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F88-FDE5-44D0-AA02-139D1E9608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FF1-9F6C-48B9-8FC9-E81F69E8BD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3593-5610-466D-9ACF-2984315AC8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DFB-2903-48AA-9E26-244161187B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C69-F692-45D1-BBDF-5AC64BE643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87D-E3F8-4913-86E4-76CF5040C2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6E8-635B-44AA-882E-283154A01E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49C-8614-4D72-AFA7-20FFDF0B68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1E1-259D-4E5D-8F6D-B8FB9E7EFB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B2E-1E0C-457F-9B1F-8B06739874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92074-DEE8-43C3-9C43-A8875C321B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0DF1-E508-42CE-8A9F-03A64149DE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0B936-703C-4502-B21F-8ADD471F3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CCE5-DFE3-47D2-B805-B9A6A263A8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1B76C-440C-4EC9-B8E8-8B15F75555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E30D-8617-4DBC-B5E3-0E244F8299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990C9-7B92-48B4-844C-C00BCC093C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6AFB2-68BF-4C12-92E3-3EF140BCAB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ED9DF-72BD-4C3A-8463-48AE6977DD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A937C-B6FB-4BA6-A008-C0A6A593EF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0801C-2BB0-45FB-9A22-DD965612A4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5A373-EA69-475C-9D90-5E759AD983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9BB63-29C4-4584-80CB-084A34A449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F26F-434B-4C81-86CE-0BB639853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50C9-A2CE-4560-8B23-70CFC73510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355CB-6C9E-45B1-9D29-822B7700B9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4A115-FB03-4AF0-B5FA-02D3C7794F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8B686-A118-456D-8D54-BE9614C831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13B1E-83CD-4545-835F-8A669A1344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C4349-CF0E-4350-80E0-DFBDC904BD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0FC13-70DC-4802-A270-D12FC1E793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B5895-BEB8-45B9-AF19-EF10B4B429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02BA-0977-4D26-AF68-9097E503DD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84FFB-9668-483E-BCC4-8683B3290D0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65055-FAF4-4D2D-84CD-FEE11B41D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CB61-65AF-4162-A319-8DB71B1A39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F36FB-4BFA-4D35-82CD-1424403E21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1472-A8EA-4BB4-B69C-B6CFFD1316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C4F4-EE49-4740-A6A0-3858E3C1811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E11F-9BE2-4D30-B54D-E8C3FA4DD1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F350-6031-43C4-9B3B-BBC9F39723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CC5A-6FE0-4FCF-AC43-E9CE9369D5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43D8-BF54-4482-8ED0-73AAC4F5854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B762-26E7-4000-97BA-709520EB91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33ED-50FA-400B-87EB-2180F5396F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59CF-B818-4A86-87F6-84E29B812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F089-BC36-4766-8BEF-85AAEBEB86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B01B-2577-4B90-9E00-D0BCD8B1A7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1D2F-D9EB-44DC-AC35-0075E6C905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17C7-0695-4FEC-8E78-F1F12ACA14E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EF46C-9963-4E99-B4BB-E80B1E3806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51EE5-9179-459E-A18A-91F1969C99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E2724-F904-4A5F-A4A3-8628DD762CE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0EED8-0705-44EE-8F74-A6CE6CF93B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7475A-80A5-41F2-95D0-15099D6113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7D45F-6C10-4A13-A45E-15756F4EEA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DE6B3-463B-4015-AEFF-DF72EBE19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C8AE-C7DA-4260-B5F7-C012A9EFBB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5DB07-2F66-4A90-B837-79B6B7DC88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EA44D-88E6-411B-81B1-E163A6E7CA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500F0-3375-4E02-9225-C46CBB6F53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747B0-8FA1-4C42-B0EF-DE3A29659F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22FFE-55C5-41F2-9086-B20BBD973A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44F42-5399-4D07-86A2-C352D34AD5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1CFEC-8564-4113-AE25-F1E3E116D2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35A70-04B6-43BD-9C7B-1939FEE756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4BC09-7125-4466-9A9D-3B85E878AF8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28FF9-8F1C-4954-AA1D-63F621859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7AC0-9B08-448D-A3CF-F620BD12E8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66097-4A70-48D1-8B7E-5A7B29C820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9AFFC-1D44-4BA5-B96B-F6B2CD3626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47295-1522-4C6C-AF26-121B7C2216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47521-134A-40E5-AB3F-68C525CDBB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81704-92B1-42F8-886C-FEACA856074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B59C3-DD1D-4FB4-B270-408D16E1E9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06B22-FD38-486B-8897-C5CE8803C5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96FF-2BF3-4C8E-BB98-FC48A0F9A0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F5FB-9715-4415-9ADE-493F67A77C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0470-638F-4B6B-B2FC-E06E82E66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B69-0663-4EF1-A446-27E4FA2671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33B-89B6-4415-A617-17DCDCEFA4A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B6BE-AD79-48B0-96D1-8A5B9A39E29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986-8B43-47B2-96B3-3CDF99974D1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53B-C7FE-44AA-8706-28905B2A94E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332-3B99-4A7F-9468-1BB4B592A0F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44AD-B968-4C3D-AC9D-3AA2C9A3F2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5219-2630-47E3-B667-F4756684D4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482-1983-4FF9-866C-B325DED215A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5AD9-634A-453E-AC69-94FC4DD4875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roduction to Databa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515E-F6ED-4AE4-89B6-4704F9B6B2B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rose becaus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These limitations of the FBS approach attributed to two factors</a:t>
            </a:r>
            <a:r>
              <a:rPr b="0" lang="ar-KW" sz="2000" spc="-1" strike="noStrike">
                <a:solidFill>
                  <a:srgbClr val="000066"/>
                </a:solidFill>
                <a:latin typeface="Times New Roman"/>
              </a:rPr>
              <a:t>(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finition of data was embedded in application programs, rather than being stored separately and independentl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control over access and manipulation of data beyond that imposed by application progra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ult: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he database and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595D-54EB-46DF-B0A8-83E9BEC0B5B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ed collection of logically related data (and a description of this data), designed to meet the information needs of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ystem catalog (metadata) provides description of  data to enable program–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ly related data comprises entities, attributes, and relationships of an organization’s inform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B180-CAC2-417D-90B7-477487A1AA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Database Systems (DB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69440" cy="128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B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single large repository of data, defined once and managed using DBMS while used by many application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695340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52C-33AA-4CF3-8028-7791643DA8D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AutoShape 10"/>
          <p:cNvSpPr/>
          <p:nvPr/>
        </p:nvSpPr>
        <p:spPr>
          <a:xfrm>
            <a:off x="7677000" y="4275000"/>
            <a:ext cx="533520" cy="72720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1844640" y="380376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468360" y="36450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1 (Sal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764000" y="419904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7451280" y="5037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23"/>
          <p:cNvSpPr/>
          <p:nvPr/>
        </p:nvSpPr>
        <p:spPr>
          <a:xfrm>
            <a:off x="543600" y="508464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2 (H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1935360" y="570852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R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Rectangle 29"/>
          <p:cNvSpPr/>
          <p:nvPr/>
        </p:nvSpPr>
        <p:spPr>
          <a:xfrm>
            <a:off x="2647800" y="3422520"/>
            <a:ext cx="990720" cy="7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5315040" y="4351320"/>
            <a:ext cx="129528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32"/>
          <p:cNvSpPr/>
          <p:nvPr/>
        </p:nvSpPr>
        <p:spPr>
          <a:xfrm flipH="1">
            <a:off x="3714480" y="480852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Line 33"/>
          <p:cNvSpPr/>
          <p:nvPr/>
        </p:nvSpPr>
        <p:spPr>
          <a:xfrm>
            <a:off x="3714840" y="374184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Line 35"/>
          <p:cNvSpPr/>
          <p:nvPr/>
        </p:nvSpPr>
        <p:spPr>
          <a:xfrm>
            <a:off x="6610320" y="46562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29"/>
          <p:cNvSpPr/>
          <p:nvPr/>
        </p:nvSpPr>
        <p:spPr>
          <a:xfrm>
            <a:off x="2666880" y="4946760"/>
            <a:ext cx="990720" cy="7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Rectangle 1033"/>
          <p:cNvSpPr/>
          <p:nvPr/>
        </p:nvSpPr>
        <p:spPr>
          <a:xfrm>
            <a:off x="1752480" y="2946240"/>
            <a:ext cx="678024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1035"/>
          <p:cNvSpPr/>
          <p:nvPr/>
        </p:nvSpPr>
        <p:spPr>
          <a:xfrm>
            <a:off x="1752480" y="296532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1828800" y="532764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81" name="Picture 6" descr="C01NF07"/>
          <p:cNvPicPr/>
          <p:nvPr/>
        </p:nvPicPr>
        <p:blipFill>
          <a:blip r:embed="rId1"/>
          <a:stretch/>
        </p:blipFill>
        <p:spPr>
          <a:xfrm>
            <a:off x="468360" y="2643120"/>
            <a:ext cx="82803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Management System (DBM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640720" cy="49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oftware system that enables users to define, create, maintain, and control access to the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facilitates the following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reate and Define a DB through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 Definition Languag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DDL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truct and Load a DB conte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nipulate a DB -query &amp; update the DB- through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DML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rol access to 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ome Relational DBMS vendors/products lik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Access &amp; SQL Server/MS , MySQL,Oracle ..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0895-193C-4BF2-A810-3883E400E2A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000" y="328464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Can range from a PC to a network of computer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BMS, operating system, network software (if necessary) and also the application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404-CDB4-43EE-BB70-D7B6BD40A04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468360" y="1484280"/>
            <a:ext cx="8280360" cy="1635120"/>
            <a:chOff x="468360" y="1484280"/>
            <a:chExt cx="8280360" cy="1635120"/>
          </a:xfrm>
        </p:grpSpPr>
        <p:pic>
          <p:nvPicPr>
            <p:cNvPr id="491" name="Picture 6" descr="C01NF08"/>
            <p:cNvPicPr/>
            <p:nvPr/>
          </p:nvPicPr>
          <p:blipFill>
            <a:blip r:embed="rId1"/>
            <a:stretch/>
          </p:blipFill>
          <p:spPr>
            <a:xfrm>
              <a:off x="468360" y="1484280"/>
              <a:ext cx="82803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Rectangle 6"/>
            <p:cNvSpPr/>
            <p:nvPr/>
          </p:nvSpPr>
          <p:spPr>
            <a:xfrm>
              <a:off x="4140360" y="2565000"/>
              <a:ext cx="864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d by the organization and a description of this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Instructions and rules that should be applied to the design and use of the database and DB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8A4-54A9-4050-BBD3-157150E63BD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3"/>
          <p:cNvGrpSpPr/>
          <p:nvPr/>
        </p:nvGrpSpPr>
        <p:grpSpPr>
          <a:xfrm>
            <a:off x="151560" y="1454040"/>
            <a:ext cx="8714880" cy="5213880"/>
            <a:chOff x="151560" y="1454040"/>
            <a:chExt cx="8714880" cy="5213880"/>
          </a:xfrm>
        </p:grpSpPr>
        <p:sp>
          <p:nvSpPr>
            <p:cNvPr id="498" name="Text Box 54"/>
            <p:cNvSpPr/>
            <p:nvPr/>
          </p:nvSpPr>
          <p:spPr>
            <a:xfrm>
              <a:off x="7071840" y="272088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System Analy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99" name="Group 2"/>
            <p:cNvGrpSpPr/>
            <p:nvPr/>
          </p:nvGrpSpPr>
          <p:grpSpPr>
            <a:xfrm>
              <a:off x="1777680" y="1499400"/>
              <a:ext cx="6096240" cy="2666880"/>
              <a:chOff x="1777680" y="1499400"/>
              <a:chExt cx="6096240" cy="2666880"/>
            </a:xfrm>
          </p:grpSpPr>
          <p:sp>
            <p:nvSpPr>
              <p:cNvPr id="500" name="Line 62"/>
              <p:cNvSpPr/>
              <p:nvPr/>
            </p:nvSpPr>
            <p:spPr>
              <a:xfrm flipH="1">
                <a:off x="1777680" y="149940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Line 63"/>
              <p:cNvSpPr/>
              <p:nvPr/>
            </p:nvSpPr>
            <p:spPr>
              <a:xfrm>
                <a:off x="1778040" y="1499400"/>
                <a:ext cx="0" cy="266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Line 64"/>
              <p:cNvSpPr/>
              <p:nvPr/>
            </p:nvSpPr>
            <p:spPr>
              <a:xfrm>
                <a:off x="7873920" y="1499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3" name="Text Box 71"/>
            <p:cNvSpPr/>
            <p:nvPr/>
          </p:nvSpPr>
          <p:spPr>
            <a:xfrm>
              <a:off x="151560" y="6269040"/>
              <a:ext cx="26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Sophisticated End Use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Text Box 74"/>
            <p:cNvSpPr/>
            <p:nvPr/>
          </p:nvSpPr>
          <p:spPr>
            <a:xfrm>
              <a:off x="3987720" y="1454040"/>
              <a:ext cx="13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Communicat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5" name="Group 1"/>
            <p:cNvGrpSpPr/>
            <p:nvPr/>
          </p:nvGrpSpPr>
          <p:grpSpPr>
            <a:xfrm>
              <a:off x="902520" y="1911240"/>
              <a:ext cx="7123680" cy="4648320"/>
              <a:chOff x="902520" y="1911240"/>
              <a:chExt cx="7123680" cy="4648320"/>
            </a:xfrm>
          </p:grpSpPr>
          <p:sp>
            <p:nvSpPr>
              <p:cNvPr id="506" name="Rectangle 5"/>
              <p:cNvSpPr/>
              <p:nvPr/>
            </p:nvSpPr>
            <p:spPr>
              <a:xfrm>
                <a:off x="2616120" y="4197240"/>
                <a:ext cx="3886200" cy="23623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Rectangle 6"/>
              <p:cNvSpPr/>
              <p:nvPr/>
            </p:nvSpPr>
            <p:spPr>
              <a:xfrm>
                <a:off x="4825800" y="4349880"/>
                <a:ext cx="12189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BM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Rectangle 7"/>
              <p:cNvSpPr/>
              <p:nvPr/>
            </p:nvSpPr>
            <p:spPr>
              <a:xfrm>
                <a:off x="2844720" y="4349880"/>
                <a:ext cx="12189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gram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AutoShape 8"/>
              <p:cNvSpPr/>
              <p:nvPr/>
            </p:nvSpPr>
            <p:spPr>
              <a:xfrm>
                <a:off x="5130720" y="5340240"/>
                <a:ext cx="685800" cy="838080"/>
              </a:xfrm>
              <a:prstGeom prst="flowChartMagneticDisk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Rectangle 9"/>
              <p:cNvSpPr/>
              <p:nvPr/>
            </p:nvSpPr>
            <p:spPr>
              <a:xfrm>
                <a:off x="5740200" y="1987200"/>
                <a:ext cx="137160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quiremen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Rectangle 10"/>
              <p:cNvSpPr/>
              <p:nvPr/>
            </p:nvSpPr>
            <p:spPr>
              <a:xfrm>
                <a:off x="2844720" y="1987200"/>
                <a:ext cx="121896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2" name="Group 15"/>
              <p:cNvGrpSpPr/>
              <p:nvPr/>
            </p:nvGrpSpPr>
            <p:grpSpPr>
              <a:xfrm>
                <a:off x="1625400" y="4273560"/>
                <a:ext cx="304560" cy="685800"/>
                <a:chOff x="1625400" y="4273560"/>
                <a:chExt cx="304560" cy="685800"/>
              </a:xfrm>
            </p:grpSpPr>
            <p:sp>
              <p:nvSpPr>
                <p:cNvPr id="513" name="AutoShape 11"/>
                <p:cNvSpPr/>
                <p:nvPr/>
              </p:nvSpPr>
              <p:spPr>
                <a:xfrm>
                  <a:off x="1625400" y="427356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2"/>
                <p:cNvSpPr/>
                <p:nvPr/>
              </p:nvSpPr>
              <p:spPr>
                <a:xfrm>
                  <a:off x="1747080" y="452268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13"/>
                <p:cNvSpPr/>
                <p:nvPr/>
              </p:nvSpPr>
              <p:spPr>
                <a:xfrm flipH="1">
                  <a:off x="1625400" y="4833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14"/>
                <p:cNvSpPr/>
                <p:nvPr/>
              </p:nvSpPr>
              <p:spPr>
                <a:xfrm>
                  <a:off x="1747080" y="4833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Line 16"/>
              <p:cNvSpPr/>
              <p:nvPr/>
            </p:nvSpPr>
            <p:spPr>
              <a:xfrm>
                <a:off x="2082600" y="46544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Line 17"/>
              <p:cNvSpPr/>
              <p:nvPr/>
            </p:nvSpPr>
            <p:spPr>
              <a:xfrm>
                <a:off x="4064040" y="46544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Line 18"/>
              <p:cNvSpPr/>
              <p:nvPr/>
            </p:nvSpPr>
            <p:spPr>
              <a:xfrm>
                <a:off x="5435640" y="4959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20" name="Group 19"/>
              <p:cNvGrpSpPr/>
              <p:nvPr/>
            </p:nvGrpSpPr>
            <p:grpSpPr>
              <a:xfrm>
                <a:off x="3301920" y="3130560"/>
                <a:ext cx="304560" cy="685800"/>
                <a:chOff x="3301920" y="3130560"/>
                <a:chExt cx="304560" cy="685800"/>
              </a:xfrm>
            </p:grpSpPr>
            <p:sp>
              <p:nvSpPr>
                <p:cNvPr id="521" name="AutoShape 20"/>
                <p:cNvSpPr/>
                <p:nvPr/>
              </p:nvSpPr>
              <p:spPr>
                <a:xfrm>
                  <a:off x="3301920" y="313056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Line 21"/>
                <p:cNvSpPr/>
                <p:nvPr/>
              </p:nvSpPr>
              <p:spPr>
                <a:xfrm>
                  <a:off x="3423600" y="337968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Line 22"/>
                <p:cNvSpPr/>
                <p:nvPr/>
              </p:nvSpPr>
              <p:spPr>
                <a:xfrm flipH="1">
                  <a:off x="3301920" y="3690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Line 23"/>
                <p:cNvSpPr/>
                <p:nvPr/>
              </p:nvSpPr>
              <p:spPr>
                <a:xfrm>
                  <a:off x="3423600" y="3690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Line 24"/>
              <p:cNvSpPr/>
              <p:nvPr/>
            </p:nvSpPr>
            <p:spPr>
              <a:xfrm>
                <a:off x="3454200" y="25970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Line 25"/>
              <p:cNvSpPr/>
              <p:nvPr/>
            </p:nvSpPr>
            <p:spPr>
              <a:xfrm>
                <a:off x="3454200" y="389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27" name="Group 26"/>
              <p:cNvGrpSpPr/>
              <p:nvPr/>
            </p:nvGrpSpPr>
            <p:grpSpPr>
              <a:xfrm>
                <a:off x="4749840" y="1911240"/>
                <a:ext cx="304560" cy="685800"/>
                <a:chOff x="4749840" y="1911240"/>
                <a:chExt cx="304560" cy="685800"/>
              </a:xfrm>
            </p:grpSpPr>
            <p:sp>
              <p:nvSpPr>
                <p:cNvPr id="528" name="AutoShape 27"/>
                <p:cNvSpPr/>
                <p:nvPr/>
              </p:nvSpPr>
              <p:spPr>
                <a:xfrm>
                  <a:off x="4749840" y="191124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Line 28"/>
                <p:cNvSpPr/>
                <p:nvPr/>
              </p:nvSpPr>
              <p:spPr>
                <a:xfrm>
                  <a:off x="4871520" y="216036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Line 29"/>
                <p:cNvSpPr/>
                <p:nvPr/>
              </p:nvSpPr>
              <p:spPr>
                <a:xfrm flipH="1">
                  <a:off x="4749840" y="247104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Line 30"/>
                <p:cNvSpPr/>
                <p:nvPr/>
              </p:nvSpPr>
              <p:spPr>
                <a:xfrm>
                  <a:off x="4871520" y="247104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Line 31"/>
              <p:cNvSpPr/>
              <p:nvPr/>
            </p:nvSpPr>
            <p:spPr>
              <a:xfrm flipH="1">
                <a:off x="4063680" y="2215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Line 32"/>
              <p:cNvSpPr/>
              <p:nvPr/>
            </p:nvSpPr>
            <p:spPr>
              <a:xfrm flipH="1">
                <a:off x="5130360" y="2215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34" name="Group 33"/>
              <p:cNvGrpSpPr/>
              <p:nvPr/>
            </p:nvGrpSpPr>
            <p:grpSpPr>
              <a:xfrm>
                <a:off x="7721640" y="1987200"/>
                <a:ext cx="304560" cy="685800"/>
                <a:chOff x="7721640" y="1987200"/>
                <a:chExt cx="304560" cy="685800"/>
              </a:xfrm>
            </p:grpSpPr>
            <p:sp>
              <p:nvSpPr>
                <p:cNvPr id="535" name="AutoShape 34"/>
                <p:cNvSpPr/>
                <p:nvPr/>
              </p:nvSpPr>
              <p:spPr>
                <a:xfrm>
                  <a:off x="7721640" y="198720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35"/>
                <p:cNvSpPr/>
                <p:nvPr/>
              </p:nvSpPr>
              <p:spPr>
                <a:xfrm>
                  <a:off x="7843320" y="223632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36"/>
                <p:cNvSpPr/>
                <p:nvPr/>
              </p:nvSpPr>
              <p:spPr>
                <a:xfrm flipH="1">
                  <a:off x="7721640" y="2547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Line 37"/>
                <p:cNvSpPr/>
                <p:nvPr/>
              </p:nvSpPr>
              <p:spPr>
                <a:xfrm>
                  <a:off x="7843320" y="2547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Group 43"/>
              <p:cNvGrpSpPr/>
              <p:nvPr/>
            </p:nvGrpSpPr>
            <p:grpSpPr>
              <a:xfrm>
                <a:off x="6654600" y="3206520"/>
                <a:ext cx="304560" cy="685800"/>
                <a:chOff x="6654600" y="3206520"/>
                <a:chExt cx="304560" cy="685800"/>
              </a:xfrm>
            </p:grpSpPr>
            <p:sp>
              <p:nvSpPr>
                <p:cNvPr id="540" name="AutoShape 44"/>
                <p:cNvSpPr/>
                <p:nvPr/>
              </p:nvSpPr>
              <p:spPr>
                <a:xfrm>
                  <a:off x="6654600" y="320652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45"/>
                <p:cNvSpPr/>
                <p:nvPr/>
              </p:nvSpPr>
              <p:spPr>
                <a:xfrm>
                  <a:off x="6776280" y="345564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46"/>
                <p:cNvSpPr/>
                <p:nvPr/>
              </p:nvSpPr>
              <p:spPr>
                <a:xfrm flipH="1">
                  <a:off x="6654600" y="376632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47"/>
                <p:cNvSpPr/>
                <p:nvPr/>
              </p:nvSpPr>
              <p:spPr>
                <a:xfrm>
                  <a:off x="6776280" y="376632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Line 48"/>
              <p:cNvSpPr/>
              <p:nvPr/>
            </p:nvSpPr>
            <p:spPr>
              <a:xfrm flipH="1">
                <a:off x="6044760" y="381636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Text Box 49"/>
              <p:cNvSpPr/>
              <p:nvPr/>
            </p:nvSpPr>
            <p:spPr>
              <a:xfrm>
                <a:off x="6946920" y="34732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DBA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Text Box 50"/>
              <p:cNvSpPr/>
              <p:nvPr/>
            </p:nvSpPr>
            <p:spPr>
              <a:xfrm>
                <a:off x="902520" y="4973760"/>
                <a:ext cx="178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Naïve End User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Text Box 51"/>
              <p:cNvSpPr/>
              <p:nvPr/>
            </p:nvSpPr>
            <p:spPr>
              <a:xfrm>
                <a:off x="3610800" y="3130560"/>
                <a:ext cx="1512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Applic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programmer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Text Box 52"/>
              <p:cNvSpPr/>
              <p:nvPr/>
            </p:nvSpPr>
            <p:spPr>
              <a:xfrm>
                <a:off x="4300560" y="2611080"/>
                <a:ext cx="146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DB Designer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Line 53"/>
              <p:cNvSpPr/>
              <p:nvPr/>
            </p:nvSpPr>
            <p:spPr>
              <a:xfrm>
                <a:off x="5130720" y="2901600"/>
                <a:ext cx="22860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50" name="Group 55"/>
              <p:cNvGrpSpPr/>
              <p:nvPr/>
            </p:nvGrpSpPr>
            <p:grpSpPr>
              <a:xfrm>
                <a:off x="1625400" y="5569200"/>
                <a:ext cx="304560" cy="685800"/>
                <a:chOff x="1625400" y="5569200"/>
                <a:chExt cx="304560" cy="685800"/>
              </a:xfrm>
            </p:grpSpPr>
            <p:sp>
              <p:nvSpPr>
                <p:cNvPr id="551" name="AutoShape 56"/>
                <p:cNvSpPr/>
                <p:nvPr/>
              </p:nvSpPr>
              <p:spPr>
                <a:xfrm>
                  <a:off x="1625400" y="556920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Line 57"/>
                <p:cNvSpPr/>
                <p:nvPr/>
              </p:nvSpPr>
              <p:spPr>
                <a:xfrm>
                  <a:off x="1747080" y="581832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58"/>
                <p:cNvSpPr/>
                <p:nvPr/>
              </p:nvSpPr>
              <p:spPr>
                <a:xfrm flipH="1">
                  <a:off x="1625400" y="6129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Line 59"/>
                <p:cNvSpPr/>
                <p:nvPr/>
              </p:nvSpPr>
              <p:spPr>
                <a:xfrm>
                  <a:off x="1747080" y="6129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Line 60"/>
              <p:cNvSpPr/>
              <p:nvPr/>
            </p:nvSpPr>
            <p:spPr>
              <a:xfrm>
                <a:off x="4902120" y="49593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Line 61"/>
              <p:cNvSpPr/>
              <p:nvPr/>
            </p:nvSpPr>
            <p:spPr>
              <a:xfrm flipH="1">
                <a:off x="2082240" y="5950080"/>
                <a:ext cx="28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Line 65"/>
              <p:cNvSpPr/>
              <p:nvPr/>
            </p:nvSpPr>
            <p:spPr>
              <a:xfrm flipH="1">
                <a:off x="7111440" y="2215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Text Box 72"/>
              <p:cNvSpPr/>
              <p:nvPr/>
            </p:nvSpPr>
            <p:spPr>
              <a:xfrm>
                <a:off x="5894280" y="617724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/W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Text Box 73"/>
              <p:cNvSpPr/>
              <p:nvPr/>
            </p:nvSpPr>
            <p:spPr>
              <a:xfrm>
                <a:off x="5201280" y="342396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Desig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Text Box 75"/>
              <p:cNvSpPr/>
              <p:nvPr/>
            </p:nvSpPr>
            <p:spPr>
              <a:xfrm>
                <a:off x="6274440" y="39686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Manag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Text Box 76"/>
              <p:cNvSpPr/>
              <p:nvPr/>
            </p:nvSpPr>
            <p:spPr>
              <a:xfrm>
                <a:off x="4064760" y="22158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Wri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Text Box 77"/>
              <p:cNvSpPr/>
              <p:nvPr/>
            </p:nvSpPr>
            <p:spPr>
              <a:xfrm>
                <a:off x="7158600" y="22158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Wri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Text Box 78"/>
              <p:cNvSpPr/>
              <p:nvPr/>
            </p:nvSpPr>
            <p:spPr>
              <a:xfrm>
                <a:off x="3454560" y="396864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Program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Text Box 79"/>
              <p:cNvSpPr/>
              <p:nvPr/>
            </p:nvSpPr>
            <p:spPr>
              <a:xfrm>
                <a:off x="2190240" y="46544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Us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Text Box 80"/>
              <p:cNvSpPr/>
              <p:nvPr/>
            </p:nvSpPr>
            <p:spPr>
              <a:xfrm>
                <a:off x="2160000" y="595008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Us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Slide Number Placeholder 68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BD5B-BD7F-4E28-ACD3-E17DF60E9D4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400" y="-387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ystem Analyst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ermine the user requirements and develop the system specific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Designer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dentify the data and choose the appropriate structure to represent and store th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pplication Programmer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mplement the application program based on the system specif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administrator (DBA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ministrates the DB, DBMS and related softwa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8C7-42B8-4275-A136-EB3108B842E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End-users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hey use the data for queries, reports and some of them update the database content (data). End-users can be categorized int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Naïve use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Invokes one of the permanent application programs that have been written previous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ophisticated use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form requests in a database query langu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AE0B-56ED-4F83-BF93-6E45A0D5B1C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rol of data redunda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consist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ore information from the same amount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ing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secu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forcement of standa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conomy of sc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F3AB-5DDC-4F0C-BE75-61C0E48AFF2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ome common uses of database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atabase Concep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haracteristics of file-based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blems with file-based approa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of a DB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ajor components of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ersonnel involved in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dvantages and disadvantages of DBM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200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62F5-B723-42F4-ABB3-1B17AA7CDDC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lance conflicting require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accessibility and responsiven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productiv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maintenance through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concurr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backup and recovery servic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912-8FD8-4ABB-A71B-A6DCE70C6B8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s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DB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hardware co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conver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igher impact of a failu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557C-91DA-4988-8B91-9FE4C102909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Database Applic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from the supermark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using your credit card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oking a holiday at the travel agent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cal Examples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dugate and ERegis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SU Libr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udi Airlines Reserv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8E03-A8F2-4C9C-A2B2-5BA36DB610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728120" cy="51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meaningless static value. e.g. Ali, 3421… What doe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42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means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the data you process in a manner that makes it meaningful.  Information can be provided only if proper data exists. e.g. “Ali ID number is 0987”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(DB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collection of a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logically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lat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persisten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data,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igned to meet the information needs of an organiza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Can be generated &amp; maintained manually or automaticall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C0F-A96A-4D9D-A44B-69E6A20D954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Management System (DBMS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software system that facilitates the creation and maintenance of a database, i.e. implementing database appl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(Database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pplication programs :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computer program that interacts with database by issuing an appropriate request (SQL statement) to the DBM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System (DBS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database and Software (DBMS + Application Program)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56E9-4022-40A1-8B87-687A51CF971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c5cff"/>
                </a:solidFill>
                <a:latin typeface="Times New Roman"/>
              </a:rPr>
              <a:t>DB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482-9003-4A4A-80A3-DC65188EB9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AutoShape 1027"/>
          <p:cNvSpPr/>
          <p:nvPr/>
        </p:nvSpPr>
        <p:spPr>
          <a:xfrm>
            <a:off x="5029200" y="4952880"/>
            <a:ext cx="1143000" cy="121932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AutoShape 1028"/>
          <p:cNvSpPr/>
          <p:nvPr/>
        </p:nvSpPr>
        <p:spPr>
          <a:xfrm>
            <a:off x="3048120" y="4952880"/>
            <a:ext cx="1218960" cy="121932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Rectangle 1029"/>
          <p:cNvSpPr/>
          <p:nvPr/>
        </p:nvSpPr>
        <p:spPr>
          <a:xfrm>
            <a:off x="3809880" y="39625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Rectangle 1030"/>
          <p:cNvSpPr/>
          <p:nvPr/>
        </p:nvSpPr>
        <p:spPr>
          <a:xfrm>
            <a:off x="3809880" y="30481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Pro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Rectangle 1031"/>
          <p:cNvSpPr/>
          <p:nvPr/>
        </p:nvSpPr>
        <p:spPr>
          <a:xfrm>
            <a:off x="3429000" y="2209680"/>
            <a:ext cx="266688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Progra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Rectangle 1032"/>
          <p:cNvSpPr/>
          <p:nvPr/>
        </p:nvSpPr>
        <p:spPr>
          <a:xfrm>
            <a:off x="2819520" y="2819520"/>
            <a:ext cx="373356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Rectangle 1033"/>
          <p:cNvSpPr/>
          <p:nvPr/>
        </p:nvSpPr>
        <p:spPr>
          <a:xfrm>
            <a:off x="1752480" y="1828800"/>
            <a:ext cx="57150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1034"/>
          <p:cNvSpPr/>
          <p:nvPr/>
        </p:nvSpPr>
        <p:spPr>
          <a:xfrm>
            <a:off x="2828160" y="28954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1035"/>
          <p:cNvSpPr/>
          <p:nvPr/>
        </p:nvSpPr>
        <p:spPr>
          <a:xfrm>
            <a:off x="184464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1036"/>
          <p:cNvSpPr/>
          <p:nvPr/>
        </p:nvSpPr>
        <p:spPr>
          <a:xfrm>
            <a:off x="45720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1037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38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039"/>
          <p:cNvSpPr/>
          <p:nvPr/>
        </p:nvSpPr>
        <p:spPr>
          <a:xfrm flipH="1">
            <a:off x="38095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040"/>
          <p:cNvSpPr/>
          <p:nvPr/>
        </p:nvSpPr>
        <p:spPr>
          <a:xfrm>
            <a:off x="46483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Rectangle 1031"/>
          <p:cNvSpPr/>
          <p:nvPr/>
        </p:nvSpPr>
        <p:spPr>
          <a:xfrm>
            <a:off x="3276720" y="12952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/Programm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ile-Based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3534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llection of application programs that perform services for the end users (e.g. reports)where each program defines and manages its own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Slide Number Placeholder 5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053-80A8-4C19-BC2E-CF0CE4BEBBC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3" name="Picture 12" descr="C01NF05"/>
          <p:cNvPicPr/>
          <p:nvPr/>
        </p:nvPicPr>
        <p:blipFill>
          <a:blip r:embed="rId1"/>
          <a:stretch/>
        </p:blipFill>
        <p:spPr>
          <a:xfrm>
            <a:off x="395280" y="2708280"/>
            <a:ext cx="8137440" cy="2762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DS3-Figure 01-05"/>
          <p:cNvPicPr/>
          <p:nvPr/>
        </p:nvPicPr>
        <p:blipFill>
          <a:blip r:embed="rId2"/>
          <a:stretch/>
        </p:blipFill>
        <p:spPr>
          <a:xfrm>
            <a:off x="395280" y="5470560"/>
            <a:ext cx="8137440" cy="12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paration and isol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Each program maintains its own set of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sers of one program may be unaware of potentially useful data held by other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uplic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Same data is held by different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Wasted space and potentially different values and/or different formats for the same item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9360-0924-4BFE-8875-A79CE2295F8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72812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ile structure is defined in the program c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ompatible file forma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in different languages, and so cannot easily access each other’s fil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ixed Queries/Proliferation of application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to satisfy particular func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y new requirement needs a new progra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D0D5-E192-4E74-A9F8-EFD5A95572E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&amp; Carolyn Begg</dc:creator>
  <dc:description>Transparencies for Chapter 1 of textbook
Database Systems: A Practical Approach to Design, Implementation, and Management</dc:description>
  <dc:language>en-US</dc:language>
  <cp:lastModifiedBy>Sahar Bayoumi Ali</cp:lastModifiedBy>
  <cp:lastPrinted>2014-09-04T05:48:13Z</cp:lastPrinted>
  <dcterms:modified xsi:type="dcterms:W3CDTF">2014-09-04T05:56:37Z</dcterms:modified>
  <cp:revision>127</cp:revision>
  <dc:subject>Database Systems</dc:subject>
  <dc:title>Chapter 1</dc:title>
</cp:coreProperties>
</file>