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7014-C718-45BF-B4AC-C5C1387BD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E8BB-8FFA-4701-A33D-8710B8292BE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3DFE-1A06-45E5-8E3D-FDC75FDFF80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9B09-25D4-46DA-B736-38AA1EBF5A5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09E62-5039-4DC7-8EA7-EA6A6A277B7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A673-B2D3-4A78-A943-951D1316D09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7AAB-5920-4FE8-B9E3-DF7E109C0E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A4D3-F35D-4D94-99FC-9CADAE4DCA5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0FF9-D027-4E03-A836-A1C1DAC2E6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125A-5945-47F4-832D-3DBF740BB6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BC75-386B-4930-8195-8E2795256CF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1555B-0223-4847-BC51-34C3CCCCE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63D6-FB28-4CEE-9294-D56BE986476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1049A-79B0-41B6-B4AE-063F709DD8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67E08-8649-4B1F-BE28-962B81933B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3AAE5-4D20-4B8F-B106-94774F60BB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C9607-9CFC-4D82-9AD2-CAEB505C38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2B4A4-0343-42DE-BC9A-A589E51BA6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CAD93-E58F-4011-9A4E-967EE902BD6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71986-1BF7-4B91-A584-04ECBA839A9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0D64C0-C743-47BA-9345-926C92479D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799B2-6E01-4FEC-8B97-7EB6ADA52B5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7246FC-CDCC-4585-B61F-651C18D90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4619-DD0A-4735-A276-F807FC1BD17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E4FF4-59CF-4F17-95A8-09F31B457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F6B3-538C-459A-B42C-805418FC7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AB04A-1705-45E8-BB79-9C4DF4EF6B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1DB3-4488-43B3-936B-49DE8668F9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2B57-4DD2-4719-ADEB-3B6AE8DC05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E19F-11AA-4CD9-BDA9-F36EC44799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F598-AEC4-4282-80FC-7DF1DA78A7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CD71-99A3-4E49-87E7-435D29C5F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4DB4-F1B3-4CB7-A050-A0AE226FC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09D6-1F36-4B66-870C-9E9B8E71A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B54C-8F5C-4F13-9FAD-3B383F5F78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19C8-B967-442E-B8AE-DA5FBD4809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1690-43BD-45E9-87FD-3C5C1419A5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4801-4DBD-4FF8-B268-95E15B40F8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8F6-1A50-45AF-96DF-4AE0B194F7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4AB-870C-47AB-9944-01A0895358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86D-F51B-4DA0-989E-BF609BE2D3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0F0-2048-4E0C-A1DC-FD4169D7CA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7D9-21D7-40C0-A6D8-C9DD7E948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91E8-38EE-4330-BC92-80A0BE7EA3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ED5-004B-405F-8920-8A8AB2DEDF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02E-7D04-463E-A675-260CE48732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691-42F2-4234-B5A4-9D5B4CD0D9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403-BD69-4393-AA6E-15E44AEC4C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175-4B80-43EB-BEF1-1D6087BA0A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853-B4E8-42F0-A1C6-0935B0D83A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661-3A47-4717-94A5-595FAE6743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B37C0-CDA6-4A96-B47D-570FC18E75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E3F89-4A48-4E50-9FDD-C887EACE74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23E4E-8507-4590-AD59-7A5D80025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CF52-8C12-46E1-978D-F94D592FCD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E1D2-EC7C-439F-BFD8-B533ADBB05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A3AF7-87E2-4EA4-96A7-9503E025E0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AD3B0-C231-4701-9C3B-72A751A9C3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4378C-2FFF-44A2-ADE5-31E3A5829A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83975-2674-4583-962F-0A74E10BFD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BE134-B55E-4C3C-A3CA-C9C2976730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0DA12-FC2D-4539-99FA-A63E2D8B3A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C8B27-4E76-4211-83A7-CCFA4EEEAB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A2AAE-9DDC-4E6B-A1A3-C1B250F3B8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A891F-36D3-42CA-8219-C543033E0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EE09-4CE5-486F-BBBD-6AB813B307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882EB-863A-4E21-AB8D-D7F6FE5805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531C4-9760-49DA-B8B4-74A098639C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5DE12-81AC-4E61-B87A-DF39B8A2F05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9E536-7C7A-4D54-A47F-5C1A5332F83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F7131-F1F8-4530-84DA-79EBDAC22C9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E5696-87E7-4C7A-B3F0-E4DC790AF2D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0C1EC-B7A9-4802-9AC6-CAADE88DC8C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CE196-AC69-4DC6-BBAF-69ED87BACE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A8762-AC54-4ABE-B169-63BB5CC9B1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44989-D212-4F60-90E4-43203B59D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A50A-3322-43F9-9D86-3AD3B050B0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00450-A02A-4A42-A2C2-B59E7768F8A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04A2-3F76-44C8-9D36-533CEBEAC25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9857-9183-4B13-827D-97D2365E123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4EF7-3EC3-4A5A-B599-A708437535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1602-AC62-4CD2-AA79-9E532C20DD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BDF-E76E-421B-AB0F-74A6287DC5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18E8-2D76-49F9-9B72-910794C9C25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0B10-6E6E-4068-BBBB-3C8C6D44F8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3B9C-4671-4784-BADE-6FA6276F63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4DBD-11E3-435F-A8B2-FFDE02C1E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0E08-E6F0-42F1-8DE8-3ECC9A59452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0D45-9897-42F0-9E5C-5C2AF193FA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DF1E-B730-424D-9F36-8F835C4FC1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D2BE-C1D8-4738-9E33-35E0205B2B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1A283-EF01-4158-9730-A2B4CF4FE6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FACADE-5EB3-4E2E-AF8A-6EBC1DEB00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62F3D-B29E-4599-A50E-19AF0B806F5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C4D92-01DE-4431-A768-5234F23E47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55989-55D2-43EE-95C0-9AC5EBE9D4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A56E1-D06A-4A01-B292-2E3F2A021E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DCDF9-ACCB-4C20-86F0-CA6FF19F2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B3F7-92D5-4E8D-BCDA-846DF43E7E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D1810-C0F8-47FC-932D-E1A4FDA28B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275E8-927E-40F9-9FF6-F88BE0C1A2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9CBEF-8F35-40D1-964C-81041CF97E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E25B7-7130-4855-AF03-BEFBDC5755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6DF83-6A7A-4D0F-950C-DCE5ED1408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F40AB-3986-47B6-B267-FBAD1F783B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A0D5D-86B7-4DD4-BB30-3F3CA9441A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73A36-D3E4-472E-B997-620AD21B77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94972-B764-4B59-B46D-B18FAF25F3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BF27E-8AC7-46AA-8D9C-90FFF0937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4611-D7CE-4E73-9B80-AEED17F3D58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77722-8DC0-452A-A7B0-78B76A59297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AE346-E322-43AF-94E8-3A148880EA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56388-9FA1-4E22-A5F3-686CC34475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9A21B-B6E1-4FF6-905D-B3E9E4157D7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B36FC-8770-410F-8F1B-1483EC0B82A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5E94D-A098-4035-87D1-4BBAD77471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49148-1659-4FC4-B90D-4C34688F6D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8F8C-D5A3-45DF-8DCC-A7DB108BDD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7D3B-7D2B-47F2-AD32-3C1DA824E7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64DF-96DA-49BC-A611-375FF5825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9E7-F9C7-4262-AE71-590878C6EF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24B-5143-473F-AE14-36C87E705C6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FC8B-9CF1-49CF-A717-A20F285D52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9DB2-E006-41FB-93C0-AA2DB21278C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B8A-0A1B-4364-9B40-A44CA9BF235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4CE-5445-4EF0-9279-A7C745B974B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8061-C944-495C-B53E-F85C26A1FE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AC9-156F-47D3-85D0-F6802910D37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9E1B-A903-4B6A-A6C1-D9B25186508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C2BD-349A-44F4-A915-EDCC2CBB152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roduction to Databa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1A23-A027-4C69-932D-085A6943C48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rose becaus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These limitations of the FBS approach attributed to two factors</a:t>
            </a:r>
            <a:r>
              <a:rPr b="0" lang="ar-KW" sz="2000" spc="-1" strike="noStrike">
                <a:solidFill>
                  <a:srgbClr val="000066"/>
                </a:solidFill>
                <a:latin typeface="Times New Roman"/>
              </a:rPr>
              <a:t>(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efinition of data was embedded in application programs, rather than being stored separately and independentl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control over access and manipulation of data beyond that imposed by application progra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ult: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he database and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965-A986-4FE3-A7B7-21B070884EF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ed collection of logically related data (and a description of this data), designed to meet the information needs of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ystem catalog (metadata) provides description of  data to enable program–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ly related data comprises entities, attributes, and relationships of an organization’s inform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9335-6F3F-4183-BCBC-AAC1B5E2928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Database Systems (DB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69440" cy="128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B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single large repository of data, defined once and managed using DBMS while used by many application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Slide Number Placeholder 4"/>
          <p:cNvSpPr/>
          <p:nvPr/>
        </p:nvSpPr>
        <p:spPr>
          <a:xfrm>
            <a:off x="695340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BD2D-080B-4809-8607-77BCF38C3F1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AutoShape 10"/>
          <p:cNvSpPr/>
          <p:nvPr/>
        </p:nvSpPr>
        <p:spPr>
          <a:xfrm>
            <a:off x="7677000" y="4275000"/>
            <a:ext cx="533520" cy="72720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1844640" y="380376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468360" y="3645000"/>
            <a:ext cx="16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1 (Sale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1764000" y="419904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7451280" y="50371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23"/>
          <p:cNvSpPr/>
          <p:nvPr/>
        </p:nvSpPr>
        <p:spPr>
          <a:xfrm>
            <a:off x="543600" y="508464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2 (H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1935360" y="570852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R Application Prog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Rectangle 29"/>
          <p:cNvSpPr/>
          <p:nvPr/>
        </p:nvSpPr>
        <p:spPr>
          <a:xfrm>
            <a:off x="2647800" y="3422520"/>
            <a:ext cx="990720" cy="7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5315040" y="4351320"/>
            <a:ext cx="129528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32"/>
          <p:cNvSpPr/>
          <p:nvPr/>
        </p:nvSpPr>
        <p:spPr>
          <a:xfrm flipH="1">
            <a:off x="3714480" y="480852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Line 33"/>
          <p:cNvSpPr/>
          <p:nvPr/>
        </p:nvSpPr>
        <p:spPr>
          <a:xfrm>
            <a:off x="3714840" y="374184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Line 35"/>
          <p:cNvSpPr/>
          <p:nvPr/>
        </p:nvSpPr>
        <p:spPr>
          <a:xfrm>
            <a:off x="6610320" y="46562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29"/>
          <p:cNvSpPr/>
          <p:nvPr/>
        </p:nvSpPr>
        <p:spPr>
          <a:xfrm>
            <a:off x="2666880" y="4946760"/>
            <a:ext cx="990720" cy="7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&amp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Rectangle 1033"/>
          <p:cNvSpPr/>
          <p:nvPr/>
        </p:nvSpPr>
        <p:spPr>
          <a:xfrm>
            <a:off x="1752480" y="2946240"/>
            <a:ext cx="678024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1035"/>
          <p:cNvSpPr/>
          <p:nvPr/>
        </p:nvSpPr>
        <p:spPr>
          <a:xfrm>
            <a:off x="1752480" y="2965320"/>
            <a:ext cx="8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1828800" y="5327640"/>
            <a:ext cx="822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81" name="Picture 6" descr="C01NF07"/>
          <p:cNvPicPr/>
          <p:nvPr/>
        </p:nvPicPr>
        <p:blipFill>
          <a:blip r:embed="rId1"/>
          <a:stretch/>
        </p:blipFill>
        <p:spPr>
          <a:xfrm>
            <a:off x="468360" y="2643120"/>
            <a:ext cx="82803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Management System (DBMS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640720" cy="49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software system that enables users to define, create, maintain, and control access to the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facilitates the following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reate and Define a DB through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 Definition Languag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DDL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truct and Load a DB conte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nipulate a DB -query &amp; update the DB- through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DML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rol access to 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ome Relational DBMS vendors/products lik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Access &amp; SQL Server/MS , MySQL,Oracle ..et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270E-4A75-4D39-9A72-C65A3F7AEE9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000" y="328464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Can range from a PC to a network of computer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BMS, operating system, network software (if necessary) and also the application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7BCB-8C29-4608-B085-9D9CB32E219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468360" y="1484280"/>
            <a:ext cx="8280360" cy="1635120"/>
            <a:chOff x="468360" y="1484280"/>
            <a:chExt cx="8280360" cy="1635120"/>
          </a:xfrm>
        </p:grpSpPr>
        <p:pic>
          <p:nvPicPr>
            <p:cNvPr id="491" name="Picture 6" descr="C01NF08"/>
            <p:cNvPicPr/>
            <p:nvPr/>
          </p:nvPicPr>
          <p:blipFill>
            <a:blip r:embed="rId1"/>
            <a:stretch/>
          </p:blipFill>
          <p:spPr>
            <a:xfrm>
              <a:off x="468360" y="1484280"/>
              <a:ext cx="828036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Rectangle 6"/>
            <p:cNvSpPr/>
            <p:nvPr/>
          </p:nvSpPr>
          <p:spPr>
            <a:xfrm>
              <a:off x="4140360" y="2565000"/>
              <a:ext cx="8640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mponents of DBM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d by the organization and a description of this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Instructions and rules that should be applied to the design and use of the database and DB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81CC-D08A-4F3F-9EE1-F06500DFBB6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3"/>
          <p:cNvGrpSpPr/>
          <p:nvPr/>
        </p:nvGrpSpPr>
        <p:grpSpPr>
          <a:xfrm>
            <a:off x="151560" y="1454040"/>
            <a:ext cx="8714880" cy="5213880"/>
            <a:chOff x="151560" y="1454040"/>
            <a:chExt cx="8714880" cy="5213880"/>
          </a:xfrm>
        </p:grpSpPr>
        <p:sp>
          <p:nvSpPr>
            <p:cNvPr id="498" name="Text Box 54"/>
            <p:cNvSpPr/>
            <p:nvPr/>
          </p:nvSpPr>
          <p:spPr>
            <a:xfrm>
              <a:off x="7071840" y="272088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System Analy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99" name="Group 2"/>
            <p:cNvGrpSpPr/>
            <p:nvPr/>
          </p:nvGrpSpPr>
          <p:grpSpPr>
            <a:xfrm>
              <a:off x="1777680" y="1499400"/>
              <a:ext cx="6096240" cy="2666880"/>
              <a:chOff x="1777680" y="1499400"/>
              <a:chExt cx="6096240" cy="2666880"/>
            </a:xfrm>
          </p:grpSpPr>
          <p:sp>
            <p:nvSpPr>
              <p:cNvPr id="500" name="Line 62"/>
              <p:cNvSpPr/>
              <p:nvPr/>
            </p:nvSpPr>
            <p:spPr>
              <a:xfrm flipH="1">
                <a:off x="1777680" y="1499400"/>
                <a:ext cx="609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Line 63"/>
              <p:cNvSpPr/>
              <p:nvPr/>
            </p:nvSpPr>
            <p:spPr>
              <a:xfrm>
                <a:off x="1778040" y="1499400"/>
                <a:ext cx="0" cy="266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Line 64"/>
              <p:cNvSpPr/>
              <p:nvPr/>
            </p:nvSpPr>
            <p:spPr>
              <a:xfrm>
                <a:off x="7873920" y="1499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3" name="Text Box 71"/>
            <p:cNvSpPr/>
            <p:nvPr/>
          </p:nvSpPr>
          <p:spPr>
            <a:xfrm>
              <a:off x="151560" y="6269040"/>
              <a:ext cx="26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alibri"/>
                </a:rPr>
                <a:t>Sophisticated End Use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Text Box 74"/>
            <p:cNvSpPr/>
            <p:nvPr/>
          </p:nvSpPr>
          <p:spPr>
            <a:xfrm>
              <a:off x="3987720" y="1454040"/>
              <a:ext cx="135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Communicat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5" name="Group 1"/>
            <p:cNvGrpSpPr/>
            <p:nvPr/>
          </p:nvGrpSpPr>
          <p:grpSpPr>
            <a:xfrm>
              <a:off x="902520" y="1911240"/>
              <a:ext cx="7123680" cy="4648320"/>
              <a:chOff x="902520" y="1911240"/>
              <a:chExt cx="7123680" cy="4648320"/>
            </a:xfrm>
          </p:grpSpPr>
          <p:sp>
            <p:nvSpPr>
              <p:cNvPr id="506" name="Rectangle 5"/>
              <p:cNvSpPr/>
              <p:nvPr/>
            </p:nvSpPr>
            <p:spPr>
              <a:xfrm>
                <a:off x="2616120" y="4197240"/>
                <a:ext cx="3886200" cy="23623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Rectangle 6"/>
              <p:cNvSpPr/>
              <p:nvPr/>
            </p:nvSpPr>
            <p:spPr>
              <a:xfrm>
                <a:off x="4825800" y="4349880"/>
                <a:ext cx="12189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BM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Rectangle 7"/>
              <p:cNvSpPr/>
              <p:nvPr/>
            </p:nvSpPr>
            <p:spPr>
              <a:xfrm>
                <a:off x="2844720" y="4349880"/>
                <a:ext cx="12189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gram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AutoShape 8"/>
              <p:cNvSpPr/>
              <p:nvPr/>
            </p:nvSpPr>
            <p:spPr>
              <a:xfrm>
                <a:off x="5130720" y="5340240"/>
                <a:ext cx="685800" cy="838080"/>
              </a:xfrm>
              <a:prstGeom prst="flowChartMagneticDisk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Rectangle 9"/>
              <p:cNvSpPr/>
              <p:nvPr/>
            </p:nvSpPr>
            <p:spPr>
              <a:xfrm>
                <a:off x="5740200" y="1987200"/>
                <a:ext cx="137160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quiremen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Rectangle 10"/>
              <p:cNvSpPr/>
              <p:nvPr/>
            </p:nvSpPr>
            <p:spPr>
              <a:xfrm>
                <a:off x="2844720" y="1987200"/>
                <a:ext cx="1218960" cy="6094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2" name="Group 15"/>
              <p:cNvGrpSpPr/>
              <p:nvPr/>
            </p:nvGrpSpPr>
            <p:grpSpPr>
              <a:xfrm>
                <a:off x="1625400" y="4273560"/>
                <a:ext cx="304560" cy="685800"/>
                <a:chOff x="1625400" y="4273560"/>
                <a:chExt cx="304560" cy="685800"/>
              </a:xfrm>
            </p:grpSpPr>
            <p:sp>
              <p:nvSpPr>
                <p:cNvPr id="513" name="AutoShape 11"/>
                <p:cNvSpPr/>
                <p:nvPr/>
              </p:nvSpPr>
              <p:spPr>
                <a:xfrm>
                  <a:off x="1625400" y="427356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2"/>
                <p:cNvSpPr/>
                <p:nvPr/>
              </p:nvSpPr>
              <p:spPr>
                <a:xfrm>
                  <a:off x="1747080" y="452268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13"/>
                <p:cNvSpPr/>
                <p:nvPr/>
              </p:nvSpPr>
              <p:spPr>
                <a:xfrm flipH="1">
                  <a:off x="1625400" y="4833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14"/>
                <p:cNvSpPr/>
                <p:nvPr/>
              </p:nvSpPr>
              <p:spPr>
                <a:xfrm>
                  <a:off x="1747080" y="4833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Line 16"/>
              <p:cNvSpPr/>
              <p:nvPr/>
            </p:nvSpPr>
            <p:spPr>
              <a:xfrm>
                <a:off x="2082600" y="46544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Line 17"/>
              <p:cNvSpPr/>
              <p:nvPr/>
            </p:nvSpPr>
            <p:spPr>
              <a:xfrm>
                <a:off x="4064040" y="465444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Line 18"/>
              <p:cNvSpPr/>
              <p:nvPr/>
            </p:nvSpPr>
            <p:spPr>
              <a:xfrm>
                <a:off x="5435640" y="49593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20" name="Group 19"/>
              <p:cNvGrpSpPr/>
              <p:nvPr/>
            </p:nvGrpSpPr>
            <p:grpSpPr>
              <a:xfrm>
                <a:off x="3301920" y="3130560"/>
                <a:ext cx="304560" cy="685800"/>
                <a:chOff x="3301920" y="3130560"/>
                <a:chExt cx="304560" cy="685800"/>
              </a:xfrm>
            </p:grpSpPr>
            <p:sp>
              <p:nvSpPr>
                <p:cNvPr id="521" name="AutoShape 20"/>
                <p:cNvSpPr/>
                <p:nvPr/>
              </p:nvSpPr>
              <p:spPr>
                <a:xfrm>
                  <a:off x="3301920" y="313056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Line 21"/>
                <p:cNvSpPr/>
                <p:nvPr/>
              </p:nvSpPr>
              <p:spPr>
                <a:xfrm>
                  <a:off x="3423600" y="337968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Line 22"/>
                <p:cNvSpPr/>
                <p:nvPr/>
              </p:nvSpPr>
              <p:spPr>
                <a:xfrm flipH="1">
                  <a:off x="3301920" y="3690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Line 23"/>
                <p:cNvSpPr/>
                <p:nvPr/>
              </p:nvSpPr>
              <p:spPr>
                <a:xfrm>
                  <a:off x="3423600" y="369036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Line 24"/>
              <p:cNvSpPr/>
              <p:nvPr/>
            </p:nvSpPr>
            <p:spPr>
              <a:xfrm>
                <a:off x="3454200" y="259704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Line 25"/>
              <p:cNvSpPr/>
              <p:nvPr/>
            </p:nvSpPr>
            <p:spPr>
              <a:xfrm>
                <a:off x="3454200" y="3892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27" name="Group 26"/>
              <p:cNvGrpSpPr/>
              <p:nvPr/>
            </p:nvGrpSpPr>
            <p:grpSpPr>
              <a:xfrm>
                <a:off x="4749840" y="1911240"/>
                <a:ext cx="304560" cy="685800"/>
                <a:chOff x="4749840" y="1911240"/>
                <a:chExt cx="304560" cy="685800"/>
              </a:xfrm>
            </p:grpSpPr>
            <p:sp>
              <p:nvSpPr>
                <p:cNvPr id="528" name="AutoShape 27"/>
                <p:cNvSpPr/>
                <p:nvPr/>
              </p:nvSpPr>
              <p:spPr>
                <a:xfrm>
                  <a:off x="4749840" y="191124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Line 28"/>
                <p:cNvSpPr/>
                <p:nvPr/>
              </p:nvSpPr>
              <p:spPr>
                <a:xfrm>
                  <a:off x="4871520" y="216036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Line 29"/>
                <p:cNvSpPr/>
                <p:nvPr/>
              </p:nvSpPr>
              <p:spPr>
                <a:xfrm flipH="1">
                  <a:off x="4749840" y="247104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Line 30"/>
                <p:cNvSpPr/>
                <p:nvPr/>
              </p:nvSpPr>
              <p:spPr>
                <a:xfrm>
                  <a:off x="4871520" y="247104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Line 31"/>
              <p:cNvSpPr/>
              <p:nvPr/>
            </p:nvSpPr>
            <p:spPr>
              <a:xfrm flipH="1">
                <a:off x="4063680" y="2215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Line 32"/>
              <p:cNvSpPr/>
              <p:nvPr/>
            </p:nvSpPr>
            <p:spPr>
              <a:xfrm flipH="1">
                <a:off x="5130360" y="2215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34" name="Group 33"/>
              <p:cNvGrpSpPr/>
              <p:nvPr/>
            </p:nvGrpSpPr>
            <p:grpSpPr>
              <a:xfrm>
                <a:off x="7721640" y="1987200"/>
                <a:ext cx="304560" cy="685800"/>
                <a:chOff x="7721640" y="1987200"/>
                <a:chExt cx="304560" cy="685800"/>
              </a:xfrm>
            </p:grpSpPr>
            <p:sp>
              <p:nvSpPr>
                <p:cNvPr id="535" name="AutoShape 34"/>
                <p:cNvSpPr/>
                <p:nvPr/>
              </p:nvSpPr>
              <p:spPr>
                <a:xfrm>
                  <a:off x="7721640" y="198720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35"/>
                <p:cNvSpPr/>
                <p:nvPr/>
              </p:nvSpPr>
              <p:spPr>
                <a:xfrm>
                  <a:off x="7843320" y="223632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36"/>
                <p:cNvSpPr/>
                <p:nvPr/>
              </p:nvSpPr>
              <p:spPr>
                <a:xfrm flipH="1">
                  <a:off x="7721640" y="2547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Line 37"/>
                <p:cNvSpPr/>
                <p:nvPr/>
              </p:nvSpPr>
              <p:spPr>
                <a:xfrm>
                  <a:off x="7843320" y="2547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Group 43"/>
              <p:cNvGrpSpPr/>
              <p:nvPr/>
            </p:nvGrpSpPr>
            <p:grpSpPr>
              <a:xfrm>
                <a:off x="6654600" y="3206520"/>
                <a:ext cx="304560" cy="685800"/>
                <a:chOff x="6654600" y="3206520"/>
                <a:chExt cx="304560" cy="685800"/>
              </a:xfrm>
            </p:grpSpPr>
            <p:sp>
              <p:nvSpPr>
                <p:cNvPr id="540" name="AutoShape 44"/>
                <p:cNvSpPr/>
                <p:nvPr/>
              </p:nvSpPr>
              <p:spPr>
                <a:xfrm>
                  <a:off x="6654600" y="320652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45"/>
                <p:cNvSpPr/>
                <p:nvPr/>
              </p:nvSpPr>
              <p:spPr>
                <a:xfrm>
                  <a:off x="6776280" y="345564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46"/>
                <p:cNvSpPr/>
                <p:nvPr/>
              </p:nvSpPr>
              <p:spPr>
                <a:xfrm flipH="1">
                  <a:off x="6654600" y="376632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47"/>
                <p:cNvSpPr/>
                <p:nvPr/>
              </p:nvSpPr>
              <p:spPr>
                <a:xfrm>
                  <a:off x="6776280" y="376632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Line 48"/>
              <p:cNvSpPr/>
              <p:nvPr/>
            </p:nvSpPr>
            <p:spPr>
              <a:xfrm flipH="1">
                <a:off x="6044760" y="3816360"/>
                <a:ext cx="5331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Text Box 49"/>
              <p:cNvSpPr/>
              <p:nvPr/>
            </p:nvSpPr>
            <p:spPr>
              <a:xfrm>
                <a:off x="6946920" y="347328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DBA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Text Box 50"/>
              <p:cNvSpPr/>
              <p:nvPr/>
            </p:nvSpPr>
            <p:spPr>
              <a:xfrm>
                <a:off x="902520" y="4973760"/>
                <a:ext cx="178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Naïve End User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Text Box 51"/>
              <p:cNvSpPr/>
              <p:nvPr/>
            </p:nvSpPr>
            <p:spPr>
              <a:xfrm>
                <a:off x="3610800" y="3130560"/>
                <a:ext cx="1512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Applic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programmer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Text Box 52"/>
              <p:cNvSpPr/>
              <p:nvPr/>
            </p:nvSpPr>
            <p:spPr>
              <a:xfrm>
                <a:off x="4300560" y="2611080"/>
                <a:ext cx="146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alibri"/>
                  </a:rPr>
                  <a:t>DB Designer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Line 53"/>
              <p:cNvSpPr/>
              <p:nvPr/>
            </p:nvSpPr>
            <p:spPr>
              <a:xfrm>
                <a:off x="5130720" y="2901600"/>
                <a:ext cx="22860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50" name="Group 55"/>
              <p:cNvGrpSpPr/>
              <p:nvPr/>
            </p:nvGrpSpPr>
            <p:grpSpPr>
              <a:xfrm>
                <a:off x="1625400" y="5569200"/>
                <a:ext cx="304560" cy="685800"/>
                <a:chOff x="1625400" y="5569200"/>
                <a:chExt cx="304560" cy="685800"/>
              </a:xfrm>
            </p:grpSpPr>
            <p:sp>
              <p:nvSpPr>
                <p:cNvPr id="551" name="AutoShape 56"/>
                <p:cNvSpPr/>
                <p:nvPr/>
              </p:nvSpPr>
              <p:spPr>
                <a:xfrm>
                  <a:off x="1625400" y="5569200"/>
                  <a:ext cx="304560" cy="249120"/>
                </a:xfrm>
                <a:prstGeom prst="smileyFace">
                  <a:avLst>
                    <a:gd name="adj" fmla="val 9282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Line 57"/>
                <p:cNvSpPr/>
                <p:nvPr/>
              </p:nvSpPr>
              <p:spPr>
                <a:xfrm>
                  <a:off x="1747080" y="5818320"/>
                  <a:ext cx="0" cy="31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58"/>
                <p:cNvSpPr/>
                <p:nvPr/>
              </p:nvSpPr>
              <p:spPr>
                <a:xfrm flipH="1">
                  <a:off x="1625400" y="6129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Line 59"/>
                <p:cNvSpPr/>
                <p:nvPr/>
              </p:nvSpPr>
              <p:spPr>
                <a:xfrm>
                  <a:off x="1747080" y="6129000"/>
                  <a:ext cx="12168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Line 60"/>
              <p:cNvSpPr/>
              <p:nvPr/>
            </p:nvSpPr>
            <p:spPr>
              <a:xfrm>
                <a:off x="4902120" y="495936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Line 61"/>
              <p:cNvSpPr/>
              <p:nvPr/>
            </p:nvSpPr>
            <p:spPr>
              <a:xfrm flipH="1">
                <a:off x="2082240" y="5950080"/>
                <a:ext cx="28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Line 65"/>
              <p:cNvSpPr/>
              <p:nvPr/>
            </p:nvSpPr>
            <p:spPr>
              <a:xfrm flipH="1">
                <a:off x="7111440" y="2215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Text Box 72"/>
              <p:cNvSpPr/>
              <p:nvPr/>
            </p:nvSpPr>
            <p:spPr>
              <a:xfrm>
                <a:off x="5894280" y="617724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/W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Text Box 73"/>
              <p:cNvSpPr/>
              <p:nvPr/>
            </p:nvSpPr>
            <p:spPr>
              <a:xfrm>
                <a:off x="5201280" y="342396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Desig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Text Box 75"/>
              <p:cNvSpPr/>
              <p:nvPr/>
            </p:nvSpPr>
            <p:spPr>
              <a:xfrm>
                <a:off x="6274440" y="39686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Manag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Text Box 76"/>
              <p:cNvSpPr/>
              <p:nvPr/>
            </p:nvSpPr>
            <p:spPr>
              <a:xfrm>
                <a:off x="4064760" y="22158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Wri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Text Box 77"/>
              <p:cNvSpPr/>
              <p:nvPr/>
            </p:nvSpPr>
            <p:spPr>
              <a:xfrm>
                <a:off x="7158600" y="22158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Wri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Text Box 78"/>
              <p:cNvSpPr/>
              <p:nvPr/>
            </p:nvSpPr>
            <p:spPr>
              <a:xfrm>
                <a:off x="3454560" y="396864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Program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Text Box 79"/>
              <p:cNvSpPr/>
              <p:nvPr/>
            </p:nvSpPr>
            <p:spPr>
              <a:xfrm>
                <a:off x="2190240" y="46544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Us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Text Box 80"/>
              <p:cNvSpPr/>
              <p:nvPr/>
            </p:nvSpPr>
            <p:spPr>
              <a:xfrm>
                <a:off x="2160000" y="595008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Us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Slide Number Placeholder 68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EEE1-AA59-41CF-BFDF-779A4B9265A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400" y="-387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ystem Analyst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ermine the user requirements and develop the system specific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Designer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dentify the data and choose the appropriate structure to represent and store th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pplication Programmer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mplement the application program based on the system specif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administrator (DBA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ministrates the DB, DBMS and related softwa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89BA-15BB-4583-9F13-855B509176F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End-users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hey use the data for queries, reports and some of them update the database content (data). End-users can be categorized int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Naïve use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Invokes one of the permanent application programs that have been written previous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ophisticated use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form requests in a database query langu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Slide Number Placeholder 71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6C6-1D7E-4EC6-AFF0-C2E79D3F64F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rol of data redunda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consist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ore information from the same amount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haring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secu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forcement of standard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conomy of sc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295B-FC47-49AE-B792-A9ABE630F6B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ome common uses of database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atabase Concep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haracteristics of file-based syste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blems with file-based approa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the term Database Management System (DBM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of a DBM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ajor components of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ersonnel involved in the DBMS environm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dvantages and disadvantages of DBM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200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7C6-CEF7-43A5-830E-D413001E2CA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lance conflicting require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data accessibility and responsiven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productiv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maintenance through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reased concurr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mproved backup and recovery servic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1D5-0F36-4EB8-B3CB-20053C64D81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sadvantages of DBM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DB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hardware co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st of convers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igher impact of a failu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40BD-FEBD-4D93-93A2-B0763E9429B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Database Applic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from the supermarke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urchases using your credit card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ooking a holiday at the travel agent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cal Examples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dugate and ERegis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SU Libr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udi Airlines Reserv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2B7A-6A3C-4F79-B588-92D4ABD7E86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728120" cy="51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meaningless static value. e.g. Ali, 3421… What doe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42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means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the data you process in a manner that makes it meaningful.  Information can be provided only if proper data exists. e.g. “Ali ID number is 0987”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(DB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a collection of a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logically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late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persisten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data,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igned to meet the information needs of an organiza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Can be generated &amp; maintained manually or automaticall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546F-4E2F-45C6-88C5-1E4BC378E78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Concep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Management System (DBMS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software system that facilitates the creation and maintenance of a database, i.e. implementing database appl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(Database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pplication programs :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computer program that interacts with database by issuing an appropriate request (SQL statement) to the DBM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base System (DBS)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database and Software (DBMS + Application Program)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902-4F05-4F53-B7FB-07CEC43CE7A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c5cff"/>
                </a:solidFill>
                <a:latin typeface="Times New Roman"/>
              </a:rPr>
              <a:t>DBS Environme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469-5095-4C61-BF9D-4A8C0A1AF99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AutoShape 1027"/>
          <p:cNvSpPr/>
          <p:nvPr/>
        </p:nvSpPr>
        <p:spPr>
          <a:xfrm>
            <a:off x="5029200" y="4952880"/>
            <a:ext cx="1143000" cy="121932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AutoShape 1028"/>
          <p:cNvSpPr/>
          <p:nvPr/>
        </p:nvSpPr>
        <p:spPr>
          <a:xfrm>
            <a:off x="3048120" y="4952880"/>
            <a:ext cx="1218960" cy="121932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Da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Rectangle 1029"/>
          <p:cNvSpPr/>
          <p:nvPr/>
        </p:nvSpPr>
        <p:spPr>
          <a:xfrm>
            <a:off x="3809880" y="39625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Rectangle 1030"/>
          <p:cNvSpPr/>
          <p:nvPr/>
        </p:nvSpPr>
        <p:spPr>
          <a:xfrm>
            <a:off x="3809880" y="3048120"/>
            <a:ext cx="1752840" cy="53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Proce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Rectangle 1031"/>
          <p:cNvSpPr/>
          <p:nvPr/>
        </p:nvSpPr>
        <p:spPr>
          <a:xfrm>
            <a:off x="3429000" y="2209680"/>
            <a:ext cx="266688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Progra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Rectangle 1032"/>
          <p:cNvSpPr/>
          <p:nvPr/>
        </p:nvSpPr>
        <p:spPr>
          <a:xfrm>
            <a:off x="2819520" y="2819520"/>
            <a:ext cx="373356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Rectangle 1033"/>
          <p:cNvSpPr/>
          <p:nvPr/>
        </p:nvSpPr>
        <p:spPr>
          <a:xfrm>
            <a:off x="1752480" y="1828800"/>
            <a:ext cx="57150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1034"/>
          <p:cNvSpPr/>
          <p:nvPr/>
        </p:nvSpPr>
        <p:spPr>
          <a:xfrm>
            <a:off x="2828160" y="28954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1035"/>
          <p:cNvSpPr/>
          <p:nvPr/>
        </p:nvSpPr>
        <p:spPr>
          <a:xfrm>
            <a:off x="184464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1036"/>
          <p:cNvSpPr/>
          <p:nvPr/>
        </p:nvSpPr>
        <p:spPr>
          <a:xfrm>
            <a:off x="45720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1037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38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039"/>
          <p:cNvSpPr/>
          <p:nvPr/>
        </p:nvSpPr>
        <p:spPr>
          <a:xfrm flipH="1">
            <a:off x="38095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040"/>
          <p:cNvSpPr/>
          <p:nvPr/>
        </p:nvSpPr>
        <p:spPr>
          <a:xfrm>
            <a:off x="4648320" y="4495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Rectangle 1031"/>
          <p:cNvSpPr/>
          <p:nvPr/>
        </p:nvSpPr>
        <p:spPr>
          <a:xfrm>
            <a:off x="3276720" y="12952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/Programm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ile-Based System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3534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llection of application programs that perform services for the end users (e.g. reports)where each program defines and manages its own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Slide Number Placeholder 5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7909-E08F-4A91-AA5C-136DAC54E47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3" name="Picture 12" descr="C01NF05"/>
          <p:cNvPicPr/>
          <p:nvPr/>
        </p:nvPicPr>
        <p:blipFill>
          <a:blip r:embed="rId1"/>
          <a:stretch/>
        </p:blipFill>
        <p:spPr>
          <a:xfrm>
            <a:off x="395280" y="2708280"/>
            <a:ext cx="8137440" cy="2762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DS3-Figure 01-05"/>
          <p:cNvPicPr/>
          <p:nvPr/>
        </p:nvPicPr>
        <p:blipFill>
          <a:blip r:embed="rId2"/>
          <a:stretch/>
        </p:blipFill>
        <p:spPr>
          <a:xfrm>
            <a:off x="395280" y="5470560"/>
            <a:ext cx="8137440" cy="123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paration and isol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Each program maintains its own set of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sers of one program may be unaware of potentially useful data held by other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uplication of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Same data is held by different program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Wasted space and potentially different values and/or different formats for the same item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4B79-8928-43FC-8A36-78DA12F6724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Limitations of File-Based Approach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72812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ile structure is defined in the program c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compatible file forma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in different languages, and so cannot easily access each other’s fil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ixed Queries/Proliferation of application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ograms are written to satisfy particular func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y new requirement needs a new progra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4ADD-A83B-4749-9C0F-46F67F6489C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&amp; Carolyn Begg</dc:creator>
  <dc:description>Transparencies for Chapter 1 of textbook
Database Systems: A Practical Approach to Design, Implementation, and Management</dc:description>
  <dc:language>en-US</dc:language>
  <cp:lastModifiedBy>Sahar Bayoumi Ali</cp:lastModifiedBy>
  <cp:lastPrinted>2014-09-04T05:48:13Z</cp:lastPrinted>
  <dcterms:modified xsi:type="dcterms:W3CDTF">2014-09-04T05:56:37Z</dcterms:modified>
  <cp:revision>127</cp:revision>
  <dc:subject>Database Systems</dc:subject>
  <dc:title>Chapter 1</dc:title>
</cp:coreProperties>
</file>