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D3AC7-06DF-4C22-A926-6B990D58FC69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4A0D1-0F67-4BFF-9C27-88733ADD6DCB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613C-51CE-4D31-B98F-A43849EBF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F343-1435-4A12-9697-D3AA0BD7A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1A25-A293-49E8-85D4-ACCD644F9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FADB-F835-464D-983B-E18112EDE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114D-CAAD-4ECD-8E0B-2EE8B1530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F11E-D55C-4CEB-A0E7-6D0D2EA85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3C1A-3923-4650-A489-B042CC4CE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8450-61B3-449E-A56F-614C665C4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FA3F-EB33-4370-B5BB-73E99570E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66F7-710D-48FA-A62E-39E478DF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1AD9-5355-4384-A008-1F5EFD6B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BD30-4181-4301-8DDE-7D3FD633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CA7FA-16E5-4FAE-97BF-56017DC1F95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35040" y="201456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 Light"/>
              </a:rPr>
              <a:t>IP Adressing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Calibri Light"/>
              </a:rPr>
              <a:t>&amp;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Calibri Light"/>
              </a:rPr>
              <a:t>Subnett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Content Placeholder 3" descr=""/>
          <p:cNvPicPr/>
          <p:nvPr/>
        </p:nvPicPr>
        <p:blipFill>
          <a:blip r:embed="rId1"/>
          <a:stretch/>
        </p:blipFill>
        <p:spPr>
          <a:xfrm>
            <a:off x="2468520" y="474840"/>
            <a:ext cx="7891560" cy="58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ontent Placeholder 3" descr=""/>
          <p:cNvPicPr/>
          <p:nvPr/>
        </p:nvPicPr>
        <p:blipFill>
          <a:blip r:embed="rId1"/>
          <a:stretch/>
        </p:blipFill>
        <p:spPr>
          <a:xfrm>
            <a:off x="2328840" y="484200"/>
            <a:ext cx="7723080" cy="56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Content Placeholder 3" descr=""/>
          <p:cNvPicPr/>
          <p:nvPr/>
        </p:nvPicPr>
        <p:blipFill>
          <a:blip r:embed="rId1"/>
          <a:stretch/>
        </p:blipFill>
        <p:spPr>
          <a:xfrm>
            <a:off x="2071800" y="473040"/>
            <a:ext cx="8064360" cy="56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Content Placeholder 3" descr=""/>
          <p:cNvPicPr/>
          <p:nvPr/>
        </p:nvPicPr>
        <p:blipFill>
          <a:blip r:embed="rId1"/>
          <a:stretch/>
        </p:blipFill>
        <p:spPr>
          <a:xfrm>
            <a:off x="2154240" y="517680"/>
            <a:ext cx="7945560" cy="56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ontent Placeholder 3" descr=""/>
          <p:cNvPicPr/>
          <p:nvPr/>
        </p:nvPicPr>
        <p:blipFill>
          <a:blip r:embed="rId1"/>
          <a:stretch/>
        </p:blipFill>
        <p:spPr>
          <a:xfrm>
            <a:off x="2665440" y="804960"/>
            <a:ext cx="6727680" cy="51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Content Placeholder 3" descr=""/>
          <p:cNvPicPr/>
          <p:nvPr/>
        </p:nvPicPr>
        <p:blipFill>
          <a:blip r:embed="rId1"/>
          <a:stretch/>
        </p:blipFill>
        <p:spPr>
          <a:xfrm>
            <a:off x="2090880" y="517680"/>
            <a:ext cx="7773840" cy="56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Content Placeholder 3" descr=""/>
          <p:cNvPicPr/>
          <p:nvPr/>
        </p:nvPicPr>
        <p:blipFill>
          <a:blip r:embed="rId1"/>
          <a:stretch/>
        </p:blipFill>
        <p:spPr>
          <a:xfrm>
            <a:off x="2151000" y="1222200"/>
            <a:ext cx="8105760" cy="38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Content Placeholder 3" descr=""/>
          <p:cNvPicPr/>
          <p:nvPr/>
        </p:nvPicPr>
        <p:blipFill>
          <a:blip r:embed="rId1"/>
          <a:stretch/>
        </p:blipFill>
        <p:spPr>
          <a:xfrm>
            <a:off x="2346480" y="584280"/>
            <a:ext cx="7545240" cy="55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ontent Placeholder 3" descr=""/>
          <p:cNvPicPr/>
          <p:nvPr/>
        </p:nvPicPr>
        <p:blipFill>
          <a:blip r:embed="rId1"/>
          <a:stretch/>
        </p:blipFill>
        <p:spPr>
          <a:xfrm>
            <a:off x="2565360" y="760320"/>
            <a:ext cx="7280280" cy="54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Content Placeholder 3" descr=""/>
          <p:cNvPicPr/>
          <p:nvPr/>
        </p:nvPicPr>
        <p:blipFill>
          <a:blip r:embed="rId1"/>
          <a:stretch/>
        </p:blipFill>
        <p:spPr>
          <a:xfrm>
            <a:off x="2230560" y="506520"/>
            <a:ext cx="7805520" cy="56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</a:rPr>
              <a:t>What is Subnetting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ubnet (short for subnetwork) may represent all the machines at one geographic location, in one building, or on the same L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Content Placeholder 5" descr=""/>
          <p:cNvPicPr/>
          <p:nvPr/>
        </p:nvPicPr>
        <p:blipFill>
          <a:blip r:embed="rId1"/>
          <a:stretch/>
        </p:blipFill>
        <p:spPr>
          <a:xfrm>
            <a:off x="2238480" y="606600"/>
            <a:ext cx="7751520" cy="55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Content Placeholder 3" descr=""/>
          <p:cNvPicPr/>
          <p:nvPr/>
        </p:nvPicPr>
        <p:blipFill>
          <a:blip r:embed="rId1"/>
          <a:stretch/>
        </p:blipFill>
        <p:spPr>
          <a:xfrm>
            <a:off x="2610000" y="639720"/>
            <a:ext cx="752760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Content Placeholder 3" descr=""/>
          <p:cNvPicPr/>
          <p:nvPr/>
        </p:nvPicPr>
        <p:blipFill>
          <a:blip r:embed="rId1"/>
          <a:stretch/>
        </p:blipFill>
        <p:spPr>
          <a:xfrm>
            <a:off x="2716200" y="606600"/>
            <a:ext cx="7581960" cy="55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2421000" y="374760"/>
            <a:ext cx="7872480" cy="57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ontent Placeholder 3" descr=""/>
          <p:cNvPicPr/>
          <p:nvPr/>
        </p:nvPicPr>
        <p:blipFill>
          <a:blip r:embed="rId1"/>
          <a:stretch/>
        </p:blipFill>
        <p:spPr>
          <a:xfrm>
            <a:off x="2322360" y="441360"/>
            <a:ext cx="7886880" cy="57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Content Placeholder 3" descr=""/>
          <p:cNvPicPr/>
          <p:nvPr/>
        </p:nvPicPr>
        <p:blipFill>
          <a:blip r:embed="rId1"/>
          <a:stretch/>
        </p:blipFill>
        <p:spPr>
          <a:xfrm>
            <a:off x="2230560" y="782640"/>
            <a:ext cx="745488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Content Placeholder 5" descr=""/>
          <p:cNvPicPr/>
          <p:nvPr/>
        </p:nvPicPr>
        <p:blipFill>
          <a:blip r:embed="rId1"/>
          <a:stretch/>
        </p:blipFill>
        <p:spPr>
          <a:xfrm>
            <a:off x="2238480" y="606600"/>
            <a:ext cx="7751520" cy="55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2009880" y="961920"/>
            <a:ext cx="8172360" cy="49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2611440" y="649440"/>
            <a:ext cx="7321680" cy="53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Content Placeholder 3" descr=""/>
          <p:cNvPicPr/>
          <p:nvPr/>
        </p:nvPicPr>
        <p:blipFill>
          <a:blip r:embed="rId1"/>
          <a:stretch/>
        </p:blipFill>
        <p:spPr>
          <a:xfrm>
            <a:off x="2093760" y="539640"/>
            <a:ext cx="7658280" cy="56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1862280" y="441360"/>
            <a:ext cx="8262720" cy="61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2232000" y="550800"/>
            <a:ext cx="7442280" cy="53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Content Placeholder 3" descr=""/>
          <p:cNvPicPr/>
          <p:nvPr/>
        </p:nvPicPr>
        <p:blipFill>
          <a:blip r:embed="rId1"/>
          <a:stretch/>
        </p:blipFill>
        <p:spPr>
          <a:xfrm>
            <a:off x="3095640" y="2278080"/>
            <a:ext cx="600084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2533680" y="738360"/>
            <a:ext cx="732456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Content Placeholder 3" descr=""/>
          <p:cNvPicPr/>
          <p:nvPr/>
        </p:nvPicPr>
        <p:blipFill>
          <a:blip r:embed="rId1"/>
          <a:stretch/>
        </p:blipFill>
        <p:spPr>
          <a:xfrm>
            <a:off x="2228760" y="628560"/>
            <a:ext cx="7473960" cy="55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2438280" y="473040"/>
            <a:ext cx="7801200" cy="55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Subnetting Homework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: A service provider has given you the Class C network range 209.50.1.0. Your company must break the network into 20 separate subnet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: Your company would like to break the Class B private IP address range 172.16.0.0 into 60 different subnet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: A service provider has given you the Class C network range 209.50.1.0. Your company must break the network into as many subnets as possible as long as there are at least 50 clients per network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4: Your company would like to break the Class B private IP address range 172.16.0.0 into as many subnets as possible, provided that they can get at least 300 clients per subne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5: You are given the following IP address and subnet mask:  192.168.1.58  255.255.255.240  Identify the original range of addresses (the subnet) that this IP address belongs t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2209680" y="254160"/>
            <a:ext cx="8150400" cy="60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ontent Placeholder 3" descr=""/>
          <p:cNvPicPr/>
          <p:nvPr/>
        </p:nvPicPr>
        <p:blipFill>
          <a:blip r:embed="rId1"/>
          <a:stretch/>
        </p:blipFill>
        <p:spPr>
          <a:xfrm>
            <a:off x="1876320" y="682560"/>
            <a:ext cx="78328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Content Placeholder 3" descr=""/>
          <p:cNvPicPr/>
          <p:nvPr/>
        </p:nvPicPr>
        <p:blipFill>
          <a:blip r:embed="rId1"/>
          <a:stretch/>
        </p:blipFill>
        <p:spPr>
          <a:xfrm>
            <a:off x="2732040" y="1211400"/>
            <a:ext cx="7104240" cy="52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Content Placeholder 3" descr=""/>
          <p:cNvPicPr/>
          <p:nvPr/>
        </p:nvPicPr>
        <p:blipFill>
          <a:blip r:embed="rId1"/>
          <a:stretch/>
        </p:blipFill>
        <p:spPr>
          <a:xfrm>
            <a:off x="2427120" y="1012680"/>
            <a:ext cx="700740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ontent Placeholder 3" descr=""/>
          <p:cNvPicPr/>
          <p:nvPr/>
        </p:nvPicPr>
        <p:blipFill>
          <a:blip r:embed="rId1"/>
          <a:stretch/>
        </p:blipFill>
        <p:spPr>
          <a:xfrm>
            <a:off x="2247840" y="771480"/>
            <a:ext cx="7315200" cy="54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Content Placeholder 3" descr=""/>
          <p:cNvPicPr/>
          <p:nvPr/>
        </p:nvPicPr>
        <p:blipFill>
          <a:blip r:embed="rId1"/>
          <a:stretch/>
        </p:blipFill>
        <p:spPr>
          <a:xfrm>
            <a:off x="2413080" y="793800"/>
            <a:ext cx="7286400" cy="53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3T07:35:35Z</dcterms:created>
  <dc:creator>Ashraf Abdalasis</dc:creator>
  <dc:description/>
  <dc:language>en-US</dc:language>
  <cp:lastModifiedBy>Dr. Ashraf Abdelaziz</cp:lastModifiedBy>
  <cp:lastPrinted>2013-09-08T11:48:23Z</cp:lastPrinted>
  <dcterms:modified xsi:type="dcterms:W3CDTF">2015-08-30T07:27:02Z</dcterms:modified>
  <cp:revision>21</cp:revision>
  <dc:subject/>
  <dc:title>IP Adressing &amp; Subnetting</dc:title>
</cp:coreProperties>
</file>