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9398-F420-4982-AF34-CF9313CEB53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BAC4-2EF1-437D-A136-256FCD6EDEB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AE1-ED05-4EC9-BB81-1074009E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43E-3FD3-48E6-B438-FD786F8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849-3F31-4CEF-BA13-C00F94DB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9CD-5DF5-44D0-A2D2-BB070B4D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D44-BD13-4802-A286-CF0B7056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3DB-4D31-4C09-AD0C-DECD0D6D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A41-B250-4E4E-84D2-AE92E5E6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295-D0D4-4878-88BC-7059FECD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544-1E4E-4AA1-B9D6-E9181F77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A7F-F316-447E-A214-8E0E9FC7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02A-BD18-4BA1-852D-0204E594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A59-4E53-4187-8FEF-83DB573D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00AA-E281-4E2B-B131-248967A5A3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35040" y="20145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IP Adress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&amp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Subnett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2468520" y="474840"/>
            <a:ext cx="789156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2328840" y="484200"/>
            <a:ext cx="77230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2071800" y="473040"/>
            <a:ext cx="806436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154240" y="517680"/>
            <a:ext cx="7945560" cy="56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2665440" y="804960"/>
            <a:ext cx="672768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2090880" y="517680"/>
            <a:ext cx="777384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2151000" y="1222200"/>
            <a:ext cx="810576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2346480" y="584280"/>
            <a:ext cx="754524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2565360" y="760320"/>
            <a:ext cx="72802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2230560" y="506520"/>
            <a:ext cx="78055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What is Subnett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ubnet (short for subnetwork) may represent all the machines at one geographic location, in one building, or on the same 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5" descr=""/>
          <p:cNvPicPr/>
          <p:nvPr/>
        </p:nvPicPr>
        <p:blipFill>
          <a:blip r:embed="rId1"/>
          <a:stretch/>
        </p:blipFill>
        <p:spPr>
          <a:xfrm>
            <a:off x="2238480" y="606600"/>
            <a:ext cx="7751520" cy="55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610000" y="639720"/>
            <a:ext cx="75276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2716200" y="606600"/>
            <a:ext cx="758196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421000" y="374760"/>
            <a:ext cx="787248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2322360" y="441360"/>
            <a:ext cx="78868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2230560" y="782640"/>
            <a:ext cx="74548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5" descr=""/>
          <p:cNvPicPr/>
          <p:nvPr/>
        </p:nvPicPr>
        <p:blipFill>
          <a:blip r:embed="rId1"/>
          <a:stretch/>
        </p:blipFill>
        <p:spPr>
          <a:xfrm>
            <a:off x="2238480" y="606600"/>
            <a:ext cx="7751520" cy="55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009880" y="961920"/>
            <a:ext cx="81723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611440" y="649440"/>
            <a:ext cx="7321680" cy="53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2093760" y="539640"/>
            <a:ext cx="76582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1862280" y="441360"/>
            <a:ext cx="826272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2232000" y="550800"/>
            <a:ext cx="744228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3" descr=""/>
          <p:cNvPicPr/>
          <p:nvPr/>
        </p:nvPicPr>
        <p:blipFill>
          <a:blip r:embed="rId1"/>
          <a:stretch/>
        </p:blipFill>
        <p:spPr>
          <a:xfrm>
            <a:off x="3095640" y="2278080"/>
            <a:ext cx="6000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533680" y="738360"/>
            <a:ext cx="73245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2228760" y="628560"/>
            <a:ext cx="74739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438280" y="473040"/>
            <a:ext cx="78012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ubnetting Homework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: A service provider has given you the Class C network range 209.50.1.0. Your company must break the network into 20 separate subn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: Your company would like to break the Class B private IP address range 172.16.0.0 into 60 different subne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: A service provider has given you the Class C network range 209.50.1.0. Your company must break the network into as many subnets as possible as long as there are at least 50 clients per networ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: Your company would like to break the Class B private IP address range 172.16.0.0 into as many subnets as possible, provided that they can get at least 300 clients per subn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: You are given the following IP address and subnet mask:  192.168.1.58  255.255.255.240  Identify the original range of addresses (the subnet) that this IP address belongs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209680" y="254160"/>
            <a:ext cx="81504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1876320" y="682560"/>
            <a:ext cx="7832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2732040" y="1211400"/>
            <a:ext cx="71042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2427120" y="1012680"/>
            <a:ext cx="70074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2247840" y="771480"/>
            <a:ext cx="7315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"/>
          <p:cNvPicPr/>
          <p:nvPr/>
        </p:nvPicPr>
        <p:blipFill>
          <a:blip r:embed="rId1"/>
          <a:stretch/>
        </p:blipFill>
        <p:spPr>
          <a:xfrm>
            <a:off x="2413080" y="793800"/>
            <a:ext cx="72864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07:35:35Z</dcterms:created>
  <dc:creator>Ashraf Abdalasis</dc:creator>
  <dc:description/>
  <dc:language>en-US</dc:language>
  <cp:lastModifiedBy>Dr. Ashraf Abdelaziz</cp:lastModifiedBy>
  <cp:lastPrinted>2013-09-08T11:48:23Z</cp:lastPrinted>
  <dcterms:modified xsi:type="dcterms:W3CDTF">2015-08-30T07:27:02Z</dcterms:modified>
  <cp:revision>21</cp:revision>
  <dc:subject/>
  <dc:title>IP Adressing &amp; Subnetting</dc:title>
</cp:coreProperties>
</file>