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8D81-77B0-486D-B674-B669AED5E6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1C25-73BB-44DE-BC34-F1355ADF173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2CB-67D7-4F04-9554-91CB55E1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D30-9BE8-481B-8DA4-93CDF99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FB4-8E85-42A5-91DA-E4A1B8A6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203-B684-4920-9D13-1CBE242D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F11-4300-407C-88AE-CC38916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760-09F3-4031-9A93-467FC7F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6CF-1FC7-4F72-B855-0372ADE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F9A-16FD-4E65-9251-3AFDDB7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64-F040-4C7F-81B9-B6F9275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01C-6E5B-473A-84FD-1881854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9C8-EA2C-43DA-B6B5-8FA8881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0C7-A7AA-4A4A-9B43-14B3D44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BB3-49AE-435C-B878-1691ED6104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5040" y="2014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IP Adres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&amp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Subnett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468520" y="474840"/>
            <a:ext cx="789156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2328840" y="484200"/>
            <a:ext cx="7723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071800" y="473040"/>
            <a:ext cx="80643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154240" y="517680"/>
            <a:ext cx="7945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665440" y="804960"/>
            <a:ext cx="67276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2090880" y="517680"/>
            <a:ext cx="77738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151000" y="1222200"/>
            <a:ext cx="810576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2346480" y="584280"/>
            <a:ext cx="7545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565360" y="760320"/>
            <a:ext cx="7280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230560" y="506520"/>
            <a:ext cx="7805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hat is Subnet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ubnet (short for subnetwork) may represent all the machines at one geographic location, in one building, or on the same 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610000" y="639720"/>
            <a:ext cx="7527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2716200" y="606600"/>
            <a:ext cx="7581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421000" y="374760"/>
            <a:ext cx="78724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322360" y="441360"/>
            <a:ext cx="78868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2230560" y="782640"/>
            <a:ext cx="74548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09880" y="961920"/>
            <a:ext cx="8172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611440" y="649440"/>
            <a:ext cx="732168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2093760" y="539640"/>
            <a:ext cx="76582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1862280" y="441360"/>
            <a:ext cx="82627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232000" y="550800"/>
            <a:ext cx="74422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"/>
          <p:cNvPicPr/>
          <p:nvPr/>
        </p:nvPicPr>
        <p:blipFill>
          <a:blip r:embed="rId1"/>
          <a:stretch/>
        </p:blipFill>
        <p:spPr>
          <a:xfrm>
            <a:off x="3095640" y="2278080"/>
            <a:ext cx="6000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533680" y="738360"/>
            <a:ext cx="732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228760" y="628560"/>
            <a:ext cx="74739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38280" y="473040"/>
            <a:ext cx="7801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bnetting Homework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: A service provider has given you the Class C network range 209.50.1.0. Your company must break the network into 20 separate subn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 Your company would like to break the Class B private IP address range 172.16.0.0 into 60 different subn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: A service provider has given you the Class C network range 209.50.1.0. Your company must break the network into as many subnets as possible as long as there are at least 50 clients per 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: Your company would like to break the Class B private IP address range 172.16.0.0 into as many subnets as possible, provided that they can get at least 300 clients per subn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: You are given the following IP address and subnet mask:  192.168.1.58  255.255.255.240  Identify the original range of addresses (the subnet) that this IP address belongs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209680" y="254160"/>
            <a:ext cx="8150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876320" y="682560"/>
            <a:ext cx="783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2732040" y="1211400"/>
            <a:ext cx="7104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427120" y="1012680"/>
            <a:ext cx="7007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47840" y="771480"/>
            <a:ext cx="731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2413080" y="793800"/>
            <a:ext cx="7286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5:35Z</dcterms:created>
  <dc:creator>Ashraf Abdalasis</dc:creator>
  <dc:description/>
  <dc:language>en-US</dc:language>
  <cp:lastModifiedBy>Dr. Ashraf Abdelaziz</cp:lastModifiedBy>
  <cp:lastPrinted>2013-09-08T11:48:23Z</cp:lastPrinted>
  <dcterms:modified xsi:type="dcterms:W3CDTF">2015-08-30T07:27:02Z</dcterms:modified>
  <cp:revision>21</cp:revision>
  <dc:subject/>
  <dc:title>IP Adressing &amp; Subnetting</dc:title>
</cp:coreProperties>
</file>