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C702-94D2-4524-B0F6-E5CB9D84EBD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358D-7B3C-4A7B-B9B5-3D4E045BB85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1CA8-7E55-411E-9C9D-F52067397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638E-2AB5-4507-96A4-09B9B7B1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09F6-9A56-443F-8EB4-6A596239C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0B88-C90F-4105-B6D1-A5F0BC17A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DBE3-D872-476D-8619-BF343598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B073-B6C5-4DF1-B836-D0F4ECD4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8881-9041-4476-9A9F-A6459BED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1AD4-4842-444C-921D-2645192E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AAEE-D57E-449B-8F83-953E18A3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765C-6B0F-49B1-A2E2-664835FC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3A6B-1416-4449-883F-1F5684AA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A4C7-5C29-4E05-BCA8-9E002D71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0AA7-AA80-4033-AFC6-BDC84ED614A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35040" y="201456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 Light"/>
              </a:rPr>
              <a:t>IP Adressing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Calibri Light"/>
              </a:rPr>
              <a:t>&amp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Calibri Light"/>
              </a:rPr>
              <a:t>Subnett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3" descr=""/>
          <p:cNvPicPr/>
          <p:nvPr/>
        </p:nvPicPr>
        <p:blipFill>
          <a:blip r:embed="rId1"/>
          <a:stretch/>
        </p:blipFill>
        <p:spPr>
          <a:xfrm>
            <a:off x="2468520" y="474840"/>
            <a:ext cx="7891560" cy="58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ontent Placeholder 3" descr=""/>
          <p:cNvPicPr/>
          <p:nvPr/>
        </p:nvPicPr>
        <p:blipFill>
          <a:blip r:embed="rId1"/>
          <a:stretch/>
        </p:blipFill>
        <p:spPr>
          <a:xfrm>
            <a:off x="2328840" y="484200"/>
            <a:ext cx="772308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ontent Placeholder 3" descr=""/>
          <p:cNvPicPr/>
          <p:nvPr/>
        </p:nvPicPr>
        <p:blipFill>
          <a:blip r:embed="rId1"/>
          <a:stretch/>
        </p:blipFill>
        <p:spPr>
          <a:xfrm>
            <a:off x="2071800" y="473040"/>
            <a:ext cx="8064360" cy="56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3" descr=""/>
          <p:cNvPicPr/>
          <p:nvPr/>
        </p:nvPicPr>
        <p:blipFill>
          <a:blip r:embed="rId1"/>
          <a:stretch/>
        </p:blipFill>
        <p:spPr>
          <a:xfrm>
            <a:off x="2154240" y="517680"/>
            <a:ext cx="7945560" cy="56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ontent Placeholder 3" descr=""/>
          <p:cNvPicPr/>
          <p:nvPr/>
        </p:nvPicPr>
        <p:blipFill>
          <a:blip r:embed="rId1"/>
          <a:stretch/>
        </p:blipFill>
        <p:spPr>
          <a:xfrm>
            <a:off x="2665440" y="804960"/>
            <a:ext cx="672768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ontent Placeholder 3" descr=""/>
          <p:cNvPicPr/>
          <p:nvPr/>
        </p:nvPicPr>
        <p:blipFill>
          <a:blip r:embed="rId1"/>
          <a:stretch/>
        </p:blipFill>
        <p:spPr>
          <a:xfrm>
            <a:off x="2090880" y="517680"/>
            <a:ext cx="7773840" cy="56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Content Placeholder 3" descr=""/>
          <p:cNvPicPr/>
          <p:nvPr/>
        </p:nvPicPr>
        <p:blipFill>
          <a:blip r:embed="rId1"/>
          <a:stretch/>
        </p:blipFill>
        <p:spPr>
          <a:xfrm>
            <a:off x="2151000" y="1222200"/>
            <a:ext cx="810576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Content Placeholder 3" descr=""/>
          <p:cNvPicPr/>
          <p:nvPr/>
        </p:nvPicPr>
        <p:blipFill>
          <a:blip r:embed="rId1"/>
          <a:stretch/>
        </p:blipFill>
        <p:spPr>
          <a:xfrm>
            <a:off x="2346480" y="584280"/>
            <a:ext cx="754524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ontent Placeholder 3" descr=""/>
          <p:cNvPicPr/>
          <p:nvPr/>
        </p:nvPicPr>
        <p:blipFill>
          <a:blip r:embed="rId1"/>
          <a:stretch/>
        </p:blipFill>
        <p:spPr>
          <a:xfrm>
            <a:off x="2565360" y="760320"/>
            <a:ext cx="728028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ontent Placeholder 3" descr=""/>
          <p:cNvPicPr/>
          <p:nvPr/>
        </p:nvPicPr>
        <p:blipFill>
          <a:blip r:embed="rId1"/>
          <a:stretch/>
        </p:blipFill>
        <p:spPr>
          <a:xfrm>
            <a:off x="2230560" y="506520"/>
            <a:ext cx="7805520" cy="56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What is Subnetting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ubnet (short for subnetwork) may represent all the machines at one geographic location, in one building, or on the same 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ontent Placeholder 5" descr=""/>
          <p:cNvPicPr/>
          <p:nvPr/>
        </p:nvPicPr>
        <p:blipFill>
          <a:blip r:embed="rId1"/>
          <a:stretch/>
        </p:blipFill>
        <p:spPr>
          <a:xfrm>
            <a:off x="2238480" y="606600"/>
            <a:ext cx="7751520" cy="55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ontent Placeholder 3" descr=""/>
          <p:cNvPicPr/>
          <p:nvPr/>
        </p:nvPicPr>
        <p:blipFill>
          <a:blip r:embed="rId1"/>
          <a:stretch/>
        </p:blipFill>
        <p:spPr>
          <a:xfrm>
            <a:off x="2610000" y="639720"/>
            <a:ext cx="75276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3" descr=""/>
          <p:cNvPicPr/>
          <p:nvPr/>
        </p:nvPicPr>
        <p:blipFill>
          <a:blip r:embed="rId1"/>
          <a:stretch/>
        </p:blipFill>
        <p:spPr>
          <a:xfrm>
            <a:off x="2716200" y="606600"/>
            <a:ext cx="7581960" cy="55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2421000" y="374760"/>
            <a:ext cx="7872480" cy="57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3" descr=""/>
          <p:cNvPicPr/>
          <p:nvPr/>
        </p:nvPicPr>
        <p:blipFill>
          <a:blip r:embed="rId1"/>
          <a:stretch/>
        </p:blipFill>
        <p:spPr>
          <a:xfrm>
            <a:off x="2322360" y="441360"/>
            <a:ext cx="788688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Content Placeholder 3" descr=""/>
          <p:cNvPicPr/>
          <p:nvPr/>
        </p:nvPicPr>
        <p:blipFill>
          <a:blip r:embed="rId1"/>
          <a:stretch/>
        </p:blipFill>
        <p:spPr>
          <a:xfrm>
            <a:off x="2230560" y="782640"/>
            <a:ext cx="74548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ontent Placeholder 5" descr=""/>
          <p:cNvPicPr/>
          <p:nvPr/>
        </p:nvPicPr>
        <p:blipFill>
          <a:blip r:embed="rId1"/>
          <a:stretch/>
        </p:blipFill>
        <p:spPr>
          <a:xfrm>
            <a:off x="2238480" y="606600"/>
            <a:ext cx="7751520" cy="55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2009880" y="961920"/>
            <a:ext cx="817236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611440" y="649440"/>
            <a:ext cx="7321680" cy="53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ontent Placeholder 3" descr=""/>
          <p:cNvPicPr/>
          <p:nvPr/>
        </p:nvPicPr>
        <p:blipFill>
          <a:blip r:embed="rId1"/>
          <a:stretch/>
        </p:blipFill>
        <p:spPr>
          <a:xfrm>
            <a:off x="2093760" y="539640"/>
            <a:ext cx="765828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1862280" y="441360"/>
            <a:ext cx="8262720" cy="61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2232000" y="550800"/>
            <a:ext cx="7442280" cy="53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ontent Placeholder 3" descr=""/>
          <p:cNvPicPr/>
          <p:nvPr/>
        </p:nvPicPr>
        <p:blipFill>
          <a:blip r:embed="rId1"/>
          <a:stretch/>
        </p:blipFill>
        <p:spPr>
          <a:xfrm>
            <a:off x="3095640" y="2278080"/>
            <a:ext cx="600084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2533680" y="738360"/>
            <a:ext cx="732456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Content Placeholder 3" descr=""/>
          <p:cNvPicPr/>
          <p:nvPr/>
        </p:nvPicPr>
        <p:blipFill>
          <a:blip r:embed="rId1"/>
          <a:stretch/>
        </p:blipFill>
        <p:spPr>
          <a:xfrm>
            <a:off x="2228760" y="628560"/>
            <a:ext cx="747396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438280" y="473040"/>
            <a:ext cx="780120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Subnetting Homework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: A service provider has given you the Class C network range 209.50.1.0. Your company must break the network into 20 separate subnet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: Your company would like to break the Class B private IP address range 172.16.0.0 into 60 different subne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: A service provider has given you the Class C network range 209.50.1.0. Your company must break the network into as many subnets as possible as long as there are at least 50 clients per network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: Your company would like to break the Class B private IP address range 172.16.0.0 into as many subnets as possible, provided that they can get at least 300 clients per subne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: You are given the following IP address and subnet mask:  192.168.1.58  255.255.255.240  Identify the original range of addresses (the subnet) that this IP address belongs t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2209680" y="254160"/>
            <a:ext cx="8150400" cy="60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3" descr=""/>
          <p:cNvPicPr/>
          <p:nvPr/>
        </p:nvPicPr>
        <p:blipFill>
          <a:blip r:embed="rId1"/>
          <a:stretch/>
        </p:blipFill>
        <p:spPr>
          <a:xfrm>
            <a:off x="1876320" y="682560"/>
            <a:ext cx="78328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3" descr=""/>
          <p:cNvPicPr/>
          <p:nvPr/>
        </p:nvPicPr>
        <p:blipFill>
          <a:blip r:embed="rId1"/>
          <a:stretch/>
        </p:blipFill>
        <p:spPr>
          <a:xfrm>
            <a:off x="2732040" y="1211400"/>
            <a:ext cx="7104240" cy="52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3" descr=""/>
          <p:cNvPicPr/>
          <p:nvPr/>
        </p:nvPicPr>
        <p:blipFill>
          <a:blip r:embed="rId1"/>
          <a:stretch/>
        </p:blipFill>
        <p:spPr>
          <a:xfrm>
            <a:off x="2427120" y="1012680"/>
            <a:ext cx="700740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ontent Placeholder 3" descr=""/>
          <p:cNvPicPr/>
          <p:nvPr/>
        </p:nvPicPr>
        <p:blipFill>
          <a:blip r:embed="rId1"/>
          <a:stretch/>
        </p:blipFill>
        <p:spPr>
          <a:xfrm>
            <a:off x="2247840" y="771480"/>
            <a:ext cx="731520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Content Placeholder 3" descr=""/>
          <p:cNvPicPr/>
          <p:nvPr/>
        </p:nvPicPr>
        <p:blipFill>
          <a:blip r:embed="rId1"/>
          <a:stretch/>
        </p:blipFill>
        <p:spPr>
          <a:xfrm>
            <a:off x="2413080" y="793800"/>
            <a:ext cx="728640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07:35:35Z</dcterms:created>
  <dc:creator>Ashraf Abdalasis</dc:creator>
  <dc:description/>
  <dc:language>en-US</dc:language>
  <cp:lastModifiedBy>Dr. Ashraf Abdelaziz</cp:lastModifiedBy>
  <cp:lastPrinted>2013-09-08T11:48:23Z</cp:lastPrinted>
  <dcterms:modified xsi:type="dcterms:W3CDTF">2015-08-30T07:27:02Z</dcterms:modified>
  <cp:revision>21</cp:revision>
  <dc:subject/>
  <dc:title>IP Adressing &amp; Subnetting</dc:title>
</cp:coreProperties>
</file>