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</p:sldIdLst>
  <p:sldSz cx="9907588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dt" idx="17"/>
          </p:nvPr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sldImg"/>
          </p:nvPr>
        </p:nvSpPr>
        <p:spPr>
          <a:xfrm>
            <a:off x="1055160" y="719280"/>
            <a:ext cx="5194440" cy="359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ftr" idx="18"/>
          </p:nvPr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 type="sldNum" idx="19"/>
          </p:nvPr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F3CA009-9342-4943-89D9-F28437266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4E81EFE-AAD3-4CA5-B717-4D2211513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0C32A7C-3849-42CC-8D15-BE92624FD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290DD1F-109C-4701-AF45-B31A5331D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2537341-498E-43B0-A216-0B08AE31B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4E2686A-DFDF-4C11-8E87-3E6A54E89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89F2E6D-EAA0-43C6-BFEE-EA5055C10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FDC9E40-EF74-4779-BDB8-3A72E044E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5569DEB-F098-4107-9D99-12C94BD0C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695A4D8-8244-408B-B84B-35F050EB7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90B1AFC-A50A-4BB7-A85D-766371D04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06DDD2A-A78C-4ABF-ADEF-8762EA070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83D69C7-911E-4742-AAE8-BA2CEE2E1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FDA2D6A-01E9-40AA-8868-5357B8C7C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66881E0-52C7-44FD-871C-6F013F05A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C87C619-D691-4545-877E-9776F3C86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6D27641-8115-475B-80CA-E4B2B6DF1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A64D646-939A-40DF-9716-1C05D0FC7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7A7C9FF-2D56-4B2D-8497-937C4510D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7443078-AEEB-4AA7-8061-6C2730135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E7201F5-5E9D-4712-96F0-47AF9C9BE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70131A4-02E2-486E-A3FE-457ED9EDA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F85C3A8-37C4-4E8F-AD79-39F381558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30C4AB6-706D-4726-A8F0-9125F5AC8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090D3C8-1A26-44BC-9FC5-3CEE16656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B048C49-9B4B-4667-9FE6-519E3C4EB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0382DB9-F573-40F5-A5FC-084763F58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6269A72-4B8C-4C65-ADE4-346813DAF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33893A2-1564-4520-825D-D0EB8CB3E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5CA2407-0EF6-49B2-B6F1-B0D362373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Slide Number Placeholder 3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ED8618F-DD5E-4A63-81C9-F5ADD9777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20F7827-3D47-453D-B91E-89A4BD793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8FED5FC-23EE-4F87-A601-D5D418BC5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2313C82-E236-4AA5-AFAE-24BC3C56F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FCCCF53-ECC1-42C8-92F3-5BE6BABFA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99B43D0-5BED-49D7-9A16-04A961E25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134CBC7-BDC4-4658-A49D-4FEB0DEA9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E021E0A-B541-49D6-ADED-4B35C1717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78272D9-7500-4E74-B62E-F0A512918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F703EE6-DBE0-42AA-B690-8ED7B54EB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7B8937E-AF92-4ABF-9255-12AE28AB6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514D20D-9C5F-4495-B0A1-3CE0C050F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9BFE585-F6D6-45BB-8F9E-09DFAC547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Slide Number Placeholder 3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36D2CFD-DE7A-4821-9EE4-5B6494E32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8B02A59-E8EA-4630-88C1-60B6520BE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22E8A5-731A-4F4D-B766-ED31EE661B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C1204B-5E97-4011-90B8-4C3A48A4F0F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FA2A4F-82F5-48A6-AF70-2C17E90B8EB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7119A5-5253-4213-A1E2-EACF5A4E1A7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81DB71-E65E-4510-91AC-A7436797A4D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9BC37E-B26D-417E-90EC-4FE813099C7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027BD1-26AE-4073-9E53-2DE09B5EE62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66D731-9B57-4D1C-A355-415C6D8D61E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2C0FAA-FAA6-46E9-8FEE-0F563B3676F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DAF8D5-6523-4BBA-9A4F-EAC64EB7B50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368847-AEB5-42D7-A633-433FC7D39F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02809E-E3B7-40E4-B533-3AAA03E083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Line 22"/>
          <p:cNvSpPr/>
          <p:nvPr/>
        </p:nvSpPr>
        <p:spPr>
          <a:xfrm>
            <a:off x="0" y="655308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-360" y="6562800"/>
            <a:ext cx="989316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12B40D7-DAF8-45B9-8167-5373B24E1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Line 22"/>
          <p:cNvSpPr/>
          <p:nvPr/>
        </p:nvSpPr>
        <p:spPr>
          <a:xfrm>
            <a:off x="0" y="655308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10"/>
          </p:nvPr>
        </p:nvSpPr>
        <p:spPr>
          <a:xfrm>
            <a:off x="-360" y="6562800"/>
            <a:ext cx="989316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1 – An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AE32149-C2CF-438F-9530-0B004C53F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22"/>
          <p:cNvSpPr/>
          <p:nvPr/>
        </p:nvSpPr>
        <p:spPr>
          <a:xfrm>
            <a:off x="0" y="655308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ftr" idx="11"/>
          </p:nvPr>
        </p:nvSpPr>
        <p:spPr>
          <a:xfrm>
            <a:off x="-360" y="6562800"/>
            <a:ext cx="989316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s &amp; Ethics of Information System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3E23345-289C-4F63-B21C-1122223A3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Line 22"/>
          <p:cNvSpPr/>
          <p:nvPr/>
        </p:nvSpPr>
        <p:spPr>
          <a:xfrm>
            <a:off x="0" y="655308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2"/>
          </p:nvPr>
        </p:nvSpPr>
        <p:spPr>
          <a:xfrm>
            <a:off x="-360" y="6562800"/>
            <a:ext cx="989316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s &amp; Ethics of Information System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38A4F5F-EDB0-4414-89F6-944740459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Line 22"/>
          <p:cNvSpPr/>
          <p:nvPr/>
        </p:nvSpPr>
        <p:spPr>
          <a:xfrm>
            <a:off x="0" y="655308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ftr" idx="13"/>
          </p:nvPr>
        </p:nvSpPr>
        <p:spPr>
          <a:xfrm>
            <a:off x="-360" y="6562800"/>
            <a:ext cx="989316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s &amp; Ethics of Information System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65DD05E-656B-40E6-A8C2-78038D6BD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Line 22"/>
          <p:cNvSpPr/>
          <p:nvPr/>
        </p:nvSpPr>
        <p:spPr>
          <a:xfrm>
            <a:off x="0" y="655308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14"/>
          </p:nvPr>
        </p:nvSpPr>
        <p:spPr>
          <a:xfrm>
            <a:off x="-360" y="6562800"/>
            <a:ext cx="989316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s &amp; Ethics of Information System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A14B065-9935-4556-A157-15F6A59BF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Line 22"/>
          <p:cNvSpPr/>
          <p:nvPr/>
        </p:nvSpPr>
        <p:spPr>
          <a:xfrm>
            <a:off x="0" y="655308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ftr" idx="15"/>
          </p:nvPr>
        </p:nvSpPr>
        <p:spPr>
          <a:xfrm>
            <a:off x="-360" y="6562800"/>
            <a:ext cx="989316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s of Information Systems, Fourth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16"/>
          </p:nvPr>
        </p:nvSpPr>
        <p:spPr>
          <a:xfrm>
            <a:off x="7099200" y="6324120"/>
            <a:ext cx="2229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2DD9-0B03-4FFC-8C58-23F53CBDCB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1959120"/>
            <a:ext cx="9759600" cy="1050840"/>
            <a:chOff x="0" y="1959120"/>
            <a:chExt cx="9759600" cy="1050840"/>
          </a:xfrm>
        </p:grpSpPr>
        <p:grpSp>
          <p:nvGrpSpPr>
            <p:cNvPr id="48" name="Group 3"/>
            <p:cNvGrpSpPr/>
            <p:nvPr/>
          </p:nvGrpSpPr>
          <p:grpSpPr>
            <a:xfrm>
              <a:off x="316080" y="2066760"/>
              <a:ext cx="773640" cy="462600"/>
              <a:chOff x="316080" y="2066760"/>
              <a:chExt cx="773640" cy="46260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316080" y="2066760"/>
                <a:ext cx="475920" cy="462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732600" y="2066760"/>
                <a:ext cx="357120" cy="46260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52160" y="2499480"/>
              <a:ext cx="801000" cy="484560"/>
              <a:chOff x="452160" y="2499480"/>
              <a:chExt cx="801000" cy="48456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52160" y="2499480"/>
                <a:ext cx="459000" cy="48456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853920" y="2499480"/>
                <a:ext cx="399240" cy="48456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415240"/>
              <a:ext cx="606960" cy="408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87960" y="1959120"/>
              <a:ext cx="34200" cy="10508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42360" y="2779200"/>
              <a:ext cx="941724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Line 20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2"/>
          </p:nvPr>
        </p:nvSpPr>
        <p:spPr>
          <a:xfrm>
            <a:off x="-12600" y="6590880"/>
            <a:ext cx="9905760" cy="2574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1 – An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2A75E43-C87D-4D34-91B4-D2945189D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Line 22"/>
          <p:cNvSpPr/>
          <p:nvPr/>
        </p:nvSpPr>
        <p:spPr>
          <a:xfrm>
            <a:off x="0" y="655308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3"/>
          </p:nvPr>
        </p:nvSpPr>
        <p:spPr>
          <a:xfrm>
            <a:off x="-360" y="6562800"/>
            <a:ext cx="989316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1 – An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C569689-78B1-449E-BC20-02F470713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22"/>
          <p:cNvSpPr/>
          <p:nvPr/>
        </p:nvSpPr>
        <p:spPr>
          <a:xfrm>
            <a:off x="0" y="655308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4"/>
          </p:nvPr>
        </p:nvSpPr>
        <p:spPr>
          <a:xfrm>
            <a:off x="-360" y="6562800"/>
            <a:ext cx="989316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1 – An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F9D9C05-D1A1-4363-AF5E-9FADA5426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22"/>
          <p:cNvSpPr/>
          <p:nvPr/>
        </p:nvSpPr>
        <p:spPr>
          <a:xfrm>
            <a:off x="0" y="655308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ftr" idx="5"/>
          </p:nvPr>
        </p:nvSpPr>
        <p:spPr>
          <a:xfrm>
            <a:off x="-360" y="6562800"/>
            <a:ext cx="989316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1 – An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223F5E4-0853-4F5A-A79C-A801D164B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Line 22"/>
          <p:cNvSpPr/>
          <p:nvPr/>
        </p:nvSpPr>
        <p:spPr>
          <a:xfrm>
            <a:off x="0" y="655308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6"/>
          </p:nvPr>
        </p:nvSpPr>
        <p:spPr>
          <a:xfrm>
            <a:off x="-360" y="6562800"/>
            <a:ext cx="989316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s &amp; Ethics of Information System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3CDA2F1-9404-4BD4-B4C0-E9FC136A8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Line 22"/>
          <p:cNvSpPr/>
          <p:nvPr/>
        </p:nvSpPr>
        <p:spPr>
          <a:xfrm>
            <a:off x="0" y="655308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7"/>
          </p:nvPr>
        </p:nvSpPr>
        <p:spPr>
          <a:xfrm>
            <a:off x="-360" y="6562800"/>
            <a:ext cx="989316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1 – An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53FCBCF-142B-4989-B1DC-218A7E245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Line 22"/>
          <p:cNvSpPr/>
          <p:nvPr/>
        </p:nvSpPr>
        <p:spPr>
          <a:xfrm>
            <a:off x="0" y="655308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ftr" idx="8"/>
          </p:nvPr>
        </p:nvSpPr>
        <p:spPr>
          <a:xfrm>
            <a:off x="-360" y="6562800"/>
            <a:ext cx="989316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1 – An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B9D7231-A7AD-42E1-B411-7EA2590B3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Line 22"/>
          <p:cNvSpPr/>
          <p:nvPr/>
        </p:nvSpPr>
        <p:spPr>
          <a:xfrm>
            <a:off x="0" y="655308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9"/>
          </p:nvPr>
        </p:nvSpPr>
        <p:spPr>
          <a:xfrm>
            <a:off x="-360" y="6562800"/>
            <a:ext cx="989316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1 – An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58F66CF-ECEA-46AA-A96F-D9601D4B2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72800" y="1348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Fundamentals &amp; Ethics of Information Systems</a:t>
            </a:r>
            <a:br>
              <a:rPr sz="4600"/>
            </a:b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IS 201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667800" y="3153960"/>
            <a:ext cx="8867880" cy="3071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Chapter 1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Introduction to Information Systems in Organiza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Footer Placeholder 3"/>
          <p:cNvSpPr/>
          <p:nvPr/>
        </p:nvSpPr>
        <p:spPr>
          <a:xfrm>
            <a:off x="0" y="6581880"/>
            <a:ext cx="9902880" cy="27612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7F7A1D6D-27AC-4929-9A7D-39D85013E6B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The Characteristics of Valuable Information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44" name="Picture 13" descr="Table 1-2a"/>
          <p:cNvPicPr/>
          <p:nvPr/>
        </p:nvPicPr>
        <p:blipFill>
          <a:blip r:embed="rId1"/>
          <a:stretch/>
        </p:blipFill>
        <p:spPr>
          <a:xfrm>
            <a:off x="160200" y="1790640"/>
            <a:ext cx="9515520" cy="4494240"/>
          </a:xfrm>
          <a:prstGeom prst="rect">
            <a:avLst/>
          </a:prstGeom>
          <a:ln w="0">
            <a:noFill/>
          </a:ln>
        </p:spPr>
      </p:pic>
      <p:sp>
        <p:nvSpPr>
          <p:cNvPr id="745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9224E0F3-CA37-4FAE-A638-B23AF45E7E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The Characteristics of Valuable Information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47" name="Picture 9" descr="Table 1-2b"/>
          <p:cNvPicPr/>
          <p:nvPr/>
        </p:nvPicPr>
        <p:blipFill>
          <a:blip r:embed="rId1"/>
          <a:stretch/>
        </p:blipFill>
        <p:spPr>
          <a:xfrm>
            <a:off x="241200" y="1882800"/>
            <a:ext cx="9420480" cy="4255920"/>
          </a:xfrm>
          <a:prstGeom prst="rect">
            <a:avLst/>
          </a:prstGeom>
          <a:ln w="0">
            <a:noFill/>
          </a:ln>
        </p:spPr>
      </p:pic>
      <p:sp>
        <p:nvSpPr>
          <p:cNvPr id="748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8F6E6ED4-8EC7-4D06-B1CA-4A1DE1DBB0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Example: Health Information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You want the information about you in a health information system to be: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As accurate as possible (e.g. your age, sex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As complete as possibl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Relevan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o be reliable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hould be available in a timely manner (e.g. information about your drug allergies are available before your operation!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63B85748-9FDC-4BDD-9573-952EEF79D61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The Value of Information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Value of information is directly linked to how it helps decision makers achieve their organization’s goal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r example, value of information might be measured in: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ime required to make a decision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ncreased profits to the compan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DA96192D-DF55-428D-B00C-E22DDCD7ED7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3. What Is an Information System?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56" name="Picture 11" descr="Fig 1-3"/>
          <p:cNvPicPr/>
          <p:nvPr/>
        </p:nvPicPr>
        <p:blipFill>
          <a:blip r:embed="rId1"/>
          <a:stretch/>
        </p:blipFill>
        <p:spPr>
          <a:xfrm>
            <a:off x="660240" y="2606760"/>
            <a:ext cx="8624880" cy="1965240"/>
          </a:xfrm>
          <a:prstGeom prst="rect">
            <a:avLst/>
          </a:prstGeom>
          <a:ln w="0">
            <a:noFill/>
          </a:ln>
        </p:spPr>
      </p:pic>
      <p:sp>
        <p:nvSpPr>
          <p:cNvPr id="757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89BAEC0F-5400-47D0-8D5A-F5C9487ED2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Input, Processing, Output, Feedback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: the activity of gathering and capturing raw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ing: converting or transforming data into useful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: production of useful information, usually in the form of documents and re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edback: output that is used to make changes to input or processi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453EE62B-2B34-4335-92C2-BBFAA550C0B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omputer-Based Information System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Computer-based information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ystem (CBIS):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ngle set of hardware, software, databases, telecommunications, people, and procedures configured to collect, manipulate, store, and process data into information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C9F59C26-E5A8-4CC9-B951-E0E4B57BFE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90160" y="3805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omputer-Based Information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65" name="Picture 7" descr="Fig 1-4"/>
          <p:cNvPicPr/>
          <p:nvPr/>
        </p:nvPicPr>
        <p:blipFill>
          <a:blip r:embed="rId1"/>
          <a:stretch/>
        </p:blipFill>
        <p:spPr>
          <a:xfrm>
            <a:off x="2016000" y="1676520"/>
            <a:ext cx="5281560" cy="4098960"/>
          </a:xfrm>
          <a:prstGeom prst="rect">
            <a:avLst/>
          </a:prstGeom>
          <a:ln w="0">
            <a:noFill/>
          </a:ln>
        </p:spPr>
      </p:pic>
      <p:sp>
        <p:nvSpPr>
          <p:cNvPr id="766" name="Rectangle 4"/>
          <p:cNvSpPr/>
          <p:nvPr/>
        </p:nvSpPr>
        <p:spPr>
          <a:xfrm>
            <a:off x="480960" y="5965920"/>
            <a:ext cx="89154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ponents of a Computer-Based Information Syst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0CC30454-130E-427E-A7AA-6030CE043E7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omputer-Based Information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IS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: computer equipment used to perform input, processing, and output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: computer programs that govern the operation of the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: organized collection of facts and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mmunications: electronic transmission of signals for commun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s: connect computers and equipment in a building, around the country, and around the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648A5813-F7A9-4BCF-A47E-2B940D9E3A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omputer-Based Information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BIS components (continued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nternet: world’s largest computer network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eople: manage, run, program, and maintain the syste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rocedures: strategies, policies, methods, and rules for using a CBI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9AA06394-5956-4870-8586-813EFF801C7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Principles and Learning Objectiv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4000"/>
          </a:bodyPr>
          <a:p>
            <a:pPr marL="483480" indent="-483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inguish data from information and describe the characteristics used to evaluate the qualit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83480" indent="-483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the basic types of business information systems and discuss who uses them, how they are used, and what kinds of benefits they 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83480" indent="-483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the major steps of the systems development process and state the goal of e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83480" indent="-483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the types of roles, functions, and careers available in informa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3FBF10B8-A73A-48A6-ACF2-89D3577CC49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Business Information System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Most common types of information systems used in business organization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993600" indent="-514080">
              <a:spcBef>
                <a:spcPts val="726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lectronic and mobile commerce system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993600" indent="-514080">
              <a:spcBef>
                <a:spcPts val="726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nterprise system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993600" indent="-514080">
              <a:spcBef>
                <a:spcPts val="726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Management information system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993600" indent="-514080">
              <a:spcBef>
                <a:spcPts val="726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Decision support system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993600" indent="-514080">
              <a:spcBef>
                <a:spcPts val="726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pecialized business information system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84063E77-0E73-4C6D-9C54-5C37D8029A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Business Information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78" name="Picture 4" descr="Fig 1-7"/>
          <p:cNvPicPr/>
          <p:nvPr/>
        </p:nvPicPr>
        <p:blipFill>
          <a:blip r:embed="rId1"/>
          <a:srcRect l="0" t="0" r="37491" b="0"/>
          <a:stretch/>
        </p:blipFill>
        <p:spPr>
          <a:xfrm>
            <a:off x="1987560" y="1577880"/>
            <a:ext cx="6154560" cy="4314960"/>
          </a:xfrm>
          <a:prstGeom prst="rect">
            <a:avLst/>
          </a:prstGeom>
          <a:ln w="0">
            <a:noFill/>
          </a:ln>
        </p:spPr>
      </p:pic>
      <p:sp>
        <p:nvSpPr>
          <p:cNvPr id="779" name="Rectangle 5"/>
          <p:cNvSpPr/>
          <p:nvPr/>
        </p:nvSpPr>
        <p:spPr>
          <a:xfrm>
            <a:off x="485640" y="5997600"/>
            <a:ext cx="8915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Information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97F80279-0308-4FE0-BE8E-EBF48086ED6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1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Electronic and Mobile Commerce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77440" y="1676520"/>
            <a:ext cx="8750520" cy="3705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7000"/>
          </a:bodyPr>
          <a:p>
            <a:pPr marL="349200" indent="-3492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E-commerce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any business transaction executed electronically between parti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ompanies (B2B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ompanies and consumers (B2C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onsumers and other consumers (C2C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ompanies and the public sector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onsumers and the public sector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64AB45D4-75AC-4C52-AD60-462399CBC59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Electronic and Mobile Commerce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85" name="Picture 4" descr="Fig 1-10"/>
          <p:cNvPicPr/>
          <p:nvPr/>
        </p:nvPicPr>
        <p:blipFill>
          <a:blip r:embed="rId1"/>
          <a:srcRect l="0" t="0" r="37491" b="0"/>
          <a:stretch/>
        </p:blipFill>
        <p:spPr>
          <a:xfrm>
            <a:off x="1981080" y="2286000"/>
            <a:ext cx="6516720" cy="2597040"/>
          </a:xfrm>
          <a:prstGeom prst="rect">
            <a:avLst/>
          </a:prstGeom>
          <a:ln w="0">
            <a:noFill/>
          </a:ln>
        </p:spPr>
      </p:pic>
      <p:sp>
        <p:nvSpPr>
          <p:cNvPr id="786" name="Rectangle 5"/>
          <p:cNvSpPr/>
          <p:nvPr/>
        </p:nvSpPr>
        <p:spPr>
          <a:xfrm>
            <a:off x="495360" y="5486400"/>
            <a:ext cx="8915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ic Busin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4A6E4A1C-4CA0-4A27-A6B7-73A8C810EA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2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Enterprise Systems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wo types of systems: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Transaction processing system (TPS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Enterprise Resource Planning (ERP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7B0E801E-DD51-4B21-A1AC-BBB309FB0CC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2.1. Transaction Processing System: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2000"/>
          </a:bodyPr>
          <a:p>
            <a:pPr marL="331200" indent="-3312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ransaction: business-related exchang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15680" indent="-27432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ayments to employe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15680" indent="-27432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ales to customer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15680" indent="-27432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ayments to supplier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31200" indent="-3312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Transaction processing system (TPS):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15680" indent="-27432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organized collection of people, procedures, software, databases, and devices used to record completed business transaction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072DB5BD-EB4B-471D-A72F-77AEEA76E8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41400" y="380520"/>
            <a:ext cx="875016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2.1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Transaction Processing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95" name="Picture 7" descr="Fig 1-7"/>
          <p:cNvPicPr/>
          <p:nvPr/>
        </p:nvPicPr>
        <p:blipFill>
          <a:blip r:embed="rId1"/>
          <a:stretch/>
        </p:blipFill>
        <p:spPr>
          <a:xfrm>
            <a:off x="1273320" y="1901880"/>
            <a:ext cx="6411600" cy="3003480"/>
          </a:xfrm>
          <a:prstGeom prst="rect">
            <a:avLst/>
          </a:prstGeom>
          <a:ln w="0">
            <a:noFill/>
          </a:ln>
        </p:spPr>
      </p:pic>
      <p:sp>
        <p:nvSpPr>
          <p:cNvPr id="796" name="Rectangle 4"/>
          <p:cNvSpPr/>
          <p:nvPr/>
        </p:nvSpPr>
        <p:spPr>
          <a:xfrm>
            <a:off x="495360" y="5562720"/>
            <a:ext cx="8915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yroll Transaction Processing Syst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A229941F-F641-4328-8595-B7812C9FC7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2.1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Transaction Processing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n effective TPS provides a number of benefits to a company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 TPS can speed business activities and reduce clerical cost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Data stored in TPSs is used to help managers make better decision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B937F70C-B68A-4B61-970C-2B1640DC0A3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2.2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Enterprise Resource Planning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Integrated programs capable of managing a company’s vital business operations for an entire multisite organization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oordinate planning, inventory control, production, and ordering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D2C71A91-5083-4B38-BF09-55EC6EEF9D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3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Management Information System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Management information system (MIS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Organized collection of people, procedures, software, databases, and devic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rovides routine information to managers/decision maker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Primary focus is operational efficiency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1995C303-464F-4F38-80D4-CA057F668C2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hapter Overview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1054080" y="1566360"/>
            <a:ext cx="861840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Concepts: Data, Information, and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an Information Syste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iness Informa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s and Informa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eers In Informa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89E4AED0-40F8-45AC-95EE-B3B2C8BC81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4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ecision Support System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Decision support system (DSS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Organized collection of people, procedures, software, databases, and devic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upports problem-specific decision making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cus is on decision-making effectivenes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BF586779-7BF7-46BA-88CD-E3B3E0355D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057320" y="380520"/>
            <a:ext cx="875016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4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ecision Support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11" name="Picture 7" descr="Fig 1-11"/>
          <p:cNvPicPr/>
          <p:nvPr/>
        </p:nvPicPr>
        <p:blipFill>
          <a:blip r:embed="rId1"/>
          <a:stretch/>
        </p:blipFill>
        <p:spPr>
          <a:xfrm>
            <a:off x="1811160" y="1603440"/>
            <a:ext cx="6215400" cy="446724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4"/>
          <p:cNvSpPr/>
          <p:nvPr/>
        </p:nvSpPr>
        <p:spPr>
          <a:xfrm>
            <a:off x="1866960" y="6146640"/>
            <a:ext cx="65656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sential DSS El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904BBD34-EC68-42C4-A169-AA66ADDDF32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5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pecialized Business Information System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514440" indent="-514440">
              <a:spcBef>
                <a:spcPts val="8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Knowledge Managemen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8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8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Expert System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8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Virtual Reality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5B001727-4449-496E-B1E8-F1A7272694B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4.5.1. Knowledge Management System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Knowledge management systems (KMSs):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n organized collection of people, procedures, software, databases, and devices to create, store, share, and use the organization’s knowledge and experienc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B0E6FF1E-629D-4FFB-87AE-536A24ADB7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5.2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Artificial Intelligence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Artificial intelligence (AI):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eld in which the computer system takes on the characteristics of human intelligenc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4F4F588C-2CAD-440A-B5FB-58B562C031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4.5.2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rtificial Intelligence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4" name="Picture 9" descr="Fig 1-12"/>
          <p:cNvPicPr/>
          <p:nvPr/>
        </p:nvPicPr>
        <p:blipFill>
          <a:blip r:embed="rId1"/>
          <a:stretch/>
        </p:blipFill>
        <p:spPr>
          <a:xfrm>
            <a:off x="2235240" y="1562040"/>
            <a:ext cx="6146640" cy="4421160"/>
          </a:xfrm>
          <a:prstGeom prst="rect">
            <a:avLst/>
          </a:prstGeom>
          <a:ln w="0">
            <a:noFill/>
          </a:ln>
        </p:spPr>
      </p:pic>
      <p:sp>
        <p:nvSpPr>
          <p:cNvPr id="825" name="Rectangle 4"/>
          <p:cNvSpPr/>
          <p:nvPr/>
        </p:nvSpPr>
        <p:spPr>
          <a:xfrm>
            <a:off x="495360" y="6078600"/>
            <a:ext cx="89154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jor Elements of Artificial Intellig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FD1E2084-2100-485B-BFCF-55BF60C45C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5.3. Expert System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5600" indent="-3456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Give the computer the ability to make suggestions and act like an expert in a particular field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5600" indent="-3456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llow organizations to capture and use the wisdom of experts and specialist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5600" indent="-3456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e knowledge base contains the collection of data, rules, procedures, and relationships that must be followed to achieve value or the proper outcom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C6566611-5E35-4EAA-AAA6-BE1C1E94E8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5.4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Virtual Reality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5600" indent="-3456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mulation of a real or imagined environment that can be experienced visually in three dimension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5600" indent="-3456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Immersive virtual reality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5600" indent="-3456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pplications that are not fully immersiv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5600" indent="-3456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an be a powerful medium for communication, entertainment, and learning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7FF53A09-245C-44E1-9C25-134349647EC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ystems Developmen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ystems development: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reating or modifying existing business system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ystems development can be: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erformed in-hous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Outsourced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o improve results of a systems development project, it is divided into several step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4E8A0094-CC65-4F37-8D9A-CC0342BC093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ystems Development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7" name="Picture 4" descr="Fig 1-16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927680" y="927000"/>
            <a:ext cx="3429000" cy="550548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5"/>
          <p:cNvSpPr/>
          <p:nvPr/>
        </p:nvSpPr>
        <p:spPr>
          <a:xfrm>
            <a:off x="495360" y="2743200"/>
            <a:ext cx="3073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Overview of Systems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09C560AF-1BB5-48A1-A570-710EB626C46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Why Learn About Information Systems in Organizations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4000"/>
          </a:bodyPr>
          <a:p>
            <a:pPr marL="338400" indent="-3384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Information systems (ISs) can cut costs and increase profit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38400" indent="-3384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tudents in most fields need to know ISs. For Instance: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31160" indent="-280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Management major might be hired to design a system to improve productivit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31160" indent="-280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Biochemistry major might be hired to conduct drug research using computer techniqu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31160" indent="-280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DF55DD8E-6ED4-4B38-B689-E3C431F105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ystems Investigation and Analysi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ystems investigation: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gain understanding of the problem to be solved or opportunity to be addressed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ystems analysis: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defines problems and opportunities of the existing system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A0049C74-A4E7-4B46-9E9F-A12B94FE8F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ystems Design, Implementation, Maintenance, and Review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ystems design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he new system will work to meet the business needs defined during systems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ystems implementation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ing or acquiring the various system components defined in the design step, assembling them, and putting the new system into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ystems maintenance and review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 and modify the system so that it continues to meet changing business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B1628F59-0C7A-4F42-811B-98491BB290B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6. Organizations and Information System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Organization: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ollection of people and other resources established to accomplish a set of goal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n organization is a system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nputs: resources (materials, people, money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Outputs: goods or servic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47969737-266F-46B3-8D8F-5190074182E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144080" y="3805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rganizations and Information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0" name="Rectangle 3"/>
          <p:cNvSpPr/>
          <p:nvPr/>
        </p:nvSpPr>
        <p:spPr>
          <a:xfrm>
            <a:off x="482760" y="6108840"/>
            <a:ext cx="8915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General Model of an Organ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1" name="Picture 6" descr="Fig 1-15"/>
          <p:cNvPicPr/>
          <p:nvPr/>
        </p:nvPicPr>
        <p:blipFill>
          <a:blip r:embed="rId1"/>
          <a:stretch/>
        </p:blipFill>
        <p:spPr>
          <a:xfrm>
            <a:off x="1523880" y="1625760"/>
            <a:ext cx="7108920" cy="4330440"/>
          </a:xfrm>
          <a:prstGeom prst="rect">
            <a:avLst/>
          </a:prstGeom>
          <a:ln w="0">
            <a:noFill/>
          </a:ln>
        </p:spPr>
      </p:pic>
      <p:sp>
        <p:nvSpPr>
          <p:cNvPr id="852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CFD95EA7-1FFE-4052-949D-77AC7C94A1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rganizations and Information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8000"/>
          </a:bodyPr>
          <a:p>
            <a:pPr marL="352800" indent="-352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ue chain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ies (chain) of activities that includes inbound logistics, warehouse and storage, production, finished product storage, outbound logistics, marketing and sales, and customer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2800" indent="-352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pstream management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raw materials, inbound logistics, and warehouse and storage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2800" indent="-352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wnstream management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finished product storage, outbound logistics, marketing and sales, and customer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5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C15587DA-1A96-484C-96F5-AD7A63D3038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rganizations and Information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57" name="Picture 8" descr="Fig 1-16"/>
          <p:cNvPicPr/>
          <p:nvPr/>
        </p:nvPicPr>
        <p:blipFill>
          <a:blip r:embed="rId1"/>
          <a:stretch/>
        </p:blipFill>
        <p:spPr>
          <a:xfrm>
            <a:off x="1574640" y="1574640"/>
            <a:ext cx="6969240" cy="4405320"/>
          </a:xfrm>
          <a:prstGeom prst="rect">
            <a:avLst/>
          </a:prstGeom>
          <a:ln w="0">
            <a:noFill/>
          </a:ln>
        </p:spPr>
      </p:pic>
      <p:sp>
        <p:nvSpPr>
          <p:cNvPr id="858" name="Rectangle 3"/>
          <p:cNvSpPr/>
          <p:nvPr/>
        </p:nvSpPr>
        <p:spPr>
          <a:xfrm>
            <a:off x="495360" y="6091200"/>
            <a:ext cx="89154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lue Chain of a Manufacturing Compan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51904BA4-7A1C-4CD1-B7E1-3B903B4C06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rganizations and Information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upply chain management (SCM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Determines required supplies, needed quantities, processing, and shipmen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Customer relationship management (CRM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elps company manage all aspects of customer encounters, including marketing, advertisement, sales, service, and maintaining loyalty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7F2C7F27-198D-4E3C-9974-5142278C08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areers In Information System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Degree program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Degrees in information system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Business degrees with a global or international orientation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omputer systems are making IS professionals’ work easier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Opportunities in information systems are not limited to single countri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2067FC3C-4BE7-428B-994D-F3BB5610F17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Roles, Functions, and Careers in the IS Departmen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8000"/>
          </a:bodyPr>
          <a:p>
            <a:pPr marL="352800" indent="-3528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Primary responsibilities in information system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29232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Operations: focuses on the efficiency of IS function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29232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ystems development: focuses on development projects and ongoing maintenance and review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29232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upport: provides user assistance, data administration, user training, and Web administration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94D0D54D-8576-4EE2-BAAB-B39A9FD1631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Roles, Functions, and Careers in the IS Department (cont.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70" name="Picture 7" descr="Fig 1-19"/>
          <p:cNvPicPr/>
          <p:nvPr/>
        </p:nvPicPr>
        <p:blipFill>
          <a:blip r:embed="rId1"/>
          <a:stretch/>
        </p:blipFill>
        <p:spPr>
          <a:xfrm>
            <a:off x="3429000" y="1576440"/>
            <a:ext cx="5576760" cy="4897440"/>
          </a:xfrm>
          <a:prstGeom prst="rect">
            <a:avLst/>
          </a:prstGeom>
          <a:ln w="0">
            <a:noFill/>
          </a:ln>
        </p:spPr>
      </p:pic>
      <p:sp>
        <p:nvSpPr>
          <p:cNvPr id="871" name="Rectangle 4"/>
          <p:cNvSpPr/>
          <p:nvPr/>
        </p:nvSpPr>
        <p:spPr>
          <a:xfrm>
            <a:off x="304920" y="2662200"/>
            <a:ext cx="32130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hree Primary Responsibilities of Information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ED5158DB-D5C3-45BA-81E7-88592B786CE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Information system (IS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et of interrelated components: collect, manipulate, store, and disseminate data and information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rovides feedback to meet an objectiv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xamples: airline reservation systems, course registration systems, library management system, …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A3C1B20D-F9C4-495D-B774-E5D60266E28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Typical IS Titles and Function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Chief Information Officer (CIO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mploys IS department’s equipment and personnel to help the organization attain its goal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LAN administrator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et up and manage the network hardware, software, and security processes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14AAEA51-B1AC-4170-8262-F7A437AEEAB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Typical IS Titles and Functions (cont.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1254240" y="15411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7000"/>
          </a:bodyPr>
          <a:p>
            <a:pPr marL="349200" indent="-349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car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trategists and administ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ystems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or Web site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rt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 Microsoft Certified Systems Engineer, Certified Information Systems Security Professional (CISSP), and Oracle Certified Profess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B645510F-84AF-4E45-A10A-BC95A2935D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ther IS Career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and exciting careers have developed in security and fraud detection and prev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ef Information Security Offic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ef Security Offic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ef Privacy Offic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ing for a large consulting firm such as Accenture, IBM, and 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ing or selling products for a hardware or software vend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deo gam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07B42077-E466-4D85-B612-18A6631953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8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8000"/>
          </a:bodyPr>
          <a:p>
            <a:pPr marL="352800" indent="-352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, Information, Knowled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2800" indent="-352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components: input, processing, output, and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2800" indent="-352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er-based information system (CBI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2800" indent="-352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ction processing system (T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2800" indent="-352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ized Business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2800" indent="-352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CDABD787-6E49-41DA-8133-81258EA883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/>
          </p:nvPr>
        </p:nvSpPr>
        <p:spPr>
          <a:xfrm>
            <a:off x="1254240" y="1490400"/>
            <a:ext cx="8418240" cy="5043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8000"/>
          </a:bodyPr>
          <a:p>
            <a:pPr marL="352800" indent="-352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292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w f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292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inct pieces of information, usually formatted in a special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2800" indent="-352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292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facts organized in such a way that they have additional value beyond the value of the facts themsel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2800" indent="-352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292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ut in its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2. Information Concepts: Data, Information, and Knowledge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3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483CF8E4-FB91-4BD0-B5A2-5E42C452FE8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7000"/>
          </a:bodyPr>
          <a:p>
            <a:pPr marL="349200" indent="-3492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hermometer readings of temperature taken every hour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16.0, 17.0, 16.0, 18.5, 17.0,15.5…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Information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oday’s high: 18.5, Today’s low: 15.5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Tahoma"/>
              </a:rPr>
              <a:t>Knowledg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ahoma"/>
              </a:rPr>
              <a:t>Today the weather will be fine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ahoma"/>
              </a:rPr>
              <a:t>No need to take a coa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AA942801-B85F-4D7B-BBB3-ED859B61A8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Types of Data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738" name=""/>
          <p:cNvGraphicFramePr/>
          <p:nvPr/>
        </p:nvGraphicFramePr>
        <p:xfrm>
          <a:off x="412920" y="2149560"/>
          <a:ext cx="9080280" cy="2803320"/>
        </p:xfrm>
        <a:graphic>
          <a:graphicData uri="http://schemas.openxmlformats.org/drawingml/2006/table">
            <a:tbl>
              <a:tblPr/>
              <a:tblGrid>
                <a:gridCol w="3301920"/>
                <a:gridCol w="5778360"/>
              </a:tblGrid>
              <a:tr h="49536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bff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presented 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bff"/>
                    </a:solidFill>
                  </a:tcPr>
                </a:tc>
              </a:tr>
              <a:tr h="65880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phanumeric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mbers, letters, and other charac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65880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age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aphic images or pic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49536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dio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und, noise, t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49500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deo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ving images or pic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</a:tbl>
          </a:graphicData>
        </a:graphic>
      </p:graphicFrame>
      <p:sp>
        <p:nvSpPr>
          <p:cNvPr id="739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B5338AB4-6829-4D94-94AC-38AB0E28D1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ata </a:t>
            </a:r>
            <a:r>
              <a:rPr b="0" lang="en-US" sz="4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 Information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41" name="Picture 10" descr="Fig 1-2"/>
          <p:cNvPicPr/>
          <p:nvPr/>
        </p:nvPicPr>
        <p:blipFill>
          <a:blip r:embed="rId1"/>
          <a:stretch/>
        </p:blipFill>
        <p:spPr>
          <a:xfrm>
            <a:off x="695160" y="2982960"/>
            <a:ext cx="8210880" cy="1170000"/>
          </a:xfrm>
          <a:prstGeom prst="rect">
            <a:avLst/>
          </a:prstGeom>
          <a:ln w="0">
            <a:noFill/>
          </a:ln>
        </p:spPr>
      </p:pic>
      <p:sp>
        <p:nvSpPr>
          <p:cNvPr id="742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BF969C86-2D1B-4A65-B9DA-9C5E40DD862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18:38:26Z</dcterms:created>
  <dc:creator>Marilyn Turnamian</dc:creator>
  <dc:description/>
  <dc:language>en-US</dc:language>
  <cp:lastModifiedBy>Ashraf Youssef</cp:lastModifiedBy>
  <cp:lastPrinted>2000-09-19T13:45:16Z</cp:lastPrinted>
  <dcterms:modified xsi:type="dcterms:W3CDTF">2017-09-24T07:23:14Z</dcterms:modified>
  <cp:revision>292</cp:revision>
  <dc:subject/>
  <dc:title>Abstract View of System Components</dc:title>
</cp:coreProperties>
</file>