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</p:sldIdLst>
  <p:sldSz cx="9907588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dt" idx="17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sldImg"/>
          </p:nvPr>
        </p:nvSpPr>
        <p:spPr>
          <a:xfrm>
            <a:off x="1055160" y="719280"/>
            <a:ext cx="5194440" cy="359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ftr" idx="18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 type="sldNum" idx="19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A7AFEC5-4A97-4D79-B7B7-695971C08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C848CDA-E3D7-416E-A632-0253FDB2F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B40C9BF-2C28-453E-ADE3-3BA2121A6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5CA54B-2175-4E2B-BB99-4E2F115E4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EF8B505-439D-472C-863A-684865C1A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51883CA-9F30-4FCD-88A2-0623CB6B2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5D0343A-4ED6-45EE-B9C7-ED9AB9E8A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543700-F6C9-4720-9E4B-C367C8F24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EC0A12-A428-40F7-8669-EFA78C158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345824F-ED52-4E97-8CAC-9C8C81809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30C6670-94FF-4831-96C5-9597C0305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E629046-8FDA-488D-8010-34E1DAC9C2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917FBC0-53EC-4D60-BCA5-AA921FE3B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0071FC0-1532-4339-87DD-E70466D5D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32659D8-CDF1-490C-89B4-4DE03C162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99C2EA0-2785-4BDC-84D7-C1E444C0A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1BA3EB-F18F-4D5E-9456-19C45AFF9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3EAA836-B6FC-4B1C-9D83-A653F900E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105FC4-2754-43A1-950F-AEFFC42AA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78DC9CE-5FA0-4BF0-85B6-2C61EB34DA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5BBFC00-3DDA-4840-9015-820091E35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8ABC027-8666-426A-A234-4B8BD0108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2A23400-B9F0-465B-B683-B17DEB05A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BA8365-7CB3-494C-8C29-7DF6D82C4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B38E60D-FBE1-4B56-B621-9E25F9FCCA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2A27DD2-2CF8-46F4-9B83-91B252836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FE3FE57-36A9-4F99-A00C-2BEA5C907B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8FB5A9-0D8D-4FE2-9B1A-6B69E7B3A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2F16261-27EF-4404-84C2-6AE2D65F3D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EE5D7D8-9639-4D06-A467-F5B88FDAB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2563A12-A54A-4CCE-9EE4-1A8C26AE7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CA2698B-1336-4718-897D-15F5C6CF1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4E76CB7-FD73-414F-8A2C-9CCC72E84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0BB028F-62A9-451F-92C1-FEF92506D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BC5F65A-8FA2-4F61-B7ED-6B6B7ADD7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8D72D7D-DF70-469B-B781-CB83791B5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2771F45-25D2-4966-8AEC-51EAF7FBB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F1C8FFA-0BB9-42BD-91EB-D85DE2653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7F16D8F-6ADE-442C-8A3C-13402D304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6C72139-FE19-4649-A29D-65EE13835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FA36849-8EEC-46D2-9647-EEB2BF7EB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C72DE85-45E6-4CDC-822B-F64595A06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CDE80C-934E-4915-BB33-A066E84A98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74520" y="4554360"/>
            <a:ext cx="5352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Slide Number Placeholder 3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14168C9-D37C-4900-9446-BD325364A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41385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6389AD-B1F8-4B2A-BDEC-6038D6933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055520" y="719280"/>
            <a:ext cx="5194440" cy="359712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972720" y="4555800"/>
            <a:ext cx="5356440" cy="43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73C9C3-9926-4742-AFB5-85BABD0663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19F049-B96E-4FF5-A46D-7D753251D7C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841D89-C66E-4A38-9A66-5C606BAF3E1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D367CA-1934-4026-B64D-A6676708BA4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F0BA78-A633-4641-A7DA-00A35C5713B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072E46-6581-4A29-8ED3-2E5B701318AB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FE4862-D1D6-46A5-A68D-02A9DDF13E8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BDC867-72CF-401A-87BE-408CC391010F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7C7EFC-4EBC-482D-9577-3A752D17B19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60AF28-E611-41A9-87D6-7AED1109733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AA6E51-ECE2-4C04-A4EA-3FF359D19A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ABC8FD-329D-4932-B078-79DA6EDEB0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233000" y="282240"/>
            <a:ext cx="8440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254240" y="4110480"/>
            <a:ext cx="84182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568120" y="156636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25424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568120" y="4110480"/>
            <a:ext cx="410796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10076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946920" y="156636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25424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10076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946920" y="4110480"/>
            <a:ext cx="2710440" cy="2323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1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F82E11-1BBB-43C7-A926-C1E6F571E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10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7921A561-FF67-4574-9282-D999503DD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ftr" idx="11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&amp; Ethics of Information Syste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BF685A1-738E-4F3E-99F8-9E039C58F8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2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&amp; Ethics of Information Syste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6F612F-968C-43D0-9478-CCACE144A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13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&amp; Ethics of Information Syste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B59608D5-28C7-4BCC-B157-55C8C77D2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14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&amp; Ethics of Information Syste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FAC317-07B8-4461-98D2-7F1B93A88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15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of Information Systems, Fourth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16"/>
          </p:nvPr>
        </p:nvSpPr>
        <p:spPr>
          <a:xfrm>
            <a:off x="7099200" y="6324120"/>
            <a:ext cx="2229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D20E-7966-47A2-BBF5-65789733BB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1959120"/>
            <a:ext cx="9759600" cy="1050840"/>
            <a:chOff x="0" y="1959120"/>
            <a:chExt cx="9759600" cy="1050840"/>
          </a:xfrm>
        </p:grpSpPr>
        <p:grpSp>
          <p:nvGrpSpPr>
            <p:cNvPr id="48" name="Group 3"/>
            <p:cNvGrpSpPr/>
            <p:nvPr/>
          </p:nvGrpSpPr>
          <p:grpSpPr>
            <a:xfrm>
              <a:off x="316080" y="2066760"/>
              <a:ext cx="773640" cy="462600"/>
              <a:chOff x="316080" y="2066760"/>
              <a:chExt cx="773640" cy="46260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316080" y="2066760"/>
                <a:ext cx="475920" cy="46260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732600" y="2066760"/>
                <a:ext cx="357120" cy="46260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52160" y="2499480"/>
              <a:ext cx="801000" cy="484560"/>
              <a:chOff x="452160" y="2499480"/>
              <a:chExt cx="801000" cy="48456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52160" y="2499480"/>
                <a:ext cx="459000" cy="4845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853920" y="2499480"/>
                <a:ext cx="399240" cy="4845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415240"/>
              <a:ext cx="606960" cy="408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87960" y="1959120"/>
              <a:ext cx="34200" cy="10508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42360" y="2779200"/>
              <a:ext cx="941724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Line 20"/>
          <p:cNvSpPr/>
          <p:nvPr/>
        </p:nvSpPr>
        <p:spPr>
          <a:xfrm>
            <a:off x="0" y="656604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-12600" y="6590880"/>
            <a:ext cx="9905760" cy="2574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F62C399-FFFF-4D8C-BD14-77AE34890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3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CFCF558-C2AC-4F66-AF71-6D0D2398E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4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C32433F-ECE6-4BC4-84F7-CD12606AC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ftr" idx="5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6E9E97-5D80-4B5F-BDA4-A7FCE3718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6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s &amp; Ethics of Information Syste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857CC55C-7AE7-4E4B-A2A4-991079C3F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ftr" idx="7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45F6A6D-C5B0-4FA2-9BD4-C2D1839E4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8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A55BEF9-D740-4474-A8FA-44A0E531A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314280" y="793800"/>
            <a:ext cx="47484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728640" y="793800"/>
            <a:ext cx="35568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447840" y="1216080"/>
            <a:ext cx="45864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847800" y="1216080"/>
            <a:ext cx="40140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0" y="1143000"/>
            <a:ext cx="60660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687240" y="685800"/>
            <a:ext cx="3492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341280" y="1476360"/>
            <a:ext cx="89121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Line 22"/>
          <p:cNvSpPr/>
          <p:nvPr/>
        </p:nvSpPr>
        <p:spPr>
          <a:xfrm>
            <a:off x="0" y="6553080"/>
            <a:ext cx="9906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8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2" marL="1197000" indent="-238320">
              <a:spcBef>
                <a:spcPts val="8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3" marL="1676520" indent="-239760">
              <a:spcBef>
                <a:spcPts val="85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4" marL="2155680" indent="-239400">
              <a:spcBef>
                <a:spcPts val="85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5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6" marL="2155680" indent="-239400">
              <a:spcBef>
                <a:spcPts val="85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ftr" idx="9"/>
          </p:nvPr>
        </p:nvSpPr>
        <p:spPr>
          <a:xfrm>
            <a:off x="-360" y="6562800"/>
            <a:ext cx="989316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. Berr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1 – An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93B4C75-ACB7-401B-9513-83E4F1D4F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72800" y="1348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algn="ctr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Fundamentals &amp; Ethics of Information Systems</a:t>
            </a:r>
            <a:br>
              <a:rPr sz="4600"/>
            </a:b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S 201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667800" y="3153960"/>
            <a:ext cx="8867880" cy="3071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hapter 1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 Introduction to Information Systems in Organiz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Footer Placeholder 3"/>
          <p:cNvSpPr/>
          <p:nvPr/>
        </p:nvSpPr>
        <p:spPr>
          <a:xfrm>
            <a:off x="0" y="6581880"/>
            <a:ext cx="9902880" cy="27612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83FF9D4-A0BE-47D2-AC1E-EF6200DD5A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Characteristics of Valuable Inform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4" name="Picture 13" descr="Table 1-2a"/>
          <p:cNvPicPr/>
          <p:nvPr/>
        </p:nvPicPr>
        <p:blipFill>
          <a:blip r:embed="rId1"/>
          <a:stretch/>
        </p:blipFill>
        <p:spPr>
          <a:xfrm>
            <a:off x="160200" y="1790640"/>
            <a:ext cx="9515520" cy="4494240"/>
          </a:xfrm>
          <a:prstGeom prst="rect">
            <a:avLst/>
          </a:prstGeom>
          <a:ln w="0">
            <a:noFill/>
          </a:ln>
        </p:spPr>
      </p:pic>
      <p:sp>
        <p:nvSpPr>
          <p:cNvPr id="74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7B287D0-6A37-46A4-B5FC-356C9CC1C2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Characteristics of Valuable Information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7" name="Picture 9" descr="Table 1-2b"/>
          <p:cNvPicPr/>
          <p:nvPr/>
        </p:nvPicPr>
        <p:blipFill>
          <a:blip r:embed="rId1"/>
          <a:stretch/>
        </p:blipFill>
        <p:spPr>
          <a:xfrm>
            <a:off x="241200" y="1882800"/>
            <a:ext cx="9420480" cy="4255920"/>
          </a:xfrm>
          <a:prstGeom prst="rect">
            <a:avLst/>
          </a:prstGeom>
          <a:ln w="0">
            <a:noFill/>
          </a:ln>
        </p:spPr>
      </p:pic>
      <p:sp>
        <p:nvSpPr>
          <p:cNvPr id="748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7B954EB-2535-4DD1-8BFA-F5D643770E2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xample: Health Inform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You want the information about you in a health information system to be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s accurate as possible (e.g. your age, sex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As complete as possibl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leva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o be reliable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hould be available in a timely manner (e.g. information about your drug allergies are available before your operation!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AF00620-49CF-4682-9706-FC6B3696A7E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he Value of Inform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Value of information is directly linked to how it helps decision makers achieve their organization’s goa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r example, value of information might be measured in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ime required to make a deci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creased profits to the compan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874E6EA-E45D-4556-9D3D-0EF620FBF3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3. What Is an Information System?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56" name="Picture 11" descr="Fig 1-3"/>
          <p:cNvPicPr/>
          <p:nvPr/>
        </p:nvPicPr>
        <p:blipFill>
          <a:blip r:embed="rId1"/>
          <a:stretch/>
        </p:blipFill>
        <p:spPr>
          <a:xfrm>
            <a:off x="660240" y="2606760"/>
            <a:ext cx="8624880" cy="1965240"/>
          </a:xfrm>
          <a:prstGeom prst="rect">
            <a:avLst/>
          </a:prstGeom>
          <a:ln w="0">
            <a:noFill/>
          </a:ln>
        </p:spPr>
      </p:pic>
      <p:sp>
        <p:nvSpPr>
          <p:cNvPr id="757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E04F8A0-27DF-4801-977F-DA9F56BDF9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nput, Processing, Output, Feedback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put: the activity of gathering and capturing raw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ing: converting or transforming data into useful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tput: production of useful information, usually in the form of documents and re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eedback: output that is used to make changes to input or processi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3002C5E-51D2-4268-88F4-0EDF054697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-Based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omputer-based information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ystem (CBI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ngle set of hardware, software, databases, telecommunications, people, and procedures configured to collect, manipulate, store, and process data into inform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5479859-59E6-43FD-910A-6A1FC477D0A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190160" y="380520"/>
            <a:ext cx="81378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-Base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5" name="Picture 7" descr="Fig 1-4"/>
          <p:cNvPicPr/>
          <p:nvPr/>
        </p:nvPicPr>
        <p:blipFill>
          <a:blip r:embed="rId1"/>
          <a:stretch/>
        </p:blipFill>
        <p:spPr>
          <a:xfrm>
            <a:off x="2016000" y="1676520"/>
            <a:ext cx="5281560" cy="4098960"/>
          </a:xfrm>
          <a:prstGeom prst="rect">
            <a:avLst/>
          </a:prstGeom>
          <a:ln w="0">
            <a:noFill/>
          </a:ln>
        </p:spPr>
      </p:pic>
      <p:sp>
        <p:nvSpPr>
          <p:cNvPr id="766" name="Rectangle 4"/>
          <p:cNvSpPr/>
          <p:nvPr/>
        </p:nvSpPr>
        <p:spPr>
          <a:xfrm>
            <a:off x="480960" y="5965920"/>
            <a:ext cx="89154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mponents of a Computer-Based Information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C8D44D0-092E-4DC2-A2BC-21F45D7C64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-Base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IS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: computer equipment used to perform input, processing, and output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: computer programs that govern the operation of the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: organized collection of facts an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mmunications: electronic transmission of signals for commun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s: connect computers and equipment in a building, around the country, and around the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8BDEC44-196B-4431-A886-3F61B4A302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omputer-Base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BIS components (continued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ternet: world’s largest computer network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ople: manage, run, program, and maintain the syste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cedures: strategies, policies, methods, and rules for using a CBI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867DE2C-7E5F-4DDE-9725-532F839BF5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Principles and Learning Objectiv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483480" indent="-483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guish data from information and describe the characteristics used to evaluate the qualit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basic types of business information systems and discuss who uses them, how they are used, and what kinds of benefits they 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y the major steps of the systems development process and state the goal of ea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483480" indent="-48348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the types of roles, functions, and careers available in informa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64F5DDA-A318-4B7D-888B-9EF1D7BEF3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Business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Most common types of information systems used in business organizat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14080">
              <a:spcBef>
                <a:spcPts val="726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lectronic and mobile commerce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14080">
              <a:spcBef>
                <a:spcPts val="726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nterprise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14080">
              <a:spcBef>
                <a:spcPts val="726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nagement information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14080">
              <a:spcBef>
                <a:spcPts val="726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ecision support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993600" indent="-514080">
              <a:spcBef>
                <a:spcPts val="726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pecialized business information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6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C6F0D93-C9CB-4FEC-8C8E-8557AD4455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Business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78" name="Picture 4" descr="Fig 1-7"/>
          <p:cNvPicPr/>
          <p:nvPr/>
        </p:nvPicPr>
        <p:blipFill>
          <a:blip r:embed="rId1"/>
          <a:srcRect l="0" t="0" r="37491" b="0"/>
          <a:stretch/>
        </p:blipFill>
        <p:spPr>
          <a:xfrm>
            <a:off x="1987560" y="1577880"/>
            <a:ext cx="6154560" cy="4314960"/>
          </a:xfrm>
          <a:prstGeom prst="rect">
            <a:avLst/>
          </a:prstGeom>
          <a:ln w="0">
            <a:noFill/>
          </a:ln>
        </p:spPr>
      </p:pic>
      <p:sp>
        <p:nvSpPr>
          <p:cNvPr id="779" name="Rectangle 5"/>
          <p:cNvSpPr/>
          <p:nvPr/>
        </p:nvSpPr>
        <p:spPr>
          <a:xfrm>
            <a:off x="485640" y="5997600"/>
            <a:ext cx="891540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iness Information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78E8A6C-5725-4B65-A532-66E0490C73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lectronic and Mobile Commerc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77440" y="1676520"/>
            <a:ext cx="8750520" cy="37051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-commerce: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any business transaction executed electronically between part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mpanies (B2B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mpanies and consumers (B2C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sumers and other consumers (C2C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mpanies and the public sector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onsumers and the public sector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2E5B6F2-12A0-4411-A0E0-CA6E6CE444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lectronic and Mobile Commerce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85" name="Picture 4" descr="Fig 1-10"/>
          <p:cNvPicPr/>
          <p:nvPr/>
        </p:nvPicPr>
        <p:blipFill>
          <a:blip r:embed="rId1"/>
          <a:srcRect l="0" t="0" r="37491" b="0"/>
          <a:stretch/>
        </p:blipFill>
        <p:spPr>
          <a:xfrm>
            <a:off x="1981080" y="2286000"/>
            <a:ext cx="6516720" cy="2597040"/>
          </a:xfrm>
          <a:prstGeom prst="rect">
            <a:avLst/>
          </a:prstGeom>
          <a:ln w="0">
            <a:noFill/>
          </a:ln>
        </p:spPr>
      </p:pic>
      <p:sp>
        <p:nvSpPr>
          <p:cNvPr id="786" name="Rectangle 5"/>
          <p:cNvSpPr/>
          <p:nvPr/>
        </p:nvSpPr>
        <p:spPr>
          <a:xfrm>
            <a:off x="495360" y="548640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ic Busin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4ED7D86-CCBD-4EE7-9A28-23A1BDDE69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nterprise Systems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wo types of systems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Transaction processing system (TP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Enterprise Resource Planning (ERP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8D6A4EB-FAFA-4E36-AC0D-2EB39B7B6A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1. Transaction Processing System: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2000"/>
          </a:bodyPr>
          <a:p>
            <a:pPr marL="331200" indent="-331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ransaction: business-related exchang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15680" indent="-274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ayments to employe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15680" indent="-274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ales to customer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15680" indent="-274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ayments to supplier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31200" indent="-331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Transaction processing system (TP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15680" indent="-274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rganized collection of people, procedures, software, databases, and devices used to record completed business transac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E685435-A5ED-4E72-977B-C5C135082A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941400" y="38052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ransaction Process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95" name="Picture 7" descr="Fig 1-7"/>
          <p:cNvPicPr/>
          <p:nvPr/>
        </p:nvPicPr>
        <p:blipFill>
          <a:blip r:embed="rId1"/>
          <a:stretch/>
        </p:blipFill>
        <p:spPr>
          <a:xfrm>
            <a:off x="1273320" y="1901880"/>
            <a:ext cx="6411600" cy="300348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4"/>
          <p:cNvSpPr/>
          <p:nvPr/>
        </p:nvSpPr>
        <p:spPr>
          <a:xfrm>
            <a:off x="495360" y="5562720"/>
            <a:ext cx="89154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ayroll Transaction Processing Syste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723CB80-0B89-4B4A-81A9-9240D87096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ransaction Processing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n effective TPS provides a number of benefits to a compan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 TPS can speed business activities and reduce clerical cos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 stored in TPSs is used to help managers make better decis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576E3116-3392-4ED7-A2E0-72264CB630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2.2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nterprise Resource Planning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tegrated programs capable of managing a company’s vital business operations for an entire multisite organiz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ordinate planning, inventory control, production, and ordering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464ABD9-B2DF-4020-8D48-3D1868B9D4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3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Management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Management information system (MI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rganized collection of people, procedures, software, databases, and devic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vides routine information to managers/decision maker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imary focus is operational efficienc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6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DE9E432-352E-4259-8CCC-D8966471AF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hapter Overview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054080" y="1566360"/>
            <a:ext cx="861840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Concepts: Data, Information, and 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n Information Syst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Informa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s and Informa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eers In Informa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F7E5DF1-7262-42B2-A87E-00AB2095F77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ecision Support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Decision support system (DS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rganized collection of people, procedures, software, databases, and devic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upports problem-specific decision mak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ocus is on decision-making effectivenes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6E943B8-DA38-4EE1-B3A0-E9BAD16285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057320" y="380520"/>
            <a:ext cx="875016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ecision Support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11" name="Picture 7" descr="Fig 1-11"/>
          <p:cNvPicPr/>
          <p:nvPr/>
        </p:nvPicPr>
        <p:blipFill>
          <a:blip r:embed="rId1"/>
          <a:stretch/>
        </p:blipFill>
        <p:spPr>
          <a:xfrm>
            <a:off x="1811160" y="1603440"/>
            <a:ext cx="6215400" cy="446724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4"/>
          <p:cNvSpPr/>
          <p:nvPr/>
        </p:nvSpPr>
        <p:spPr>
          <a:xfrm>
            <a:off x="1866960" y="6146640"/>
            <a:ext cx="6565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sential DSS Ele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1D6EC00-0F25-4DB3-8277-18EACBC5BC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5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pecialized Business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Knowledge Management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Expert Syste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spcBef>
                <a:spcPts val="8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Virtual Realit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B17A3AB-D772-44F6-BB09-1D0D2B9AB40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4.5.1. Knowledge Management System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Knowledge management systems (KMSs):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n organized collection of people, procedures, software, databases, and devices to create, store, share, and use the organization’s knowledge and experien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1DB1366-A404-4583-9714-268858060D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5.2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Artificial Intelligenc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Artificial intelligence (AI)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field in which the computer system takes on the characteristics of human intelligenc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A26DADD-9389-41BE-889F-8A3EB4E799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4.5.2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rtificial Intelligence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4" name="Picture 9" descr="Fig 1-12"/>
          <p:cNvPicPr/>
          <p:nvPr/>
        </p:nvPicPr>
        <p:blipFill>
          <a:blip r:embed="rId1"/>
          <a:stretch/>
        </p:blipFill>
        <p:spPr>
          <a:xfrm>
            <a:off x="2235240" y="1562040"/>
            <a:ext cx="6146640" cy="4421160"/>
          </a:xfrm>
          <a:prstGeom prst="rect">
            <a:avLst/>
          </a:prstGeom>
          <a:ln w="0">
            <a:noFill/>
          </a:ln>
        </p:spPr>
      </p:pic>
      <p:sp>
        <p:nvSpPr>
          <p:cNvPr id="825" name="Rectangle 4"/>
          <p:cNvSpPr/>
          <p:nvPr/>
        </p:nvSpPr>
        <p:spPr>
          <a:xfrm>
            <a:off x="495360" y="6078600"/>
            <a:ext cx="89154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jor Elements of Artificial Intellige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6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D915EAF-DFA4-4787-9826-17E106010E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5.3. Expert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Give the computer the ability to make suggestions and act like an expert in a particular field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llow organizations to capture and use the wisdom of experts and specialis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he knowledge base contains the collection of data, rules, procedures, and relationships that must be followed to achieve value or the proper outcom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2491E069-7F0A-495E-929B-33DA5B0DC9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4.5.4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Virtual Reality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imulation of a real or imagined environment that can be experienced visually in three dimension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mmersive virtual reality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pplications that are not fully immersiv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5600" indent="-3456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an be a powerful medium for communication, entertainment, and learning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98398EFB-D190-4C9B-8DA7-09B701CCDA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5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ystems Developmen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ystems development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reating or modifying existing business syste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ystems development can be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erformed in-hous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utsourced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To improve results of a systems development project, it is divided into several step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D787E8A-2E27-4A0B-B21B-A0B4CBE5A8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ystems Development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7" name="Picture 4" descr="Fig 1-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927680" y="927000"/>
            <a:ext cx="3429000" cy="550548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5"/>
          <p:cNvSpPr/>
          <p:nvPr/>
        </p:nvSpPr>
        <p:spPr>
          <a:xfrm>
            <a:off x="495360" y="2743200"/>
            <a:ext cx="3073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Overview of Systems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CBEBE95-F52B-42F2-B7C4-4DB2FD8933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Why Learn About Information Systems in Organizations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4000"/>
          </a:bodyPr>
          <a:p>
            <a:pPr marL="338400" indent="-338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formation systems (ISs) can cut costs and increase profit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38400" indent="-3384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Students in most fields need to know ISs. For Instance: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31160" indent="-280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Management major might be hired to design a system to improve productiv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31160" indent="-280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Biochemistry major might be hired to conduct drug research using computer techniqu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31160" indent="-280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18EE3FC7-92E5-4AB2-B448-E59966D798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ystems Investigation and Analysi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ystems investigation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gain understanding of the problem to be solved or opportunity to be addressed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ystems analysis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efines problems and opportunities of the existing system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F8368512-A596-4834-B3E3-B528914BC0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ystems Design, Implementation, Maintenance, and Review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s design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he new system will work to meet the business needs defined during systems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s implementation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ing or acquiring the various system components defined in the design step, assembling them, and putting the new system into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ystems maintenance and review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 and modify the system so that it continues to meet changing business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07A08F8-A5C1-42FF-96F6-35212EB88D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6. Organizations and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Organization: </a:t>
            </a: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llection of people and other resources established to accomplish a set of goal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An organization is a system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puts: resources (materials, people, money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utputs: goods or servic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0">
              <a:spcBef>
                <a:spcPts val="850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4647D644-4F2F-4CE5-9212-13D2F8D9211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144080" y="380520"/>
            <a:ext cx="87505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rganizations an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0" name="Rectangle 3"/>
          <p:cNvSpPr/>
          <p:nvPr/>
        </p:nvSpPr>
        <p:spPr>
          <a:xfrm>
            <a:off x="482760" y="6108840"/>
            <a:ext cx="89154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General Model of an Orga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1" name="Picture 6" descr="Fig 1-15"/>
          <p:cNvPicPr/>
          <p:nvPr/>
        </p:nvPicPr>
        <p:blipFill>
          <a:blip r:embed="rId1"/>
          <a:stretch/>
        </p:blipFill>
        <p:spPr>
          <a:xfrm>
            <a:off x="1523880" y="1625760"/>
            <a:ext cx="7108920" cy="4330440"/>
          </a:xfrm>
          <a:prstGeom prst="rect">
            <a:avLst/>
          </a:prstGeom>
          <a:ln w="0">
            <a:noFill/>
          </a:ln>
        </p:spPr>
      </p:pic>
      <p:sp>
        <p:nvSpPr>
          <p:cNvPr id="85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3A64159-C091-43AC-ADB8-33C47408D2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rganizations an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2800" indent="-352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alue chain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ies (chain) of activities that includes inbound logistics, warehouse and storage, production, finished product storage, outbound logistics, marketing and sales, and custome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pstream management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raw materials, inbound logistics, and warehouse and storage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ownstream management: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finished product storage, outbound logistics, marketing and sales, and customer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3C5A87EB-7C42-4C85-B04F-0B9D42FE6A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rganizations an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57" name="Picture 8" descr="Fig 1-16"/>
          <p:cNvPicPr/>
          <p:nvPr/>
        </p:nvPicPr>
        <p:blipFill>
          <a:blip r:embed="rId1"/>
          <a:stretch/>
        </p:blipFill>
        <p:spPr>
          <a:xfrm>
            <a:off x="1574640" y="1574640"/>
            <a:ext cx="6969240" cy="440532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3"/>
          <p:cNvSpPr/>
          <p:nvPr/>
        </p:nvSpPr>
        <p:spPr>
          <a:xfrm>
            <a:off x="495360" y="6091200"/>
            <a:ext cx="89154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Value Chain of a Manufacturing Compan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72CE016-6267-4F44-97C1-4A7939D0C7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rganizations and Information Systems (continued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y chain management (SCM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etermines required supplies, needed quantities, processing, and shipme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ustomer relationship management (CRM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elps company manage all aspects of customer encounters, including marketing, advertisement, sales, service, and maintaining loyalty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EEC401C-5F24-44A5-AEAF-5CEB7B0E1D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areers In Information System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egree progra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Degrees in information syst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Business degrees with a global or international orientat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Computer systems are making IS professionals’ work easier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Opportunities in information systems are not limited to single countrie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D3679A9-3009-4DDD-8EFB-641345C9B9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Roles, Functions, and Careers in the IS Department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2800" indent="-3528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Primary responsibilities in information system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perations: focuses on the efficiency of IS function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ystems development: focuses on development projects and ongoing maintenance and review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upport: provides user assistance, data administration, user training, and Web administrat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8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7141FC67-1C02-4A57-8583-44936AAADB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Roles, Functions, and Careers in the IS Department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0" name="Picture 7" descr="Fig 1-19"/>
          <p:cNvPicPr/>
          <p:nvPr/>
        </p:nvPicPr>
        <p:blipFill>
          <a:blip r:embed="rId1"/>
          <a:stretch/>
        </p:blipFill>
        <p:spPr>
          <a:xfrm>
            <a:off x="3429000" y="1576440"/>
            <a:ext cx="5576760" cy="489744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4"/>
          <p:cNvSpPr/>
          <p:nvPr/>
        </p:nvSpPr>
        <p:spPr>
          <a:xfrm>
            <a:off x="304920" y="2662200"/>
            <a:ext cx="32130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hree Primary Responsibilities of Information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FD6AFC4-25AE-45B8-9156-35B27C1364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Information system (IS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t of interrelated components: collect, manipulate, store, and disseminate data and informat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Provides feedback to meet an objectiv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xamples: airline reservation systems, course registration systems, library management system, …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6E03D65-CB45-4D16-A31A-630118697A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ypical IS Titles and Function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Chief Information Officer (CIO)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mploys IS department’s equipment and personnel to help the organization attain its goal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LAN administrators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et up and manage the network hardware, software, and security processes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86B76914-BC27-465E-A106-C4A9413872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ypical IS Titles and Functions (cont.)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1254240" y="15411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car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trategists and administ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ystems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or Web site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ert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 Microsoft Certified Systems Engineer, Certified Information Systems Security Professional (CISSP), and Oracle Certified Profess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DACAC813-F8B1-40E9-AA37-EB689B77BA2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Other IS Careers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and exciting careers have developed in security and fraud detection and prev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f Information Security Offi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f Security Offi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77960" indent="-298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f Privacy Offic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ing for a large consulting firm such as Accenture, IBM, and 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ing or selling products for a hardware or software ven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60360" indent="-360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deo gam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1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C485F928-3086-4EE1-B07C-BA4EF75732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8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Summary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, Information, Knowledg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components: input, processing, output, and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er-based information system (CB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action processing system (T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alized Business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6E80CCA-3720-4EBD-ACBA-1D033894643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/>
          </p:nvPr>
        </p:nvSpPr>
        <p:spPr>
          <a:xfrm>
            <a:off x="1254240" y="1490400"/>
            <a:ext cx="8418240" cy="5043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8000"/>
          </a:bodyPr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w f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inct pieces of information, usually formatted in a special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facts organized in such a way that they have additional value beyond the value of the facts themsel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52800" indent="-352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292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ut in its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2. Information Concepts: Data, Information, and Knowledg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3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6928643B-B716-4510-AC7A-832519CA48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254240" y="1566360"/>
            <a:ext cx="8418240" cy="48704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7000"/>
          </a:bodyPr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hermometer readings of temperature taken every hour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16.0, 17.0, 16.0, 18.5, 17.0,15.5…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ahoma"/>
              </a:rPr>
              <a:t>Information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oday’s high: 18.5, Today’s low: 15.5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9200" indent="-349200"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CA" sz="3400" spc="-1" strike="noStrike">
                <a:solidFill>
                  <a:srgbClr val="000000"/>
                </a:solidFill>
                <a:latin typeface="Tahoma"/>
              </a:rPr>
              <a:t>Knowledge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ahoma"/>
              </a:rPr>
              <a:t>Today the weather will be fine.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54560" indent="-289440">
              <a:spcBef>
                <a:spcPts val="726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ahoma"/>
              </a:rPr>
              <a:t>No need to take a coa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0C364A66-78DF-4315-AD30-AC92F7A70C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Types of Data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738" name=""/>
          <p:cNvGraphicFramePr/>
          <p:nvPr/>
        </p:nvGraphicFramePr>
        <p:xfrm>
          <a:off x="412920" y="2149560"/>
          <a:ext cx="9080280" cy="2803320"/>
        </p:xfrm>
        <a:graphic>
          <a:graphicData uri="http://schemas.openxmlformats.org/drawingml/2006/table">
            <a:tbl>
              <a:tblPr/>
              <a:tblGrid>
                <a:gridCol w="3301920"/>
                <a:gridCol w="5778360"/>
              </a:tblGrid>
              <a:tr h="4953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resented b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7dbff"/>
                    </a:solidFill>
                  </a:tcPr>
                </a:tc>
              </a:tr>
              <a:tr h="65880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phanumeric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umbers, letters, and other charac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65880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mage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raphic images or pi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49536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io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und, noise, to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  <a:tr h="49500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d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ving images or pict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eeff"/>
                    </a:solidFill>
                  </a:tcPr>
                </a:tc>
              </a:tr>
            </a:tbl>
          </a:graphicData>
        </a:graphic>
      </p:graphicFrame>
      <p:sp>
        <p:nvSpPr>
          <p:cNvPr id="739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EAC0C26E-98CC-4592-A2E3-9E2EEC51805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33000" y="282240"/>
            <a:ext cx="844092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 rtl="1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Data </a:t>
            </a:r>
            <a:r>
              <a:rPr b="0" lang="en-US" sz="46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 Information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1" name="Picture 10" descr="Fig 1-2"/>
          <p:cNvPicPr/>
          <p:nvPr/>
        </p:nvPicPr>
        <p:blipFill>
          <a:blip r:embed="rId1"/>
          <a:stretch/>
        </p:blipFill>
        <p:spPr>
          <a:xfrm>
            <a:off x="695160" y="2982960"/>
            <a:ext cx="8210880" cy="1170000"/>
          </a:xfrm>
          <a:prstGeom prst="rect">
            <a:avLst/>
          </a:prstGeom>
          <a:ln w="0">
            <a:noFill/>
          </a:ln>
        </p:spPr>
      </p:pic>
      <p:sp>
        <p:nvSpPr>
          <p:cNvPr id="742" name="Footer Placeholder 3"/>
          <p:cNvSpPr/>
          <p:nvPr/>
        </p:nvSpPr>
        <p:spPr>
          <a:xfrm>
            <a:off x="0" y="6562800"/>
            <a:ext cx="9902880" cy="295200"/>
          </a:xfrm>
          <a:prstGeom prst="rect">
            <a:avLst/>
          </a:prstGeom>
          <a:solidFill>
            <a:srgbClr val="ffe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hapter1 – Introduction to Information Systems in Organization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lide </a:t>
            </a:r>
            <a:fld id="{B77A2E3E-91BB-4661-AE65-3A401C5B2A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5T18:38:26Z</dcterms:created>
  <dc:creator>Marilyn Turnamian</dc:creator>
  <dc:description/>
  <dc:language>en-US</dc:language>
  <cp:lastModifiedBy>Ashraf Youssef</cp:lastModifiedBy>
  <cp:lastPrinted>2000-09-19T13:45:16Z</cp:lastPrinted>
  <dcterms:modified xsi:type="dcterms:W3CDTF">2017-09-24T07:23:14Z</dcterms:modified>
  <cp:revision>292</cp:revision>
  <dc:subject/>
  <dc:title>Abstract View of System Components</dc:title>
</cp:coreProperties>
</file>