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2707-0E1C-4B6F-8383-9C551B552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3252-47EC-4DA5-8B84-C9D1DC55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F19E-0EDE-4633-BD4B-1897D3048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5445-07C6-4751-A0E4-7D1164719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141B-61D2-4D43-8FC4-630AA97A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0754-92CC-486B-ADF2-3DB55688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CBA3-F562-4C55-A26E-BDABA787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E0A6-8045-41FD-867D-EACA9F5E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F8B5-E522-4B3C-A278-70A8BDD3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56EE-D0C2-476A-AF0E-038A5DB2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5950-FF96-45EB-8F05-0CDFD2FC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5BE1-1C53-443C-9160-1A1555AD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8f8f8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8A4B-9F2C-42C2-B2A7-29881A98002B}" type="slidenum">
              <a:rPr b="0" lang="ar-SA" sz="1400" spc="-1" strike="noStrike">
                <a:solidFill>
                  <a:srgbClr val="f8f8f8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at is a sedimentary rock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Sedimentary rocks result from mechanical and chemical weathering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Comprise ~ 5% of Earth’s upper crus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Contain evidence of past environment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Record how sediment is transported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Often contain fossil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hemical sedimentary rock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14776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Precipitated material once in solution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Precipitation of material occurs two ways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Inorganic processe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Organic processes (biochemical origin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hemical sedimentary rock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Common chemical sedimentary rock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imeston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8f8f8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Most abundant chemical rock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8f8f8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Made of the mineral calcit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8f8f8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Marine biochemical limestones form as coral reefs,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coquina</a:t>
            </a: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 (broken shells), an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halk </a:t>
            </a: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(microscopic organisms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8f8f8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Inorganic limestones includ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ravertine</a:t>
            </a: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olitic limeston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quina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969840"/>
            <a:ext cx="914400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ossiliferous limeston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2120" y="1382760"/>
            <a:ext cx="7848360" cy="5170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100480" y="914400"/>
            <a:ext cx="35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shells and lime matrix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621560" cy="4965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800600" y="360036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60800" y="228600"/>
            <a:ext cx="37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halk Outcrops in SE US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10760" y="5410080"/>
            <a:ext cx="223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halk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and Specime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79080" y="304920"/>
            <a:ext cx="457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ravertine forming in Hot Spring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991040" y="3809880"/>
            <a:ext cx="4152960" cy="3048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1066680"/>
            <a:ext cx="5105520" cy="3403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363040" y="5105520"/>
            <a:ext cx="223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ravertine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and Specime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-22896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hemical sedimentary rock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Common chemical sedimentary rock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oloston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8f8f8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Typically formed secondarily from limeston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8f8f8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Common in ancient rocks, rare toda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hert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8f8f8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Made of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icrocrystalline quartz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8f8f8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Usually deposited as siliceous ooze in deep oceans (can be diatomaceous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114800" y="4857840"/>
            <a:ext cx="2819520" cy="2000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4267080"/>
            <a:ext cx="4046400" cy="2722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048840" y="42670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hert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14800" y="4343400"/>
            <a:ext cx="27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iatomaceous chert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hemical sedimentary rock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Common chemical sedimentary rock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vaporite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8f8f8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Evaporation triggers deposition of chemical precipitate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8f8f8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Examples includ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ock salt</a:t>
            </a: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ock gypsum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hemical sedimentary rock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Common chemical sedimentary rock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al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8f8f8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Different from other rocks because it is composed of organic material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6240" y="4568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etamorphic Rocks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The transformation of rock by temperature and pressu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Metamorphic rocks are produced by transformation of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Igneous, sedimentary and igneous rx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53040" y="228600"/>
            <a:ext cx="78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ossil Fish - 50 Million Year Old Lakes in southern Wyoming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50520" y="6080040"/>
            <a:ext cx="469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Sediment is fine-grained mudston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etamorphis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2147400"/>
            <a:ext cx="8077320" cy="41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Metamorphism progresses from low to high grade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Rocks remain solid during metamorphism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etamorphis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15328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Three types of metamorphic settings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ntact metamorphism 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– from a rise in temperature within host rock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ydrothermal metamorphism 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– chemical alterations from hot, ion-rich water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gional metamorphism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 -- Occurs in the cores of mountain belts and makes great volumes of metamorphic rock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etamorphic Environment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Metamorphic grad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A group of minerals that form in a particular P-T environment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94920" y="3200400"/>
            <a:ext cx="6782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Zeolite (really low T,P; &lt;200C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Greenschist (low T, P; 200-450C, 10-15 km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Blueschist (low T, high P - subduction zones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Amphibolite (high T, P; 450-650C, 15-20 km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Granulite (super high T, P; &gt;700C, &gt;25km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1840" y="30456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at are metamorphic textures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exture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 refers to the size, shape, and arrangement of mineral grains within a rock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liation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 – planar arrangement of mineral grains within a rock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mmon metamorphic rock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Nonfoliated rock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artzit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8f8f8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imes New Roman"/>
              </a:rPr>
              <a:t>Formed from a parent rock of quartz-rich sandston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8f8f8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imes New Roman"/>
              </a:rPr>
              <a:t>Forms in intermediate T, P condition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mmon metamorphic rock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Nonfoliated rock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arb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8f8f8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imes New Roman"/>
              </a:rPr>
              <a:t>Coarse, crystallin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8f8f8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imes New Roman"/>
              </a:rPr>
              <a:t>Parent rock usually limeston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8f8f8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imes New Roman"/>
              </a:rPr>
              <a:t>Composed of calcite crystal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8f8f8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imes New Roman"/>
              </a:rPr>
              <a:t>Fabric can be random or oriented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mmon metamorphic rock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Foliated rock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lat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8f8f8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imes New Roman"/>
              </a:rPr>
              <a:t>Very fine-grained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8f8f8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imes New Roman"/>
              </a:rPr>
              <a:t>Made by low-grade metamorphism of shal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800600" y="22860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mmon metamorphic rock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Foliated rock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hyllit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8f8f8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imes New Roman"/>
              </a:rPr>
              <a:t>Grade of metamorphism between slate and schist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8f8f8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imes New Roman"/>
              </a:rPr>
              <a:t>Composed mainly of muscovite and/or chlorit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48320" y="2362320"/>
            <a:ext cx="380988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mmon metamorphic rock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Foliated rock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chist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8f8f8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imes New Roman"/>
              </a:rPr>
              <a:t>Medium- to coarse-grained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8f8f8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imes New Roman"/>
              </a:rPr>
              <a:t>Comprised of platy minerals (micas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8f8f8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imes New Roman"/>
              </a:rPr>
              <a:t>The term </a:t>
            </a:r>
            <a:r>
              <a:rPr b="1" i="1" lang="en-US" sz="2000" spc="-1" strike="noStrike">
                <a:solidFill>
                  <a:srgbClr val="f8f8f8"/>
                </a:solidFill>
                <a:latin typeface="Times New Roman"/>
              </a:rPr>
              <a:t>schist </a:t>
            </a:r>
            <a:r>
              <a:rPr b="1" lang="en-US" sz="2000" spc="-1" strike="noStrike">
                <a:solidFill>
                  <a:srgbClr val="f8f8f8"/>
                </a:solidFill>
                <a:latin typeface="Times New Roman"/>
              </a:rPr>
              <a:t>describes the textur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mmon metamorphic rock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Foliated rock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neis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f8f8f8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imes New Roman"/>
              </a:rPr>
              <a:t>Banded appearanc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f8f8f8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imes New Roman"/>
              </a:rPr>
              <a:t>High-grade metamorphism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f8f8f8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imes New Roman"/>
              </a:rPr>
              <a:t>Composed of light-colored feldspar layers with bands of dark mafic mineral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105520" y="2286000"/>
            <a:ext cx="38098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urning sediment into rock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2147760"/>
            <a:ext cx="876276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Changes occur in sediment after it is deposited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iagenesis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 – chemical and physical changes that take place after sediments are deposited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9480" y="857160"/>
            <a:ext cx="8001000" cy="6000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892960" y="304920"/>
            <a:ext cx="33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utcrop of foliated gneis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e rock cycl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rock cyc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- 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eries of processes by which rocks changes into other types of rocks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8f8f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Illustrates various processes and paths as earth materials change both on the surface and inside the Earth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- What are the three main rocks ?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1- Igneou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2- Metamorphic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3- Sedimentary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rock cyc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619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undamental Rock Typ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gneous Rocks: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  solidify from melt, e.g. lava (extrusive) or magma (intrusive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dimentary Rocks: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  are made at the Earth’s surface from particle and chemical remnants of other rock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etamorphic rocks: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  form when other rocks are heated, squeezed, and deformed.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urning sediment into rock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Diagenesi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crystallization</a:t>
            </a: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 – growth of stable minerals from less stable one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ithification</a:t>
            </a: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 – loose sediments is transformed into solid rock by compaction and cement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8f8f8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Natural cements includ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lcite</a:t>
            </a: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lica</a:t>
            </a: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, an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ron oxid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ypes of sedimentary rock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604600"/>
            <a:ext cx="7772400" cy="22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etrital rocks</a:t>
            </a: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 – transported sediment as solid particle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hemical rocks</a:t>
            </a: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 – sediment that was once in solu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6240" y="4568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etrital sedimentary rock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Constituents of detrital rocks can includ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Clay mineral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Quartz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Feldspar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Mica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Particle size is used to distinguish among the various types of detrital rock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etrital sedimentary rock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Common detrital sedimentary rocks    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ha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8f8f8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imes New Roman"/>
              </a:rPr>
              <a:t>Mud-sized particles deposited in thin layers called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amina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trital sedimentary rock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andston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86000" y="259092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etrital sedimentary rock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Conglomerate and brecci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8f8f8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imes New Roman"/>
              </a:rPr>
              <a:t>Both composed of particles &gt; 2mm in diameter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onglomerate </a:t>
            </a:r>
            <a:r>
              <a:rPr b="1" lang="en-US" sz="2000" spc="-1" strike="noStrike">
                <a:solidFill>
                  <a:srgbClr val="f8f8f8"/>
                </a:solidFill>
                <a:latin typeface="Times New Roman"/>
              </a:rPr>
              <a:t>consists largely of rounded clast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reccia</a:t>
            </a:r>
            <a:r>
              <a:rPr b="1" lang="en-US" sz="2000" spc="-1" strike="noStrike">
                <a:solidFill>
                  <a:srgbClr val="f8f8f8"/>
                </a:solidFill>
                <a:latin typeface="Times New Roman"/>
              </a:rPr>
              <a:t> is composed of large angular particl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232240" y="19810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232240" y="4114800"/>
            <a:ext cx="2641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02:34:41Z</dcterms:created>
  <dc:creator> </dc:creator>
  <dc:description/>
  <dc:language>en-US</dc:language>
  <cp:lastModifiedBy>Administrator</cp:lastModifiedBy>
  <dcterms:modified xsi:type="dcterms:W3CDTF">2006-09-08T18:01:40Z</dcterms:modified>
  <cp:revision>128</cp:revision>
  <dc:subject/>
  <dc:title>PowerPoint Presentation</dc:title>
</cp:coreProperties>
</file>