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dt" idx="1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ftr" idx="1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 type="sldNum" idx="1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E854F-D374-4611-B8C0-1373048648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6C502-ADD3-4C54-A266-50E1E3540770}" type="slidenum">
              <a:rPr b="0" lang="en-US" sz="1200" spc="-1" strike="noStrike">
                <a:solidFill>
                  <a:srgbClr val="29293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BCBA-4782-4042-BA1F-9403EB5B1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A3D3-6543-4E2F-B6D5-D895C2C72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E8D6-DF43-4E38-9955-F9B6F013B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DE2F-F122-40AB-A7C2-DA7AF25BB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1B5D2-37D1-4A20-9384-BC5550B67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A4E2C-824D-49D9-80D6-AB7C4D119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F978C-A1F2-4734-8C85-0118E4A4F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AE433-A7F8-4C65-A0C0-BA5A391DE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4C971-2ED3-458D-8376-E7F3ACDD0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40CEE-3C0B-475A-B9F5-17222D086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738E2-87A8-4D37-8488-72A43CAC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D19E-7A9A-4E83-8584-7F033167F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0A7E8-EDE9-4E63-B3FC-5F77D0D4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648E9-0811-4F94-BA89-C2A76B56B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B50E5-F583-416C-AC74-CD681C99D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6DE27-5266-42C4-BA67-87CB220A5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D6121-7ECB-4A60-B4CD-BA6134252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080FA-74E6-4E7E-9D1B-5AB388B9C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104ED-83C6-41D9-A8E8-653770BE6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AC2ED-7C8F-4DEE-BCF7-AB8699446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55647-AB31-452F-BC0D-6D72684DC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EF06A-313F-40F0-B632-3B862F45E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D3EC-7EFB-440E-9838-10EFF9ACA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96941-F459-4840-8B39-D43EF81E2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4648A-BEA0-4908-BA1D-1979B4FA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3515D-0DC0-47CA-B739-BD3DAEBA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B23C4-0EFC-48FC-AD54-35CDC8621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C1F61-46D9-4DE0-A7AE-EFB2EB9A9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BC9B9-4106-4B3C-9D3D-BD82B3DE5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1FBBC-0A9F-49F0-B958-2539B9AA5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A39FE-F9E4-49C3-9048-B95FDA59B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DACB4-0782-43E1-A6A7-C73A5E6BA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FD969-9CBE-43FA-A995-181DFCB4A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DFDA-EFA8-44DF-89C8-FA5540D00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5747C-FCBD-4DB4-94D2-178A7BBB6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8C85C-A286-4FFA-A62D-9EC6CC6EC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4231E-ECFA-4A52-8656-0888C5A4A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66C7B-4D2D-40F6-913C-61BDFC143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C5D21-6246-4786-A23B-93043B61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63709-83A1-4D5A-974D-06CC0DB0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A2BC0-18AB-4DBA-83B3-E97B84BAC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C6B5A-774A-4B65-8110-4D405A430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682D3-C593-447F-A457-1D053602F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64D769-0823-4BA5-A68B-B97D353FD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150D-15A3-4111-A322-4303C1692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097DFF-B418-460F-BE92-60565B247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AAC20-FDC1-4BE8-84D4-AD35F885C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1015E2-FF31-4E2B-A37D-F92A2A8CC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681FF-23C3-4BAC-B755-159677F31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49EAA0-74E7-417A-BCC8-BB142C24A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135DD0-F132-4E9C-B775-D5E3428B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1CCECF-AB25-410A-B534-ADB698513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BEBF77-D2C3-41C3-9F43-5BABDCC36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C4194-A8CF-4ABF-A8B8-0385C1C3F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0CE852-20EE-4839-9FE5-362A0D858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94EC-F726-44D3-9647-B1A58FF85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41BB9A-385F-426C-ADFA-522EA0452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7574-6162-46C6-A836-4D90D585F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CD1D-371C-499D-95BA-A326ECDD5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5B9A-89FB-49DA-B91D-BB99A3B90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iang_Ch4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E9C57-26C3-48B3-8177-CB8B1460E8C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45" name="Straight Connector 8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iang_Ch4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E9900-2354-4FE9-A473-919DB81B3E6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89" name="Straight Connector 8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iang_Ch4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D63AE-D149-45B3-B935-2B4902FFFEC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33" name="Straight Connector 8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iang_Ch4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381B3-E0F3-4E70-8211-F62EB7CED74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iang_Ch4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F183A-1DDB-4FEC-AA84-DFAA444923E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952560" y="2286000"/>
            <a:ext cx="723888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600" spc="-1" strike="noStrike">
                <a:solidFill>
                  <a:srgbClr val="57576e"/>
                </a:solidFill>
                <a:latin typeface="Arial"/>
              </a:rPr>
              <a:t>Systems of Linear Equations  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815328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82296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830556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84582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82296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8382240" cy="25909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"/>
          <p:cNvPicPr/>
          <p:nvPr/>
        </p:nvPicPr>
        <p:blipFill>
          <a:blip r:embed="rId2"/>
          <a:stretch/>
        </p:blipFill>
        <p:spPr>
          <a:xfrm>
            <a:off x="457200" y="3276720"/>
            <a:ext cx="84582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4000" spc="-1" strike="noStrike">
                <a:solidFill>
                  <a:srgbClr val="d2533c"/>
                </a:solidFill>
                <a:latin typeface="Arial"/>
              </a:rPr>
              <a:t>Systems of Linear Equation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304920" y="1523880"/>
            <a:ext cx="8610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92934"/>
                </a:solidFill>
                <a:latin typeface="Times New Roman"/>
              </a:rPr>
              <a:t>As the introductory example, consider the set of equations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92934"/>
                </a:solidFill>
                <a:latin typeface="Times New Roman"/>
              </a:rPr>
              <a:t>2</a:t>
            </a:r>
            <a:r>
              <a:rPr b="0" i="1" lang="en-IN" sz="2400" spc="-1" strike="noStrike">
                <a:solidFill>
                  <a:srgbClr val="292934"/>
                </a:solidFill>
                <a:latin typeface="Times New Roman"/>
              </a:rPr>
              <a:t>x − y = 2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2400" spc="-1" strike="noStrike">
                <a:solidFill>
                  <a:srgbClr val="292934"/>
                </a:solidFill>
                <a:latin typeface="Times New Roman"/>
              </a:rPr>
              <a:t>x + 2y = 6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92934"/>
                </a:solidFill>
                <a:latin typeface="Times New Roman"/>
              </a:rPr>
              <a:t>which is a system of two equations in the common variables </a:t>
            </a:r>
            <a:r>
              <a:rPr b="0" i="1" lang="en-IN" sz="2400" spc="-1" strike="noStrike">
                <a:solidFill>
                  <a:srgbClr val="292934"/>
                </a:solidFill>
                <a:latin typeface="Times New Roman"/>
              </a:rPr>
              <a:t>x and y. 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2400" spc="-1" strike="noStrike">
                <a:solidFill>
                  <a:srgbClr val="292934"/>
                </a:solidFill>
                <a:latin typeface="Times New Roman"/>
              </a:rPr>
              <a:t>A solution to </a:t>
            </a:r>
            <a:r>
              <a:rPr b="0" lang="en-IN" sz="2400" spc="-1" strike="noStrike">
                <a:solidFill>
                  <a:srgbClr val="292934"/>
                </a:solidFill>
                <a:latin typeface="Times New Roman"/>
              </a:rPr>
              <a:t>this system consists of values for </a:t>
            </a:r>
            <a:r>
              <a:rPr b="0" i="1" lang="en-IN" sz="2400" spc="-1" strike="noStrike">
                <a:solidFill>
                  <a:srgbClr val="292934"/>
                </a:solidFill>
                <a:latin typeface="Times New Roman"/>
              </a:rPr>
              <a:t>x and y that simultaneously satisfy each equation.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929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3"/>
          <p:cNvSpPr/>
          <p:nvPr/>
        </p:nvSpPr>
        <p:spPr>
          <a:xfrm>
            <a:off x="304920" y="762120"/>
            <a:ext cx="8610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92934"/>
                </a:solidFill>
                <a:latin typeface="Times New Roman"/>
              </a:rPr>
              <a:t>In this example we proceed by solving the first equation for </a:t>
            </a:r>
            <a:r>
              <a:rPr b="0" i="1" lang="en-IN" sz="2400" spc="-1" strike="noStrike">
                <a:solidFill>
                  <a:srgbClr val="292934"/>
                </a:solidFill>
                <a:latin typeface="Times New Roman"/>
              </a:rPr>
              <a:t>y, so that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2400" spc="-1" strike="noStrike">
                <a:solidFill>
                  <a:srgbClr val="292934"/>
                </a:solidFill>
                <a:latin typeface="Times New Roman"/>
              </a:rPr>
              <a:t>y = 2x − 2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92934"/>
                </a:solidFill>
                <a:latin typeface="Times New Roman"/>
              </a:rPr>
              <a:t>To find the solution, substitute </a:t>
            </a:r>
            <a:r>
              <a:rPr b="0" i="1" lang="en-IN" sz="2400" spc="-1" strike="noStrike">
                <a:solidFill>
                  <a:srgbClr val="292934"/>
                </a:solidFill>
                <a:latin typeface="Times New Roman"/>
              </a:rPr>
              <a:t>y = 2x − 2 into the second equation to obtain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2400" spc="-1" strike="noStrike">
                <a:solidFill>
                  <a:srgbClr val="292934"/>
                </a:solidFill>
                <a:latin typeface="Times New Roman"/>
              </a:rPr>
              <a:t>x + 2(2x − 2) = 6 and solving for x gives x = 2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92934"/>
                </a:solidFill>
                <a:latin typeface="Times New Roman"/>
              </a:rPr>
              <a:t>Substituting </a:t>
            </a:r>
            <a:r>
              <a:rPr b="0" i="1" lang="en-IN" sz="2400" spc="-1" strike="noStrike">
                <a:solidFill>
                  <a:srgbClr val="292934"/>
                </a:solidFill>
                <a:latin typeface="Times New Roman"/>
              </a:rPr>
              <a:t>x = 2 back into the first equation yields 2(2) − y = 2, so that y = 2.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2929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230" name="Rectangle 4"/>
          <p:cNvSpPr/>
          <p:nvPr/>
        </p:nvSpPr>
        <p:spPr>
          <a:xfrm>
            <a:off x="380880" y="3886200"/>
            <a:ext cx="8305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92934"/>
                </a:solidFill>
                <a:latin typeface="Times New Roman"/>
              </a:rPr>
              <a:t>Therefore the unique solution to the system is </a:t>
            </a:r>
            <a:r>
              <a:rPr b="0" i="1" lang="en-IN" sz="2400" spc="-1" strike="noStrike">
                <a:solidFill>
                  <a:srgbClr val="292934"/>
                </a:solidFill>
                <a:latin typeface="Times New Roman"/>
              </a:rPr>
              <a:t>x = 2, y = 2. Since both of these </a:t>
            </a:r>
            <a:r>
              <a:rPr b="0" lang="en-IN" sz="2400" spc="-1" strike="noStrike">
                <a:solidFill>
                  <a:srgbClr val="292934"/>
                </a:solidFill>
                <a:latin typeface="Times New Roman"/>
              </a:rPr>
              <a:t>equations represent straight lines, a solution exists provided that the lines intersect.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92934"/>
                </a:solidFill>
                <a:latin typeface="Times New Roman"/>
              </a:rPr>
              <a:t> </a:t>
            </a:r>
            <a:r>
              <a:rPr b="0" i="1" lang="en-IN" sz="2400" spc="-1" strike="noStrike">
                <a:solidFill>
                  <a:srgbClr val="292934"/>
                </a:solidFill>
                <a:latin typeface="Times New Roman"/>
              </a:rPr>
              <a:t>A system of </a:t>
            </a:r>
            <a:r>
              <a:rPr b="0" lang="en-IN" sz="2400" spc="-1" strike="noStrike">
                <a:solidFill>
                  <a:srgbClr val="292934"/>
                </a:solidFill>
                <a:latin typeface="Times New Roman"/>
              </a:rPr>
              <a:t>equations is </a:t>
            </a:r>
            <a:r>
              <a:rPr b="1" lang="en-IN" sz="2400" spc="-1" strike="noStrike">
                <a:solidFill>
                  <a:srgbClr val="292934"/>
                </a:solidFill>
                <a:latin typeface="Times New Roman"/>
              </a:rPr>
              <a:t>consistent if there is at least one solution to the system. If there are no </a:t>
            </a:r>
            <a:r>
              <a:rPr b="0" lang="en-IN" sz="2400" spc="-1" strike="noStrike">
                <a:solidFill>
                  <a:srgbClr val="292934"/>
                </a:solidFill>
                <a:latin typeface="Times New Roman"/>
              </a:rPr>
              <a:t>solutions, the system is </a:t>
            </a:r>
            <a:r>
              <a:rPr b="1" lang="en-IN" sz="2400" spc="-1" strike="noStrike">
                <a:solidFill>
                  <a:srgbClr val="292934"/>
                </a:solidFill>
                <a:latin typeface="Times New Roman"/>
              </a:rPr>
              <a:t>inconsistent. 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3"/>
          <p:cNvSpPr/>
          <p:nvPr/>
        </p:nvSpPr>
        <p:spPr>
          <a:xfrm>
            <a:off x="228600" y="990720"/>
            <a:ext cx="8610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92934"/>
                </a:solidFill>
                <a:latin typeface="Times New Roman"/>
              </a:rPr>
              <a:t>  </a:t>
            </a:r>
            <a:r>
              <a:rPr b="1" lang="en-IN" sz="2400" spc="-1" strike="noStrike">
                <a:solidFill>
                  <a:srgbClr val="292934"/>
                </a:solidFill>
                <a:latin typeface="Times New Roman"/>
              </a:rPr>
              <a:t> </a:t>
            </a:r>
            <a:r>
              <a:rPr b="1" lang="en-IN" sz="2400" spc="-1" strike="noStrike">
                <a:solidFill>
                  <a:srgbClr val="292934"/>
                </a:solidFill>
                <a:latin typeface="Times New Roman"/>
              </a:rPr>
              <a:t>In the case of systems of two linear equations </a:t>
            </a:r>
            <a:r>
              <a:rPr b="0" lang="en-IN" sz="2400" spc="-1" strike="noStrike">
                <a:solidFill>
                  <a:srgbClr val="292934"/>
                </a:solidFill>
                <a:latin typeface="Times New Roman"/>
              </a:rPr>
              <a:t>with two variables, there are three possibilities: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292934"/>
                </a:solidFill>
                <a:latin typeface="Times New Roman"/>
              </a:rPr>
              <a:t>1. The two lines have different slopes and hence intersect at a unique point, as shown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92934"/>
                </a:solidFill>
                <a:latin typeface="Times New Roman"/>
              </a:rPr>
              <a:t>in Fig. 1(a).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292934"/>
                </a:solidFill>
                <a:latin typeface="Times New Roman"/>
              </a:rPr>
              <a:t>2. The two lines are identical (one equation is a nonzero multiple of the other), so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92934"/>
                </a:solidFill>
                <a:latin typeface="Times New Roman"/>
              </a:rPr>
              <a:t>there are infinitely many solutions, as shown in Fig. 1(b).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292934"/>
                </a:solidFill>
                <a:latin typeface="Times New Roman"/>
              </a:rPr>
              <a:t>3. The two lines are parallel (have the same slope) and do not intersect, so the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292934"/>
                </a:solidFill>
                <a:latin typeface="Times New Roman"/>
              </a:rPr>
              <a:t>system is inconsistent, as shown in Fig. 1(c).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Graphs of Linear Equation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8001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Linear Equation in “n” variable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8229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System of Linear Equation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246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8305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80769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3T17:09:25Z</dcterms:created>
  <dc:creator>Bokkasam Sasi Bokkasam</dc:creator>
  <dc:description/>
  <dc:language>en-US</dc:language>
  <cp:lastModifiedBy>Nadia MS</cp:lastModifiedBy>
  <cp:lastPrinted>2015-11-09T09:01:35Z</cp:lastPrinted>
  <dcterms:modified xsi:type="dcterms:W3CDTF">2017-02-08T20:21:44Z</dcterms:modified>
  <cp:revision>265</cp:revision>
  <dc:subject/>
  <dc:title>PowerPoint Presentation</dc:title>
</cp:coreProperties>
</file>