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0494-36EE-420F-A669-04BA96BB7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17B1-BBE9-4EF6-A119-0C9C5FEA8340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3B5-0A9B-4A16-9419-22D36419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7F7-078C-4DA2-A278-C18AD3E4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C33-9F30-4F9A-9088-80BACEA5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85F-5345-45C3-A136-399BD23C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6291-7E1C-4531-9A32-790FCDA4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D66B-B41F-4913-ADC5-3A566162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B3B2-CEFC-4ACE-8AA1-E7409101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B307-0D41-4F25-8EB2-F80A362A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0368-12FC-428A-B7F0-AC5341E2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D8FE-04E9-4F8A-8E2A-982E31E9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E64F-D422-4DD1-81E4-D6C2834D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679-8F0F-435F-B0AA-F4431426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374A-C9D3-41D7-AF0C-D60EA137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9EF0-BCF7-4069-A95D-DEDAB61A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D99E-7141-495E-9F45-26D73608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E29D-1DE6-4BF2-9BF6-5C902CB7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550A-8E80-45B7-9F3C-831EDB87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69C13-6AE2-481F-923F-46A2D0E2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E602E-FBAC-4ACA-A193-DC2E23F0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79F7B-788C-4AFF-B844-AFEF1581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9BDF7-A08F-4B42-89C6-5C8A5098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D0A5-7CD6-4F0F-9431-EA3C1065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32A-7E65-4681-B9E2-88198E8C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6701C-094F-41C6-85E2-1F60FD8B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83E1-9724-44AC-BA06-A0FC347F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FCCEB-F033-4B1B-9BD2-48796CE5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40BC-7799-46BA-9FFF-48625927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B937-A69D-4398-BF11-5113C3B2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446C-1D69-4B76-8E2D-F635635C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BDC06-B864-4A03-8DA3-82F71345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5079E-D7F8-4D32-B8C5-E6DB75BE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4D6DB-9832-462C-976B-091A7840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67003-C40C-4E9C-BDCF-F65BEA50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0CD-006A-4E2D-8C21-C4CBC413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CD741-9BEB-495B-BC94-5EE4CB44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417EB-D9DE-43DD-AE20-4485BED9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0925F-C1D8-4267-9272-713621D3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E77BB-6873-4BE0-B639-F359CF5B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266BD-232F-489B-B6E4-E488C49F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5EBF0-927B-48C7-A81D-329AEB14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7B3B8-33AD-4856-9AF5-E084CFD9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B3B67-D84A-4BE8-900D-2365A4B0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88617-4FD2-43F8-8269-08A53C17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8C00B-EABE-476F-ACE2-E03F0E62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FCC-82ED-4413-BDAB-B1153AD7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E3458-AFDA-40E3-B12A-C4D47465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ED9D4-B70D-4D1B-80C4-A4EBA9B7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C48CD-ED0F-4882-84C8-3E74112C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8F23E-DA51-48EF-8BA9-E7C95690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2DB5C-6B8B-4CFF-83E4-04ABC7DF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3B0A5-4855-411A-AB63-A3ED273E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3D53E-38DE-4CB8-88E7-FDC4B3B1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DBB4C-B236-491B-83C5-C8B90E7A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3F31D-54CC-455D-8E94-6F5A3C72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199D1-196C-4CB8-ABAF-775C6C6B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CB2-2CDE-4208-AB4C-9A621A48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36B51-2C97-429B-B5F6-BB3F4FAD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FFF-FA70-49B2-BAFA-79F61597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4F1-684B-4B66-A535-24EA77ED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973-3F70-4FBB-A184-137A5BCD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D33A-4981-43D0-9EB2-65AC638D644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21F8-6D17-4013-95A7-BC814DB6A5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42DF-BE63-4209-A7FA-43573753BF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DD51-2DC4-4D9B-9119-126C313721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42A5-116E-4B92-983B-1130280143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52560" y="2286000"/>
            <a:ext cx="723888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57576e"/>
                </a:solidFill>
                <a:latin typeface="Arial"/>
              </a:rPr>
              <a:t>Systems of Linear Equations 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53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3055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2296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382240" cy="259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845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d2533c"/>
                </a:solidFill>
                <a:latin typeface="Arial"/>
              </a:rPr>
              <a:t>Systems of Linear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04920" y="152388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As the introductory example, consider the set of equations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2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− y = 2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+ 2y = 6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which is a system of two equations in the common variables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and y.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A solution to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this system consists of values for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and y that simultaneously satisfy each equation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304920" y="7621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In this example we proceed by solving the first equation for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y, so that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y = 2x − 2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To find the solution, substitute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y = 2x − 2 into the second equation to obtain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+ 2(2x − 2) = 6 and solving for x gives x = 2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Substituting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= 2 back into the first equation yields 2(2) − y = 2, so that y = 2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80880" y="38862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Therefore the unique solution to the system is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= 2, y = 2. Since both of these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equations represent straight lines, a solution exists provided that the lines intersect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A system of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equations is </a:t>
            </a: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consistent if there is at least one solution to the system. If there are no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solutions, the system is </a:t>
            </a: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inconsistent.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228600" y="99072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  </a:t>
            </a: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In the case of systems of two linear equations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with two variables, there are three possibilities: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1. The two lines have different slopes and hence intersect at a unique point, as shown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in Fig. 1(a)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2. The two lines are identical (one equation is a nonzero multiple of the other), so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there are infinitely many solutions, as shown in Fig. 1(b)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3. The two lines are parallel (have the same slope) and do not intersect, so the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system is inconsistent, as shown in Fig. 1(c)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Graphs of Linear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001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inear Equation in “n” variabl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ystem of Linear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24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8076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Nadia MS</cp:lastModifiedBy>
  <cp:lastPrinted>2015-11-09T09:01:35Z</cp:lastPrinted>
  <dcterms:modified xsi:type="dcterms:W3CDTF">2017-02-08T20:21:44Z</dcterms:modified>
  <cp:revision>265</cp:revision>
  <dc:subject/>
  <dc:title>PowerPoint Presentation</dc:title>
</cp:coreProperties>
</file>