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92E-0D37-4964-A980-76EF31FA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13DF-85CB-4184-9860-B25B3513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D59-57E8-4BF7-8666-78E76E59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ABA-063A-40AA-B2DC-B17FA761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A85A-FBD4-4346-9076-A9DE0FB8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0AF-1544-4D76-9A9F-7655846C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37E-5A03-409F-B0CF-D3F00ABB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AB3F-71E4-40F4-BAAB-5F842A5E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12E-0F46-46DA-8DDB-05000784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EC1-85ED-4B6F-BEBC-3D2D17FC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EFB-8D21-466D-B897-10515D6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C0E-501B-4867-B391-612C5627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0FA5-C4B4-4E0D-9584-4E26A3D88D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cm.org/" TargetMode="External"/><Relationship Id="rId2" Type="http://schemas.openxmlformats.org/officeDocument/2006/relationships/hyperlink" Target="http://www.computer.org/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EN444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omputer Network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. Majed Alresa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Business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puter network can provide a powerfu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mediu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ong employ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ai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mail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P telephony. Voice over I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ktop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-commer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me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‘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is no reason for any individual to have a computer in his home.’’, Ken Olsen, 1977, president of the Digital Equipment Corp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was number two after IB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no longer exi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use at h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 processing and g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 acce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tainment: music, photos, and vide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me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et provid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nectiv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mote compu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calfe’s la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the value of a network is proportional to the square of the number of users because this is roughly the number of different connections that may be ma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ing the World Wide Web for information or just for f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includes arts, business, cooking, government, health, history, hobbies, recreation, science, sports, travel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spapers can be personalized, e.g. you want everything about corrupt politicians, big fires, and epidemics, but no footb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me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digital library: ACM (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acm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and the IEEE Computer Society (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computer.or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is mostly accessed using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ent-serv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od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er-to-pe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: everyone can communicate with one or more other; there is no fixed division into clients and serv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3933720" y="4141800"/>
            <a:ext cx="39402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peer-to-peer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central database of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user maintains his own database lo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other nearby people who are members of the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BitTorrent, 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 music and vide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ster was shut down after biggest copyright infringement case, 2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ail is peer-to-pe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peer-to-peer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teenagers are addicted 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tant messa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itter, Internet radio, YouTube, Facebook, wiki, Wikiped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ki is a collaborative Web site that the members of a community ed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commer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flea markets (e-flea?): online auctions of second-hand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auctions are peer-to-peer as consumers can act as both buyers and sell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Forms of e-commerc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4" name="Content Placeholder 3" descr=""/>
          <p:cNvPicPr/>
          <p:nvPr/>
        </p:nvPicPr>
        <p:blipFill>
          <a:blip r:embed="rId1"/>
          <a:stretch/>
        </p:blipFill>
        <p:spPr>
          <a:xfrm>
            <a:off x="838080" y="2552760"/>
            <a:ext cx="105156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Home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PTV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P TeleVis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line game play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biquitous computing: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mart hom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wer-line network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wer may record water us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FID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adio Frequency IDentific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: passive no battery chips, size of stamps can be affixed to books, passports, pets, credit cards, etc…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lets RFID readers locate and communicate with the items over a distance of up to several 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iginally, RFID was commercialized to replace barcod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arcodes are free and RFID tags cost a few ce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Mobile Use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computers: fastest-growing segments of the computer indust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and send email, tweet, watch movies, play games, or surf the Web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home, office, anywhere on land, sea or in the a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v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he Internet enables many of these mobile uses using wireless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networks, Wireless hotsp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Mobile Use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less networks are of great value to fleets of trucks, taxis, delivery vehicle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less networks are also important to the militar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less vs. Mobi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017800" y="3621240"/>
            <a:ext cx="770724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th century:  great mechanical systems, Industrial Revol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19th century: steam eng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20th century: information gathering, processing, and distrib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ldwide telephone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o and tel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irth and unprecedented growth of the computer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unching of communication satelli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Mobile Use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e phones: Text messaging (or texting), 3G and 4G cellular networks, GPS (Global Positioning System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-commerce (mobile-commerce): authorize payments for food in vending machines, movie tickets, and other small items instead of cash and credit c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F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ar Field Communi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 can act as an RFID smartcard and interact with a nearby reader for pay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ensor network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des that gather information they s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part of cars or phones, etc.. Or may be small separate devi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car gather data: location, speed, vibration, and fuel efficiency and upload this information to a datab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ose data can help find potholes, plan trips around congested roads, and tell you if you are a ‘‘gas guzzler’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racking the migration of individual zebras by placing a small sensor on each anim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ensor network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reless parking meters can accept credit or debit card payments with instant verification over the wireless lin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when in use over the wireless net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ivers can find an available spot more easi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meter expires, it check for a car (by bouncing a signal off i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ort the expiration to parking enforce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imate: city governments in the U.S. could collect an additional $10 billion this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Wearable computer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rt watches with radios now you can buy the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emakers and insulin pump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controlled over a wireless networ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lets doctors test and reconfigure them more easi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ngero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could lead to some nasty problems if the devices are insecure can be ha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ocial Iss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networks, like the printing press 500 years a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 ordinary citizens to distribute and view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networks, message boards, content sharing sites, etc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, religion, or sensitive topics may be deeply offensive to some peo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resolution color photographs and video cli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ast, people have sued network opera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ocial Iss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nooping on the traff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e rights versus employer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versus citizen’s righ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’s priva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okie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leak credit card numbers, social security number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gle show advertisements based on your emails throug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ma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advice you get from the Internet. From wh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onic junk mail (spa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Social Issu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ruses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tnet, phishing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ws in different count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uter network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autonomous computers interconnected by a single technolo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nections: copper wire, fiber optics, microwaves, infrared, satellites, etc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s come in many sizes, shapes and fo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s are usually connected together to make larger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well-known example of a network of networ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puter Networks vs. distributed system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tributed syste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 of independent computers appears to its users as a single coherent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well-known example of a distributed system is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ld Wide Web (WWW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WW runs on top of the Internet and presents a model in which everything looks like a document (Web pag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stributed system is a software system built on top of a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oftware gives distributed systems high degree of cohesiveness and transpar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omputer Networks vs. distributed system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stinction between a network and a distributed system lies with the software (especially the operating system), rather than with the hard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theless, there is considerable overlap between the two su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Business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sharing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, share a common pr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important sharing inform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P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rtual Private Networ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: may be used to join the individual networks at different sites into one extended net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user happens to be 15,000 km away from his data should not prevent him from using the data as though they were loc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attempt to end the ‘‘tyranny of geography.’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Business Appl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 company has databases. Employees need to access them remo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are stored on powerful computers call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used and maintained by a system administrat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mployees have simpler machines, call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e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n their desks, with which they access remote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lient and server machines are connected by a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ent-server mod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Content Placeholder 3" descr=""/>
          <p:cNvPicPr/>
          <p:nvPr/>
        </p:nvPicPr>
        <p:blipFill>
          <a:blip r:embed="rId1"/>
          <a:stretch/>
        </p:blipFill>
        <p:spPr>
          <a:xfrm>
            <a:off x="2424240" y="1825560"/>
            <a:ext cx="73436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client-server mod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popular example of client-server model is that of 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b ap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 most conditions, one server can handle a large number (hundreds or thousands) of clients simultaneous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979640" y="3693960"/>
            <a:ext cx="75405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06:10:00Z</dcterms:created>
  <dc:creator>Dr. Majed Abdullah Alresaini</dc:creator>
  <dc:description/>
  <dc:language>en-US</dc:language>
  <cp:lastModifiedBy>Majed</cp:lastModifiedBy>
  <dcterms:modified xsi:type="dcterms:W3CDTF">2014-02-08T21:02:36Z</dcterms:modified>
  <cp:revision>66</cp:revision>
  <dc:subject/>
  <dc:title>PowerPoint Presentation</dc:title>
</cp:coreProperties>
</file>