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AFB3-A359-4709-8291-34D5EA80D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23C-0CC3-47D7-AD1C-27E43F213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1D88-7321-4B1F-99A9-A08F0888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ECC-153D-4823-9A56-30AB105F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093-0A9A-40FE-ACCA-65747FEA3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8FF7-8FC1-44D0-AE1C-A89E96607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E10-3D5A-4FCB-AD52-C5C41D13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703-F4F8-4DE8-9E6F-69BCA5B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65F8-F2D9-4191-B032-4A5CB74F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FD692-0C79-4829-B6B8-B29F8E0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6DE19-8756-4435-8A31-E524D03D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37588-94D9-40B2-93F6-12CB45AF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9CC4F-9CD7-4834-A4F3-9293C3A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2F8B-8DAF-4345-A346-F82BFCA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6D679-BF82-4C5B-89CD-3943580D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DD900-C387-4C94-A4A5-7E967B27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405C5-133F-4FEE-82C7-07EB7A8E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A7444-EE4F-423A-9591-C27F36D9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9FD-E5F0-47D8-87B3-1E44A02C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C63AB-C4AB-4A82-B30F-BED3CBB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789B7-3FC1-47F1-9319-A121224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5EB9-4D9C-4D93-BBF1-4A0FD81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B0CDF-D2D5-4768-AC36-603F9E0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0E386-F21E-4C8F-8E79-2C1CD3C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99194-9056-4E75-8BF0-157A898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1066F-534A-496B-9DC2-5AB0A444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95782-7774-4E9D-ACD3-2D6D0D4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5E40C-6010-4F86-BBA0-CE2C398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6898A-5639-41DD-AABD-00A27987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AA2-BCA9-48F0-ABC3-18E77607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BFF3C-92C8-47E2-A9A0-A8BCE70A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0BD10-5020-4900-8252-CC158B4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CF34-FB84-4837-A99C-95FACC17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6EE0F-32CD-4EB2-8241-9BDDE301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AA9A-C94D-4F20-9CB4-31D1DC5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D870C-B6EE-4B6B-A402-B8E8591C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642FD-AF65-4756-A83C-49DE63F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7693-A4B4-463D-BD6A-2F6DBB8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686B0-0C2E-4E4E-AEBA-2E238F0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6BC51-2F6B-483C-B520-35932E3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F345-259E-49A8-9885-0F43D320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B03C1-18A5-4A46-BE97-733BB860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9956-E18D-4E0C-900C-D4B3EDF0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F65A2-5BA7-4C07-832A-A8A9E667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F678E-8751-4729-AA40-10143A70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26AC3-8D81-4372-9EAA-A5B264A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A9AF0-BB93-45E2-AFD9-0848AA2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21735-A1CD-4F4E-B59F-02F42AF7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E8EB-1A72-45D2-A5A3-46EAC9C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28B73-BA79-4C7F-B60D-4BE797F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676B3-6DC4-49C7-BBE0-4F20F02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FB9B-D209-4534-AB2F-73520BA5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28555-7974-4AF1-B3AC-8C79CDF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CBEAF-303C-4CDC-B310-D46CEFB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E2427-D36D-43F1-8055-A7479836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3431-8822-4407-9652-F8F967D0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96AE6-379D-42DC-9595-A3561685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E50BA-EC7C-44D1-A703-8D272F2F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B7A5B-1D61-4406-BD73-FBDF4AC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11F07-DDA2-4666-B5E8-C969143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968D7-7424-4F06-AE7F-6EF43DF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8D4C5-2776-4083-BEEA-06199C0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7EF6-EA00-4F14-AB5A-13C8363D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51079-228E-4D74-BB00-762F84CB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58649-2E00-47BE-9714-E05EA6F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E2E2E-EB2A-4F13-A11D-3CA8C4B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68A74-5EB9-4133-B07A-E388725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1D663-9DEA-41D0-AF50-D9A40F6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C99ED-7CC0-494B-A5E7-DDA598BD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D9061-CBD9-4BD5-873B-58142420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B9E75-8FFA-4F8B-90DA-A40715BB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999F5-2F4F-4B31-96B2-2D219A91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44E1F-1953-4D8F-897B-9F1269F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5CA-304E-4A18-A59B-2D6C2AB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A74CC-9F1D-4B14-AFD5-E582272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0579C-9805-4F8E-B839-425C4AD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EB413-D671-42A5-9EF8-123D412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8E5C1-2CB9-4214-97B7-327627D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BE831-0093-43D7-9EF6-6038899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E4C00-4711-4EE4-90A9-985632C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02843-EB37-49EE-BEF0-3116BFE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70C62-9F2B-437B-ADCF-B224D7B6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514B9-3680-41BA-A384-0F47609C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EE10A-CDF7-4815-94D0-10886AE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E2AF-226F-4E16-9FCF-91D6D27C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49F0B-8310-43A8-AF5B-294719A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2B26B-753B-46ED-98A8-D262801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CC517-1FA8-4C58-876C-0630B559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4E91E-3554-40EB-82CF-808FEE6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2C485-BF18-4E4F-87D9-D194432C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B4C83-B791-4523-B4DF-B1782DB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15477-1E5B-4820-B213-E4A606B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B2514-5899-4B28-B64C-4DEFD919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F691E-8447-4916-A295-31B2EBE9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91E12-4E3C-4174-ABB6-664F9F8B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9F3D-B9DA-4D13-895B-9D67C5B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66018-A84D-4B50-B052-EED80C8D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79278-B716-44A6-9000-D627EF3E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6A38C-89BE-4C88-AC55-1626106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8EBB9-013E-40AE-8F91-BD0FEF7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96625-8D1E-4A45-B429-7A8AC152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49CBD-8F6D-4F9D-9FE6-EFAFC77E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8D5A2-54ED-44AA-8B12-10B78CD3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E7906-0C4E-42FB-ACAE-171E2D2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AB24B-B1A0-40B7-92BB-DE7B2B2C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5731E-C139-4340-A1D4-31A8B87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AAEA-476B-4C0B-BBDA-188CAC5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05BCA-E9A9-4A32-AE21-FF7750C3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53CB0-AA4A-4A73-9477-AFAEAF92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E3F83-6AE1-450C-AE19-972C348C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017-F505-4F8C-A52A-B033B48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0D1-2945-4DC1-AB6E-D5D9187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95B-94A8-45B1-81A8-AF464A7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4B0B-297F-4ABE-92A9-1A55ED17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383F-083B-4F1B-9080-45AF95FA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7828-BC35-4B4E-BD91-98779EE1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C618-0033-4FC1-B63F-F76B643B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C057-6BE2-4266-AF1F-01B6D40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9248-2620-42C7-9DB9-1C21C2E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3D99-31E2-46E3-ABAF-03E2F7C4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987F-5E56-4B88-A4A9-41EE38DF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F17-4880-4D40-A548-85A34C3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0643-88FB-49EB-9F75-002580B0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CFD1-80D2-4DD3-B936-865C69D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CF3A-CE8A-4F4C-B054-503868B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1CF7-853E-4B22-A9AC-35854B6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D0BC-97BE-4B6F-9D88-8EFCA074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134E-9F39-4A83-BB72-14BAF846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8D35-4B14-4B01-ABC5-6B6D5C0A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D947-8080-4D73-8229-FCCF3190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E532-E261-4997-9341-339F0AD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3D5B-3E3E-4C75-AD97-8C0EB4F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8B7-550D-48D0-8C60-BF4DF5A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548C-CBDC-4900-ABD5-9FABF24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53E7-A9C1-4A10-A9D4-16B37E83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24EF-4C85-411C-9DC5-7074B670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5554-B919-46B7-ABD4-361603B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7888-AB01-43D2-BFC2-20C8AD3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D8F0-5DB2-4B81-A885-10F15E7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A56C-5202-4267-A4B7-D11480A4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8D78-5C8A-4DBF-8DF9-269938B7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8E0D-5015-44EE-A25C-69A797ED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1A142-E4B3-4410-8215-D3C03C4E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503-5817-4FED-BC81-EA2AD71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C6B5-0911-482C-805C-757444B3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7088-181C-4D04-A256-0A63F34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0514-1D17-4AFD-8887-9101CDA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14EE-5D3B-458C-9AC9-AA29996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2FBC-0ABB-44DF-B1FE-5D2D54A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27A8-70F9-4DA6-800E-8F5C0DE6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8C74-6DC3-465D-873A-4983576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A6544-2822-40C4-892B-AA37FB5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3BBA-C13E-488D-83CC-FC2AC6CD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6DA5E-2A14-4C93-B806-FC4CE373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127-6393-4212-97FB-5D1E2B4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6C7E-B427-449B-A7E9-979D75E8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A78E-C3CB-4384-9214-024FE2A2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4BA8-B89D-4AF1-A2B0-575B1D94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4770-1D0D-4996-9E18-3C79056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3A69-2F81-46B6-83EC-18F1068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ABED-1980-4E29-9C52-337ADFB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E582-A4AA-4843-BA55-29367E14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D7ED-0B1D-4823-8F06-3C1A6F5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14731-2FFE-4AAF-BA40-9B511EEB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45E7-0B4F-476C-A7F2-033A003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08B-4149-4FF6-AB37-7F99B47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C91C1-FD60-431D-83DC-6B2C9E83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09E0-7283-4CC2-B89F-E0A985B9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11D0-095D-44F2-9999-647DCA09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23C6-186D-4990-8311-155FEC31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FE97-20DF-4B33-93E9-25990DD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C87D-FA0D-4093-9D4F-BB2F745C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AE883-1AF9-4142-994C-F48E050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8570-087D-425D-97AE-6576CD3E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A8766-41B5-4F32-A465-C639C18C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2C6F-8F53-41ED-A4B6-D880BDF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913-1FBC-48B1-8D8C-BA05D28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5BAB-A5E6-47AA-A58D-DB26AB0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1EF2-729E-4FB8-B493-1874DAB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F5CE-2B29-4E39-BD7A-1028B7A7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E62C3-9F35-416E-906A-F1CC5772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E9B1-CED9-43DB-8051-C0B9A75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0C57A-35F2-4F03-9780-F23D6DCF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3648-7614-4D09-ACF1-E38D9C9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21B88-C2DC-4ED6-98A9-151B9772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D17E4-CE28-49C5-A2D5-BF6EEC1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821E-FB72-4804-9A1B-22950898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08E-EEC4-4DE2-A750-EFB50E0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2FA11-AB7B-452A-8597-3A9CAC60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332D-72E0-47E7-BAAC-C394EDA9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E1507-34C1-4944-9308-E4EFB86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3245-D27C-4692-9D26-64E8994E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7FC8-8360-44E1-BC74-F1FAAD8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677B5-27D6-488E-B013-561AA118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56B4-46BD-41D3-9CA1-7D91F2C9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82AA-D0D5-45D0-B2AB-B480C0AC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9B952-1E1D-4DC0-BB75-E61710E5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C3F8-670C-4C88-9D2E-D0DECDB6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EDF-26BB-4457-9739-A0151E15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73E-A70C-4893-A55A-E19C75A19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3906-37C7-438B-A56C-32728122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B85-18A9-4707-A394-C59C0676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2AF-BD81-44F2-9FAF-30E59222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3FB-F2D6-4AC7-8AF5-AD2931AB2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CE3-4936-40D5-ABF9-C6B2DF669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EBF5-95E6-47FE-BB90-F814AF5FB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CDD9-304D-4EC7-877D-A30EC8C6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4427-8ACC-483B-A846-BB30D1B8B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7918-A1BC-478E-AF43-5809B8DC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86D-95E3-4EFB-B062-C77FE15F6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406-B85A-4C35-B256-1152DCC29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0E3A-EEF4-464A-9326-7BE1B2051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5F2A-89AF-4E5B-9036-FB579922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089-30C7-4D20-B1C9-22795483D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Content Placeholder 2"/>
          <p:cNvSpPr/>
          <p:nvPr/>
        </p:nvSpPr>
        <p:spPr>
          <a:xfrm>
            <a:off x="457200" y="28954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762120" y="7700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1.4 Units of Measur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380880" y="22654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Uni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the smallest componen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"/>
          <p:cNvSpPr/>
          <p:nvPr/>
        </p:nvSpPr>
        <p:spPr>
          <a:xfrm>
            <a:off x="380880" y="4444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Measuremen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used to measur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antity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something that has magnitude,  size, or amount (volume, leng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380880" y="312408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units used for scientific measurements are those of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etr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905120" y="106200"/>
            <a:ext cx="5784840" cy="37800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10"/>
          <p:cNvSpPr/>
          <p:nvPr/>
        </p:nvSpPr>
        <p:spPr>
          <a:xfrm>
            <a:off x="2743200" y="41148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Times New Roman"/>
              </a:rPr>
              <a:t>K= </a:t>
            </a:r>
            <a:r>
              <a:rPr b="0" lang="en-US" sz="3000" spc="-1" strike="noStrike">
                <a:solidFill>
                  <a:srgbClr val="40404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Times New Roman"/>
              </a:rPr>
              <a:t>C + 273.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1"/>
          <p:cNvGrpSpPr/>
          <p:nvPr/>
        </p:nvGrpSpPr>
        <p:grpSpPr>
          <a:xfrm>
            <a:off x="304920" y="4800600"/>
            <a:ext cx="3677400" cy="1676520"/>
            <a:chOff x="304920" y="4800600"/>
            <a:chExt cx="3677400" cy="1676520"/>
          </a:xfrm>
        </p:grpSpPr>
        <p:sp>
          <p:nvSpPr>
            <p:cNvPr id="709" name="TextBox 8"/>
            <p:cNvSpPr/>
            <p:nvPr/>
          </p:nvSpPr>
          <p:spPr>
            <a:xfrm>
              <a:off x="465840" y="5791320"/>
              <a:ext cx="351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or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C = (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F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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32)</a:t>
              </a:r>
              <a:r>
                <a:rPr b="0" lang="en-US" sz="3000" spc="-1" strike="noStrike">
                  <a:solidFill>
                    <a:srgbClr val="c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1.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1"/>
            <p:cNvSpPr/>
            <p:nvPr/>
          </p:nvSpPr>
          <p:spPr>
            <a:xfrm>
              <a:off x="304920" y="4800600"/>
              <a:ext cx="3657600" cy="16765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Picture 4" descr=""/>
            <p:cNvPicPr/>
            <p:nvPr/>
          </p:nvPicPr>
          <p:blipFill>
            <a:blip r:embed="rId2"/>
            <a:stretch/>
          </p:blipFill>
          <p:spPr>
            <a:xfrm>
              <a:off x="696960" y="4854240"/>
              <a:ext cx="303696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oup 12"/>
          <p:cNvGrpSpPr/>
          <p:nvPr/>
        </p:nvGrpSpPr>
        <p:grpSpPr>
          <a:xfrm>
            <a:off x="4114800" y="4867200"/>
            <a:ext cx="4648320" cy="1676520"/>
            <a:chOff x="4114800" y="4867200"/>
            <a:chExt cx="4648320" cy="1676520"/>
          </a:xfrm>
        </p:grpSpPr>
        <p:sp>
          <p:nvSpPr>
            <p:cNvPr id="713" name="TextBox 9"/>
            <p:cNvSpPr/>
            <p:nvPr/>
          </p:nvSpPr>
          <p:spPr>
            <a:xfrm>
              <a:off x="4724280" y="592308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or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F = (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C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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32)</a:t>
              </a:r>
              <a:r>
                <a:rPr b="1" lang="en-US" sz="30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1.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2"/>
            <p:cNvSpPr/>
            <p:nvPr/>
          </p:nvSpPr>
          <p:spPr>
            <a:xfrm>
              <a:off x="4724280" y="4867200"/>
              <a:ext cx="4038840" cy="16765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Box 14"/>
            <p:cNvSpPr/>
            <p:nvPr/>
          </p:nvSpPr>
          <p:spPr>
            <a:xfrm>
              <a:off x="4114800" y="533376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00000"/>
                  </a:solidFill>
                  <a:latin typeface="Arial"/>
                </a:rPr>
                <a:t>o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3"/>
            <a:stretch/>
          </p:blipFill>
          <p:spPr>
            <a:xfrm>
              <a:off x="4800600" y="4895640"/>
              <a:ext cx="307044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Derived units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33520" y="155376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Derived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units are combinations of base units. They are produced by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multiplying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ividing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standard units. The derived units we will study include: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295280" y="3828960"/>
          <a:ext cx="6934320" cy="2373480"/>
        </p:xfrm>
        <a:graphic>
          <a:graphicData uri="http://schemas.openxmlformats.org/drawingml/2006/table">
            <a:tbl>
              <a:tblPr/>
              <a:tblGrid>
                <a:gridCol w="1805040"/>
                <a:gridCol w="1373400"/>
                <a:gridCol w="2022480"/>
                <a:gridCol w="173340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Quantity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nit abbr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ic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s per cubic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29000" y="4568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Area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1" name="Content Placeholder 2" descr=""/>
          <p:cNvPicPr/>
          <p:nvPr/>
        </p:nvPicPr>
        <p:blipFill>
          <a:blip r:embed="rId1"/>
          <a:stretch/>
        </p:blipFill>
        <p:spPr>
          <a:xfrm>
            <a:off x="176040" y="1378080"/>
            <a:ext cx="8577360" cy="47052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2590920" y="4648320"/>
            <a:ext cx="281916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ost commonly used metric units for volume are the liter(L) and the milliliter (mL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liter is a cube 1 dm long on each sid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milliliter is a cube 1 cm long on each sid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5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553760"/>
            <a:ext cx="86868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nsity is the ratio of mass to volume, or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divided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It can be writte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09480" y="33062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nsity = mass/volume or     d = m/V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4920" y="4343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nsity does not depend on the size of the   sample. As the mass of an object increases, its   volume increas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8088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Length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   “How far?” question involves being able to measure the distance between two poi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533520" y="403848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Time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  To answer the question, “How long did it take?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8"/>
          <p:cNvGrpSpPr/>
          <p:nvPr/>
        </p:nvGrpSpPr>
        <p:grpSpPr>
          <a:xfrm>
            <a:off x="2819520" y="685800"/>
            <a:ext cx="2590560" cy="457200"/>
            <a:chOff x="2819520" y="685800"/>
            <a:chExt cx="2590560" cy="457200"/>
          </a:xfrm>
        </p:grpSpPr>
        <p:sp>
          <p:nvSpPr>
            <p:cNvPr id="675" name="Oval 7"/>
            <p:cNvSpPr/>
            <p:nvPr/>
          </p:nvSpPr>
          <p:spPr>
            <a:xfrm>
              <a:off x="2819520" y="685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8"/>
            <p:cNvSpPr/>
            <p:nvPr/>
          </p:nvSpPr>
          <p:spPr>
            <a:xfrm>
              <a:off x="4952880" y="685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TextBox 9"/>
          <p:cNvSpPr/>
          <p:nvPr/>
        </p:nvSpPr>
        <p:spPr>
          <a:xfrm>
            <a:off x="2819520" y="2895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2e32"/>
                </a:solidFill>
                <a:latin typeface="Arial"/>
              </a:rPr>
              <a:t>10   (meaning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533520" y="522756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When a number represents a measured quantity, the units of that quantity must always be specifie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"/>
          <p:cNvSpPr/>
          <p:nvPr/>
        </p:nvSpPr>
        <p:spPr>
          <a:xfrm>
            <a:off x="2819520" y="342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2e32"/>
                </a:solidFill>
                <a:latin typeface="Arial"/>
              </a:rPr>
              <a:t>10 cm or in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457200" y="3962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Aft>
                <a:spcPts val="22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set of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base units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omprises an irreducible set of units for measuring all physical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609480" y="38088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Scientists all over the world use     (since1960) a single measurement system called SI unit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Système International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2362320" y="2209680"/>
            <a:ext cx="365760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82e32"/>
                </a:solidFill>
                <a:latin typeface="Arial"/>
              </a:rPr>
              <a:t>The SI consist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ase un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Derived un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38088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rived units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an be expressed in terms of the base un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SI Base Uni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331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most common base units that we will study includ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533520" y="1523880"/>
            <a:ext cx="8226360" cy="35816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7"/>
          <p:cNvSpPr/>
          <p:nvPr/>
        </p:nvSpPr>
        <p:spPr>
          <a:xfrm>
            <a:off x="609480" y="2152800"/>
            <a:ext cx="6934320" cy="1371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8"/>
          <p:cNvGrpSpPr/>
          <p:nvPr/>
        </p:nvGrpSpPr>
        <p:grpSpPr>
          <a:xfrm>
            <a:off x="152280" y="457200"/>
            <a:ext cx="8747280" cy="4427640"/>
            <a:chOff x="152280" y="457200"/>
            <a:chExt cx="8747280" cy="4427640"/>
          </a:xfrm>
        </p:grpSpPr>
        <p:pic>
          <p:nvPicPr>
            <p:cNvPr id="689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457200"/>
              <a:ext cx="874728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5"/>
            <p:cNvSpPr/>
            <p:nvPr/>
          </p:nvSpPr>
          <p:spPr>
            <a:xfrm>
              <a:off x="152280" y="457200"/>
              <a:ext cx="14475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6"/>
            <p:cNvSpPr/>
            <p:nvPr/>
          </p:nvSpPr>
          <p:spPr>
            <a:xfrm>
              <a:off x="6391080" y="485640"/>
              <a:ext cx="24480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Box 5"/>
          <p:cNvSpPr/>
          <p:nvPr/>
        </p:nvSpPr>
        <p:spPr>
          <a:xfrm>
            <a:off x="609480" y="5181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gram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"/>
          <p:cNvSpPr/>
          <p:nvPr/>
        </p:nvSpPr>
        <p:spPr>
          <a:xfrm>
            <a:off x="609480" y="5715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Second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609480" y="6172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et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8"/>
          <p:cNvSpPr/>
          <p:nvPr/>
        </p:nvSpPr>
        <p:spPr>
          <a:xfrm>
            <a:off x="3200400" y="5181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anogram, 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9"/>
          <p:cNvSpPr/>
          <p:nvPr/>
        </p:nvSpPr>
        <p:spPr>
          <a:xfrm>
            <a:off x="3409920" y="5695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icrosecond, 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"/>
          <p:cNvSpPr/>
          <p:nvPr/>
        </p:nvSpPr>
        <p:spPr>
          <a:xfrm>
            <a:off x="3276720" y="6172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illimeter,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Length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4920" y="12193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SI standard unit for length is t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eter (m)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istance of 1m is about the width of an average doorway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o express longer distances, the kilometer (km) is used. One kilometer is equal to 1000 m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o express shorter distances, the centimeter (cm) is used. One centimeter is equal to 1/100 of a meter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Length can be measured using a meter stick or rulers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1676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Mass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is a measure of the quantity of matter. 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tandard unit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or mass is 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kilogram (kg)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is base unit i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unusable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because it uses a prefix, kilo- instead of the word gram alone. Other units for mass are obtained by adding prefixes to the world gram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gram (g), which is 1/1000 of a kg is used for measuring masses of small objects.  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71440" y="53316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me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tandar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unit of measurement for time is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(s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r amounts of time are measured in minutes and hour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are 60 seconds in one minute. There are 60 minutes in one hour. Given that there are 24 hours in one day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4560" y="1553760"/>
            <a:ext cx="838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emperature is a measure of the hotness or coldness of an object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tandard unit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of measurement for temperature is degree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Kelvin (K)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emperature can also be measured in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grees Celsius (</a:t>
            </a:r>
            <a:r>
              <a:rPr b="0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C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grees Fahrenheit (</a:t>
            </a:r>
            <a:r>
              <a:rPr b="0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F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 </cp:lastModifiedBy>
  <dcterms:modified xsi:type="dcterms:W3CDTF">2010-10-09T20:27:57Z</dcterms:modified>
  <cp:revision>160</cp:revision>
  <dc:subject/>
  <dc:title>Chapter 1 Introduction: Matter and Measurement</dc:title>
</cp:coreProperties>
</file>