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EE54-DD5A-4A39-93B2-AC40175EA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6890-39C0-4032-9A2C-B54A62BCA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3555-D0FD-4EB0-A615-DC53E1A0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5B09-F080-4D3D-AFF2-C976A0B3E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3358-D1C5-49AD-AFAF-A9552DDF9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2A66-9A03-4CB2-A2F1-718A270BB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647-9F4B-472B-ACB7-74A1D924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258-4DAC-424B-9318-BB430B0D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07871-A7C5-4B8F-A7C8-E5DAEFA6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F9E6F-20C0-4A2C-AC33-6C7194E2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5FF5B-AAAB-4F90-82DA-5A15C6D9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4C574-0E10-43F0-BCAC-0DDCA8BC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714AA-6BF5-4FDA-925B-1634E090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F424F-7FFF-434F-A812-E09AA9C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C30E1-610C-45DC-830B-07BDF0A4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9AB50-465B-4994-A5B7-F7A6282E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1179E-3932-4050-B1EB-E340DDC7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71522-4D3A-40C4-9C7B-810982BA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A4C-43DF-4557-9469-997D3C24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785BC-DAC0-4AA3-8782-CF82DB8D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76D23-4EBA-40A4-B9E1-BE806911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0CE34-0583-4B5D-8F98-C32E61E5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8C0B0-0035-4848-9321-399F7F4A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A0ADA-EDA2-44B4-8045-5D9DD2A6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FB7CD-D5B6-4304-A303-7B6000AD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9AFE4-79BA-47AB-945D-A6C8286C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C5A80-2072-4EE3-BE90-39080213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B67A9-19A2-4E29-93EA-579CA095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9C577-51B0-4154-9099-E23BE5A9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E89-10E8-478F-8DEA-B5B815FB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02B8C-A9BA-4C78-A2B3-6711539B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87A96-B94B-4FDD-AA23-49AE23BC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E8F0B-2E70-4900-9979-5E8C4002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194AE-0CC5-4F1C-BE0C-D7F7E818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FAAED-3764-4684-B24D-317B6797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8A747-66DF-45CD-8CB6-0D724096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52014-5FED-4B5E-857B-BD53730E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E20B2-AAFD-4E4C-9EE7-7FF3E97F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C95B5-2233-42A6-A166-D74B1D9D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4F8E3-62D0-4D50-B426-45F023BD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7D71-5097-4F13-BE05-7A5340C6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C1999-F5AD-4B69-BC3A-353B473F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E8A02-8C7D-40FA-9701-30A1EDBE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B27F5-C69B-4CD9-89F2-3FE59045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D1E89-71A1-416E-8E59-931EA298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88D85-4021-4960-8A4D-64138278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72895-07B0-439E-BCBB-9CDF79F6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E80C9-B6D4-4C75-BFFC-6BEA4EC4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EBB63-36CA-4C13-8B08-B6EA4A75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D611E-66C7-4397-B5C7-203CD83D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9BED3-3330-440C-B8AF-2628670E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4B48-AFE2-4DC0-9F17-43375694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5D304-E2F7-48C2-8CDA-4EED7D46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C8AE1-025D-426A-A75D-560E46C5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949E3-FCD2-410B-84C2-93CAB0F5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94648-A8AC-4858-A9B3-305FBBF2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73287-DDEA-40D8-93FE-0F5AE9DF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43971-6CF8-41CB-B077-D5E2B8CC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7929D-80AF-4161-95D3-FC7F04D6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5EA11-7857-4B22-8320-4D7AE30C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94D51-D6E7-4991-873B-A51BF75B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649DC-63C6-4FDE-9BB0-C660B218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48B6-D847-43B8-BA3B-87D08B4B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2E37D-02FA-4BD2-8523-D0953C1D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A2E6D-84B3-4E02-9384-1458022B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B9DFD-365C-491B-B6CC-68064868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3530C-BBF1-4B10-9B87-637AFCF3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4C274-D7CE-4DEC-A331-14E2C8D7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84A57-4244-4413-B67D-0FFFA836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60628-F5B2-4C1A-80A8-2A50E666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73489-1329-48A3-BE62-9D5DFFE9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B5BB7-A578-47D8-B4F1-D2771D5A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27659-8705-440C-A259-D6798087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5F9D-DDE6-4EF9-9E8E-7769AE05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A3364-BE1C-48FD-82B9-580A2E29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1579D7-D778-4913-9DB0-DE2FC991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D23B2-8A99-4579-BC06-1A40DDAE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34ECA-9AB7-4D94-A3BF-681CA30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69E1B-0142-45B9-80ED-E905C0F3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F0752-6ADD-454D-B66A-EAF9CFCD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504D2-C265-429B-BAAA-5FAFD4E1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15335-D22F-428B-A67F-FF6EC7E7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E44EB-BE35-48E9-8950-FEAC1D94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306B9-3B46-4780-BFAC-7C4E66F7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940E-0D97-48DB-A1C7-7096237D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E42AE-7BBA-473D-8488-6731380E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9B716-7FCB-4ABF-A4BB-F06372CC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7E731-C879-4686-BB40-AA319A3C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56A6A4-F3BC-4BBA-904F-D5EE6FED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5D9A6-5B95-43C7-A93B-C469779C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4EC42-0BC1-45FE-8EBE-BD61B6A4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99138-DFBF-459A-9DCD-5C1162E0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D8931-D864-4EDC-ABDD-17D0DB99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774CA-7392-41BC-868A-A2D1704C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5B57C-D077-492E-8AC5-EEEE8FC4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1022-6010-4294-872C-4B8C2E73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E6051-4B80-4F6C-AFA2-1EF0B5E8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8B4C8-3235-4DD5-89C5-10AA4366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02BCA-8BEA-4203-9907-6584A43D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D4A9BA-79D8-4710-A3C1-9B055D31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F2F6D-C9E1-4DF5-B449-54843DAE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BA068-2A95-49A3-BD83-D2DE224B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15F828-AAFF-4DED-B662-3E159518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7F79B-B959-4C99-90BD-81DFFFA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F0269-1D3A-4A0A-A39C-55E8AEA3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3A28F-0B3A-4734-B1EE-236E9220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9570-D26F-4BC5-B71A-A139DB0F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F77F3-B9E4-4F28-AB31-D5E0612E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F5151-6656-4A12-9843-373626FB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0FE98-E169-4652-BA9D-48067932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BA6-12C2-4EA0-ABA1-0FB5E6B0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2AAF-D2EE-44DB-A676-1D701CC6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4016-10F3-46E4-AA23-A13327A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00AF-422B-45BC-87FA-7DB12295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0B8B-8650-4769-8A92-9BEE720C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5ADD-4233-4D3A-AA4C-9AD7D786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081EA-3FB5-4F76-A1C5-9A930F77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B58F-3439-4AD6-9D39-DC5A3C16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66022-3F8E-48CD-9B0A-BCE85613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3C44-6803-4C43-8561-6C3E205E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BD9CA-A9C2-42C5-8998-5AB57C6B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EB7-51D9-418D-82C1-F31602D8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899D5-1AA9-4139-9281-0097214D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7234B-F3E5-4C0A-A8A0-04AD819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50361-1129-4CC1-93F0-673E806B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DE1F7-E711-4EE2-A091-72E6109A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4BCD-0A28-429D-A391-7D4B63F4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4113-BA0A-4807-BF77-15413C9D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DC7D3-CABB-4936-AB68-35B4895B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646B-5747-45DC-A7A9-155AD4F7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BD7D-E4B3-4175-B8F0-C9C9F829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8735-89FB-4B24-89FF-6C430F3D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CA1-1EFA-487E-9E70-4070BB73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528F8-1B9C-4D55-998F-F59CE815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39CA-BB28-4425-A99D-9C42FA00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07626-108A-4D07-93F2-D7AF99B9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FDFF-1E7C-4DEB-9440-04AA958F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FA3E-52C7-459C-972B-4C44C2FB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B7A18-E1DD-4D8E-85DD-733619F2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7F029-997E-4415-877D-6EC3E6D3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24F7D-E3A6-46BE-8AEF-29EE350E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0460F-FAE4-4DB3-9678-083B695D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F1283-8572-4034-ACDA-62E0A8E7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10E-17F1-44E8-BD5E-AAF6600B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803B0-57C9-43EE-B3C5-C1453FF1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30D0F-B991-4379-9F77-A36AB82A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722A6-F711-46FB-A009-DD10054B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F9C38-5A0D-4B93-9F92-0A021295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2AC95-DF41-42E1-A6FF-A68114E3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4BA12-E119-411E-B4C6-AECBC668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1EC9B-B938-484F-90A9-DCEDE080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85677-144A-4202-8CE5-A480DAA2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3D613-04F1-45F4-812F-38495D48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C51CF-2295-4B6C-B854-DE42DCAC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068-A64F-4960-A50B-CA78A34E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663E2-6842-44BA-9E76-5041A736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34213-4350-4E43-89EA-68F60A5D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40EF2-D768-4243-B6A4-B1BE9259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AC389-925C-4A98-99B4-B748CA3F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5381D-6312-485D-BAD6-250CF8EF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8B46-3B92-4AC3-BC37-8726188C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7D56C-E894-4731-9A4E-98D820FA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5C793-DE6E-473D-8EAB-25224C65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5D09-D13D-418D-819B-EE2BC607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D0C1A-2E5E-4AD0-8B21-CF207CCC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0A2-41D9-43B6-B330-C3B46231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FC3FC-EED2-47EA-AC78-1D714CFA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0F505-49D6-4C76-944C-8040B3B8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C4123-5F1C-452F-B87A-4002D8F6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ED84C-3B6E-43EC-ABA9-2F95DC50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DC222-556A-402D-BBED-6FB84A89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3134C-810D-42B7-AC19-243FA9BE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E4C9E-7177-45B1-885B-919CD7C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E2138-268A-4030-9AAF-2EC19AD7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D30DC-14C7-416F-B020-AC2F9736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6A376-186F-4F6A-91E6-E288B34A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365-0400-41D8-A0D2-9DF4C621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F8B81-3BCD-48C1-B5D6-D3B02E3A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85AB3-5A7E-48C5-8476-5CD440B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3AA1E-56DD-4562-854D-5007BF0A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66626-E83A-494C-96D9-EF8C6489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6B84F-87BD-4F41-BB96-2D667282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1B6EF-E223-4ADF-80DA-80B10365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5F5BE-40A0-4AA8-B7D2-D890E68A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B5338-2E06-46B6-BDF4-09C6C864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81615-30E1-4D8C-8A64-ADDACEC5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60203-A0DF-4B8C-BEF4-29F3663F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63E-18E5-4C56-AF57-EEF00E52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D491F-4625-41DB-942D-3ECAE1E1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387EF-A226-4FF3-AC42-75158117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F07D0-C5B0-40CB-BC3E-9CF7274E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0D33B-A635-4685-A86A-3FC55E09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3F0B0-0EE3-4974-BE76-D9C75B74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FDDF9-847D-4757-A311-C7E7CB94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CD509-70B2-4D73-B1F6-48327A42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AACE0-473F-4BE8-9DB5-603E6626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98AED-F2B7-4BE4-82B9-9C303502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0F7B3-4ED1-4E03-9BD3-0F53466E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FB87-2313-4EC2-8198-11A8D8EEE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8B7B-4F25-48C7-8294-8F9564C0E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8984-096B-46A6-BA0F-2504733E2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BE4B-D126-46CA-9E07-BE31FD266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DB6A-2D7D-493E-801C-491DBF5B1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8CF5-ED6F-4967-9284-2D2065538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02B9-CB01-4CD9-A84F-DB8B3879A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4A06-2C22-4D39-9B48-445A5CD4C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D798-E59A-4B3A-AA66-2B8D75F12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97F9-1447-485C-9F7C-8D371D87D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8637-09DC-4232-B350-51650B720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485E-78D2-4F20-B100-4325AE1F9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1937-3058-41CC-BFFB-8638ADECC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423A-B675-4EF1-86D8-2ACFBDB3D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463B-4BA4-42EF-A6F1-692E333C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C692-2D47-4ADA-ABE2-336DB13C7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Content Placeholder 2"/>
          <p:cNvSpPr/>
          <p:nvPr/>
        </p:nvSpPr>
        <p:spPr>
          <a:xfrm>
            <a:off x="457200" y="2895480"/>
            <a:ext cx="8458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0"/>
          <p:cNvSpPr/>
          <p:nvPr/>
        </p:nvSpPr>
        <p:spPr>
          <a:xfrm>
            <a:off x="762120" y="77004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1.4 Units of Measureme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380880" y="22654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Uni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the smallest component of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"/>
          <p:cNvSpPr/>
          <p:nvPr/>
        </p:nvSpPr>
        <p:spPr>
          <a:xfrm>
            <a:off x="380880" y="44449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Measuremen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used to measur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380880" y="5257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Quantity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is something that has magnitude,  size, or amount (volume, lengt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1"/>
          <p:cNvSpPr/>
          <p:nvPr/>
        </p:nvSpPr>
        <p:spPr>
          <a:xfrm>
            <a:off x="380880" y="312408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units used for scientific measurements are those of 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etr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1905120" y="106200"/>
            <a:ext cx="5784840" cy="3780000"/>
          </a:xfrm>
          <a:prstGeom prst="rect">
            <a:avLst/>
          </a:prstGeom>
          <a:ln w="0">
            <a:noFill/>
          </a:ln>
        </p:spPr>
      </p:pic>
      <p:sp>
        <p:nvSpPr>
          <p:cNvPr id="707" name="TextBox 10"/>
          <p:cNvSpPr/>
          <p:nvPr/>
        </p:nvSpPr>
        <p:spPr>
          <a:xfrm>
            <a:off x="2743200" y="411480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Times New Roman"/>
              </a:rPr>
              <a:t>K= </a:t>
            </a:r>
            <a:r>
              <a:rPr b="0" lang="en-US" sz="3000" spc="-1" strike="noStrike">
                <a:solidFill>
                  <a:srgbClr val="40404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Times New Roman"/>
              </a:rPr>
              <a:t>C + 273.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1"/>
          <p:cNvGrpSpPr/>
          <p:nvPr/>
        </p:nvGrpSpPr>
        <p:grpSpPr>
          <a:xfrm>
            <a:off x="304920" y="4800600"/>
            <a:ext cx="3677400" cy="1676520"/>
            <a:chOff x="304920" y="4800600"/>
            <a:chExt cx="3677400" cy="1676520"/>
          </a:xfrm>
        </p:grpSpPr>
        <p:sp>
          <p:nvSpPr>
            <p:cNvPr id="709" name="TextBox 8"/>
            <p:cNvSpPr/>
            <p:nvPr/>
          </p:nvSpPr>
          <p:spPr>
            <a:xfrm>
              <a:off x="465840" y="5791320"/>
              <a:ext cx="351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Arial"/>
                </a:rPr>
                <a:t>or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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C = (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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 F 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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 32)</a:t>
              </a:r>
              <a:r>
                <a:rPr b="0" lang="en-US" sz="3000" spc="-1" strike="noStrike">
                  <a:solidFill>
                    <a:srgbClr val="c00000"/>
                  </a:solidFill>
                  <a:latin typeface="Arial"/>
                </a:rPr>
                <a:t>/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1.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1"/>
            <p:cNvSpPr/>
            <p:nvPr/>
          </p:nvSpPr>
          <p:spPr>
            <a:xfrm>
              <a:off x="304920" y="4800600"/>
              <a:ext cx="3657600" cy="16765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Picture 4" descr=""/>
            <p:cNvPicPr/>
            <p:nvPr/>
          </p:nvPicPr>
          <p:blipFill>
            <a:blip r:embed="rId2"/>
            <a:stretch/>
          </p:blipFill>
          <p:spPr>
            <a:xfrm>
              <a:off x="696960" y="4854240"/>
              <a:ext cx="3036960" cy="93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2" name="Group 12"/>
          <p:cNvGrpSpPr/>
          <p:nvPr/>
        </p:nvGrpSpPr>
        <p:grpSpPr>
          <a:xfrm>
            <a:off x="4114800" y="4867200"/>
            <a:ext cx="4648320" cy="1676520"/>
            <a:chOff x="4114800" y="4867200"/>
            <a:chExt cx="4648320" cy="1676520"/>
          </a:xfrm>
        </p:grpSpPr>
        <p:sp>
          <p:nvSpPr>
            <p:cNvPr id="713" name="TextBox 9"/>
            <p:cNvSpPr/>
            <p:nvPr/>
          </p:nvSpPr>
          <p:spPr>
            <a:xfrm>
              <a:off x="4724280" y="5923080"/>
              <a:ext cx="396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Arial"/>
                </a:rPr>
                <a:t>or 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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F = (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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C </a:t>
              </a:r>
              <a:r>
                <a:rPr b="0" lang="en-US" sz="3000" spc="-1" strike="noStrike">
                  <a:solidFill>
                    <a:srgbClr val="404040"/>
                  </a:solidFill>
                  <a:latin typeface="Symbol"/>
                  <a:ea typeface="Symbol"/>
                </a:rPr>
                <a:t>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 32)</a:t>
              </a:r>
              <a:r>
                <a:rPr b="1" lang="en-US" sz="30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</a:t>
              </a:r>
              <a:r>
                <a:rPr b="0" lang="en-US" sz="3000" spc="-1" strike="noStrike">
                  <a:solidFill>
                    <a:srgbClr val="404040"/>
                  </a:solidFill>
                  <a:latin typeface="Arial"/>
                </a:rPr>
                <a:t>1.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2"/>
            <p:cNvSpPr/>
            <p:nvPr/>
          </p:nvSpPr>
          <p:spPr>
            <a:xfrm>
              <a:off x="4724280" y="4867200"/>
              <a:ext cx="4038840" cy="16765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Box 14"/>
            <p:cNvSpPr/>
            <p:nvPr/>
          </p:nvSpPr>
          <p:spPr>
            <a:xfrm>
              <a:off x="4114800" y="533376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00000"/>
                  </a:solidFill>
                  <a:latin typeface="Arial"/>
                </a:rPr>
                <a:t>o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Picture 5" descr=""/>
            <p:cNvPicPr/>
            <p:nvPr/>
          </p:nvPicPr>
          <p:blipFill>
            <a:blip r:embed="rId3"/>
            <a:stretch/>
          </p:blipFill>
          <p:spPr>
            <a:xfrm>
              <a:off x="4800600" y="4895640"/>
              <a:ext cx="3070440" cy="9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Derived units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33520" y="1553760"/>
            <a:ext cx="822960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Derived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units are combinations of base units. They are produced by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multiplying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or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dividing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standard units. The derived units we will study include: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295280" y="3828960"/>
          <a:ext cx="6934320" cy="2373480"/>
        </p:xfrm>
        <a:graphic>
          <a:graphicData uri="http://schemas.openxmlformats.org/drawingml/2006/table">
            <a:tbl>
              <a:tblPr/>
              <a:tblGrid>
                <a:gridCol w="1805040"/>
                <a:gridCol w="1373400"/>
                <a:gridCol w="2022480"/>
                <a:gridCol w="173340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Quantity sy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nit abbrev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bic 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grams per cubic 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429000" y="45684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2e32"/>
                </a:solidFill>
                <a:latin typeface="Arial"/>
              </a:rPr>
              <a:t>Area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21" name="Content Placeholder 2" descr=""/>
          <p:cNvPicPr/>
          <p:nvPr/>
        </p:nvPicPr>
        <p:blipFill>
          <a:blip r:embed="rId1"/>
          <a:stretch/>
        </p:blipFill>
        <p:spPr>
          <a:xfrm>
            <a:off x="176040" y="1378080"/>
            <a:ext cx="8577360" cy="470520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2590920" y="4648320"/>
            <a:ext cx="281916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352320" y="45684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Volume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most commonly used metric units for volume are the liter(L) and the milliliter (mL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liter is a cube 1 dm long on each sid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milliliter is a cube 1 cm long on each sid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25" name="Picture 7" descr="01_19"/>
          <p:cNvPicPr/>
          <p:nvPr/>
        </p:nvPicPr>
        <p:blipFill>
          <a:blip r:embed="rId1"/>
          <a:srcRect l="0" t="0" r="0" b="3361"/>
          <a:stretch/>
        </p:blipFill>
        <p:spPr>
          <a:xfrm>
            <a:off x="5105520" y="1295280"/>
            <a:ext cx="3154320" cy="4577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04920" y="1553760"/>
            <a:ext cx="8686800" cy="12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24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nsity is the ratio of mass to volume, or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as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divided by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volum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 It can be writte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09480" y="330624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density = mass/volume or     d = m/V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04920" y="43430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nsity does not depend on the size of the   sample. As the mass of an object increases, its   volume increas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80880" y="16002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75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Length: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   “How far?” question involves being able to measure the distance between two poi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533520" y="403848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75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Time: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  To answer the question, “How long did it take?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8"/>
          <p:cNvGrpSpPr/>
          <p:nvPr/>
        </p:nvGrpSpPr>
        <p:grpSpPr>
          <a:xfrm>
            <a:off x="2819520" y="685800"/>
            <a:ext cx="2590560" cy="457200"/>
            <a:chOff x="2819520" y="685800"/>
            <a:chExt cx="2590560" cy="457200"/>
          </a:xfrm>
        </p:grpSpPr>
        <p:sp>
          <p:nvSpPr>
            <p:cNvPr id="675" name="Oval 7"/>
            <p:cNvSpPr/>
            <p:nvPr/>
          </p:nvSpPr>
          <p:spPr>
            <a:xfrm>
              <a:off x="2819520" y="6858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8"/>
            <p:cNvSpPr/>
            <p:nvPr/>
          </p:nvSpPr>
          <p:spPr>
            <a:xfrm>
              <a:off x="4952880" y="6858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TextBox 9"/>
          <p:cNvSpPr/>
          <p:nvPr/>
        </p:nvSpPr>
        <p:spPr>
          <a:xfrm>
            <a:off x="2819520" y="2895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2e32"/>
                </a:solidFill>
                <a:latin typeface="Arial"/>
              </a:rPr>
              <a:t>10   (meaning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1"/>
          <p:cNvSpPr/>
          <p:nvPr/>
        </p:nvSpPr>
        <p:spPr>
          <a:xfrm>
            <a:off x="533520" y="522756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When a number represents a measured quantity, the units of that quantity must always be specifie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"/>
          <p:cNvSpPr/>
          <p:nvPr/>
        </p:nvSpPr>
        <p:spPr>
          <a:xfrm>
            <a:off x="2819520" y="342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2e32"/>
                </a:solidFill>
                <a:latin typeface="Arial"/>
              </a:rPr>
              <a:t>10 cm or inc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3"/>
          <p:cNvSpPr/>
          <p:nvPr/>
        </p:nvSpPr>
        <p:spPr>
          <a:xfrm>
            <a:off x="457200" y="3962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Aft>
                <a:spcPts val="22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e set of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base units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comprises an irreducible set of units for measuring all physical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5"/>
          <p:cNvSpPr/>
          <p:nvPr/>
        </p:nvSpPr>
        <p:spPr>
          <a:xfrm>
            <a:off x="609480" y="38088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Scientists all over the world use     (since1960) a single measurement system called SI units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(Système International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7"/>
          <p:cNvSpPr/>
          <p:nvPr/>
        </p:nvSpPr>
        <p:spPr>
          <a:xfrm>
            <a:off x="2362320" y="2209680"/>
            <a:ext cx="3657600" cy="15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82e32"/>
                </a:solidFill>
                <a:latin typeface="Arial"/>
              </a:rPr>
              <a:t>The SI consist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ase uni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Derived un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38088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derived units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can be expressed in terms of the base uni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1199"/>
              </a:spcAft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SI Base Unit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33160" y="5257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most common base units that we will study includ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86" name="Picture 15" descr="01_T04"/>
          <p:cNvPicPr/>
          <p:nvPr/>
        </p:nvPicPr>
        <p:blipFill>
          <a:blip r:embed="rId1"/>
          <a:srcRect l="0" t="13863" r="0" b="5350"/>
          <a:stretch/>
        </p:blipFill>
        <p:spPr>
          <a:xfrm>
            <a:off x="533520" y="1523880"/>
            <a:ext cx="8226360" cy="35816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7"/>
          <p:cNvSpPr/>
          <p:nvPr/>
        </p:nvSpPr>
        <p:spPr>
          <a:xfrm>
            <a:off x="609480" y="2152800"/>
            <a:ext cx="6934320" cy="137160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8"/>
          <p:cNvGrpSpPr/>
          <p:nvPr/>
        </p:nvGrpSpPr>
        <p:grpSpPr>
          <a:xfrm>
            <a:off x="152280" y="457200"/>
            <a:ext cx="8747280" cy="4427640"/>
            <a:chOff x="152280" y="457200"/>
            <a:chExt cx="8747280" cy="4427640"/>
          </a:xfrm>
        </p:grpSpPr>
        <p:pic>
          <p:nvPicPr>
            <p:cNvPr id="689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457200"/>
              <a:ext cx="874728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Rectangle 5"/>
            <p:cNvSpPr/>
            <p:nvPr/>
          </p:nvSpPr>
          <p:spPr>
            <a:xfrm>
              <a:off x="152280" y="457200"/>
              <a:ext cx="144756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6"/>
            <p:cNvSpPr/>
            <p:nvPr/>
          </p:nvSpPr>
          <p:spPr>
            <a:xfrm>
              <a:off x="6391080" y="485640"/>
              <a:ext cx="244800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Box 5"/>
          <p:cNvSpPr/>
          <p:nvPr/>
        </p:nvSpPr>
        <p:spPr>
          <a:xfrm>
            <a:off x="609480" y="5181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gram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6"/>
          <p:cNvSpPr/>
          <p:nvPr/>
        </p:nvSpPr>
        <p:spPr>
          <a:xfrm>
            <a:off x="609480" y="5715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Second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7"/>
          <p:cNvSpPr/>
          <p:nvPr/>
        </p:nvSpPr>
        <p:spPr>
          <a:xfrm>
            <a:off x="609480" y="61722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mete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8"/>
          <p:cNvSpPr/>
          <p:nvPr/>
        </p:nvSpPr>
        <p:spPr>
          <a:xfrm>
            <a:off x="3200400" y="5181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nanogram, 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9"/>
          <p:cNvSpPr/>
          <p:nvPr/>
        </p:nvSpPr>
        <p:spPr>
          <a:xfrm>
            <a:off x="3409920" y="5695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icrosecond, </a:t>
            </a:r>
            <a:r>
              <a:rPr b="0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0"/>
          <p:cNvSpPr/>
          <p:nvPr/>
        </p:nvSpPr>
        <p:spPr>
          <a:xfrm>
            <a:off x="3276720" y="6172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illimeter,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971800" y="380880"/>
            <a:ext cx="2362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2e32"/>
                </a:solidFill>
                <a:latin typeface="Arial"/>
              </a:rPr>
              <a:t>Length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04920" y="12193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e SI standard unit for length is th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eter (m)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istance of 1m is about the width of an average doorway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o express longer distances, the kilometer (km) is used. One kilometer is equal to 1000 m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o express shorter distances, the centimeter (cm) is used. One centimeter is equal to 1/100 of a meter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Length can be measured using a meter stick or rulers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276720" y="304920"/>
            <a:ext cx="1676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2e32"/>
                </a:solidFill>
                <a:latin typeface="Arial"/>
              </a:rPr>
              <a:t>Mass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2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ass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is a measure of the quantity of matter. The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standard unit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for mass is the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kilogram (kg)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 algn="just">
              <a:spcAft>
                <a:spcPts val="2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is base unit is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unusable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because it uses a prefix, kilo- instead of the word gram alone. Other units for mass are obtained by adding prefixes to the world gram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 algn="just">
              <a:spcAft>
                <a:spcPts val="20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e gram (g), which is 1/1000 of a kg is used for measuring masses of small objects.  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971440" y="53316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ime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tandar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unit of measurement for time is 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econd (s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 algn="just"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arger amounts of time are measured in minutes and hour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re are 60 seconds in one minute. There are 60 minutes in one hour. Given that there are 24 hours in one day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2e32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4560" y="1553760"/>
            <a:ext cx="8381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20000"/>
              </a:lnSpc>
              <a:spcAft>
                <a:spcPts val="24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emperature is a measure of the hotness or coldness of an object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Aft>
                <a:spcPts val="24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standard unit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 of measurement for temperature is degrees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Kelvin (K)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 algn="just">
              <a:lnSpc>
                <a:spcPct val="120000"/>
              </a:lnSpc>
              <a:spcAft>
                <a:spcPts val="2401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emperature can also be measured in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degrees Celsius (</a:t>
            </a:r>
            <a:r>
              <a:rPr b="0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  <a:ea typeface="Times New Roman"/>
              </a:rPr>
              <a:t>C)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nd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degrees Fahrenheit (</a:t>
            </a:r>
            <a:r>
              <a:rPr b="0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  <a:ea typeface="Times New Roman"/>
              </a:rPr>
              <a:t>F)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 </cp:lastModifiedBy>
  <dcterms:modified xsi:type="dcterms:W3CDTF">2010-10-09T20:27:57Z</dcterms:modified>
  <cp:revision>160</cp:revision>
  <dc:subject/>
  <dc:title>Chapter 1 Introduction: Matter and Measurement</dc:title>
</cp:coreProperties>
</file>