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303-4FB1-4804-8169-BAC711DF1E3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952-A1BF-45CA-B2F2-5AE37C1C44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3CD-F081-4843-B510-614818E3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221-15B7-4F6D-8DEF-F021600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36F-5945-41C8-970C-72DACFFF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83D-BF18-4AF2-B33F-953CE3E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D34D-E4A9-42B3-8FB1-D8C0D1C9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07DB-CC88-4DBA-B792-9661F5BD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26A-336D-4480-ADBD-2DFE6AF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54F4-E75E-47DA-86A4-EFC1B67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FF50-8E05-44D0-9F04-C28B777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E3C9-91FB-4795-B8AE-70954D3B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AF8-3B12-4090-91C1-9E77F99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6BB-5D7C-423D-8DEB-DF58ABF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2F88-C86A-4045-A1E0-78E4D45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8708-3680-4967-A86C-409878D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40A-0E40-4C37-AD35-CB9D76D8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AEC8-3F8E-4750-B214-2D8B4368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CA9-394D-4953-8915-483A2B7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2534-57DE-4742-8CE8-4564C097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C709-731B-422B-84F7-32338A6E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D86F-11E2-4F3B-85B8-673DDB0F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0777-35A6-453C-9A20-C46AD22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B1FA-03A4-41E3-907E-C8B645E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43F-BF1F-4F2D-B0BF-3E3A5AB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A39D-ADD2-4063-9C4B-2AD9B040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15FF-BDE6-4698-984C-9C5475C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23F1-374E-4257-BE47-93F0133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F120-1C37-47F9-9C39-B617E7A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9A6E-DCE8-44FC-9076-086DFC3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75C2-7DEA-499D-B6D3-AAA7D8D9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7AC-1492-4973-935A-3881270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C28-1D93-42A5-A04E-BA7D31B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9EB-9888-4B28-8292-BFB0269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0D0-CA0F-4291-81E3-445D1832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55B-D696-40AC-94C0-95CEBBF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A8A-DB1F-4A73-A5CB-5DB6A31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212-ADE9-496F-9F11-5272AC4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5083-8FF7-4B74-90FC-710206425D78}" type="slidenum">
              <a:rPr b="1" lang="ar-SA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312D-8571-4AD4-BE55-DAC468693F52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789-20F0-4915-8997-5C19C47C0D04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INO ACID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[QUALITATIVE TESTS]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BCH 302 [PRACTICAL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Users\AMAL\Desktop\plane-polarized-light.jpg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346248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ربع نص 1"/>
          <p:cNvSpPr/>
          <p:nvPr/>
        </p:nvSpPr>
        <p:spPr>
          <a:xfrm>
            <a:off x="108000" y="260280"/>
            <a:ext cx="87120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alibri"/>
              </a:rPr>
              <a:t>Practical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lubility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2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inhydrin test: for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α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-L amino acid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3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anthoproteic test: for Aromatic amino acid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b8910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on's test: for amino acids containing hydroxy  pheny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akaguchi T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 sulfite test: detection of amino acids containing sulfhydral group (- 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مستطيل 1"/>
          <p:cNvSpPr/>
          <p:nvPr/>
        </p:nvSpPr>
        <p:spPr>
          <a:xfrm>
            <a:off x="250920" y="333360"/>
            <a:ext cx="86421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1.Solubility test</a:t>
            </a:r>
            <a:r>
              <a:rPr b="0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-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the solubility of selected amino acid in various sol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-Princi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are more soluble in water[polar] than non-polar, due to presence of amino and carboxyl group which enables amino acids to accept and donate protons to aqueous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are soluble in polar solvent, and vice vers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صورة 1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75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مستطيل 1"/>
          <p:cNvSpPr/>
          <p:nvPr/>
        </p:nvSpPr>
        <p:spPr>
          <a:xfrm>
            <a:off x="0" y="0"/>
            <a:ext cx="896472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2. Ninhydri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to detect α-L-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nhydrin (triketohydrindene hydrate) degrades amino acids into aldehydes (on pH range 4-8), ammonia and CO2 though a series of re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nhydrin then condenses with ammonia and hydrindantin to produce an intensely blue or purple pigment, sometimes called ruhemann's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ontent Placeholder 7" descr="jawd2_clip_image018.gif"/>
          <p:cNvPicPr/>
          <p:nvPr/>
        </p:nvPicPr>
        <p:blipFill>
          <a:blip r:embed="rId1"/>
          <a:stretch/>
        </p:blipFill>
        <p:spPr>
          <a:xfrm>
            <a:off x="642960" y="428760"/>
            <a:ext cx="7999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مستطيل 1"/>
          <p:cNvSpPr/>
          <p:nvPr/>
        </p:nvSpPr>
        <p:spPr>
          <a:xfrm>
            <a:off x="324000" y="357336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amino acids that have a free amino group will give positive result (purple color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not free amino group-proline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xy-pro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mino acids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ll give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 col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282e"/>
                </a:solidFill>
                <a:latin typeface="Calibri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substances other than amino acids, such as amines will yield a blue color with ninhydrin, particularly if reaction is carried out on filter pap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24000" y="695160"/>
            <a:ext cx="85388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صورة 2" descr=""/>
          <p:cNvPicPr/>
          <p:nvPr/>
        </p:nvPicPr>
        <p:blipFill>
          <a:blip r:embed="rId1"/>
          <a:srcRect l="33134" t="0" r="40598" b="0"/>
          <a:stretch/>
        </p:blipFill>
        <p:spPr>
          <a:xfrm>
            <a:off x="3030480" y="858960"/>
            <a:ext cx="24019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1"/>
          <p:cNvSpPr/>
          <p:nvPr/>
        </p:nvSpPr>
        <p:spPr>
          <a:xfrm>
            <a:off x="9360" y="189000"/>
            <a:ext cx="8810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3.Xanthoproteic tes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ifferentiate between aromatic amino acids which give positive results [yellow color] and other amino aci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d nitric acid react with aromatic nucleus present in the amino acid side chain [nitration reaction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the solution yellow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s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tyrosine and tryptoph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 activated benzene rings [aromatic nucleus] which are easily nitrated to yellow colored compou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omatic ring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henyl alanine dose not reac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nitric acid despite it contains a benzene ring, but it i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activa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it will not re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8" descr="xantho_1 (2).PNG"/>
          <p:cNvPicPr/>
          <p:nvPr/>
        </p:nvPicPr>
        <p:blipFill>
          <a:blip r:embed="rId1"/>
          <a:srcRect l="1791" t="1359" r="16569" b="4773"/>
          <a:stretch/>
        </p:blipFill>
        <p:spPr>
          <a:xfrm>
            <a:off x="379440" y="750960"/>
            <a:ext cx="8224920" cy="52639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مربع نص 3"/>
          <p:cNvSpPr/>
          <p:nvPr/>
        </p:nvSpPr>
        <p:spPr>
          <a:xfrm>
            <a:off x="1191960" y="852480"/>
            <a:ext cx="43534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information about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ative tests of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صورة 1" descr=""/>
          <p:cNvPicPr/>
          <p:nvPr/>
        </p:nvPicPr>
        <p:blipFill>
          <a:blip r:embed="rId1"/>
          <a:srcRect l="32091" t="0" r="35824" b="11838"/>
          <a:stretch/>
        </p:blipFill>
        <p:spPr>
          <a:xfrm>
            <a:off x="2502000" y="189000"/>
            <a:ext cx="4086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مستطيل 1"/>
          <p:cNvSpPr/>
          <p:nvPr/>
        </p:nvSpPr>
        <p:spPr>
          <a:xfrm>
            <a:off x="0" y="33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Arial"/>
              </a:rPr>
              <a:t>4.Millon's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AMAL\Documents\My Received Files\20130912_155841.jpg"/>
          <p:cNvPicPr/>
          <p:nvPr/>
        </p:nvPicPr>
        <p:blipFill>
          <a:blip r:embed="rId1">
            <a:lum bright="30000"/>
          </a:blip>
          <a:srcRect l="24810" t="0" r="37595" b="0"/>
          <a:stretch/>
        </p:blipFill>
        <p:spPr>
          <a:xfrm>
            <a:off x="7451640" y="1227240"/>
            <a:ext cx="1106640" cy="5229000"/>
          </a:xfrm>
          <a:prstGeom prst="rect">
            <a:avLst/>
          </a:prstGeom>
          <a:ln w="0">
            <a:noFill/>
          </a:ln>
        </p:spPr>
      </p:pic>
      <p:sp>
        <p:nvSpPr>
          <p:cNvPr id="165" name="مستطيل 3"/>
          <p:cNvSpPr/>
          <p:nvPr/>
        </p:nvSpPr>
        <p:spPr>
          <a:xfrm>
            <a:off x="179280" y="911160"/>
            <a:ext cx="727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est is specific for tyrosine. Because it is the only amino acid containing a phenol gro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mino%20acids.jpg"/>
          <p:cNvPicPr/>
          <p:nvPr/>
        </p:nvPicPr>
        <p:blipFill>
          <a:blip r:embed="rId2"/>
          <a:srcRect l="65980" t="11168" r="18917" b="68767"/>
          <a:stretch/>
        </p:blipFill>
        <p:spPr>
          <a:xfrm>
            <a:off x="1042920" y="2708280"/>
            <a:ext cx="2119320" cy="263196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67" name="مستطيل 6"/>
          <p:cNvSpPr/>
          <p:nvPr/>
        </p:nvSpPr>
        <p:spPr>
          <a:xfrm>
            <a:off x="0" y="58104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phenol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hydroxyl group attached to benzene 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مستطيل 1"/>
          <p:cNvSpPr/>
          <p:nvPr/>
        </p:nvSpPr>
        <p:spPr>
          <a:xfrm>
            <a:off x="9360" y="260280"/>
            <a:ext cx="896328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Principle</a:t>
            </a:r>
            <a:r>
              <a:rPr b="1" lang="en-US" sz="1800" spc="-1" strike="noStrike">
                <a:solidFill>
                  <a:srgbClr val="d1282e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henol group of tyrosine is first nitrated by nitric acid in the test solution. Then the nitrated tyrosine complexes mercury ions in the solution to form a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brick-r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ppearance of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red color is positive test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b8910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henols (compound having benzene ring and OH attached to it) give positive results in Millon’s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صورة 2" descr=""/>
          <p:cNvPicPr/>
          <p:nvPr/>
        </p:nvPicPr>
        <p:blipFill>
          <a:blip r:embed="rId1"/>
          <a:stretch/>
        </p:blipFill>
        <p:spPr>
          <a:xfrm>
            <a:off x="762120" y="3892680"/>
            <a:ext cx="7619760" cy="2771640"/>
          </a:xfrm>
          <a:prstGeom prst="rect">
            <a:avLst/>
          </a:prstGeom>
          <a:ln w="0">
            <a:noFill/>
          </a:ln>
        </p:spPr>
      </p:pic>
      <p:sp>
        <p:nvSpPr>
          <p:cNvPr id="170" name="مستطيل 3"/>
          <p:cNvSpPr/>
          <p:nvPr/>
        </p:nvSpPr>
        <p:spPr>
          <a:xfrm>
            <a:off x="3203640" y="4076640"/>
            <a:ext cx="14436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مستطيل 1"/>
          <p:cNvSpPr/>
          <p:nvPr/>
        </p:nvSpPr>
        <p:spPr>
          <a:xfrm>
            <a:off x="0" y="260280"/>
            <a:ext cx="896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6. Sakaguchi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detection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 containing gauanidium group. In other words it’s a test for, argin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mino%20acids.jpg"/>
          <p:cNvPicPr/>
          <p:nvPr/>
        </p:nvPicPr>
        <p:blipFill>
          <a:blip r:embed="rId1"/>
          <a:srcRect l="66468" t="35367" r="20075" b="43278"/>
          <a:stretch/>
        </p:blipFill>
        <p:spPr>
          <a:xfrm>
            <a:off x="6818400" y="2655720"/>
            <a:ext cx="2074680" cy="30769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73" name="شكل بيضاوي 3"/>
          <p:cNvSpPr/>
          <p:nvPr/>
        </p:nvSpPr>
        <p:spPr>
          <a:xfrm>
            <a:off x="7423200" y="4365720"/>
            <a:ext cx="1263600" cy="1079280"/>
          </a:xfrm>
          <a:prstGeom prst="ellipse">
            <a:avLst/>
          </a:prstGeom>
          <a:noFill/>
          <a:ln w="2844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مستطيل 4"/>
          <p:cNvSpPr/>
          <p:nvPr/>
        </p:nvSpPr>
        <p:spPr>
          <a:xfrm>
            <a:off x="0" y="2550960"/>
            <a:ext cx="6858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lution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, arginine react with α-naphthol and sodium hypobromite /chlorite as an oxidize agent, to form  red complexes as a positive result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صورة 1" descr=""/>
          <p:cNvPicPr/>
          <p:nvPr/>
        </p:nvPicPr>
        <p:blipFill>
          <a:blip r:embed="rId1"/>
          <a:srcRect l="35075" t="0" r="46567" b="0"/>
          <a:stretch/>
        </p:blipFill>
        <p:spPr>
          <a:xfrm>
            <a:off x="3564000" y="476280"/>
            <a:ext cx="1677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1"/>
          <p:cNvSpPr/>
          <p:nvPr/>
        </p:nvSpPr>
        <p:spPr>
          <a:xfrm>
            <a:off x="30240" y="189000"/>
            <a:ext cx="89344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Arial"/>
              </a:rPr>
              <a:t>6. Lead Sulfite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est specific f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–SH 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hydral group 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ing amino acid (Cystein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mino%20acids.jpg"/>
          <p:cNvPicPr/>
          <p:nvPr/>
        </p:nvPicPr>
        <p:blipFill>
          <a:blip r:embed="rId1"/>
          <a:srcRect l="35340" t="46681" r="52750" b="41176"/>
          <a:stretch/>
        </p:blipFill>
        <p:spPr>
          <a:xfrm>
            <a:off x="6413400" y="1643040"/>
            <a:ext cx="2479680" cy="23623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78" name="مستطيل 3"/>
          <p:cNvSpPr/>
          <p:nvPr/>
        </p:nvSpPr>
        <p:spPr>
          <a:xfrm>
            <a:off x="30240" y="1989000"/>
            <a:ext cx="547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lfur in cystine, is converted to sodium sulfide by boiling with 40% Na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 Na2S can be detected by the precipitation of PbS (lead sulfide) from an alkaline 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dding lead acetate Pb (CH3COO)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rcRect l="37552" t="77987" r="26576" b="12500"/>
          <a:stretch/>
        </p:blipFill>
        <p:spPr>
          <a:xfrm>
            <a:off x="900000" y="5008680"/>
            <a:ext cx="7458120" cy="111276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ربع نص 3"/>
          <p:cNvSpPr/>
          <p:nvPr/>
        </p:nvSpPr>
        <p:spPr>
          <a:xfrm>
            <a:off x="108000" y="907920"/>
            <a:ext cx="87120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Calibri"/>
              </a:rPr>
              <a:t>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Building block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ntermediates in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tural amino acids that are found within proteins . 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  <a:ea typeface="Aparajita"/>
              </a:rPr>
              <a:t>All of them are L-</a:t>
            </a:r>
            <a:r>
              <a:rPr b="1" lang="el-GR" sz="2000" spc="-1" strike="noStrike">
                <a:solidFill>
                  <a:srgbClr val="d1282e"/>
                </a:solidFill>
                <a:latin typeface="Calibri"/>
                <a:ea typeface="Aparajita"/>
              </a:rPr>
              <a:t>α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  <a:ea typeface="Aparajita"/>
              </a:rPr>
              <a:t> amino acids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I11-15-aminoacid.jpg"/>
          <p:cNvPicPr/>
          <p:nvPr/>
        </p:nvPicPr>
        <p:blipFill>
          <a:blip r:embed="rId1"/>
          <a:stretch/>
        </p:blipFill>
        <p:spPr>
          <a:xfrm>
            <a:off x="2960640" y="4292640"/>
            <a:ext cx="3006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079800" cy="2338560"/>
          </a:xfrm>
          <a:prstGeom prst="rect">
            <a:avLst/>
          </a:prstGeom>
          <a:ln w="28440">
            <a:solidFill>
              <a:srgbClr val="d1282e"/>
            </a:solidFill>
            <a:miter/>
          </a:ln>
        </p:spPr>
      </p:pic>
      <p:sp>
        <p:nvSpPr>
          <p:cNvPr id="142" name="مربع نص 4"/>
          <p:cNvSpPr/>
          <p:nvPr/>
        </p:nvSpPr>
        <p:spPr>
          <a:xfrm>
            <a:off x="2794320" y="270036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structure of amino aci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5"/>
          <p:cNvSpPr/>
          <p:nvPr/>
        </p:nvSpPr>
        <p:spPr>
          <a:xfrm>
            <a:off x="250920" y="306864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mino acids  found in proteins have this basic structure, differing only in the 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structure of the R-grou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the side cha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mplest, and smallest, amino acid found in proteins is glycine for which the R-group is hydrogen (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amino%20acids.jpg"/>
          <p:cNvPicPr/>
          <p:nvPr/>
        </p:nvPicPr>
        <p:blipFill>
          <a:blip r:embed="rId1"/>
          <a:srcRect l="4208" t="7479" r="3691" b="18463"/>
          <a:stretch/>
        </p:blipFill>
        <p:spPr>
          <a:xfrm>
            <a:off x="0" y="115920"/>
            <a:ext cx="8964720" cy="674208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مستطيل 1"/>
          <p:cNvSpPr/>
          <p:nvPr/>
        </p:nvSpPr>
        <p:spPr>
          <a:xfrm>
            <a:off x="0" y="333360"/>
            <a:ext cx="9036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Classification of amino acids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rding to their ionization (polarity) in water, they are classified into 4 categ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1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on-po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2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charged po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polar (positively charg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idic polar (negatively charg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ستطيل 2"/>
          <p:cNvSpPr/>
          <p:nvPr/>
        </p:nvSpPr>
        <p:spPr>
          <a:xfrm>
            <a:off x="395280" y="459576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ar amino acids are more soluble in wat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n non-polar, due to presence of amino and carboxyl group which enables amino acids to accept and donate protons to aqueous solution, and therefore, to act as acids and bas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ذيبات تذيب اشباه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مستطيل 2"/>
          <p:cNvSpPr/>
          <p:nvPr/>
        </p:nvSpPr>
        <p:spPr>
          <a:xfrm>
            <a:off x="166680" y="311040"/>
            <a:ext cx="8869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Some properties of Amino Ac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1- Amphoteric Compo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mean they can act as acids and bases.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presence of carboxyl group COOH that able to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d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ton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and convert to COO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 baseline="30000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OO </a:t>
            </a:r>
            <a:r>
              <a:rPr b="0" lang="ar-SA" sz="2000" spc="-1" strike="noStrike" baseline="30000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so presence of amino group NH2 which is enable to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ccep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is proton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convert into NH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H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H3</a:t>
            </a:r>
            <a:r>
              <a:rPr b="0" lang="en-US" sz="2000" spc="-1" strike="noStrike" baseline="30000">
                <a:solidFill>
                  <a:srgbClr val="d1282e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053120" cy="2020680"/>
          </a:xfrm>
          <a:prstGeom prst="rect">
            <a:avLst/>
          </a:prstGeom>
          <a:ln w="19080">
            <a:solidFill>
              <a:srgbClr val="d1282e"/>
            </a:solidFill>
            <a:miter/>
          </a:ln>
        </p:spPr>
      </p:pic>
      <p:sp>
        <p:nvSpPr>
          <p:cNvPr id="149" name="مستطيل 2"/>
          <p:cNvSpPr/>
          <p:nvPr/>
        </p:nvSpPr>
        <p:spPr>
          <a:xfrm>
            <a:off x="2112840" y="407664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282e"/>
                </a:solidFill>
                <a:latin typeface="Arial"/>
              </a:rPr>
              <a:t>Amino acids are amphoter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"/>
          <p:cNvSpPr/>
          <p:nvPr/>
        </p:nvSpPr>
        <p:spPr>
          <a:xfrm>
            <a:off x="324000" y="390600"/>
            <a:ext cx="856908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 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Iso electric point (PI)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he pH value at which concentration of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nion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ation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are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equ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.e. the net charge of this molecule equals zero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amino acid have a different P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Rotate the polarized light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s are able to rotate polarized light either to the left (livo) L- a.a or to the right (dextro) D- a.a , because they have an asymmetric C atom (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 carbon atom linked to 4 different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except glycine which lacks asymmetric C atom (has 2 H+ on α-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3:28:33Z</dcterms:created>
  <dc:creator>لينة</dc:creator>
  <dc:description/>
  <dc:language>en-US</dc:language>
  <cp:lastModifiedBy>لينة</cp:lastModifiedBy>
  <dcterms:modified xsi:type="dcterms:W3CDTF">2014-02-09T15:48:37Z</dcterms:modified>
  <cp:revision>31</cp:revision>
  <dc:subject/>
  <dc:title>Amino acids   [qualitative tests]</dc:title>
</cp:coreProperties>
</file>