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BECA-D0BB-48AC-90C1-FAE1DA21327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6C30-C371-4624-ABC3-22221BE0B81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722-2A13-4B23-AB6A-36675D32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8D0-1139-4902-89FF-76F6A77E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726-84B9-414C-9AD6-92067304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7AB-44E7-43D7-815E-D7C369E0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50C0-AAA7-4B7F-9D2D-17CAE2DD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6E19-8A0C-4560-A26F-B1D212D5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EC86-A458-4B07-88DA-9B30CD1C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7F9C-BAB8-4503-85DC-A5658D1F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3188-8861-4F09-990A-4DD31CA8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3084-ABAD-419B-B967-99447250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20BA-3DF3-46BD-9172-BFEED1EF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1702-B9E8-456A-85EC-243DBBED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BDC2-2360-44EF-A5EC-A772E714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8F37-C042-4182-A1C2-73F04DB7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921C-AF43-47F4-B974-4EF7044C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F910-E6FB-4D3F-A0F9-929CB91A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7081-073E-4852-BA20-4FC45229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F020B-8B6A-4DC0-9659-29576A0D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22BB7-82DF-4B47-8385-11FE1571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D38D-C36A-48DB-A283-7565096C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6DECA-0D2C-4F78-B9E0-3BDE8438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90A84-F9EF-4BC5-9117-BA2B3260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616-E25E-4106-88C2-E51B8E78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2BD23-1B64-463A-8E65-52A3A083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2C7C6-A944-4DF9-BCAC-759CE53C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01C10-49CE-41B1-A0C9-15834EFF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4B335-7606-48A2-B867-83AC2FC3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5883F-4ECF-4F11-B55A-F137DACD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ADBFC-87CE-415B-9855-59606F17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D27F-2BB8-4256-86A7-E4040BF8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BB2-7CAA-47D0-9FDD-C5F5D006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58E-1611-4994-99C1-0B781389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48A-0641-49BD-9B1A-F030F256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78C-26C6-430D-A40A-0F52966F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1F3-6A93-4E8C-86FB-B58D2ADC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579-A1A2-4A8E-A8E3-960E8C74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9E00-A1A3-48D1-BC68-BC19E872ABC9}" type="slidenum">
              <a:rPr b="1" lang="ar-SA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14BB-5BFF-4375-A1CB-6D3ECA268933}" type="slidenum"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4B0E-AB88-4550-84F7-4FE8C3B20265}" type="slidenum"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MINO ACID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[QUALITATIVE TESTS]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Arial Black"/>
              </a:rPr>
              <a:t>BCH 302 [PRACTICAL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C:\Users\AMAL\Desktop\plane-polarized-light.jpg"/>
          <p:cNvPicPr/>
          <p:nvPr/>
        </p:nvPicPr>
        <p:blipFill>
          <a:blip r:embed="rId1"/>
          <a:stretch/>
        </p:blipFill>
        <p:spPr>
          <a:xfrm>
            <a:off x="755640" y="1628640"/>
            <a:ext cx="7632720" cy="3462480"/>
          </a:xfrm>
          <a:prstGeom prst="rect">
            <a:avLst/>
          </a:prstGeom>
          <a:ln w="9360">
            <a:solidFill>
              <a:srgbClr val="d128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مربع نص 1"/>
          <p:cNvSpPr/>
          <p:nvPr/>
        </p:nvSpPr>
        <p:spPr>
          <a:xfrm>
            <a:off x="108000" y="260280"/>
            <a:ext cx="87120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Calibri"/>
              </a:rPr>
              <a:t>Practical p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d1282e"/>
                </a:solidFill>
                <a:uFillTx/>
                <a:latin typeface="Calibri"/>
              </a:rPr>
              <a:t>1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lubility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d1282e"/>
                </a:solidFill>
                <a:uFillTx/>
                <a:latin typeface="Calibri"/>
              </a:rPr>
              <a:t>2</a:t>
            </a:r>
            <a:r>
              <a:rPr b="1" lang="en-US" sz="2000" spc="-1" strike="noStrike" u="sng">
                <a:solidFill>
                  <a:srgbClr val="d1282e"/>
                </a:solidFill>
                <a:uFillTx/>
                <a:latin typeface="Calibri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inhydrin test: for 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Calibri"/>
              </a:rPr>
              <a:t>α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-L amino acid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d1282e"/>
                </a:solidFill>
                <a:uFillTx/>
                <a:latin typeface="Calibri"/>
              </a:rPr>
              <a:t>3</a:t>
            </a:r>
            <a:r>
              <a:rPr b="1" lang="en-US" sz="2000" spc="-1" strike="noStrike" u="sng">
                <a:solidFill>
                  <a:srgbClr val="d1282e"/>
                </a:solidFill>
                <a:uFillTx/>
                <a:latin typeface="Calibri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Xanthoproteic test: for Aromatic amino acid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d1282e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b89101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llon's test: for amino acids containing hydroxy  phenyl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d1282e"/>
                </a:solidFill>
                <a:uFillTx/>
                <a:latin typeface="Calibri"/>
              </a:rPr>
              <a:t>5</a:t>
            </a:r>
            <a:r>
              <a:rPr b="1" lang="en-US" sz="2000" spc="-1" strike="noStrike" u="sng">
                <a:solidFill>
                  <a:srgbClr val="d1282e"/>
                </a:solidFill>
                <a:uFillTx/>
                <a:latin typeface="Calibri"/>
              </a:rPr>
              <a:t>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akaguchi Te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d1282e"/>
                </a:solidFill>
                <a:latin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 sulfite test: detection of amino acids containing sulfhydral group (- 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مستطيل 1"/>
          <p:cNvSpPr/>
          <p:nvPr/>
        </p:nvSpPr>
        <p:spPr>
          <a:xfrm>
            <a:off x="250920" y="333360"/>
            <a:ext cx="864216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1.Solubility test</a:t>
            </a:r>
            <a:r>
              <a:rPr b="0" lang="en-US" sz="24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-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stigate the solubility of selected amino acid in various solu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-Princi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ar amino acids are more soluble in water[polar] than non-polar, due to presence of amino and carboxyl group which enables amino acids to accept and donate protons to aqueous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ar amino acids are soluble in polar solvent, and vice vers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صورة 1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675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مستطيل 1"/>
          <p:cNvSpPr/>
          <p:nvPr/>
        </p:nvSpPr>
        <p:spPr>
          <a:xfrm>
            <a:off x="0" y="0"/>
            <a:ext cx="8964720" cy="53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2. Ninhydri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Objective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to detect α-L-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Principle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nhydrin (triketohydrindene hydrate) degrades amino acids into aldehydes (on pH range 4-8), ammonia and CO2 though a series of rea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nhydrin then condenses with ammonia and hydrindantin to produce an intensely blue or purple pigment, sometimes called ruhemann's pur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Content Placeholder 7" descr="jawd2_clip_image018.gif"/>
          <p:cNvPicPr/>
          <p:nvPr/>
        </p:nvPicPr>
        <p:blipFill>
          <a:blip r:embed="rId1"/>
          <a:stretch/>
        </p:blipFill>
        <p:spPr>
          <a:xfrm>
            <a:off x="642960" y="428760"/>
            <a:ext cx="7999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مستطيل 1"/>
          <p:cNvSpPr/>
          <p:nvPr/>
        </p:nvSpPr>
        <p:spPr>
          <a:xfrm>
            <a:off x="324000" y="3573360"/>
            <a:ext cx="842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amino acids that have a free amino group will give positive result (purple color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not free amino group-proline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xy-pro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mino acids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ll give 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llow col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282e"/>
                </a:solidFill>
                <a:latin typeface="Calibri"/>
              </a:rPr>
              <a:t>Not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y substances other than amino acids, such as amines will yield a blue color with ninhydrin, particularly if reaction is carried out on filter pap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324000" y="695160"/>
            <a:ext cx="853884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صورة 2" descr=""/>
          <p:cNvPicPr/>
          <p:nvPr/>
        </p:nvPicPr>
        <p:blipFill>
          <a:blip r:embed="rId1"/>
          <a:srcRect l="33134" t="0" r="40598" b="0"/>
          <a:stretch/>
        </p:blipFill>
        <p:spPr>
          <a:xfrm>
            <a:off x="3030480" y="858960"/>
            <a:ext cx="24019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1"/>
          <p:cNvSpPr/>
          <p:nvPr/>
        </p:nvSpPr>
        <p:spPr>
          <a:xfrm>
            <a:off x="9360" y="189000"/>
            <a:ext cx="88106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Arial"/>
              </a:rPr>
              <a:t>3.Xanthoproteic tes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differentiate between aromatic amino acids which give positive results [yellow color] and other amino aci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Princi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d nitric acid react with aromatic nucleus present in the amino acid side chain [nitration reaction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ving the solution yellow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ino acids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tyrosine and tryptopha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 activated benzene rings [aromatic nucleus] which are easily nitrated to yellow colored compoun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romatic ring of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phenyl alanine dose not reac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nitric acid despite it contains a benzene ring, but it is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ot activa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refore it will not re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Content Placeholder 8" descr="xantho_1 (2).PNG"/>
          <p:cNvPicPr/>
          <p:nvPr/>
        </p:nvPicPr>
        <p:blipFill>
          <a:blip r:embed="rId1"/>
          <a:srcRect l="1791" t="1359" r="16569" b="4773"/>
          <a:stretch/>
        </p:blipFill>
        <p:spPr>
          <a:xfrm>
            <a:off x="379440" y="750960"/>
            <a:ext cx="8224920" cy="5263920"/>
          </a:xfrm>
          <a:prstGeom prst="rect">
            <a:avLst/>
          </a:prstGeom>
          <a:ln w="9360">
            <a:solidFill>
              <a:srgbClr val="d128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مربع نص 3"/>
          <p:cNvSpPr/>
          <p:nvPr/>
        </p:nvSpPr>
        <p:spPr>
          <a:xfrm>
            <a:off x="1191960" y="852480"/>
            <a:ext cx="43534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 information about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litative tests of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صورة 1" descr=""/>
          <p:cNvPicPr/>
          <p:nvPr/>
        </p:nvPicPr>
        <p:blipFill>
          <a:blip r:embed="rId1"/>
          <a:srcRect l="32091" t="0" r="35824" b="11838"/>
          <a:stretch/>
        </p:blipFill>
        <p:spPr>
          <a:xfrm>
            <a:off x="2502000" y="189000"/>
            <a:ext cx="408600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مستطيل 1"/>
          <p:cNvSpPr/>
          <p:nvPr/>
        </p:nvSpPr>
        <p:spPr>
          <a:xfrm>
            <a:off x="0" y="333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Arial"/>
              </a:rPr>
              <a:t>4.Millon's te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Users\AMAL\Documents\My Received Files\20130912_155841.jpg"/>
          <p:cNvPicPr/>
          <p:nvPr/>
        </p:nvPicPr>
        <p:blipFill>
          <a:blip r:embed="rId1">
            <a:lum bright="30000"/>
          </a:blip>
          <a:srcRect l="24810" t="0" r="37595" b="0"/>
          <a:stretch/>
        </p:blipFill>
        <p:spPr>
          <a:xfrm>
            <a:off x="7451640" y="1227240"/>
            <a:ext cx="1106640" cy="5229000"/>
          </a:xfrm>
          <a:prstGeom prst="rect">
            <a:avLst/>
          </a:prstGeom>
          <a:ln w="0">
            <a:noFill/>
          </a:ln>
        </p:spPr>
      </p:pic>
      <p:sp>
        <p:nvSpPr>
          <p:cNvPr id="165" name="مستطيل 3"/>
          <p:cNvSpPr/>
          <p:nvPr/>
        </p:nvSpPr>
        <p:spPr>
          <a:xfrm>
            <a:off x="179280" y="911160"/>
            <a:ext cx="7272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282e"/>
                </a:solidFill>
                <a:latin typeface="Calibri"/>
              </a:rPr>
              <a:t>Objective</a:t>
            </a:r>
            <a:r>
              <a:rPr b="0" lang="en-US" sz="18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test is specific for tyrosine. Because it is the only amino acid containing a phenol gro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mino%20acids.jpg"/>
          <p:cNvPicPr/>
          <p:nvPr/>
        </p:nvPicPr>
        <p:blipFill>
          <a:blip r:embed="rId2"/>
          <a:srcRect l="65980" t="11168" r="18917" b="68767"/>
          <a:stretch/>
        </p:blipFill>
        <p:spPr>
          <a:xfrm>
            <a:off x="1042920" y="2708280"/>
            <a:ext cx="2119320" cy="2631960"/>
          </a:xfrm>
          <a:prstGeom prst="rect">
            <a:avLst/>
          </a:prstGeom>
          <a:ln w="9360">
            <a:solidFill>
              <a:srgbClr val="d1282e"/>
            </a:solidFill>
            <a:miter/>
          </a:ln>
        </p:spPr>
      </p:pic>
      <p:sp>
        <p:nvSpPr>
          <p:cNvPr id="167" name="مستطيل 6"/>
          <p:cNvSpPr/>
          <p:nvPr/>
        </p:nvSpPr>
        <p:spPr>
          <a:xfrm>
            <a:off x="0" y="5810400"/>
            <a:ext cx="72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phenol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hydroxyl group attached to benzene 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مستطيل 1"/>
          <p:cNvSpPr/>
          <p:nvPr/>
        </p:nvSpPr>
        <p:spPr>
          <a:xfrm>
            <a:off x="9360" y="260280"/>
            <a:ext cx="896328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Arial"/>
              </a:rPr>
              <a:t>Principle</a:t>
            </a:r>
            <a:r>
              <a:rPr b="1" lang="en-US" sz="1800" spc="-1" strike="noStrike">
                <a:solidFill>
                  <a:srgbClr val="d1282e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henol group of tyrosine is first nitrated by nitric acid in the test solution. Then the nitrated tyrosine complexes mercury ions in the solution to form a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brick-r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ppearance of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red color is positive test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b89101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282e"/>
                </a:solidFill>
                <a:latin typeface="Calibri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phenols (compound having benzene ring and OH attached to it) give positive results in Millon’s 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صورة 2" descr=""/>
          <p:cNvPicPr/>
          <p:nvPr/>
        </p:nvPicPr>
        <p:blipFill>
          <a:blip r:embed="rId1"/>
          <a:stretch/>
        </p:blipFill>
        <p:spPr>
          <a:xfrm>
            <a:off x="762120" y="3892680"/>
            <a:ext cx="7619760" cy="2771640"/>
          </a:xfrm>
          <a:prstGeom prst="rect">
            <a:avLst/>
          </a:prstGeom>
          <a:ln w="0">
            <a:noFill/>
          </a:ln>
        </p:spPr>
      </p:pic>
      <p:sp>
        <p:nvSpPr>
          <p:cNvPr id="170" name="مستطيل 3"/>
          <p:cNvSpPr/>
          <p:nvPr/>
        </p:nvSpPr>
        <p:spPr>
          <a:xfrm>
            <a:off x="3203640" y="4076640"/>
            <a:ext cx="14436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مستطيل 1"/>
          <p:cNvSpPr/>
          <p:nvPr/>
        </p:nvSpPr>
        <p:spPr>
          <a:xfrm>
            <a:off x="0" y="260280"/>
            <a:ext cx="8964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6. Sakaguchi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d1282e"/>
                </a:solidFill>
                <a:latin typeface="Calibri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Calibri"/>
              </a:rPr>
              <a:t>detection o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ino acid containing gauanidium group. In other words it’s a test for, argin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mino%20acids.jpg"/>
          <p:cNvPicPr/>
          <p:nvPr/>
        </p:nvPicPr>
        <p:blipFill>
          <a:blip r:embed="rId1"/>
          <a:srcRect l="66468" t="35367" r="20075" b="43278"/>
          <a:stretch/>
        </p:blipFill>
        <p:spPr>
          <a:xfrm>
            <a:off x="6818400" y="2655720"/>
            <a:ext cx="2074680" cy="3076920"/>
          </a:xfrm>
          <a:prstGeom prst="rect">
            <a:avLst/>
          </a:prstGeom>
          <a:ln w="9360">
            <a:solidFill>
              <a:srgbClr val="d1282e"/>
            </a:solidFill>
            <a:miter/>
          </a:ln>
        </p:spPr>
      </p:pic>
      <p:sp>
        <p:nvSpPr>
          <p:cNvPr id="173" name="شكل بيضاوي 3"/>
          <p:cNvSpPr/>
          <p:nvPr/>
        </p:nvSpPr>
        <p:spPr>
          <a:xfrm>
            <a:off x="7423200" y="4365720"/>
            <a:ext cx="1263600" cy="1079280"/>
          </a:xfrm>
          <a:prstGeom prst="ellipse">
            <a:avLst/>
          </a:prstGeom>
          <a:noFill/>
          <a:ln w="28440">
            <a:solidFill>
              <a:srgbClr val="d128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مستطيل 4"/>
          <p:cNvSpPr/>
          <p:nvPr/>
        </p:nvSpPr>
        <p:spPr>
          <a:xfrm>
            <a:off x="0" y="2550960"/>
            <a:ext cx="68580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d1282e"/>
                </a:solidFill>
                <a:latin typeface="Calibri"/>
              </a:rPr>
              <a:t>Principle</a:t>
            </a:r>
            <a:r>
              <a:rPr b="0" lang="en-PH" sz="20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PH" sz="20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ka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lution</a:t>
            </a:r>
            <a:r>
              <a:rPr b="0" lang="en-PH" sz="2000" spc="-1" strike="noStrike">
                <a:solidFill>
                  <a:srgbClr val="000000"/>
                </a:solidFill>
                <a:latin typeface="Calibri"/>
              </a:rPr>
              <a:t>, arginine react with α-naphthol and sodium hypobromite /chlorite as an oxidize agent, to form  red complexes as a positive result</a:t>
            </a:r>
            <a:r>
              <a:rPr b="0" lang="en-PH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صورة 1" descr=""/>
          <p:cNvPicPr/>
          <p:nvPr/>
        </p:nvPicPr>
        <p:blipFill>
          <a:blip r:embed="rId1"/>
          <a:srcRect l="35075" t="0" r="46567" b="0"/>
          <a:stretch/>
        </p:blipFill>
        <p:spPr>
          <a:xfrm>
            <a:off x="3564000" y="476280"/>
            <a:ext cx="1677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1"/>
          <p:cNvSpPr/>
          <p:nvPr/>
        </p:nvSpPr>
        <p:spPr>
          <a:xfrm>
            <a:off x="30240" y="189000"/>
            <a:ext cx="89344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Arial"/>
              </a:rPr>
              <a:t>6. Lead Sulfite Te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Objective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test specific for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–SH 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lfhydral group 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ing amino acid (Cysteine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amino%20acids.jpg"/>
          <p:cNvPicPr/>
          <p:nvPr/>
        </p:nvPicPr>
        <p:blipFill>
          <a:blip r:embed="rId1"/>
          <a:srcRect l="35340" t="46681" r="52750" b="41176"/>
          <a:stretch/>
        </p:blipFill>
        <p:spPr>
          <a:xfrm>
            <a:off x="6413400" y="1643040"/>
            <a:ext cx="2479680" cy="2362320"/>
          </a:xfrm>
          <a:prstGeom prst="rect">
            <a:avLst/>
          </a:prstGeom>
          <a:ln w="9360">
            <a:solidFill>
              <a:srgbClr val="d1282e"/>
            </a:solidFill>
            <a:miter/>
          </a:ln>
        </p:spPr>
      </p:pic>
      <p:sp>
        <p:nvSpPr>
          <p:cNvPr id="178" name="مستطيل 3"/>
          <p:cNvSpPr/>
          <p:nvPr/>
        </p:nvSpPr>
        <p:spPr>
          <a:xfrm>
            <a:off x="30240" y="1989000"/>
            <a:ext cx="5478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Principle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lfur in cystine, is converted to sodium sulfide by boiling with 40% NaO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The Na2S can be detected by the precipitation of PbS (lead sulfide) from an alkaline solu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adding lead acetate Pb (CH3COO)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rcRect l="37552" t="77987" r="26576" b="12500"/>
          <a:stretch/>
        </p:blipFill>
        <p:spPr>
          <a:xfrm>
            <a:off x="900000" y="5008680"/>
            <a:ext cx="7458120" cy="1112760"/>
          </a:xfrm>
          <a:prstGeom prst="rect">
            <a:avLst/>
          </a:prstGeom>
          <a:ln w="9360">
            <a:solidFill>
              <a:srgbClr val="d128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مربع نص 3"/>
          <p:cNvSpPr/>
          <p:nvPr/>
        </p:nvSpPr>
        <p:spPr>
          <a:xfrm>
            <a:off x="108000" y="907920"/>
            <a:ext cx="87120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82e"/>
                </a:solidFill>
                <a:latin typeface="Calibri"/>
              </a:rPr>
              <a:t>Amino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Building block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Intermediates in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tural amino acids that are found within proteins . </a:t>
            </a:r>
            <a:r>
              <a:rPr b="1" lang="en-US" sz="2000" spc="-1" strike="noStrike">
                <a:solidFill>
                  <a:srgbClr val="d1282e"/>
                </a:solidFill>
                <a:latin typeface="Calibri"/>
                <a:ea typeface="Aparajita"/>
              </a:rPr>
              <a:t>All of them are L-</a:t>
            </a:r>
            <a:r>
              <a:rPr b="1" lang="el-GR" sz="2000" spc="-1" strike="noStrike">
                <a:solidFill>
                  <a:srgbClr val="d1282e"/>
                </a:solidFill>
                <a:latin typeface="Calibri"/>
                <a:ea typeface="Aparajita"/>
              </a:rPr>
              <a:t>α</a:t>
            </a:r>
            <a:r>
              <a:rPr b="1" lang="en-US" sz="2000" spc="-1" strike="noStrike">
                <a:solidFill>
                  <a:srgbClr val="d1282e"/>
                </a:solidFill>
                <a:latin typeface="Calibri"/>
                <a:ea typeface="Aparajita"/>
              </a:rPr>
              <a:t> amino acids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I11-15-aminoacid.jpg"/>
          <p:cNvPicPr/>
          <p:nvPr/>
        </p:nvPicPr>
        <p:blipFill>
          <a:blip r:embed="rId1"/>
          <a:stretch/>
        </p:blipFill>
        <p:spPr>
          <a:xfrm>
            <a:off x="2960640" y="4292640"/>
            <a:ext cx="3006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3079800" cy="2338560"/>
          </a:xfrm>
          <a:prstGeom prst="rect">
            <a:avLst/>
          </a:prstGeom>
          <a:ln w="28440">
            <a:solidFill>
              <a:srgbClr val="d1282e"/>
            </a:solidFill>
            <a:miter/>
          </a:ln>
        </p:spPr>
      </p:pic>
      <p:sp>
        <p:nvSpPr>
          <p:cNvPr id="142" name="مربع نص 4"/>
          <p:cNvSpPr/>
          <p:nvPr/>
        </p:nvSpPr>
        <p:spPr>
          <a:xfrm>
            <a:off x="2794320" y="2700360"/>
            <a:ext cx="32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al structure of amino aci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مستطيل 5"/>
          <p:cNvSpPr/>
          <p:nvPr/>
        </p:nvSpPr>
        <p:spPr>
          <a:xfrm>
            <a:off x="250920" y="3068640"/>
            <a:ext cx="85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amino acids  found in proteins have this basic structure, differing only in the </a:t>
            </a:r>
            <a:r>
              <a:rPr b="1" lang="en-US" sz="2000" spc="-1" strike="noStrike">
                <a:solidFill>
                  <a:srgbClr val="d1282e"/>
                </a:solidFill>
                <a:latin typeface="Calibri"/>
              </a:rPr>
              <a:t>structure of the R-grou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the side cha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implest, and smallest, amino acid found in proteins is glycine for which the R-group is hydrogen (H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amino%20acids.jpg"/>
          <p:cNvPicPr/>
          <p:nvPr/>
        </p:nvPicPr>
        <p:blipFill>
          <a:blip r:embed="rId1"/>
          <a:srcRect l="4208" t="7479" r="3691" b="18463"/>
          <a:stretch/>
        </p:blipFill>
        <p:spPr>
          <a:xfrm>
            <a:off x="0" y="115920"/>
            <a:ext cx="8964720" cy="6742080"/>
          </a:xfrm>
          <a:prstGeom prst="rect">
            <a:avLst/>
          </a:prstGeom>
          <a:ln w="9360">
            <a:solidFill>
              <a:srgbClr val="d128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مستطيل 1"/>
          <p:cNvSpPr/>
          <p:nvPr/>
        </p:nvSpPr>
        <p:spPr>
          <a:xfrm>
            <a:off x="0" y="333360"/>
            <a:ext cx="90360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Classification of amino acids</a:t>
            </a: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ording to their ionization (polarity) in water, they are classified into 4 catego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1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on-po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2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charged po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3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ar amino acid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A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 polar (positively charge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B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idic polar (negatively charge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مستطيل 2"/>
          <p:cNvSpPr/>
          <p:nvPr/>
        </p:nvSpPr>
        <p:spPr>
          <a:xfrm>
            <a:off x="395280" y="4595760"/>
            <a:ext cx="84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alibri"/>
              </a:rPr>
              <a:t>Note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ar amino acids are more soluble in wat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n non-polar, due to presence of amino and carboxyl group which enables amino acids to accept and donate protons to aqueous solution, and therefore, to act as acids and base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ذيبات تذيب اشباهها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مستطيل 2"/>
          <p:cNvSpPr/>
          <p:nvPr/>
        </p:nvSpPr>
        <p:spPr>
          <a:xfrm>
            <a:off x="166680" y="311040"/>
            <a:ext cx="8869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Arial"/>
              </a:rPr>
              <a:t>Some properties of Amino Aci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Arial"/>
              </a:rPr>
              <a:t>1- Amphoteric Compoun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mean they can act as acids and bases.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e to presence of carboxyl group COOH that able to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don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ton(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and convert to COO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000" spc="-1" strike="noStrike" baseline="30000">
                <a:solidFill>
                  <a:srgbClr val="000000"/>
                </a:solidFill>
                <a:latin typeface="Calibri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COO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COO </a:t>
            </a:r>
            <a:r>
              <a:rPr b="0" lang="ar-SA" sz="2000" spc="-1" strike="noStrike" baseline="30000">
                <a:solidFill>
                  <a:srgbClr val="d1282e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so presence of amino group NH2 which is enable to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accep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is proton(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nd convert into NH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NH2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NH3</a:t>
            </a:r>
            <a:r>
              <a:rPr b="0" lang="en-US" sz="2000" spc="-1" strike="noStrike" baseline="30000">
                <a:solidFill>
                  <a:srgbClr val="d1282e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053120" cy="2020680"/>
          </a:xfrm>
          <a:prstGeom prst="rect">
            <a:avLst/>
          </a:prstGeom>
          <a:ln w="19080">
            <a:solidFill>
              <a:srgbClr val="d1282e"/>
            </a:solidFill>
            <a:miter/>
          </a:ln>
        </p:spPr>
      </p:pic>
      <p:sp>
        <p:nvSpPr>
          <p:cNvPr id="149" name="مستطيل 2"/>
          <p:cNvSpPr/>
          <p:nvPr/>
        </p:nvSpPr>
        <p:spPr>
          <a:xfrm>
            <a:off x="2112840" y="4076640"/>
            <a:ext cx="46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282e"/>
                </a:solidFill>
                <a:latin typeface="Arial"/>
              </a:rPr>
              <a:t>Amino acids are amphoter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1"/>
          <p:cNvSpPr/>
          <p:nvPr/>
        </p:nvSpPr>
        <p:spPr>
          <a:xfrm>
            <a:off x="324000" y="390600"/>
            <a:ext cx="856908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- </a:t>
            </a: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Iso electric point (PI)</a:t>
            </a: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the pH value at which concentration of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anioni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cationi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are 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equ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i.e. the net charge of this molecule equals zero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amino acid have a different P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Rotate the polarized light</a:t>
            </a: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ino acids are able to rotate polarized light either to the left (livo) L- a.a or to the right (dextro) D- a.a , because they have an asymmetric C atom (</a:t>
            </a:r>
            <a:r>
              <a:rPr b="0" lang="en-US" sz="2000" spc="-1" strike="noStrike">
                <a:solidFill>
                  <a:srgbClr val="d1282e"/>
                </a:solidFill>
                <a:latin typeface="Calibri"/>
              </a:rPr>
              <a:t>a carbon atom linked to 4 different grou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except glycine which lacks asymmetric C atom (has 2 H+ on α-C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8T13:28:33Z</dcterms:created>
  <dc:creator>لينة</dc:creator>
  <dc:description/>
  <dc:language>en-US</dc:language>
  <cp:lastModifiedBy>لينة</cp:lastModifiedBy>
  <dcterms:modified xsi:type="dcterms:W3CDTF">2014-02-09T15:48:37Z</dcterms:modified>
  <cp:revision>31</cp:revision>
  <dc:subject/>
  <dc:title>Amino acids   [qualitative tests]</dc:title>
</cp:coreProperties>
</file>