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5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6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7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321-AF48-46B5-A71F-6DAB64CFA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449-34F0-46FE-B304-64B269DFB094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DF22-77D4-4195-B900-BECB08BC9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FA6C-EFDC-4D5B-B42C-10FAAE5B3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9BC0-D61D-4F6B-BB33-9570F228B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C55B-6C4B-4654-8463-6437CBBC4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6D66-7C85-405D-A900-F74A0A997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C2AF-CE49-470D-9F11-2F2C89F66F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A4E8-46C8-4BDC-BF6D-02C8731953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D3AA-B3EB-420A-8C79-A347D17860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BBDA-F9FC-463D-AFA1-259520AAA5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4549-3286-4D82-A23A-22A44AE90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0D91-47B9-4068-A2B3-AF6345A8F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BE7A-ECAE-4380-96BB-84E23EE8F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D7AF-57DB-430B-BC71-C9DD3BF991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4254-5179-4B85-AEEA-3D7CDC9C43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8AC9-547B-4396-B41F-A0E29F138C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2113-D4F4-43CD-AA0F-15CBC21019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2A3C-A9A3-4534-B3F1-52E3E8A8FE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F8E-7097-4A37-9674-F865DECAE4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C0D-E44F-4F7A-B6A0-EAB7864264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EB4-47E9-478A-AB59-DA1105D0F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924-564B-4DFF-AA83-8B670ECB2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3A1-A322-48AD-A8FC-428CD50B0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CF06-9239-4A7D-AC67-2541D0B4B1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8FF-C3F0-4EC9-B98D-A514428810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D74-D7CA-438B-AE98-BDFA03A6CD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692-0AB0-4D78-A6D9-3A8F2E76D4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DEA-C88B-40AB-B315-7C3C6D71CA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2D4-EA4E-439E-995F-8CDAA51801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AAE-8571-4F2B-9184-33B1391EE1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F7B-94F3-4DE6-A812-DFF33AB0A6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DACAB-E60C-4E50-AF37-0B5BF9D57E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ED56-2155-44C3-B1B0-77E09ABA95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31DD7-54DC-43AA-A577-C9196D38B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C945-5CC9-4CF9-BD4E-45CD20E1A2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82C03-658F-4785-ADCB-FC98F0BC04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C568-308D-4CF4-BE60-6D7F1E0640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2192-B7DD-416B-B5B9-A8C6BDF01B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3C378-2813-45F4-B15F-E0149EFEAD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60FB-CAE2-4FDA-A2E1-00B13C52CF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02705-1AA6-4BB2-8D16-C533730C5A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2A9F-B14E-49E9-9D3D-62A02CF50A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57658-8BAA-4F05-9921-0F4F9FCF86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29E9D-C85A-4CC6-94B6-281BEEC88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3EE0-EAB6-4778-9A2E-4895C8695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57B2-9454-4870-8A54-4973B70B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7E86-6E6A-43AF-95C5-F92935E8D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46C1-4D76-467D-AD80-00929EC93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20A6-F85F-422A-9783-4531E7C14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ED7-D9C4-404F-8A50-D692D963D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062-20C7-42A0-A5BD-5A519187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F21-C3A8-4DF5-9B26-CC59D5810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BF8-B8AB-40C1-8F32-66AACF0A984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FEFD-D843-4951-AD27-6AE8FA1EF1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6  Three Tab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4600" y="1557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each branch, list staff who manage properties, including city in which branch is located and properties they man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b.branchNo, b.city, s.staffNo, fName, lName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perty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Branch b,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.branchNo = s.branchNo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b.branchNo, s.staffNo, property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106-7952-4B94-8FFF-A32D7EB5B41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6  Three Tab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ternative formulation for FROM and WHER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(Branch b JOIN Staff s USING branchNo) 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s JOIN PropertyForRent p USING 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0" name="Picture 5" descr="DS3-Table 05-26"/>
          <p:cNvPicPr/>
          <p:nvPr/>
        </p:nvPicPr>
        <p:blipFill>
          <a:blip r:embed="rId1"/>
          <a:stretch/>
        </p:blipFill>
        <p:spPr>
          <a:xfrm>
            <a:off x="380880" y="1600200"/>
            <a:ext cx="7286760" cy="2709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25BE-CCBC-4F8B-9268-E0B700D751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7  Multiple Grouping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properties handled by each staff member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long with the branch number of the member of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SELECT s.branchNo, s.staffNo, COUNT(*) AS myCoun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GROUP BY s.branchNo, s.staffNo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ORDER BY s.branchNo, s.staffNo;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5E8-C6EC-403D-A7D8-C4166C9D0B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7  Multiple Grouping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8" name="Picture 6" descr="C05NT27a"/>
          <p:cNvPicPr/>
          <p:nvPr/>
        </p:nvPicPr>
        <p:blipFill>
          <a:blip r:embed="rId1"/>
          <a:stretch/>
        </p:blipFill>
        <p:spPr>
          <a:xfrm>
            <a:off x="1042920" y="1700280"/>
            <a:ext cx="4681440" cy="2811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74AD-2FD6-4AA7-B218-EDBE7FC627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ompu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cedure for generating results of a join ar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 Form Cartesian product of the tables named in  FROM clau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If there is a WHERE clause, apply the search condition to each row of the product table, retaining those rows that satisfy the condi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For each remaining row, determine value of each item in SELECT list to produce a single row in resul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4. If DISTINCT has been specified, eliminate any duplicate rows from the resul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6. If there is an ORDER BY clause, sort result table as requi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480-01FF-424E-8961-AA3C13A493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ompu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provides special format of SELECT for Cartesian produc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[DISTINCT | ALL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* | columnLis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Table1 CROSS JOIN Table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49A4-7447-4A82-B8D6-A66DD4B4C9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2360" y="1484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f one row of a joined table is unmatched, row is omitted from result table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uter join operations retain rows that do not satisfy the join condition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sider following tabl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Picture 4" descr="DS3-Table 05-Ms141"/>
          <p:cNvPicPr/>
          <p:nvPr/>
        </p:nvPicPr>
        <p:blipFill>
          <a:blip r:embed="rId1"/>
          <a:stretch/>
        </p:blipFill>
        <p:spPr>
          <a:xfrm>
            <a:off x="755640" y="4265640"/>
            <a:ext cx="6483240" cy="2135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1F3-524B-4BCB-BF9D-5EC92893F1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(inner) join of these two tabl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, PropertyForRent1 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5" descr="DS3-Table 05-27b"/>
          <p:cNvPicPr/>
          <p:nvPr/>
        </p:nvPicPr>
        <p:blipFill>
          <a:blip r:embed="rId1"/>
          <a:stretch/>
        </p:blipFill>
        <p:spPr>
          <a:xfrm>
            <a:off x="1600200" y="3886200"/>
            <a:ext cx="5203800" cy="2428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A379-0CA4-4454-A1D0-EAD1010DD5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0136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sult table has two rows where cities are sam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no rows corresponding to branches in Bristol and Aberdee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include unmatched rows in result table, use an Outer jo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329-C2B7-4432-9CEB-ACDC7678BA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8  Lef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that are in same city along with any unmatched branch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LEFT JO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F18-AC16-4B6B-8BCD-7E99C0CD2A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6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retrieve data from multiple relations using SELEC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update database using INSERT, UPDATE, and DELE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4BCF-9384-4E39-9C98-F4559B3CCE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8  Lef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142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cludes those rows of first (left) table unmatched with rows from second (right)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s from second table are filled with NUL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9" name="Picture 1029" descr="DS3-Table 05-28"/>
          <p:cNvPicPr/>
          <p:nvPr/>
        </p:nvPicPr>
        <p:blipFill>
          <a:blip r:embed="rId1"/>
          <a:stretch/>
        </p:blipFill>
        <p:spPr>
          <a:xfrm>
            <a:off x="1332000" y="3645000"/>
            <a:ext cx="5616360" cy="26859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BA2F-7ED6-4A02-9825-C7EFE0C904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9  Righ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in same city and any unmatched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RIGHT JO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4A56-1D33-4E4E-ABF2-4E9B13DA01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9  Righ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142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ight Outer join includes those rows of second (right) table that are unmatched with rows from first (left)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s from first table are filled with NUL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8" name="Picture 5" descr="DS3-Table 05-29"/>
          <p:cNvPicPr/>
          <p:nvPr/>
        </p:nvPicPr>
        <p:blipFill>
          <a:blip r:embed="rId1"/>
          <a:stretch/>
        </p:blipFill>
        <p:spPr>
          <a:xfrm>
            <a:off x="990720" y="3505320"/>
            <a:ext cx="6173640" cy="2890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884-0577-42FE-95F3-BA81C79C49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0  Full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8760" y="1557360"/>
            <a:ext cx="808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in same city and any unmatched branches or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FULL JOI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52C5-CAAA-4954-8151-4C6A889B3C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0  Full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cludes rows that are unmatched in both tabl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matched columns are filled with NULL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7" name="Picture 5" descr="DS3-Table 05-30"/>
          <p:cNvPicPr/>
          <p:nvPr/>
        </p:nvPicPr>
        <p:blipFill>
          <a:blip r:embed="rId1"/>
          <a:stretch/>
        </p:blipFill>
        <p:spPr>
          <a:xfrm>
            <a:off x="1066680" y="2971800"/>
            <a:ext cx="5953320" cy="3225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E11-8C85-46A6-9761-58560DA40C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ISTS and NOT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ISTS and NOT EXISTS are for use only with subqueri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 simple true/false resul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ue if and only if there exists at least one row in result table returned by subque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alse if subquery returns an empty result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OT EXISTS is the opposite of EXIST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63E-D503-407D-9751-EA86B27A31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ISTS and NOT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s (NOT) EXISTS check only for existence or non-existence of rows in subquery result table, subquery can contain any number of colum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on for subqueries following (NOT) EXISTS to be of form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...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B80-A2A1-45BB-BA95-F0DE85D45F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all staff who work in a London branch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 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.branchNo = b.branchNo AND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ity = ‘London’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832-1B0C-477B-BFF1-7ED39CD716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3" name="Picture 1029" descr="DS3-Table 05-31"/>
          <p:cNvPicPr/>
          <p:nvPr/>
        </p:nvPicPr>
        <p:blipFill>
          <a:blip r:embed="rId1"/>
          <a:stretch/>
        </p:blipFill>
        <p:spPr>
          <a:xfrm>
            <a:off x="533520" y="1676520"/>
            <a:ext cx="5551200" cy="27939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9CC-DBA1-4286-862C-C6D0206B36D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ote, search condition s.branchNo = b.branchNo is necessary to consider correct branch record for each member of staff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omitted, would get all staff records listed out because subquer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* FROM Branch WHERE city=‘London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ould always be true and query would b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 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tru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543B-62FB-46BA-BB23-853BE64D22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Multi-Table 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subqueries provided result columns come from same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result columns come from more than one table must use a jo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perform join, include more than one table in FROM clause and use comma as separator and typically include WHERE clause to specify join column(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A77-674F-4B85-970E-24D3273390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also write this query using join construc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 s, Branch 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.branchNo = b.branchNo AN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ty = ‘London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FE7-637A-451A-A3DB-7332EC742D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3920" y="1379520"/>
            <a:ext cx="808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normal set operations of Union, Intersection, and Difference to combine results of two or more queries into a single result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of two tables, A and B, is table containing all rows in either A or B or both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ion is table containing all rows common to both A and B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ifference is table containing all rows in A but not in B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wo tables must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union compatibl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 (They have the same num of attributes and each attribute from the sam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527-44AA-49B2-A771-5E570711B5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mat of set operator clause in each case i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[ALL] [CORRESPONDING [BY {column1 [, ...]}]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CORRESPONDING BY specified, set operation performed on the named column(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CORRESPONDING specified but not BY clause, operation performed on common colum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ALL specified, result can include duplicate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E9A-6005-49C8-9AB6-90288090C3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3" name="Picture 5" descr="DS3-Figure 05-01"/>
          <p:cNvPicPr/>
          <p:nvPr/>
        </p:nvPicPr>
        <p:blipFill>
          <a:blip r:embed="rId1"/>
          <a:stretch/>
        </p:blipFill>
        <p:spPr>
          <a:xfrm>
            <a:off x="539640" y="1557360"/>
            <a:ext cx="7848720" cy="3824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81E-095C-40CA-A2CA-DF6115AF63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cities where there is either a branch office or  a proper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 UN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BCA-E155-4CAE-A735-B8D2C0CB2B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787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CORRESPONDING BY city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212-FF71-4B09-9622-7A921342F0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s result tables from both queries and merges both tables togeth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Picture 5" descr="DS3-Table 05-32"/>
          <p:cNvPicPr/>
          <p:nvPr/>
        </p:nvPicPr>
        <p:blipFill>
          <a:blip r:embed="rId1"/>
          <a:stretch/>
        </p:blipFill>
        <p:spPr>
          <a:xfrm>
            <a:off x="990720" y="2666880"/>
            <a:ext cx="4949640" cy="33800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D3E-A04A-44D9-9901-E55275C1F2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cities where there is both a branch office and a proper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 FROM Branch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D639-20B4-4543-8406-15B1F40FA5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FROM Branch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 CORRESPONDING BY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FROM PropertyForRent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5" name="Picture 4" descr="DS3-Table 05-33"/>
          <p:cNvPicPr/>
          <p:nvPr/>
        </p:nvPicPr>
        <p:blipFill>
          <a:blip r:embed="rId1"/>
          <a:stretch/>
        </p:blipFill>
        <p:spPr>
          <a:xfrm>
            <a:off x="1371600" y="3962520"/>
            <a:ext cx="4208400" cy="25621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320040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B4F-05FD-4561-8D6F-F5960CD0B6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rewrite this query without INTERSECT operato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b.cit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Branch b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b.city = p.city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p.city = b.city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2FD-171C-46F9-B0C5-73FE66E25D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Multi-Table 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so possible to use an alias for a table named in FROM clau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ias is separated from table name with a spac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ias can be used to qualify column names when there is ambigu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DA5-2035-45DC-B352-AB4D805881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4  Use of EXCEP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of all cities where there is a branch office but no 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Branch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EXCE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Branch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EXCEPT CORRESPONDING BY cit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4" name="Picture 4" descr="DS3-Table 05-34"/>
          <p:cNvPicPr/>
          <p:nvPr/>
        </p:nvPicPr>
        <p:blipFill>
          <a:blip r:embed="rId1"/>
          <a:stretch/>
        </p:blipFill>
        <p:spPr>
          <a:xfrm>
            <a:off x="6705720" y="4267080"/>
            <a:ext cx="2057400" cy="20415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774-0416-4F35-A385-E6CA85DA111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4  Use of EXCEP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rewrite this query without EXCEP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city NOT 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NOT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p.city = b.city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7AE-7FBF-4823-B38C-627691DA2C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TableName [ (columnList) 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LUES (dataValueList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lumn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optional; if omitted, SQL assumes a list of all columns in their original CREATE TABLE order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y columns omitted must have been declared as NULL when table was created, unless DEFAULT was specified when creat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7401-507A-4FD5-B758-259230DB76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match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lumn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s follo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umber of items in each list must be sam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ust be direct correspondence in position of items in two lists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 type of each item in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be compatible with data type of correspond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0265-876F-4F93-9EE6-59E9BF3823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5  INSERT … VALU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FF(sno, fname, lname, position, sex, DOB, salary, bn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a new row into Staff table supplying data for all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LUES (‘SG16’, ‘Alan’, ‘Brown’, ‘Assistant’, ‘M’, Date‘1957-05-25’, 8300, ‘B003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51EE-6895-4796-84EB-76EF7CE6CC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6  INSERT using Defaul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a new row into Staff table supplying data for all mandatory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SERT INTO Staff (staffNo, fName, lName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sition, salary, branch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UES (‘SG44’, ‘Anne’, ‘Jones’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ssistant’, 8100,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SERT INTO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UES (‘SG44’, ‘Anne’, ‘Jones’, ‘Assistant’, NUL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ULL, 8100,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F79-005C-4F81-8E9E-D09A9413B8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form of INSERT allows multiple rows to be copied from one or more tables to anoth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TableName [ (columnList) 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822-D6C1-4553-B0A4-2839FF1C8A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ssume there is a table StaffPropCount that contains names of staff and number of properties they manag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taffPropCount(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Times New Roman"/>
              </a:rPr>
              <a:t>staffNo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, fName, lName, propC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pulate StaffPropCount using Staff and PropertyForRent tab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866C-2E3B-4831-A611-8A16F04362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SERT INTO StaffPropCount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s.staffNo, fName, lName, COUNT(*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GROUP BY s.staffNo, fName, lNam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UNION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staffNo, fName, lName, 0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WHERE staffNo NOT IN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DISTINCT staffNo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PropertyForRent));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948B-119C-4207-995A-7492B29553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econd part of UNION is omitted, excludes those staff who currently do not manage any properti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1" name="Picture 6" descr="DS3-Table 05-35"/>
          <p:cNvPicPr/>
          <p:nvPr/>
        </p:nvPicPr>
        <p:blipFill>
          <a:blip r:embed="rId1"/>
          <a:stretch/>
        </p:blipFill>
        <p:spPr>
          <a:xfrm>
            <a:off x="990720" y="1676520"/>
            <a:ext cx="4572000" cy="3279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68A-20DD-4AD8-9E03-C264F0CAFD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4  Simp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8760" y="1557360"/>
            <a:ext cx="808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names of all clients who have viewed a property along with any comment suppli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.clientNo, fName, lName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No, com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Client c, Viewing 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.clientNo = v.clientNo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B411-ACC8-486D-B272-C893BAD581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PD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TableNam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columnName1 = dataValue1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, columnName2 = dataValue2...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 search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an be name of a base table or an updatable view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clause specifies names of one or more columns that are to be update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044-CDCC-43FA-9574-800E9ED39E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PD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lause is optiona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omitted, named columns are updated for all rows in t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pecified, only those rows that satisf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re update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ew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(s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be compatible with data type for correspond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F29-4E45-4691-B476-D24862AF28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8/39  UPDATE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ive all staff a 3% pay incre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salary = salary*1.03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ive all Managers a 5% pay incre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salary = salary*1.0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= ‘Manager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081F-DC4F-4867-8D33-D60BC5C82D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0  UPDATE Multiple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mote David Ford (staffNo=‘SG14’) to Manager and change his salary to £18,000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position = ‘Manager’, salary = 1800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taffNo = ‘SG14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F70F-4F99-446E-807E-7F3226236C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ELE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TableNam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 search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an be name of a base table or an updatabl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optional; if omitted, all rows are deleted from table. This does not delete table. I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_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specified, only those rows that satisfy condition are delet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D813-3574-4F8F-94DF-D0B5A88275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1/42  DELETE Specific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all viewings that relate to property PG4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View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ropertyNo = ‘PG4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all records from the Viewing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81DD-AA1B-4EE8-8DE0-E459D59E77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4  Simp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ly those rows from both tables that have identical values in the clientNo columns (c.clientNo = v.clientNo) are included in resul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4" descr="DS3-Table 05-24"/>
          <p:cNvPicPr/>
          <p:nvPr/>
        </p:nvPicPr>
        <p:blipFill>
          <a:blip r:embed="rId1"/>
          <a:stretch/>
        </p:blipFill>
        <p:spPr>
          <a:xfrm>
            <a:off x="1619280" y="3284640"/>
            <a:ext cx="5813280" cy="2808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3E1-AC08-4A4B-A7B3-41F26CE12D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native JOIN Construc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provides alternative ways to specify joi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iewing v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.clientNo = v.client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iewing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lient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TURAL JOIN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ew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each case, FROM replaces original FROM and WHERE. However, first produces table with two identical clientNo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F35-8DE4-4453-91F9-D08AB6B752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5  Sor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9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PERTYFORRENT (pno, street, area, city, pcode, type, rooms, rent,s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TAFF (sno, fname, lname, position, sex, DOB, salary, b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RANCH (bno, street, city, postcod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each branch, list numbers and names of staff who manage properties, and properties they mana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.branchNo, s.staffNo, fName, lName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perty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s.branchNo, s.staffNo, property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85C-8340-4150-B1F5-0927FF98CF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5  Sor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1" name="Picture 6" descr="DS3-Table 05-25"/>
          <p:cNvPicPr/>
          <p:nvPr/>
        </p:nvPicPr>
        <p:blipFill>
          <a:blip r:embed="rId1"/>
          <a:stretch/>
        </p:blipFill>
        <p:spPr>
          <a:xfrm>
            <a:off x="755640" y="1700280"/>
            <a:ext cx="6553080" cy="3208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5 of textbook
Database Systems: A Practical Approach to Design, Implementation, and Management</dc:description>
  <dc:language>en-US</dc:language>
  <cp:lastModifiedBy>A.Alnuaim</cp:lastModifiedBy>
  <cp:lastPrinted>1998-06-08T15:17:53Z</cp:lastPrinted>
  <dcterms:modified xsi:type="dcterms:W3CDTF">2016-12-11T12:43:00Z</dcterms:modified>
  <cp:revision>193</cp:revision>
  <dc:subject>Database Systems</dc:subject>
  <dc:title>Chapter 5</dc:title>
</cp:coreProperties>
</file>