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5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6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7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28C1-7659-418E-A105-471025876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3FBA-1BF2-4029-9349-8F7D9AE26DB5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E31B-AFA8-4646-9C7B-123B9DCE7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91D7-B58E-4E1A-B389-203291B65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E079-A37A-45E5-BBFF-A01DD6376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CE68-B0DD-432E-AB00-83F086C85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EC55-7024-42ED-A2DA-88A7A7EBC1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B89B-F8EB-42BA-B9A5-A8452D125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150D8-AE9E-400B-9A2A-E752AFF87A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06BD-20FB-4830-A1D5-FF634C2739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B54B-A58F-4AFD-B840-395689435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A198-2AB5-4936-8BFB-A0CE23AFF7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4C45C-DBB7-47A8-BDEB-B5C307071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F6D7-3033-4A08-BB30-CDC6E7B35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6F59-5F58-43B4-873A-9E3505797E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2D87-62BB-40AC-895B-E670AFB54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735C-F87C-4174-96A9-A431DD7AC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8946-AA53-48CF-8617-54E0860B8E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151D-1078-4775-A158-AEBCF0C264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9B4-01CC-4CDC-9FFA-6E6027D164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6C2-852D-416F-B647-842F3E31A8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307-02E8-41FF-A8C8-32BCFD647B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1F1-0654-4536-B0FD-212ED2F54D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BC4-7CB0-4432-A603-5753C2EE6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B78E-8B02-43A3-BE0E-A8823A51BA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0F7-6808-4B27-9A98-13AFCDC725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983-8955-4B8E-9D19-42329AF716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CE7-BBCB-4ACA-846F-BA55CDC7B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D96-8345-4A66-96E7-D480E018BF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CC4-2168-440F-AA1A-109412D9B5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C42-C821-4CE2-9471-DAEE2EBF75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A9E-4879-456B-B093-C093A468DD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90830-1497-4502-989A-381D275A70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525E9-FCFB-4BC0-BEA2-AC1C0FDC18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EA612-CC4A-4EE6-8D09-D87350CC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CE06-16EA-4CC1-851A-C0A4ED462F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7E8AF-A1C9-41B1-8633-3916EBB136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B7180-E3C8-49DB-B424-40F78F9DEF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58BE4-142E-471B-8364-8F3F9E4F5F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55110-0091-43F4-B6CB-CCC475FF47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55459-2B7B-434D-B5BB-517E78DFEC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E9F40-620D-43E9-99ED-8CEA8AB7A3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304E8-886A-44DF-816F-718DBDAD44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1D4F-F254-412B-A83F-37940E8389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27282-A175-4BE1-92A3-4FD104BDE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0C23-DB49-4D82-ACCE-7EC9BCB07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1243-D13A-4B8C-AECA-A149EA103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74E-AE38-4F00-B497-BC3CC8381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1DFF-0AEF-44DE-8F5D-8598F1BF7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03FD-3727-47D7-AEE5-9951E91DA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700-1498-4BB8-B96E-602DDD668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9C4C-28BD-409D-8874-67DA69CF7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0B6-FE7C-4CF0-95BC-6B6630BD1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50F9-BD76-44CC-8DAA-1CD0BCBB0C7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9104-95A5-4F4E-94B0-AAC4B585A0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6  Three Tab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4600" y="1557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each branch, list staff who manage properties, including city in which branch is located and properties they man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b.branchNo, b.city, s.staffNo, fName, lName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perty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Branch b,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.branchNo = s.branchNo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b.branchNo, s.staffNo, property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F029-5F0C-461F-8BD1-A1729B9F28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6  Three Tab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ternative formulation for FROM and WHER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(Branch b JOIN Staff s USING branchNo) 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s JOIN PropertyForRent p USING 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0" name="Picture 5" descr="DS3-Table 05-26"/>
          <p:cNvPicPr/>
          <p:nvPr/>
        </p:nvPicPr>
        <p:blipFill>
          <a:blip r:embed="rId1"/>
          <a:stretch/>
        </p:blipFill>
        <p:spPr>
          <a:xfrm>
            <a:off x="380880" y="1600200"/>
            <a:ext cx="7286760" cy="2709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3F64-18BF-47E2-B3CA-D3EC0A5689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7  Multiple Grouping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properties handled by each staff member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long with the branch number of the member of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SELECT s.branchNo, s.staffNo, COUNT(*) AS myCoun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GROUP BY s.branchNo, s.staffNo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Times New Roman"/>
              </a:rPr>
              <a:t>ORDER BY s.branchNo, s.staffNo;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7E14-495A-422A-9E53-CC1F13CB197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7  Multiple Grouping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8" name="Picture 6" descr="C05NT27a"/>
          <p:cNvPicPr/>
          <p:nvPr/>
        </p:nvPicPr>
        <p:blipFill>
          <a:blip r:embed="rId1"/>
          <a:stretch/>
        </p:blipFill>
        <p:spPr>
          <a:xfrm>
            <a:off x="1042920" y="1700280"/>
            <a:ext cx="4681440" cy="28112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7B9-5683-46A6-94C7-8C9081BF68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ompu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cedure for generating results of a join ar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. Form Cartesian product of the tables named in  FROM clau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. If there is a WHERE clause, apply the search condition to each row of the product table, retaining those rows that satisfy the condi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. For each remaining row, determine value of each item in SELECT list to produce a single row in resul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4. If DISTINCT has been specified, eliminate any duplicate rows from the resul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6. If there is an ORDER BY clause, sort result table as requi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576-94A9-4167-8263-ABB1E6D2E7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ompu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provides special format of SELECT for Cartesian produc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[DISTINCT | ALL]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{* | columnLis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Table1 CROSS JOIN Table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3D8E-0231-44F9-90AA-BF5D816D0F8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2360" y="1484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f one row of a joined table is unmatched, row is omitted from result table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uter join operations retain rows that do not satisfy the join condition.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onsider following tabl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Picture 4" descr="DS3-Table 05-Ms141"/>
          <p:cNvPicPr/>
          <p:nvPr/>
        </p:nvPicPr>
        <p:blipFill>
          <a:blip r:embed="rId1"/>
          <a:stretch/>
        </p:blipFill>
        <p:spPr>
          <a:xfrm>
            <a:off x="755640" y="4265640"/>
            <a:ext cx="6483240" cy="2135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CD56-B5EC-450E-BC5D-720DCB53B1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5238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(inner) join of these two tabl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, PropertyForRent1 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5" descr="DS3-Table 05-27b"/>
          <p:cNvPicPr/>
          <p:nvPr/>
        </p:nvPicPr>
        <p:blipFill>
          <a:blip r:embed="rId1"/>
          <a:stretch/>
        </p:blipFill>
        <p:spPr>
          <a:xfrm>
            <a:off x="1600200" y="3886200"/>
            <a:ext cx="5203800" cy="2428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449-8201-473D-9A59-B1F9F5627E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uter Joi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9120" y="1557360"/>
            <a:ext cx="8013600" cy="34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sult table has two rows where cities are sam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no rows corresponding to branches in Bristol and Aberdee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include unmatched rows in result table, use an Outer jo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48CF-9E13-4DCC-BBDF-74F5E9B8295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8  Lef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that are in same city along with any unmatched branch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LEFT JO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5036-FCE7-4827-8DA2-65D7C4ED22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6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retrieve data from multiple relations using SELEC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update database using INSERT, UPDATE, and DELE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914A-E885-4BA8-AAD3-17119465CC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8  Lef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142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cludes those rows of first (left) table unmatched with rows from second (right)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s from second table are filled with NUL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9" name="Picture 1029" descr="DS3-Table 05-28"/>
          <p:cNvPicPr/>
          <p:nvPr/>
        </p:nvPicPr>
        <p:blipFill>
          <a:blip r:embed="rId1"/>
          <a:stretch/>
        </p:blipFill>
        <p:spPr>
          <a:xfrm>
            <a:off x="1332000" y="3645000"/>
            <a:ext cx="5616360" cy="26859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9A13-ED83-49CB-8366-3FB5DE52BC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9  Righ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in same city and any unmatched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RIGHT JO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FB4-7073-41E0-B38B-BD2BAD40BB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9  Right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1421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ight Outer join includes those rows of second (right) table that are unmatched with rows from first (left)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s from first table are filled with NUL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8" name="Picture 5" descr="DS3-Table 05-29"/>
          <p:cNvPicPr/>
          <p:nvPr/>
        </p:nvPicPr>
        <p:blipFill>
          <a:blip r:embed="rId1"/>
          <a:stretch/>
        </p:blipFill>
        <p:spPr>
          <a:xfrm>
            <a:off x="990720" y="3505320"/>
            <a:ext cx="6173640" cy="2890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BDE4-F81D-4457-B5A8-53D96C6158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0  Full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8760" y="1557360"/>
            <a:ext cx="808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branches and properties in same city and any unmatched branches or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b.*, p.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1 b FULL JOI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ForRent1 p ON b.bCity = p.pCity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F3EE-DB37-4E60-AE6D-209C84B377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0  Full Outer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cludes rows that are unmatched in both tabl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matched columns are filled with NULL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7" name="Picture 5" descr="DS3-Table 05-30"/>
          <p:cNvPicPr/>
          <p:nvPr/>
        </p:nvPicPr>
        <p:blipFill>
          <a:blip r:embed="rId1"/>
          <a:stretch/>
        </p:blipFill>
        <p:spPr>
          <a:xfrm>
            <a:off x="1066680" y="2971800"/>
            <a:ext cx="5953320" cy="32259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104-DB8B-4F6D-9C4E-B64BB5F777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ISTS and NOT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XISTS and NOT EXISTS are for use only with subqueri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 simple true/false resul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ue if and only if there exists at least one row in result table returned by subque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alse if subquery returns an empty result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OT EXISTS is the opposite of EXIST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943D-3FCA-4551-8F7A-B77504495BE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ISTS and NOT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s (NOT) EXISTS check only for existence or non-existence of rows in subquery result table, subquery can contain any number of colum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on for subqueries following (NOT) EXISTS to be of form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...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831B-409F-458D-916B-2F0ED1C2A5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all staff who work in a London branch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 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.branchNo = b.branchNo AND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city = ‘London’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1D0-EF55-4C42-9109-316FF1AE9F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3" name="Picture 1029" descr="DS3-Table 05-31"/>
          <p:cNvPicPr/>
          <p:nvPr/>
        </p:nvPicPr>
        <p:blipFill>
          <a:blip r:embed="rId1"/>
          <a:stretch/>
        </p:blipFill>
        <p:spPr>
          <a:xfrm>
            <a:off x="533520" y="1676520"/>
            <a:ext cx="5551200" cy="27939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6A2C-8D15-4BAA-896A-0E260F0FEC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ote, search condition s.branchNo = b.branchNo is necessary to consider correct branch record for each member of staff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omitted, would get all staff records listed out because subquer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* FROM Branch WHERE city=‘London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ould always be true and query would b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 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true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561-28CA-417B-9EE3-EA7B58AF59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Multi-Table 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subqueries provided result columns come from same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result columns come from more than one table must use a jo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perform join, include more than one table in FROM clause and use comma as separator and typically include WHERE clause to specify join column(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4062-F18D-4DF3-9CD1-B7F00E7F3D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1  Query using EXIS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also write this query using join construc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 s, Branch 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.branchNo = b.branchNo AN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ty = ‘London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22D1-9072-49AF-AD78-4EDE8156BD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3920" y="1379520"/>
            <a:ext cx="808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normal set operations of Union, Intersection, and Difference to combine results of two or more queries into a single result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of two tables, A and B, is table containing all rows in either A or B or both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ion is table containing all rows common to both A and B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ifference is table containing all rows in A but not in B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wo tables must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union compatibl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 (They have the same num of attributes and each attribute from the sam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85E8-F361-40CE-8F21-70542715ED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mat of set operator clause in each case i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op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[ALL] [CORRESPONDING [BY {column1 [, ...]}]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CORRESPONDING BY specified, set operation performed on the named column(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CORRESPONDING specified but not BY clause, operation performed on common column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ALL specified, result can include duplicate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998B-A0F5-4592-AE30-D5EAEC54641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nion, Intersect, and Difference (Excep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3" name="Picture 5" descr="DS3-Figure 05-01"/>
          <p:cNvPicPr/>
          <p:nvPr/>
        </p:nvPicPr>
        <p:blipFill>
          <a:blip r:embed="rId1"/>
          <a:stretch/>
        </p:blipFill>
        <p:spPr>
          <a:xfrm>
            <a:off x="539640" y="1557360"/>
            <a:ext cx="7848720" cy="38242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3C17-6A77-4073-9CAA-0C1AECA230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cities where there is either a branch office or  a proper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 UN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50CE-4602-44C9-B227-6AF2B08058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787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CORRESPONDING BY city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IS NOT NULL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3A6-1D76-46F7-B614-7C248E1F96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2  Use of UN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s result tables from both queries and merges both tables togeth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Picture 5" descr="DS3-Table 05-32"/>
          <p:cNvPicPr/>
          <p:nvPr/>
        </p:nvPicPr>
        <p:blipFill>
          <a:blip r:embed="rId1"/>
          <a:stretch/>
        </p:blipFill>
        <p:spPr>
          <a:xfrm>
            <a:off x="990720" y="2666880"/>
            <a:ext cx="4949640" cy="33800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119B-5292-4C40-9D6E-B0A13578732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cities where there is both a branch office and a proper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 FROM Branch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F23F-F5E7-405C-8244-576B776EF8D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FROM Branch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ERSECT CORRESPONDING BY c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* FROM PropertyForRent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5" name="Picture 4" descr="DS3-Table 05-33"/>
          <p:cNvPicPr/>
          <p:nvPr/>
        </p:nvPicPr>
        <p:blipFill>
          <a:blip r:embed="rId1"/>
          <a:stretch/>
        </p:blipFill>
        <p:spPr>
          <a:xfrm>
            <a:off x="1371600" y="3962520"/>
            <a:ext cx="4208400" cy="25621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320040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1D3C-B4F4-409E-824B-D586A237DE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3  Use of INTERS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rewrite this query without INTERSECT operato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b.cit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Branch b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b.city = p.city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p.city = b.city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1EA-9948-4DDB-9EDA-FC4D09A570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Multi-Table 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so possible to use an alias for a table named in FROM clau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ias is separated from table name with a spac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ias can be used to qualify column names when there is ambiguit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32F-457C-4752-8DF2-93989B3D81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4  Use of EXCEP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of all cities where there is a branch office but no  propert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Branch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EXCE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Branch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EXCEPT CORRESPONDING BY cit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4" name="Picture 4" descr="DS3-Table 05-34"/>
          <p:cNvPicPr/>
          <p:nvPr/>
        </p:nvPicPr>
        <p:blipFill>
          <a:blip r:embed="rId1"/>
          <a:stretch/>
        </p:blipFill>
        <p:spPr>
          <a:xfrm>
            <a:off x="6705720" y="4267080"/>
            <a:ext cx="2057400" cy="20415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84A-E8F8-49CB-94FC-77C9ECB43C6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4  Use of EXCEP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ld rewrite this query without EXCEPT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city NOT 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city FROM PropertyForRent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DISTINCT city FROM Branch b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NOT EXIS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SELECT * FROM PropertyForRent p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p.city = b.city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8935-65F8-4029-AFF4-10FDD4D62A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TableName [ (columnList) 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LUES (dataValueList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lumn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optional; if omitted, SQL assumes a list of all columns in their original CREATE TABLE order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y columns omitted must have been declared as NULL when table was created, unless DEFAULT was specified when creat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0BC-908C-4D49-B240-7C6B7490CB6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match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olumn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s follow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umber of items in each list must be sam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ust be direct correspondence in position of items in two lists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a type of each item in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Lis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be compatible with data type of correspond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DEE9-C5AB-420F-8A51-8D16C4744B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5  INSERT … VALU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FF(sno, fname, lname, position, sex, DOB, salary, bn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a new row into Staff table supplying data for all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LUES (‘SG16’, ‘Alan’, ‘Brown’, ‘Assistant’, ‘M’, Date‘1957-05-25’, 8300, ‘B003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7749-7C04-414C-8750-9356A7A034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6  INSERT using Defaul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a new row into Staff table supplying data for all mandatory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SERT INTO Staff (staffNo, fName, lName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sition, salary, branch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UES (‘SG44’, ‘Anne’, ‘Jones’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ssistant’, 8100,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SERT INTO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ALUES (‘SG44’, ‘Anne’, ‘Jones’, ‘Assistant’, NUL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ULL, 8100,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763-58D3-41EA-8E93-61724866B6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7926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ond form of INSERT allows multiple rows to be copied from one or more tables to anoth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ERT INTO TableName [ (columnList) 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3C6-D5AC-47F8-AB0E-4E5C1CA4A0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ssume there is a table StaffPropCount that contains names of staff and number of properties they manag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taffPropCount(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Times New Roman"/>
              </a:rPr>
              <a:t>staffNo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, fName, lName, propC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pulate StaffPropCount using Staff and PropertyForRent tab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4E7-16A6-42EA-A691-024F0387BD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INSERT INTO StaffPropCount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s.staffNo, fName, lName, COUNT(*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GROUP BY s.staffNo, fName, lNam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UNION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staffNo, fName, lName, 0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WHERE staffNo NOT IN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(SELECT DISTINCT staffNo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000066"/>
                </a:solidFill>
                <a:latin typeface="Times New Roman"/>
              </a:rPr>
              <a:t>FROM PropertyForRent));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4D7F-C637-4669-8573-CA8827B5FE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7  INSERT … SELE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econd part of UNION is omitted, excludes those staff who currently do not manage any properti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1" name="Picture 6" descr="DS3-Table 05-35"/>
          <p:cNvPicPr/>
          <p:nvPr/>
        </p:nvPicPr>
        <p:blipFill>
          <a:blip r:embed="rId1"/>
          <a:stretch/>
        </p:blipFill>
        <p:spPr>
          <a:xfrm>
            <a:off x="990720" y="1676520"/>
            <a:ext cx="4572000" cy="3279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361-601A-45E1-9F7F-1D983CC4F0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4  Simp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8760" y="1557360"/>
            <a:ext cx="808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names of all clients who have viewed a property along with any comment suppli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.clientNo, fName, lName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pertyNo, com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Client c, Viewing 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.clientNo = v.clientNo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0179-D010-4417-BB0E-6FA3171451C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PD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TableNam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columnName1 = dataValue1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, columnName2 = dataValue2...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 search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an be name of a base table or an updatable view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clause specifies names of one or more columns that are to be update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4772-DC8A-43FA-AAE5-8A08318CB8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UPD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lause is optiona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omitted, named columns are updated for all rows in tabl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pecified, only those rows that satisf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re update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New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ataValue(s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must be compatible with data type for corresponding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D0F-142D-40AA-A559-A652198CFE0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8/39  UPDATE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ive all staff a 3% pay incre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salary = salary*1.03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ive all Managers a 5% pay increas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salary = salary*1.0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= ‘Manager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0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DE3E-DC4E-47D5-B86F-B3CB0717C9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0  UPDATE Multiple Column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mote David Ford (staffNo=‘SG14’) to Manager and change his salary to £18,000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DATE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position = ‘Manager’, salary = 1800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taffNo = ‘SG14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6926-07C3-4BA8-9A36-194DCCF52B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ELE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TableNam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 search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TableNam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an be name of a base table or an updatable view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optional; if omitted, all rows are deleted from table. This does not delete table. I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earch_condition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is specified, only those rows that satisfy condition are delet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7F0-8A2D-4619-8783-72C279307F1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1/42  DELETE Specific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all viewings that relate to property PG4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View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ropertyNo = ‘PG4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all records from the Viewing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LETE 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0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34E-F37D-447B-BC86-8CD6DE9E4B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4  Simple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ly those rows from both tables that have identical values in the clientNo columns (c.clientNo = v.clientNo) are included in resul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9" name="Picture 4" descr="DS3-Table 05-24"/>
          <p:cNvPicPr/>
          <p:nvPr/>
        </p:nvPicPr>
        <p:blipFill>
          <a:blip r:embed="rId1"/>
          <a:stretch/>
        </p:blipFill>
        <p:spPr>
          <a:xfrm>
            <a:off x="1619280" y="3284640"/>
            <a:ext cx="5813280" cy="2808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5D3-B70D-46C4-8F00-3651A32EF2C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native JOIN Construc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provides alternative ways to specify joi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c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iewing v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.clientNo = v.client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O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Viewing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client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 Clien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ATURAL JOIN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ew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each case, FROM replaces original FROM and WHERE. However, first produces table with two identical clientNo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FD7-DA4A-40EF-9D90-A3C0ACD2DF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5  Sor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9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PERTYFORRENT (pno, street, area, city, pcode, type, rooms, rent,s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TAFF (sno, fname, lname, position, sex, DOB, salary, b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RANCH (bno, street, city, postcod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each branch, list numbers and names of staff who manage properties, and properties they mana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.branchNo, s.staffNo, fName, lName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perty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s.branchNo, s.staffNo, property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F0CE-8721-4621-8A16-B99DD265BB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5  Sorting a jo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1" name="Picture 6" descr="DS3-Table 05-25"/>
          <p:cNvPicPr/>
          <p:nvPr/>
        </p:nvPicPr>
        <p:blipFill>
          <a:blip r:embed="rId1"/>
          <a:stretch/>
        </p:blipFill>
        <p:spPr>
          <a:xfrm>
            <a:off x="755640" y="1700280"/>
            <a:ext cx="6553080" cy="32083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5 of textbook
Database Systems: A Practical Approach to Design, Implementation, and Management</dc:description>
  <dc:language>en-US</dc:language>
  <cp:lastModifiedBy>A.Alnuaim</cp:lastModifiedBy>
  <cp:lastPrinted>1998-06-08T15:17:53Z</cp:lastPrinted>
  <dcterms:modified xsi:type="dcterms:W3CDTF">2016-12-11T12:43:00Z</dcterms:modified>
  <cp:revision>193</cp:revision>
  <dc:subject>Database Systems</dc:subject>
  <dc:title>Chapter 5</dc:title>
</cp:coreProperties>
</file>