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6FF-00D9-4CD9-91D2-4005C7C0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8A8-BEA6-4CA3-BC39-74EB0451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2AB-9862-4F5B-BA62-9594223D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5BB-F996-4E6E-9D41-984A5E3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F80-35D5-4BC0-96A2-11AAE53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4AE-0C7E-4D38-9938-A228DA48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E2E-DB34-4133-96CF-18C8DCD6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7A7-E43C-43D0-8B13-106AA9BE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ACA7-6145-4654-9536-EE652678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4BB-ECCE-4020-B1D1-869AC87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66A-AFFE-481A-A0F9-55246F1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0FBC-5530-4FFC-9452-C8618FC3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5152-5682-4C22-94A5-DD17646F1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logo.png"/>
          <p:cNvPicPr/>
          <p:nvPr/>
        </p:nvPicPr>
        <p:blipFill>
          <a:blip r:embed="rId1"/>
          <a:stretch/>
        </p:blipFill>
        <p:spPr>
          <a:xfrm>
            <a:off x="6095880" y="0"/>
            <a:ext cx="2857680" cy="507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80" y="507960"/>
            <a:ext cx="888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gure 1. Inhibitory effect of (A): ethyl acetate fraction and (B): aqueous fraction of Lycopersiconesculentumleaves extract on fungi grow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" descr="fig1.gif"/>
          <p:cNvPicPr/>
          <p:nvPr/>
        </p:nvPicPr>
        <p:blipFill>
          <a:blip r:embed="rId2"/>
          <a:stretch/>
        </p:blipFill>
        <p:spPr>
          <a:xfrm>
            <a:off x="1627200" y="960480"/>
            <a:ext cx="5873760" cy="4897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27080" y="5969160"/>
            <a:ext cx="8889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rèneAhou Kouadio et al. Prevention of Crops Contamination by Fungi and Mycotoxins Using Natural Substances Derived from Lycopersiconesculentum Mill. Leaves. Journal of Food Security, 2013, Vol. 1, No. 2, 16-26. doi:10.12691/jfs-1-2-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27080" y="6603840"/>
            <a:ext cx="888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The Author(s) 2013. Published by Science and Education Publishing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37:27Z</dcterms:created>
  <dc:creator>sciepub</dc:creator>
  <dc:description/>
  <dc:language>en-US</dc:language>
  <cp:lastModifiedBy>微软用户</cp:lastModifiedBy>
  <dcterms:modified xsi:type="dcterms:W3CDTF">2013-08-05T10:06:04Z</dcterms:modified>
  <cp:revision>3</cp:revision>
  <dc:subject/>
  <dc:title>幻灯片 1</dc:title>
</cp:coreProperties>
</file>