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1B2-CF08-452B-A176-5A654081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4EAE-257F-4CF4-B78A-FA880209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D0B8-2D96-4C5C-880E-9673E490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C6A8-DF8F-45DB-ACC8-476F0095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F70-2C8D-4500-A492-0AE3F9A5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4046-B8B3-4FB1-9B16-C8DAFC15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F7C7-2532-4D16-99A5-433EE29F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48E-C657-4775-BC18-588FBA52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731-6703-4A4B-B5E4-E7BE8120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9833-3FBF-4105-B90A-EBCCE43D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4821-5CF8-4ED8-80D4-299B3E48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EECA-C446-4A68-8602-A8AB388B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D555-A4B2-4E84-AA7B-2417BFFED9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logo.png"/>
          <p:cNvPicPr/>
          <p:nvPr/>
        </p:nvPicPr>
        <p:blipFill>
          <a:blip r:embed="rId1"/>
          <a:stretch/>
        </p:blipFill>
        <p:spPr>
          <a:xfrm>
            <a:off x="6095880" y="0"/>
            <a:ext cx="2857680" cy="5079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80" y="507960"/>
            <a:ext cx="888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ure 1. Inhibitory effect of (A): ethyl acetate fraction and (B): aqueous fraction of Lycopersiconesculentumleaves extract on fungi grow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fig1.gif"/>
          <p:cNvPicPr/>
          <p:nvPr/>
        </p:nvPicPr>
        <p:blipFill>
          <a:blip r:embed="rId2"/>
          <a:stretch/>
        </p:blipFill>
        <p:spPr>
          <a:xfrm>
            <a:off x="1627200" y="960480"/>
            <a:ext cx="5873760" cy="4897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27080" y="5969160"/>
            <a:ext cx="88898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rèneAhou Kouadio et al. Prevention of Crops Contamination by Fungi and Mycotoxins Using Natural Substances Derived from Lycopersiconesculentum Mill. Leaves. Journal of Food Security, 2013, Vol. 1, No. 2, 16-26. doi:10.12691/jfs-1-2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127080" y="6603840"/>
            <a:ext cx="8889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The Author(s) 2013. Published by Science and Education Publishin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6:37:27Z</dcterms:created>
  <dc:creator>sciepub</dc:creator>
  <dc:description/>
  <dc:language>en-US</dc:language>
  <cp:lastModifiedBy>微软用户</cp:lastModifiedBy>
  <dcterms:modified xsi:type="dcterms:W3CDTF">2013-08-05T10:06:04Z</dcterms:modified>
  <cp:revision>3</cp:revision>
  <dc:subject/>
  <dc:title>幻灯片 1</dc:title>
</cp:coreProperties>
</file>