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4638-AD27-4269-A440-693D5A98F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FDA-2F88-4E3D-A1AB-A9D34264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537-E38F-4391-9709-6599D495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252-ECA3-4446-B58D-6C5F650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5FC-4DA6-42A4-86ED-75FC272B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6BE-CF1A-4B66-BE1D-09A1060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E28F-C643-4557-85A6-667493B2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B35-555C-4C73-9BDB-A10F4257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1E14-7DEA-4870-8706-FD4A2538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FEB-FBB8-460E-8062-AA98169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6396-42D7-4182-89A7-BD44CAB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A93-E082-4A11-AF36-DBF4F5B2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0072-5310-4DFD-B5EF-5BBC46889A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logo.png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507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80" y="507960"/>
            <a:ext cx="888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ure 1. Inhibitory effect of (A): ethyl acetate fraction and (B): aqueous fraction of Lycopersiconesculentumleaves extract on fungi grow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fig1.gif"/>
          <p:cNvPicPr/>
          <p:nvPr/>
        </p:nvPicPr>
        <p:blipFill>
          <a:blip r:embed="rId2"/>
          <a:stretch/>
        </p:blipFill>
        <p:spPr>
          <a:xfrm>
            <a:off x="1627200" y="960480"/>
            <a:ext cx="587376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7080" y="5969160"/>
            <a:ext cx="888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èneAhou Kouadio et al. Prevention of Crops Contamination by Fungi and Mycotoxins Using Natural Substances Derived from Lycopersiconesculentum Mill. Leaves. Journal of Food Security, 2013, Vol. 1, No. 2, 16-26. doi:10.12691/jfs-1-2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7080" y="6603840"/>
            <a:ext cx="88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The Author(s) 2013. Published by Science and Education Publish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37:27Z</dcterms:created>
  <dc:creator>sciepub</dc:creator>
  <dc:description/>
  <dc:language>en-US</dc:language>
  <cp:lastModifiedBy>微软用户</cp:lastModifiedBy>
  <dcterms:modified xsi:type="dcterms:W3CDTF">2013-08-05T10:06:04Z</dcterms:modified>
  <cp:revision>3</cp:revision>
  <dc:subject/>
  <dc:title>幻灯片 1</dc:title>
</cp:coreProperties>
</file>