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C4D-2A01-4E6D-ABDC-0286536B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800-1C53-4515-A2C2-BC26A963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82B-3A32-431B-B557-090B27A3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C1E-A0C0-43DC-8C80-755EE85D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AB0-DC9C-4750-81B6-2EC52942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0A2-8180-4BA9-9251-2C0B3452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36E-3D71-4958-A66B-5EB8B5B3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CE3-7974-47A0-9D78-E9853678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82E-1CA6-4E9D-9033-61B274C3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39C-1F77-4B07-8AF3-CE901486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A96-9076-4E27-8A73-5C879EBC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32A-7CA2-46FA-A299-06665C3B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64CF-B261-4D35-AE0F-50F2E43E1B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logo.png"/>
          <p:cNvPicPr/>
          <p:nvPr/>
        </p:nvPicPr>
        <p:blipFill>
          <a:blip r:embed="rId1"/>
          <a:stretch/>
        </p:blipFill>
        <p:spPr>
          <a:xfrm>
            <a:off x="6095880" y="0"/>
            <a:ext cx="2857680" cy="507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80" y="507960"/>
            <a:ext cx="888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ure 1. Inhibitory effect of (A): ethyl acetate fraction and (B): aqueous fraction of Lycopersiconesculentumleaves extract on fungi grow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fig1.gif"/>
          <p:cNvPicPr/>
          <p:nvPr/>
        </p:nvPicPr>
        <p:blipFill>
          <a:blip r:embed="rId2"/>
          <a:stretch/>
        </p:blipFill>
        <p:spPr>
          <a:xfrm>
            <a:off x="1627200" y="960480"/>
            <a:ext cx="5873760" cy="4897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27080" y="5969160"/>
            <a:ext cx="8889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èneAhou Kouadio et al. Prevention of Crops Contamination by Fungi and Mycotoxins Using Natural Substances Derived from Lycopersiconesculentum Mill. Leaves. Journal of Food Security, 2013, Vol. 1, No. 2, 16-26. doi:10.12691/jfs-1-2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27080" y="6603840"/>
            <a:ext cx="888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The Author(s) 2013. Published by Science and Education Publish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6:37:27Z</dcterms:created>
  <dc:creator>sciepub</dc:creator>
  <dc:description/>
  <dc:language>en-US</dc:language>
  <cp:lastModifiedBy>微软用户</cp:lastModifiedBy>
  <dcterms:modified xsi:type="dcterms:W3CDTF">2013-08-05T10:06:04Z</dcterms:modified>
  <cp:revision>3</cp:revision>
  <dc:subject/>
  <dc:title>幻灯片 1</dc:title>
</cp:coreProperties>
</file>