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dt" idx="4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ftr" idx="5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 type="sldNum" idx="5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1A1B-723A-4E1F-B8C3-510F05940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9EBF-8D99-447A-B9D7-B7BB08840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7D53-3AAB-47CD-813F-58BD4BDE6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B7F1-F8EC-452D-B2D2-70CEDCCAC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32F4-3E60-480B-B8C4-3B1EC4F9D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D8D7-6D58-4928-B3F1-1C0421238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8331-45BD-4FCF-BC5A-8138B2019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0BFA-10B3-4594-9218-23D061166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4237-F344-4FF1-9A82-A6BCF23E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8031-E020-4B59-BE6C-5C62BD1E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E7ECA-E160-41E3-95B5-6BF46C38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1DC29-296E-43B8-A903-E5E019ED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98C24-0083-493C-A395-EE6F9B87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7BEBB-5897-4940-B87F-499733F5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C1115-8B46-4903-9589-19DEC965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22F17-AF5F-4086-9F76-C0802018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37F16-7BC6-4DDE-A60E-5BF65FF9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BD58D-09A4-40B8-AE42-1BF66F0B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3788F-E6B6-48A7-A863-869C6B85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5B838-1ED6-42D9-AC73-E078AA56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29CD-4D2D-4EEA-8B2B-8DCE402E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08310-54C3-4747-AF57-7ECF2B23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EAC3A-9F3A-411F-9548-8CE38DA0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9A1B5-76C0-417B-A6CE-2C4C0413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34BE8-9DF0-44D4-9D09-C9CDC978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AA304-8D43-4397-9069-5274E4EB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422AB-AC9E-45D9-96EF-0C2CB3F0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C5945-7C72-4CDC-A528-5104FB0E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6727C-3D42-44A3-8856-8FC4CAA0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5DE0B-A8DB-4A53-B2CC-1BEA47A6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DC28A-555F-4F5B-80A7-D21668D3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C353-DD28-45EF-8C4D-DD6CD8DE8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7CC91-1BC9-47EB-9AC6-8364C741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1FF97-87E3-48C0-B144-909D619E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78959-1F69-4A9D-A4E7-78CFD4BC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335D9-A110-43BD-93A7-77E94894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88F49-85CD-4EBC-BB00-4B8ADDA5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A8AAC-3940-4B80-B1DF-5B96064C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77661-D010-40F6-B101-20952483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7CED4-3774-488C-80F3-FEDE9E14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9F224-621B-4533-A552-CF132877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E839C-B8DD-455D-B741-A7083067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12C0-F0AC-4B26-8EE8-8021276B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F238C-EBDA-417B-82B5-34692360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D3562-DB6C-4F5B-A318-A6F7406D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12E36-09C1-434E-832A-0CE091C8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CBE51-241F-4E60-816A-110A92AA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592EB-20CA-4F77-A1ED-AFAC4F6C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CF081-272D-4050-8D17-923AD05C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BDC79-7DC7-4EA9-9BBD-6CF02B12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1947C-2596-49AE-A2E8-5417DBFB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D5059-2EE1-4E09-83E5-A7F72243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CAAF2-C776-45A6-B6F1-04BA9471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18AF-DF3B-4CA1-8AA4-73A088FE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94924-5039-4A7F-AB97-30B2072F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84711-F27A-40FC-BB1C-359DDD0B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53F4D-1EBC-4E45-B58B-A637D31D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9547C-0891-4BBF-9BC5-AEDE9167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5F5D9-C32C-4C3B-859C-5F6E2A73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A8EB5F-BB7E-4B9C-AB24-1F5B38BE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3408ED-DED4-4670-96E5-5D926837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939AA5-E040-4B22-BACD-25534875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713F11-8BDE-4FFD-B14D-FAFD10D2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F59DD4-5AD8-4A3B-9057-1EA8F9D2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0DE4-AF15-4F06-BA7A-C2B869E9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4AC912-62D5-4C54-B6A3-12B521AB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9AC506-FB6B-4CC9-BD44-7798725E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0AC07-88D7-413D-9C6B-332DA070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C6638B-9AB3-4115-AD21-50095835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566CA2-B804-43C7-B9AB-CD65E1B7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13835-D114-4F46-B72C-2EDA1563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95396-70A2-4E7E-B861-0EDD8F4E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596547-96A2-4B64-AAE3-5F164F72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74D121-8795-4E70-97AD-9DA0CBDC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CC53E8-F2F1-4E61-A6BC-2DA990CD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1280-3619-4502-9251-A60B0EB1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0152D2-252B-49D9-BABE-07001852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67F833-07C4-4CE9-91D9-420EAD42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2E7742-1954-4437-B76F-3717A075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03DAFF-F5F8-4920-8E65-21C1FC73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08763E-8D08-494B-B3A9-E0755161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05F483-BC84-483E-88F1-CFF7B954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E79BB-7B43-41E8-A20C-5AE792E8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2F031A-921A-4E94-89E8-57390A67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BBA6BC-8997-4ACB-9F43-B20CE6A7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DAA5D6-C352-4009-8EAC-2FB81152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E9A0-A88E-4FA8-8EC9-4F388B58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208872-550A-4BAB-B74E-CD14BE5C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C329E6-AA82-45EE-B85F-41D7BFE2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E129D4-F634-4564-BAD1-72A2A6F1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AB8F2A-B84C-4B1A-9172-9C6C7DEE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80556A-04F1-4AED-A5B9-98AF3E84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88FB1E-E579-48B4-B27D-76915D6A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6EB321-5798-458E-9397-435624C9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5A59FA-30D7-4C96-879A-02615747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A24A7E-3893-4A5E-93E9-BBB18D8E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56B318-EF3B-45F9-8237-AB47F93C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012F-C4AB-4873-89E9-A3877CC7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028D83-DE66-4237-972A-1E31EA72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3DFC73-4BC2-4857-920E-5BCDD0A3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5BA7AC-3A62-4661-AA5C-0A597A50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6E4956-FB5B-4501-9200-7A282AB5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A6196C-AEBC-4AF7-A08D-55AEF934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284291-8792-4DF4-935C-141AAF91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AD2D36-B081-4C29-90C2-4466DC04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2CC20B-0F5C-4465-8CF2-3428D803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B7F652-67F0-45ED-ACD6-9AB4871A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E6730B-D382-4868-B563-D7B5F3CE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9BD2-2E62-422C-8DB0-2726F7B4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C539C2-84FE-4A38-9CC7-3E96901B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FEF1E-FCFA-45E8-BFB8-C2055DD0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9CC813-10DE-4F22-9932-0C302C08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B5D-3C95-47FD-A953-8B4B4420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FBC4-3FD2-4A21-A088-FF355191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42C2-1BA9-456A-955B-A17FD806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5ADB-2D4C-4526-9317-BF6A7792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2EEF-3C4A-4911-A929-58F8C6F0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A952-9979-492B-83AD-CDE3C8C2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43BE3-3465-4D29-9BBB-DDE12ECF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74CAF-3B1A-414C-B5E7-A4F65149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F1D0C-690D-457F-9820-DC300B16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DB20D-ABE0-48A4-8295-974BC2B3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D92C1-28CB-43F4-9B09-9D84F337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F8C-E1D2-4BC9-8D7C-959FA181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710EA-278B-423F-9C7C-91412F6C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CEF3F-65A9-4A2B-BF2E-569182BB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70150-3134-44CC-A56A-52F0FA36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16A62-A24D-4277-92CB-FD6EBAB3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41D62-EBEE-4766-8821-A51D2F21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718E9-2FB3-47DD-8F35-8E17F4B6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D3E6C-64E7-426A-93E4-14E35D2E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7472D-5DCD-4A40-8521-D8E6B31E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946B1-C2DB-45C6-BF66-B88BAA13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2F690-EEBA-4B8B-8F6C-8E9E1DA1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D00-416B-4A66-AA98-55AFBA8D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7C538-7FB4-4317-8110-306299B7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59215-2AA4-444C-A083-1241EED8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D4B92-BB26-4049-B562-D221F116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7E618-EB26-43CC-99EC-0EC39C87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FC7F1-2EB0-41A0-B391-74E38129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49D1C-7CC3-4724-9090-D4BD1A50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013D7-7568-499F-89C4-83F342C9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00226-BE5C-4B1A-A137-B4377446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9F4BD-E9CA-4995-8D51-40FE600B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27261-3B62-441F-91DD-AA533F0E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BBD6-F094-4BE1-8355-7A6AB3DD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0A438-DEA4-4657-8330-7F1595AA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0E12F-3E5B-483B-8102-B8EDA613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856AC-3C24-4E78-89BF-C872AD03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66645-2E39-4306-8486-3AE19175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84FBC-83FC-486F-BFE3-71289323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5F071-B0CE-4C2E-B450-1F190E4B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0443F-EC27-4057-8E33-6CA736C7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B3F7E-DE0A-4352-BE7C-E8469619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43E91-2ADA-400B-915C-90362BB3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D1987-F02D-4C69-885B-6D64E1F0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A271-2C16-4B8D-8B88-3D9956FE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72F24-BB17-4A6A-8D08-855AE4B4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BFBC7-70F9-4DE6-B734-55438B92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CFDE1-E845-4FBE-B65F-E156BD1C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F16BB-E10E-4B7B-B027-98B940F2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CF2D6-582A-4A89-8046-44AB03F6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1EC86-6A66-46E6-8869-1C195090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11C94-7E71-4EEF-9DB6-9A0730DD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32349-D644-47EC-BAF1-45748DA5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31170-BB96-4ADC-9D97-643B7592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DAC2B-4CC6-440A-9A41-D089B546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6439-3813-47C7-8F48-648CFFEA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0CA3C-D25F-4B23-B45D-DCB4DF5F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3C84A-4F34-4CD1-A707-17EFEAB5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62642-EABA-48FD-B93B-72728985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21B04-C21D-4F4E-B445-B9294E87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5AD24-AB90-482B-9BA7-51392815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B7C26-79F5-4235-8EB1-6B669363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FED35-5332-4274-ACDD-C5390185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B994A-C58F-4093-AD5F-678DDB55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5C86A-B862-45BC-8C5C-27C600C9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F8160-0F77-40EC-B09C-2384AD75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4645-9991-4914-AF42-397F25BB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65491-3826-4652-84DD-739D7469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6CADE-5289-426A-B360-61228F78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2B2B1-C79C-496C-8015-04370DC5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A2172-8AD2-4D30-BC3A-184D84B2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1F967-77EB-47E9-BF84-4322FA265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6D589-5607-4F0F-9635-473F5224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440B0-8BC9-4ED2-BF4F-FEF16F86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91072-7BBF-4224-AFA4-ECF5EF69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4458C-4984-4279-9FD2-D7B87158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6813A-1005-4A4B-B572-6781398B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C0EF-62EC-4ED4-9E9C-AAAC805E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7AE31-DDE4-4596-B8E9-06E1CDD5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328CC-910D-40F1-B643-125B8E5F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32C8B-76F7-456D-854D-B803E12D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E7A94-82C8-40BE-8971-FDB71F64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6C99D-1935-4D41-B946-F737D234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6B7BD-47AA-4202-B1BF-951C5D3F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39AE9-4877-467C-8723-E89D1B58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59BA1-0566-4287-8502-183ABB24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64D4A-C515-403B-A97E-484CDA2B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CBA7F-9214-427E-866A-A0B3039E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B213-2E9E-4A0C-A92A-8CD8FD4F4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6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Rectangle 8"/>
            <p:cNvSpPr/>
            <p:nvPr/>
          </p:nvSpPr>
          <p:spPr>
            <a:xfrm>
              <a:off x="7881120" y="5867280"/>
              <a:ext cx="1154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at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eas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4D55-19F9-482D-89C2-072C2D464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0001-D492-42EF-927D-353F29BB6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7EAE-8EA2-4CD3-805C-C9E8B23C5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BBB5-D163-47BA-8ADF-EE57AE380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51D1-CDEF-415D-9FC8-7111CC3C4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D9F0-318C-4EAB-B8C6-1ACAE5523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0B8D-BF53-49AB-A377-0187E2FD9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CFD1-C1EF-4D39-B521-320799636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794F-1F4D-43FA-8CAB-2B91C703F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F9EF-4C41-4169-BA39-EE01C2149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58FD-7DE6-4831-8ACA-A97516BE0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E3D4-EA86-4B22-9955-33DC11AE9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6886-92CD-48C5-ACC3-1F183CC92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57CE-715C-4189-AA0C-43A37A2C9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B882-74D0-4D37-AC3E-57647F47D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10"/>
          <p:cNvSpPr/>
          <p:nvPr/>
        </p:nvSpPr>
        <p:spPr>
          <a:xfrm>
            <a:off x="1523880" y="25416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10.1   Characteristics of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1"/>
          <p:cNvSpPr/>
          <p:nvPr/>
        </p:nvSpPr>
        <p:spPr>
          <a:xfrm>
            <a:off x="380880" y="1143000"/>
            <a:ext cx="838224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spcAft>
                <a:spcPts val="1199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Ga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s one of the three states of matter. It is characterized by it's low density. The other states of matter are liquid and sol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199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ly a few elements exist as gases under ordinary con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The noble gases: He, Ne, Ar, Kr and Xe (monoatomi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C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diatomic gas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1"/>
          <p:cNvSpPr/>
          <p:nvPr/>
        </p:nvSpPr>
        <p:spPr>
          <a:xfrm>
            <a:off x="380880" y="4387680"/>
            <a:ext cx="8382240" cy="21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spcAft>
                <a:spcPts val="1199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as differ significantly from solids and liqu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85000"/>
              </a:lnSpc>
              <a:spcAft>
                <a:spcPts val="1001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as expands spontaneously to fill its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85000"/>
              </a:lnSpc>
              <a:spcAft>
                <a:spcPts val="1001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olume of a gas equals the volume of the container in which it is h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85000"/>
              </a:lnSpc>
              <a:spcAft>
                <a:spcPts val="1001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es also are highly compr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531280" cy="4224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Box 10"/>
          <p:cNvSpPr/>
          <p:nvPr/>
        </p:nvSpPr>
        <p:spPr>
          <a:xfrm>
            <a:off x="2895480" y="63504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10.2  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34"/>
          <p:cNvSpPr/>
          <p:nvPr/>
        </p:nvSpPr>
        <p:spPr>
          <a:xfrm>
            <a:off x="685800" y="148428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essur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s a force exerted by the substance per unit area on another substance.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11"/>
          <p:cNvGrpSpPr/>
          <p:nvPr/>
        </p:nvGrpSpPr>
        <p:grpSpPr>
          <a:xfrm>
            <a:off x="1295280" y="3200400"/>
            <a:ext cx="3102480" cy="891000"/>
            <a:chOff x="1295280" y="3200400"/>
            <a:chExt cx="3102480" cy="891000"/>
          </a:xfrm>
        </p:grpSpPr>
        <p:sp>
          <p:nvSpPr>
            <p:cNvPr id="673" name="TextBox 40"/>
            <p:cNvSpPr/>
            <p:nvPr/>
          </p:nvSpPr>
          <p:spPr>
            <a:xfrm>
              <a:off x="3208320" y="3200400"/>
              <a:ext cx="11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Forc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Box 41"/>
            <p:cNvSpPr/>
            <p:nvPr/>
          </p:nvSpPr>
          <p:spPr>
            <a:xfrm>
              <a:off x="3283560" y="3570840"/>
              <a:ext cx="103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Area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Straight Connector 13"/>
            <p:cNvSpPr/>
            <p:nvPr/>
          </p:nvSpPr>
          <p:spPr>
            <a:xfrm>
              <a:off x="3240000" y="3648240"/>
              <a:ext cx="109872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8"/>
            <p:cNvSpPr/>
            <p:nvPr/>
          </p:nvSpPr>
          <p:spPr>
            <a:xfrm>
              <a:off x="1295280" y="3387960"/>
              <a:ext cx="198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Pressure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Group 14"/>
          <p:cNvGrpSpPr/>
          <p:nvPr/>
        </p:nvGrpSpPr>
        <p:grpSpPr>
          <a:xfrm>
            <a:off x="5181480" y="2666880"/>
            <a:ext cx="2971800" cy="3490920"/>
            <a:chOff x="5181480" y="2666880"/>
            <a:chExt cx="2971800" cy="3490920"/>
          </a:xfrm>
        </p:grpSpPr>
        <p:pic>
          <p:nvPicPr>
            <p:cNvPr id="678" name="Picture 39" descr=""/>
            <p:cNvPicPr/>
            <p:nvPr/>
          </p:nvPicPr>
          <p:blipFill>
            <a:blip r:embed="rId1"/>
            <a:stretch/>
          </p:blipFill>
          <p:spPr>
            <a:xfrm>
              <a:off x="5333760" y="2666880"/>
              <a:ext cx="2700000" cy="30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Rectangle 45"/>
            <p:cNvSpPr/>
            <p:nvPr/>
          </p:nvSpPr>
          <p:spPr>
            <a:xfrm>
              <a:off x="5181480" y="5333760"/>
              <a:ext cx="297180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Gases exert a pressure on any surface with which they are in conta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11"/>
          <p:cNvGrpSpPr/>
          <p:nvPr/>
        </p:nvGrpSpPr>
        <p:grpSpPr>
          <a:xfrm>
            <a:off x="2514600" y="4267080"/>
            <a:ext cx="1296360" cy="891000"/>
            <a:chOff x="2514600" y="4267080"/>
            <a:chExt cx="1296360" cy="891000"/>
          </a:xfrm>
        </p:grpSpPr>
        <p:sp>
          <p:nvSpPr>
            <p:cNvPr id="681" name="TextBox 40"/>
            <p:cNvSpPr/>
            <p:nvPr/>
          </p:nvSpPr>
          <p:spPr>
            <a:xfrm>
              <a:off x="3314880" y="4267080"/>
              <a:ext cx="4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F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Box 41"/>
            <p:cNvSpPr/>
            <p:nvPr/>
          </p:nvSpPr>
          <p:spPr>
            <a:xfrm>
              <a:off x="3308400" y="46375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Straight Connector 15"/>
            <p:cNvSpPr/>
            <p:nvPr/>
          </p:nvSpPr>
          <p:spPr>
            <a:xfrm>
              <a:off x="3240000" y="4714920"/>
              <a:ext cx="54756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8"/>
            <p:cNvSpPr/>
            <p:nvPr/>
          </p:nvSpPr>
          <p:spPr>
            <a:xfrm>
              <a:off x="2514600" y="445464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43"/>
          <p:cNvSpPr/>
          <p:nvPr/>
        </p:nvSpPr>
        <p:spPr>
          <a:xfrm>
            <a:off x="1328760" y="171360"/>
            <a:ext cx="66387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tmospheric pressure and the bar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Box 54"/>
          <p:cNvSpPr/>
          <p:nvPr/>
        </p:nvSpPr>
        <p:spPr>
          <a:xfrm>
            <a:off x="208080" y="3468600"/>
            <a:ext cx="4086000" cy="1607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 atmospheric pressure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(1 atm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equal to the pressure that supports a column of mercury exactly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760 m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or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76 c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height at 0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at sea lev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13"/>
          <p:cNvGrpSpPr/>
          <p:nvPr/>
        </p:nvGrpSpPr>
        <p:grpSpPr>
          <a:xfrm>
            <a:off x="4842000" y="941400"/>
            <a:ext cx="4225680" cy="5707080"/>
            <a:chOff x="4842000" y="941400"/>
            <a:chExt cx="4225680" cy="5707080"/>
          </a:xfrm>
        </p:grpSpPr>
        <p:grpSp>
          <p:nvGrpSpPr>
            <p:cNvPr id="688" name="Group 12"/>
            <p:cNvGrpSpPr/>
            <p:nvPr/>
          </p:nvGrpSpPr>
          <p:grpSpPr>
            <a:xfrm>
              <a:off x="4842000" y="941400"/>
              <a:ext cx="4225680" cy="5707080"/>
              <a:chOff x="4842000" y="941400"/>
              <a:chExt cx="4225680" cy="5707080"/>
            </a:xfrm>
          </p:grpSpPr>
          <p:sp>
            <p:nvSpPr>
              <p:cNvPr id="689" name="TextBox 46"/>
              <p:cNvSpPr/>
              <p:nvPr/>
            </p:nvSpPr>
            <p:spPr>
              <a:xfrm>
                <a:off x="4842000" y="5029920"/>
                <a:ext cx="422568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00000"/>
                    </a:solidFill>
                    <a:latin typeface="Arial"/>
                  </a:rPr>
                  <a:t>A barometer </a:t>
                </a:r>
                <a:r>
                  <a:rPr b="1" lang="en-US" sz="2000" spc="-1" strike="noStrike">
                    <a:solidFill>
                      <a:srgbClr val="130bb5"/>
                    </a:solidFill>
                    <a:latin typeface="Arial"/>
                  </a:rPr>
                  <a:t>measures atmospheric pressure by balance the weight of mercury in a glass tube against the weight of air in the atmosphere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0" name="Picture 46" descr=""/>
              <p:cNvPicPr/>
              <p:nvPr/>
            </p:nvPicPr>
            <p:blipFill>
              <a:blip r:embed="rId1"/>
              <a:stretch/>
            </p:blipFill>
            <p:spPr>
              <a:xfrm>
                <a:off x="4842000" y="941400"/>
                <a:ext cx="3888360" cy="3963600"/>
              </a:xfrm>
              <a:prstGeom prst="rect">
                <a:avLst/>
              </a:prstGeom>
              <a:ln w="9360">
                <a:solidFill>
                  <a:srgbClr val="c00000"/>
                </a:solidFill>
                <a:miter/>
              </a:ln>
            </p:spPr>
          </p:pic>
        </p:grpSp>
        <p:sp>
          <p:nvSpPr>
            <p:cNvPr id="691" name="TextBox 58"/>
            <p:cNvSpPr/>
            <p:nvPr/>
          </p:nvSpPr>
          <p:spPr>
            <a:xfrm>
              <a:off x="7862760" y="2361960"/>
              <a:ext cx="1177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404040"/>
                  </a:solidFill>
                  <a:latin typeface="Arial"/>
                  <a:ea typeface="Arial"/>
                </a:rPr>
                <a:t>76 c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TextBox 59"/>
          <p:cNvSpPr/>
          <p:nvPr/>
        </p:nvSpPr>
        <p:spPr>
          <a:xfrm>
            <a:off x="277920" y="5338800"/>
            <a:ext cx="40860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1 atm = 760 mmHg = 760 to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60"/>
          <p:cNvSpPr/>
          <p:nvPr/>
        </p:nvSpPr>
        <p:spPr>
          <a:xfrm>
            <a:off x="1009800" y="5716440"/>
            <a:ext cx="1593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= 76 cm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61"/>
          <p:cNvSpPr/>
          <p:nvPr/>
        </p:nvSpPr>
        <p:spPr>
          <a:xfrm>
            <a:off x="1020600" y="6107040"/>
            <a:ext cx="20084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= 101325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Group 11"/>
          <p:cNvGrpSpPr/>
          <p:nvPr/>
        </p:nvGrpSpPr>
        <p:grpSpPr>
          <a:xfrm>
            <a:off x="208080" y="874800"/>
            <a:ext cx="4502160" cy="2284920"/>
            <a:chOff x="208080" y="874800"/>
            <a:chExt cx="4502160" cy="2284920"/>
          </a:xfrm>
        </p:grpSpPr>
        <p:sp>
          <p:nvSpPr>
            <p:cNvPr id="696" name="TextBox 44"/>
            <p:cNvSpPr/>
            <p:nvPr/>
          </p:nvSpPr>
          <p:spPr>
            <a:xfrm>
              <a:off x="208080" y="874800"/>
              <a:ext cx="4502160" cy="1236600"/>
            </a:xfrm>
            <a:prstGeom prst="rect">
              <a:avLst/>
            </a:prstGeom>
            <a:solidFill>
              <a:srgbClr val="e9f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Atmospheric pressure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is the pressure exerted by earth’s atmosphe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Box 62"/>
            <p:cNvSpPr/>
            <p:nvPr/>
          </p:nvSpPr>
          <p:spPr>
            <a:xfrm>
              <a:off x="208080" y="2151000"/>
              <a:ext cx="4502160" cy="10087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Arial"/>
                </a:rPr>
                <a:t>Value of atmospheric pressure depends on location, temperature and weather cond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TextBox 61"/>
          <p:cNvSpPr/>
          <p:nvPr/>
        </p:nvSpPr>
        <p:spPr>
          <a:xfrm>
            <a:off x="1019160" y="6505560"/>
            <a:ext cx="20080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= 101.325 k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Box 3"/>
          <p:cNvSpPr/>
          <p:nvPr/>
        </p:nvSpPr>
        <p:spPr>
          <a:xfrm>
            <a:off x="345960" y="469800"/>
            <a:ext cx="84520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568440" indent="-568440"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ample: The atmospheric pressure at a certain location is 732 mmHg. Convert the pressure in atm and P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21"/>
          <p:cNvGrpSpPr/>
          <p:nvPr/>
        </p:nvGrpSpPr>
        <p:grpSpPr>
          <a:xfrm>
            <a:off x="345960" y="1816200"/>
            <a:ext cx="6996240" cy="1057320"/>
            <a:chOff x="345960" y="1816200"/>
            <a:chExt cx="6996240" cy="1057320"/>
          </a:xfrm>
        </p:grpSpPr>
        <p:sp>
          <p:nvSpPr>
            <p:cNvPr id="701" name="TextBox 4"/>
            <p:cNvSpPr/>
            <p:nvPr/>
          </p:nvSpPr>
          <p:spPr>
            <a:xfrm>
              <a:off x="345960" y="2017800"/>
              <a:ext cx="49183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Pressure (in atm)= 732  mmHg </a:t>
              </a:r>
              <a:r>
                <a:rPr b="0" lang="en-US" sz="25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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Box 5"/>
            <p:cNvSpPr/>
            <p:nvPr/>
          </p:nvSpPr>
          <p:spPr>
            <a:xfrm>
              <a:off x="5541120" y="1816200"/>
              <a:ext cx="1038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1 at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Box 6"/>
            <p:cNvSpPr/>
            <p:nvPr/>
          </p:nvSpPr>
          <p:spPr>
            <a:xfrm>
              <a:off x="5264280" y="2239200"/>
              <a:ext cx="2077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760 mmHg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Straight Connector 8"/>
            <p:cNvSpPr/>
            <p:nvPr/>
          </p:nvSpPr>
          <p:spPr>
            <a:xfrm>
              <a:off x="5264280" y="2286000"/>
              <a:ext cx="174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Group 20"/>
          <p:cNvGrpSpPr/>
          <p:nvPr/>
        </p:nvGrpSpPr>
        <p:grpSpPr>
          <a:xfrm>
            <a:off x="3962520" y="2133000"/>
            <a:ext cx="2819160" cy="457200"/>
            <a:chOff x="3962520" y="2133000"/>
            <a:chExt cx="2819160" cy="457200"/>
          </a:xfrm>
        </p:grpSpPr>
        <p:sp>
          <p:nvSpPr>
            <p:cNvPr id="706" name="Straight Connector 11"/>
            <p:cNvSpPr/>
            <p:nvPr/>
          </p:nvSpPr>
          <p:spPr>
            <a:xfrm flipH="1">
              <a:off x="3962520" y="2133000"/>
              <a:ext cx="76176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Straight Connector 12"/>
            <p:cNvSpPr/>
            <p:nvPr/>
          </p:nvSpPr>
          <p:spPr>
            <a:xfrm flipH="1">
              <a:off x="6019920" y="2361600"/>
              <a:ext cx="76176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TextBox 13"/>
          <p:cNvSpPr/>
          <p:nvPr/>
        </p:nvSpPr>
        <p:spPr>
          <a:xfrm>
            <a:off x="2840040" y="2755800"/>
            <a:ext cx="21477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= 0.963 at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23"/>
          <p:cNvGrpSpPr/>
          <p:nvPr/>
        </p:nvGrpSpPr>
        <p:grpSpPr>
          <a:xfrm>
            <a:off x="415800" y="4005360"/>
            <a:ext cx="6858000" cy="869400"/>
            <a:chOff x="415800" y="4005360"/>
            <a:chExt cx="6858000" cy="869400"/>
          </a:xfrm>
        </p:grpSpPr>
        <p:sp>
          <p:nvSpPr>
            <p:cNvPr id="710" name="TextBox 14"/>
            <p:cNvSpPr/>
            <p:nvPr/>
          </p:nvSpPr>
          <p:spPr>
            <a:xfrm>
              <a:off x="415800" y="4178520"/>
              <a:ext cx="4918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Pressure (in Pa)= 732  mmHg </a:t>
              </a:r>
              <a:r>
                <a:rPr b="0" lang="en-US" sz="25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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Box 15"/>
            <p:cNvSpPr/>
            <p:nvPr/>
          </p:nvSpPr>
          <p:spPr>
            <a:xfrm>
              <a:off x="5126400" y="4005360"/>
              <a:ext cx="1939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101325  Pa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Box 16"/>
            <p:cNvSpPr/>
            <p:nvPr/>
          </p:nvSpPr>
          <p:spPr>
            <a:xfrm>
              <a:off x="5195520" y="4399920"/>
              <a:ext cx="2078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760 mmHg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Straight Connector 17"/>
            <p:cNvSpPr/>
            <p:nvPr/>
          </p:nvSpPr>
          <p:spPr>
            <a:xfrm>
              <a:off x="5195880" y="4446720"/>
              <a:ext cx="174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22"/>
          <p:cNvGrpSpPr/>
          <p:nvPr/>
        </p:nvGrpSpPr>
        <p:grpSpPr>
          <a:xfrm>
            <a:off x="3809880" y="4342680"/>
            <a:ext cx="2895480" cy="457200"/>
            <a:chOff x="3809880" y="4342680"/>
            <a:chExt cx="2895480" cy="457200"/>
          </a:xfrm>
        </p:grpSpPr>
        <p:sp>
          <p:nvSpPr>
            <p:cNvPr id="715" name="Straight Connector 18"/>
            <p:cNvSpPr/>
            <p:nvPr/>
          </p:nvSpPr>
          <p:spPr>
            <a:xfrm flipH="1">
              <a:off x="3809880" y="4342680"/>
              <a:ext cx="83808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Straight Connector 19"/>
            <p:cNvSpPr/>
            <p:nvPr/>
          </p:nvSpPr>
          <p:spPr>
            <a:xfrm flipH="1">
              <a:off x="5943240" y="4571280"/>
              <a:ext cx="7621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TextBox 20"/>
          <p:cNvSpPr/>
          <p:nvPr/>
        </p:nvSpPr>
        <p:spPr>
          <a:xfrm>
            <a:off x="2755800" y="4984920"/>
            <a:ext cx="24256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= 97591.9  P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21"/>
          <p:cNvSpPr/>
          <p:nvPr/>
        </p:nvSpPr>
        <p:spPr>
          <a:xfrm>
            <a:off x="2770200" y="5656320"/>
            <a:ext cx="24256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= 97.5919  kP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5"/>
          <p:cNvSpPr/>
          <p:nvPr/>
        </p:nvSpPr>
        <p:spPr>
          <a:xfrm>
            <a:off x="415800" y="533520"/>
            <a:ext cx="8244000" cy="18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A manometer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is used to measure the pressure of an enclosed g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heir operation is similar to the barometer, and they usually contain mercu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Group 4"/>
          <p:cNvGrpSpPr/>
          <p:nvPr/>
        </p:nvGrpSpPr>
        <p:grpSpPr>
          <a:xfrm>
            <a:off x="762120" y="2290680"/>
            <a:ext cx="7391160" cy="4262400"/>
            <a:chOff x="762120" y="2290680"/>
            <a:chExt cx="7391160" cy="4262400"/>
          </a:xfrm>
        </p:grpSpPr>
        <p:sp>
          <p:nvSpPr>
            <p:cNvPr id="721" name="TextBox 7"/>
            <p:cNvSpPr/>
            <p:nvPr/>
          </p:nvSpPr>
          <p:spPr>
            <a:xfrm>
              <a:off x="3886200" y="3733560"/>
              <a:ext cx="4267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130bb5"/>
                  </a:solidFill>
                  <a:latin typeface="Arial"/>
                  <a:ea typeface="Arial"/>
                </a:rPr>
                <a:t>A mercury manometer, </a:t>
              </a:r>
              <a:r>
                <a:rPr b="0" lang="en-US" sz="2500" spc="-1" strike="noStrike">
                  <a:solidFill>
                    <a:srgbClr val="130bb5"/>
                  </a:solidFill>
                  <a:latin typeface="Arial"/>
                  <a:ea typeface="Arial"/>
                </a:rPr>
                <a:t>used to measure gas pressures near atmospheric pressure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2" name="Picture 3" descr=""/>
            <p:cNvPicPr/>
            <p:nvPr/>
          </p:nvPicPr>
          <p:blipFill>
            <a:blip r:embed="rId1"/>
            <a:stretch/>
          </p:blipFill>
          <p:spPr>
            <a:xfrm>
              <a:off x="762120" y="2290680"/>
              <a:ext cx="2555640" cy="4262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Box 3"/>
          <p:cNvSpPr/>
          <p:nvPr/>
        </p:nvSpPr>
        <p:spPr>
          <a:xfrm>
            <a:off x="345960" y="304920"/>
            <a:ext cx="8452080" cy="21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568440" indent="-568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ample: The level of mercury in an open-end arm of the manometer has a height of 136.4 mm, and the mercury in the arm that is in contact with the gas has a height of 103.8 mm. What is the pressure of the gas (a) in atmospheres, (b) in kP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Arial"/>
                <a:ea typeface="Arial"/>
              </a:rPr>
              <a:t>[atmospheric pressure is 764.7 torr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13"/>
          <p:cNvSpPr/>
          <p:nvPr/>
        </p:nvSpPr>
        <p:spPr>
          <a:xfrm>
            <a:off x="3124080" y="3216240"/>
            <a:ext cx="563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= 764.7 torr + (136.4 torr – 103.8 tor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23"/>
          <p:cNvGrpSpPr/>
          <p:nvPr/>
        </p:nvGrpSpPr>
        <p:grpSpPr>
          <a:xfrm>
            <a:off x="1635120" y="4267080"/>
            <a:ext cx="3470400" cy="850320"/>
            <a:chOff x="1635120" y="4267080"/>
            <a:chExt cx="3470400" cy="850320"/>
          </a:xfrm>
        </p:grpSpPr>
        <p:sp>
          <p:nvSpPr>
            <p:cNvPr id="726" name="TextBox 14"/>
            <p:cNvSpPr/>
            <p:nvPr/>
          </p:nvSpPr>
          <p:spPr>
            <a:xfrm>
              <a:off x="1635120" y="4421160"/>
              <a:ext cx="2327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(797.3 torr) </a:t>
              </a:r>
              <a:r>
                <a:rPr b="0" lang="en-US" sz="25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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TextBox 15"/>
            <p:cNvSpPr/>
            <p:nvPr/>
          </p:nvSpPr>
          <p:spPr>
            <a:xfrm>
              <a:off x="3831120" y="4267080"/>
              <a:ext cx="1274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1 at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Box 16"/>
            <p:cNvSpPr/>
            <p:nvPr/>
          </p:nvSpPr>
          <p:spPr>
            <a:xfrm>
              <a:off x="3657960" y="4642560"/>
              <a:ext cx="14338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760 torr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Straight Connector 17"/>
            <p:cNvSpPr/>
            <p:nvPr/>
          </p:nvSpPr>
          <p:spPr>
            <a:xfrm>
              <a:off x="3657600" y="4689360"/>
              <a:ext cx="1260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22"/>
          <p:cNvGrpSpPr/>
          <p:nvPr/>
        </p:nvGrpSpPr>
        <p:grpSpPr>
          <a:xfrm>
            <a:off x="2742840" y="4502160"/>
            <a:ext cx="2092320" cy="565200"/>
            <a:chOff x="2742840" y="4502160"/>
            <a:chExt cx="2092320" cy="565200"/>
          </a:xfrm>
        </p:grpSpPr>
        <p:sp>
          <p:nvSpPr>
            <p:cNvPr id="731" name="Straight Connector 18"/>
            <p:cNvSpPr/>
            <p:nvPr/>
          </p:nvSpPr>
          <p:spPr>
            <a:xfrm flipH="1">
              <a:off x="2742840" y="4502160"/>
              <a:ext cx="415800" cy="324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Straight Connector 19"/>
            <p:cNvSpPr/>
            <p:nvPr/>
          </p:nvSpPr>
          <p:spPr>
            <a:xfrm flipH="1">
              <a:off x="4419360" y="4743360"/>
              <a:ext cx="415800" cy="324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TextBox 13"/>
          <p:cNvSpPr/>
          <p:nvPr/>
        </p:nvSpPr>
        <p:spPr>
          <a:xfrm>
            <a:off x="3124080" y="3733920"/>
            <a:ext cx="1905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= 797.3 tor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20"/>
          <p:cNvSpPr/>
          <p:nvPr/>
        </p:nvSpPr>
        <p:spPr>
          <a:xfrm>
            <a:off x="5105520" y="4460760"/>
            <a:ext cx="1981080" cy="463320"/>
          </a:xfrm>
          <a:prstGeom prst="rect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= 1.049 at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Group 23"/>
          <p:cNvGrpSpPr/>
          <p:nvPr/>
        </p:nvGrpSpPr>
        <p:grpSpPr>
          <a:xfrm>
            <a:off x="2247840" y="5475240"/>
            <a:ext cx="4267440" cy="1009440"/>
            <a:chOff x="2247840" y="5475240"/>
            <a:chExt cx="4267440" cy="1009440"/>
          </a:xfrm>
        </p:grpSpPr>
        <p:sp>
          <p:nvSpPr>
            <p:cNvPr id="736" name="TextBox 14"/>
            <p:cNvSpPr/>
            <p:nvPr/>
          </p:nvSpPr>
          <p:spPr>
            <a:xfrm>
              <a:off x="2247840" y="5628960"/>
              <a:ext cx="22100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=(1.049 atm)</a:t>
              </a:r>
              <a:r>
                <a:rPr b="0" lang="en-US" sz="25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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Box 15"/>
            <p:cNvSpPr/>
            <p:nvPr/>
          </p:nvSpPr>
          <p:spPr>
            <a:xfrm>
              <a:off x="4305240" y="5475240"/>
              <a:ext cx="2210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101.325 kPa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Box 16"/>
            <p:cNvSpPr/>
            <p:nvPr/>
          </p:nvSpPr>
          <p:spPr>
            <a:xfrm>
              <a:off x="4762440" y="5812920"/>
              <a:ext cx="1219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1 at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Straight Connector 35"/>
            <p:cNvSpPr/>
            <p:nvPr/>
          </p:nvSpPr>
          <p:spPr>
            <a:xfrm>
              <a:off x="4381560" y="5897520"/>
              <a:ext cx="18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22"/>
          <p:cNvGrpSpPr/>
          <p:nvPr/>
        </p:nvGrpSpPr>
        <p:grpSpPr>
          <a:xfrm>
            <a:off x="3543120" y="5719680"/>
            <a:ext cx="2016000" cy="546120"/>
            <a:chOff x="3543120" y="5719680"/>
            <a:chExt cx="2016000" cy="546120"/>
          </a:xfrm>
        </p:grpSpPr>
        <p:sp>
          <p:nvSpPr>
            <p:cNvPr id="741" name="Straight Connector 37"/>
            <p:cNvSpPr/>
            <p:nvPr/>
          </p:nvSpPr>
          <p:spPr>
            <a:xfrm flipH="1">
              <a:off x="3543120" y="5719680"/>
              <a:ext cx="415800" cy="324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Straight Connector 38"/>
            <p:cNvSpPr/>
            <p:nvPr/>
          </p:nvSpPr>
          <p:spPr>
            <a:xfrm flipH="1">
              <a:off x="5143320" y="5941800"/>
              <a:ext cx="415800" cy="324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TextBox 20"/>
          <p:cNvSpPr/>
          <p:nvPr/>
        </p:nvSpPr>
        <p:spPr>
          <a:xfrm>
            <a:off x="2276640" y="6265800"/>
            <a:ext cx="1952640" cy="463320"/>
          </a:xfrm>
          <a:prstGeom prst="rect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= 106.3 kP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25"/>
          <p:cNvGrpSpPr/>
          <p:nvPr/>
        </p:nvGrpSpPr>
        <p:grpSpPr>
          <a:xfrm>
            <a:off x="228600" y="2579760"/>
            <a:ext cx="5334120" cy="538200"/>
            <a:chOff x="228600" y="2579760"/>
            <a:chExt cx="5334120" cy="538200"/>
          </a:xfrm>
        </p:grpSpPr>
        <p:sp>
          <p:nvSpPr>
            <p:cNvPr id="745" name="TextBox 4"/>
            <p:cNvSpPr/>
            <p:nvPr/>
          </p:nvSpPr>
          <p:spPr>
            <a:xfrm>
              <a:off x="776160" y="2590560"/>
              <a:ext cx="478656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Pressure of gas, 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gas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 = 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atm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 + 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h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Box 20"/>
            <p:cNvSpPr/>
            <p:nvPr/>
          </p:nvSpPr>
          <p:spPr>
            <a:xfrm>
              <a:off x="228600" y="2579760"/>
              <a:ext cx="6094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TextBox 14"/>
          <p:cNvSpPr/>
          <p:nvPr/>
        </p:nvSpPr>
        <p:spPr>
          <a:xfrm>
            <a:off x="838080" y="4400640"/>
            <a:ext cx="10321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P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gas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 =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29"/>
          <p:cNvGrpSpPr/>
          <p:nvPr/>
        </p:nvGrpSpPr>
        <p:grpSpPr>
          <a:xfrm>
            <a:off x="304920" y="5410080"/>
            <a:ext cx="2361960" cy="736200"/>
            <a:chOff x="304920" y="5410080"/>
            <a:chExt cx="2361960" cy="736200"/>
          </a:xfrm>
        </p:grpSpPr>
        <p:sp>
          <p:nvSpPr>
            <p:cNvPr id="749" name="TextBox 20"/>
            <p:cNvSpPr/>
            <p:nvPr/>
          </p:nvSpPr>
          <p:spPr>
            <a:xfrm>
              <a:off x="304920" y="5410080"/>
              <a:ext cx="6094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Box 14"/>
            <p:cNvSpPr/>
            <p:nvPr/>
          </p:nvSpPr>
          <p:spPr>
            <a:xfrm>
              <a:off x="914400" y="5618880"/>
              <a:ext cx="175248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 in kPa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3:18:56Z</dcterms:created>
  <dc:creator>John Bookstaver</dc:creator>
  <dc:description/>
  <dc:language>en-US</dc:language>
  <cp:lastModifiedBy>pc</cp:lastModifiedBy>
  <dcterms:modified xsi:type="dcterms:W3CDTF">2011-09-14T08:42:45Z</dcterms:modified>
  <cp:revision>772</cp:revision>
  <dc:subject/>
  <dc:title>Chapter 1 Introduction: Matter and Measurement</dc:title>
</cp:coreProperties>
</file>