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E0A-8377-488C-8AEE-0296ED9A8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33B7-6319-4DC0-8CE1-D9945E35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005-DD86-4B79-AA28-1AC39AE9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95A-2AA5-4FF3-8E18-61A29C8C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DE4C-15BA-43F2-8BF7-30261921B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8E0-4BE6-48C4-8DB4-FC5C29B1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4B75-3A8F-4729-A5C0-112BDFC0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7EA4-CF76-47A8-A3A8-A6B4F1AA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EC5-23FA-419C-8BCE-102B79E6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F88-945A-4127-9C5C-7342792F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9381-9D15-4761-A1C5-2FAFC311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F30DA-C824-4BBB-BA50-D66FD9CB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D8C9-0A88-4FD1-AEB5-49F5EF81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CDC51-DB85-4451-A7ED-645571D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6B4FC-508B-43C8-9D5F-BBA1B1DA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5DA73-82FF-4604-9CF0-6DD0423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13FAF-9448-48B6-ABB9-9054EE86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92E95-FF55-4ED9-B7FD-D26E8770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5D592-756F-4AA8-87A8-CEE35931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228FE-E803-4494-8350-EBD7BC42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9A3-DD74-4C74-80A7-7527DB78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3117C-17B6-42A2-8A49-444A1BD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E67D4-7761-47C0-94E8-434B123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70EF0-D348-4420-AEC1-E33163F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6459B-9F43-41BC-9563-9DECB05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1972E-7CAE-4836-AD6C-9AC6B95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AF908-C32F-4377-9131-5123FCD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7F590-CC5C-4307-BD2F-DF619A1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7B605-21CE-434B-ABA6-3E0D8FD4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AB9AE-2FB7-4A73-AC47-FB481E5B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A1BC-0328-44E4-8452-92B4E003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4DA-ECCF-45DA-9C40-03BA406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79925-719D-4403-9F46-6A4E114A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832DA-8DCF-4120-A46F-64064309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106D-E402-4132-8EA4-115A7F7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9A347-438F-4069-BFCD-7AC60B28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A5C3A-5C8B-4E9C-85B9-20A947B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3B05B-B7F1-4EBB-957F-9915F56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B2201-81D0-4AEC-98B6-605C967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2F2E0-2AD5-40E3-8B75-0CE88AB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4FBEC-1346-4C12-82DA-94D2FA4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EB97-E8AB-4671-8EC2-6B0F985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740A-FB3E-4B24-8CCA-2445B1DA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81B8-292F-4422-9125-0D7C44A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23CD3-6D5C-4400-9F3E-639B159F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022E2-8AA1-4D5A-B3CA-FC402FF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1584F-7F66-4136-93D4-B236CB33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07086-0C66-46F1-B764-49C6E56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92D97-1398-4356-A967-E02016C8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61672-6C1B-4FF5-A85A-A15DF4B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1A41D-7E11-4146-BAB2-478FAEC2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6BE69-DF80-4B33-9315-AFC0B44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B0C31-877B-437E-A67D-5217E83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02AB-4D2A-49DA-837B-5AE68EC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5315D-E190-4A37-ABEF-993B45C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3AE06-D349-4EF6-8F8B-A604888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C0D9A-073C-46D5-A060-F9D6AB5B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EC9F5-55A6-4453-8AE7-76D004B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72D28-E64C-45A2-A00F-7538B80D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0FE9D-F076-4E42-A8D1-29AF3F66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AE5F5-E141-4BE7-9652-262FC650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3E399-6C9F-4F6A-8EAA-B4D6CE81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70691-CB32-4B88-B77F-56A41159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AD1B2-9A5A-4B90-86D1-51250AA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75D-B75B-411E-8BF0-C83BEC0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9A169-9100-48D4-88C0-8FCEB2F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AB067-0E6A-4AF4-903C-BC07CB4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3A6A0-EC8F-4C9C-9722-CE293D7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C9B53-8327-4F55-B279-146C6A5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F1FDF-54D7-4565-91E4-5951711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B734E-7D40-4EE5-A329-C9C327FC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8B47F-852D-469B-A141-8A6168D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E6A50-D999-4C81-A7C8-1CE04684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7AE0C-7046-4FDC-B319-212EF1A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4843D-08BF-4FFD-872D-E059B249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B6FA-5E0D-42C2-83F1-44EF7A0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8D289-D7A5-4725-B46B-5518A99A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FB2D9-8726-4808-989E-DF3E9F97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8D3A5-01C2-4074-80CC-29FAF22F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C07D9-167F-4E98-AD5D-3B2EE946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BC88E-25D3-467A-9B75-4BCCFD2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410EE-E76B-46CB-810F-1EFBA62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915A8-9464-4145-B08B-708B1D1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F387A-BC1F-4403-873A-0158484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4DC98-C1B1-4326-97C4-14DAE0F8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38DD3-01EF-46DD-8295-29154CEC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6BF-71B3-4AAE-8EFD-1411616B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E4487-623E-4F45-8DC2-33DCB27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B884B-4A97-4F88-B746-26815CB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1A78B-F1E7-479F-98EA-A535E41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F53A8-9EB7-4F0E-B74A-626E30B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1A242-BC96-43EE-BCE3-35A36AA9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0F8AA-4A98-46DB-9B7B-0680D967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02E63-F830-45FF-9A69-59A4BD2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0FF80-1905-45FB-9BA1-DAA68C65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88AD6-13AF-4814-A6C4-194D087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90504-FA4B-486A-B25A-13B7AEF0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329-6AA2-4D73-8097-587F3BD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D3F6D-0C90-4A73-BC87-CA1821C2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5FC69-9185-455C-9EC4-5FFAEBE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CE128-8D2C-4349-BE62-E460A94E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8F994-46F3-4D31-8AD5-FE0AD562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11D0D-ACB9-4E41-BDC9-42A21923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8D1BD-7B11-42C3-BA5D-35236FAE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5542C-0C93-4C12-94DC-F5D6F95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2044A-5EE4-4E74-B470-70EA836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07BF7-8B53-441F-B4C1-131D176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1EBEA-9832-4461-8158-37E1795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FEE-201A-4C4A-91FC-A3BFC59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3F919-AD12-4ABD-AF4E-E838929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D7B07-8B99-4581-A90E-38D82BF7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46836-BEC3-4C7B-AE3B-02889031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98E-1175-4188-BDE6-1F0D0744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F8E-5903-4860-93B6-9CAF38E2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E889-0906-4A4B-9240-E57621A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7A4-216F-45A1-81BC-E508F37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9D7-6023-4890-B9B3-038905EB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0D2-6C1B-4F37-BEED-29AD0F7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2A70-1A27-48F6-A686-B9B1BF83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C0D4-E90C-4F0F-810D-D302F136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5F7F-D1E3-49A9-A809-EACA44C8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3E34-0D34-4D4D-ADA2-BFD45C4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9C9A-69B0-4DFE-BA5B-64C3F9E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156-C443-4469-9981-41CC22C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AA27-0E58-4F56-9FC9-FF4C5C3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CEF1D-985C-4EC2-9ECA-0076ABE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756A-6358-4C0D-A454-DC1D7BBF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01BF7-31A6-4348-94AD-9E12BBD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B021-5BB0-4A7F-B62F-A604705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F051-C45A-4154-8AF8-BBA7B511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EB2A-C1B4-47E9-A673-9F5B5C55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F657-74C4-4D5E-BE19-9CEFB60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5B3D-C52E-4706-BB08-510B3A8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3E94-524F-452B-A454-2DAF765C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107-C844-4CA3-92EE-2D3FFDF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610C-5C8B-4B25-BE94-226B11E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C6D1-EF29-4DC0-9D56-2430DC00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623B-F67B-4820-8742-480C82A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79C3-EBE3-444B-9F8C-63E962D2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FE54-E42A-40BA-B3A7-391910F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38B0-87D0-467A-9351-0629F7F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CD28-D1F2-478A-B257-947EBCA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4BC5-5313-4750-8497-B371895D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0D01-A239-4335-AFA5-6745160E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90B0-2FBB-4DF6-B0E3-DDDAE163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8B4-39D4-4770-A84F-1B476BA4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6A71-4C72-4AE5-9757-E6AD0EE4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E1F4B-CFAE-461F-A752-AE373D9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05E43-B965-441D-9F15-84A02E9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A6F58-2B87-44F1-93C5-74508CA1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F530D-A4E0-4D7E-BE3F-B313078F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6A76-F0A8-41DA-B39B-1E17D2B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C54ED-E08B-4491-BF47-9AC5C6E8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24C3-716A-4E13-BF17-878A2D62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63D57-2E10-4378-9006-6185291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0D17-C658-4C44-9190-8D4EDFDD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64-0793-4693-A0D7-C6020A3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609E-4A5F-487B-8F88-15BEDA57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9464-981E-49A0-8457-A51222D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3B89-D61A-4BE8-A13B-DC062ECF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390C-623F-4DFC-9E8D-9E03846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C696-CB2A-4767-AE3D-5858683C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345F-1C16-4FCC-9D75-53DF90A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FE37-3DE3-4B61-B340-43202266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71CB-B8D1-4E17-B2F5-CE8B3BA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E5C0-FEBB-41D2-B0A5-354D252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0C3BA-55AE-4C47-8436-A2C1FC21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438-761C-4B38-BE5C-F040F1BF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CD86-4FE2-46C3-9138-FAAAAE1E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E7E7-BD04-401D-A961-A47C907A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2E83-6D2C-4710-8B2C-FF7610AD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08DB3-2315-4FBB-88D5-C2D9B24F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FEA6C-5129-420E-A7F3-A04DB2E0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B75C-5CF3-4A42-8CFE-5BA27C94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C47B-B9C6-479C-A0D4-E6EC295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782A2-CD3A-44D8-95B1-D0AB76D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C206F-E087-4D24-92A8-E6517B56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264DC-5BFA-4479-A3EA-20A23CA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4FF-9A69-4E47-B408-F7CD514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F9464-6A70-423D-B3F0-A969EC1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DB23-7994-4028-B5F7-6D92199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7E21B-75B3-4503-A7CC-44DFE4E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EB379-4341-4166-BFD9-BA3B69EA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2F4D-F205-40F0-8002-BBD9CE07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80109-0691-4848-A1FE-8D0E34E8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8D08-4D7E-4E42-AE53-7C1F4A6E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8675-5714-4AE0-97D1-D695993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5D03-78F7-4299-B2A3-1FB5163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4F0DE-A4AC-48FA-822C-43209E71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63F-7900-48A9-A4A1-FC1B123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6B39-CB59-4B4F-8461-1B88986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7055-D734-4C7D-A534-228716E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EE2C7-AB8B-452A-9FCF-2A66100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4053-4E0C-413A-9C43-4B3231C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5285-947D-4B78-B250-65066C5F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157A-70D4-4086-9384-B2713D3A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C8EEA-C6D2-45A0-BB4C-1CD057C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6A1B-9380-48B1-9DF0-CEE0F4EC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2AC0D-3F30-4FA6-9D46-E6666E1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63DC9-5F5D-49C2-9451-F1667643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D317-E030-4035-8C6C-0FCF6D9A0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84FA-588A-45E5-8E6F-DE9CA8AE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9929-4E90-4152-9AFB-7557A62E5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25A0-19B9-46C8-A9B1-680D8AAF4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2E9-FA73-485A-BC6D-3A6B2A252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AA53-9B98-467A-A4D7-CF05B4B9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D9A-30AB-4DB6-AA69-38A6AE6C9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CA2-512E-4F53-99E4-C6DA4368F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4D36-F1DA-460C-9E4C-49F883EC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C9E0-DCF3-4A78-AC90-FACEE6277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6C7-A9E7-469E-B083-CF13713D4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B15-6893-4FE2-96EA-B3052779A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1AAE-73BB-4EA7-832A-3833D6FD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4159-9246-456B-B709-8B1FADEE2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E7F9-FAF2-4BA6-9299-3A2CF6AF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5468-1F49-4E8A-9C99-D7B55BE0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0"/>
          <p:cNvSpPr/>
          <p:nvPr/>
        </p:nvSpPr>
        <p:spPr>
          <a:xfrm>
            <a:off x="1523880" y="25416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1   Characteristics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380880" y="1143000"/>
            <a:ext cx="83822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Ga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one of the three states of matter. It is characterized by it's low density. The other states of matter are liquid and sol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a few elements exist as gases under ordinary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The noble gases: He, Ne, Ar, Kr and Xe (monoatom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C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iatomic gas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380880" y="4387680"/>
            <a:ext cx="83822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as differ significantly from solids and liqu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s expands spontaneously to fill its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ume of a gas equals the volume of the container in which it is 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lnSpc>
                <a:spcPct val="85000"/>
              </a:lnSpc>
              <a:spcAft>
                <a:spcPts val="1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 also are highly 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128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10"/>
          <p:cNvSpPr/>
          <p:nvPr/>
        </p:nvSpPr>
        <p:spPr>
          <a:xfrm>
            <a:off x="2895480" y="6350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2  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34"/>
          <p:cNvSpPr/>
          <p:nvPr/>
        </p:nvSpPr>
        <p:spPr>
          <a:xfrm>
            <a:off x="685800" y="14842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a force exerted by the substance per unit area on another substance.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1"/>
          <p:cNvGrpSpPr/>
          <p:nvPr/>
        </p:nvGrpSpPr>
        <p:grpSpPr>
          <a:xfrm>
            <a:off x="1295280" y="3200400"/>
            <a:ext cx="3102480" cy="891000"/>
            <a:chOff x="1295280" y="3200400"/>
            <a:chExt cx="3102480" cy="891000"/>
          </a:xfrm>
        </p:grpSpPr>
        <p:sp>
          <p:nvSpPr>
            <p:cNvPr id="673" name="TextBox 40"/>
            <p:cNvSpPr/>
            <p:nvPr/>
          </p:nvSpPr>
          <p:spPr>
            <a:xfrm>
              <a:off x="3208320" y="320040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Forc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41"/>
            <p:cNvSpPr/>
            <p:nvPr/>
          </p:nvSpPr>
          <p:spPr>
            <a:xfrm>
              <a:off x="3283560" y="357084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Are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traight Connector 13"/>
            <p:cNvSpPr/>
            <p:nvPr/>
          </p:nvSpPr>
          <p:spPr>
            <a:xfrm>
              <a:off x="3240000" y="3648240"/>
              <a:ext cx="109872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8"/>
            <p:cNvSpPr/>
            <p:nvPr/>
          </p:nvSpPr>
          <p:spPr>
            <a:xfrm>
              <a:off x="1295280" y="3387960"/>
              <a:ext cx="198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Pressur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4"/>
          <p:cNvGrpSpPr/>
          <p:nvPr/>
        </p:nvGrpSpPr>
        <p:grpSpPr>
          <a:xfrm>
            <a:off x="5181480" y="2666880"/>
            <a:ext cx="2971800" cy="3490920"/>
            <a:chOff x="5181480" y="2666880"/>
            <a:chExt cx="2971800" cy="3490920"/>
          </a:xfrm>
        </p:grpSpPr>
        <p:pic>
          <p:nvPicPr>
            <p:cNvPr id="678" name="Picture 39" descr=""/>
            <p:cNvPicPr/>
            <p:nvPr/>
          </p:nvPicPr>
          <p:blipFill>
            <a:blip r:embed="rId1"/>
            <a:stretch/>
          </p:blipFill>
          <p:spPr>
            <a:xfrm>
              <a:off x="5333760" y="2666880"/>
              <a:ext cx="2700000" cy="30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Rectangle 45"/>
            <p:cNvSpPr/>
            <p:nvPr/>
          </p:nvSpPr>
          <p:spPr>
            <a:xfrm>
              <a:off x="5181480" y="5333760"/>
              <a:ext cx="29718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Gases exert a pressure on any surface with which they are in cont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11"/>
          <p:cNvGrpSpPr/>
          <p:nvPr/>
        </p:nvGrpSpPr>
        <p:grpSpPr>
          <a:xfrm>
            <a:off x="2514600" y="4267080"/>
            <a:ext cx="1296360" cy="891000"/>
            <a:chOff x="2514600" y="4267080"/>
            <a:chExt cx="1296360" cy="891000"/>
          </a:xfrm>
        </p:grpSpPr>
        <p:sp>
          <p:nvSpPr>
            <p:cNvPr id="681" name="TextBox 40"/>
            <p:cNvSpPr/>
            <p:nvPr/>
          </p:nvSpPr>
          <p:spPr>
            <a:xfrm>
              <a:off x="3314880" y="4267080"/>
              <a:ext cx="4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F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Box 41"/>
            <p:cNvSpPr/>
            <p:nvPr/>
          </p:nvSpPr>
          <p:spPr>
            <a:xfrm>
              <a:off x="3308400" y="4637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15"/>
            <p:cNvSpPr/>
            <p:nvPr/>
          </p:nvSpPr>
          <p:spPr>
            <a:xfrm>
              <a:off x="3240000" y="4714920"/>
              <a:ext cx="54756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8"/>
            <p:cNvSpPr/>
            <p:nvPr/>
          </p:nvSpPr>
          <p:spPr>
            <a:xfrm>
              <a:off x="2514600" y="44546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3"/>
          <p:cNvSpPr/>
          <p:nvPr/>
        </p:nvSpPr>
        <p:spPr>
          <a:xfrm>
            <a:off x="1328760" y="171360"/>
            <a:ext cx="66387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mospheric pressure and the ba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54"/>
          <p:cNvSpPr/>
          <p:nvPr/>
        </p:nvSpPr>
        <p:spPr>
          <a:xfrm>
            <a:off x="208080" y="3468600"/>
            <a:ext cx="4086000" cy="1607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atmospheric pressure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(1 at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equal to the pressure that supports a column of mercury exactly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760 m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or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76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height at 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at sea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3"/>
          <p:cNvGrpSpPr/>
          <p:nvPr/>
        </p:nvGrpSpPr>
        <p:grpSpPr>
          <a:xfrm>
            <a:off x="4842000" y="941400"/>
            <a:ext cx="4225680" cy="5707080"/>
            <a:chOff x="4842000" y="941400"/>
            <a:chExt cx="4225680" cy="5707080"/>
          </a:xfrm>
        </p:grpSpPr>
        <p:grpSp>
          <p:nvGrpSpPr>
            <p:cNvPr id="688" name="Group 12"/>
            <p:cNvGrpSpPr/>
            <p:nvPr/>
          </p:nvGrpSpPr>
          <p:grpSpPr>
            <a:xfrm>
              <a:off x="4842000" y="941400"/>
              <a:ext cx="4225680" cy="5707080"/>
              <a:chOff x="4842000" y="941400"/>
              <a:chExt cx="4225680" cy="5707080"/>
            </a:xfrm>
          </p:grpSpPr>
          <p:sp>
            <p:nvSpPr>
              <p:cNvPr id="689" name="TextBox 46"/>
              <p:cNvSpPr/>
              <p:nvPr/>
            </p:nvSpPr>
            <p:spPr>
              <a:xfrm>
                <a:off x="4842000" y="5029920"/>
                <a:ext cx="422568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00000"/>
                    </a:solidFill>
                    <a:latin typeface="Arial"/>
                  </a:rPr>
                  <a:t>A barometer </a:t>
                </a:r>
                <a:r>
                  <a:rPr b="1" lang="en-US" sz="2000" spc="-1" strike="noStrike">
                    <a:solidFill>
                      <a:srgbClr val="130bb5"/>
                    </a:solidFill>
                    <a:latin typeface="Arial"/>
                  </a:rPr>
                  <a:t>measures atmospheric pressure by balance the weight of mercury in a glass tube against the weight of air in the atmospher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Picture 46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2000" y="941400"/>
                <a:ext cx="3888360" cy="3963600"/>
              </a:xfrm>
              <a:prstGeom prst="rect">
                <a:avLst/>
              </a:prstGeom>
              <a:ln w="9360">
                <a:solidFill>
                  <a:srgbClr val="c00000"/>
                </a:solidFill>
                <a:miter/>
              </a:ln>
            </p:spPr>
          </p:pic>
        </p:grpSp>
        <p:sp>
          <p:nvSpPr>
            <p:cNvPr id="691" name="TextBox 58"/>
            <p:cNvSpPr/>
            <p:nvPr/>
          </p:nvSpPr>
          <p:spPr>
            <a:xfrm>
              <a:off x="7862760" y="2361960"/>
              <a:ext cx="1177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04040"/>
                  </a:solidFill>
                  <a:latin typeface="Arial"/>
                  <a:ea typeface="Arial"/>
                </a:rPr>
                <a:t>76 c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Box 59"/>
          <p:cNvSpPr/>
          <p:nvPr/>
        </p:nvSpPr>
        <p:spPr>
          <a:xfrm>
            <a:off x="277920" y="5338800"/>
            <a:ext cx="4086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atm = 760 mmHg = 760 to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0"/>
          <p:cNvSpPr/>
          <p:nvPr/>
        </p:nvSpPr>
        <p:spPr>
          <a:xfrm>
            <a:off x="1009800" y="5716440"/>
            <a:ext cx="1593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76 c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61"/>
          <p:cNvSpPr/>
          <p:nvPr/>
        </p:nvSpPr>
        <p:spPr>
          <a:xfrm>
            <a:off x="1020600" y="6107040"/>
            <a:ext cx="2008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101325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1"/>
          <p:cNvGrpSpPr/>
          <p:nvPr/>
        </p:nvGrpSpPr>
        <p:grpSpPr>
          <a:xfrm>
            <a:off x="208080" y="874800"/>
            <a:ext cx="4502160" cy="2284920"/>
            <a:chOff x="208080" y="874800"/>
            <a:chExt cx="4502160" cy="2284920"/>
          </a:xfrm>
        </p:grpSpPr>
        <p:sp>
          <p:nvSpPr>
            <p:cNvPr id="696" name="TextBox 44"/>
            <p:cNvSpPr/>
            <p:nvPr/>
          </p:nvSpPr>
          <p:spPr>
            <a:xfrm>
              <a:off x="208080" y="874800"/>
              <a:ext cx="4502160" cy="1236600"/>
            </a:xfrm>
            <a:prstGeom prst="rect">
              <a:avLst/>
            </a:prstGeom>
            <a:solidFill>
              <a:srgbClr val="e9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Atmospheric pressure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is the pressure exerted by earth’s atmosphe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62"/>
            <p:cNvSpPr/>
            <p:nvPr/>
          </p:nvSpPr>
          <p:spPr>
            <a:xfrm>
              <a:off x="208080" y="2151000"/>
              <a:ext cx="4502160" cy="10087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Value of atmospheric pressure depends on location, temperature and weather cond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Box 61"/>
          <p:cNvSpPr/>
          <p:nvPr/>
        </p:nvSpPr>
        <p:spPr>
          <a:xfrm>
            <a:off x="1019160" y="6505560"/>
            <a:ext cx="2008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= 101.325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3"/>
          <p:cNvSpPr/>
          <p:nvPr/>
        </p:nvSpPr>
        <p:spPr>
          <a:xfrm>
            <a:off x="345960" y="469800"/>
            <a:ext cx="84520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68440" indent="-568440"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ample: The atmospheric pressure at a certain location is 732 mmHg. Convert the pressure in atm and P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1"/>
          <p:cNvGrpSpPr/>
          <p:nvPr/>
        </p:nvGrpSpPr>
        <p:grpSpPr>
          <a:xfrm>
            <a:off x="345960" y="1816200"/>
            <a:ext cx="6996240" cy="1057320"/>
            <a:chOff x="345960" y="1816200"/>
            <a:chExt cx="6996240" cy="1057320"/>
          </a:xfrm>
        </p:grpSpPr>
        <p:sp>
          <p:nvSpPr>
            <p:cNvPr id="701" name="TextBox 4"/>
            <p:cNvSpPr/>
            <p:nvPr/>
          </p:nvSpPr>
          <p:spPr>
            <a:xfrm>
              <a:off x="345960" y="2017800"/>
              <a:ext cx="4918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(in atm)= 732  mmHg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5"/>
            <p:cNvSpPr/>
            <p:nvPr/>
          </p:nvSpPr>
          <p:spPr>
            <a:xfrm>
              <a:off x="5541120" y="1816200"/>
              <a:ext cx="1038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6"/>
            <p:cNvSpPr/>
            <p:nvPr/>
          </p:nvSpPr>
          <p:spPr>
            <a:xfrm>
              <a:off x="5264280" y="2239200"/>
              <a:ext cx="2077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mmH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8"/>
            <p:cNvSpPr/>
            <p:nvPr/>
          </p:nvSpPr>
          <p:spPr>
            <a:xfrm>
              <a:off x="5264280" y="2286000"/>
              <a:ext cx="174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0"/>
          <p:cNvGrpSpPr/>
          <p:nvPr/>
        </p:nvGrpSpPr>
        <p:grpSpPr>
          <a:xfrm>
            <a:off x="3962520" y="2133000"/>
            <a:ext cx="2819160" cy="457200"/>
            <a:chOff x="3962520" y="2133000"/>
            <a:chExt cx="2819160" cy="457200"/>
          </a:xfrm>
        </p:grpSpPr>
        <p:sp>
          <p:nvSpPr>
            <p:cNvPr id="706" name="Straight Connector 11"/>
            <p:cNvSpPr/>
            <p:nvPr/>
          </p:nvSpPr>
          <p:spPr>
            <a:xfrm flipH="1">
              <a:off x="3962520" y="2133000"/>
              <a:ext cx="7617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12"/>
            <p:cNvSpPr/>
            <p:nvPr/>
          </p:nvSpPr>
          <p:spPr>
            <a:xfrm flipH="1">
              <a:off x="6019920" y="2361600"/>
              <a:ext cx="7617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Box 13"/>
          <p:cNvSpPr/>
          <p:nvPr/>
        </p:nvSpPr>
        <p:spPr>
          <a:xfrm>
            <a:off x="2840040" y="2755800"/>
            <a:ext cx="2147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0.963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3"/>
          <p:cNvGrpSpPr/>
          <p:nvPr/>
        </p:nvGrpSpPr>
        <p:grpSpPr>
          <a:xfrm>
            <a:off x="415800" y="4005360"/>
            <a:ext cx="6858000" cy="869400"/>
            <a:chOff x="415800" y="4005360"/>
            <a:chExt cx="6858000" cy="869400"/>
          </a:xfrm>
        </p:grpSpPr>
        <p:sp>
          <p:nvSpPr>
            <p:cNvPr id="710" name="TextBox 14"/>
            <p:cNvSpPr/>
            <p:nvPr/>
          </p:nvSpPr>
          <p:spPr>
            <a:xfrm>
              <a:off x="415800" y="4178520"/>
              <a:ext cx="4918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(in Pa)= 732  mmHg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5"/>
            <p:cNvSpPr/>
            <p:nvPr/>
          </p:nvSpPr>
          <p:spPr>
            <a:xfrm>
              <a:off x="5126400" y="4005360"/>
              <a:ext cx="193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1325  P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"/>
            <p:cNvSpPr/>
            <p:nvPr/>
          </p:nvSpPr>
          <p:spPr>
            <a:xfrm>
              <a:off x="5195520" y="4399920"/>
              <a:ext cx="207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mmH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7"/>
            <p:cNvSpPr/>
            <p:nvPr/>
          </p:nvSpPr>
          <p:spPr>
            <a:xfrm>
              <a:off x="5195880" y="4446720"/>
              <a:ext cx="174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22"/>
          <p:cNvGrpSpPr/>
          <p:nvPr/>
        </p:nvGrpSpPr>
        <p:grpSpPr>
          <a:xfrm>
            <a:off x="3809880" y="4342680"/>
            <a:ext cx="2895480" cy="457200"/>
            <a:chOff x="3809880" y="4342680"/>
            <a:chExt cx="2895480" cy="457200"/>
          </a:xfrm>
        </p:grpSpPr>
        <p:sp>
          <p:nvSpPr>
            <p:cNvPr id="715" name="Straight Connector 18"/>
            <p:cNvSpPr/>
            <p:nvPr/>
          </p:nvSpPr>
          <p:spPr>
            <a:xfrm flipH="1">
              <a:off x="3809880" y="4342680"/>
              <a:ext cx="838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19"/>
            <p:cNvSpPr/>
            <p:nvPr/>
          </p:nvSpPr>
          <p:spPr>
            <a:xfrm flipH="1">
              <a:off x="5943240" y="4571280"/>
              <a:ext cx="7621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Box 20"/>
          <p:cNvSpPr/>
          <p:nvPr/>
        </p:nvSpPr>
        <p:spPr>
          <a:xfrm>
            <a:off x="2755800" y="4984920"/>
            <a:ext cx="2425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97591.9  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21"/>
          <p:cNvSpPr/>
          <p:nvPr/>
        </p:nvSpPr>
        <p:spPr>
          <a:xfrm>
            <a:off x="2770200" y="5656320"/>
            <a:ext cx="2425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97.5919  k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415800" y="533520"/>
            <a:ext cx="8244000" cy="18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 manometer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s used to measure the pressure of an enclosed g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eir operation is similar to the barometer, and they usually contain merc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762120" y="2290680"/>
            <a:ext cx="7391160" cy="4262400"/>
            <a:chOff x="762120" y="2290680"/>
            <a:chExt cx="7391160" cy="4262400"/>
          </a:xfrm>
        </p:grpSpPr>
        <p:sp>
          <p:nvSpPr>
            <p:cNvPr id="721" name="TextBox 7"/>
            <p:cNvSpPr/>
            <p:nvPr/>
          </p:nvSpPr>
          <p:spPr>
            <a:xfrm>
              <a:off x="3886200" y="3733560"/>
              <a:ext cx="426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130bb5"/>
                  </a:solidFill>
                  <a:latin typeface="Arial"/>
                  <a:ea typeface="Arial"/>
                </a:rPr>
                <a:t>A mercury manometer, </a:t>
              </a:r>
              <a:r>
                <a:rPr b="0" lang="en-US" sz="2500" spc="-1" strike="noStrike">
                  <a:solidFill>
                    <a:srgbClr val="130bb5"/>
                  </a:solidFill>
                  <a:latin typeface="Arial"/>
                  <a:ea typeface="Arial"/>
                </a:rPr>
                <a:t>used to measure gas pressures near atmospheric pressure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Picture 3" descr=""/>
            <p:cNvPicPr/>
            <p:nvPr/>
          </p:nvPicPr>
          <p:blipFill>
            <a:blip r:embed="rId1"/>
            <a:stretch/>
          </p:blipFill>
          <p:spPr>
            <a:xfrm>
              <a:off x="762120" y="2290680"/>
              <a:ext cx="2555640" cy="4262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3"/>
          <p:cNvSpPr/>
          <p:nvPr/>
        </p:nvSpPr>
        <p:spPr>
          <a:xfrm>
            <a:off x="345960" y="304920"/>
            <a:ext cx="845208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68440" indent="-568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xample: The level of mercury in an open-end arm of the manometer has a height of 136.4 mm, and the mercury in the arm that is in contact with the gas has a height of 103.8 mm. What is the pressure of the gas (a) in atmospheres, (b) in kP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  <a:ea typeface="Arial"/>
              </a:rPr>
              <a:t>[atmospheric pressure is 764.7 torr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3124080" y="3216240"/>
            <a:ext cx="563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764.7 torr + (136.4 torr – 103.8 tor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23"/>
          <p:cNvGrpSpPr/>
          <p:nvPr/>
        </p:nvGrpSpPr>
        <p:grpSpPr>
          <a:xfrm>
            <a:off x="1635120" y="4267080"/>
            <a:ext cx="3470400" cy="850320"/>
            <a:chOff x="1635120" y="4267080"/>
            <a:chExt cx="3470400" cy="850320"/>
          </a:xfrm>
        </p:grpSpPr>
        <p:sp>
          <p:nvSpPr>
            <p:cNvPr id="726" name="TextBox 14"/>
            <p:cNvSpPr/>
            <p:nvPr/>
          </p:nvSpPr>
          <p:spPr>
            <a:xfrm>
              <a:off x="1635120" y="4421160"/>
              <a:ext cx="2327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(797.3 torr) 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Box 15"/>
            <p:cNvSpPr/>
            <p:nvPr/>
          </p:nvSpPr>
          <p:spPr>
            <a:xfrm>
              <a:off x="3831120" y="4267080"/>
              <a:ext cx="127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6"/>
            <p:cNvSpPr/>
            <p:nvPr/>
          </p:nvSpPr>
          <p:spPr>
            <a:xfrm>
              <a:off x="3657960" y="4642560"/>
              <a:ext cx="143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760 tor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Straight Connector 17"/>
            <p:cNvSpPr/>
            <p:nvPr/>
          </p:nvSpPr>
          <p:spPr>
            <a:xfrm>
              <a:off x="3657600" y="4689360"/>
              <a:ext cx="12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22"/>
          <p:cNvGrpSpPr/>
          <p:nvPr/>
        </p:nvGrpSpPr>
        <p:grpSpPr>
          <a:xfrm>
            <a:off x="2742840" y="4502160"/>
            <a:ext cx="2092320" cy="565200"/>
            <a:chOff x="2742840" y="4502160"/>
            <a:chExt cx="2092320" cy="565200"/>
          </a:xfrm>
        </p:grpSpPr>
        <p:sp>
          <p:nvSpPr>
            <p:cNvPr id="731" name="Straight Connector 18"/>
            <p:cNvSpPr/>
            <p:nvPr/>
          </p:nvSpPr>
          <p:spPr>
            <a:xfrm flipH="1">
              <a:off x="2742840" y="450216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Straight Connector 19"/>
            <p:cNvSpPr/>
            <p:nvPr/>
          </p:nvSpPr>
          <p:spPr>
            <a:xfrm flipH="1">
              <a:off x="4419360" y="474336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Box 13"/>
          <p:cNvSpPr/>
          <p:nvPr/>
        </p:nvSpPr>
        <p:spPr>
          <a:xfrm>
            <a:off x="3124080" y="3733920"/>
            <a:ext cx="1905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797.3 tor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0"/>
          <p:cNvSpPr/>
          <p:nvPr/>
        </p:nvSpPr>
        <p:spPr>
          <a:xfrm>
            <a:off x="5105520" y="4460760"/>
            <a:ext cx="1981080" cy="463320"/>
          </a:xfrm>
          <a:prstGeom prst="rect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1.049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2247840" y="5475240"/>
            <a:ext cx="4267440" cy="1009440"/>
            <a:chOff x="2247840" y="5475240"/>
            <a:chExt cx="4267440" cy="1009440"/>
          </a:xfrm>
        </p:grpSpPr>
        <p:sp>
          <p:nvSpPr>
            <p:cNvPr id="736" name="TextBox 14"/>
            <p:cNvSpPr/>
            <p:nvPr/>
          </p:nvSpPr>
          <p:spPr>
            <a:xfrm>
              <a:off x="2247840" y="5628960"/>
              <a:ext cx="22100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=(1.049 atm)</a:t>
              </a:r>
              <a:r>
                <a:rPr b="0" lang="en-US" sz="25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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15"/>
            <p:cNvSpPr/>
            <p:nvPr/>
          </p:nvSpPr>
          <p:spPr>
            <a:xfrm>
              <a:off x="4305240" y="5475240"/>
              <a:ext cx="2210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01.325 kP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Box 16"/>
            <p:cNvSpPr/>
            <p:nvPr/>
          </p:nvSpPr>
          <p:spPr>
            <a:xfrm>
              <a:off x="4762440" y="5812920"/>
              <a:ext cx="121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Straight Connector 35"/>
            <p:cNvSpPr/>
            <p:nvPr/>
          </p:nvSpPr>
          <p:spPr>
            <a:xfrm>
              <a:off x="4381560" y="5897520"/>
              <a:ext cx="18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3543120" y="5719680"/>
            <a:ext cx="2016000" cy="546120"/>
            <a:chOff x="3543120" y="5719680"/>
            <a:chExt cx="2016000" cy="546120"/>
          </a:xfrm>
        </p:grpSpPr>
        <p:sp>
          <p:nvSpPr>
            <p:cNvPr id="741" name="Straight Connector 37"/>
            <p:cNvSpPr/>
            <p:nvPr/>
          </p:nvSpPr>
          <p:spPr>
            <a:xfrm flipH="1">
              <a:off x="3543120" y="571968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Straight Connector 38"/>
            <p:cNvSpPr/>
            <p:nvPr/>
          </p:nvSpPr>
          <p:spPr>
            <a:xfrm flipH="1">
              <a:off x="5143320" y="5941800"/>
              <a:ext cx="415800" cy="3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Box 20"/>
          <p:cNvSpPr/>
          <p:nvPr/>
        </p:nvSpPr>
        <p:spPr>
          <a:xfrm>
            <a:off x="2276640" y="6265800"/>
            <a:ext cx="1952640" cy="463320"/>
          </a:xfrm>
          <a:prstGeom prst="rect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= 106.3 k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"/>
          <p:cNvGrpSpPr/>
          <p:nvPr/>
        </p:nvGrpSpPr>
        <p:grpSpPr>
          <a:xfrm>
            <a:off x="228600" y="2579760"/>
            <a:ext cx="5334120" cy="538200"/>
            <a:chOff x="228600" y="2579760"/>
            <a:chExt cx="5334120" cy="538200"/>
          </a:xfrm>
        </p:grpSpPr>
        <p:sp>
          <p:nvSpPr>
            <p:cNvPr id="745" name="TextBox 4"/>
            <p:cNvSpPr/>
            <p:nvPr/>
          </p:nvSpPr>
          <p:spPr>
            <a:xfrm>
              <a:off x="776160" y="2590560"/>
              <a:ext cx="47865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ssure of gas,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gas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atm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+ 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20"/>
            <p:cNvSpPr/>
            <p:nvPr/>
          </p:nvSpPr>
          <p:spPr>
            <a:xfrm>
              <a:off x="228600" y="2579760"/>
              <a:ext cx="609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Box 14"/>
          <p:cNvSpPr/>
          <p:nvPr/>
        </p:nvSpPr>
        <p:spPr>
          <a:xfrm>
            <a:off x="838080" y="4400640"/>
            <a:ext cx="10321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gas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  <a:ea typeface="Arial"/>
              </a:rPr>
              <a:t> =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9"/>
          <p:cNvGrpSpPr/>
          <p:nvPr/>
        </p:nvGrpSpPr>
        <p:grpSpPr>
          <a:xfrm>
            <a:off x="304920" y="5410080"/>
            <a:ext cx="2361960" cy="736200"/>
            <a:chOff x="304920" y="5410080"/>
            <a:chExt cx="2361960" cy="736200"/>
          </a:xfrm>
        </p:grpSpPr>
        <p:sp>
          <p:nvSpPr>
            <p:cNvPr id="749" name="TextBox 20"/>
            <p:cNvSpPr/>
            <p:nvPr/>
          </p:nvSpPr>
          <p:spPr>
            <a:xfrm>
              <a:off x="304920" y="5410080"/>
              <a:ext cx="609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Box 14"/>
            <p:cNvSpPr/>
            <p:nvPr/>
          </p:nvSpPr>
          <p:spPr>
            <a:xfrm>
              <a:off x="914400" y="5618880"/>
              <a:ext cx="1752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  <a:ea typeface="Arial"/>
                </a:rPr>
                <a:t> in kPa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pc</cp:lastModifiedBy>
  <dcterms:modified xsi:type="dcterms:W3CDTF">2011-09-14T08:42:45Z</dcterms:modified>
  <cp:revision>772</cp:revision>
  <dc:subject/>
  <dc:title>Chapter 1 Introduction: Matter and Measurement</dc:title>
</cp:coreProperties>
</file>