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2.gif" ContentType="image/gi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18DA-8C30-4083-A3D8-6A626F9D3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55D1-15BA-4E86-A880-3A78BD7B8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C9A1-5F6E-42D5-890D-77C6B0602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8D82-6ABE-4FA4-A7EB-1242F328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D691-A232-4965-BD10-741E46C97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5D6-F1DA-4CF5-AC5C-34B16560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069-E154-4E87-A4E1-76171A46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C18F1-3CA2-4696-B88A-1A823282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E01B2-A772-4F1D-A488-8820E1D3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622D8-1D3C-4A2B-AD44-E01122B1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33849-C101-4CFB-A15E-40E5A69D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04DFF-69F2-4EDB-8DD4-7A236DB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FEFB3-55B6-46F0-B73B-30F584E7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98578-DB5F-4F1B-A126-8B0672DF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D1D31-CE9A-4036-A705-373EA3D4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41B6C-5CD2-4577-9D02-170B21F3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F3280-3B1B-42BD-AB8F-396681FE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C8D-A9DF-4B2B-A16C-A8C8FB8E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CF131-F31A-4260-B1EE-0D015BD0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C7EF9-3F12-4ED0-A8B6-6B340736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D1068-84D4-449D-90F5-42C1A9F4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648CC-23DA-4AF6-8EE7-E3F6F6FD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B4B8D-CD3E-462B-909C-7BFD42D6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FD54A-A75C-4739-BD8E-B22DCA3A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36308-D304-43D2-A539-8E558CB3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E2C3D-7022-4C6A-A535-1395B338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C174-D376-434C-94D3-B85C8C97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39C54-1317-45F7-ABE8-E7A50EFB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BC6-B60C-4860-A8FE-675BE978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70DA3-505C-4349-AC6A-D14B74C2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CD7E1-EB1E-45A2-8DB4-A64D444E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6D769-FDA6-4ECF-9D59-B35F289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1428E-5998-4290-B5F1-EC466F2A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1E77D-2D7E-4AEA-B069-E6816D05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750B3-F841-481E-9204-397FE218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B311C-8262-4488-BA6E-F64F8CE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11577-0E03-41EF-A49F-0A775B13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9775F-2E78-416B-9976-2469A96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D23F4-CA93-4E52-BCF6-3BD904FE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1CE7-2E3C-4E4C-A18F-605CB734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34999-1D06-413A-A161-891A422A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3CE2A-C15E-4887-8523-D700A2F7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19BC2-8C6E-4041-8C50-F661F7A7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A981D-A4D9-4941-BC85-D0A4E598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0DFED-06B6-4E11-807A-1409C7BD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66A2C-710D-4E2D-917D-2A77FA5B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B0859-0901-48C2-9CB5-1F364639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C729D-9943-4394-8894-B610F814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C2958-013B-4888-8199-A6B8B89F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9F602-F023-4E2B-9C79-835A5A03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878D-CB88-4D25-B21F-BB593E19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EDF79-C896-4DF2-94D5-CD273F72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8730F-1BCF-42DF-9EF9-ED9F63AB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EAA0A-0828-4765-8A31-EF835CBB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A47FE-E200-469C-8A4E-2A4505E1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D83C9-A701-4A6F-9C05-FDDFB132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51F5F-56C6-41E0-A989-79B72CCE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7C74E-D89F-4BCA-AE35-7FDDAB01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77C05-DF39-4F19-953D-26033895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5F628-7606-42DC-9FF9-2A59F193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19CD4-3ECA-486A-92B1-C571F454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3AEE-F771-415E-8AD5-4A8E8926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CFD4B-767B-434D-8DFF-B8848BF0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FC09E-36DB-4AD6-B3CD-92301B5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EBC24-F395-42AF-BAC6-28776025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EA4ED-7A14-4B31-B39D-0C83B59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EAF97-DFD8-4D59-884C-321536D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B1F49-EB42-4A1D-A53F-10CC761C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8F9E6-9588-4360-AD79-36826D96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700A1-65D6-441F-8928-1455DC67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36696-ED0F-4B7A-B06D-9876EF9E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46A02-88DF-479B-A6AE-848AB674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4E7C-D69E-4EA2-8BE8-AC5BD418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28537-6F0C-4D2F-B5BD-CE45BF9C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33208-8C45-43F1-8A46-517D0490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32602-5FEF-4CEF-B4BC-07149497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81BE5-6A01-463E-9677-94313096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D656B-CDDE-4683-8A4E-0819574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1162D-0E0E-4203-9633-D03E9483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83878-8E96-4704-8EFA-4131EC9A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E00BC-D100-43CC-9145-F6966119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8929D-B307-4848-8A87-628D36E0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EDB68C-247C-4CE3-8509-5D57AB37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AF39-F5D5-4803-AD21-297CB8ED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0812B-A135-41B7-AEE9-49C9B157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E18DB-2503-4747-B341-91B2CC56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A9B19-73D6-4358-835F-07ABACC6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C2319-7CBA-4CE1-8868-96D22181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CE7F5-D3A7-4DEB-9681-D86D8C97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4A3BE-164C-42C8-8FCC-E5681234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F4D97-2BFA-47FC-B43A-04E49479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FE09A-C78B-4433-9E07-50BC3D57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6E653-E115-41C7-B32E-9FAFD66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1F680-6AB6-44DD-B1F0-70F6B0AD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C5D8-FFFB-49C8-9837-F438F555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F71B7-C107-4D03-B20B-D8453E0D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A62A6-3618-4D10-A9E1-4B5E1C31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46597-CC52-4948-B8AA-0D3B5753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B7055-5D2E-4909-B699-7BB2BDF7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84919-66A0-4D59-8965-D4B8523D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7FEF2-2218-4C49-9A1A-DCC96060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E7F60-BF98-4A89-870B-8607BC5A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4A3AE-C8B5-4940-AB4F-41B14E5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89EFD-8978-44EB-8CE8-DDDB468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4C841-0EB4-4249-8ADF-EA4F3BD5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3F00-7389-4215-A62D-D4F8E532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37BA6-CDA2-4D6D-8EA2-A4D9022B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EFC81-AD9A-47BF-BE75-71CB0E30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13961-93E3-4379-839C-164B26E7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792-E184-4F3B-964F-59611429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500E-CA84-4043-AD25-CF1FD0CC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F8B0-ED50-4D31-98DF-AFA2705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B394-BE64-4AEE-84C8-D348E3A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D34E-389C-4992-9B91-306C129B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4A8F-0877-47CE-8996-866FD6C2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71EF-27AC-41CC-8E2D-30CF6157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EEB4-8D9A-4965-8D79-CDEAB912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938E0-31EF-423A-AC31-F092D4F3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4EF2-095D-45AF-A763-F76985C4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F447-78FE-4D1F-94D2-DF58C01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8A1-C7C4-4588-A1E4-57C43EE6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ECBA-2958-47A1-ABBA-E5F36CC8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102D-2DB9-47A0-B9D0-3AF49169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B1FD-A3EB-411D-A08D-BA4BB94B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4D9E-E265-450E-AF79-4D9AD04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1779-5588-46CB-8B0E-0BEF9A6B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31BA0-BEFF-471E-B63F-1735FFA1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5B592-6666-48F4-90EA-2CEB90BF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3A06-E255-4DCF-B1D5-9AA40723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B597-4C99-4EDF-94CB-28C392CC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6608-D4CF-48DA-9EE7-DA5D2CC4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C5C-C4F4-4ACC-9299-32C9BAD8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0660-7131-41D2-8DBF-B9297E6D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CDA1E-2049-4AC8-8B35-4CB2BF46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E1974-5D84-4070-AC42-FA142020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2D70-553F-43F3-9C58-2A3D15D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B026-791B-463C-9B56-F9ED7228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D982-BE5C-4DAC-BD27-74737C0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EE1F-F3F0-43F7-9459-8CEDE934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14EC-3996-422A-9DAE-B2956669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FB7C-C621-4F47-B4E9-7D59168F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6D1F-AD9D-4144-9863-354B99E7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ECA-5EF5-43C5-B274-4B379948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EC49B-496D-426F-94F6-4874D9B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E240-8F40-48EF-AA71-598916F5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287FE-2057-431B-82BE-C5B2C77C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B51CF-3961-4C05-9CBB-DD601728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98164-25D0-4D3E-876C-B9EF3DE3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4E4E2-5EE5-4F07-95E6-A264ED1A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3A3CB-8FED-4E2E-BD60-33ABED6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6BC98-B951-4014-B1B8-DD34DB2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7C70A-94A8-465F-8887-C607C298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EFE81-6C0B-4E8B-9C7D-87FB0A60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272-25BE-4676-B261-0054F203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1F682-1B45-44B1-A582-747AAEB9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A40A2-1E2E-46B7-865C-3D99890D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A73D1-737E-4C2E-8C4D-8CAEDDA2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0C080-E98B-45BD-BC25-9E7CADF9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047DA-4865-4953-A9ED-D43D0AF4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011AA-FA68-4434-BC1C-7774D6D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E60BF-CA8D-4968-92BE-A4912E27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5F41B-71BC-4CFF-89A7-983A118F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8D969-D7EC-45D8-9E62-F9CB9BA5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A9EFF-6771-4346-964D-A938EF57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61A-E0DB-4696-A727-D9A696AC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DA3B-7B0B-45F4-8E29-1364702D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5F7C4-5487-4FD7-8F2A-279E6B2E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4EFA3-5F40-40CB-9F56-6AA0D786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A07E9-D6BA-4B9B-A77A-811EB5F9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046E7-50D8-486C-BD5E-FD1BC048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4818-256E-4282-BE59-92818E6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96F8E-49D0-4C02-9F0B-B19CF23E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1B554-A779-4C5E-B184-CE825D5A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77187-A36F-4CBB-94B8-802C3EE3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6CECD-73AE-434A-B7CD-D9B0AE10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D64-27E6-4C69-B63E-839B64D0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96EE5-1409-44AD-8ED5-6662896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7702B-B73B-4B13-B97D-39B08DD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CFF0-1BA1-4685-BFE4-AF7D4851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B03E1-4F1F-40D9-B6B8-7DDAF338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CE87F-8929-40D6-8353-01CCF515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D0FA8-9E88-4AEA-8D17-41466583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5888F-4F9B-403D-812A-33E19C08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34A30-0F32-4DFC-B237-00A8DD56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0ABD5-B828-4DF4-847C-C8E15920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E4D01-91C3-4351-85DD-7C0A79C9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7C8-4FAE-422D-B0CC-FE3B2EAA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CA93-738D-4730-90F9-6459A573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EA82F-C077-4718-85C3-9EF32376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56707-E756-47DA-8D3F-43B1EC0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FB7F-BB33-495B-A6C3-AA7DA09F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DC053-44FA-4445-BBB3-30CE9226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EF4EE-8DA2-4B00-848D-C16A09D5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F7691-03EC-4DA2-8283-F806D4B2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C5EEF-0FEC-459D-BA11-DF2D1C07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CA919-1E6E-4AAD-8A2C-0774003C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8DD50-3888-4DA5-BCBD-4679FF0C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8EB8-EA34-4A54-93B2-B360EB15F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D09E-A1FA-4F26-B8F4-5B58317C4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EB3-8B33-44BB-8D18-C3B63F225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B41C-5815-41F6-8D7A-FE3ED8163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E3E5-42D7-48E4-940E-EA5BC73B6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68E-050E-48B7-952F-4C2AA915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7242-58D8-4958-A383-F9B18E809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D22E-D072-47F7-8841-96BDDC95C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41FB-018F-4F49-B82C-8AFC27198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2AFA-38E8-4DCA-8C58-58CD9666A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6D02-FA37-407D-A0C5-FE4B5AB70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5476-90DC-4596-9046-0D91310CB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B1B0-36B1-43D3-A8B2-F77C09790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D406-5EDD-446B-A723-A4766000E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96F9-F2AC-4246-AF41-C5177EDD2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9D25-CFA1-4E30-83C5-60AEBD7A9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10"/>
          <p:cNvSpPr/>
          <p:nvPr/>
        </p:nvSpPr>
        <p:spPr>
          <a:xfrm>
            <a:off x="2209680" y="25416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0.3   The ga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1"/>
          <p:cNvSpPr/>
          <p:nvPr/>
        </p:nvSpPr>
        <p:spPr>
          <a:xfrm>
            <a:off x="380880" y="838080"/>
            <a:ext cx="83822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 variables are needed to define the physical condition or state of a gas, temperature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pressure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volume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amount of gas (in mole)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equations that express the relationships among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re known as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as law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794880" y="3244680"/>
            <a:ext cx="75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The pressure-volume relationship: Boyle'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380880" y="38289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oyle’s la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s that the volu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f a fixed quantity of gas maintained at constant temperature (T) is inversely proportional to the press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Group 18"/>
          <p:cNvGrpSpPr/>
          <p:nvPr/>
        </p:nvGrpSpPr>
        <p:grpSpPr>
          <a:xfrm>
            <a:off x="4191120" y="4971960"/>
            <a:ext cx="1333080" cy="893160"/>
            <a:chOff x="4191120" y="4971960"/>
            <a:chExt cx="1333080" cy="893160"/>
          </a:xfrm>
        </p:grpSpPr>
        <p:sp>
          <p:nvSpPr>
            <p:cNvPr id="671" name="Rectangle 13"/>
            <p:cNvSpPr/>
            <p:nvPr/>
          </p:nvSpPr>
          <p:spPr>
            <a:xfrm>
              <a:off x="4191120" y="5181480"/>
              <a:ext cx="7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4"/>
            <p:cNvSpPr/>
            <p:nvPr/>
          </p:nvSpPr>
          <p:spPr>
            <a:xfrm>
              <a:off x="4991040" y="497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5"/>
            <p:cNvSpPr/>
            <p:nvPr/>
          </p:nvSpPr>
          <p:spPr>
            <a:xfrm>
              <a:off x="4991040" y="5405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Straight Connector 46"/>
            <p:cNvSpPr/>
            <p:nvPr/>
          </p:nvSpPr>
          <p:spPr>
            <a:xfrm>
              <a:off x="4915080" y="542916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19"/>
          <p:cNvGrpSpPr/>
          <p:nvPr/>
        </p:nvGrpSpPr>
        <p:grpSpPr>
          <a:xfrm>
            <a:off x="4229280" y="5562720"/>
            <a:ext cx="2828880" cy="916920"/>
            <a:chOff x="4229280" y="5562720"/>
            <a:chExt cx="2828880" cy="916920"/>
          </a:xfrm>
        </p:grpSpPr>
        <p:sp>
          <p:nvSpPr>
            <p:cNvPr id="676" name="Rectangle 18"/>
            <p:cNvSpPr/>
            <p:nvPr/>
          </p:nvSpPr>
          <p:spPr>
            <a:xfrm>
              <a:off x="4229280" y="5767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9"/>
            <p:cNvSpPr/>
            <p:nvPr/>
          </p:nvSpPr>
          <p:spPr>
            <a:xfrm>
              <a:off x="6525000" y="556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20"/>
            <p:cNvSpPr/>
            <p:nvPr/>
          </p:nvSpPr>
          <p:spPr>
            <a:xfrm>
              <a:off x="6525000" y="601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Straight Connector 51"/>
            <p:cNvSpPr/>
            <p:nvPr/>
          </p:nvSpPr>
          <p:spPr>
            <a:xfrm>
              <a:off x="644868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>
              <a:off x="4800600" y="5767560"/>
              <a:ext cx="18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7"/>
          <p:cNvSpPr/>
          <p:nvPr/>
        </p:nvSpPr>
        <p:spPr>
          <a:xfrm>
            <a:off x="4010040" y="629604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V = constant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23"/>
          <p:cNvSpPr/>
          <p:nvPr/>
        </p:nvSpPr>
        <p:spPr>
          <a:xfrm>
            <a:off x="421200" y="171360"/>
            <a:ext cx="81871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0.5  Further applications of the ideal-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4"/>
          <p:cNvSpPr/>
          <p:nvPr/>
        </p:nvSpPr>
        <p:spPr>
          <a:xfrm>
            <a:off x="628920" y="1198440"/>
            <a:ext cx="6198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Density is defined as mass per unit volu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62"/>
          <p:cNvGrpSpPr/>
          <p:nvPr/>
        </p:nvGrpSpPr>
        <p:grpSpPr>
          <a:xfrm>
            <a:off x="1045080" y="1612800"/>
            <a:ext cx="1240920" cy="878760"/>
            <a:chOff x="1045080" y="1612800"/>
            <a:chExt cx="1240920" cy="878760"/>
          </a:xfrm>
        </p:grpSpPr>
        <p:sp>
          <p:nvSpPr>
            <p:cNvPr id="896" name="Rectangle 25"/>
            <p:cNvSpPr/>
            <p:nvPr/>
          </p:nvSpPr>
          <p:spPr>
            <a:xfrm>
              <a:off x="1045080" y="1803240"/>
              <a:ext cx="718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d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6"/>
            <p:cNvSpPr/>
            <p:nvPr/>
          </p:nvSpPr>
          <p:spPr>
            <a:xfrm>
              <a:off x="1805400" y="161280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7"/>
            <p:cNvSpPr/>
            <p:nvPr/>
          </p:nvSpPr>
          <p:spPr>
            <a:xfrm>
              <a:off x="1765080" y="201672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Straight Connector 29"/>
            <p:cNvSpPr/>
            <p:nvPr/>
          </p:nvSpPr>
          <p:spPr>
            <a:xfrm>
              <a:off x="1731960" y="201600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Rectangle 13"/>
          <p:cNvSpPr/>
          <p:nvPr/>
        </p:nvSpPr>
        <p:spPr>
          <a:xfrm>
            <a:off x="762120" y="3214800"/>
            <a:ext cx="457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Ideal gas equation, </a:t>
            </a:r>
            <a:r>
              <a:rPr b="0" i="1" lang="en-US" sz="2500" spc="-1" strike="noStrike">
                <a:solidFill>
                  <a:srgbClr val="c00000"/>
                </a:solidFill>
                <a:latin typeface="Arial"/>
              </a:rPr>
              <a:t>PV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i="1" lang="en-US" sz="2500" spc="-1" strike="noStrike">
                <a:solidFill>
                  <a:srgbClr val="c00000"/>
                </a:solidFill>
                <a:latin typeface="Arial"/>
              </a:rPr>
              <a:t>nRT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64"/>
          <p:cNvGrpSpPr/>
          <p:nvPr/>
        </p:nvGrpSpPr>
        <p:grpSpPr>
          <a:xfrm>
            <a:off x="2672280" y="3848040"/>
            <a:ext cx="1226160" cy="864720"/>
            <a:chOff x="2672280" y="3848040"/>
            <a:chExt cx="1226160" cy="864720"/>
          </a:xfrm>
        </p:grpSpPr>
        <p:sp>
          <p:nvSpPr>
            <p:cNvPr id="902" name="Rectangle 31"/>
            <p:cNvSpPr/>
            <p:nvPr/>
          </p:nvSpPr>
          <p:spPr>
            <a:xfrm>
              <a:off x="2672280" y="4038120"/>
              <a:ext cx="718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b050"/>
                  </a:solidFill>
                  <a:latin typeface="Arial"/>
                </a:rPr>
                <a:t>n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2"/>
            <p:cNvSpPr/>
            <p:nvPr/>
          </p:nvSpPr>
          <p:spPr>
            <a:xfrm>
              <a:off x="3294000" y="3848040"/>
              <a:ext cx="604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V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3"/>
            <p:cNvSpPr/>
            <p:nvPr/>
          </p:nvSpPr>
          <p:spPr>
            <a:xfrm>
              <a:off x="3222360" y="4237920"/>
              <a:ext cx="60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Straight Connector 34"/>
            <p:cNvSpPr/>
            <p:nvPr/>
          </p:nvSpPr>
          <p:spPr>
            <a:xfrm>
              <a:off x="3303360" y="425124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63"/>
          <p:cNvGrpSpPr/>
          <p:nvPr/>
        </p:nvGrpSpPr>
        <p:grpSpPr>
          <a:xfrm>
            <a:off x="762120" y="2341440"/>
            <a:ext cx="4572000" cy="878760"/>
            <a:chOff x="762120" y="2341440"/>
            <a:chExt cx="4572000" cy="878760"/>
          </a:xfrm>
        </p:grpSpPr>
        <p:sp>
          <p:nvSpPr>
            <p:cNvPr id="907" name="Rectangle 13"/>
            <p:cNvSpPr/>
            <p:nvPr/>
          </p:nvSpPr>
          <p:spPr>
            <a:xfrm>
              <a:off x="762120" y="2529720"/>
              <a:ext cx="4572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number of mole, </a:t>
              </a:r>
              <a:r>
                <a:rPr b="0" i="1" lang="en-US" sz="2500" spc="-1" strike="noStrike">
                  <a:solidFill>
                    <a:srgbClr val="00b050"/>
                  </a:solidFill>
                  <a:latin typeface="Arial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6"/>
            <p:cNvSpPr/>
            <p:nvPr/>
          </p:nvSpPr>
          <p:spPr>
            <a:xfrm>
              <a:off x="3909240" y="234144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37"/>
            <p:cNvSpPr/>
            <p:nvPr/>
          </p:nvSpPr>
          <p:spPr>
            <a:xfrm>
              <a:off x="3870360" y="274536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Straight Connector 38"/>
            <p:cNvSpPr/>
            <p:nvPr/>
          </p:nvSpPr>
          <p:spPr>
            <a:xfrm>
              <a:off x="3835440" y="274464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Rectangle 39"/>
          <p:cNvSpPr/>
          <p:nvPr/>
        </p:nvSpPr>
        <p:spPr>
          <a:xfrm>
            <a:off x="5229720" y="1803240"/>
            <a:ext cx="269316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 mass in gra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molar ma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65"/>
          <p:cNvGrpSpPr/>
          <p:nvPr/>
        </p:nvGrpSpPr>
        <p:grpSpPr>
          <a:xfrm>
            <a:off x="2442240" y="4743360"/>
            <a:ext cx="1583280" cy="864720"/>
            <a:chOff x="2442240" y="4743360"/>
            <a:chExt cx="1583280" cy="864720"/>
          </a:xfrm>
        </p:grpSpPr>
        <p:sp>
          <p:nvSpPr>
            <p:cNvPr id="913" name="Rectangle 40"/>
            <p:cNvSpPr/>
            <p:nvPr/>
          </p:nvSpPr>
          <p:spPr>
            <a:xfrm>
              <a:off x="2480760" y="475560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41"/>
            <p:cNvSpPr/>
            <p:nvPr/>
          </p:nvSpPr>
          <p:spPr>
            <a:xfrm>
              <a:off x="2442240" y="512136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70c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Straight Connector 42"/>
            <p:cNvSpPr/>
            <p:nvPr/>
          </p:nvSpPr>
          <p:spPr>
            <a:xfrm>
              <a:off x="2455560" y="5159160"/>
              <a:ext cx="554040" cy="144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43"/>
            <p:cNvSpPr/>
            <p:nvPr/>
          </p:nvSpPr>
          <p:spPr>
            <a:xfrm>
              <a:off x="2965320" y="4944960"/>
              <a:ext cx="453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44"/>
            <p:cNvSpPr/>
            <p:nvPr/>
          </p:nvSpPr>
          <p:spPr>
            <a:xfrm>
              <a:off x="3421080" y="4743360"/>
              <a:ext cx="604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V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45"/>
            <p:cNvSpPr/>
            <p:nvPr/>
          </p:nvSpPr>
          <p:spPr>
            <a:xfrm>
              <a:off x="3349800" y="5133240"/>
              <a:ext cx="60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Straight Connector 46"/>
            <p:cNvSpPr/>
            <p:nvPr/>
          </p:nvSpPr>
          <p:spPr>
            <a:xfrm>
              <a:off x="3430440" y="5165640"/>
              <a:ext cx="555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68"/>
          <p:cNvGrpSpPr/>
          <p:nvPr/>
        </p:nvGrpSpPr>
        <p:grpSpPr>
          <a:xfrm>
            <a:off x="2371680" y="5715000"/>
            <a:ext cx="1670040" cy="890280"/>
            <a:chOff x="2371680" y="5715000"/>
            <a:chExt cx="1670040" cy="890280"/>
          </a:xfrm>
        </p:grpSpPr>
        <p:sp>
          <p:nvSpPr>
            <p:cNvPr id="921" name="Rectangle 48"/>
            <p:cNvSpPr/>
            <p:nvPr/>
          </p:nvSpPr>
          <p:spPr>
            <a:xfrm>
              <a:off x="2404800" y="613044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Group 66"/>
            <p:cNvGrpSpPr/>
            <p:nvPr/>
          </p:nvGrpSpPr>
          <p:grpSpPr>
            <a:xfrm>
              <a:off x="2371680" y="5715000"/>
              <a:ext cx="1670040" cy="864000"/>
              <a:chOff x="2371680" y="5715000"/>
              <a:chExt cx="1670040" cy="864000"/>
            </a:xfrm>
          </p:grpSpPr>
          <p:sp>
            <p:nvSpPr>
              <p:cNvPr id="923" name="Rectangle 47"/>
              <p:cNvSpPr/>
              <p:nvPr/>
            </p:nvSpPr>
            <p:spPr>
              <a:xfrm>
                <a:off x="2444760" y="5727240"/>
                <a:ext cx="4442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70c0"/>
                    </a:solidFill>
                    <a:latin typeface="Arial"/>
                  </a:rPr>
                  <a:t>m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Straight Connector 49"/>
              <p:cNvSpPr/>
              <p:nvPr/>
            </p:nvSpPr>
            <p:spPr>
              <a:xfrm>
                <a:off x="2371680" y="6131160"/>
                <a:ext cx="554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Rectangle 50"/>
              <p:cNvSpPr/>
              <p:nvPr/>
            </p:nvSpPr>
            <p:spPr>
              <a:xfrm>
                <a:off x="2966400" y="5916240"/>
                <a:ext cx="453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51"/>
              <p:cNvSpPr/>
              <p:nvPr/>
            </p:nvSpPr>
            <p:spPr>
              <a:xfrm>
                <a:off x="3385800" y="5715000"/>
                <a:ext cx="6559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2500" spc="-1" strike="noStrike">
                    <a:solidFill>
                      <a:srgbClr val="0070c0"/>
                    </a:solidFill>
                    <a:latin typeface="Arial"/>
                  </a:rPr>
                  <a:t>M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Rectangle 52"/>
              <p:cNvSpPr/>
              <p:nvPr/>
            </p:nvSpPr>
            <p:spPr>
              <a:xfrm>
                <a:off x="3312720" y="6104160"/>
                <a:ext cx="6030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Straight Connector 53"/>
              <p:cNvSpPr/>
              <p:nvPr/>
            </p:nvSpPr>
            <p:spPr>
              <a:xfrm>
                <a:off x="3394080" y="6118200"/>
                <a:ext cx="5540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9" name="Group 67"/>
          <p:cNvGrpSpPr/>
          <p:nvPr/>
        </p:nvGrpSpPr>
        <p:grpSpPr>
          <a:xfrm>
            <a:off x="4572000" y="5638680"/>
            <a:ext cx="1638360" cy="928080"/>
            <a:chOff x="4572000" y="5638680"/>
            <a:chExt cx="1638360" cy="928080"/>
          </a:xfrm>
        </p:grpSpPr>
        <p:sp>
          <p:nvSpPr>
            <p:cNvPr id="930" name="Rectangle 55"/>
            <p:cNvSpPr/>
            <p:nvPr/>
          </p:nvSpPr>
          <p:spPr>
            <a:xfrm>
              <a:off x="4709160" y="5853960"/>
              <a:ext cx="357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57"/>
            <p:cNvSpPr/>
            <p:nvPr/>
          </p:nvSpPr>
          <p:spPr>
            <a:xfrm>
              <a:off x="4950360" y="5904000"/>
              <a:ext cx="453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58"/>
            <p:cNvSpPr/>
            <p:nvPr/>
          </p:nvSpPr>
          <p:spPr>
            <a:xfrm>
              <a:off x="5408280" y="5702040"/>
              <a:ext cx="656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59"/>
            <p:cNvSpPr/>
            <p:nvPr/>
          </p:nvSpPr>
          <p:spPr>
            <a:xfrm>
              <a:off x="5335200" y="6091920"/>
              <a:ext cx="60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Straight Connector 60"/>
            <p:cNvSpPr/>
            <p:nvPr/>
          </p:nvSpPr>
          <p:spPr>
            <a:xfrm>
              <a:off x="5416560" y="610524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61"/>
            <p:cNvSpPr/>
            <p:nvPr/>
          </p:nvSpPr>
          <p:spPr>
            <a:xfrm>
              <a:off x="4572000" y="5638680"/>
              <a:ext cx="1638360" cy="8510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44"/>
          <p:cNvSpPr/>
          <p:nvPr/>
        </p:nvSpPr>
        <p:spPr>
          <a:xfrm>
            <a:off x="1717560" y="762120"/>
            <a:ext cx="4735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Gas densities and molar ma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67"/>
          <p:cNvGrpSpPr/>
          <p:nvPr/>
        </p:nvGrpSpPr>
        <p:grpSpPr>
          <a:xfrm>
            <a:off x="6934320" y="5638680"/>
            <a:ext cx="1638360" cy="928080"/>
            <a:chOff x="6934320" y="5638680"/>
            <a:chExt cx="1638360" cy="928080"/>
          </a:xfrm>
        </p:grpSpPr>
        <p:sp>
          <p:nvSpPr>
            <p:cNvPr id="938" name="Rectangle 55"/>
            <p:cNvSpPr/>
            <p:nvPr/>
          </p:nvSpPr>
          <p:spPr>
            <a:xfrm>
              <a:off x="7072920" y="585396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57"/>
            <p:cNvSpPr/>
            <p:nvPr/>
          </p:nvSpPr>
          <p:spPr>
            <a:xfrm>
              <a:off x="7313400" y="5904000"/>
              <a:ext cx="54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58"/>
            <p:cNvSpPr/>
            <p:nvPr/>
          </p:nvSpPr>
          <p:spPr>
            <a:xfrm>
              <a:off x="7767720" y="5702040"/>
              <a:ext cx="779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d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59"/>
            <p:cNvSpPr/>
            <p:nvPr/>
          </p:nvSpPr>
          <p:spPr>
            <a:xfrm>
              <a:off x="7834680" y="609192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Straight Connector 55"/>
            <p:cNvSpPr/>
            <p:nvPr/>
          </p:nvSpPr>
          <p:spPr>
            <a:xfrm>
              <a:off x="7778880" y="614340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56"/>
            <p:cNvSpPr/>
            <p:nvPr/>
          </p:nvSpPr>
          <p:spPr>
            <a:xfrm>
              <a:off x="6934320" y="5638680"/>
              <a:ext cx="1638360" cy="8510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Rectangle 57"/>
          <p:cNvSpPr/>
          <p:nvPr/>
        </p:nvSpPr>
        <p:spPr>
          <a:xfrm>
            <a:off x="6402600" y="5791320"/>
            <a:ext cx="4467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Group 36"/>
          <p:cNvGrpSpPr/>
          <p:nvPr/>
        </p:nvGrpSpPr>
        <p:grpSpPr>
          <a:xfrm>
            <a:off x="1384920" y="1300320"/>
            <a:ext cx="1407240" cy="864360"/>
            <a:chOff x="1384920" y="1300320"/>
            <a:chExt cx="1407240" cy="864360"/>
          </a:xfrm>
        </p:grpSpPr>
        <p:sp>
          <p:nvSpPr>
            <p:cNvPr id="946" name="Rectangle 3"/>
            <p:cNvSpPr/>
            <p:nvPr/>
          </p:nvSpPr>
          <p:spPr>
            <a:xfrm>
              <a:off x="1384920" y="145188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4"/>
            <p:cNvSpPr/>
            <p:nvPr/>
          </p:nvSpPr>
          <p:spPr>
            <a:xfrm>
              <a:off x="1625400" y="1501920"/>
              <a:ext cx="54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5"/>
            <p:cNvSpPr/>
            <p:nvPr/>
          </p:nvSpPr>
          <p:spPr>
            <a:xfrm>
              <a:off x="2012400" y="1300320"/>
              <a:ext cx="779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d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6"/>
            <p:cNvSpPr/>
            <p:nvPr/>
          </p:nvSpPr>
          <p:spPr>
            <a:xfrm>
              <a:off x="2010960" y="168984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Straight Connector 7"/>
            <p:cNvSpPr/>
            <p:nvPr/>
          </p:nvSpPr>
          <p:spPr>
            <a:xfrm>
              <a:off x="2090520" y="1731960"/>
              <a:ext cx="5540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Rectangle 9"/>
          <p:cNvSpPr/>
          <p:nvPr/>
        </p:nvSpPr>
        <p:spPr>
          <a:xfrm>
            <a:off x="457200" y="268200"/>
            <a:ext cx="8202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: Calculate the average molar mass of dry air if it has a density of 1.17 g/L at 2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and 740.0 tor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0"/>
          <p:cNvSpPr/>
          <p:nvPr/>
        </p:nvSpPr>
        <p:spPr>
          <a:xfrm>
            <a:off x="3809880" y="1811160"/>
            <a:ext cx="4641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d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1.17 g/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1"/>
          <p:cNvSpPr/>
          <p:nvPr/>
        </p:nvSpPr>
        <p:spPr>
          <a:xfrm>
            <a:off x="3767760" y="2214720"/>
            <a:ext cx="4988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740.0 torr= 740.0/760 = 0.974 at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2"/>
          <p:cNvSpPr/>
          <p:nvPr/>
        </p:nvSpPr>
        <p:spPr>
          <a:xfrm>
            <a:off x="3812400" y="2631960"/>
            <a:ext cx="2751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(21+273)= 294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3"/>
          <p:cNvSpPr/>
          <p:nvPr/>
        </p:nvSpPr>
        <p:spPr>
          <a:xfrm>
            <a:off x="3828600" y="3089160"/>
            <a:ext cx="3417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0.0821 L. atm / K. m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0"/>
          <p:cNvGrpSpPr/>
          <p:nvPr/>
        </p:nvGrpSpPr>
        <p:grpSpPr>
          <a:xfrm>
            <a:off x="2494080" y="4164120"/>
            <a:ext cx="6185880" cy="958320"/>
            <a:chOff x="2494080" y="4164120"/>
            <a:chExt cx="6185880" cy="958320"/>
          </a:xfrm>
        </p:grpSpPr>
        <p:grpSp>
          <p:nvGrpSpPr>
            <p:cNvPr id="957" name="Group 39"/>
            <p:cNvGrpSpPr/>
            <p:nvPr/>
          </p:nvGrpSpPr>
          <p:grpSpPr>
            <a:xfrm>
              <a:off x="2643480" y="4164120"/>
              <a:ext cx="6036480" cy="958320"/>
              <a:chOff x="2643480" y="4164120"/>
              <a:chExt cx="6036480" cy="958320"/>
            </a:xfrm>
          </p:grpSpPr>
          <p:sp>
            <p:nvSpPr>
              <p:cNvPr id="958" name="Rectangle 20"/>
              <p:cNvSpPr/>
              <p:nvPr/>
            </p:nvSpPr>
            <p:spPr>
              <a:xfrm>
                <a:off x="2643480" y="4164120"/>
                <a:ext cx="603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1.17 g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/L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0.08206 L.atm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/K.mol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294 K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Rectangle 21"/>
              <p:cNvSpPr/>
              <p:nvPr/>
            </p:nvSpPr>
            <p:spPr>
              <a:xfrm>
                <a:off x="4695840" y="4647600"/>
                <a:ext cx="1593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0.974 atm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Straight Connector 23"/>
            <p:cNvSpPr/>
            <p:nvPr/>
          </p:nvSpPr>
          <p:spPr>
            <a:xfrm>
              <a:off x="2494080" y="4646880"/>
              <a:ext cx="6119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31"/>
          <p:cNvGrpSpPr/>
          <p:nvPr/>
        </p:nvGrpSpPr>
        <p:grpSpPr>
          <a:xfrm>
            <a:off x="5638680" y="4292640"/>
            <a:ext cx="435240" cy="722160"/>
            <a:chOff x="5638680" y="4292640"/>
            <a:chExt cx="435240" cy="722160"/>
          </a:xfrm>
        </p:grpSpPr>
        <p:sp>
          <p:nvSpPr>
            <p:cNvPr id="962" name="Straight Connector 26"/>
            <p:cNvSpPr/>
            <p:nvPr/>
          </p:nvSpPr>
          <p:spPr>
            <a:xfrm flipH="1">
              <a:off x="5638680" y="4762440"/>
              <a:ext cx="346320" cy="2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Straight Connector 30"/>
            <p:cNvSpPr/>
            <p:nvPr/>
          </p:nvSpPr>
          <p:spPr>
            <a:xfrm flipH="1">
              <a:off x="5727600" y="4292640"/>
              <a:ext cx="346320" cy="2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Rectangle 35"/>
          <p:cNvSpPr/>
          <p:nvPr/>
        </p:nvSpPr>
        <p:spPr>
          <a:xfrm>
            <a:off x="1940040" y="5521320"/>
            <a:ext cx="2216160" cy="46332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9.28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/mol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36"/>
          <p:cNvGrpSpPr/>
          <p:nvPr/>
        </p:nvGrpSpPr>
        <p:grpSpPr>
          <a:xfrm>
            <a:off x="918360" y="3581280"/>
            <a:ext cx="1407240" cy="864720"/>
            <a:chOff x="918360" y="3581280"/>
            <a:chExt cx="1407240" cy="864720"/>
          </a:xfrm>
        </p:grpSpPr>
        <p:sp>
          <p:nvSpPr>
            <p:cNvPr id="966" name="Rectangle 3"/>
            <p:cNvSpPr/>
            <p:nvPr/>
          </p:nvSpPr>
          <p:spPr>
            <a:xfrm>
              <a:off x="918360" y="373284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4"/>
            <p:cNvSpPr/>
            <p:nvPr/>
          </p:nvSpPr>
          <p:spPr>
            <a:xfrm>
              <a:off x="1158840" y="3782880"/>
              <a:ext cx="54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5"/>
            <p:cNvSpPr/>
            <p:nvPr/>
          </p:nvSpPr>
          <p:spPr>
            <a:xfrm>
              <a:off x="1545840" y="3581280"/>
              <a:ext cx="779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d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6"/>
            <p:cNvSpPr/>
            <p:nvPr/>
          </p:nvSpPr>
          <p:spPr>
            <a:xfrm>
              <a:off x="1544400" y="397116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Straight Connector 41"/>
            <p:cNvSpPr/>
            <p:nvPr/>
          </p:nvSpPr>
          <p:spPr>
            <a:xfrm>
              <a:off x="1623960" y="4013280"/>
              <a:ext cx="5540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Rectangle 4"/>
          <p:cNvSpPr/>
          <p:nvPr/>
        </p:nvSpPr>
        <p:spPr>
          <a:xfrm>
            <a:off x="2062440" y="4408560"/>
            <a:ext cx="54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31"/>
          <p:cNvGrpSpPr/>
          <p:nvPr/>
        </p:nvGrpSpPr>
        <p:grpSpPr>
          <a:xfrm>
            <a:off x="6257880" y="4295880"/>
            <a:ext cx="2124000" cy="257040"/>
            <a:chOff x="6257880" y="4295880"/>
            <a:chExt cx="2124000" cy="257040"/>
          </a:xfrm>
        </p:grpSpPr>
        <p:sp>
          <p:nvSpPr>
            <p:cNvPr id="973" name="Straight Connector 44"/>
            <p:cNvSpPr/>
            <p:nvPr/>
          </p:nvSpPr>
          <p:spPr>
            <a:xfrm flipH="1">
              <a:off x="8094600" y="4295880"/>
              <a:ext cx="287280" cy="2570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Straight Connector 45"/>
            <p:cNvSpPr/>
            <p:nvPr/>
          </p:nvSpPr>
          <p:spPr>
            <a:xfrm flipH="1">
              <a:off x="6257880" y="4313880"/>
              <a:ext cx="295200" cy="2221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31"/>
          <p:cNvGrpSpPr/>
          <p:nvPr/>
        </p:nvGrpSpPr>
        <p:grpSpPr>
          <a:xfrm>
            <a:off x="3648240" y="4295880"/>
            <a:ext cx="1990440" cy="237960"/>
            <a:chOff x="3648240" y="4295880"/>
            <a:chExt cx="1990440" cy="237960"/>
          </a:xfrm>
        </p:grpSpPr>
        <p:sp>
          <p:nvSpPr>
            <p:cNvPr id="976" name="Straight Connector 48"/>
            <p:cNvSpPr/>
            <p:nvPr/>
          </p:nvSpPr>
          <p:spPr>
            <a:xfrm flipH="1">
              <a:off x="5375160" y="4295880"/>
              <a:ext cx="263520" cy="2253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Straight Connector 49"/>
            <p:cNvSpPr/>
            <p:nvPr/>
          </p:nvSpPr>
          <p:spPr>
            <a:xfrm flipH="1">
              <a:off x="3648240" y="4295880"/>
              <a:ext cx="218880" cy="2379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Box 104"/>
          <p:cNvSpPr/>
          <p:nvPr/>
        </p:nvSpPr>
        <p:spPr>
          <a:xfrm>
            <a:off x="5934240" y="6019920"/>
            <a:ext cx="1733400" cy="801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72.8 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aN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9"/>
          <p:cNvSpPr/>
          <p:nvPr/>
        </p:nvSpPr>
        <p:spPr>
          <a:xfrm>
            <a:off x="1371600" y="279360"/>
            <a:ext cx="670572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Volumes of gases in chemical re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590400" y="5181480"/>
            <a:ext cx="2057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Mole Na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57"/>
          <p:cNvGrpSpPr/>
          <p:nvPr/>
        </p:nvGrpSpPr>
        <p:grpSpPr>
          <a:xfrm>
            <a:off x="609480" y="990720"/>
            <a:ext cx="8202600" cy="1850400"/>
            <a:chOff x="609480" y="990720"/>
            <a:chExt cx="8202600" cy="1850400"/>
          </a:xfrm>
        </p:grpSpPr>
        <p:sp>
          <p:nvSpPr>
            <p:cNvPr id="982" name="Rectangle 34"/>
            <p:cNvSpPr/>
            <p:nvPr/>
          </p:nvSpPr>
          <p:spPr>
            <a:xfrm>
              <a:off x="609480" y="990720"/>
              <a:ext cx="8202600" cy="18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ample : Following the reaction if an air bag of has a volume of 36 L and is to be filled with nitrogen gas at a pressure of 1.15 atom at a temperature of 26.0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, how many grams of NaN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must be decomposed?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NaN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s)                2Na(s)  + 3N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3" name="Straight Arrow Connector 43"/>
            <p:cNvCxnSpPr/>
            <p:nvPr/>
          </p:nvCxnSpPr>
          <p:spPr>
            <a:xfrm>
              <a:off x="2228400" y="2552760"/>
              <a:ext cx="1067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84" name="Rectangle 13"/>
          <p:cNvSpPr/>
          <p:nvPr/>
        </p:nvSpPr>
        <p:spPr>
          <a:xfrm>
            <a:off x="6858000" y="4265640"/>
            <a:ext cx="1905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1.69 mol N</a:t>
            </a:r>
            <a:r>
              <a:rPr b="0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76"/>
          <p:cNvGrpSpPr/>
          <p:nvPr/>
        </p:nvGrpSpPr>
        <p:grpSpPr>
          <a:xfrm>
            <a:off x="520560" y="3978360"/>
            <a:ext cx="1708200" cy="840240"/>
            <a:chOff x="520560" y="3978360"/>
            <a:chExt cx="1708200" cy="840240"/>
          </a:xfrm>
        </p:grpSpPr>
        <p:sp>
          <p:nvSpPr>
            <p:cNvPr id="986" name="Rectangle 13"/>
            <p:cNvSpPr/>
            <p:nvPr/>
          </p:nvSpPr>
          <p:spPr>
            <a:xfrm>
              <a:off x="1156320" y="4389480"/>
              <a:ext cx="701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R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Group 70"/>
            <p:cNvGrpSpPr/>
            <p:nvPr/>
          </p:nvGrpSpPr>
          <p:grpSpPr>
            <a:xfrm>
              <a:off x="520560" y="3978360"/>
              <a:ext cx="1708200" cy="649440"/>
              <a:chOff x="520560" y="3978360"/>
              <a:chExt cx="1708200" cy="649440"/>
            </a:xfrm>
          </p:grpSpPr>
          <p:sp>
            <p:nvSpPr>
              <p:cNvPr id="988" name="Rectangle 13"/>
              <p:cNvSpPr/>
              <p:nvPr/>
            </p:nvSpPr>
            <p:spPr>
              <a:xfrm>
                <a:off x="520560" y="4198680"/>
                <a:ext cx="76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n 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Rectangle 13"/>
              <p:cNvSpPr/>
              <p:nvPr/>
            </p:nvSpPr>
            <p:spPr>
              <a:xfrm>
                <a:off x="1148760" y="3978360"/>
                <a:ext cx="1080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PV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Straight Connector 54"/>
              <p:cNvSpPr/>
              <p:nvPr/>
            </p:nvSpPr>
            <p:spPr>
              <a:xfrm>
                <a:off x="1144440" y="4424760"/>
                <a:ext cx="6922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1" name="Group 75"/>
          <p:cNvGrpSpPr/>
          <p:nvPr/>
        </p:nvGrpSpPr>
        <p:grpSpPr>
          <a:xfrm>
            <a:off x="1905120" y="4017960"/>
            <a:ext cx="4919400" cy="857160"/>
            <a:chOff x="1905120" y="4017960"/>
            <a:chExt cx="4919400" cy="857160"/>
          </a:xfrm>
        </p:grpSpPr>
        <p:sp>
          <p:nvSpPr>
            <p:cNvPr id="992" name="Rectangle 13"/>
            <p:cNvSpPr/>
            <p:nvPr/>
          </p:nvSpPr>
          <p:spPr>
            <a:xfrm>
              <a:off x="1905120" y="4206960"/>
              <a:ext cx="48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71"/>
            <p:cNvGrpSpPr/>
            <p:nvPr/>
          </p:nvGrpSpPr>
          <p:grpSpPr>
            <a:xfrm>
              <a:off x="2209320" y="4017960"/>
              <a:ext cx="4615200" cy="857160"/>
              <a:chOff x="2209320" y="4017960"/>
              <a:chExt cx="4615200" cy="857160"/>
            </a:xfrm>
          </p:grpSpPr>
          <p:sp>
            <p:nvSpPr>
              <p:cNvPr id="994" name="Rectangle 13"/>
              <p:cNvSpPr/>
              <p:nvPr/>
            </p:nvSpPr>
            <p:spPr>
              <a:xfrm>
                <a:off x="4200480" y="4035960"/>
                <a:ext cx="136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36.0 L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Straight Connector 60"/>
              <p:cNvSpPr/>
              <p:nvPr/>
            </p:nvSpPr>
            <p:spPr>
              <a:xfrm>
                <a:off x="2252520" y="4456080"/>
                <a:ext cx="4572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Rectangle 13"/>
              <p:cNvSpPr/>
              <p:nvPr/>
            </p:nvSpPr>
            <p:spPr>
              <a:xfrm>
                <a:off x="2894400" y="4017960"/>
                <a:ext cx="2134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1.15 at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Rectangle 39"/>
              <p:cNvSpPr/>
              <p:nvPr/>
            </p:nvSpPr>
            <p:spPr>
              <a:xfrm>
                <a:off x="2209320" y="4446000"/>
                <a:ext cx="4582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 0.08206 L.atm / 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K. mo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299 K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40"/>
          <p:cNvGrpSpPr/>
          <p:nvPr/>
        </p:nvGrpSpPr>
        <p:grpSpPr>
          <a:xfrm>
            <a:off x="4600080" y="4570560"/>
            <a:ext cx="2011320" cy="250560"/>
            <a:chOff x="4600080" y="4570560"/>
            <a:chExt cx="2011320" cy="250560"/>
          </a:xfrm>
        </p:grpSpPr>
        <p:sp>
          <p:nvSpPr>
            <p:cNvPr id="999" name="Straight Connector 64"/>
            <p:cNvSpPr/>
            <p:nvPr/>
          </p:nvSpPr>
          <p:spPr>
            <a:xfrm flipH="1">
              <a:off x="6333840" y="4570560"/>
              <a:ext cx="277560" cy="2505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Straight Connector 65"/>
            <p:cNvSpPr/>
            <p:nvPr/>
          </p:nvSpPr>
          <p:spPr>
            <a:xfrm flipH="1">
              <a:off x="4600080" y="4570560"/>
              <a:ext cx="277560" cy="2505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Group 43"/>
          <p:cNvGrpSpPr/>
          <p:nvPr/>
        </p:nvGrpSpPr>
        <p:grpSpPr>
          <a:xfrm>
            <a:off x="3657240" y="4133880"/>
            <a:ext cx="1679400" cy="723960"/>
            <a:chOff x="3657240" y="4133880"/>
            <a:chExt cx="1679400" cy="723960"/>
          </a:xfrm>
        </p:grpSpPr>
        <p:sp>
          <p:nvSpPr>
            <p:cNvPr id="1002" name="Straight Connector 67"/>
            <p:cNvSpPr/>
            <p:nvPr/>
          </p:nvSpPr>
          <p:spPr>
            <a:xfrm flipH="1">
              <a:off x="3657240" y="4570560"/>
              <a:ext cx="277560" cy="28728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Straight Connector 68"/>
            <p:cNvSpPr/>
            <p:nvPr/>
          </p:nvSpPr>
          <p:spPr>
            <a:xfrm flipH="1">
              <a:off x="5059080" y="4133880"/>
              <a:ext cx="277560" cy="2523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46"/>
          <p:cNvGrpSpPr/>
          <p:nvPr/>
        </p:nvGrpSpPr>
        <p:grpSpPr>
          <a:xfrm>
            <a:off x="3809880" y="4113360"/>
            <a:ext cx="506520" cy="707760"/>
            <a:chOff x="3809880" y="4113360"/>
            <a:chExt cx="506520" cy="707760"/>
          </a:xfrm>
        </p:grpSpPr>
        <p:sp>
          <p:nvSpPr>
            <p:cNvPr id="1005" name="Straight Connector 70"/>
            <p:cNvSpPr/>
            <p:nvPr/>
          </p:nvSpPr>
          <p:spPr>
            <a:xfrm flipH="1">
              <a:off x="4038480" y="4570560"/>
              <a:ext cx="277920" cy="250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Straight Connector 71"/>
            <p:cNvSpPr/>
            <p:nvPr/>
          </p:nvSpPr>
          <p:spPr>
            <a:xfrm flipH="1">
              <a:off x="3809880" y="4113360"/>
              <a:ext cx="277920" cy="250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Rectangle 72"/>
          <p:cNvSpPr/>
          <p:nvPr/>
        </p:nvSpPr>
        <p:spPr>
          <a:xfrm>
            <a:off x="838080" y="2971800"/>
            <a:ext cx="1697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V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36.0 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73"/>
          <p:cNvSpPr/>
          <p:nvPr/>
        </p:nvSpPr>
        <p:spPr>
          <a:xfrm>
            <a:off x="3985560" y="2971800"/>
            <a:ext cx="1833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1.15 at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74"/>
          <p:cNvSpPr/>
          <p:nvPr/>
        </p:nvSpPr>
        <p:spPr>
          <a:xfrm>
            <a:off x="872280" y="3352680"/>
            <a:ext cx="2751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(26+273)= 299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75"/>
          <p:cNvSpPr/>
          <p:nvPr/>
        </p:nvSpPr>
        <p:spPr>
          <a:xfrm>
            <a:off x="3980880" y="3352680"/>
            <a:ext cx="3417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= 0.0821 L. atm / K. m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34"/>
          <p:cNvGrpSpPr/>
          <p:nvPr/>
        </p:nvGrpSpPr>
        <p:grpSpPr>
          <a:xfrm>
            <a:off x="2514600" y="4876920"/>
            <a:ext cx="3501000" cy="1168200"/>
            <a:chOff x="2514600" y="4876920"/>
            <a:chExt cx="3501000" cy="1168200"/>
          </a:xfrm>
        </p:grpSpPr>
        <p:sp>
          <p:nvSpPr>
            <p:cNvPr id="1012" name="TextBox 55"/>
            <p:cNvSpPr/>
            <p:nvPr/>
          </p:nvSpPr>
          <p:spPr>
            <a:xfrm rot="10800000">
              <a:off x="5606280" y="503676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26"/>
            <p:cNvGrpSpPr/>
            <p:nvPr/>
          </p:nvGrpSpPr>
          <p:grpSpPr>
            <a:xfrm>
              <a:off x="2514600" y="4876920"/>
              <a:ext cx="3381480" cy="1008360"/>
              <a:chOff x="2514600" y="4876920"/>
              <a:chExt cx="3381480" cy="1008360"/>
            </a:xfrm>
          </p:grpSpPr>
          <p:sp>
            <p:nvSpPr>
              <p:cNvPr id="1014" name="TextBox 86"/>
              <p:cNvSpPr/>
              <p:nvPr/>
            </p:nvSpPr>
            <p:spPr>
              <a:xfrm>
                <a:off x="2514600" y="5181480"/>
                <a:ext cx="190512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1.69 mol N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Box 87"/>
              <p:cNvSpPr/>
              <p:nvPr/>
            </p:nvSpPr>
            <p:spPr>
              <a:xfrm>
                <a:off x="4372200" y="5019480"/>
                <a:ext cx="152388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2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a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TextBox 88"/>
              <p:cNvSpPr/>
              <p:nvPr/>
            </p:nvSpPr>
            <p:spPr>
              <a:xfrm>
                <a:off x="4496040" y="5396040"/>
                <a:ext cx="12952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3 mol N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Straight Connector 19"/>
              <p:cNvSpPr/>
              <p:nvPr/>
            </p:nvSpPr>
            <p:spPr>
              <a:xfrm>
                <a:off x="4449600" y="5443560"/>
                <a:ext cx="13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Box 56"/>
              <p:cNvSpPr/>
              <p:nvPr/>
            </p:nvSpPr>
            <p:spPr>
              <a:xfrm>
                <a:off x="4158360" y="487692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9" name="TextBox 91"/>
          <p:cNvSpPr/>
          <p:nvPr/>
        </p:nvSpPr>
        <p:spPr>
          <a:xfrm>
            <a:off x="5867280" y="5181480"/>
            <a:ext cx="213372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1.12 mo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aN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27"/>
          <p:cNvGrpSpPr/>
          <p:nvPr/>
        </p:nvGrpSpPr>
        <p:grpSpPr>
          <a:xfrm>
            <a:off x="3419640" y="5314320"/>
            <a:ext cx="2000160" cy="438120"/>
            <a:chOff x="3419640" y="5314320"/>
            <a:chExt cx="2000160" cy="438120"/>
          </a:xfrm>
        </p:grpSpPr>
        <p:sp>
          <p:nvSpPr>
            <p:cNvPr id="1021" name="Straight Connector 35"/>
            <p:cNvSpPr/>
            <p:nvPr/>
          </p:nvSpPr>
          <p:spPr>
            <a:xfrm flipH="1">
              <a:off x="3419640" y="5314320"/>
              <a:ext cx="504000" cy="18108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Straight Connector 36"/>
            <p:cNvSpPr/>
            <p:nvPr/>
          </p:nvSpPr>
          <p:spPr>
            <a:xfrm flipH="1">
              <a:off x="4915800" y="5523840"/>
              <a:ext cx="504000" cy="22860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Rectangle 4"/>
          <p:cNvSpPr/>
          <p:nvPr/>
        </p:nvSpPr>
        <p:spPr>
          <a:xfrm>
            <a:off x="380880" y="6019920"/>
            <a:ext cx="22100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Gram Na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34"/>
          <p:cNvGrpSpPr/>
          <p:nvPr/>
        </p:nvGrpSpPr>
        <p:grpSpPr>
          <a:xfrm>
            <a:off x="2286000" y="5715000"/>
            <a:ext cx="3772080" cy="1168200"/>
            <a:chOff x="2286000" y="5715000"/>
            <a:chExt cx="3772080" cy="1168200"/>
          </a:xfrm>
        </p:grpSpPr>
        <p:sp>
          <p:nvSpPr>
            <p:cNvPr id="1025" name="TextBox 55"/>
            <p:cNvSpPr/>
            <p:nvPr/>
          </p:nvSpPr>
          <p:spPr>
            <a:xfrm rot="10800000">
              <a:off x="5625360" y="587484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Group 26"/>
            <p:cNvGrpSpPr/>
            <p:nvPr/>
          </p:nvGrpSpPr>
          <p:grpSpPr>
            <a:xfrm>
              <a:off x="2286000" y="5715000"/>
              <a:ext cx="3772080" cy="1008360"/>
              <a:chOff x="2286000" y="5715000"/>
              <a:chExt cx="3772080" cy="1008360"/>
            </a:xfrm>
          </p:grpSpPr>
          <p:sp>
            <p:nvSpPr>
              <p:cNvPr id="1027" name="TextBox 100"/>
              <p:cNvSpPr/>
              <p:nvPr/>
            </p:nvSpPr>
            <p:spPr>
              <a:xfrm>
                <a:off x="4534200" y="5857920"/>
                <a:ext cx="152388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65 g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a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TextBox 101"/>
              <p:cNvSpPr/>
              <p:nvPr/>
            </p:nvSpPr>
            <p:spPr>
              <a:xfrm>
                <a:off x="4343400" y="6234120"/>
                <a:ext cx="158112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1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a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TextBox 99"/>
              <p:cNvSpPr/>
              <p:nvPr/>
            </p:nvSpPr>
            <p:spPr>
              <a:xfrm>
                <a:off x="2286000" y="6019920"/>
                <a:ext cx="21909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1.12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a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Straight Connector 19"/>
              <p:cNvSpPr/>
              <p:nvPr/>
            </p:nvSpPr>
            <p:spPr>
              <a:xfrm>
                <a:off x="4486320" y="6282000"/>
                <a:ext cx="13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Box 56"/>
              <p:cNvSpPr/>
              <p:nvPr/>
            </p:nvSpPr>
            <p:spPr>
              <a:xfrm>
                <a:off x="4242600" y="57150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2" name="Group 27"/>
          <p:cNvGrpSpPr/>
          <p:nvPr/>
        </p:nvGrpSpPr>
        <p:grpSpPr>
          <a:xfrm>
            <a:off x="3200400" y="6153120"/>
            <a:ext cx="2438280" cy="399240"/>
            <a:chOff x="3200400" y="6153120"/>
            <a:chExt cx="2438280" cy="399240"/>
          </a:xfrm>
        </p:grpSpPr>
        <p:sp>
          <p:nvSpPr>
            <p:cNvPr id="1033" name="Straight Connector 35"/>
            <p:cNvSpPr/>
            <p:nvPr/>
          </p:nvSpPr>
          <p:spPr>
            <a:xfrm flipH="1">
              <a:off x="3200400" y="6153120"/>
              <a:ext cx="742320" cy="1713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Straight Connector 36"/>
            <p:cNvSpPr/>
            <p:nvPr/>
          </p:nvSpPr>
          <p:spPr>
            <a:xfrm flipH="1">
              <a:off x="4724280" y="6400080"/>
              <a:ext cx="914400" cy="15228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5" name="Picture 59" descr=""/>
          <p:cNvPicPr/>
          <p:nvPr/>
        </p:nvPicPr>
        <p:blipFill>
          <a:blip r:embed="rId1"/>
          <a:stretch/>
        </p:blipFill>
        <p:spPr>
          <a:xfrm>
            <a:off x="5486400" y="2583000"/>
            <a:ext cx="356400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4"/>
          <p:cNvSpPr/>
          <p:nvPr/>
        </p:nvSpPr>
        <p:spPr>
          <a:xfrm>
            <a:off x="1364400" y="187200"/>
            <a:ext cx="62625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Gas mixtures and 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6"/>
          <p:cNvSpPr/>
          <p:nvPr/>
        </p:nvSpPr>
        <p:spPr>
          <a:xfrm>
            <a:off x="415800" y="1008000"/>
            <a:ext cx="838224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tial pressur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 a gas in a mixture of gases is the pressure which the gas would exert if it were the only gas present in the contain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37" descr=""/>
          <p:cNvPicPr/>
          <p:nvPr/>
        </p:nvPicPr>
        <p:blipFill>
          <a:blip r:embed="rId1"/>
          <a:stretch/>
        </p:blipFill>
        <p:spPr>
          <a:xfrm>
            <a:off x="623880" y="2622600"/>
            <a:ext cx="2424240" cy="4108320"/>
          </a:xfrm>
          <a:prstGeom prst="rect">
            <a:avLst/>
          </a:prstGeom>
          <a:ln w="0">
            <a:noFill/>
          </a:ln>
        </p:spPr>
      </p:pic>
      <p:sp>
        <p:nvSpPr>
          <p:cNvPr id="1039" name="Rectangle 38"/>
          <p:cNvSpPr/>
          <p:nvPr/>
        </p:nvSpPr>
        <p:spPr>
          <a:xfrm>
            <a:off x="3117960" y="2743200"/>
            <a:ext cx="547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Total pressure in the container is proportional to the number of gas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39"/>
          <p:cNvSpPr/>
          <p:nvPr/>
        </p:nvSpPr>
        <p:spPr>
          <a:xfrm>
            <a:off x="3117960" y="3832200"/>
            <a:ext cx="5402160" cy="29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If each dot represents 1 mole of gas particles, then there are 48 moles of gas partic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particles o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gas a = 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particles of </a:t>
            </a:r>
            <a:r>
              <a:rPr b="1" lang="en-US" sz="2500" spc="-1" strike="noStrike">
                <a:solidFill>
                  <a:srgbClr val="130bb5"/>
                </a:solidFill>
                <a:latin typeface="Arial"/>
              </a:rPr>
              <a:t>gas b = 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otal pressure  4 atm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46" descr=""/>
          <p:cNvPicPr/>
          <p:nvPr/>
        </p:nvPicPr>
        <p:blipFill>
          <a:blip r:embed="rId1"/>
          <a:stretch/>
        </p:blipFill>
        <p:spPr>
          <a:xfrm>
            <a:off x="345960" y="135000"/>
            <a:ext cx="1905120" cy="3227400"/>
          </a:xfrm>
          <a:prstGeom prst="rect">
            <a:avLst/>
          </a:prstGeom>
          <a:ln w="0">
            <a:noFill/>
          </a:ln>
        </p:spPr>
      </p:pic>
      <p:sp>
        <p:nvSpPr>
          <p:cNvPr id="1042" name="Rectangle 46"/>
          <p:cNvSpPr/>
          <p:nvPr/>
        </p:nvSpPr>
        <p:spPr>
          <a:xfrm>
            <a:off x="2909880" y="806400"/>
            <a:ext cx="561024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Arial"/>
              </a:rPr>
              <a:t>the container holds only 12 moles of gas a partic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47"/>
          <p:cNvSpPr/>
          <p:nvPr/>
        </p:nvSpPr>
        <p:spPr>
          <a:xfrm>
            <a:off x="2789280" y="2041560"/>
            <a:ext cx="3669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ure exerted by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s a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64"/>
          <p:cNvGrpSpPr/>
          <p:nvPr/>
        </p:nvGrpSpPr>
        <p:grpSpPr>
          <a:xfrm>
            <a:off x="6323040" y="1816200"/>
            <a:ext cx="2754360" cy="872280"/>
            <a:chOff x="6323040" y="1816200"/>
            <a:chExt cx="2754360" cy="872280"/>
          </a:xfrm>
        </p:grpSpPr>
        <p:grpSp>
          <p:nvGrpSpPr>
            <p:cNvPr id="1045" name="Group 62"/>
            <p:cNvGrpSpPr/>
            <p:nvPr/>
          </p:nvGrpSpPr>
          <p:grpSpPr>
            <a:xfrm>
              <a:off x="6323040" y="1816200"/>
              <a:ext cx="1509840" cy="872280"/>
              <a:chOff x="6323040" y="1816200"/>
              <a:chExt cx="1509840" cy="872280"/>
            </a:xfrm>
          </p:grpSpPr>
          <p:sp>
            <p:nvSpPr>
              <p:cNvPr id="1046" name="Rectangle 13"/>
              <p:cNvSpPr/>
              <p:nvPr/>
            </p:nvSpPr>
            <p:spPr>
              <a:xfrm>
                <a:off x="6323040" y="1816200"/>
                <a:ext cx="1509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12 mol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13"/>
              <p:cNvSpPr/>
              <p:nvPr/>
            </p:nvSpPr>
            <p:spPr>
              <a:xfrm>
                <a:off x="6323040" y="2183040"/>
                <a:ext cx="1330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48 mol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Straight Connector 7"/>
              <p:cNvSpPr/>
              <p:nvPr/>
            </p:nvSpPr>
            <p:spPr>
              <a:xfrm>
                <a:off x="6392880" y="2263680"/>
                <a:ext cx="1163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Rectangle 13"/>
            <p:cNvSpPr/>
            <p:nvPr/>
          </p:nvSpPr>
          <p:spPr>
            <a:xfrm>
              <a:off x="7553520" y="1976760"/>
              <a:ext cx="387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3"/>
            <p:cNvSpPr/>
            <p:nvPr/>
          </p:nvSpPr>
          <p:spPr>
            <a:xfrm>
              <a:off x="7899840" y="1964160"/>
              <a:ext cx="1177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4 atm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Rectangle 13"/>
          <p:cNvSpPr/>
          <p:nvPr/>
        </p:nvSpPr>
        <p:spPr>
          <a:xfrm>
            <a:off x="6026040" y="2755800"/>
            <a:ext cx="138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1 a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47" descr=""/>
          <p:cNvPicPr/>
          <p:nvPr/>
        </p:nvPicPr>
        <p:blipFill>
          <a:blip r:embed="rId2"/>
          <a:stretch/>
        </p:blipFill>
        <p:spPr>
          <a:xfrm>
            <a:off x="345960" y="3564000"/>
            <a:ext cx="1905120" cy="322740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72"/>
          <p:cNvSpPr/>
          <p:nvPr/>
        </p:nvSpPr>
        <p:spPr>
          <a:xfrm>
            <a:off x="2840040" y="4235400"/>
            <a:ext cx="5611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Arial"/>
              </a:rPr>
              <a:t>the container holds only 36 moles of gas a partic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73"/>
          <p:cNvSpPr/>
          <p:nvPr/>
        </p:nvSpPr>
        <p:spPr>
          <a:xfrm>
            <a:off x="2721240" y="5470560"/>
            <a:ext cx="3685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ure exerted by </a:t>
            </a:r>
            <a:r>
              <a:rPr b="1" lang="en-US" sz="2200" spc="-1" strike="noStrike">
                <a:solidFill>
                  <a:srgbClr val="130bb5"/>
                </a:solidFill>
                <a:latin typeface="Arial"/>
              </a:rPr>
              <a:t>gas b</a:t>
            </a:r>
            <a:r>
              <a:rPr b="0" lang="en-US" sz="2200" spc="-1" strike="noStrike">
                <a:solidFill>
                  <a:srgbClr val="130bb5"/>
                </a:solidFill>
                <a:latin typeface="Arial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74"/>
          <p:cNvGrpSpPr/>
          <p:nvPr/>
        </p:nvGrpSpPr>
        <p:grpSpPr>
          <a:xfrm>
            <a:off x="6253200" y="5245200"/>
            <a:ext cx="2755800" cy="872280"/>
            <a:chOff x="6253200" y="5245200"/>
            <a:chExt cx="2755800" cy="872280"/>
          </a:xfrm>
        </p:grpSpPr>
        <p:grpSp>
          <p:nvGrpSpPr>
            <p:cNvPr id="1056" name="Group 62"/>
            <p:cNvGrpSpPr/>
            <p:nvPr/>
          </p:nvGrpSpPr>
          <p:grpSpPr>
            <a:xfrm>
              <a:off x="6253200" y="5245200"/>
              <a:ext cx="1510920" cy="872280"/>
              <a:chOff x="6253200" y="5245200"/>
              <a:chExt cx="1510920" cy="872280"/>
            </a:xfrm>
          </p:grpSpPr>
          <p:sp>
            <p:nvSpPr>
              <p:cNvPr id="1057" name="Rectangle 13"/>
              <p:cNvSpPr/>
              <p:nvPr/>
            </p:nvSpPr>
            <p:spPr>
              <a:xfrm>
                <a:off x="6253200" y="5245200"/>
                <a:ext cx="1510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36 mol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13"/>
              <p:cNvSpPr/>
              <p:nvPr/>
            </p:nvSpPr>
            <p:spPr>
              <a:xfrm>
                <a:off x="6253200" y="5612040"/>
                <a:ext cx="1330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48 mol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Straight Connector 80"/>
              <p:cNvSpPr/>
              <p:nvPr/>
            </p:nvSpPr>
            <p:spPr>
              <a:xfrm>
                <a:off x="6323040" y="5692680"/>
                <a:ext cx="11653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Rectangle 13"/>
            <p:cNvSpPr/>
            <p:nvPr/>
          </p:nvSpPr>
          <p:spPr>
            <a:xfrm>
              <a:off x="7484400" y="5405760"/>
              <a:ext cx="387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13"/>
            <p:cNvSpPr/>
            <p:nvPr/>
          </p:nvSpPr>
          <p:spPr>
            <a:xfrm>
              <a:off x="7831080" y="5393160"/>
              <a:ext cx="1177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4 atm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Rectangle 13"/>
          <p:cNvSpPr/>
          <p:nvPr/>
        </p:nvSpPr>
        <p:spPr>
          <a:xfrm>
            <a:off x="5958000" y="6184800"/>
            <a:ext cx="138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3 a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39"/>
          <p:cNvSpPr/>
          <p:nvPr/>
        </p:nvSpPr>
        <p:spPr>
          <a:xfrm>
            <a:off x="1500120" y="268200"/>
            <a:ext cx="541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Dalton’s Law of Partial Press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40"/>
          <p:cNvSpPr/>
          <p:nvPr/>
        </p:nvSpPr>
        <p:spPr>
          <a:xfrm>
            <a:off x="415800" y="1076400"/>
            <a:ext cx="83822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Dalton's Law of Partial Pressures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tates that the total pressure of a mixture of gases equals the sum of the pressures that each would exert if it were present al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43"/>
          <p:cNvSpPr/>
          <p:nvPr/>
        </p:nvSpPr>
        <p:spPr>
          <a:xfrm>
            <a:off x="965160" y="2711520"/>
            <a:ext cx="7416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b050"/>
                </a:solidFill>
                <a:latin typeface="Arial"/>
              </a:rPr>
              <a:t>P</a:t>
            </a:r>
            <a:r>
              <a:rPr b="0" lang="en-US" sz="2900" spc="-1" strike="noStrike" baseline="-30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en-US" sz="2900" spc="-1" strike="noStrike">
                <a:solidFill>
                  <a:srgbClr val="00b050"/>
                </a:solidFill>
                <a:latin typeface="Arial"/>
              </a:rPr>
              <a:t>P</a:t>
            </a:r>
            <a:r>
              <a:rPr b="0" lang="en-US" sz="2900" spc="-1" strike="noStrike" baseline="-30000">
                <a:solidFill>
                  <a:srgbClr val="c00000"/>
                </a:solidFill>
                <a:latin typeface="Arial"/>
              </a:rPr>
              <a:t>gas a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en-US" sz="2900" spc="-1" strike="noStrike">
                <a:solidFill>
                  <a:srgbClr val="00b050"/>
                </a:solidFill>
                <a:latin typeface="Arial"/>
              </a:rPr>
              <a:t>P</a:t>
            </a:r>
            <a:r>
              <a:rPr b="0" lang="en-US" sz="2900" spc="-1" strike="noStrike" baseline="-30000">
                <a:solidFill>
                  <a:srgbClr val="130bb5"/>
                </a:solidFill>
                <a:latin typeface="Arial"/>
              </a:rPr>
              <a:t>gas b</a:t>
            </a:r>
            <a:r>
              <a:rPr b="0" lang="en-US" sz="2900" spc="-1" strike="noStrike">
                <a:solidFill>
                  <a:srgbClr val="c00000"/>
                </a:solidFill>
                <a:latin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37" descr=""/>
          <p:cNvPicPr/>
          <p:nvPr/>
        </p:nvPicPr>
        <p:blipFill>
          <a:blip r:embed="rId1"/>
          <a:stretch/>
        </p:blipFill>
        <p:spPr>
          <a:xfrm>
            <a:off x="619200" y="3564000"/>
            <a:ext cx="1762200" cy="2984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6" descr=""/>
          <p:cNvPicPr/>
          <p:nvPr/>
        </p:nvPicPr>
        <p:blipFill>
          <a:blip r:embed="rId2"/>
          <a:stretch/>
        </p:blipFill>
        <p:spPr>
          <a:xfrm>
            <a:off x="3321000" y="3589200"/>
            <a:ext cx="1762200" cy="29862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7" descr=""/>
          <p:cNvPicPr/>
          <p:nvPr/>
        </p:nvPicPr>
        <p:blipFill>
          <a:blip r:embed="rId3"/>
          <a:stretch/>
        </p:blipFill>
        <p:spPr>
          <a:xfrm>
            <a:off x="5749920" y="3578400"/>
            <a:ext cx="1762200" cy="2984400"/>
          </a:xfrm>
          <a:prstGeom prst="rect">
            <a:avLst/>
          </a:prstGeom>
          <a:ln w="0">
            <a:noFill/>
          </a:ln>
        </p:spPr>
      </p:pic>
      <p:sp>
        <p:nvSpPr>
          <p:cNvPr id="1069" name="Rectangle 7"/>
          <p:cNvSpPr/>
          <p:nvPr/>
        </p:nvSpPr>
        <p:spPr>
          <a:xfrm>
            <a:off x="2633400" y="5378400"/>
            <a:ext cx="379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8"/>
          <p:cNvSpPr/>
          <p:nvPr/>
        </p:nvSpPr>
        <p:spPr>
          <a:xfrm>
            <a:off x="5224320" y="5338800"/>
            <a:ext cx="35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40"/>
          <p:cNvSpPr/>
          <p:nvPr/>
        </p:nvSpPr>
        <p:spPr>
          <a:xfrm>
            <a:off x="644400" y="762120"/>
            <a:ext cx="78901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If total pressure of a mixture of gases is 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and partial pressures of individual gases are 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, 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0"/>
          <p:cNvSpPr/>
          <p:nvPr/>
        </p:nvSpPr>
        <p:spPr>
          <a:xfrm>
            <a:off x="609480" y="2465280"/>
            <a:ext cx="80424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Let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,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,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…. be the number of moles of each g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Total number of moles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+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+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34"/>
          <p:cNvGrpSpPr/>
          <p:nvPr/>
        </p:nvGrpSpPr>
        <p:grpSpPr>
          <a:xfrm>
            <a:off x="4800600" y="3699000"/>
            <a:ext cx="1890000" cy="1177560"/>
            <a:chOff x="4800600" y="3699000"/>
            <a:chExt cx="1890000" cy="1177560"/>
          </a:xfrm>
        </p:grpSpPr>
        <p:grpSp>
          <p:nvGrpSpPr>
            <p:cNvPr id="1074" name="Group 49"/>
            <p:cNvGrpSpPr/>
            <p:nvPr/>
          </p:nvGrpSpPr>
          <p:grpSpPr>
            <a:xfrm>
              <a:off x="5739120" y="3794040"/>
              <a:ext cx="776160" cy="911520"/>
              <a:chOff x="5739120" y="3794040"/>
              <a:chExt cx="776160" cy="911520"/>
            </a:xfrm>
          </p:grpSpPr>
          <p:sp>
            <p:nvSpPr>
              <p:cNvPr id="1075" name="Rectangle 13"/>
              <p:cNvSpPr/>
              <p:nvPr/>
            </p:nvSpPr>
            <p:spPr>
              <a:xfrm>
                <a:off x="5753160" y="379404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45"/>
              <p:cNvSpPr/>
              <p:nvPr/>
            </p:nvSpPr>
            <p:spPr>
              <a:xfrm>
                <a:off x="5739120" y="421560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Straight Connector 46"/>
              <p:cNvSpPr/>
              <p:nvPr/>
            </p:nvSpPr>
            <p:spPr>
              <a:xfrm>
                <a:off x="5823000" y="4241880"/>
                <a:ext cx="540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8" name="TextBox 55"/>
            <p:cNvSpPr/>
            <p:nvPr/>
          </p:nvSpPr>
          <p:spPr>
            <a:xfrm rot="10800000">
              <a:off x="6281280" y="38682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Box 56"/>
            <p:cNvSpPr/>
            <p:nvPr/>
          </p:nvSpPr>
          <p:spPr>
            <a:xfrm>
              <a:off x="5576040" y="36990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29"/>
            <p:cNvGrpSpPr/>
            <p:nvPr/>
          </p:nvGrpSpPr>
          <p:grpSpPr>
            <a:xfrm>
              <a:off x="4800600" y="3984480"/>
              <a:ext cx="685800" cy="885960"/>
              <a:chOff x="4800600" y="3984480"/>
              <a:chExt cx="685800" cy="885960"/>
            </a:xfrm>
          </p:grpSpPr>
          <p:sp>
            <p:nvSpPr>
              <p:cNvPr id="1081" name="Rectangle 13"/>
              <p:cNvSpPr/>
              <p:nvPr/>
            </p:nvSpPr>
            <p:spPr>
              <a:xfrm>
                <a:off x="4800600" y="3984480"/>
                <a:ext cx="68580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P </a:t>
                </a:r>
                <a:r>
                  <a:rPr b="0" lang="en-US" sz="26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13"/>
              <p:cNvSpPr/>
              <p:nvPr/>
            </p:nvSpPr>
            <p:spPr>
              <a:xfrm>
                <a:off x="4952880" y="4194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Group 32"/>
            <p:cNvGrpSpPr/>
            <p:nvPr/>
          </p:nvGrpSpPr>
          <p:grpSpPr>
            <a:xfrm>
              <a:off x="5295960" y="3956040"/>
              <a:ext cx="571320" cy="568440"/>
              <a:chOff x="5295960" y="3956040"/>
              <a:chExt cx="571320" cy="568440"/>
            </a:xfrm>
          </p:grpSpPr>
          <p:sp>
            <p:nvSpPr>
              <p:cNvPr id="1084" name="Rectangle 13"/>
              <p:cNvSpPr/>
              <p:nvPr/>
            </p:nvSpPr>
            <p:spPr>
              <a:xfrm>
                <a:off x="5295960" y="395604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13"/>
              <p:cNvSpPr/>
              <p:nvPr/>
            </p:nvSpPr>
            <p:spPr>
              <a:xfrm>
                <a:off x="5486400" y="4156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Rectangle 40"/>
          <p:cNvSpPr/>
          <p:nvPr/>
        </p:nvSpPr>
        <p:spPr>
          <a:xfrm>
            <a:off x="3048120" y="1828800"/>
            <a:ext cx="2361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+P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74"/>
          <p:cNvGrpSpPr/>
          <p:nvPr/>
        </p:nvGrpSpPr>
        <p:grpSpPr>
          <a:xfrm>
            <a:off x="533520" y="3699000"/>
            <a:ext cx="2076480" cy="1177560"/>
            <a:chOff x="533520" y="3699000"/>
            <a:chExt cx="2076480" cy="1177560"/>
          </a:xfrm>
        </p:grpSpPr>
        <p:grpSp>
          <p:nvGrpSpPr>
            <p:cNvPr id="1088" name="Group 60"/>
            <p:cNvGrpSpPr/>
            <p:nvPr/>
          </p:nvGrpSpPr>
          <p:grpSpPr>
            <a:xfrm>
              <a:off x="533520" y="3699000"/>
              <a:ext cx="1880640" cy="1177560"/>
              <a:chOff x="533520" y="3699000"/>
              <a:chExt cx="1880640" cy="1177560"/>
            </a:xfrm>
          </p:grpSpPr>
          <p:grpSp>
            <p:nvGrpSpPr>
              <p:cNvPr id="1089" name="Group 49"/>
              <p:cNvGrpSpPr/>
              <p:nvPr/>
            </p:nvGrpSpPr>
            <p:grpSpPr>
              <a:xfrm>
                <a:off x="533520" y="3794040"/>
                <a:ext cx="1705320" cy="911160"/>
                <a:chOff x="533520" y="3794040"/>
                <a:chExt cx="1705320" cy="911160"/>
              </a:xfrm>
            </p:grpSpPr>
            <p:sp>
              <p:nvSpPr>
                <p:cNvPr id="1090" name="Rectangle 13"/>
                <p:cNvSpPr/>
                <p:nvPr/>
              </p:nvSpPr>
              <p:spPr>
                <a:xfrm>
                  <a:off x="533520" y="398628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P </a:t>
                  </a:r>
                  <a:r>
                    <a:rPr b="0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=</a:t>
                  </a:r>
                  <a:r>
                    <a:rPr b="0" i="1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 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Rectangle 13"/>
                <p:cNvSpPr/>
                <p:nvPr/>
              </p:nvSpPr>
              <p:spPr>
                <a:xfrm>
                  <a:off x="1476720" y="37940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Rectangle 13"/>
                <p:cNvSpPr/>
                <p:nvPr/>
              </p:nvSpPr>
              <p:spPr>
                <a:xfrm>
                  <a:off x="1462320" y="42152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a6a6a6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Straight Connector 14"/>
                <p:cNvSpPr/>
                <p:nvPr/>
              </p:nvSpPr>
              <p:spPr>
                <a:xfrm>
                  <a:off x="1546560" y="4242240"/>
                  <a:ext cx="539640" cy="1440"/>
                </a:xfrm>
                <a:prstGeom prst="line">
                  <a:avLst/>
                </a:prstGeom>
                <a:ln w="2844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Rectangle 13"/>
              <p:cNvSpPr/>
              <p:nvPr/>
            </p:nvSpPr>
            <p:spPr>
              <a:xfrm>
                <a:off x="1067040" y="394668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a6a6a6"/>
                    </a:solidFill>
                    <a:latin typeface="Arial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TextBox 55"/>
              <p:cNvSpPr/>
              <p:nvPr/>
            </p:nvSpPr>
            <p:spPr>
              <a:xfrm rot="10800000">
                <a:off x="2004840" y="38682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a6a6a6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TextBox 56"/>
              <p:cNvSpPr/>
              <p:nvPr/>
            </p:nvSpPr>
            <p:spPr>
              <a:xfrm>
                <a:off x="1299600" y="36990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a6a6a6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7" name="Rectangle 40"/>
            <p:cNvSpPr/>
            <p:nvPr/>
          </p:nvSpPr>
          <p:spPr>
            <a:xfrm>
              <a:off x="2229120" y="396252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a6a6a6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75"/>
          <p:cNvGrpSpPr/>
          <p:nvPr/>
        </p:nvGrpSpPr>
        <p:grpSpPr>
          <a:xfrm>
            <a:off x="2666880" y="3699000"/>
            <a:ext cx="2057400" cy="1177560"/>
            <a:chOff x="2666880" y="3699000"/>
            <a:chExt cx="2057400" cy="1177560"/>
          </a:xfrm>
        </p:grpSpPr>
        <p:grpSp>
          <p:nvGrpSpPr>
            <p:cNvPr id="1099" name="Group 33"/>
            <p:cNvGrpSpPr/>
            <p:nvPr/>
          </p:nvGrpSpPr>
          <p:grpSpPr>
            <a:xfrm>
              <a:off x="2666880" y="3699000"/>
              <a:ext cx="1890000" cy="1177560"/>
              <a:chOff x="2666880" y="3699000"/>
              <a:chExt cx="1890000" cy="1177560"/>
            </a:xfrm>
          </p:grpSpPr>
          <p:grpSp>
            <p:nvGrpSpPr>
              <p:cNvPr id="1100" name="Group 49"/>
              <p:cNvGrpSpPr/>
              <p:nvPr/>
            </p:nvGrpSpPr>
            <p:grpSpPr>
              <a:xfrm>
                <a:off x="3605400" y="3794040"/>
                <a:ext cx="776160" cy="911520"/>
                <a:chOff x="3605400" y="3794040"/>
                <a:chExt cx="776160" cy="911520"/>
              </a:xfrm>
            </p:grpSpPr>
            <p:sp>
              <p:nvSpPr>
                <p:cNvPr id="1101" name="Rectangle 13"/>
                <p:cNvSpPr/>
                <p:nvPr/>
              </p:nvSpPr>
              <p:spPr>
                <a:xfrm>
                  <a:off x="3619440" y="37940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Rectangle 22"/>
                <p:cNvSpPr/>
                <p:nvPr/>
              </p:nvSpPr>
              <p:spPr>
                <a:xfrm>
                  <a:off x="3605400" y="421560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Straight Connector 23"/>
                <p:cNvSpPr/>
                <p:nvPr/>
              </p:nvSpPr>
              <p:spPr>
                <a:xfrm>
                  <a:off x="3689280" y="4241880"/>
                  <a:ext cx="54000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4" name="TextBox 55"/>
              <p:cNvSpPr/>
              <p:nvPr/>
            </p:nvSpPr>
            <p:spPr>
              <a:xfrm rot="10800000">
                <a:off x="4147560" y="38682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TextBox 56"/>
              <p:cNvSpPr/>
              <p:nvPr/>
            </p:nvSpPr>
            <p:spPr>
              <a:xfrm>
                <a:off x="3442320" y="36990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6" name="Group 29"/>
              <p:cNvGrpSpPr/>
              <p:nvPr/>
            </p:nvGrpSpPr>
            <p:grpSpPr>
              <a:xfrm>
                <a:off x="2666880" y="3984480"/>
                <a:ext cx="685800" cy="885960"/>
                <a:chOff x="2666880" y="3984480"/>
                <a:chExt cx="685800" cy="885960"/>
              </a:xfrm>
            </p:grpSpPr>
            <p:sp>
              <p:nvSpPr>
                <p:cNvPr id="1107" name="Rectangle 13"/>
                <p:cNvSpPr/>
                <p:nvPr/>
              </p:nvSpPr>
              <p:spPr>
                <a:xfrm>
                  <a:off x="2666880" y="3984480"/>
                  <a:ext cx="685800" cy="88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P </a:t>
                  </a:r>
                  <a:r>
                    <a:rPr b="0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=</a:t>
                  </a: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Rectangle 13"/>
                <p:cNvSpPr/>
                <p:nvPr/>
              </p:nvSpPr>
              <p:spPr>
                <a:xfrm>
                  <a:off x="2819160" y="41940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Group 32"/>
              <p:cNvGrpSpPr/>
              <p:nvPr/>
            </p:nvGrpSpPr>
            <p:grpSpPr>
              <a:xfrm>
                <a:off x="3162240" y="3956040"/>
                <a:ext cx="571320" cy="568440"/>
                <a:chOff x="3162240" y="3956040"/>
                <a:chExt cx="571320" cy="568440"/>
              </a:xfrm>
            </p:grpSpPr>
            <p:sp>
              <p:nvSpPr>
                <p:cNvPr id="1110" name="Rectangle 13"/>
                <p:cNvSpPr/>
                <p:nvPr/>
              </p:nvSpPr>
              <p:spPr>
                <a:xfrm>
                  <a:off x="3162240" y="3956040"/>
                  <a:ext cx="4572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Rectangle 13"/>
                <p:cNvSpPr/>
                <p:nvPr/>
              </p:nvSpPr>
              <p:spPr>
                <a:xfrm>
                  <a:off x="3352680" y="41562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2" name="Rectangle 40"/>
            <p:cNvSpPr/>
            <p:nvPr/>
          </p:nvSpPr>
          <p:spPr>
            <a:xfrm>
              <a:off x="4343400" y="397188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Group 76"/>
          <p:cNvGrpSpPr/>
          <p:nvPr/>
        </p:nvGrpSpPr>
        <p:grpSpPr>
          <a:xfrm>
            <a:off x="6496200" y="3699000"/>
            <a:ext cx="2251800" cy="1177560"/>
            <a:chOff x="6496200" y="3699000"/>
            <a:chExt cx="2251800" cy="1177560"/>
          </a:xfrm>
        </p:grpSpPr>
        <p:grpSp>
          <p:nvGrpSpPr>
            <p:cNvPr id="1114" name="Group 47"/>
            <p:cNvGrpSpPr/>
            <p:nvPr/>
          </p:nvGrpSpPr>
          <p:grpSpPr>
            <a:xfrm>
              <a:off x="6858000" y="3699000"/>
              <a:ext cx="1890000" cy="1177560"/>
              <a:chOff x="6858000" y="3699000"/>
              <a:chExt cx="1890000" cy="1177560"/>
            </a:xfrm>
          </p:grpSpPr>
          <p:grpSp>
            <p:nvGrpSpPr>
              <p:cNvPr id="1115" name="Group 49"/>
              <p:cNvGrpSpPr/>
              <p:nvPr/>
            </p:nvGrpSpPr>
            <p:grpSpPr>
              <a:xfrm>
                <a:off x="7796520" y="3794040"/>
                <a:ext cx="776160" cy="911520"/>
                <a:chOff x="7796520" y="3794040"/>
                <a:chExt cx="776160" cy="911520"/>
              </a:xfrm>
            </p:grpSpPr>
            <p:sp>
              <p:nvSpPr>
                <p:cNvPr id="1116" name="Rectangle 13"/>
                <p:cNvSpPr/>
                <p:nvPr/>
              </p:nvSpPr>
              <p:spPr>
                <a:xfrm>
                  <a:off x="7810560" y="37940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Rectangle 58"/>
                <p:cNvSpPr/>
                <p:nvPr/>
              </p:nvSpPr>
              <p:spPr>
                <a:xfrm>
                  <a:off x="7796520" y="421560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Straight Connector 59"/>
                <p:cNvSpPr/>
                <p:nvPr/>
              </p:nvSpPr>
              <p:spPr>
                <a:xfrm>
                  <a:off x="7880400" y="4241880"/>
                  <a:ext cx="54000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TextBox 55"/>
              <p:cNvSpPr/>
              <p:nvPr/>
            </p:nvSpPr>
            <p:spPr>
              <a:xfrm rot="10800000">
                <a:off x="8338680" y="38682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TextBox 56"/>
              <p:cNvSpPr/>
              <p:nvPr/>
            </p:nvSpPr>
            <p:spPr>
              <a:xfrm>
                <a:off x="7633440" y="36990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29"/>
              <p:cNvGrpSpPr/>
              <p:nvPr/>
            </p:nvGrpSpPr>
            <p:grpSpPr>
              <a:xfrm>
                <a:off x="6858000" y="3984480"/>
                <a:ext cx="685800" cy="885960"/>
                <a:chOff x="6858000" y="3984480"/>
                <a:chExt cx="685800" cy="885960"/>
              </a:xfrm>
            </p:grpSpPr>
            <p:sp>
              <p:nvSpPr>
                <p:cNvPr id="1122" name="Rectangle 13"/>
                <p:cNvSpPr/>
                <p:nvPr/>
              </p:nvSpPr>
              <p:spPr>
                <a:xfrm>
                  <a:off x="6858000" y="3984480"/>
                  <a:ext cx="685800" cy="88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P </a:t>
                  </a:r>
                  <a:r>
                    <a:rPr b="0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=</a:t>
                  </a: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Rectangle 13"/>
                <p:cNvSpPr/>
                <p:nvPr/>
              </p:nvSpPr>
              <p:spPr>
                <a:xfrm>
                  <a:off x="7010280" y="41940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32"/>
              <p:cNvGrpSpPr/>
              <p:nvPr/>
            </p:nvGrpSpPr>
            <p:grpSpPr>
              <a:xfrm>
                <a:off x="7353360" y="3956040"/>
                <a:ext cx="571320" cy="568440"/>
                <a:chOff x="7353360" y="3956040"/>
                <a:chExt cx="571320" cy="568440"/>
              </a:xfrm>
            </p:grpSpPr>
            <p:sp>
              <p:nvSpPr>
                <p:cNvPr id="1125" name="Rectangle 13"/>
                <p:cNvSpPr/>
                <p:nvPr/>
              </p:nvSpPr>
              <p:spPr>
                <a:xfrm>
                  <a:off x="7353360" y="3956040"/>
                  <a:ext cx="4572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Rectangle 13"/>
                <p:cNvSpPr/>
                <p:nvPr/>
              </p:nvSpPr>
              <p:spPr>
                <a:xfrm>
                  <a:off x="7543800" y="415620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7" name="Rectangle 40"/>
            <p:cNvSpPr/>
            <p:nvPr/>
          </p:nvSpPr>
          <p:spPr>
            <a:xfrm>
              <a:off x="6496200" y="398160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77"/>
          <p:cNvGrpSpPr/>
          <p:nvPr/>
        </p:nvGrpSpPr>
        <p:grpSpPr>
          <a:xfrm>
            <a:off x="1230480" y="5070600"/>
            <a:ext cx="3657600" cy="1177560"/>
            <a:chOff x="1230480" y="5070600"/>
            <a:chExt cx="3657600" cy="1177560"/>
          </a:xfrm>
        </p:grpSpPr>
        <p:sp>
          <p:nvSpPr>
            <p:cNvPr id="1129" name="Rectangle 40"/>
            <p:cNvSpPr/>
            <p:nvPr/>
          </p:nvSpPr>
          <p:spPr>
            <a:xfrm>
              <a:off x="1230480" y="5346720"/>
              <a:ext cx="36576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(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+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+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…. )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0" name="Group 66"/>
            <p:cNvGrpSpPr/>
            <p:nvPr/>
          </p:nvGrpSpPr>
          <p:grpSpPr>
            <a:xfrm>
              <a:off x="3539520" y="5070600"/>
              <a:ext cx="1113840" cy="1177560"/>
              <a:chOff x="3539520" y="5070600"/>
              <a:chExt cx="1113840" cy="1177560"/>
            </a:xfrm>
          </p:grpSpPr>
          <p:grpSp>
            <p:nvGrpSpPr>
              <p:cNvPr id="1131" name="Group 49"/>
              <p:cNvGrpSpPr/>
              <p:nvPr/>
            </p:nvGrpSpPr>
            <p:grpSpPr>
              <a:xfrm>
                <a:off x="3702240" y="5165640"/>
                <a:ext cx="776160" cy="911520"/>
                <a:chOff x="3702240" y="5165640"/>
                <a:chExt cx="776160" cy="911520"/>
              </a:xfrm>
            </p:grpSpPr>
            <p:sp>
              <p:nvSpPr>
                <p:cNvPr id="1132" name="Rectangle 13"/>
                <p:cNvSpPr/>
                <p:nvPr/>
              </p:nvSpPr>
              <p:spPr>
                <a:xfrm>
                  <a:off x="3716280" y="516564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Rectangle 77"/>
                <p:cNvSpPr/>
                <p:nvPr/>
              </p:nvSpPr>
              <p:spPr>
                <a:xfrm>
                  <a:off x="3702240" y="558720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Straight Connector 78"/>
                <p:cNvSpPr/>
                <p:nvPr/>
              </p:nvSpPr>
              <p:spPr>
                <a:xfrm>
                  <a:off x="3786120" y="5613480"/>
                  <a:ext cx="54000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5" name="TextBox 55"/>
              <p:cNvSpPr/>
              <p:nvPr/>
            </p:nvSpPr>
            <p:spPr>
              <a:xfrm rot="10800000">
                <a:off x="4244040" y="52398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TextBox 56"/>
              <p:cNvSpPr/>
              <p:nvPr/>
            </p:nvSpPr>
            <p:spPr>
              <a:xfrm>
                <a:off x="3539520" y="507060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7" name="Rectangle 40"/>
            <p:cNvSpPr/>
            <p:nvPr/>
          </p:nvSpPr>
          <p:spPr>
            <a:xfrm>
              <a:off x="4507200" y="538488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87"/>
          <p:cNvGrpSpPr/>
          <p:nvPr/>
        </p:nvGrpSpPr>
        <p:grpSpPr>
          <a:xfrm>
            <a:off x="4697280" y="5041800"/>
            <a:ext cx="1394640" cy="1177560"/>
            <a:chOff x="4697280" y="5041800"/>
            <a:chExt cx="1394640" cy="1177560"/>
          </a:xfrm>
        </p:grpSpPr>
        <p:grpSp>
          <p:nvGrpSpPr>
            <p:cNvPr id="1139" name="Group 49"/>
            <p:cNvGrpSpPr/>
            <p:nvPr/>
          </p:nvGrpSpPr>
          <p:grpSpPr>
            <a:xfrm>
              <a:off x="5140440" y="5136840"/>
              <a:ext cx="776160" cy="911520"/>
              <a:chOff x="5140440" y="5136840"/>
              <a:chExt cx="776160" cy="911520"/>
            </a:xfrm>
          </p:grpSpPr>
          <p:sp>
            <p:nvSpPr>
              <p:cNvPr id="1140" name="Rectangle 13"/>
              <p:cNvSpPr/>
              <p:nvPr/>
            </p:nvSpPr>
            <p:spPr>
              <a:xfrm>
                <a:off x="5154480" y="513684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98"/>
              <p:cNvSpPr/>
              <p:nvPr/>
            </p:nvSpPr>
            <p:spPr>
              <a:xfrm>
                <a:off x="5140440" y="555840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Straight Connector 99"/>
              <p:cNvSpPr/>
              <p:nvPr/>
            </p:nvSpPr>
            <p:spPr>
              <a:xfrm>
                <a:off x="5224320" y="5584680"/>
                <a:ext cx="540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3" name="TextBox 55"/>
            <p:cNvSpPr/>
            <p:nvPr/>
          </p:nvSpPr>
          <p:spPr>
            <a:xfrm rot="10800000">
              <a:off x="5682600" y="52110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Box 56"/>
            <p:cNvSpPr/>
            <p:nvPr/>
          </p:nvSpPr>
          <p:spPr>
            <a:xfrm>
              <a:off x="4977360" y="50418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Group 32"/>
            <p:cNvGrpSpPr/>
            <p:nvPr/>
          </p:nvGrpSpPr>
          <p:grpSpPr>
            <a:xfrm>
              <a:off x="4697280" y="5298840"/>
              <a:ext cx="571320" cy="568440"/>
              <a:chOff x="4697280" y="5298840"/>
              <a:chExt cx="571320" cy="568440"/>
            </a:xfrm>
          </p:grpSpPr>
          <p:sp>
            <p:nvSpPr>
              <p:cNvPr id="1146" name="Rectangle 13"/>
              <p:cNvSpPr/>
              <p:nvPr/>
            </p:nvSpPr>
            <p:spPr>
              <a:xfrm>
                <a:off x="4697280" y="529884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3"/>
              <p:cNvSpPr/>
              <p:nvPr/>
            </p:nvSpPr>
            <p:spPr>
              <a:xfrm>
                <a:off x="4887720" y="5499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4"/>
          <p:cNvSpPr/>
          <p:nvPr/>
        </p:nvSpPr>
        <p:spPr>
          <a:xfrm>
            <a:off x="1295280" y="1828800"/>
            <a:ext cx="1676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Mole H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4"/>
          <p:cNvSpPr/>
          <p:nvPr/>
        </p:nvSpPr>
        <p:spPr>
          <a:xfrm>
            <a:off x="609480" y="609480"/>
            <a:ext cx="82026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: What is the total pressure exerted by a mixture of 2.0 g of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8.0 g of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 273K in a 10.0 L vels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34"/>
          <p:cNvGrpSpPr/>
          <p:nvPr/>
        </p:nvGrpSpPr>
        <p:grpSpPr>
          <a:xfrm>
            <a:off x="2819520" y="1523880"/>
            <a:ext cx="2857320" cy="1168200"/>
            <a:chOff x="2819520" y="1523880"/>
            <a:chExt cx="2857320" cy="1168200"/>
          </a:xfrm>
        </p:grpSpPr>
        <p:sp>
          <p:nvSpPr>
            <p:cNvPr id="1151" name="TextBox 55"/>
            <p:cNvSpPr/>
            <p:nvPr/>
          </p:nvSpPr>
          <p:spPr>
            <a:xfrm rot="10800000">
              <a:off x="5232960" y="168372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2" name="Group 26"/>
            <p:cNvGrpSpPr/>
            <p:nvPr/>
          </p:nvGrpSpPr>
          <p:grpSpPr>
            <a:xfrm>
              <a:off x="2819520" y="1523880"/>
              <a:ext cx="2857320" cy="1008360"/>
              <a:chOff x="2819520" y="1523880"/>
              <a:chExt cx="2857320" cy="1008360"/>
            </a:xfrm>
          </p:grpSpPr>
          <p:sp>
            <p:nvSpPr>
              <p:cNvPr id="1153" name="TextBox 86"/>
              <p:cNvSpPr/>
              <p:nvPr/>
            </p:nvSpPr>
            <p:spPr>
              <a:xfrm>
                <a:off x="2819520" y="1828800"/>
                <a:ext cx="1904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2.0 g H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TextBox 87"/>
              <p:cNvSpPr/>
              <p:nvPr/>
            </p:nvSpPr>
            <p:spPr>
              <a:xfrm>
                <a:off x="4267080" y="1666800"/>
                <a:ext cx="1190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1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H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TextBox 88"/>
              <p:cNvSpPr/>
              <p:nvPr/>
            </p:nvSpPr>
            <p:spPr>
              <a:xfrm>
                <a:off x="4381560" y="2033640"/>
                <a:ext cx="12952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2 g H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Straight Connector 19"/>
              <p:cNvSpPr/>
              <p:nvPr/>
            </p:nvSpPr>
            <p:spPr>
              <a:xfrm>
                <a:off x="4343400" y="2090880"/>
                <a:ext cx="104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TextBox 56"/>
              <p:cNvSpPr/>
              <p:nvPr/>
            </p:nvSpPr>
            <p:spPr>
              <a:xfrm>
                <a:off x="4071240" y="152388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TextBox 91"/>
          <p:cNvSpPr/>
          <p:nvPr/>
        </p:nvSpPr>
        <p:spPr>
          <a:xfrm>
            <a:off x="5553000" y="1828800"/>
            <a:ext cx="153360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1 mo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Group 27"/>
          <p:cNvGrpSpPr/>
          <p:nvPr/>
        </p:nvGrpSpPr>
        <p:grpSpPr>
          <a:xfrm>
            <a:off x="3466800" y="1980360"/>
            <a:ext cx="1762200" cy="428760"/>
            <a:chOff x="3466800" y="1980360"/>
            <a:chExt cx="1762200" cy="428760"/>
          </a:xfrm>
        </p:grpSpPr>
        <p:sp>
          <p:nvSpPr>
            <p:cNvPr id="1160" name="Straight Connector 35"/>
            <p:cNvSpPr/>
            <p:nvPr/>
          </p:nvSpPr>
          <p:spPr>
            <a:xfrm flipH="1">
              <a:off x="3466800" y="1980360"/>
              <a:ext cx="504360" cy="18108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Straight Connector 36"/>
            <p:cNvSpPr/>
            <p:nvPr/>
          </p:nvSpPr>
          <p:spPr>
            <a:xfrm flipH="1">
              <a:off x="4724640" y="2180520"/>
              <a:ext cx="504360" cy="22860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Rectangle 4"/>
          <p:cNvSpPr/>
          <p:nvPr/>
        </p:nvSpPr>
        <p:spPr>
          <a:xfrm>
            <a:off x="1295280" y="2717640"/>
            <a:ext cx="1676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Mole N</a:t>
            </a:r>
            <a:r>
              <a:rPr b="0" lang="en-US" sz="25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Group 34"/>
          <p:cNvGrpSpPr/>
          <p:nvPr/>
        </p:nvGrpSpPr>
        <p:grpSpPr>
          <a:xfrm>
            <a:off x="2819520" y="2413080"/>
            <a:ext cx="2857320" cy="1168200"/>
            <a:chOff x="2819520" y="2413080"/>
            <a:chExt cx="2857320" cy="1168200"/>
          </a:xfrm>
        </p:grpSpPr>
        <p:sp>
          <p:nvSpPr>
            <p:cNvPr id="1164" name="TextBox 55"/>
            <p:cNvSpPr/>
            <p:nvPr/>
          </p:nvSpPr>
          <p:spPr>
            <a:xfrm rot="10800000">
              <a:off x="5232960" y="257292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5" name="Group 26"/>
            <p:cNvGrpSpPr/>
            <p:nvPr/>
          </p:nvGrpSpPr>
          <p:grpSpPr>
            <a:xfrm>
              <a:off x="2819520" y="2413080"/>
              <a:ext cx="2857320" cy="1008360"/>
              <a:chOff x="2819520" y="2413080"/>
              <a:chExt cx="2857320" cy="1008360"/>
            </a:xfrm>
          </p:grpSpPr>
          <p:sp>
            <p:nvSpPr>
              <p:cNvPr id="1166" name="TextBox 62"/>
              <p:cNvSpPr/>
              <p:nvPr/>
            </p:nvSpPr>
            <p:spPr>
              <a:xfrm>
                <a:off x="2819520" y="2717640"/>
                <a:ext cx="1904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(8.0 g N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TextBox 63"/>
              <p:cNvSpPr/>
              <p:nvPr/>
            </p:nvSpPr>
            <p:spPr>
              <a:xfrm>
                <a:off x="4267080" y="2555640"/>
                <a:ext cx="1190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1 mol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TextBox 66"/>
              <p:cNvSpPr/>
              <p:nvPr/>
            </p:nvSpPr>
            <p:spPr>
              <a:xfrm>
                <a:off x="4381560" y="2922480"/>
                <a:ext cx="12952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61800" indent="-361800" algn="just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28 g N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Straight Connector 19"/>
              <p:cNvSpPr/>
              <p:nvPr/>
            </p:nvSpPr>
            <p:spPr>
              <a:xfrm>
                <a:off x="4343400" y="2979720"/>
                <a:ext cx="104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TextBox 56"/>
              <p:cNvSpPr/>
              <p:nvPr/>
            </p:nvSpPr>
            <p:spPr>
              <a:xfrm>
                <a:off x="4071240" y="241308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TextBox 77"/>
          <p:cNvSpPr/>
          <p:nvPr/>
        </p:nvSpPr>
        <p:spPr>
          <a:xfrm>
            <a:off x="5553000" y="2717640"/>
            <a:ext cx="213372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= 0.286 mo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27"/>
          <p:cNvGrpSpPr/>
          <p:nvPr/>
        </p:nvGrpSpPr>
        <p:grpSpPr>
          <a:xfrm>
            <a:off x="3466800" y="2870280"/>
            <a:ext cx="1762200" cy="427680"/>
            <a:chOff x="3466800" y="2870280"/>
            <a:chExt cx="1762200" cy="427680"/>
          </a:xfrm>
        </p:grpSpPr>
        <p:sp>
          <p:nvSpPr>
            <p:cNvPr id="1173" name="Straight Connector 35"/>
            <p:cNvSpPr/>
            <p:nvPr/>
          </p:nvSpPr>
          <p:spPr>
            <a:xfrm flipH="1">
              <a:off x="3466800" y="2870280"/>
              <a:ext cx="504360" cy="1807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Straight Connector 36"/>
            <p:cNvSpPr/>
            <p:nvPr/>
          </p:nvSpPr>
          <p:spPr>
            <a:xfrm flipH="1">
              <a:off x="4724640" y="3069360"/>
              <a:ext cx="504360" cy="22860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Rectangle 13"/>
          <p:cNvSpPr/>
          <p:nvPr/>
        </p:nvSpPr>
        <p:spPr>
          <a:xfrm>
            <a:off x="7162920" y="3772080"/>
            <a:ext cx="19047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2.24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75"/>
          <p:cNvGrpSpPr/>
          <p:nvPr/>
        </p:nvGrpSpPr>
        <p:grpSpPr>
          <a:xfrm>
            <a:off x="2066760" y="3570120"/>
            <a:ext cx="5592960" cy="531720"/>
            <a:chOff x="2066760" y="3570120"/>
            <a:chExt cx="5592960" cy="531720"/>
          </a:xfrm>
        </p:grpSpPr>
        <p:sp>
          <p:nvSpPr>
            <p:cNvPr id="1177" name="Rectangle 13"/>
            <p:cNvSpPr/>
            <p:nvPr/>
          </p:nvSpPr>
          <p:spPr>
            <a:xfrm>
              <a:off x="2066760" y="3702960"/>
              <a:ext cx="48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Group 71"/>
            <p:cNvGrpSpPr/>
            <p:nvPr/>
          </p:nvGrpSpPr>
          <p:grpSpPr>
            <a:xfrm>
              <a:off x="2361960" y="3570120"/>
              <a:ext cx="5297760" cy="401040"/>
              <a:chOff x="2361960" y="3570120"/>
              <a:chExt cx="5297760" cy="401040"/>
            </a:xfrm>
          </p:grpSpPr>
          <p:sp>
            <p:nvSpPr>
              <p:cNvPr id="1179" name="Straight Connector 96"/>
              <p:cNvSpPr/>
              <p:nvPr/>
            </p:nvSpPr>
            <p:spPr>
              <a:xfrm>
                <a:off x="2407680" y="3952800"/>
                <a:ext cx="47548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3"/>
              <p:cNvSpPr/>
              <p:nvPr/>
            </p:nvSpPr>
            <p:spPr>
              <a:xfrm>
                <a:off x="2361960" y="3570120"/>
                <a:ext cx="213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(1 mol)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39"/>
              <p:cNvSpPr/>
              <p:nvPr/>
            </p:nvSpPr>
            <p:spPr>
              <a:xfrm>
                <a:off x="3076200" y="3572280"/>
                <a:ext cx="458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( 0.08206 L.atm /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K. mol)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 273 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Group 40"/>
          <p:cNvGrpSpPr/>
          <p:nvPr/>
        </p:nvGrpSpPr>
        <p:grpSpPr>
          <a:xfrm>
            <a:off x="2869920" y="3627360"/>
            <a:ext cx="3065400" cy="281160"/>
            <a:chOff x="2869920" y="3627360"/>
            <a:chExt cx="3065400" cy="281160"/>
          </a:xfrm>
        </p:grpSpPr>
        <p:sp>
          <p:nvSpPr>
            <p:cNvPr id="1183" name="Straight Connector 105"/>
            <p:cNvSpPr/>
            <p:nvPr/>
          </p:nvSpPr>
          <p:spPr>
            <a:xfrm flipH="1">
              <a:off x="2869920" y="3627360"/>
              <a:ext cx="277560" cy="2512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Straight Connector 126"/>
            <p:cNvSpPr/>
            <p:nvPr/>
          </p:nvSpPr>
          <p:spPr>
            <a:xfrm flipH="1">
              <a:off x="5657760" y="3657240"/>
              <a:ext cx="277560" cy="25128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Group 43"/>
          <p:cNvGrpSpPr/>
          <p:nvPr/>
        </p:nvGrpSpPr>
        <p:grpSpPr>
          <a:xfrm>
            <a:off x="5219280" y="3619440"/>
            <a:ext cx="1916280" cy="287280"/>
            <a:chOff x="5219280" y="3619440"/>
            <a:chExt cx="1916280" cy="287280"/>
          </a:xfrm>
        </p:grpSpPr>
        <p:sp>
          <p:nvSpPr>
            <p:cNvPr id="1186" name="Straight Connector 107"/>
            <p:cNvSpPr/>
            <p:nvPr/>
          </p:nvSpPr>
          <p:spPr>
            <a:xfrm flipH="1">
              <a:off x="5219280" y="3619440"/>
              <a:ext cx="277560" cy="28728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Straight Connector 108"/>
            <p:cNvSpPr/>
            <p:nvPr/>
          </p:nvSpPr>
          <p:spPr>
            <a:xfrm flipH="1">
              <a:off x="6858000" y="3630240"/>
              <a:ext cx="277560" cy="2523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46"/>
          <p:cNvGrpSpPr/>
          <p:nvPr/>
        </p:nvGrpSpPr>
        <p:grpSpPr>
          <a:xfrm>
            <a:off x="4379760" y="3648240"/>
            <a:ext cx="451080" cy="593640"/>
            <a:chOff x="4379760" y="3648240"/>
            <a:chExt cx="451080" cy="593640"/>
          </a:xfrm>
        </p:grpSpPr>
        <p:sp>
          <p:nvSpPr>
            <p:cNvPr id="1189" name="Straight Connector 110"/>
            <p:cNvSpPr/>
            <p:nvPr/>
          </p:nvSpPr>
          <p:spPr>
            <a:xfrm flipH="1">
              <a:off x="4552920" y="3990960"/>
              <a:ext cx="277920" cy="250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Straight Connector 111"/>
            <p:cNvSpPr/>
            <p:nvPr/>
          </p:nvSpPr>
          <p:spPr>
            <a:xfrm flipH="1">
              <a:off x="4379760" y="3648240"/>
              <a:ext cx="277920" cy="250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47"/>
          <p:cNvGrpSpPr/>
          <p:nvPr/>
        </p:nvGrpSpPr>
        <p:grpSpPr>
          <a:xfrm>
            <a:off x="399960" y="3333600"/>
            <a:ext cx="1828800" cy="1177560"/>
            <a:chOff x="399960" y="3333600"/>
            <a:chExt cx="1828800" cy="1177560"/>
          </a:xfrm>
        </p:grpSpPr>
        <p:grpSp>
          <p:nvGrpSpPr>
            <p:cNvPr id="1192" name="Group 49"/>
            <p:cNvGrpSpPr/>
            <p:nvPr/>
          </p:nvGrpSpPr>
          <p:grpSpPr>
            <a:xfrm>
              <a:off x="1466640" y="3524040"/>
              <a:ext cx="762120" cy="722880"/>
              <a:chOff x="1466640" y="3524040"/>
              <a:chExt cx="762120" cy="722880"/>
            </a:xfrm>
          </p:grpSpPr>
          <p:sp>
            <p:nvSpPr>
              <p:cNvPr id="1193" name="Rectangle 13"/>
              <p:cNvSpPr/>
              <p:nvPr/>
            </p:nvSpPr>
            <p:spPr>
              <a:xfrm>
                <a:off x="1466640" y="3524040"/>
                <a:ext cx="76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Straight Connector 124"/>
              <p:cNvSpPr/>
              <p:nvPr/>
            </p:nvSpPr>
            <p:spPr>
              <a:xfrm>
                <a:off x="1539360" y="3876480"/>
                <a:ext cx="3650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58"/>
              <p:cNvSpPr/>
              <p:nvPr/>
            </p:nvSpPr>
            <p:spPr>
              <a:xfrm>
                <a:off x="1495080" y="3848040"/>
                <a:ext cx="50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TextBox 55"/>
            <p:cNvSpPr/>
            <p:nvPr/>
          </p:nvSpPr>
          <p:spPr>
            <a:xfrm rot="10800000">
              <a:off x="1803960" y="35028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Box 56"/>
            <p:cNvSpPr/>
            <p:nvPr/>
          </p:nvSpPr>
          <p:spPr>
            <a:xfrm>
              <a:off x="1281960" y="333360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8" name="Group 29"/>
            <p:cNvGrpSpPr/>
            <p:nvPr/>
          </p:nvGrpSpPr>
          <p:grpSpPr>
            <a:xfrm>
              <a:off x="399960" y="3619080"/>
              <a:ext cx="685800" cy="532800"/>
              <a:chOff x="399960" y="3619080"/>
              <a:chExt cx="685800" cy="532800"/>
            </a:xfrm>
          </p:grpSpPr>
          <p:sp>
            <p:nvSpPr>
              <p:cNvPr id="1199" name="Rectangle 13"/>
              <p:cNvSpPr/>
              <p:nvPr/>
            </p:nvSpPr>
            <p:spPr>
              <a:xfrm>
                <a:off x="399960" y="36190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P 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Rectangle 13"/>
              <p:cNvSpPr/>
              <p:nvPr/>
            </p:nvSpPr>
            <p:spPr>
              <a:xfrm>
                <a:off x="552240" y="378108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H</a:t>
                </a:r>
                <a:r>
                  <a:rPr b="0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32"/>
            <p:cNvGrpSpPr/>
            <p:nvPr/>
          </p:nvGrpSpPr>
          <p:grpSpPr>
            <a:xfrm>
              <a:off x="933120" y="3600360"/>
              <a:ext cx="676080" cy="542160"/>
              <a:chOff x="933120" y="3600360"/>
              <a:chExt cx="676080" cy="542160"/>
            </a:xfrm>
          </p:grpSpPr>
          <p:sp>
            <p:nvSpPr>
              <p:cNvPr id="1202" name="Rectangle 13"/>
              <p:cNvSpPr/>
              <p:nvPr/>
            </p:nvSpPr>
            <p:spPr>
              <a:xfrm>
                <a:off x="933120" y="36003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Rectangle 13"/>
              <p:cNvSpPr/>
              <p:nvPr/>
            </p:nvSpPr>
            <p:spPr>
              <a:xfrm>
                <a:off x="1075680" y="377172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H</a:t>
                </a:r>
                <a:r>
                  <a:rPr b="0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4" name="TextBox 125"/>
          <p:cNvSpPr/>
          <p:nvPr/>
        </p:nvSpPr>
        <p:spPr>
          <a:xfrm>
            <a:off x="4057560" y="39146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3"/>
          <p:cNvSpPr/>
          <p:nvPr/>
        </p:nvSpPr>
        <p:spPr>
          <a:xfrm>
            <a:off x="7305840" y="4714920"/>
            <a:ext cx="1447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0.64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40"/>
          <p:cNvGrpSpPr/>
          <p:nvPr/>
        </p:nvGrpSpPr>
        <p:grpSpPr>
          <a:xfrm>
            <a:off x="3123720" y="4572000"/>
            <a:ext cx="3087720" cy="298440"/>
            <a:chOff x="3123720" y="4572000"/>
            <a:chExt cx="3087720" cy="298440"/>
          </a:xfrm>
        </p:grpSpPr>
        <p:sp>
          <p:nvSpPr>
            <p:cNvPr id="1207" name="Straight Connector 135"/>
            <p:cNvSpPr/>
            <p:nvPr/>
          </p:nvSpPr>
          <p:spPr>
            <a:xfrm flipH="1">
              <a:off x="3123720" y="4572000"/>
              <a:ext cx="277560" cy="250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Straight Connector 136"/>
            <p:cNvSpPr/>
            <p:nvPr/>
          </p:nvSpPr>
          <p:spPr>
            <a:xfrm flipH="1">
              <a:off x="5933880" y="4619520"/>
              <a:ext cx="277560" cy="250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43"/>
          <p:cNvGrpSpPr/>
          <p:nvPr/>
        </p:nvGrpSpPr>
        <p:grpSpPr>
          <a:xfrm>
            <a:off x="5484600" y="4591080"/>
            <a:ext cx="1849320" cy="287280"/>
            <a:chOff x="5484600" y="4591080"/>
            <a:chExt cx="1849320" cy="287280"/>
          </a:xfrm>
        </p:grpSpPr>
        <p:sp>
          <p:nvSpPr>
            <p:cNvPr id="1210" name="Straight Connector 138"/>
            <p:cNvSpPr/>
            <p:nvPr/>
          </p:nvSpPr>
          <p:spPr>
            <a:xfrm flipH="1">
              <a:off x="5484600" y="4591080"/>
              <a:ext cx="277560" cy="28728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Straight Connector 139"/>
            <p:cNvSpPr/>
            <p:nvPr/>
          </p:nvSpPr>
          <p:spPr>
            <a:xfrm flipH="1">
              <a:off x="7056360" y="4620960"/>
              <a:ext cx="277560" cy="2523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46"/>
          <p:cNvGrpSpPr/>
          <p:nvPr/>
        </p:nvGrpSpPr>
        <p:grpSpPr>
          <a:xfrm>
            <a:off x="4419360" y="4619520"/>
            <a:ext cx="487080" cy="631800"/>
            <a:chOff x="4419360" y="4619520"/>
            <a:chExt cx="487080" cy="631800"/>
          </a:xfrm>
        </p:grpSpPr>
        <p:sp>
          <p:nvSpPr>
            <p:cNvPr id="1213" name="Straight Connector 141"/>
            <p:cNvSpPr/>
            <p:nvPr/>
          </p:nvSpPr>
          <p:spPr>
            <a:xfrm flipH="1">
              <a:off x="4419360" y="5000400"/>
              <a:ext cx="277560" cy="250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Straight Connector 142"/>
            <p:cNvSpPr/>
            <p:nvPr/>
          </p:nvSpPr>
          <p:spPr>
            <a:xfrm flipH="1">
              <a:off x="4628880" y="4619520"/>
              <a:ext cx="277560" cy="250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47"/>
          <p:cNvGrpSpPr/>
          <p:nvPr/>
        </p:nvGrpSpPr>
        <p:grpSpPr>
          <a:xfrm>
            <a:off x="333360" y="4314960"/>
            <a:ext cx="1777320" cy="1158480"/>
            <a:chOff x="333360" y="4314960"/>
            <a:chExt cx="1777320" cy="1158480"/>
          </a:xfrm>
        </p:grpSpPr>
        <p:grpSp>
          <p:nvGrpSpPr>
            <p:cNvPr id="1216" name="Group 49"/>
            <p:cNvGrpSpPr/>
            <p:nvPr/>
          </p:nvGrpSpPr>
          <p:grpSpPr>
            <a:xfrm>
              <a:off x="1343160" y="4505400"/>
              <a:ext cx="762120" cy="713160"/>
              <a:chOff x="1343160" y="4505400"/>
              <a:chExt cx="762120" cy="713160"/>
            </a:xfrm>
          </p:grpSpPr>
          <p:sp>
            <p:nvSpPr>
              <p:cNvPr id="1217" name="Rectangle 13"/>
              <p:cNvSpPr/>
              <p:nvPr/>
            </p:nvSpPr>
            <p:spPr>
              <a:xfrm>
                <a:off x="1343160" y="4505400"/>
                <a:ext cx="76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Straight Connector 154"/>
              <p:cNvSpPr/>
              <p:nvPr/>
            </p:nvSpPr>
            <p:spPr>
              <a:xfrm>
                <a:off x="1393920" y="4857840"/>
                <a:ext cx="3650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Rectangle 58"/>
              <p:cNvSpPr/>
              <p:nvPr/>
            </p:nvSpPr>
            <p:spPr>
              <a:xfrm>
                <a:off x="1366920" y="4819680"/>
                <a:ext cx="50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TextBox 55"/>
            <p:cNvSpPr/>
            <p:nvPr/>
          </p:nvSpPr>
          <p:spPr>
            <a:xfrm rot="10800000">
              <a:off x="1701360" y="446508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Box 56"/>
            <p:cNvSpPr/>
            <p:nvPr/>
          </p:nvSpPr>
          <p:spPr>
            <a:xfrm>
              <a:off x="1177200" y="431496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Group 29"/>
            <p:cNvGrpSpPr/>
            <p:nvPr/>
          </p:nvGrpSpPr>
          <p:grpSpPr>
            <a:xfrm>
              <a:off x="333360" y="4600440"/>
              <a:ext cx="685800" cy="504000"/>
              <a:chOff x="333360" y="4600440"/>
              <a:chExt cx="685800" cy="504000"/>
            </a:xfrm>
          </p:grpSpPr>
          <p:sp>
            <p:nvSpPr>
              <p:cNvPr id="1223" name="Rectangle 13"/>
              <p:cNvSpPr/>
              <p:nvPr/>
            </p:nvSpPr>
            <p:spPr>
              <a:xfrm>
                <a:off x="333360" y="460044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P </a:t>
                </a: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Rectangle 13"/>
              <p:cNvSpPr/>
              <p:nvPr/>
            </p:nvSpPr>
            <p:spPr>
              <a:xfrm>
                <a:off x="399960" y="473364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r>
                  <a:rPr b="0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5" name="Group 32"/>
            <p:cNvGrpSpPr/>
            <p:nvPr/>
          </p:nvGrpSpPr>
          <p:grpSpPr>
            <a:xfrm>
              <a:off x="780840" y="4591080"/>
              <a:ext cx="704880" cy="532800"/>
              <a:chOff x="780840" y="4591080"/>
              <a:chExt cx="704880" cy="532800"/>
            </a:xfrm>
          </p:grpSpPr>
          <p:sp>
            <p:nvSpPr>
              <p:cNvPr id="1226" name="Rectangle 13"/>
              <p:cNvSpPr/>
              <p:nvPr/>
            </p:nvSpPr>
            <p:spPr>
              <a:xfrm>
                <a:off x="780840" y="45910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13"/>
              <p:cNvSpPr/>
              <p:nvPr/>
            </p:nvSpPr>
            <p:spPr>
              <a:xfrm>
                <a:off x="952200" y="4753080"/>
                <a:ext cx="533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r>
                  <a:rPr b="0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8" name="Group 93"/>
          <p:cNvGrpSpPr/>
          <p:nvPr/>
        </p:nvGrpSpPr>
        <p:grpSpPr>
          <a:xfrm>
            <a:off x="1914480" y="4532400"/>
            <a:ext cx="5991120" cy="743400"/>
            <a:chOff x="1914480" y="4532400"/>
            <a:chExt cx="5991120" cy="743400"/>
          </a:xfrm>
        </p:grpSpPr>
        <p:grpSp>
          <p:nvGrpSpPr>
            <p:cNvPr id="1229" name="Group 75"/>
            <p:cNvGrpSpPr/>
            <p:nvPr/>
          </p:nvGrpSpPr>
          <p:grpSpPr>
            <a:xfrm>
              <a:off x="1914480" y="4532400"/>
              <a:ext cx="5991120" cy="552240"/>
              <a:chOff x="1914480" y="4532400"/>
              <a:chExt cx="5991120" cy="552240"/>
            </a:xfrm>
          </p:grpSpPr>
          <p:sp>
            <p:nvSpPr>
              <p:cNvPr id="1230" name="Rectangle 13"/>
              <p:cNvSpPr/>
              <p:nvPr/>
            </p:nvSpPr>
            <p:spPr>
              <a:xfrm>
                <a:off x="1914480" y="4655520"/>
                <a:ext cx="484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1" name="Group 71"/>
              <p:cNvGrpSpPr/>
              <p:nvPr/>
            </p:nvGrpSpPr>
            <p:grpSpPr>
              <a:xfrm>
                <a:off x="2133360" y="4532400"/>
                <a:ext cx="5772240" cy="401040"/>
                <a:chOff x="2133360" y="4532400"/>
                <a:chExt cx="5772240" cy="401040"/>
              </a:xfrm>
            </p:grpSpPr>
            <p:sp>
              <p:nvSpPr>
                <p:cNvPr id="1232" name="Straight Connector 131"/>
                <p:cNvSpPr/>
                <p:nvPr/>
              </p:nvSpPr>
              <p:spPr>
                <a:xfrm>
                  <a:off x="2255400" y="4905720"/>
                  <a:ext cx="50295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Rectangle 13"/>
                <p:cNvSpPr/>
                <p:nvPr/>
              </p:nvSpPr>
              <p:spPr>
                <a:xfrm>
                  <a:off x="2133360" y="4532400"/>
                  <a:ext cx="21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(0.286 mol)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Rectangle 39"/>
                <p:cNvSpPr/>
                <p:nvPr/>
              </p:nvSpPr>
              <p:spPr>
                <a:xfrm>
                  <a:off x="3322800" y="4534560"/>
                  <a:ext cx="4582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( 0.08206 L.atm /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K. mol) 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</a:t>
                  </a:r>
                  <a:r>
                    <a:rPr b="0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 273 K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5" name="TextBox 156"/>
            <p:cNvSpPr/>
            <p:nvPr/>
          </p:nvSpPr>
          <p:spPr>
            <a:xfrm>
              <a:off x="3886200" y="48769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.0 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Group 92"/>
          <p:cNvGrpSpPr/>
          <p:nvPr/>
        </p:nvGrpSpPr>
        <p:grpSpPr>
          <a:xfrm>
            <a:off x="1190520" y="5753160"/>
            <a:ext cx="4448160" cy="603360"/>
            <a:chOff x="1190520" y="5753160"/>
            <a:chExt cx="4448160" cy="603360"/>
          </a:xfrm>
        </p:grpSpPr>
        <p:sp>
          <p:nvSpPr>
            <p:cNvPr id="1237" name="Rectangle 43"/>
            <p:cNvSpPr/>
            <p:nvPr/>
          </p:nvSpPr>
          <p:spPr>
            <a:xfrm>
              <a:off x="1190520" y="5753160"/>
              <a:ext cx="44481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900" spc="-1" strike="noStrike" baseline="-30000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lang="en-US" sz="29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900" spc="-1" strike="noStrike">
                  <a:solidFill>
                    <a:srgbClr val="0000ff"/>
                  </a:solidFill>
                  <a:latin typeface="Arial"/>
                </a:rPr>
                <a:t>  +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9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 2.24 + 0.6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>
              <a:off x="2685960" y="59436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3"/>
            <p:cNvSpPr/>
            <p:nvPr/>
          </p:nvSpPr>
          <p:spPr>
            <a:xfrm>
              <a:off x="1933200" y="59245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Rectangle 43"/>
          <p:cNvSpPr/>
          <p:nvPr/>
        </p:nvSpPr>
        <p:spPr>
          <a:xfrm>
            <a:off x="5105520" y="5810400"/>
            <a:ext cx="2057400" cy="46332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 2.88 a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7"/>
          <p:cNvSpPr/>
          <p:nvPr/>
        </p:nvSpPr>
        <p:spPr>
          <a:xfrm>
            <a:off x="1870200" y="469800"/>
            <a:ext cx="514008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ollecting  gase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Group 16"/>
          <p:cNvGrpSpPr/>
          <p:nvPr/>
        </p:nvGrpSpPr>
        <p:grpSpPr>
          <a:xfrm>
            <a:off x="1316160" y="1411200"/>
            <a:ext cx="6095880" cy="3699000"/>
            <a:chOff x="1316160" y="1411200"/>
            <a:chExt cx="6095880" cy="3699000"/>
          </a:xfrm>
        </p:grpSpPr>
        <p:grpSp>
          <p:nvGrpSpPr>
            <p:cNvPr id="1243" name="Group 6"/>
            <p:cNvGrpSpPr/>
            <p:nvPr/>
          </p:nvGrpSpPr>
          <p:grpSpPr>
            <a:xfrm>
              <a:off x="1375560" y="1411200"/>
              <a:ext cx="6036480" cy="3699000"/>
              <a:chOff x="1375560" y="1411200"/>
              <a:chExt cx="6036480" cy="3699000"/>
            </a:xfrm>
          </p:grpSpPr>
          <p:pic>
            <p:nvPicPr>
              <p:cNvPr id="124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5560" y="1411200"/>
                <a:ext cx="6036480" cy="369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5" name="Rectangle 5"/>
              <p:cNvSpPr/>
              <p:nvPr/>
            </p:nvSpPr>
            <p:spPr>
              <a:xfrm>
                <a:off x="1622160" y="4494240"/>
                <a:ext cx="905400" cy="34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6" name="Group 15" descr=""/>
            <p:cNvPicPr/>
            <p:nvPr/>
          </p:nvPicPr>
          <p:blipFill>
            <a:blip r:embed="rId2"/>
            <a:stretch/>
          </p:blipFill>
          <p:spPr>
            <a:xfrm>
              <a:off x="1316160" y="3615120"/>
              <a:ext cx="3356280" cy="36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7" name="Group 20"/>
          <p:cNvGrpSpPr/>
          <p:nvPr/>
        </p:nvGrpSpPr>
        <p:grpSpPr>
          <a:xfrm>
            <a:off x="2631960" y="5648400"/>
            <a:ext cx="2702160" cy="624960"/>
            <a:chOff x="2631960" y="5648400"/>
            <a:chExt cx="2702160" cy="624960"/>
          </a:xfrm>
        </p:grpSpPr>
        <p:sp>
          <p:nvSpPr>
            <p:cNvPr id="1248" name="TextBox 17"/>
            <p:cNvSpPr/>
            <p:nvPr/>
          </p:nvSpPr>
          <p:spPr>
            <a:xfrm>
              <a:off x="2631960" y="5648400"/>
              <a:ext cx="22172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+ 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Box 18"/>
            <p:cNvSpPr/>
            <p:nvPr/>
          </p:nvSpPr>
          <p:spPr>
            <a:xfrm>
              <a:off x="3494520" y="576324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Box 19"/>
            <p:cNvSpPr/>
            <p:nvPr/>
          </p:nvSpPr>
          <p:spPr>
            <a:xfrm>
              <a:off x="4433400" y="5792760"/>
              <a:ext cx="90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1" name="Group 77"/>
          <p:cNvGrpSpPr/>
          <p:nvPr/>
        </p:nvGrpSpPr>
        <p:grpSpPr>
          <a:xfrm>
            <a:off x="5056200" y="3525840"/>
            <a:ext cx="2979720" cy="1324080"/>
            <a:chOff x="5056200" y="3525840"/>
            <a:chExt cx="2979720" cy="1324080"/>
          </a:xfrm>
        </p:grpSpPr>
        <p:sp>
          <p:nvSpPr>
            <p:cNvPr id="1252" name="Rectangle 76"/>
            <p:cNvSpPr/>
            <p:nvPr/>
          </p:nvSpPr>
          <p:spPr>
            <a:xfrm>
              <a:off x="5056200" y="3573360"/>
              <a:ext cx="2841840" cy="1276560"/>
            </a:xfrm>
            <a:prstGeom prst="rect">
              <a:avLst/>
            </a:prstGeom>
            <a:solidFill>
              <a:srgbClr val="cecee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3" name="Group 63"/>
            <p:cNvGrpSpPr/>
            <p:nvPr/>
          </p:nvGrpSpPr>
          <p:grpSpPr>
            <a:xfrm>
              <a:off x="5125320" y="3525840"/>
              <a:ext cx="2910600" cy="705600"/>
              <a:chOff x="5125320" y="3525840"/>
              <a:chExt cx="2910600" cy="705600"/>
            </a:xfrm>
          </p:grpSpPr>
          <p:sp>
            <p:nvSpPr>
              <p:cNvPr id="1254" name="Rectangle 13"/>
              <p:cNvSpPr/>
              <p:nvPr/>
            </p:nvSpPr>
            <p:spPr>
              <a:xfrm>
                <a:off x="5125320" y="3684600"/>
                <a:ext cx="291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umber of mole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36"/>
              <p:cNvSpPr/>
              <p:nvPr/>
            </p:nvSpPr>
            <p:spPr>
              <a:xfrm>
                <a:off x="7462800" y="352584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37"/>
              <p:cNvSpPr/>
              <p:nvPr/>
            </p:nvSpPr>
            <p:spPr>
              <a:xfrm>
                <a:off x="7444080" y="383256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Straight Connector 38"/>
              <p:cNvSpPr/>
              <p:nvPr/>
            </p:nvSpPr>
            <p:spPr>
              <a:xfrm>
                <a:off x="7523280" y="3878280"/>
                <a:ext cx="353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Rectangle 39"/>
            <p:cNvSpPr/>
            <p:nvPr/>
          </p:nvSpPr>
          <p:spPr>
            <a:xfrm>
              <a:off x="5144040" y="4157640"/>
              <a:ext cx="27547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lar mass = 32 g / m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ss in gram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Rectangle 13"/>
          <p:cNvSpPr/>
          <p:nvPr/>
        </p:nvSpPr>
        <p:spPr>
          <a:xfrm>
            <a:off x="247680" y="336600"/>
            <a:ext cx="85215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: Oxygen gas generated by the decomposition of potassium chlorate is collected over water. The volume of oxygen collected at 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and atmospheric pressure of 762 mmHg is 128 mL. Calculate the mass (in grams) of oxygen gas obtained.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e pressure of the water vapor at 24 </a:t>
            </a:r>
            <a:r>
              <a:rPr b="0" lang="en-US" sz="2000" spc="-1" strike="noStrike">
                <a:solidFill>
                  <a:srgbClr val="7f7f7f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 is 22.4 mm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Group 45"/>
          <p:cNvGrpSpPr/>
          <p:nvPr/>
        </p:nvGrpSpPr>
        <p:grpSpPr>
          <a:xfrm>
            <a:off x="457200" y="1981080"/>
            <a:ext cx="2216160" cy="525240"/>
            <a:chOff x="457200" y="1981080"/>
            <a:chExt cx="2216160" cy="525240"/>
          </a:xfrm>
        </p:grpSpPr>
        <p:sp>
          <p:nvSpPr>
            <p:cNvPr id="1261" name="TextBox 47"/>
            <p:cNvSpPr/>
            <p:nvPr/>
          </p:nvSpPr>
          <p:spPr>
            <a:xfrm>
              <a:off x="457200" y="1981080"/>
              <a:ext cx="221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TextBox 48"/>
            <p:cNvSpPr/>
            <p:nvPr/>
          </p:nvSpPr>
          <p:spPr>
            <a:xfrm>
              <a:off x="1172880" y="2170080"/>
              <a:ext cx="484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TextBox 50"/>
            <p:cNvSpPr/>
            <p:nvPr/>
          </p:nvSpPr>
          <p:spPr>
            <a:xfrm>
              <a:off x="1772280" y="2164680"/>
              <a:ext cx="62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75"/>
          <p:cNvGrpSpPr/>
          <p:nvPr/>
        </p:nvGrpSpPr>
        <p:grpSpPr>
          <a:xfrm>
            <a:off x="2563920" y="1998720"/>
            <a:ext cx="2216160" cy="510480"/>
            <a:chOff x="2563920" y="1998720"/>
            <a:chExt cx="2216160" cy="510480"/>
          </a:xfrm>
        </p:grpSpPr>
        <p:grpSp>
          <p:nvGrpSpPr>
            <p:cNvPr id="1265" name="Group 51"/>
            <p:cNvGrpSpPr/>
            <p:nvPr/>
          </p:nvGrpSpPr>
          <p:grpSpPr>
            <a:xfrm>
              <a:off x="2563920" y="1998720"/>
              <a:ext cx="2216160" cy="510480"/>
              <a:chOff x="2563920" y="1998720"/>
              <a:chExt cx="2216160" cy="510480"/>
            </a:xfrm>
          </p:grpSpPr>
          <p:sp>
            <p:nvSpPr>
              <p:cNvPr id="1266" name="TextBox 52"/>
              <p:cNvSpPr/>
              <p:nvPr/>
            </p:nvSpPr>
            <p:spPr>
              <a:xfrm>
                <a:off x="2563920" y="1998720"/>
                <a:ext cx="221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-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TextBox 55"/>
              <p:cNvSpPr/>
              <p:nvPr/>
            </p:nvSpPr>
            <p:spPr>
              <a:xfrm>
                <a:off x="4034880" y="2172960"/>
                <a:ext cx="62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TextBox 56"/>
            <p:cNvSpPr/>
            <p:nvPr/>
          </p:nvSpPr>
          <p:spPr>
            <a:xfrm>
              <a:off x="2826000" y="2153880"/>
              <a:ext cx="484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60"/>
          <p:cNvGrpSpPr/>
          <p:nvPr/>
        </p:nvGrpSpPr>
        <p:grpSpPr>
          <a:xfrm>
            <a:off x="4464000" y="2104920"/>
            <a:ext cx="2928600" cy="730440"/>
            <a:chOff x="4464000" y="2104920"/>
            <a:chExt cx="2928600" cy="730440"/>
          </a:xfrm>
        </p:grpSpPr>
        <p:sp>
          <p:nvSpPr>
            <p:cNvPr id="1270" name="Rectangle 57"/>
            <p:cNvSpPr/>
            <p:nvPr/>
          </p:nvSpPr>
          <p:spPr>
            <a:xfrm>
              <a:off x="4464000" y="2104920"/>
              <a:ext cx="29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762 mmHg – 22.4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1"/>
            <p:cNvSpPr/>
            <p:nvPr/>
          </p:nvSpPr>
          <p:spPr>
            <a:xfrm>
              <a:off x="4467240" y="2467080"/>
              <a:ext cx="168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739.6 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Group 79"/>
          <p:cNvGrpSpPr/>
          <p:nvPr/>
        </p:nvGrpSpPr>
        <p:grpSpPr>
          <a:xfrm>
            <a:off x="900000" y="3294000"/>
            <a:ext cx="3141720" cy="1681200"/>
            <a:chOff x="900000" y="3294000"/>
            <a:chExt cx="3141720" cy="1681200"/>
          </a:xfrm>
        </p:grpSpPr>
        <p:sp>
          <p:nvSpPr>
            <p:cNvPr id="1273" name="Rectangle 78"/>
            <p:cNvSpPr/>
            <p:nvPr/>
          </p:nvSpPr>
          <p:spPr>
            <a:xfrm>
              <a:off x="900000" y="3294000"/>
              <a:ext cx="3138480" cy="1681200"/>
            </a:xfrm>
            <a:prstGeom prst="rect">
              <a:avLst/>
            </a:prstGeom>
            <a:solidFill>
              <a:srgbClr val="cecee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72"/>
            <p:cNvSpPr/>
            <p:nvPr/>
          </p:nvSpPr>
          <p:spPr>
            <a:xfrm>
              <a:off x="976320" y="3360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973 at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73"/>
            <p:cNvSpPr/>
            <p:nvPr/>
          </p:nvSpPr>
          <p:spPr>
            <a:xfrm>
              <a:off x="978120" y="3697560"/>
              <a:ext cx="25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273 + 24 = 297 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74"/>
            <p:cNvSpPr/>
            <p:nvPr/>
          </p:nvSpPr>
          <p:spPr>
            <a:xfrm>
              <a:off x="973800" y="4101120"/>
              <a:ext cx="26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128 mL = 0.128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75"/>
            <p:cNvSpPr/>
            <p:nvPr/>
          </p:nvSpPr>
          <p:spPr>
            <a:xfrm>
              <a:off x="971640" y="4484160"/>
              <a:ext cx="307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08206 L.atm /K.m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Rectangle 80"/>
          <p:cNvSpPr/>
          <p:nvPr/>
        </p:nvSpPr>
        <p:spPr>
          <a:xfrm>
            <a:off x="277920" y="5176800"/>
            <a:ext cx="17031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T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Group 87"/>
          <p:cNvGrpSpPr/>
          <p:nvPr/>
        </p:nvGrpSpPr>
        <p:grpSpPr>
          <a:xfrm>
            <a:off x="1447920" y="5041800"/>
            <a:ext cx="1101600" cy="865080"/>
            <a:chOff x="1447920" y="5041800"/>
            <a:chExt cx="1101600" cy="865080"/>
          </a:xfrm>
        </p:grpSpPr>
        <p:sp>
          <p:nvSpPr>
            <p:cNvPr id="1280" name="Rectangle 81"/>
            <p:cNvSpPr/>
            <p:nvPr/>
          </p:nvSpPr>
          <p:spPr>
            <a:xfrm>
              <a:off x="1707840" y="504180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2"/>
            <p:cNvSpPr/>
            <p:nvPr/>
          </p:nvSpPr>
          <p:spPr>
            <a:xfrm>
              <a:off x="1677240" y="534096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Straight Connector 84"/>
            <p:cNvSpPr/>
            <p:nvPr/>
          </p:nvSpPr>
          <p:spPr>
            <a:xfrm>
              <a:off x="1708200" y="5378400"/>
              <a:ext cx="33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85"/>
            <p:cNvSpPr/>
            <p:nvPr/>
          </p:nvSpPr>
          <p:spPr>
            <a:xfrm>
              <a:off x="1447920" y="519372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86"/>
            <p:cNvSpPr/>
            <p:nvPr/>
          </p:nvSpPr>
          <p:spPr>
            <a:xfrm>
              <a:off x="1988280" y="5203080"/>
              <a:ext cx="56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T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Group 66"/>
          <p:cNvGrpSpPr/>
          <p:nvPr/>
        </p:nvGrpSpPr>
        <p:grpSpPr>
          <a:xfrm>
            <a:off x="407880" y="5821200"/>
            <a:ext cx="1463760" cy="714600"/>
            <a:chOff x="407880" y="5821200"/>
            <a:chExt cx="1463760" cy="714600"/>
          </a:xfrm>
        </p:grpSpPr>
        <p:sp>
          <p:nvSpPr>
            <p:cNvPr id="1286" name="Rectangle 95"/>
            <p:cNvSpPr/>
            <p:nvPr/>
          </p:nvSpPr>
          <p:spPr>
            <a:xfrm>
              <a:off x="407880" y="59738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Straight Connector 99"/>
            <p:cNvSpPr/>
            <p:nvPr/>
          </p:nvSpPr>
          <p:spPr>
            <a:xfrm>
              <a:off x="960480" y="6176880"/>
              <a:ext cx="623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00"/>
            <p:cNvSpPr/>
            <p:nvPr/>
          </p:nvSpPr>
          <p:spPr>
            <a:xfrm>
              <a:off x="900360" y="5821200"/>
              <a:ext cx="83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V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01"/>
            <p:cNvSpPr/>
            <p:nvPr/>
          </p:nvSpPr>
          <p:spPr>
            <a:xfrm>
              <a:off x="981000" y="6136920"/>
              <a:ext cx="77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02"/>
            <p:cNvSpPr/>
            <p:nvPr/>
          </p:nvSpPr>
          <p:spPr>
            <a:xfrm>
              <a:off x="1594800" y="5994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67"/>
          <p:cNvGrpSpPr/>
          <p:nvPr/>
        </p:nvGrpSpPr>
        <p:grpSpPr>
          <a:xfrm>
            <a:off x="1870200" y="5827680"/>
            <a:ext cx="4073400" cy="718920"/>
            <a:chOff x="1870200" y="5827680"/>
            <a:chExt cx="4073400" cy="718920"/>
          </a:xfrm>
        </p:grpSpPr>
        <p:sp>
          <p:nvSpPr>
            <p:cNvPr id="1292" name="Rectangle 103"/>
            <p:cNvSpPr/>
            <p:nvPr/>
          </p:nvSpPr>
          <p:spPr>
            <a:xfrm>
              <a:off x="1870200" y="5827680"/>
              <a:ext cx="407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973  at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.128 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32 g /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mo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104"/>
            <p:cNvSpPr/>
            <p:nvPr/>
          </p:nvSpPr>
          <p:spPr>
            <a:xfrm>
              <a:off x="1939320" y="6147720"/>
              <a:ext cx="37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821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L.at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/ K.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97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Straight Connector 106"/>
            <p:cNvSpPr/>
            <p:nvPr/>
          </p:nvSpPr>
          <p:spPr>
            <a:xfrm>
              <a:off x="1870200" y="6184800"/>
              <a:ext cx="360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72"/>
          <p:cNvGrpSpPr/>
          <p:nvPr/>
        </p:nvGrpSpPr>
        <p:grpSpPr>
          <a:xfrm>
            <a:off x="3744720" y="6211800"/>
            <a:ext cx="1608120" cy="273240"/>
            <a:chOff x="3744720" y="6211800"/>
            <a:chExt cx="1608120" cy="273240"/>
          </a:xfrm>
        </p:grpSpPr>
        <p:sp>
          <p:nvSpPr>
            <p:cNvPr id="1296" name="Straight Connector 110"/>
            <p:cNvSpPr/>
            <p:nvPr/>
          </p:nvSpPr>
          <p:spPr>
            <a:xfrm flipH="1">
              <a:off x="5145120" y="6241680"/>
              <a:ext cx="207720" cy="243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Straight Connector 112"/>
            <p:cNvSpPr/>
            <p:nvPr/>
          </p:nvSpPr>
          <p:spPr>
            <a:xfrm flipH="1">
              <a:off x="3744720" y="6211800"/>
              <a:ext cx="207720" cy="241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Group 71"/>
          <p:cNvGrpSpPr/>
          <p:nvPr/>
        </p:nvGrpSpPr>
        <p:grpSpPr>
          <a:xfrm>
            <a:off x="4009680" y="5916600"/>
            <a:ext cx="1523880" cy="550800"/>
            <a:chOff x="4009680" y="5916600"/>
            <a:chExt cx="1523880" cy="550800"/>
          </a:xfrm>
        </p:grpSpPr>
        <p:sp>
          <p:nvSpPr>
            <p:cNvPr id="1299" name="Straight Connector 113"/>
            <p:cNvSpPr/>
            <p:nvPr/>
          </p:nvSpPr>
          <p:spPr>
            <a:xfrm flipH="1">
              <a:off x="4009680" y="6224400"/>
              <a:ext cx="207720" cy="2430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Straight Connector 116"/>
            <p:cNvSpPr/>
            <p:nvPr/>
          </p:nvSpPr>
          <p:spPr>
            <a:xfrm flipH="1">
              <a:off x="5325840" y="5916600"/>
              <a:ext cx="207720" cy="2430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Group 73"/>
          <p:cNvGrpSpPr/>
          <p:nvPr/>
        </p:nvGrpSpPr>
        <p:grpSpPr>
          <a:xfrm>
            <a:off x="2787480" y="5916600"/>
            <a:ext cx="613080" cy="539640"/>
            <a:chOff x="2787480" y="5916600"/>
            <a:chExt cx="613080" cy="539640"/>
          </a:xfrm>
        </p:grpSpPr>
        <p:sp>
          <p:nvSpPr>
            <p:cNvPr id="1302" name="Straight Connector 118"/>
            <p:cNvSpPr/>
            <p:nvPr/>
          </p:nvSpPr>
          <p:spPr>
            <a:xfrm flipH="1">
              <a:off x="3192480" y="6213240"/>
              <a:ext cx="208080" cy="243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Straight Connector 119"/>
            <p:cNvSpPr/>
            <p:nvPr/>
          </p:nvSpPr>
          <p:spPr>
            <a:xfrm flipH="1">
              <a:off x="2787480" y="5916600"/>
              <a:ext cx="208080" cy="2426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Group 74"/>
          <p:cNvGrpSpPr/>
          <p:nvPr/>
        </p:nvGrpSpPr>
        <p:grpSpPr>
          <a:xfrm>
            <a:off x="2798280" y="5916600"/>
            <a:ext cx="1470240" cy="558720"/>
            <a:chOff x="2798280" y="5916600"/>
            <a:chExt cx="1470240" cy="558720"/>
          </a:xfrm>
        </p:grpSpPr>
        <p:sp>
          <p:nvSpPr>
            <p:cNvPr id="1305" name="Straight Connector 117"/>
            <p:cNvSpPr/>
            <p:nvPr/>
          </p:nvSpPr>
          <p:spPr>
            <a:xfrm flipH="1">
              <a:off x="4060800" y="5916600"/>
              <a:ext cx="207720" cy="24300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Straight Connector 120"/>
            <p:cNvSpPr/>
            <p:nvPr/>
          </p:nvSpPr>
          <p:spPr>
            <a:xfrm flipH="1">
              <a:off x="2798280" y="6234120"/>
              <a:ext cx="207720" cy="24120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Rectangle 121"/>
          <p:cNvSpPr/>
          <p:nvPr/>
        </p:nvSpPr>
        <p:spPr>
          <a:xfrm>
            <a:off x="5472000" y="5983200"/>
            <a:ext cx="1462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63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1"/>
          <p:cNvGrpSpPr/>
          <p:nvPr/>
        </p:nvGrpSpPr>
        <p:grpSpPr>
          <a:xfrm>
            <a:off x="4496040" y="2852640"/>
            <a:ext cx="3177720" cy="659160"/>
            <a:chOff x="4496040" y="2852640"/>
            <a:chExt cx="3177720" cy="659160"/>
          </a:xfrm>
        </p:grpSpPr>
        <p:sp>
          <p:nvSpPr>
            <p:cNvPr id="1309" name="Rectangle 58"/>
            <p:cNvSpPr/>
            <p:nvPr/>
          </p:nvSpPr>
          <p:spPr>
            <a:xfrm>
              <a:off x="4496040" y="2982960"/>
              <a:ext cx="174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739.6 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9"/>
            <p:cNvSpPr/>
            <p:nvPr/>
          </p:nvSpPr>
          <p:spPr>
            <a:xfrm>
              <a:off x="6022800" y="298296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62"/>
            <p:cNvSpPr/>
            <p:nvPr/>
          </p:nvSpPr>
          <p:spPr>
            <a:xfrm>
              <a:off x="6405480" y="2852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Straight Connector 75"/>
            <p:cNvSpPr/>
            <p:nvPr/>
          </p:nvSpPr>
          <p:spPr>
            <a:xfrm>
              <a:off x="6416640" y="3191040"/>
              <a:ext cx="118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65"/>
            <p:cNvSpPr/>
            <p:nvPr/>
          </p:nvSpPr>
          <p:spPr>
            <a:xfrm>
              <a:off x="6377400" y="314352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0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63"/>
          <p:cNvGrpSpPr/>
          <p:nvPr/>
        </p:nvGrpSpPr>
        <p:grpSpPr>
          <a:xfrm>
            <a:off x="5562720" y="3047400"/>
            <a:ext cx="2037960" cy="381600"/>
            <a:chOff x="5562720" y="3047400"/>
            <a:chExt cx="2037960" cy="381600"/>
          </a:xfrm>
        </p:grpSpPr>
        <p:sp>
          <p:nvSpPr>
            <p:cNvPr id="1315" name="Straight Connector 80"/>
            <p:cNvSpPr/>
            <p:nvPr/>
          </p:nvSpPr>
          <p:spPr>
            <a:xfrm flipH="1">
              <a:off x="5562720" y="3047400"/>
              <a:ext cx="45720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Straight Connector 81"/>
            <p:cNvSpPr/>
            <p:nvPr/>
          </p:nvSpPr>
          <p:spPr>
            <a:xfrm flipH="1">
              <a:off x="7000560" y="3233880"/>
              <a:ext cx="600120" cy="1951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Rectangle 82"/>
          <p:cNvSpPr/>
          <p:nvPr/>
        </p:nvSpPr>
        <p:spPr>
          <a:xfrm>
            <a:off x="7570800" y="30211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973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0"/>
          <p:cNvGrpSpPr/>
          <p:nvPr/>
        </p:nvGrpSpPr>
        <p:grpSpPr>
          <a:xfrm>
            <a:off x="533520" y="990720"/>
            <a:ext cx="4284720" cy="4863600"/>
            <a:chOff x="533520" y="990720"/>
            <a:chExt cx="4284720" cy="4863600"/>
          </a:xfrm>
        </p:grpSpPr>
        <p:pic>
          <p:nvPicPr>
            <p:cNvPr id="683" name="Picture 12" descr="chprmt.gif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4284720" cy="324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Rectangle 19"/>
            <p:cNvSpPr/>
            <p:nvPr/>
          </p:nvSpPr>
          <p:spPr>
            <a:xfrm>
              <a:off x="609480" y="4419720"/>
              <a:ext cx="3962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Relationship between pressure and volume when mass and temperature are held constant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Rectangle 32"/>
          <p:cNvSpPr/>
          <p:nvPr/>
        </p:nvSpPr>
        <p:spPr>
          <a:xfrm>
            <a:off x="5715000" y="5619600"/>
            <a:ext cx="2209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k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 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3"/>
          <p:cNvSpPr/>
          <p:nvPr/>
        </p:nvSpPr>
        <p:spPr>
          <a:xfrm>
            <a:off x="5791320" y="6153120"/>
            <a:ext cx="1600200" cy="440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22"/>
          <p:cNvSpPr/>
          <p:nvPr/>
        </p:nvSpPr>
        <p:spPr>
          <a:xfrm>
            <a:off x="4952880" y="4046400"/>
            <a:ext cx="3962520" cy="189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olume         Pressure         P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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 (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2 (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 (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1.33 (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4  (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1.0  (P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)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9"/>
          <p:cNvGrpSpPr/>
          <p:nvPr/>
        </p:nvGrpSpPr>
        <p:grpSpPr>
          <a:xfrm>
            <a:off x="6137280" y="380880"/>
            <a:ext cx="2016000" cy="3429000"/>
            <a:chOff x="6137280" y="380880"/>
            <a:chExt cx="2016000" cy="3429000"/>
          </a:xfrm>
        </p:grpSpPr>
        <p:pic>
          <p:nvPicPr>
            <p:cNvPr id="689" name="Picture 2" descr=""/>
            <p:cNvPicPr/>
            <p:nvPr/>
          </p:nvPicPr>
          <p:blipFill>
            <a:blip r:embed="rId2"/>
            <a:stretch/>
          </p:blipFill>
          <p:spPr>
            <a:xfrm>
              <a:off x="6172200" y="380880"/>
              <a:ext cx="194472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3" descr=""/>
            <p:cNvPicPr/>
            <p:nvPr/>
          </p:nvPicPr>
          <p:blipFill>
            <a:blip r:embed="rId3"/>
            <a:stretch/>
          </p:blipFill>
          <p:spPr>
            <a:xfrm>
              <a:off x="6137280" y="2097000"/>
              <a:ext cx="2016000" cy="1712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4"/>
          <p:cNvSpPr/>
          <p:nvPr/>
        </p:nvSpPr>
        <p:spPr>
          <a:xfrm>
            <a:off x="417240" y="304920"/>
            <a:ext cx="840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The temperature-volume relationship: Charles'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380880" y="88884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les’s la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s that the volu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f a fixed amount of gas maintained at constant pressure (P) is directly proportional to its absolute 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3"/>
          <p:cNvSpPr/>
          <p:nvPr/>
        </p:nvSpPr>
        <p:spPr>
          <a:xfrm>
            <a:off x="9907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9"/>
          <p:cNvGrpSpPr/>
          <p:nvPr/>
        </p:nvGrpSpPr>
        <p:grpSpPr>
          <a:xfrm>
            <a:off x="952560" y="2666880"/>
            <a:ext cx="2724120" cy="473760"/>
            <a:chOff x="952560" y="2666880"/>
            <a:chExt cx="2724120" cy="473760"/>
          </a:xfrm>
        </p:grpSpPr>
        <p:sp>
          <p:nvSpPr>
            <p:cNvPr id="695" name="Rectangle 18"/>
            <p:cNvSpPr/>
            <p:nvPr/>
          </p:nvSpPr>
          <p:spPr>
            <a:xfrm>
              <a:off x="952560" y="2666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20"/>
            <p:cNvSpPr/>
            <p:nvPr/>
          </p:nvSpPr>
          <p:spPr>
            <a:xfrm>
              <a:off x="3143520" y="2680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2"/>
            <p:cNvSpPr/>
            <p:nvPr/>
          </p:nvSpPr>
          <p:spPr>
            <a:xfrm>
              <a:off x="1523880" y="2666880"/>
              <a:ext cx="18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1"/>
          <p:cNvGrpSpPr/>
          <p:nvPr/>
        </p:nvGrpSpPr>
        <p:grpSpPr>
          <a:xfrm>
            <a:off x="942840" y="3124080"/>
            <a:ext cx="3295800" cy="802800"/>
            <a:chOff x="942840" y="3124080"/>
            <a:chExt cx="3295800" cy="802800"/>
          </a:xfrm>
        </p:grpSpPr>
        <p:sp>
          <p:nvSpPr>
            <p:cNvPr id="699" name="Rectangle 27"/>
            <p:cNvSpPr/>
            <p:nvPr/>
          </p:nvSpPr>
          <p:spPr>
            <a:xfrm>
              <a:off x="1390320" y="3286080"/>
              <a:ext cx="28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constant (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57"/>
            <p:cNvGrpSpPr/>
            <p:nvPr/>
          </p:nvGrpSpPr>
          <p:grpSpPr>
            <a:xfrm>
              <a:off x="942840" y="3124080"/>
              <a:ext cx="466560" cy="802800"/>
              <a:chOff x="942840" y="3124080"/>
              <a:chExt cx="466560" cy="802800"/>
            </a:xfrm>
          </p:grpSpPr>
          <p:sp>
            <p:nvSpPr>
              <p:cNvPr id="701" name="Rectangle 27"/>
              <p:cNvSpPr/>
              <p:nvPr/>
            </p:nvSpPr>
            <p:spPr>
              <a:xfrm>
                <a:off x="952200" y="3124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7"/>
              <p:cNvSpPr/>
              <p:nvPr/>
            </p:nvSpPr>
            <p:spPr>
              <a:xfrm>
                <a:off x="952200" y="3467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56"/>
              <p:cNvSpPr/>
              <p:nvPr/>
            </p:nvSpPr>
            <p:spPr>
              <a:xfrm>
                <a:off x="942840" y="3524040"/>
                <a:ext cx="431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Group 52"/>
          <p:cNvGrpSpPr/>
          <p:nvPr/>
        </p:nvGrpSpPr>
        <p:grpSpPr>
          <a:xfrm>
            <a:off x="4495680" y="2438280"/>
            <a:ext cx="4419720" cy="4237920"/>
            <a:chOff x="4495680" y="2438280"/>
            <a:chExt cx="4419720" cy="4237920"/>
          </a:xfrm>
        </p:grpSpPr>
        <p:sp>
          <p:nvSpPr>
            <p:cNvPr id="705" name="Rectangle 59"/>
            <p:cNvSpPr/>
            <p:nvPr/>
          </p:nvSpPr>
          <p:spPr>
            <a:xfrm>
              <a:off x="5028840" y="5667480"/>
              <a:ext cx="3886560" cy="10087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elationship between volume and temperature when mass and pressure are held constan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Picture 23" descr="Charles_and_Gay-Lussac's_Law_animated.gif"/>
            <p:cNvPicPr/>
            <p:nvPr/>
          </p:nvPicPr>
          <p:blipFill>
            <a:blip r:embed="rId1"/>
            <a:stretch/>
          </p:blipFill>
          <p:spPr>
            <a:xfrm>
              <a:off x="4495680" y="2438280"/>
              <a:ext cx="4032360" cy="304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Group 23"/>
          <p:cNvGrpSpPr/>
          <p:nvPr/>
        </p:nvGrpSpPr>
        <p:grpSpPr>
          <a:xfrm>
            <a:off x="952560" y="3809880"/>
            <a:ext cx="1181160" cy="802800"/>
            <a:chOff x="952560" y="3809880"/>
            <a:chExt cx="1181160" cy="802800"/>
          </a:xfrm>
        </p:grpSpPr>
        <p:sp>
          <p:nvSpPr>
            <p:cNvPr id="708" name="Rectangle 27"/>
            <p:cNvSpPr/>
            <p:nvPr/>
          </p:nvSpPr>
          <p:spPr>
            <a:xfrm>
              <a:off x="1400040" y="3971880"/>
              <a:ext cx="7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Group 57"/>
            <p:cNvGrpSpPr/>
            <p:nvPr/>
          </p:nvGrpSpPr>
          <p:grpSpPr>
            <a:xfrm>
              <a:off x="952560" y="3809880"/>
              <a:ext cx="466560" cy="802800"/>
              <a:chOff x="952560" y="3809880"/>
              <a:chExt cx="466560" cy="802800"/>
            </a:xfrm>
          </p:grpSpPr>
          <p:sp>
            <p:nvSpPr>
              <p:cNvPr id="710" name="Rectangle 27"/>
              <p:cNvSpPr/>
              <p:nvPr/>
            </p:nvSpPr>
            <p:spPr>
              <a:xfrm>
                <a:off x="961920" y="3809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27"/>
              <p:cNvSpPr/>
              <p:nvPr/>
            </p:nvSpPr>
            <p:spPr>
              <a:xfrm>
                <a:off x="961920" y="4152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Straight Connector 22"/>
              <p:cNvSpPr/>
              <p:nvPr/>
            </p:nvSpPr>
            <p:spPr>
              <a:xfrm>
                <a:off x="952560" y="4209840"/>
                <a:ext cx="431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TextBox 23"/>
          <p:cNvSpPr/>
          <p:nvPr/>
        </p:nvSpPr>
        <p:spPr>
          <a:xfrm>
            <a:off x="380880" y="4514760"/>
            <a:ext cx="3810240" cy="1455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olume         Temperature       V /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2.5 (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     250 (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3.5 (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     350 (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4.5 (V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     450 (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)     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53"/>
          <p:cNvGrpSpPr/>
          <p:nvPr/>
        </p:nvGrpSpPr>
        <p:grpSpPr>
          <a:xfrm>
            <a:off x="457200" y="5943600"/>
            <a:ext cx="2013120" cy="920160"/>
            <a:chOff x="457200" y="5943600"/>
            <a:chExt cx="2013120" cy="920160"/>
          </a:xfrm>
        </p:grpSpPr>
        <p:sp>
          <p:nvSpPr>
            <p:cNvPr id="715" name="Rectangle 15"/>
            <p:cNvSpPr/>
            <p:nvPr/>
          </p:nvSpPr>
          <p:spPr>
            <a:xfrm>
              <a:off x="1752840" y="64231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5"/>
            <p:cNvSpPr/>
            <p:nvPr/>
          </p:nvSpPr>
          <p:spPr>
            <a:xfrm>
              <a:off x="457200" y="64180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7"/>
            <p:cNvSpPr/>
            <p:nvPr/>
          </p:nvSpPr>
          <p:spPr>
            <a:xfrm>
              <a:off x="501480" y="5943600"/>
              <a:ext cx="64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Straight Connector 29"/>
            <p:cNvSpPr/>
            <p:nvPr/>
          </p:nvSpPr>
          <p:spPr>
            <a:xfrm>
              <a:off x="468000" y="6432480"/>
              <a:ext cx="5335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8"/>
            <p:cNvSpPr/>
            <p:nvPr/>
          </p:nvSpPr>
          <p:spPr>
            <a:xfrm>
              <a:off x="958680" y="621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8"/>
            <p:cNvSpPr/>
            <p:nvPr/>
          </p:nvSpPr>
          <p:spPr>
            <a:xfrm>
              <a:off x="1187640" y="6216480"/>
              <a:ext cx="793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7"/>
            <p:cNvSpPr/>
            <p:nvPr/>
          </p:nvSpPr>
          <p:spPr>
            <a:xfrm>
              <a:off x="1829160" y="5946480"/>
              <a:ext cx="64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Straight Connector 33"/>
            <p:cNvSpPr/>
            <p:nvPr/>
          </p:nvSpPr>
          <p:spPr>
            <a:xfrm>
              <a:off x="1791000" y="6435720"/>
              <a:ext cx="5335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45"/>
          <p:cNvGrpSpPr/>
          <p:nvPr/>
        </p:nvGrpSpPr>
        <p:grpSpPr>
          <a:xfrm>
            <a:off x="2743200" y="5896080"/>
            <a:ext cx="1905120" cy="941400"/>
            <a:chOff x="2743200" y="5896080"/>
            <a:chExt cx="1905120" cy="941400"/>
          </a:xfrm>
        </p:grpSpPr>
        <p:grpSp>
          <p:nvGrpSpPr>
            <p:cNvPr id="724" name="Group 43"/>
            <p:cNvGrpSpPr/>
            <p:nvPr/>
          </p:nvGrpSpPr>
          <p:grpSpPr>
            <a:xfrm>
              <a:off x="2927880" y="5896080"/>
              <a:ext cx="1568160" cy="919800"/>
              <a:chOff x="2927880" y="5896080"/>
              <a:chExt cx="1568160" cy="919800"/>
            </a:xfrm>
          </p:grpSpPr>
          <p:sp>
            <p:nvSpPr>
              <p:cNvPr id="725" name="Rectangle 15"/>
              <p:cNvSpPr/>
              <p:nvPr/>
            </p:nvSpPr>
            <p:spPr>
              <a:xfrm>
                <a:off x="3841200" y="637524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5"/>
              <p:cNvSpPr/>
              <p:nvPr/>
            </p:nvSpPr>
            <p:spPr>
              <a:xfrm>
                <a:off x="2927880" y="63720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7"/>
              <p:cNvSpPr/>
              <p:nvPr/>
            </p:nvSpPr>
            <p:spPr>
              <a:xfrm>
                <a:off x="2971800" y="5896080"/>
                <a:ext cx="64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Straight Connector 40"/>
              <p:cNvSpPr/>
              <p:nvPr/>
            </p:nvSpPr>
            <p:spPr>
              <a:xfrm>
                <a:off x="2938320" y="6384960"/>
                <a:ext cx="53352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18"/>
              <p:cNvSpPr/>
              <p:nvPr/>
            </p:nvSpPr>
            <p:spPr>
              <a:xfrm>
                <a:off x="3429000" y="61700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=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Rectangle 27"/>
              <p:cNvSpPr/>
              <p:nvPr/>
            </p:nvSpPr>
            <p:spPr>
              <a:xfrm>
                <a:off x="3854160" y="5899320"/>
                <a:ext cx="64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Straight Connector 43"/>
              <p:cNvSpPr/>
              <p:nvPr/>
            </p:nvSpPr>
            <p:spPr>
              <a:xfrm>
                <a:off x="3821400" y="6388200"/>
                <a:ext cx="53352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6"/>
            <p:cNvSpPr/>
            <p:nvPr/>
          </p:nvSpPr>
          <p:spPr>
            <a:xfrm>
              <a:off x="2743200" y="5921280"/>
              <a:ext cx="1905120" cy="91620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2" descr=""/>
          <p:cNvPicPr/>
          <p:nvPr/>
        </p:nvPicPr>
        <p:blipFill>
          <a:blip r:embed="rId2"/>
          <a:stretch/>
        </p:blipFill>
        <p:spPr>
          <a:xfrm>
            <a:off x="7467480" y="4543560"/>
            <a:ext cx="1368720" cy="113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4"/>
          <p:cNvSpPr/>
          <p:nvPr/>
        </p:nvSpPr>
        <p:spPr>
          <a:xfrm>
            <a:off x="228600" y="201600"/>
            <a:ext cx="861048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he quantity-volume-amount relationship: Avogadro’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45960" y="890640"/>
            <a:ext cx="83138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vogadro’s hypothesis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Equal volumes of gases at the same temperature and pressure contain equal numbers of molecu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8"/>
          <p:cNvGrpSpPr/>
          <p:nvPr/>
        </p:nvGrpSpPr>
        <p:grpSpPr>
          <a:xfrm>
            <a:off x="1143000" y="3244680"/>
            <a:ext cx="1108080" cy="429120"/>
            <a:chOff x="1143000" y="3244680"/>
            <a:chExt cx="1108080" cy="429120"/>
          </a:xfrm>
        </p:grpSpPr>
        <p:sp>
          <p:nvSpPr>
            <p:cNvPr id="737" name="Rectangle 13"/>
            <p:cNvSpPr/>
            <p:nvPr/>
          </p:nvSpPr>
          <p:spPr>
            <a:xfrm>
              <a:off x="1143000" y="3244680"/>
              <a:ext cx="692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5"/>
            <p:cNvSpPr/>
            <p:nvPr/>
          </p:nvSpPr>
          <p:spPr>
            <a:xfrm>
              <a:off x="1766160" y="3244680"/>
              <a:ext cx="48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2" descr="Drawing of 3 Gas Collectors with &#10;data.  The gases are oxygen, argon, and nitrogen.  Although the masses &#10;vary (32, 40, and 28 g), the volumes all stay at 22.4 L (the &#10;pressure and temperature are constant at 273K/1 atm)"/>
          <p:cNvPicPr/>
          <p:nvPr/>
        </p:nvPicPr>
        <p:blipFill>
          <a:blip r:embed="rId1"/>
          <a:stretch/>
        </p:blipFill>
        <p:spPr>
          <a:xfrm>
            <a:off x="3657600" y="3429000"/>
            <a:ext cx="4824360" cy="26305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343080" y="1677960"/>
            <a:ext cx="831204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vogadro’s law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he volume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of a gas maintained at constant temperature (T) and pressure (P) is directly proportional to the number of moles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of the g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8"/>
          <p:cNvSpPr/>
          <p:nvPr/>
        </p:nvSpPr>
        <p:spPr>
          <a:xfrm>
            <a:off x="1143000" y="3828960"/>
            <a:ext cx="2666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 = constant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8"/>
          <p:cNvSpPr/>
          <p:nvPr/>
        </p:nvSpPr>
        <p:spPr>
          <a:xfrm>
            <a:off x="1143000" y="4495680"/>
            <a:ext cx="1177920" cy="417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 = k 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4"/>
          <p:cNvSpPr/>
          <p:nvPr/>
        </p:nvSpPr>
        <p:spPr>
          <a:xfrm>
            <a:off x="1926720" y="263520"/>
            <a:ext cx="5511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10.4   The ideal gas e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9"/>
          <p:cNvGrpSpPr/>
          <p:nvPr/>
        </p:nvGrpSpPr>
        <p:grpSpPr>
          <a:xfrm>
            <a:off x="1386000" y="1012680"/>
            <a:ext cx="6234120" cy="832320"/>
            <a:chOff x="1386000" y="1012680"/>
            <a:chExt cx="6234120" cy="832320"/>
          </a:xfrm>
        </p:grpSpPr>
        <p:grpSp>
          <p:nvGrpSpPr>
            <p:cNvPr id="745" name="Group 18"/>
            <p:cNvGrpSpPr/>
            <p:nvPr/>
          </p:nvGrpSpPr>
          <p:grpSpPr>
            <a:xfrm>
              <a:off x="3186720" y="1012680"/>
              <a:ext cx="1177560" cy="832320"/>
              <a:chOff x="3186720" y="1012680"/>
              <a:chExt cx="1177560" cy="832320"/>
            </a:xfrm>
          </p:grpSpPr>
          <p:sp>
            <p:nvSpPr>
              <p:cNvPr id="746" name="Rectangle 13"/>
              <p:cNvSpPr/>
              <p:nvPr/>
            </p:nvSpPr>
            <p:spPr>
              <a:xfrm>
                <a:off x="3186720" y="1218240"/>
                <a:ext cx="692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14"/>
              <p:cNvSpPr/>
              <p:nvPr/>
            </p:nvSpPr>
            <p:spPr>
              <a:xfrm>
                <a:off x="3879360" y="1012680"/>
                <a:ext cx="484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5"/>
              <p:cNvSpPr/>
              <p:nvPr/>
            </p:nvSpPr>
            <p:spPr>
              <a:xfrm>
                <a:off x="3879360" y="1415880"/>
                <a:ext cx="484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Straight Connector 17"/>
              <p:cNvSpPr/>
              <p:nvPr/>
            </p:nvSpPr>
            <p:spPr>
              <a:xfrm>
                <a:off x="3809880" y="1419120"/>
                <a:ext cx="48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Rectangle 32"/>
            <p:cNvSpPr/>
            <p:nvPr/>
          </p:nvSpPr>
          <p:spPr>
            <a:xfrm>
              <a:off x="1386000" y="1179000"/>
              <a:ext cx="1939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oyle’s law 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2"/>
            <p:cNvSpPr/>
            <p:nvPr/>
          </p:nvSpPr>
          <p:spPr>
            <a:xfrm>
              <a:off x="4572000" y="1179360"/>
              <a:ext cx="3048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7f7f7f"/>
                  </a:solidFill>
                  <a:latin typeface="Arial"/>
                </a:rPr>
                <a:t>(constant  n, T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32"/>
          <p:cNvGrpSpPr/>
          <p:nvPr/>
        </p:nvGrpSpPr>
        <p:grpSpPr>
          <a:xfrm>
            <a:off x="1246320" y="1819440"/>
            <a:ext cx="6235560" cy="468000"/>
            <a:chOff x="1246320" y="1819440"/>
            <a:chExt cx="6235560" cy="468000"/>
          </a:xfrm>
        </p:grpSpPr>
        <p:sp>
          <p:nvSpPr>
            <p:cNvPr id="753" name="Rectangle 13"/>
            <p:cNvSpPr/>
            <p:nvPr/>
          </p:nvSpPr>
          <p:spPr>
            <a:xfrm>
              <a:off x="3186360" y="1858320"/>
              <a:ext cx="110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  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1246320" y="1819440"/>
              <a:ext cx="2078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hales’s law 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32"/>
            <p:cNvSpPr/>
            <p:nvPr/>
          </p:nvSpPr>
          <p:spPr>
            <a:xfrm>
              <a:off x="4434120" y="1819440"/>
              <a:ext cx="304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7f7f7f"/>
                  </a:solidFill>
                  <a:latin typeface="Arial"/>
                </a:rPr>
                <a:t>(constant   n, P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33"/>
          <p:cNvGrpSpPr/>
          <p:nvPr/>
        </p:nvGrpSpPr>
        <p:grpSpPr>
          <a:xfrm>
            <a:off x="900000" y="2424240"/>
            <a:ext cx="6581880" cy="469440"/>
            <a:chOff x="900000" y="2424240"/>
            <a:chExt cx="6581880" cy="469440"/>
          </a:xfrm>
        </p:grpSpPr>
        <p:sp>
          <p:nvSpPr>
            <p:cNvPr id="757" name="Rectangle 13"/>
            <p:cNvSpPr/>
            <p:nvPr/>
          </p:nvSpPr>
          <p:spPr>
            <a:xfrm>
              <a:off x="3186360" y="2464560"/>
              <a:ext cx="110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 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32"/>
            <p:cNvSpPr/>
            <p:nvPr/>
          </p:nvSpPr>
          <p:spPr>
            <a:xfrm>
              <a:off x="900000" y="2424240"/>
              <a:ext cx="2424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vogadro’s law 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32"/>
            <p:cNvSpPr/>
            <p:nvPr/>
          </p:nvSpPr>
          <p:spPr>
            <a:xfrm>
              <a:off x="4433760" y="2424240"/>
              <a:ext cx="3048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7f7f7f"/>
                  </a:solidFill>
                  <a:latin typeface="Arial"/>
                </a:rPr>
                <a:t>(constant   P,  T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38"/>
          <p:cNvGrpSpPr/>
          <p:nvPr/>
        </p:nvGrpSpPr>
        <p:grpSpPr>
          <a:xfrm>
            <a:off x="914400" y="2922480"/>
            <a:ext cx="5334120" cy="1250640"/>
            <a:chOff x="914400" y="2922480"/>
            <a:chExt cx="5334120" cy="1250640"/>
          </a:xfrm>
        </p:grpSpPr>
        <p:sp>
          <p:nvSpPr>
            <p:cNvPr id="761" name="Rectangle 15"/>
            <p:cNvSpPr/>
            <p:nvPr/>
          </p:nvSpPr>
          <p:spPr>
            <a:xfrm>
              <a:off x="3623040" y="3698280"/>
              <a:ext cx="48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Group 34"/>
            <p:cNvGrpSpPr/>
            <p:nvPr/>
          </p:nvGrpSpPr>
          <p:grpSpPr>
            <a:xfrm>
              <a:off x="914400" y="2922480"/>
              <a:ext cx="5334120" cy="1053360"/>
              <a:chOff x="914400" y="2922480"/>
              <a:chExt cx="5334120" cy="1053360"/>
            </a:xfrm>
          </p:grpSpPr>
          <p:sp>
            <p:nvSpPr>
              <p:cNvPr id="763" name="Rectangle 32"/>
              <p:cNvSpPr/>
              <p:nvPr/>
            </p:nvSpPr>
            <p:spPr>
              <a:xfrm>
                <a:off x="914400" y="2922480"/>
                <a:ext cx="5334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130bb5"/>
                    </a:solidFill>
                    <a:latin typeface="Arial"/>
                  </a:rPr>
                  <a:t>Combine all the three to form a sing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13"/>
              <p:cNvSpPr/>
              <p:nvPr/>
            </p:nvSpPr>
            <p:spPr>
              <a:xfrm>
                <a:off x="2791800" y="3501000"/>
                <a:ext cx="8312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r>
                  <a:rPr b="1" lang="en-US" sz="2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</a:t>
                </a:r>
                <a:r>
                  <a:rPr b="1" i="1" lang="en-US" sz="2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14"/>
              <p:cNvSpPr/>
              <p:nvPr/>
            </p:nvSpPr>
            <p:spPr>
              <a:xfrm>
                <a:off x="3623040" y="3295080"/>
                <a:ext cx="7617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Arial"/>
                  </a:rPr>
                  <a:t>nT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Straight Connector 50"/>
              <p:cNvSpPr/>
              <p:nvPr/>
            </p:nvSpPr>
            <p:spPr>
              <a:xfrm>
                <a:off x="3554640" y="3702240"/>
                <a:ext cx="484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7" name="Group 36"/>
          <p:cNvGrpSpPr/>
          <p:nvPr/>
        </p:nvGrpSpPr>
        <p:grpSpPr>
          <a:xfrm>
            <a:off x="920880" y="4038480"/>
            <a:ext cx="7689600" cy="1375920"/>
            <a:chOff x="920880" y="4038480"/>
            <a:chExt cx="7689600" cy="1375920"/>
          </a:xfrm>
        </p:grpSpPr>
        <p:sp>
          <p:nvSpPr>
            <p:cNvPr id="768" name="Rectangle 51"/>
            <p:cNvSpPr/>
            <p:nvPr/>
          </p:nvSpPr>
          <p:spPr>
            <a:xfrm>
              <a:off x="920880" y="4038480"/>
              <a:ext cx="768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130bb5"/>
                  </a:solidFill>
                  <a:latin typeface="Arial"/>
                </a:rPr>
                <a:t>If the proportionality constant is called "R", then it become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3"/>
            <p:cNvSpPr/>
            <p:nvPr/>
          </p:nvSpPr>
          <p:spPr>
            <a:xfrm>
              <a:off x="2929680" y="4742280"/>
              <a:ext cx="1038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V = R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4"/>
            <p:cNvSpPr/>
            <p:nvPr/>
          </p:nvSpPr>
          <p:spPr>
            <a:xfrm>
              <a:off x="4038120" y="4536360"/>
              <a:ext cx="761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nT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5"/>
            <p:cNvSpPr/>
            <p:nvPr/>
          </p:nvSpPr>
          <p:spPr>
            <a:xfrm>
              <a:off x="4038120" y="4939560"/>
              <a:ext cx="48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Straight Connector 55"/>
            <p:cNvSpPr/>
            <p:nvPr/>
          </p:nvSpPr>
          <p:spPr>
            <a:xfrm>
              <a:off x="3968640" y="4942080"/>
              <a:ext cx="485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eft Bracket 57"/>
            <p:cNvSpPr/>
            <p:nvPr/>
          </p:nvSpPr>
          <p:spPr>
            <a:xfrm>
              <a:off x="3941640" y="4568760"/>
              <a:ext cx="69840" cy="67140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2520 h 671400"/>
                <a:gd name="textAreaBottom" fmla="*/ 668880 h 6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1"/>
                    <a:pt x="0" y="182"/>
                  </a:cubicBezTo>
                  <a:lnTo>
                    <a:pt x="0" y="21418"/>
                  </a:lnTo>
                  <a:cubicBezTo>
                    <a:pt x="0" y="21509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ight Bracket 59"/>
            <p:cNvSpPr/>
            <p:nvPr/>
          </p:nvSpPr>
          <p:spPr>
            <a:xfrm>
              <a:off x="4592520" y="4539960"/>
              <a:ext cx="69840" cy="673200"/>
            </a:xfrm>
            <a:custGeom>
              <a:avLst/>
              <a:gdLst>
                <a:gd name="textAreaLeft" fmla="*/ 0 w 69840"/>
                <a:gd name="textAreaRight" fmla="*/ 48960 w 69840"/>
                <a:gd name="textAreaTop" fmla="*/ 2520 h 673200"/>
                <a:gd name="textAreaBottom" fmla="*/ 670680 h 6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1"/>
                    <a:pt x="21600" y="181"/>
                  </a:cubicBezTo>
                  <a:lnTo>
                    <a:pt x="21600" y="21419"/>
                  </a:lnTo>
                  <a:cubicBezTo>
                    <a:pt x="21600" y="215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37"/>
          <p:cNvGrpSpPr/>
          <p:nvPr/>
        </p:nvGrpSpPr>
        <p:grpSpPr>
          <a:xfrm>
            <a:off x="942840" y="5513400"/>
            <a:ext cx="4667400" cy="1140480"/>
            <a:chOff x="942840" y="5513400"/>
            <a:chExt cx="4667400" cy="1140480"/>
          </a:xfrm>
        </p:grpSpPr>
        <p:sp>
          <p:nvSpPr>
            <p:cNvPr id="776" name="Rectangle 62"/>
            <p:cNvSpPr/>
            <p:nvPr/>
          </p:nvSpPr>
          <p:spPr>
            <a:xfrm>
              <a:off x="942840" y="5513400"/>
              <a:ext cx="466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130bb5"/>
                  </a:solidFill>
                  <a:latin typeface="Arial"/>
                </a:rPr>
                <a:t>Rearranging to a more familiar form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3"/>
            <p:cNvSpPr/>
            <p:nvPr/>
          </p:nvSpPr>
          <p:spPr>
            <a:xfrm>
              <a:off x="2743200" y="6118200"/>
              <a:ext cx="2223720" cy="53568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Arial"/>
                </a:rPr>
                <a:t>PV = nRT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51"/>
          <p:cNvSpPr/>
          <p:nvPr/>
        </p:nvSpPr>
        <p:spPr>
          <a:xfrm>
            <a:off x="5340240" y="6172200"/>
            <a:ext cx="266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deal gas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Box 36"/>
          <p:cNvSpPr/>
          <p:nvPr/>
        </p:nvSpPr>
        <p:spPr>
          <a:xfrm>
            <a:off x="345960" y="304920"/>
            <a:ext cx="83822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08080" indent="-208080" algn="just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"ideal gas" is one whose physical behavior is accurately described by the ideal-gas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7"/>
          <p:cNvSpPr/>
          <p:nvPr/>
        </p:nvSpPr>
        <p:spPr>
          <a:xfrm>
            <a:off x="345960" y="1219320"/>
            <a:ext cx="6027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08080" indent="-208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stant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R is called the gas const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8"/>
          <p:cNvSpPr/>
          <p:nvPr/>
        </p:nvSpPr>
        <p:spPr>
          <a:xfrm>
            <a:off x="345960" y="1828800"/>
            <a:ext cx="544536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The value and units of R depend on the units used in determining P, V, n and 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9"/>
          <p:cNvSpPr/>
          <p:nvPr/>
        </p:nvSpPr>
        <p:spPr>
          <a:xfrm>
            <a:off x="345960" y="3279600"/>
            <a:ext cx="83138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Temperature, T, must always be expressed on an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kelvin temperature scale (K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0"/>
          <p:cNvSpPr/>
          <p:nvPr/>
        </p:nvSpPr>
        <p:spPr>
          <a:xfrm>
            <a:off x="345960" y="4151160"/>
            <a:ext cx="7828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The quantity of gas, n, is normally expressed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in mo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1"/>
          <p:cNvSpPr/>
          <p:nvPr/>
        </p:nvSpPr>
        <p:spPr>
          <a:xfrm>
            <a:off x="345960" y="4692600"/>
            <a:ext cx="82440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The units chosen for pressure and volume are typically atmospheres (atm) and liters (l), however, other units may be cho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1"/>
          <p:cNvSpPr/>
          <p:nvPr/>
        </p:nvSpPr>
        <p:spPr>
          <a:xfrm>
            <a:off x="345960" y="5869080"/>
            <a:ext cx="81885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208080" indent="-20808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273 K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(0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C) and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1 at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MS PGothic"/>
              </a:rPr>
              <a:t>are called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MS PGothic"/>
              </a:rPr>
              <a:t>standard temperature and pressure (ST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9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31244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13"/>
          <p:cNvSpPr/>
          <p:nvPr/>
        </p:nvSpPr>
        <p:spPr>
          <a:xfrm>
            <a:off x="247680" y="336600"/>
            <a:ext cx="85215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 If a particular tennis ball has a volume of 144 c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contains 0.33 g of N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hat is the pressure inside the ball at 24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3"/>
          <p:cNvSpPr/>
          <p:nvPr/>
        </p:nvSpPr>
        <p:spPr>
          <a:xfrm>
            <a:off x="2071800" y="5867280"/>
            <a:ext cx="1204920" cy="41760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2 atm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72"/>
          <p:cNvGrpSpPr/>
          <p:nvPr/>
        </p:nvGrpSpPr>
        <p:grpSpPr>
          <a:xfrm>
            <a:off x="609480" y="1752480"/>
            <a:ext cx="3276720" cy="1031040"/>
            <a:chOff x="609480" y="1752480"/>
            <a:chExt cx="3276720" cy="1031040"/>
          </a:xfrm>
        </p:grpSpPr>
        <p:sp>
          <p:nvSpPr>
            <p:cNvPr id="790" name="Rectangle 13"/>
            <p:cNvSpPr/>
            <p:nvPr/>
          </p:nvSpPr>
          <p:spPr>
            <a:xfrm>
              <a:off x="1200960" y="2115720"/>
              <a:ext cx="1039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100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3"/>
            <p:cNvSpPr/>
            <p:nvPr/>
          </p:nvSpPr>
          <p:spPr>
            <a:xfrm>
              <a:off x="1122480" y="1752480"/>
              <a:ext cx="1544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144 cm</a:t>
              </a:r>
              <a:r>
                <a:rPr b="0" lang="en-US" sz="2500" spc="-1" strike="noStrike" baseline="30000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26"/>
            <p:cNvSpPr/>
            <p:nvPr/>
          </p:nvSpPr>
          <p:spPr>
            <a:xfrm>
              <a:off x="1123560" y="2155680"/>
              <a:ext cx="129528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3"/>
            <p:cNvSpPr/>
            <p:nvPr/>
          </p:nvSpPr>
          <p:spPr>
            <a:xfrm>
              <a:off x="2379240" y="1927800"/>
              <a:ext cx="15069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0.144 L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>
              <a:off x="609480" y="1922400"/>
              <a:ext cx="623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V=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76"/>
          <p:cNvGrpSpPr/>
          <p:nvPr/>
        </p:nvGrpSpPr>
        <p:grpSpPr>
          <a:xfrm>
            <a:off x="658800" y="4809960"/>
            <a:ext cx="1708200" cy="850320"/>
            <a:chOff x="658800" y="4809960"/>
            <a:chExt cx="1708200" cy="850320"/>
          </a:xfrm>
        </p:grpSpPr>
        <p:sp>
          <p:nvSpPr>
            <p:cNvPr id="796" name="Rectangle 13"/>
            <p:cNvSpPr/>
            <p:nvPr/>
          </p:nvSpPr>
          <p:spPr>
            <a:xfrm>
              <a:off x="1342080" y="5231160"/>
              <a:ext cx="54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Group 70"/>
            <p:cNvGrpSpPr/>
            <p:nvPr/>
          </p:nvGrpSpPr>
          <p:grpSpPr>
            <a:xfrm>
              <a:off x="658800" y="4809960"/>
              <a:ext cx="1708200" cy="649800"/>
              <a:chOff x="658800" y="4809960"/>
              <a:chExt cx="1708200" cy="649800"/>
            </a:xfrm>
          </p:grpSpPr>
          <p:sp>
            <p:nvSpPr>
              <p:cNvPr id="798" name="Rectangle 13"/>
              <p:cNvSpPr/>
              <p:nvPr/>
            </p:nvSpPr>
            <p:spPr>
              <a:xfrm>
                <a:off x="658800" y="5030640"/>
                <a:ext cx="76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P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13"/>
              <p:cNvSpPr/>
              <p:nvPr/>
            </p:nvSpPr>
            <p:spPr>
              <a:xfrm>
                <a:off x="1287000" y="4809960"/>
                <a:ext cx="1080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nR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Straight Connector 33"/>
              <p:cNvSpPr/>
              <p:nvPr/>
            </p:nvSpPr>
            <p:spPr>
              <a:xfrm>
                <a:off x="1282680" y="5257800"/>
                <a:ext cx="692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Group 75"/>
          <p:cNvGrpSpPr/>
          <p:nvPr/>
        </p:nvGrpSpPr>
        <p:grpSpPr>
          <a:xfrm>
            <a:off x="2043000" y="4849920"/>
            <a:ext cx="6720120" cy="862920"/>
            <a:chOff x="2043000" y="4849920"/>
            <a:chExt cx="6720120" cy="862920"/>
          </a:xfrm>
        </p:grpSpPr>
        <p:sp>
          <p:nvSpPr>
            <p:cNvPr id="802" name="Rectangle 13"/>
            <p:cNvSpPr/>
            <p:nvPr/>
          </p:nvSpPr>
          <p:spPr>
            <a:xfrm>
              <a:off x="2043000" y="5039280"/>
              <a:ext cx="48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Group 71"/>
            <p:cNvGrpSpPr/>
            <p:nvPr/>
          </p:nvGrpSpPr>
          <p:grpSpPr>
            <a:xfrm>
              <a:off x="2208240" y="4849920"/>
              <a:ext cx="6554880" cy="862920"/>
              <a:chOff x="2208240" y="4849920"/>
              <a:chExt cx="6554880" cy="862920"/>
            </a:xfrm>
          </p:grpSpPr>
          <p:sp>
            <p:nvSpPr>
              <p:cNvPr id="804" name="Rectangle 13"/>
              <p:cNvSpPr/>
              <p:nvPr/>
            </p:nvSpPr>
            <p:spPr>
              <a:xfrm>
                <a:off x="7238880" y="4868280"/>
                <a:ext cx="1524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297 K)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36"/>
              <p:cNvSpPr/>
              <p:nvPr/>
            </p:nvSpPr>
            <p:spPr>
              <a:xfrm>
                <a:off x="4176360" y="5283720"/>
                <a:ext cx="1940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 0.144 </a:t>
                </a:r>
                <a:r>
                  <a:rPr b="0" lang="en-US" sz="2200" spc="-1" strike="noStrike">
                    <a:solidFill>
                      <a:srgbClr val="0070c0"/>
                    </a:solidFill>
                    <a:latin typeface="Arial"/>
                  </a:rPr>
                  <a:t>L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Straight Connector 37"/>
              <p:cNvSpPr/>
              <p:nvPr/>
            </p:nvSpPr>
            <p:spPr>
              <a:xfrm>
                <a:off x="2388600" y="5289480"/>
                <a:ext cx="619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13"/>
              <p:cNvSpPr/>
              <p:nvPr/>
            </p:nvSpPr>
            <p:spPr>
              <a:xfrm>
                <a:off x="2208240" y="4849920"/>
                <a:ext cx="2134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0.0118 mol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39"/>
              <p:cNvSpPr/>
              <p:nvPr/>
            </p:nvSpPr>
            <p:spPr>
              <a:xfrm>
                <a:off x="3774960" y="4849920"/>
                <a:ext cx="4018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 0.08206 L.atm / </a:t>
                </a:r>
                <a:r>
                  <a:rPr b="0" lang="en-US" sz="2200" spc="-1" strike="noStrike">
                    <a:solidFill>
                      <a:srgbClr val="0070c0"/>
                    </a:solidFill>
                    <a:latin typeface="Arial"/>
                  </a:rPr>
                  <a:t>K. mo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Group 40"/>
          <p:cNvGrpSpPr/>
          <p:nvPr/>
        </p:nvGrpSpPr>
        <p:grpSpPr>
          <a:xfrm>
            <a:off x="5111640" y="4960800"/>
            <a:ext cx="500040" cy="650880"/>
            <a:chOff x="5111640" y="4960800"/>
            <a:chExt cx="500040" cy="650880"/>
          </a:xfrm>
        </p:grpSpPr>
        <p:sp>
          <p:nvSpPr>
            <p:cNvPr id="810" name="Straight Connector 41"/>
            <p:cNvSpPr/>
            <p:nvPr/>
          </p:nvSpPr>
          <p:spPr>
            <a:xfrm flipH="1">
              <a:off x="5333760" y="4960800"/>
              <a:ext cx="277920" cy="2523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Straight Connector 42"/>
            <p:cNvSpPr/>
            <p:nvPr/>
          </p:nvSpPr>
          <p:spPr>
            <a:xfrm flipH="1">
              <a:off x="5111640" y="5359320"/>
              <a:ext cx="277920" cy="2523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3"/>
          <p:cNvGrpSpPr/>
          <p:nvPr/>
        </p:nvGrpSpPr>
        <p:grpSpPr>
          <a:xfrm>
            <a:off x="3414240" y="4869000"/>
            <a:ext cx="3699000" cy="425160"/>
            <a:chOff x="3414240" y="4869000"/>
            <a:chExt cx="3699000" cy="425160"/>
          </a:xfrm>
        </p:grpSpPr>
        <p:sp>
          <p:nvSpPr>
            <p:cNvPr id="813" name="Straight Connector 44"/>
            <p:cNvSpPr/>
            <p:nvPr/>
          </p:nvSpPr>
          <p:spPr>
            <a:xfrm flipH="1">
              <a:off x="3414240" y="4869000"/>
              <a:ext cx="277560" cy="4032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Straight Connector 45"/>
            <p:cNvSpPr/>
            <p:nvPr/>
          </p:nvSpPr>
          <p:spPr>
            <a:xfrm flipH="1">
              <a:off x="6835680" y="4890960"/>
              <a:ext cx="277560" cy="40320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46"/>
          <p:cNvGrpSpPr/>
          <p:nvPr/>
        </p:nvGrpSpPr>
        <p:grpSpPr>
          <a:xfrm>
            <a:off x="6327360" y="4946760"/>
            <a:ext cx="2054160" cy="311040"/>
            <a:chOff x="6327360" y="4946760"/>
            <a:chExt cx="2054160" cy="311040"/>
          </a:xfrm>
        </p:grpSpPr>
        <p:sp>
          <p:nvSpPr>
            <p:cNvPr id="816" name="Straight Connector 47"/>
            <p:cNvSpPr/>
            <p:nvPr/>
          </p:nvSpPr>
          <p:spPr>
            <a:xfrm flipH="1">
              <a:off x="8105400" y="5005440"/>
              <a:ext cx="276120" cy="2523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Straight Connector 48"/>
            <p:cNvSpPr/>
            <p:nvPr/>
          </p:nvSpPr>
          <p:spPr>
            <a:xfrm flipH="1">
              <a:off x="6327360" y="4946760"/>
              <a:ext cx="276120" cy="2523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74"/>
          <p:cNvGrpSpPr/>
          <p:nvPr/>
        </p:nvGrpSpPr>
        <p:grpSpPr>
          <a:xfrm>
            <a:off x="1933200" y="2871720"/>
            <a:ext cx="2134080" cy="521640"/>
            <a:chOff x="1933200" y="2871720"/>
            <a:chExt cx="2134080" cy="521640"/>
          </a:xfrm>
        </p:grpSpPr>
        <p:sp>
          <p:nvSpPr>
            <p:cNvPr id="819" name="Straight Connector 76"/>
            <p:cNvSpPr/>
            <p:nvPr/>
          </p:nvSpPr>
          <p:spPr>
            <a:xfrm flipH="1">
              <a:off x="1933200" y="2871720"/>
              <a:ext cx="514440" cy="2383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Straight Connector 77"/>
            <p:cNvSpPr/>
            <p:nvPr/>
          </p:nvSpPr>
          <p:spPr>
            <a:xfrm flipH="1">
              <a:off x="3571920" y="3080520"/>
              <a:ext cx="495360" cy="3128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77"/>
          <p:cNvGrpSpPr/>
          <p:nvPr/>
        </p:nvGrpSpPr>
        <p:grpSpPr>
          <a:xfrm>
            <a:off x="581040" y="2562120"/>
            <a:ext cx="4238640" cy="943920"/>
            <a:chOff x="581040" y="2562120"/>
            <a:chExt cx="4238640" cy="943920"/>
          </a:xfrm>
        </p:grpSpPr>
        <p:grpSp>
          <p:nvGrpSpPr>
            <p:cNvPr id="822" name="Group 69"/>
            <p:cNvGrpSpPr/>
            <p:nvPr/>
          </p:nvGrpSpPr>
          <p:grpSpPr>
            <a:xfrm>
              <a:off x="581040" y="2562120"/>
              <a:ext cx="4238640" cy="943920"/>
              <a:chOff x="581040" y="2562120"/>
              <a:chExt cx="4238640" cy="943920"/>
            </a:xfrm>
          </p:grpSpPr>
          <p:sp>
            <p:nvSpPr>
              <p:cNvPr id="823" name="Rectangle 13"/>
              <p:cNvSpPr/>
              <p:nvPr/>
            </p:nvSpPr>
            <p:spPr>
              <a:xfrm>
                <a:off x="581040" y="2750400"/>
                <a:ext cx="2562840" cy="52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00ff"/>
                    </a:solidFill>
                    <a:latin typeface="Arial"/>
                  </a:rPr>
                  <a:t>n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= 0.33 g N</a:t>
                </a:r>
                <a:r>
                  <a:rPr b="0" lang="en-US" sz="25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i="1" lang="en-US" sz="25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Rectangle 13"/>
              <p:cNvSpPr/>
              <p:nvPr/>
            </p:nvSpPr>
            <p:spPr>
              <a:xfrm>
                <a:off x="2880360" y="2562120"/>
                <a:ext cx="1939320" cy="52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1 mol N</a:t>
                </a:r>
                <a:r>
                  <a:rPr b="0" lang="en-US" sz="25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13"/>
              <p:cNvSpPr/>
              <p:nvPr/>
            </p:nvSpPr>
            <p:spPr>
              <a:xfrm>
                <a:off x="3072240" y="2978640"/>
                <a:ext cx="1490760" cy="52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28 g N</a:t>
                </a:r>
                <a:r>
                  <a:rPr b="0" lang="en-US" sz="25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Straight Connector 66"/>
            <p:cNvSpPr/>
            <p:nvPr/>
          </p:nvSpPr>
          <p:spPr>
            <a:xfrm>
              <a:off x="2968560" y="3002040"/>
              <a:ext cx="136836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Rectangle 13"/>
          <p:cNvSpPr/>
          <p:nvPr/>
        </p:nvSpPr>
        <p:spPr>
          <a:xfrm>
            <a:off x="4352760" y="2766960"/>
            <a:ext cx="213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0.0118 mo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3"/>
          <p:cNvSpPr/>
          <p:nvPr/>
        </p:nvSpPr>
        <p:spPr>
          <a:xfrm>
            <a:off x="581040" y="3505320"/>
            <a:ext cx="3182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T = 24 +273 =297 K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3"/>
          <p:cNvSpPr/>
          <p:nvPr/>
        </p:nvSpPr>
        <p:spPr>
          <a:xfrm>
            <a:off x="588960" y="4143240"/>
            <a:ext cx="405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R = 0.08206 L-atom/mol-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3"/>
          <p:cNvSpPr/>
          <p:nvPr/>
        </p:nvSpPr>
        <p:spPr>
          <a:xfrm>
            <a:off x="4724280" y="4114800"/>
            <a:ext cx="106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P =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13"/>
          <p:cNvSpPr/>
          <p:nvPr/>
        </p:nvSpPr>
        <p:spPr>
          <a:xfrm>
            <a:off x="2798640" y="1001880"/>
            <a:ext cx="180036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PV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 nR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49"/>
          <p:cNvGrpSpPr/>
          <p:nvPr/>
        </p:nvGrpSpPr>
        <p:grpSpPr>
          <a:xfrm>
            <a:off x="3016080" y="1643040"/>
            <a:ext cx="1524240" cy="911880"/>
            <a:chOff x="3016080" y="1643040"/>
            <a:chExt cx="1524240" cy="911880"/>
          </a:xfrm>
        </p:grpSpPr>
        <p:sp>
          <p:nvSpPr>
            <p:cNvPr id="833" name="Rectangle 13"/>
            <p:cNvSpPr/>
            <p:nvPr/>
          </p:nvSpPr>
          <p:spPr>
            <a:xfrm>
              <a:off x="3016080" y="1864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R </a:t>
              </a: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3"/>
            <p:cNvSpPr/>
            <p:nvPr/>
          </p:nvSpPr>
          <p:spPr>
            <a:xfrm>
              <a:off x="3778200" y="164304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P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3"/>
            <p:cNvSpPr/>
            <p:nvPr/>
          </p:nvSpPr>
          <p:spPr>
            <a:xfrm>
              <a:off x="3764160" y="206496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n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Straight Connector 7"/>
            <p:cNvSpPr/>
            <p:nvPr/>
          </p:nvSpPr>
          <p:spPr>
            <a:xfrm>
              <a:off x="3773520" y="2092320"/>
              <a:ext cx="6937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50"/>
          <p:cNvGrpSpPr/>
          <p:nvPr/>
        </p:nvGrpSpPr>
        <p:grpSpPr>
          <a:xfrm>
            <a:off x="2436840" y="2730600"/>
            <a:ext cx="2894040" cy="979920"/>
            <a:chOff x="2436840" y="2730600"/>
            <a:chExt cx="2894040" cy="979920"/>
          </a:xfrm>
        </p:grpSpPr>
        <p:sp>
          <p:nvSpPr>
            <p:cNvPr id="838" name="Rectangle 13"/>
            <p:cNvSpPr/>
            <p:nvPr/>
          </p:nvSpPr>
          <p:spPr>
            <a:xfrm>
              <a:off x="3338280" y="2951280"/>
              <a:ext cx="103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 R </a:t>
              </a: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3"/>
            <p:cNvSpPr/>
            <p:nvPr/>
          </p:nvSpPr>
          <p:spPr>
            <a:xfrm>
              <a:off x="2450880" y="2744280"/>
              <a:ext cx="8863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3"/>
            <p:cNvSpPr/>
            <p:nvPr/>
          </p:nvSpPr>
          <p:spPr>
            <a:xfrm>
              <a:off x="2436840" y="3165840"/>
              <a:ext cx="969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Straight Connector 11"/>
            <p:cNvSpPr/>
            <p:nvPr/>
          </p:nvSpPr>
          <p:spPr>
            <a:xfrm>
              <a:off x="2446200" y="3219480"/>
              <a:ext cx="79200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"/>
            <p:cNvSpPr/>
            <p:nvPr/>
          </p:nvSpPr>
          <p:spPr>
            <a:xfrm>
              <a:off x="4375440" y="2730600"/>
              <a:ext cx="8863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"/>
            <p:cNvSpPr/>
            <p:nvPr/>
          </p:nvSpPr>
          <p:spPr>
            <a:xfrm>
              <a:off x="4361040" y="3152160"/>
              <a:ext cx="969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i="1" lang="en-US" sz="26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Straight Connector 14"/>
            <p:cNvSpPr/>
            <p:nvPr/>
          </p:nvSpPr>
          <p:spPr>
            <a:xfrm>
              <a:off x="4370400" y="3205080"/>
              <a:ext cx="8287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Rectangle 13"/>
          <p:cNvSpPr/>
          <p:nvPr/>
        </p:nvSpPr>
        <p:spPr>
          <a:xfrm>
            <a:off x="914400" y="3846600"/>
            <a:ext cx="6719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Usually amount of gas does not change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, n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 = n</a:t>
            </a:r>
            <a:r>
              <a:rPr b="0" i="1" lang="en-US" sz="22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51"/>
          <p:cNvGrpSpPr/>
          <p:nvPr/>
        </p:nvGrpSpPr>
        <p:grpSpPr>
          <a:xfrm>
            <a:off x="2154240" y="4782960"/>
            <a:ext cx="2631960" cy="1045440"/>
            <a:chOff x="2154240" y="4782960"/>
            <a:chExt cx="2631960" cy="1045440"/>
          </a:xfrm>
        </p:grpSpPr>
        <p:sp>
          <p:nvSpPr>
            <p:cNvPr id="847" name="Rectangle 13"/>
            <p:cNvSpPr/>
            <p:nvPr/>
          </p:nvSpPr>
          <p:spPr>
            <a:xfrm>
              <a:off x="3193200" y="5051880"/>
              <a:ext cx="103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3"/>
            <p:cNvSpPr/>
            <p:nvPr/>
          </p:nvSpPr>
          <p:spPr>
            <a:xfrm>
              <a:off x="2305440" y="4806360"/>
              <a:ext cx="9982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3"/>
            <p:cNvSpPr/>
            <p:nvPr/>
          </p:nvSpPr>
          <p:spPr>
            <a:xfrm>
              <a:off x="2499120" y="5266080"/>
              <a:ext cx="624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Straight Connector 19"/>
            <p:cNvSpPr/>
            <p:nvPr/>
          </p:nvSpPr>
          <p:spPr>
            <a:xfrm>
              <a:off x="2358720" y="5319720"/>
              <a:ext cx="82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13"/>
            <p:cNvSpPr/>
            <p:nvPr/>
          </p:nvSpPr>
          <p:spPr>
            <a:xfrm>
              <a:off x="3682800" y="4802400"/>
              <a:ext cx="10688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21"/>
            <p:cNvSpPr/>
            <p:nvPr/>
          </p:nvSpPr>
          <p:spPr>
            <a:xfrm>
              <a:off x="3807360" y="5252400"/>
              <a:ext cx="639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Straight Connector 22"/>
            <p:cNvSpPr/>
            <p:nvPr/>
          </p:nvSpPr>
          <p:spPr>
            <a:xfrm>
              <a:off x="3735360" y="5305320"/>
              <a:ext cx="86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3"/>
            <p:cNvSpPr/>
            <p:nvPr/>
          </p:nvSpPr>
          <p:spPr>
            <a:xfrm>
              <a:off x="2154240" y="4782960"/>
              <a:ext cx="2631960" cy="100836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3"/>
          <p:cNvSpPr/>
          <p:nvPr/>
        </p:nvSpPr>
        <p:spPr>
          <a:xfrm>
            <a:off x="1066680" y="380880"/>
            <a:ext cx="72392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Relating the ideal-gas equation and the gas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3"/>
          <p:cNvSpPr/>
          <p:nvPr/>
        </p:nvSpPr>
        <p:spPr>
          <a:xfrm>
            <a:off x="5029200" y="502920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ombined ga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3"/>
          <p:cNvSpPr/>
          <p:nvPr/>
        </p:nvSpPr>
        <p:spPr>
          <a:xfrm>
            <a:off x="247680" y="336600"/>
            <a:ext cx="852156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 1: A gas initially at 4.0 L, 1.2 atm, and 66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undergoes a change so that its final volume and temperature become 1.7 L and 42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. What is its final pressure ? Assume the number of moles remains unchang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43"/>
          <p:cNvGrpSpPr/>
          <p:nvPr/>
        </p:nvGrpSpPr>
        <p:grpSpPr>
          <a:xfrm>
            <a:off x="762120" y="2468520"/>
            <a:ext cx="2286000" cy="963000"/>
            <a:chOff x="762120" y="2468520"/>
            <a:chExt cx="2286000" cy="963000"/>
          </a:xfrm>
        </p:grpSpPr>
        <p:sp>
          <p:nvSpPr>
            <p:cNvPr id="859" name="Rectangle 13"/>
            <p:cNvSpPr/>
            <p:nvPr/>
          </p:nvSpPr>
          <p:spPr>
            <a:xfrm>
              <a:off x="1662840" y="2689560"/>
              <a:ext cx="1039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13"/>
            <p:cNvSpPr/>
            <p:nvPr/>
          </p:nvSpPr>
          <p:spPr>
            <a:xfrm>
              <a:off x="762120" y="2487600"/>
              <a:ext cx="886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3"/>
            <p:cNvSpPr/>
            <p:nvPr/>
          </p:nvSpPr>
          <p:spPr>
            <a:xfrm>
              <a:off x="968760" y="2904120"/>
              <a:ext cx="6246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Straight Connector 9"/>
            <p:cNvSpPr/>
            <p:nvPr/>
          </p:nvSpPr>
          <p:spPr>
            <a:xfrm>
              <a:off x="826920" y="2957400"/>
              <a:ext cx="79200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3"/>
            <p:cNvSpPr/>
            <p:nvPr/>
          </p:nvSpPr>
          <p:spPr>
            <a:xfrm>
              <a:off x="2152800" y="2468520"/>
              <a:ext cx="886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1"/>
            <p:cNvSpPr/>
            <p:nvPr/>
          </p:nvSpPr>
          <p:spPr>
            <a:xfrm>
              <a:off x="2277000" y="2890440"/>
              <a:ext cx="6400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Straight Connector 12"/>
            <p:cNvSpPr/>
            <p:nvPr/>
          </p:nvSpPr>
          <p:spPr>
            <a:xfrm>
              <a:off x="2219400" y="2944800"/>
              <a:ext cx="8287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44"/>
          <p:cNvGrpSpPr/>
          <p:nvPr/>
        </p:nvGrpSpPr>
        <p:grpSpPr>
          <a:xfrm>
            <a:off x="3325680" y="2421000"/>
            <a:ext cx="3048120" cy="1482120"/>
            <a:chOff x="3325680" y="2421000"/>
            <a:chExt cx="3048120" cy="1482120"/>
          </a:xfrm>
        </p:grpSpPr>
        <p:sp>
          <p:nvSpPr>
            <p:cNvPr id="867" name="Rectangle 13"/>
            <p:cNvSpPr/>
            <p:nvPr/>
          </p:nvSpPr>
          <p:spPr>
            <a:xfrm>
              <a:off x="3810600" y="2421000"/>
              <a:ext cx="20091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1.2 at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3"/>
            <p:cNvSpPr/>
            <p:nvPr/>
          </p:nvSpPr>
          <p:spPr>
            <a:xfrm>
              <a:off x="3810600" y="2958840"/>
              <a:ext cx="20091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4.0 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3"/>
            <p:cNvSpPr/>
            <p:nvPr/>
          </p:nvSpPr>
          <p:spPr>
            <a:xfrm>
              <a:off x="3325680" y="3375720"/>
              <a:ext cx="30481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66+273 =339 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45"/>
          <p:cNvGrpSpPr/>
          <p:nvPr/>
        </p:nvGrpSpPr>
        <p:grpSpPr>
          <a:xfrm>
            <a:off x="5958000" y="2487600"/>
            <a:ext cx="3047760" cy="998280"/>
            <a:chOff x="5958000" y="2487600"/>
            <a:chExt cx="3047760" cy="998280"/>
          </a:xfrm>
        </p:grpSpPr>
        <p:sp>
          <p:nvSpPr>
            <p:cNvPr id="871" name="Rectangle 13"/>
            <p:cNvSpPr/>
            <p:nvPr/>
          </p:nvSpPr>
          <p:spPr>
            <a:xfrm>
              <a:off x="6165720" y="2487600"/>
              <a:ext cx="20088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1.7 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3"/>
            <p:cNvSpPr/>
            <p:nvPr/>
          </p:nvSpPr>
          <p:spPr>
            <a:xfrm>
              <a:off x="5958000" y="2958480"/>
              <a:ext cx="30477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42+273 =315 K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Rectangle 13"/>
          <p:cNvSpPr/>
          <p:nvPr/>
        </p:nvSpPr>
        <p:spPr>
          <a:xfrm>
            <a:off x="6373800" y="3630600"/>
            <a:ext cx="2008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en-US" sz="25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i="1" lang="en-US" sz="25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? a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6"/>
          <p:cNvGrpSpPr/>
          <p:nvPr/>
        </p:nvGrpSpPr>
        <p:grpSpPr>
          <a:xfrm>
            <a:off x="627120" y="4505400"/>
            <a:ext cx="2074680" cy="998280"/>
            <a:chOff x="627120" y="4505400"/>
            <a:chExt cx="2074680" cy="998280"/>
          </a:xfrm>
        </p:grpSpPr>
        <p:sp>
          <p:nvSpPr>
            <p:cNvPr id="875" name="Rectangle 13"/>
            <p:cNvSpPr/>
            <p:nvPr/>
          </p:nvSpPr>
          <p:spPr>
            <a:xfrm>
              <a:off x="981720" y="4720680"/>
              <a:ext cx="48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3"/>
            <p:cNvSpPr/>
            <p:nvPr/>
          </p:nvSpPr>
          <p:spPr>
            <a:xfrm>
              <a:off x="1454040" y="4505400"/>
              <a:ext cx="12477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3"/>
            <p:cNvSpPr/>
            <p:nvPr/>
          </p:nvSpPr>
          <p:spPr>
            <a:xfrm>
              <a:off x="1523520" y="4976280"/>
              <a:ext cx="10396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Straight Connector 23"/>
            <p:cNvSpPr/>
            <p:nvPr/>
          </p:nvSpPr>
          <p:spPr>
            <a:xfrm>
              <a:off x="1454040" y="4975200"/>
              <a:ext cx="116352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627120" y="4680720"/>
              <a:ext cx="6192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48"/>
          <p:cNvGrpSpPr/>
          <p:nvPr/>
        </p:nvGrpSpPr>
        <p:grpSpPr>
          <a:xfrm>
            <a:off x="2548080" y="4505400"/>
            <a:ext cx="4227480" cy="917640"/>
            <a:chOff x="2548080" y="4505400"/>
            <a:chExt cx="4227480" cy="917640"/>
          </a:xfrm>
        </p:grpSpPr>
        <p:grpSp>
          <p:nvGrpSpPr>
            <p:cNvPr id="881" name="Group 47"/>
            <p:cNvGrpSpPr/>
            <p:nvPr/>
          </p:nvGrpSpPr>
          <p:grpSpPr>
            <a:xfrm>
              <a:off x="2964960" y="4505400"/>
              <a:ext cx="3810600" cy="917640"/>
              <a:chOff x="2964960" y="4505400"/>
              <a:chExt cx="3810600" cy="917640"/>
            </a:xfrm>
          </p:grpSpPr>
          <p:sp>
            <p:nvSpPr>
              <p:cNvPr id="882" name="Rectangle 13"/>
              <p:cNvSpPr/>
              <p:nvPr/>
            </p:nvSpPr>
            <p:spPr>
              <a:xfrm>
                <a:off x="2964960" y="4505400"/>
                <a:ext cx="3810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1.2 atm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4.0 L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 315 K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Straight Connector 28"/>
              <p:cNvSpPr/>
              <p:nvPr/>
            </p:nvSpPr>
            <p:spPr>
              <a:xfrm>
                <a:off x="3035160" y="4975200"/>
                <a:ext cx="34084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13"/>
              <p:cNvSpPr/>
              <p:nvPr/>
            </p:nvSpPr>
            <p:spPr>
              <a:xfrm>
                <a:off x="3727080" y="4948200"/>
                <a:ext cx="21477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339 K 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500" spc="-1" strike="noStrike">
                    <a:solidFill>
                      <a:srgbClr val="0000ff"/>
                    </a:solidFill>
                    <a:latin typeface="Arial"/>
                  </a:rPr>
                  <a:t> 1.7 L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Rectangle 13"/>
            <p:cNvSpPr/>
            <p:nvPr/>
          </p:nvSpPr>
          <p:spPr>
            <a:xfrm>
              <a:off x="2548080" y="4775040"/>
              <a:ext cx="48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40"/>
          <p:cNvGrpSpPr/>
          <p:nvPr/>
        </p:nvGrpSpPr>
        <p:grpSpPr>
          <a:xfrm>
            <a:off x="4363560" y="4572000"/>
            <a:ext cx="2148120" cy="806400"/>
            <a:chOff x="4363560" y="4572000"/>
            <a:chExt cx="2148120" cy="806400"/>
          </a:xfrm>
        </p:grpSpPr>
        <p:sp>
          <p:nvSpPr>
            <p:cNvPr id="887" name="Straight Connector 36"/>
            <p:cNvSpPr/>
            <p:nvPr/>
          </p:nvSpPr>
          <p:spPr>
            <a:xfrm flipH="1">
              <a:off x="6165720" y="4572000"/>
              <a:ext cx="34596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Straight Connector 37"/>
            <p:cNvSpPr/>
            <p:nvPr/>
          </p:nvSpPr>
          <p:spPr>
            <a:xfrm flipH="1">
              <a:off x="4363560" y="5041800"/>
              <a:ext cx="34596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39"/>
          <p:cNvGrpSpPr/>
          <p:nvPr/>
        </p:nvGrpSpPr>
        <p:grpSpPr>
          <a:xfrm>
            <a:off x="4917600" y="4572000"/>
            <a:ext cx="900360" cy="806400"/>
            <a:chOff x="4917600" y="4572000"/>
            <a:chExt cx="900360" cy="806400"/>
          </a:xfrm>
        </p:grpSpPr>
        <p:sp>
          <p:nvSpPr>
            <p:cNvPr id="890" name="Straight Connector 35"/>
            <p:cNvSpPr/>
            <p:nvPr/>
          </p:nvSpPr>
          <p:spPr>
            <a:xfrm flipH="1">
              <a:off x="4917600" y="4572000"/>
              <a:ext cx="34596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Straight Connector 38"/>
            <p:cNvSpPr/>
            <p:nvPr/>
          </p:nvSpPr>
          <p:spPr>
            <a:xfrm flipH="1">
              <a:off x="5472000" y="5041800"/>
              <a:ext cx="34596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13"/>
          <p:cNvSpPr/>
          <p:nvPr/>
        </p:nvSpPr>
        <p:spPr>
          <a:xfrm>
            <a:off x="2563920" y="5703840"/>
            <a:ext cx="1869840" cy="46332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= 2.62 atm</a:t>
            </a:r>
            <a:r>
              <a:rPr b="0" i="1" lang="en-U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hp</cp:lastModifiedBy>
  <dcterms:modified xsi:type="dcterms:W3CDTF">2010-11-02T04:55:20Z</dcterms:modified>
  <cp:revision>814</cp:revision>
  <dc:subject/>
  <dc:title>Chapter 1 Introduction: Matter and Measurement</dc:title>
</cp:coreProperties>
</file>