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148-0F67-4275-8859-959E4CEC9C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6DF-33C3-4D48-AED3-CD883B561B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931-66FF-4968-A4CB-BD317829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457-1ADB-4083-9E4F-9377E03C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39C-1A40-4EC1-A3A5-FCAE9751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C07-B9E9-481A-B75C-0E3C4412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90A0-B1CA-46C1-B840-0882A292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CA00-BD1B-489A-A016-6252997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026-749A-489B-B1BD-AC4C8BFE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6742-5BA0-4C13-87F3-1E6C653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0B86-DE75-4AAB-AC05-F2274235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5D0A-E5E8-449D-AAFD-991359F4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13C-B044-4DF8-B02B-88FD3D7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DD0-EF6D-4F89-8048-E60F00A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B038-8378-4A2F-A7CB-35A422A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9CD0-82E1-4440-A1D2-7C81101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DB10-0058-4555-A166-1FB12654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062-9974-49F2-B699-09E725B5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9D46-B1D7-4333-BF84-2A38D15D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014-009D-4EDF-AC04-B86876F5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FD9-9860-4332-8EF3-2A49D21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A53-8901-4E6D-98B6-3EEE8228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94D-277B-4497-84C1-7A31463D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74C-FA42-402A-8024-952ECCB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0B7-1390-45C6-94F6-F5E2A87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8C7-92FE-46D7-B779-8BB7845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4D0-A33C-4FE7-8513-91EDC5B85F3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F56-4F75-454B-B949-28967D3F4D5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aculty.ksu.edu.sa/geography-alsaleh/default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قمار الصناعية الأتوماتيك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52480" y="1600200"/>
            <a:ext cx="743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جيل الثاني من الأقمار الصناعية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في برنامج لاندس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1919" t="0" r="0" b="0"/>
          <a:stretch/>
        </p:blipFill>
        <p:spPr>
          <a:xfrm>
            <a:off x="25560" y="1809720"/>
            <a:ext cx="9082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192240"/>
            <a:ext cx="9183600" cy="65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-47520" y="304920"/>
            <a:ext cx="919152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جهزة الاستشعار عن بعد المحمولة على الأقمار الصناعية في برنامج لاندسات الأمريك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91375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اسح متعدد الأطي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طاقات الماسح متعدد الأطي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57200" y="1692360"/>
            <a:ext cx="82296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أجهزة الاستشعار عن بعد المحمولة على الأقمار الصناعية في الجيل الثاني من برنامج لاندسات الأمريك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57200" y="2166840"/>
            <a:ext cx="82296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اسح الموضو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rcRect l="1952" t="0" r="0" b="0"/>
          <a:stretch/>
        </p:blipFill>
        <p:spPr>
          <a:xfrm>
            <a:off x="-15840" y="1066680"/>
            <a:ext cx="91598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طاقات الماسح الموضو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3092" t="0" r="0" b="0"/>
          <a:stretch/>
        </p:blipFill>
        <p:spPr>
          <a:xfrm>
            <a:off x="147600" y="811080"/>
            <a:ext cx="86155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اسح الموضوعي المحسن بإضاف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58880" y="1600200"/>
            <a:ext cx="762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7"/>
          <p:cNvGrpSpPr/>
          <p:nvPr/>
        </p:nvGrpSpPr>
        <p:grpSpPr>
          <a:xfrm>
            <a:off x="-152280" y="152280"/>
            <a:ext cx="9296280" cy="6521400"/>
            <a:chOff x="-152280" y="152280"/>
            <a:chExt cx="9296280" cy="6521400"/>
          </a:xfrm>
        </p:grpSpPr>
        <p:pic>
          <p:nvPicPr>
            <p:cNvPr id="92" name="Picture 4" descr="3"/>
            <p:cNvPicPr/>
            <p:nvPr/>
          </p:nvPicPr>
          <p:blipFill>
            <a:blip r:embed="rId1"/>
            <a:srcRect l="0" t="19412" r="3441" b="52356"/>
            <a:stretch/>
          </p:blipFill>
          <p:spPr>
            <a:xfrm>
              <a:off x="0" y="2990520"/>
              <a:ext cx="9144000" cy="368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-152280" y="152280"/>
              <a:ext cx="9163080" cy="309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نطاقات الماسح الموضوعي المحسن بإضاف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439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39960" y="228600"/>
            <a:ext cx="83563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aculty.ksu.edu.sa/geography-alsaleh/default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Calibri"/>
              </a:rPr>
              <a:t>برامج الأقمار الصناعية  الأتوماتيكية لجمع المعلومات عن الموارد الأرضية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-69840" y="1800360"/>
            <a:ext cx="90615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رنامج لاندسات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sat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أمريك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906480" y="1600200"/>
            <a:ext cx="733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جيل الأول من الأقمار الصناعية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في برنامج لاند س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2090880"/>
            <a:ext cx="90518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8"/>
          <p:cNvGrpSpPr/>
          <p:nvPr/>
        </p:nvGrpSpPr>
        <p:grpSpPr>
          <a:xfrm>
            <a:off x="76320" y="-228600"/>
            <a:ext cx="9018360" cy="7010280"/>
            <a:chOff x="76320" y="-228600"/>
            <a:chExt cx="9018360" cy="7010280"/>
          </a:xfrm>
        </p:grpSpPr>
        <p:pic>
          <p:nvPicPr>
            <p:cNvPr id="101" name="Picture 3" descr="1"/>
            <p:cNvPicPr/>
            <p:nvPr/>
          </p:nvPicPr>
          <p:blipFill>
            <a:blip r:embed="rId1"/>
            <a:srcRect l="24971" t="0" r="30121" b="76473"/>
            <a:stretch/>
          </p:blipFill>
          <p:spPr>
            <a:xfrm>
              <a:off x="1449360" y="1860480"/>
              <a:ext cx="6419880" cy="49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"/>
            <p:cNvPicPr/>
            <p:nvPr/>
          </p:nvPicPr>
          <p:blipFill>
            <a:blip r:embed="rId2"/>
            <a:stretch/>
          </p:blipFill>
          <p:spPr>
            <a:xfrm>
              <a:off x="76320" y="-228600"/>
              <a:ext cx="9018360" cy="269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"/>
          <p:cNvGrpSpPr/>
          <p:nvPr/>
        </p:nvGrpSpPr>
        <p:grpSpPr>
          <a:xfrm>
            <a:off x="101520" y="95400"/>
            <a:ext cx="8912160" cy="6761160"/>
            <a:chOff x="101520" y="95400"/>
            <a:chExt cx="8912160" cy="6761160"/>
          </a:xfrm>
        </p:grpSpPr>
        <p:pic>
          <p:nvPicPr>
            <p:cNvPr id="104" name="Picture 3" descr="2"/>
            <p:cNvPicPr/>
            <p:nvPr/>
          </p:nvPicPr>
          <p:blipFill>
            <a:blip r:embed="rId1"/>
            <a:srcRect l="19793" t="0" r="17214" b="70590"/>
            <a:stretch/>
          </p:blipFill>
          <p:spPr>
            <a:xfrm>
              <a:off x="685800" y="1860480"/>
              <a:ext cx="7315200" cy="49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"/>
            <p:cNvPicPr/>
            <p:nvPr/>
          </p:nvPicPr>
          <p:blipFill>
            <a:blip r:embed="rId2"/>
            <a:srcRect l="1960" t="0" r="0" b="0"/>
            <a:stretch/>
          </p:blipFill>
          <p:spPr>
            <a:xfrm>
              <a:off x="101520" y="95400"/>
              <a:ext cx="8912160" cy="188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87480" y="533520"/>
            <a:ext cx="91551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rcRect l="1917" t="0" r="0" b="21974"/>
          <a:stretch/>
        </p:blipFill>
        <p:spPr>
          <a:xfrm>
            <a:off x="25560" y="762120"/>
            <a:ext cx="9127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2:23:13Z</dcterms:created>
  <dc:creator>may</dc:creator>
  <dc:description/>
  <dc:language>en-US</dc:language>
  <cp:lastModifiedBy>Asus</cp:lastModifiedBy>
  <dcterms:modified xsi:type="dcterms:W3CDTF">2013-04-08T02:24:02Z</dcterms:modified>
  <cp:revision>66</cp:revision>
  <dc:subject/>
  <dc:title>الأقمار الصناعية الأتوماتيكية</dc:title>
</cp:coreProperties>
</file>