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52DB-8042-4D7B-A409-4A7274C41C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A024-E63D-4883-BE85-97055F8BA42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5FD-C909-4C2B-BBD5-B7DBBC2C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62E-FACF-4580-97F3-5C6FCD6A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FFB-8F95-45E5-8162-B4312CD9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6175-0DA5-4ED5-BD36-5C85D120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441A-995F-4982-9A9C-80AD4C86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61C6-B80D-4546-9FDA-162792CF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AD0C-21A0-4C63-A97E-B14D129D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A754-8001-4F1A-8A57-957E96B5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C418-DE6F-43E2-A0A0-7A7E9755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F800-6419-4167-A7FA-E1452FC8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5150-CAD3-42F9-B2CF-26731763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C2B-AB72-43BB-BC96-1D82B6C5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02C5-3A04-43FC-9F12-90FD0B72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E898-0997-4148-BCA2-FC4F90C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335B-C4AC-4732-BCAC-2823F809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5C2F-81D3-4DAC-A9E5-2DBAD049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7588-87D7-4072-A126-7A20EB5A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A4AB-D0D2-4FD1-AC1F-5AE5BD19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94E-6813-4CA7-94C5-93A56E82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E4D-1FD5-4FAD-8ED2-A640785E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9AF2-F11C-48B3-B953-D0671938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A417-860F-4878-BAF2-3877D1CE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00B-873F-4DF8-B7A6-9B99F880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606-E2BC-4A5F-A122-1A7C48BC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807A-51F3-474D-A07C-B2CFD49CA2F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A1B6-E6F1-4135-A7BA-A835BE6C302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أقمار الصناعية الأتوماتيك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852480" y="1600200"/>
            <a:ext cx="743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جيل الثاني من الأقمار الصناعية</a:t>
            </a: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في برنامج لاندس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rcRect l="1919" t="0" r="0" b="0"/>
          <a:stretch/>
        </p:blipFill>
        <p:spPr>
          <a:xfrm>
            <a:off x="25560" y="1809720"/>
            <a:ext cx="9082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0" y="192240"/>
            <a:ext cx="9183600" cy="65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-47520" y="304920"/>
            <a:ext cx="919152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جهزة الاستشعار عن بعد المحمولة على الأقمار الصناعية في برنامج لاندسات الأمريك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91375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اسح متعدد الأطي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63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طاقات الماسح متعدد الأطي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457200" y="1692360"/>
            <a:ext cx="82296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أجهزة الاستشعار عن بعد المحمولة على الأقمار الصناعية في الجيل الثاني من برنامج لاندسات الأمريك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457200" y="2166840"/>
            <a:ext cx="822960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اسح الموضوع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rcRect l="1952" t="0" r="0" b="0"/>
          <a:stretch/>
        </p:blipFill>
        <p:spPr>
          <a:xfrm>
            <a:off x="-15840" y="1066680"/>
            <a:ext cx="91598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طاقات الماسح الموضوع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rcRect l="3092" t="0" r="0" b="0"/>
          <a:stretch/>
        </p:blipFill>
        <p:spPr>
          <a:xfrm>
            <a:off x="147600" y="811080"/>
            <a:ext cx="861552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اسح الموضوعي المحسن بإضاف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758880" y="1600200"/>
            <a:ext cx="762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7"/>
          <p:cNvGrpSpPr/>
          <p:nvPr/>
        </p:nvGrpSpPr>
        <p:grpSpPr>
          <a:xfrm>
            <a:off x="-152280" y="152280"/>
            <a:ext cx="9296280" cy="6521400"/>
            <a:chOff x="-152280" y="152280"/>
            <a:chExt cx="9296280" cy="6521400"/>
          </a:xfrm>
        </p:grpSpPr>
        <p:pic>
          <p:nvPicPr>
            <p:cNvPr id="92" name="Picture 4" descr="3"/>
            <p:cNvPicPr/>
            <p:nvPr/>
          </p:nvPicPr>
          <p:blipFill>
            <a:blip r:embed="rId1"/>
            <a:srcRect l="0" t="19412" r="3441" b="52356"/>
            <a:stretch/>
          </p:blipFill>
          <p:spPr>
            <a:xfrm>
              <a:off x="0" y="2990520"/>
              <a:ext cx="9144000" cy="368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6" descr=""/>
            <p:cNvPicPr/>
            <p:nvPr/>
          </p:nvPicPr>
          <p:blipFill>
            <a:blip r:embed="rId2"/>
            <a:stretch/>
          </p:blipFill>
          <p:spPr>
            <a:xfrm>
              <a:off x="-152280" y="152280"/>
              <a:ext cx="9163080" cy="309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نطاقات الماسح الموضوعي المحسن بإضاف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904392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939960" y="228600"/>
            <a:ext cx="835632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رج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faculty.ksu.edu.sa/geography-alsaleh/default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Calibri"/>
              </a:rPr>
              <a:t>برامج الأقمار الصناعية  الأتوماتيكية لجمع المعلومات عن الموارد الأرضية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-69840" y="1800360"/>
            <a:ext cx="90615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برنامج لاندسات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sat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الأمريك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906480" y="1600200"/>
            <a:ext cx="7331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جيل الأول من الأقمار الصناعية</a:t>
            </a: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في برنامج لاند س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0" y="2090880"/>
            <a:ext cx="905184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8"/>
          <p:cNvGrpSpPr/>
          <p:nvPr/>
        </p:nvGrpSpPr>
        <p:grpSpPr>
          <a:xfrm>
            <a:off x="76320" y="-228600"/>
            <a:ext cx="9018360" cy="7010280"/>
            <a:chOff x="76320" y="-228600"/>
            <a:chExt cx="9018360" cy="7010280"/>
          </a:xfrm>
        </p:grpSpPr>
        <p:pic>
          <p:nvPicPr>
            <p:cNvPr id="101" name="Picture 3" descr="1"/>
            <p:cNvPicPr/>
            <p:nvPr/>
          </p:nvPicPr>
          <p:blipFill>
            <a:blip r:embed="rId1"/>
            <a:srcRect l="24971" t="0" r="30121" b="76473"/>
            <a:stretch/>
          </p:blipFill>
          <p:spPr>
            <a:xfrm>
              <a:off x="1449360" y="1860480"/>
              <a:ext cx="6419880" cy="492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7" descr=""/>
            <p:cNvPicPr/>
            <p:nvPr/>
          </p:nvPicPr>
          <p:blipFill>
            <a:blip r:embed="rId2"/>
            <a:stretch/>
          </p:blipFill>
          <p:spPr>
            <a:xfrm>
              <a:off x="76320" y="-228600"/>
              <a:ext cx="9018360" cy="269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6"/>
          <p:cNvGrpSpPr/>
          <p:nvPr/>
        </p:nvGrpSpPr>
        <p:grpSpPr>
          <a:xfrm>
            <a:off x="101520" y="95400"/>
            <a:ext cx="8912160" cy="6761160"/>
            <a:chOff x="101520" y="95400"/>
            <a:chExt cx="8912160" cy="6761160"/>
          </a:xfrm>
        </p:grpSpPr>
        <p:pic>
          <p:nvPicPr>
            <p:cNvPr id="104" name="Picture 3" descr="2"/>
            <p:cNvPicPr/>
            <p:nvPr/>
          </p:nvPicPr>
          <p:blipFill>
            <a:blip r:embed="rId1"/>
            <a:srcRect l="19793" t="0" r="17214" b="70590"/>
            <a:stretch/>
          </p:blipFill>
          <p:spPr>
            <a:xfrm>
              <a:off x="685800" y="1860480"/>
              <a:ext cx="7315200" cy="49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"/>
            <p:cNvPicPr/>
            <p:nvPr/>
          </p:nvPicPr>
          <p:blipFill>
            <a:blip r:embed="rId2"/>
            <a:srcRect l="1960" t="0" r="0" b="0"/>
            <a:stretch/>
          </p:blipFill>
          <p:spPr>
            <a:xfrm>
              <a:off x="101520" y="95400"/>
              <a:ext cx="8912160" cy="188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-87480" y="533520"/>
            <a:ext cx="915516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rcRect l="1917" t="0" r="0" b="21974"/>
          <a:stretch/>
        </p:blipFill>
        <p:spPr>
          <a:xfrm>
            <a:off x="25560" y="762120"/>
            <a:ext cx="91278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2:23:13Z</dcterms:created>
  <dc:creator>may</dc:creator>
  <dc:description/>
  <dc:language>en-US</dc:language>
  <cp:lastModifiedBy>Asus</cp:lastModifiedBy>
  <dcterms:modified xsi:type="dcterms:W3CDTF">2013-04-08T02:24:02Z</dcterms:modified>
  <cp:revision>66</cp:revision>
  <dc:subject/>
  <dc:title>الأقمار الصناعية الأتوماتيكية</dc:title>
</cp:coreProperties>
</file>