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1.png" ContentType="image/png"/>
  <Override PartName="/ppt/media/camera.wav" ContentType="audio/x-wav"/>
  <Override PartName="/ppt/media/image5.wmf" ContentType="image/x-wmf"/>
  <Override PartName="/ppt/media/image6.png" ContentType="image/png"/>
  <Override PartName="/ppt/media/arrow.wav" ContentType="audio/x-wav"/>
  <Override PartName="/ppt/media/image2.jpeg" ContentType="image/jpeg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8.xml.rels" ContentType="application/vnd.openxmlformats-package.relationships+xml"/>
  <Override PartName="/ppt/slides/_rels/slide11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31.xml.rels" ContentType="application/vnd.openxmlformats-package.relationships+xml"/>
  <Override PartName="/ppt/slides/_rels/slide131.xml.rels" ContentType="application/vnd.openxmlformats-package.relationships+xml"/>
  <Override PartName="/ppt/slides/_rels/slide137.xml.rels" ContentType="application/vnd.openxmlformats-package.relationships+xml"/>
  <Override PartName="/ppt/slides/_rels/slide53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54.xml.rels" ContentType="application/vnd.openxmlformats-package.relationships+xml"/>
  <Override PartName="/ppt/slides/_rels/slide132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139.xml.rels" ContentType="application/vnd.openxmlformats-package.relationships+xml"/>
  <Override PartName="/ppt/slides/_rels/slide143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27.xml.rels" ContentType="application/vnd.openxmlformats-package.relationships+xml"/>
  <Override PartName="/ppt/slides/_rels/slide12.xml.rels" ContentType="application/vnd.openxmlformats-package.relationships+xml"/>
  <Override PartName="/ppt/slides/_rels/slide4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2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43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78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2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130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5.xml.rels" ContentType="application/vnd.openxmlformats-package.relationships+xml"/>
  <Override PartName="/ppt/slides/_rels/slide112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6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0.xml" ContentType="application/vnd.openxmlformats-officedocument.presentationml.slide+xml"/>
  <Override PartName="/ppt/slides/slide139.xml" ContentType="application/vnd.openxmlformats-officedocument.presentationml.slide+xml"/>
  <Override PartName="/ppt/slides/slide5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53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128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5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140.xml" ContentType="application/vnd.openxmlformats-officedocument.presentationml.slide+xml"/>
  <Override PartName="/ppt/slides/slide44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37.xml" ContentType="application/vnd.openxmlformats-officedocument.presentationml.slide+xml"/>
  <Override PartName="/ppt/slides/slide138.xml" ContentType="application/vnd.openxmlformats-officedocument.presentationml.slide+xml"/>
  <Override PartName="/ppt/slides/slide50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  <p:sldId id="272" r:id="rId35"/>
    <p:sldId id="273" r:id="rId36"/>
    <p:sldId id="274" r:id="rId37"/>
    <p:sldId id="275" r:id="rId38"/>
    <p:sldId id="276" r:id="rId39"/>
    <p:sldId id="277" r:id="rId40"/>
    <p:sldId id="278" r:id="rId41"/>
    <p:sldId id="279" r:id="rId42"/>
    <p:sldId id="280" r:id="rId43"/>
    <p:sldId id="281" r:id="rId44"/>
    <p:sldId id="282" r:id="rId45"/>
    <p:sldId id="283" r:id="rId46"/>
    <p:sldId id="284" r:id="rId47"/>
    <p:sldId id="285" r:id="rId48"/>
    <p:sldId id="286" r:id="rId49"/>
    <p:sldId id="287" r:id="rId50"/>
    <p:sldId id="288" r:id="rId51"/>
    <p:sldId id="289" r:id="rId52"/>
    <p:sldId id="290" r:id="rId53"/>
    <p:sldId id="291" r:id="rId54"/>
    <p:sldId id="292" r:id="rId55"/>
    <p:sldId id="293" r:id="rId56"/>
    <p:sldId id="294" r:id="rId57"/>
    <p:sldId id="295" r:id="rId58"/>
    <p:sldId id="296" r:id="rId59"/>
    <p:sldId id="297" r:id="rId60"/>
    <p:sldId id="298" r:id="rId61"/>
    <p:sldId id="299" r:id="rId62"/>
    <p:sldId id="300" r:id="rId63"/>
    <p:sldId id="301" r:id="rId64"/>
    <p:sldId id="302" r:id="rId65"/>
    <p:sldId id="303" r:id="rId66"/>
    <p:sldId id="304" r:id="rId67"/>
    <p:sldId id="305" r:id="rId68"/>
    <p:sldId id="306" r:id="rId69"/>
    <p:sldId id="307" r:id="rId70"/>
    <p:sldId id="308" r:id="rId71"/>
    <p:sldId id="309" r:id="rId72"/>
    <p:sldId id="310" r:id="rId73"/>
    <p:sldId id="311" r:id="rId74"/>
    <p:sldId id="312" r:id="rId75"/>
    <p:sldId id="313" r:id="rId76"/>
    <p:sldId id="314" r:id="rId77"/>
    <p:sldId id="315" r:id="rId78"/>
    <p:sldId id="316" r:id="rId79"/>
    <p:sldId id="317" r:id="rId80"/>
    <p:sldId id="318" r:id="rId81"/>
    <p:sldId id="319" r:id="rId82"/>
    <p:sldId id="320" r:id="rId83"/>
    <p:sldId id="321" r:id="rId84"/>
    <p:sldId id="322" r:id="rId85"/>
    <p:sldId id="323" r:id="rId86"/>
    <p:sldId id="324" r:id="rId87"/>
    <p:sldId id="325" r:id="rId88"/>
    <p:sldId id="326" r:id="rId89"/>
    <p:sldId id="327" r:id="rId90"/>
    <p:sldId id="328" r:id="rId91"/>
    <p:sldId id="329" r:id="rId92"/>
    <p:sldId id="330" r:id="rId93"/>
    <p:sldId id="331" r:id="rId94"/>
    <p:sldId id="332" r:id="rId95"/>
    <p:sldId id="333" r:id="rId96"/>
    <p:sldId id="334" r:id="rId97"/>
    <p:sldId id="335" r:id="rId98"/>
    <p:sldId id="336" r:id="rId99"/>
    <p:sldId id="337" r:id="rId100"/>
    <p:sldId id="338" r:id="rId101"/>
    <p:sldId id="339" r:id="rId102"/>
    <p:sldId id="340" r:id="rId103"/>
    <p:sldId id="341" r:id="rId104"/>
    <p:sldId id="342" r:id="rId105"/>
    <p:sldId id="343" r:id="rId106"/>
    <p:sldId id="344" r:id="rId107"/>
    <p:sldId id="345" r:id="rId108"/>
    <p:sldId id="346" r:id="rId109"/>
    <p:sldId id="347" r:id="rId110"/>
    <p:sldId id="348" r:id="rId111"/>
    <p:sldId id="349" r:id="rId112"/>
    <p:sldId id="350" r:id="rId113"/>
    <p:sldId id="351" r:id="rId114"/>
    <p:sldId id="352" r:id="rId115"/>
    <p:sldId id="353" r:id="rId116"/>
    <p:sldId id="354" r:id="rId117"/>
    <p:sldId id="355" r:id="rId118"/>
    <p:sldId id="356" r:id="rId119"/>
    <p:sldId id="357" r:id="rId120"/>
    <p:sldId id="358" r:id="rId121"/>
    <p:sldId id="359" r:id="rId122"/>
    <p:sldId id="360" r:id="rId123"/>
    <p:sldId id="361" r:id="rId124"/>
    <p:sldId id="362" r:id="rId125"/>
    <p:sldId id="363" r:id="rId126"/>
    <p:sldId id="364" r:id="rId127"/>
    <p:sldId id="365" r:id="rId128"/>
    <p:sldId id="366" r:id="rId129"/>
    <p:sldId id="367" r:id="rId130"/>
    <p:sldId id="368" r:id="rId131"/>
    <p:sldId id="369" r:id="rId132"/>
    <p:sldId id="370" r:id="rId133"/>
    <p:sldId id="371" r:id="rId134"/>
    <p:sldId id="372" r:id="rId135"/>
    <p:sldId id="373" r:id="rId136"/>
    <p:sldId id="374" r:id="rId137"/>
    <p:sldId id="375" r:id="rId138"/>
    <p:sldId id="376" r:id="rId139"/>
    <p:sldId id="377" r:id="rId140"/>
    <p:sldId id="378" r:id="rId141"/>
    <p:sldId id="379" r:id="rId142"/>
    <p:sldId id="380" r:id="rId143"/>
    <p:sldId id="381" r:id="rId144"/>
    <p:sldId id="382" r:id="rId145"/>
    <p:sldId id="383" r:id="rId146"/>
    <p:sldId id="384" r:id="rId147"/>
    <p:sldId id="385" r:id="rId148"/>
    <p:sldId id="386" r:id="rId149"/>
    <p:sldId id="387" r:id="rId150"/>
    <p:sldId id="388" r:id="rId151"/>
    <p:sldId id="389" r:id="rId152"/>
    <p:sldId id="390" r:id="rId153"/>
    <p:sldId id="391" r:id="rId154"/>
    <p:sldId id="392" r:id="rId155"/>
    <p:sldId id="393" r:id="rId156"/>
    <p:sldId id="394" r:id="rId157"/>
    <p:sldId id="395" r:id="rId158"/>
    <p:sldId id="396" r:id="rId159"/>
    <p:sldId id="397" r:id="rId160"/>
    <p:sldId id="398" r:id="rId1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slide" Target="slides/slide17.xml"/><Relationship Id="rId36" Type="http://schemas.openxmlformats.org/officeDocument/2006/relationships/slide" Target="slides/slide18.xml"/><Relationship Id="rId37" Type="http://schemas.openxmlformats.org/officeDocument/2006/relationships/slide" Target="slides/slide19.xml"/><Relationship Id="rId38" Type="http://schemas.openxmlformats.org/officeDocument/2006/relationships/slide" Target="slides/slide20.xml"/><Relationship Id="rId39" Type="http://schemas.openxmlformats.org/officeDocument/2006/relationships/slide" Target="slides/slide21.xml"/><Relationship Id="rId40" Type="http://schemas.openxmlformats.org/officeDocument/2006/relationships/slide" Target="slides/slide22.xml"/><Relationship Id="rId41" Type="http://schemas.openxmlformats.org/officeDocument/2006/relationships/slide" Target="slides/slide23.xml"/><Relationship Id="rId42" Type="http://schemas.openxmlformats.org/officeDocument/2006/relationships/slide" Target="slides/slide24.xml"/><Relationship Id="rId43" Type="http://schemas.openxmlformats.org/officeDocument/2006/relationships/slide" Target="slides/slide25.xml"/><Relationship Id="rId44" Type="http://schemas.openxmlformats.org/officeDocument/2006/relationships/slide" Target="slides/slide26.xml"/><Relationship Id="rId45" Type="http://schemas.openxmlformats.org/officeDocument/2006/relationships/slide" Target="slides/slide27.xml"/><Relationship Id="rId46" Type="http://schemas.openxmlformats.org/officeDocument/2006/relationships/slide" Target="slides/slide28.xml"/><Relationship Id="rId47" Type="http://schemas.openxmlformats.org/officeDocument/2006/relationships/slide" Target="slides/slide29.xml"/><Relationship Id="rId48" Type="http://schemas.openxmlformats.org/officeDocument/2006/relationships/slide" Target="slides/slide30.xml"/><Relationship Id="rId49" Type="http://schemas.openxmlformats.org/officeDocument/2006/relationships/slide" Target="slides/slide31.xml"/><Relationship Id="rId50" Type="http://schemas.openxmlformats.org/officeDocument/2006/relationships/slide" Target="slides/slide32.xml"/><Relationship Id="rId51" Type="http://schemas.openxmlformats.org/officeDocument/2006/relationships/slide" Target="slides/slide33.xml"/><Relationship Id="rId52" Type="http://schemas.openxmlformats.org/officeDocument/2006/relationships/slide" Target="slides/slide34.xml"/><Relationship Id="rId53" Type="http://schemas.openxmlformats.org/officeDocument/2006/relationships/slide" Target="slides/slide35.xml"/><Relationship Id="rId54" Type="http://schemas.openxmlformats.org/officeDocument/2006/relationships/slide" Target="slides/slide36.xml"/><Relationship Id="rId55" Type="http://schemas.openxmlformats.org/officeDocument/2006/relationships/slide" Target="slides/slide37.xml"/><Relationship Id="rId56" Type="http://schemas.openxmlformats.org/officeDocument/2006/relationships/slide" Target="slides/slide38.xml"/><Relationship Id="rId57" Type="http://schemas.openxmlformats.org/officeDocument/2006/relationships/slide" Target="slides/slide39.xml"/><Relationship Id="rId58" Type="http://schemas.openxmlformats.org/officeDocument/2006/relationships/slide" Target="slides/slide40.xml"/><Relationship Id="rId59" Type="http://schemas.openxmlformats.org/officeDocument/2006/relationships/slide" Target="slides/slide41.xml"/><Relationship Id="rId60" Type="http://schemas.openxmlformats.org/officeDocument/2006/relationships/slide" Target="slides/slide42.xml"/><Relationship Id="rId61" Type="http://schemas.openxmlformats.org/officeDocument/2006/relationships/slide" Target="slides/slide43.xml"/><Relationship Id="rId62" Type="http://schemas.openxmlformats.org/officeDocument/2006/relationships/slide" Target="slides/slide44.xml"/><Relationship Id="rId63" Type="http://schemas.openxmlformats.org/officeDocument/2006/relationships/slide" Target="slides/slide45.xml"/><Relationship Id="rId64" Type="http://schemas.openxmlformats.org/officeDocument/2006/relationships/slide" Target="slides/slide46.xml"/><Relationship Id="rId65" Type="http://schemas.openxmlformats.org/officeDocument/2006/relationships/slide" Target="slides/slide47.xml"/><Relationship Id="rId66" Type="http://schemas.openxmlformats.org/officeDocument/2006/relationships/slide" Target="slides/slide48.xml"/><Relationship Id="rId67" Type="http://schemas.openxmlformats.org/officeDocument/2006/relationships/slide" Target="slides/slide49.xml"/><Relationship Id="rId68" Type="http://schemas.openxmlformats.org/officeDocument/2006/relationships/slide" Target="slides/slide50.xml"/><Relationship Id="rId69" Type="http://schemas.openxmlformats.org/officeDocument/2006/relationships/slide" Target="slides/slide51.xml"/><Relationship Id="rId70" Type="http://schemas.openxmlformats.org/officeDocument/2006/relationships/slide" Target="slides/slide52.xml"/><Relationship Id="rId71" Type="http://schemas.openxmlformats.org/officeDocument/2006/relationships/slide" Target="slides/slide53.xml"/><Relationship Id="rId72" Type="http://schemas.openxmlformats.org/officeDocument/2006/relationships/slide" Target="slides/slide54.xml"/><Relationship Id="rId73" Type="http://schemas.openxmlformats.org/officeDocument/2006/relationships/slide" Target="slides/slide55.xml"/><Relationship Id="rId74" Type="http://schemas.openxmlformats.org/officeDocument/2006/relationships/slide" Target="slides/slide56.xml"/><Relationship Id="rId75" Type="http://schemas.openxmlformats.org/officeDocument/2006/relationships/slide" Target="slides/slide57.xml"/><Relationship Id="rId76" Type="http://schemas.openxmlformats.org/officeDocument/2006/relationships/slide" Target="slides/slide58.xml"/><Relationship Id="rId77" Type="http://schemas.openxmlformats.org/officeDocument/2006/relationships/slide" Target="slides/slide59.xml"/><Relationship Id="rId78" Type="http://schemas.openxmlformats.org/officeDocument/2006/relationships/slide" Target="slides/slide60.xml"/><Relationship Id="rId79" Type="http://schemas.openxmlformats.org/officeDocument/2006/relationships/slide" Target="slides/slide61.xml"/><Relationship Id="rId80" Type="http://schemas.openxmlformats.org/officeDocument/2006/relationships/slide" Target="slides/slide62.xml"/><Relationship Id="rId81" Type="http://schemas.openxmlformats.org/officeDocument/2006/relationships/slide" Target="slides/slide63.xml"/><Relationship Id="rId82" Type="http://schemas.openxmlformats.org/officeDocument/2006/relationships/slide" Target="slides/slide64.xml"/><Relationship Id="rId83" Type="http://schemas.openxmlformats.org/officeDocument/2006/relationships/slide" Target="slides/slide65.xml"/><Relationship Id="rId84" Type="http://schemas.openxmlformats.org/officeDocument/2006/relationships/slide" Target="slides/slide66.xml"/><Relationship Id="rId85" Type="http://schemas.openxmlformats.org/officeDocument/2006/relationships/slide" Target="slides/slide67.xml"/><Relationship Id="rId86" Type="http://schemas.openxmlformats.org/officeDocument/2006/relationships/slide" Target="slides/slide68.xml"/><Relationship Id="rId87" Type="http://schemas.openxmlformats.org/officeDocument/2006/relationships/slide" Target="slides/slide69.xml"/><Relationship Id="rId88" Type="http://schemas.openxmlformats.org/officeDocument/2006/relationships/slide" Target="slides/slide70.xml"/><Relationship Id="rId89" Type="http://schemas.openxmlformats.org/officeDocument/2006/relationships/slide" Target="slides/slide71.xml"/><Relationship Id="rId90" Type="http://schemas.openxmlformats.org/officeDocument/2006/relationships/slide" Target="slides/slide72.xml"/><Relationship Id="rId91" Type="http://schemas.openxmlformats.org/officeDocument/2006/relationships/slide" Target="slides/slide73.xml"/><Relationship Id="rId92" Type="http://schemas.openxmlformats.org/officeDocument/2006/relationships/slide" Target="slides/slide74.xml"/><Relationship Id="rId93" Type="http://schemas.openxmlformats.org/officeDocument/2006/relationships/slide" Target="slides/slide75.xml"/><Relationship Id="rId94" Type="http://schemas.openxmlformats.org/officeDocument/2006/relationships/slide" Target="slides/slide76.xml"/><Relationship Id="rId95" Type="http://schemas.openxmlformats.org/officeDocument/2006/relationships/slide" Target="slides/slide77.xml"/><Relationship Id="rId96" Type="http://schemas.openxmlformats.org/officeDocument/2006/relationships/slide" Target="slides/slide78.xml"/><Relationship Id="rId97" Type="http://schemas.openxmlformats.org/officeDocument/2006/relationships/slide" Target="slides/slide79.xml"/><Relationship Id="rId98" Type="http://schemas.openxmlformats.org/officeDocument/2006/relationships/slide" Target="slides/slide80.xml"/><Relationship Id="rId99" Type="http://schemas.openxmlformats.org/officeDocument/2006/relationships/slide" Target="slides/slide81.xml"/><Relationship Id="rId100" Type="http://schemas.openxmlformats.org/officeDocument/2006/relationships/slide" Target="slides/slide82.xml"/><Relationship Id="rId101" Type="http://schemas.openxmlformats.org/officeDocument/2006/relationships/slide" Target="slides/slide83.xml"/><Relationship Id="rId102" Type="http://schemas.openxmlformats.org/officeDocument/2006/relationships/slide" Target="slides/slide84.xml"/><Relationship Id="rId103" Type="http://schemas.openxmlformats.org/officeDocument/2006/relationships/slide" Target="slides/slide85.xml"/><Relationship Id="rId104" Type="http://schemas.openxmlformats.org/officeDocument/2006/relationships/slide" Target="slides/slide86.xml"/><Relationship Id="rId105" Type="http://schemas.openxmlformats.org/officeDocument/2006/relationships/slide" Target="slides/slide87.xml"/><Relationship Id="rId106" Type="http://schemas.openxmlformats.org/officeDocument/2006/relationships/slide" Target="slides/slide88.xml"/><Relationship Id="rId107" Type="http://schemas.openxmlformats.org/officeDocument/2006/relationships/slide" Target="slides/slide89.xml"/><Relationship Id="rId108" Type="http://schemas.openxmlformats.org/officeDocument/2006/relationships/slide" Target="slides/slide90.xml"/><Relationship Id="rId109" Type="http://schemas.openxmlformats.org/officeDocument/2006/relationships/slide" Target="slides/slide91.xml"/><Relationship Id="rId110" Type="http://schemas.openxmlformats.org/officeDocument/2006/relationships/slide" Target="slides/slide92.xml"/><Relationship Id="rId111" Type="http://schemas.openxmlformats.org/officeDocument/2006/relationships/slide" Target="slides/slide93.xml"/><Relationship Id="rId112" Type="http://schemas.openxmlformats.org/officeDocument/2006/relationships/slide" Target="slides/slide94.xml"/><Relationship Id="rId113" Type="http://schemas.openxmlformats.org/officeDocument/2006/relationships/slide" Target="slides/slide95.xml"/><Relationship Id="rId114" Type="http://schemas.openxmlformats.org/officeDocument/2006/relationships/slide" Target="slides/slide96.xml"/><Relationship Id="rId115" Type="http://schemas.openxmlformats.org/officeDocument/2006/relationships/slide" Target="slides/slide97.xml"/><Relationship Id="rId116" Type="http://schemas.openxmlformats.org/officeDocument/2006/relationships/slide" Target="slides/slide98.xml"/><Relationship Id="rId117" Type="http://schemas.openxmlformats.org/officeDocument/2006/relationships/slide" Target="slides/slide99.xml"/><Relationship Id="rId118" Type="http://schemas.openxmlformats.org/officeDocument/2006/relationships/slide" Target="slides/slide100.xml"/><Relationship Id="rId119" Type="http://schemas.openxmlformats.org/officeDocument/2006/relationships/slide" Target="slides/slide101.xml"/><Relationship Id="rId120" Type="http://schemas.openxmlformats.org/officeDocument/2006/relationships/slide" Target="slides/slide102.xml"/><Relationship Id="rId121" Type="http://schemas.openxmlformats.org/officeDocument/2006/relationships/slide" Target="slides/slide103.xml"/><Relationship Id="rId122" Type="http://schemas.openxmlformats.org/officeDocument/2006/relationships/slide" Target="slides/slide104.xml"/><Relationship Id="rId123" Type="http://schemas.openxmlformats.org/officeDocument/2006/relationships/slide" Target="slides/slide105.xml"/><Relationship Id="rId124" Type="http://schemas.openxmlformats.org/officeDocument/2006/relationships/slide" Target="slides/slide106.xml"/><Relationship Id="rId125" Type="http://schemas.openxmlformats.org/officeDocument/2006/relationships/slide" Target="slides/slide107.xml"/><Relationship Id="rId126" Type="http://schemas.openxmlformats.org/officeDocument/2006/relationships/slide" Target="slides/slide108.xml"/><Relationship Id="rId127" Type="http://schemas.openxmlformats.org/officeDocument/2006/relationships/slide" Target="slides/slide109.xml"/><Relationship Id="rId128" Type="http://schemas.openxmlformats.org/officeDocument/2006/relationships/slide" Target="slides/slide110.xml"/><Relationship Id="rId129" Type="http://schemas.openxmlformats.org/officeDocument/2006/relationships/slide" Target="slides/slide111.xml"/><Relationship Id="rId130" Type="http://schemas.openxmlformats.org/officeDocument/2006/relationships/slide" Target="slides/slide112.xml"/><Relationship Id="rId131" Type="http://schemas.openxmlformats.org/officeDocument/2006/relationships/slide" Target="slides/slide113.xml"/><Relationship Id="rId132" Type="http://schemas.openxmlformats.org/officeDocument/2006/relationships/slide" Target="slides/slide114.xml"/><Relationship Id="rId133" Type="http://schemas.openxmlformats.org/officeDocument/2006/relationships/slide" Target="slides/slide115.xml"/><Relationship Id="rId134" Type="http://schemas.openxmlformats.org/officeDocument/2006/relationships/slide" Target="slides/slide116.xml"/><Relationship Id="rId135" Type="http://schemas.openxmlformats.org/officeDocument/2006/relationships/slide" Target="slides/slide117.xml"/><Relationship Id="rId136" Type="http://schemas.openxmlformats.org/officeDocument/2006/relationships/slide" Target="slides/slide118.xml"/><Relationship Id="rId137" Type="http://schemas.openxmlformats.org/officeDocument/2006/relationships/slide" Target="slides/slide119.xml"/><Relationship Id="rId138" Type="http://schemas.openxmlformats.org/officeDocument/2006/relationships/slide" Target="slides/slide120.xml"/><Relationship Id="rId139" Type="http://schemas.openxmlformats.org/officeDocument/2006/relationships/slide" Target="slides/slide121.xml"/><Relationship Id="rId140" Type="http://schemas.openxmlformats.org/officeDocument/2006/relationships/slide" Target="slides/slide122.xml"/><Relationship Id="rId141" Type="http://schemas.openxmlformats.org/officeDocument/2006/relationships/slide" Target="slides/slide123.xml"/><Relationship Id="rId142" Type="http://schemas.openxmlformats.org/officeDocument/2006/relationships/slide" Target="slides/slide124.xml"/><Relationship Id="rId143" Type="http://schemas.openxmlformats.org/officeDocument/2006/relationships/slide" Target="slides/slide125.xml"/><Relationship Id="rId144" Type="http://schemas.openxmlformats.org/officeDocument/2006/relationships/slide" Target="slides/slide126.xml"/><Relationship Id="rId145" Type="http://schemas.openxmlformats.org/officeDocument/2006/relationships/slide" Target="slides/slide127.xml"/><Relationship Id="rId146" Type="http://schemas.openxmlformats.org/officeDocument/2006/relationships/slide" Target="slides/slide128.xml"/><Relationship Id="rId147" Type="http://schemas.openxmlformats.org/officeDocument/2006/relationships/slide" Target="slides/slide129.xml"/><Relationship Id="rId148" Type="http://schemas.openxmlformats.org/officeDocument/2006/relationships/slide" Target="slides/slide130.xml"/><Relationship Id="rId149" Type="http://schemas.openxmlformats.org/officeDocument/2006/relationships/slide" Target="slides/slide131.xml"/><Relationship Id="rId150" Type="http://schemas.openxmlformats.org/officeDocument/2006/relationships/slide" Target="slides/slide132.xml"/><Relationship Id="rId151" Type="http://schemas.openxmlformats.org/officeDocument/2006/relationships/slide" Target="slides/slide133.xml"/><Relationship Id="rId152" Type="http://schemas.openxmlformats.org/officeDocument/2006/relationships/slide" Target="slides/slide134.xml"/><Relationship Id="rId153" Type="http://schemas.openxmlformats.org/officeDocument/2006/relationships/slide" Target="slides/slide135.xml"/><Relationship Id="rId154" Type="http://schemas.openxmlformats.org/officeDocument/2006/relationships/slide" Target="slides/slide136.xml"/><Relationship Id="rId155" Type="http://schemas.openxmlformats.org/officeDocument/2006/relationships/slide" Target="slides/slide137.xml"/><Relationship Id="rId156" Type="http://schemas.openxmlformats.org/officeDocument/2006/relationships/slide" Target="slides/slide138.xml"/><Relationship Id="rId157" Type="http://schemas.openxmlformats.org/officeDocument/2006/relationships/slide" Target="slides/slide139.xml"/><Relationship Id="rId158" Type="http://schemas.openxmlformats.org/officeDocument/2006/relationships/slide" Target="slides/slide140.xml"/><Relationship Id="rId159" Type="http://schemas.openxmlformats.org/officeDocument/2006/relationships/slide" Target="slides/slide141.xml"/><Relationship Id="rId160" Type="http://schemas.openxmlformats.org/officeDocument/2006/relationships/slide" Target="slides/slide142.xml"/><Relationship Id="rId161" Type="http://schemas.openxmlformats.org/officeDocument/2006/relationships/slide" Target="slides/slide143.xml"/><Relationship Id="rId16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8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 type="dt" idx="49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PlaceHolder 5"/>
          <p:cNvSpPr>
            <a:spLocks noGrp="1"/>
          </p:cNvSpPr>
          <p:nvPr>
            <p:ph type="ftr" idx="50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PlaceHolder 6"/>
          <p:cNvSpPr>
            <a:spLocks noGrp="1"/>
          </p:cNvSpPr>
          <p:nvPr>
            <p:ph type="sldNum" idx="51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96412-9ABC-4440-B09C-6D54D9542F3A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. Abdelgalil Mohammed Hassa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43B916-466A-4F40-AA2D-C714DB6BD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6C22F0-CB57-4102-9B12-EBAACD83F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D9F577-EEC0-4269-9983-CDA14E3CB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08D729-88D4-43AD-A219-1954FD5E7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DB8BC3-B6F3-41D9-99A4-60874CC06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2B2CE4-AE97-47AE-91BA-643BFFBC3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EF3B13-7C94-4B48-811F-B73D19CB1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8437E1-7E6C-49F1-961C-DADB06A27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1DD18E-E29B-4A3A-9399-5CE0CB150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B2EF93-AF91-4D5B-AA38-FA6D63094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2BF95B-8A66-49F3-92F9-56ADBE5EC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93EA05-79E2-4ED2-B3B8-86ACF73C0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628CCD-AAAD-424F-B169-7C1F63685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5990D6-F33D-419C-97E2-A4EE6DE7F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7CFA01-820C-4D30-BC9D-F3902C910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0D6C14-F54D-44B6-BC38-20A506F50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DA4A23-B66E-4B34-A896-51BC8E10A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258082-F255-4C68-B80C-DC5FA426B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BF1567-C145-49B7-BE9C-2C228F9F6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752FD2-B626-45F1-A9FE-2B775BAC7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73FD61-7F6A-48AF-B015-580507540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D32D67-3349-4BAC-889E-0D52F4BD0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14758E-3FE3-47B2-98FB-5E2437A64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87D1B6-931A-461D-832B-DA5A22099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DBFD2D-0560-4AD0-AA86-2741A9CE0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EC64A8-51C3-4555-8024-4E1BA0F2F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B3A1F8-B10E-41A7-A687-1E1988B1E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716E1A-BFFC-4214-9B2B-91440F44B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2EE47C-A5E8-45B9-9CB6-7BF416B26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BA6A6F-78FF-4688-ADFB-B0AB97F57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5FBC99-0F04-4D6F-A481-AB0E101D0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E04651-4403-414B-856D-8CACC63F4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2EC5B9-A5C4-4945-9239-7CDE5F19B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59B390-45F4-4B01-AF46-E8DEAF6D3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0464D-D2DA-4E30-939C-996B79F4E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E52A01-DB90-44D9-B8BC-E4D86CDC1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9FAD18-4D9A-4733-AEDF-354C9A57C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C3E5D3-9186-44A7-A2C4-EDDEFC0AB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D508DB-3871-41E4-8283-F21E60C0B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B78355-3C1E-497E-B1E9-CC604CAB4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E1F192-E5DB-471B-A619-92FFEEE6E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84106C-0E6D-4C66-9DCE-778DC5500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5A2DAA-5BC4-4F71-B5AC-8045D5A83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D59D17-43B2-4684-83C3-1F0292237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D850D4-A4DF-48EB-BC26-CD912C1BC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9F183-725D-42CD-93D7-C4AFC2EF8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223A72-B1A3-4AC4-8739-7F38D4160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A43828-48ED-4BB1-82CF-837F9E621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DEA0DB-2738-4685-BBD5-93B58D945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3DD6E6-024E-4024-BC46-4EEA061BE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9C39D7-CE28-4F0B-B369-85822274E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4F95B4-F066-4350-981A-6485B016C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C3010B-C218-4DEE-B3BC-9C7456097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724B57-E69E-42DA-8952-15217D890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1A15D6-62B5-4D16-8291-E950F998A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46FCC8-2727-400E-BE77-DB94639E8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FF930-F7B9-4C3D-9D84-87BAEFAA0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239B77-B8AA-425A-A992-0F2F45DB7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4D6156-2567-4421-AD82-1B801596B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9E1394-D7C1-4D35-8C20-92CF7A9CB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889451-0C54-4E13-9F00-F3090DBF9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4D51A1-72B2-4C93-A50A-6FDA25BB0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67AA57-0FF4-412A-8227-4130990B2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2FB0CF-1942-44CF-ABCC-6922E7BAB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F7CCD1-470B-4994-AB36-9CFBEDD1F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437DD4-881A-473C-865F-BAD567609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627238-E838-409A-9AE1-9C25C5DCB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86471-FAA4-485A-A3F1-15DDCB402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61A2EA0-7A40-46C8-A0B7-A8987E16C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C51D67F-976E-4FD0-A644-1BC3A3746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DF9D51-DA65-4300-A2DA-A858116D6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B36EC1-8F36-4844-9284-859F92A50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10DF9D-006E-46E5-A3B2-C4B4B40B9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57EA33-046A-45E3-A445-FFAA3E326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8B7750-3B3B-4694-93C6-EEDB981EF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0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2219F12-1C0C-4FB0-A956-9ECA4AFC5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0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0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0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6EEAA91-62DC-49DB-8A81-FA6CE2754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A189981-9DD7-4EAD-AA89-90BF872CD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83A3B-0775-45AF-AF01-0DC21BB3A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A65B674-EBFD-4A30-B351-9FFB32A36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39EA84B-2C8F-4CA2-A889-5CE1FF14B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4C39A1-35E9-4596-9683-8316A7F3B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0168F6F-04EA-4257-8497-609A848CC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8FEC856-2C4D-4D64-8F79-23BEC1698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7045E0C-5C31-417C-BB52-FBCDF82E1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AE4A6E8-EEDF-4A95-91C2-9FBAF5938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21A235B-69B4-41A7-8BF5-41C07E4F5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1F729A9-AC7B-4861-A5BC-1B24A1A8A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BE58E03-80F0-41F5-8209-FBD2422BE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B00A8-8267-4BC6-AA04-1F7A681A7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01BD54C-4A0D-4CDD-AD55-11774272A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F22A05B-56F6-48B7-B999-C38FE84FA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A91DAF0-B775-4C62-B5E6-EBD26D41B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F465B0E-77D3-444A-BE91-122444D34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661E8E6-F040-4E2E-B105-99C3E749F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C337A79-33D1-4E47-BDEC-C7CDBA732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FF7A701-D672-40EB-950F-7A9BCC21F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1939EC9-DDE2-4796-943B-2533638A1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3F4E7FF-3834-40BD-B919-12BE42014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671CD5A-A298-4CEF-85F5-E5A8171E1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329D3-E101-482D-A601-C92001051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FF1F740-8FD7-41BC-88DA-41EE27F9D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8E3406D-E54A-4500-81F1-71DEF8BFF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E673E37-9C60-4BFA-915E-CE86F353C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91E437-9526-4B17-9A6D-A0F82284F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00C5C-73A2-43E8-A1B1-7F7224E75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A72AD-DAC8-49DE-8E3C-E2A592F1C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50B7B-4D12-4E78-8108-3BCD37AE5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809AF-F78D-40E9-A205-05CD41C6F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F9147-80D2-4E4C-9ACD-47DBA7221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540721-9907-4DA1-A42A-08FB1D355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CA587B-4485-43B2-8D31-C5A6A79CF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ED74F4-FA3B-4DE3-927C-C5C8D10B8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DE1B51-F68A-463D-883C-06669838A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5BF65D-A459-4D50-AE09-A932765D4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97BEF2-746E-4697-A71A-5471CBF75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326404-995D-440A-89C1-75DF30AA9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108120-DD23-4727-A88D-B19778E3E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62F8CE-D242-4CD0-88A3-9A40AB4C4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1479AF-B370-44E4-ACC1-A930B4D43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306466-FCB4-4002-ADAB-8CB6A9381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99E111-B761-4A99-8BF8-7B08CA127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8D17AD-4517-4367-86AB-1EB09830A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73351F-2037-4998-B2DC-FAFA06D70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53E2BD-291E-4777-8256-9A7CB95D0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5C1EB1-5F9A-43D9-AD2E-F604DD3AB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07686A-9F42-48F6-9D61-17B9546DC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CA49E8-A3DA-43A3-A155-5C2F7FD81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438E40-F05E-479F-B122-6523BD219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0841DB-DEFA-494A-81D9-1B58F3A5E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71953C-1BD2-48DB-8D7B-8B1DF95DA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0BBB96-A098-45B4-9096-0D9114090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3AB5D1-1812-4C2B-9303-5100ED1E2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D6163B-42AC-4192-96C2-D742E978E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23B576-2F81-46F8-B7A4-A429F3387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78B0CC-8B2A-4344-8F8D-CC6949FE4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F2EAE2-7159-45DF-8A7A-CADC66B95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752CFC-392B-4BE8-9B76-BBA2DF814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BCCF6D-11EB-42D7-8E61-8C5959211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049106-F0EB-455D-B19A-9A57049A3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5A379D-C714-4441-B751-00AE69D0E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DCA1F0-5F9D-458C-B4EE-F6CA40F93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2BD520-CB9C-4F3D-B695-BEB8AC346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178112-6B99-49F3-9963-0A446C77B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86DD16-6D79-4478-B5AD-3719497D6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892277-32F8-45E8-874D-D08F25457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639BC3-C930-4C59-8E0C-C8416CE6E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6A7C7E-26DC-4069-B0B7-A7D4FB1A2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79C4D8-F123-47E3-A242-7CB1546C4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1776A2-86E0-4107-A3E3-30883566B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38972D-B61F-4BD0-9963-F5A954808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09EC8B-6F7E-4C98-BC15-54F7A3639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6E7915-273C-4E91-8F58-737A45986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FBA2EB-712A-4E25-A335-F4C7CCDCF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5AF6D1-D750-41AB-8C03-2C14229CE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1EDBD6-696F-4458-8F3F-8F792480E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B9781D-5091-4477-B903-6145E29E5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4AC17F-17F9-4494-85D7-15C5C227E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EF8880-A354-4843-9920-C6FA4EF04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184743-7223-4D6E-99CA-AB359AF12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696F43-9329-413C-9870-736A2DF85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BE54DA-48C7-44B4-B881-187666DCB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8F96EB-D486-4E7C-AD57-946AE25A1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EB9E2D-4BA2-483E-92E1-5B703BCF7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E12745-E6F6-442A-89BB-10C1FEBC8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D175B1-5D59-4EAA-BD85-AEADA7B12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275278-61B6-4F76-B057-751A98FEF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52E64A-73AB-4F92-B72C-A5A884852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B89A6A-7764-4638-B47F-CE4137DF8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A264E3-396D-4FA8-B19B-A51C705AD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119F12-BF1D-4F0E-BE21-B879F7198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67F477-6990-439A-86D5-62401630D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F57C23-D18B-47CA-BD2D-8AB5B9A48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2C11D7-CAF8-4E85-A819-429047B37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E55270-E659-472B-A53F-73D4900EE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673887-F83C-44A0-99FE-21C6CA758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B9852D3-B53E-4C56-B1AF-7B968062A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FC6A1DA-A1F9-42E1-B4B4-503EABE15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6530C19-740F-4E1C-845E-D96D80381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5686282-5CEE-4E95-8CF7-309A99FDA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7A589A2-3CF9-43A9-9187-B9106D8E5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BA26E5-F496-4490-897F-8169AA747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C37092B-7F9A-4353-955A-7266E92AE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24A96C8-6CF3-4616-BA2B-EDDDDDB59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46135DD-C036-4AF4-8C72-1C68B62E6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03214D4-75F3-4777-8A7F-AAA552E5F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3D56BF9-F40D-461D-89D1-CFA7DF0D2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BF360D4-7E61-4720-9808-35DD36D27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62D2DA6-FBE0-48CF-B647-04D9C856F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21E0C0-CD86-41D4-8FF8-3CEB5F9C8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EDF696-7874-4BCB-A881-E07515AFB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A6E8BD-5DA3-416B-B946-D71E0F412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08EA2-98E3-43CB-91BE-9B8E68B5E11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2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71B7C-342E-4A21-A202-72AEBD16183C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6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77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FC128-38B7-4FE5-A247-D7F156E1156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3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634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D6284-6EC8-49BD-9EE6-3BD36B387A4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50AEF-02AA-4CC6-93C6-E82C86F484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75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B6436-1BF1-4563-96AF-13258DF2E1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8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809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810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811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12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813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4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5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16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817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818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819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820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821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2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3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4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5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6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7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8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9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0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1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2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3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4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5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6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7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8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9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0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1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2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3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4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5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6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7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8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9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0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1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2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3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4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5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6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857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858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59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60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61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62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63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64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65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66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67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68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869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870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1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2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3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4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5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6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7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8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9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0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1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2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3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4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5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6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7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8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9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0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1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2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3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4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5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6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7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8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9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0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1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2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3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4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5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06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07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8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909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910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1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2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3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4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5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6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7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8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919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920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926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927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8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9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0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1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932" name="PlaceHolder 1"/>
          <p:cNvSpPr>
            <a:spLocks noGrp="1"/>
          </p:cNvSpPr>
          <p:nvPr>
            <p:ph type="dt" idx="4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 type="sldNum" idx="4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791DF-DA7F-4DF5-896A-F65E7F62C650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6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3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974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975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976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977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978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9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0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981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982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983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984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r" rtl="1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985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986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87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88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89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90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91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92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93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94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95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96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97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98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99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00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01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02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03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04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05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06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07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08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09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10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11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12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13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14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15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16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17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18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19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20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21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1022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1023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24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25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26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27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28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29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30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31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32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33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034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r" rtl="1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1035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36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37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38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39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40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41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42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43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44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45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46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47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48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49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50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51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52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53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54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55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56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57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58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59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60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61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62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63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64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65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66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67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68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69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70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r" rtl="1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1071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1072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3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74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1075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6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7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8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9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0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1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2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3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084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1085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91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1092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3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4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5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6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 type="dt" idx="4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PlaceHolder 4"/>
          <p:cNvSpPr>
            <a:spLocks noGrp="1"/>
          </p:cNvSpPr>
          <p:nvPr>
            <p:ph type="sldNum" idx="4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70393-CB1B-41CA-BD38-2D26E2A6376B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DF70A-EE2E-448B-B757-16B76DA2803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 rtl="1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 rtl="1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 rtl="1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0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10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1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5D567-C6FE-4C08-ACB7-7575C75BE759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1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1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2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19D10-DA02-4308-8E8C-498E93FA1E4D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5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256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E6485-E14D-4146-A413-0B20DCFFDA69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9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300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PlaceHolder 1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18AE4-3068-4367-98BF-B4A69D421F48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43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5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347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8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349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4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356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EE368-46F8-471B-ACF9-CCEA63ADDBF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3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04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08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09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410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15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16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417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4198E-6F2F-4FFA-875A-0B2175908BD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 type="ftr" idx="2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3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464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9C2D2-66FB-4245-ACD1-388047D40464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arrow.wav"/><Relationship Id="rId3" Type="http://schemas.openxmlformats.org/officeDocument/2006/relationships/audio" Target="../media/arrow.wav"/><Relationship Id="rId4" Type="http://schemas.openxmlformats.org/officeDocument/2006/relationships/audio" Target="../media/arrow.wav"/><Relationship Id="rId5" Type="http://schemas.openxmlformats.org/officeDocument/2006/relationships/audio" Target="../media/arrow.wav"/><Relationship Id="rId6" Type="http://schemas.openxmlformats.org/officeDocument/2006/relationships/audio" Target="../media/arrow.wav"/><Relationship Id="rId7" Type="http://schemas.openxmlformats.org/officeDocument/2006/relationships/slideLayout" Target="../slideLayouts/slideLayout14.xml"/><Relationship Id="rId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7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7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7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7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7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7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7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7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99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99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99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99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99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99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99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99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23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2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7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7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7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7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7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7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7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7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7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82342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ar-SA" sz="2800" spc="-1" strike="noStrike">
                <a:solidFill>
                  <a:srgbClr val="ffcc00"/>
                </a:solidFill>
                <a:latin typeface="Garamond"/>
                <a:cs typeface="Arabic Typesetting"/>
              </a:rPr>
              <a:t>بسم الله الرحمن الرحيم</a:t>
            </a:r>
            <a:br>
              <a:rPr sz="10000"/>
            </a:br>
            <a:r>
              <a:rPr b="0" lang="ar-SA" sz="10000" spc="-1" strike="noStrike">
                <a:solidFill>
                  <a:srgbClr val="ff0000"/>
                </a:solidFill>
                <a:latin typeface="Garamond"/>
                <a:cs typeface="Arabic Typesetting"/>
              </a:rPr>
              <a:t>مبادئ </a:t>
            </a:r>
            <a:r>
              <a:rPr b="0" lang="ar-SA" sz="10000" spc="-1" strike="noStrike">
                <a:solidFill>
                  <a:srgbClr val="336600"/>
                </a:solidFill>
                <a:latin typeface="Garamond"/>
                <a:cs typeface="Arabic Typesetting"/>
              </a:rPr>
              <a:t>إدارة</a:t>
            </a:r>
            <a:r>
              <a:rPr b="0" lang="ar-SA" sz="10000" spc="-1" strike="noStrike">
                <a:solidFill>
                  <a:srgbClr val="000514"/>
                </a:solidFill>
                <a:latin typeface="Garamond"/>
                <a:ea typeface="Arabic Typesetting"/>
              </a:rPr>
              <a:t> </a:t>
            </a:r>
            <a:r>
              <a:rPr b="0" lang="ar-SA" sz="10000" spc="-1" strike="noStrike">
                <a:solidFill>
                  <a:srgbClr val="ffcc00"/>
                </a:solidFill>
                <a:latin typeface="Garamond"/>
                <a:cs typeface="Arabic Typesetting"/>
              </a:rPr>
              <a:t>الأعمال</a:t>
            </a:r>
            <a:endParaRPr b="1" lang="en-US" sz="10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 type="subTitle"/>
          </p:nvPr>
        </p:nvSpPr>
        <p:spPr>
          <a:xfrm>
            <a:off x="1371240" y="2707920"/>
            <a:ext cx="672948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40c08"/>
                </a:solidFill>
                <a:latin typeface="Arabic Typesetting"/>
                <a:cs typeface="Arabic Typesetting"/>
              </a:rPr>
              <a:t>الدكتور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6600"/>
                </a:solidFill>
                <a:latin typeface="Arabic Typesetting"/>
                <a:cs typeface="Arabic Typesetting"/>
              </a:rPr>
              <a:t>عبد الجليل محمد حسن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Arabic Typesetting"/>
                <a:cs typeface="Arabic Typesetting"/>
              </a:rPr>
              <a:t>أستاذ إدارة الأعمال المساعد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a886e0"/>
                </a:solidFill>
                <a:latin typeface="Arabic Typesetting"/>
                <a:cs typeface="Arabic Typesetting"/>
              </a:rPr>
              <a:t>كلية العلوم الإدارية والإنسانية بالمجمعة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Arabic Typesetting"/>
                <a:cs typeface="Arabic Typesetting"/>
              </a:rPr>
              <a:t>قسم إدارة الأعمال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9400"/>
                            </p:stCondLst>
                            <p:childTnLst>
                              <p:par>
                                <p:cTn id="10" autoRev="1" nodeType="after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rrow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11" dur="2000" fill="hold"/>
                                        <p:tgtEl>
                                          <p:spTgt spid="1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animClr clrSpc="rgb">
                                <p:cBhvr>
                                  <p:cTn id="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6600"/>
                                </p:to>
                              </p:animCl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5800"/>
                            </p:stCondLst>
                            <p:childTnLst>
                              <p:par>
                                <p:cTn id="14" autoRev="1" nodeType="after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rrow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15" dur="2000" fill="hold"/>
                                        <p:tgtEl>
                                          <p:spTgt spid="1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animClr clrSpc="rgb"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514"/>
                                </p:to>
                              </p:animCl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5800"/>
                            </p:stCondLst>
                            <p:childTnLst>
                              <p:par>
                                <p:cTn id="18" autoRev="1" nodeType="after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rrow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19" dur="2000" fill="hold"/>
                                        <p:tgtEl>
                                          <p:spTgt spid="1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animClr clrSpc="rgb"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514"/>
                                </p:to>
                              </p:animCl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39000"/>
                            </p:stCondLst>
                            <p:childTnLst>
                              <p:par>
                                <p:cTn id="22" autoRev="1" nodeType="after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rrow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23" dur="2000" fill="hold"/>
                                        <p:tgtEl>
                                          <p:spTgt spid="1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animClr clrSpc="rgb">
                                <p:cBhvr>
                                  <p:cTn id="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514"/>
                                </p:to>
                              </p:animCl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7000"/>
                            </p:stCondLst>
                            <p:childTnLst>
                              <p:par>
                                <p:cTn id="26" autoRev="1" nodeType="after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rrow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27" dur="2000" fill="hold"/>
                                        <p:tgtEl>
                                          <p:spTgt spid="1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animClr clrSpc="rgb">
                                <p:cBhvr>
                                  <p:cTn id="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514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1" dur="1" fill="hold"/>
                                  <p:tgtEl>
                                    <p:spTgt spid="114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514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e5e5ff"/>
                </a:solidFill>
                <a:latin typeface="Garamond"/>
              </a:rPr>
              <a:t>المدرسة التجريبية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1042920" y="2349000"/>
            <a:ext cx="7561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Garamond"/>
                <a:cs typeface="Simplified Arabic"/>
              </a:rPr>
              <a:t>تعني أن الإدارة مهنة يمكن تعلمها وممارستها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Garamond"/>
                <a:cs typeface="Simplified Arabic"/>
              </a:rPr>
              <a:t>ركز أصحاب هذه النظريه على الاتجاه العملي للإدارة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Garamond"/>
                <a:cs typeface="Simplified Arabic"/>
              </a:rPr>
              <a:t>أهمية المعلومات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Garamond"/>
                <a:cs typeface="Simplified Arabic"/>
              </a:rPr>
              <a:t>روادها [ وليام نيومان ، بيتر دراكر ]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ccff"/>
                </a:solidFill>
                <a:latin typeface="Garamond"/>
              </a:rPr>
              <a:t>خصائص الرقابة الفعالة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76" name="PlaceHolder 2"/>
          <p:cNvSpPr>
            <a:spLocks noGrp="1"/>
          </p:cNvSpPr>
          <p:nvPr>
            <p:ph/>
          </p:nvPr>
        </p:nvSpPr>
        <p:spPr>
          <a:xfrm>
            <a:off x="1066680" y="2349360"/>
            <a:ext cx="7537680" cy="41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r" rtl="1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Garamond"/>
                <a:cs typeface="Simplified Arabic"/>
              </a:rPr>
              <a:t>أن تكون المعايير الرقابية والوسائل مفهومة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 algn="r" rtl="1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Garamond"/>
                <a:cs typeface="Simplified Arabic"/>
              </a:rPr>
              <a:t>أن تكون الوسائل الرقابية المطبقة اقتصادية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 algn="r" rtl="1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Garamond"/>
                <a:cs typeface="Simplified Arabic"/>
              </a:rPr>
              <a:t>إلمام وإمكانية تطبيقها من قبل المراقب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 algn="r" rtl="1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Garamond"/>
                <a:cs typeface="Simplified Arabic"/>
              </a:rPr>
              <a:t>تعدد وتنوع الوسائل والأدوات الرقابية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 algn="r" rtl="1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Garamond"/>
                <a:cs typeface="Simplified Arabic"/>
              </a:rPr>
              <a:t>أن تكون مرنة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 algn="r" rtl="1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Garamond"/>
                <a:cs typeface="Simplified Arabic"/>
              </a:rPr>
              <a:t>مراعاة الكم والنوع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PlaceHolder 1"/>
          <p:cNvSpPr>
            <a:spLocks noGrp="1"/>
          </p:cNvSpPr>
          <p:nvPr>
            <p:ph/>
          </p:nvPr>
        </p:nvSpPr>
        <p:spPr>
          <a:xfrm>
            <a:off x="457200" y="2485800"/>
            <a:ext cx="8229600" cy="32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ffffff"/>
                </a:solidFill>
                <a:latin typeface="Tahoma"/>
                <a:cs typeface="Motken noqta"/>
              </a:rPr>
              <a:t>إدارة الموارد البشرية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 rtl="1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uman Resources Managemen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8" name=""/>
          <p:cNvSpPr/>
          <p:nvPr/>
        </p:nvSpPr>
        <p:spPr>
          <a:xfrm>
            <a:off x="0" y="331920"/>
            <a:ext cx="4140360" cy="1152360"/>
          </a:xfrm>
          <a:prstGeom prst="flowChartDelay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9" name=""/>
          <p:cNvSpPr/>
          <p:nvPr/>
        </p:nvSpPr>
        <p:spPr>
          <a:xfrm>
            <a:off x="216000" y="692280"/>
            <a:ext cx="277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cc3300"/>
                </a:solidFill>
                <a:latin typeface="Tahoma"/>
                <a:cs typeface="كبير 6"/>
              </a:rPr>
              <a:t>الفصل العاش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ffffcc"/>
                </a:solidFill>
                <a:latin typeface="Tahoma"/>
                <a:cs typeface="Simplified Arabic"/>
              </a:rPr>
              <a:t>المحتويات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Simplified Arabic"/>
              </a:rPr>
              <a:t>مفهوم و أهداف إدارة الأفرا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Simplified Arabic"/>
              </a:rPr>
              <a:t>تطوير إدارة الأفرا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Simplified Arabic"/>
              </a:rPr>
              <a:t>التنظيم في إدارة الأفرا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Simplified Arabic"/>
              </a:rPr>
              <a:t>وظائف إدارة الأفرا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cc"/>
                </a:solidFill>
                <a:latin typeface="Tahoma"/>
              </a:rPr>
              <a:t>مفهوم إدارة الافراد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83" name="PlaceHolder 2"/>
          <p:cNvSpPr>
            <a:spLocks noGrp="1"/>
          </p:cNvSpPr>
          <p:nvPr>
            <p:ph/>
          </p:nvPr>
        </p:nvSpPr>
        <p:spPr>
          <a:xfrm>
            <a:off x="1066320" y="2133360"/>
            <a:ext cx="7682040" cy="45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cc66"/>
                </a:solidFill>
                <a:latin typeface="Tahoma"/>
              </a:rPr>
              <a:t>وظيفة الأفراد 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</a:rPr>
              <a:t>الانشطة المختلفة التي تمارسها الوحدة التنظيمية المسئولة عن تدبير القوى العاملة اللازمة للمنظمة كما و نوعا و توقيتا و المحافظة عليها و تعويضها و تنميتها و تحفيزها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cc66"/>
                </a:solidFill>
                <a:latin typeface="Tahoma"/>
              </a:rPr>
              <a:t>إدارة الافراد 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</a:rPr>
              <a:t>الكيفية التي يتعامل بها كل مدير مع مرؤوسيه ليصل بهم إلى تحقيق الأهداف المحدد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cc"/>
                </a:solidFill>
                <a:latin typeface="Tahoma"/>
                <a:cs typeface="Simplified Arabic"/>
              </a:rPr>
              <a:t>مراحل تطور إدارة الأفراد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85" name="PlaceHolder 2"/>
          <p:cNvSpPr>
            <a:spLocks noGrp="1"/>
          </p:cNvSpPr>
          <p:nvPr>
            <p:ph/>
          </p:nvPr>
        </p:nvSpPr>
        <p:spPr>
          <a:xfrm>
            <a:off x="1066320" y="2349000"/>
            <a:ext cx="75438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572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86" name=""/>
          <p:cNvGrpSpPr/>
          <p:nvPr/>
        </p:nvGrpSpPr>
        <p:grpSpPr>
          <a:xfrm>
            <a:off x="2501640" y="2594160"/>
            <a:ext cx="4648680" cy="3701520"/>
            <a:chOff x="2501640" y="2594160"/>
            <a:chExt cx="4648680" cy="3701520"/>
          </a:xfrm>
        </p:grpSpPr>
        <p:sp>
          <p:nvSpPr>
            <p:cNvPr id="1587" name="_s118790"/>
            <p:cNvSpPr/>
            <p:nvPr/>
          </p:nvSpPr>
          <p:spPr>
            <a:xfrm>
              <a:off x="4006440" y="2647440"/>
              <a:ext cx="1638720" cy="1294200"/>
            </a:xfrm>
            <a:custGeom>
              <a:avLst/>
              <a:gdLst>
                <a:gd name="textAreaLeft" fmla="*/ 0 w 1638720"/>
                <a:gd name="textAreaRight" fmla="*/ 1639080 w 1638720"/>
                <a:gd name="textAreaTop" fmla="*/ 0 h 1294200"/>
                <a:gd name="textAreaBottom" fmla="*/ 1294560 h 1294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140000"/>
                  <a:lnTo>
                    <a:pt x="8005" y="368"/>
                  </a:lnTo>
                  <a:arcTo wR="10800" hR="10800" stAng="-6300000" swAng="114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8" name="_s118791"/>
            <p:cNvSpPr/>
            <p:nvPr/>
          </p:nvSpPr>
          <p:spPr>
            <a:xfrm rot="2700000">
              <a:off x="5209200" y="2811600"/>
              <a:ext cx="1294200" cy="1638720"/>
            </a:xfrm>
            <a:custGeom>
              <a:avLst/>
              <a:gdLst>
                <a:gd name="textAreaLeft" fmla="*/ 0 w 1294200"/>
                <a:gd name="textAreaRight" fmla="*/ 1294560 w 1294200"/>
                <a:gd name="textAreaTop" fmla="*/ 0 h 1638720"/>
                <a:gd name="textAreaBottom" fmla="*/ 1639080 h 163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140000"/>
                  <a:lnTo>
                    <a:pt x="8005" y="368"/>
                  </a:lnTo>
                  <a:arcTo wR="10800" hR="10800" stAng="-6300000" swAng="114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9" name="_s118792"/>
            <p:cNvSpPr/>
            <p:nvPr/>
          </p:nvSpPr>
          <p:spPr>
            <a:xfrm rot="5400000">
              <a:off x="5635800" y="3625200"/>
              <a:ext cx="1294200" cy="1638720"/>
            </a:xfrm>
            <a:custGeom>
              <a:avLst/>
              <a:gdLst>
                <a:gd name="textAreaLeft" fmla="*/ 0 w 1294200"/>
                <a:gd name="textAreaRight" fmla="*/ 1294560 w 1294200"/>
                <a:gd name="textAreaTop" fmla="*/ 0 h 1638720"/>
                <a:gd name="textAreaBottom" fmla="*/ 1639080 h 163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140000"/>
                  <a:lnTo>
                    <a:pt x="8005" y="368"/>
                  </a:lnTo>
                  <a:arcTo wR="10800" hR="10800" stAng="-6300000" swAng="114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0" name="_s118793"/>
            <p:cNvSpPr/>
            <p:nvPr/>
          </p:nvSpPr>
          <p:spPr>
            <a:xfrm rot="8100000">
              <a:off x="5036760" y="4610880"/>
              <a:ext cx="1638720" cy="1294200"/>
            </a:xfrm>
            <a:custGeom>
              <a:avLst/>
              <a:gdLst>
                <a:gd name="textAreaLeft" fmla="*/ 0 w 1638720"/>
                <a:gd name="textAreaRight" fmla="*/ 1639080 w 1638720"/>
                <a:gd name="textAreaTop" fmla="*/ 0 h 1294200"/>
                <a:gd name="textAreaBottom" fmla="*/ 1294560 h 1294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140000"/>
                  <a:lnTo>
                    <a:pt x="8005" y="368"/>
                  </a:lnTo>
                  <a:arcTo wR="10800" hR="10800" stAng="-6300000" swAng="114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1" name="_s118794"/>
            <p:cNvSpPr/>
            <p:nvPr/>
          </p:nvSpPr>
          <p:spPr>
            <a:xfrm rot="10800000">
              <a:off x="4007160" y="4948200"/>
              <a:ext cx="1638720" cy="1294200"/>
            </a:xfrm>
            <a:custGeom>
              <a:avLst/>
              <a:gdLst>
                <a:gd name="textAreaLeft" fmla="*/ 0 w 1638720"/>
                <a:gd name="textAreaRight" fmla="*/ 1639080 w 1638720"/>
                <a:gd name="textAreaTop" fmla="*/ 0 h 1294200"/>
                <a:gd name="textAreaBottom" fmla="*/ 1294560 h 1294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140000"/>
                  <a:lnTo>
                    <a:pt x="8005" y="368"/>
                  </a:lnTo>
                  <a:arcTo wR="10800" hR="10800" stAng="-6300000" swAng="114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2" name="_s118795"/>
            <p:cNvSpPr/>
            <p:nvPr/>
          </p:nvSpPr>
          <p:spPr>
            <a:xfrm rot="13500000">
              <a:off x="3148200" y="4439160"/>
              <a:ext cx="1294200" cy="1638720"/>
            </a:xfrm>
            <a:custGeom>
              <a:avLst/>
              <a:gdLst>
                <a:gd name="textAreaLeft" fmla="*/ 0 w 1294200"/>
                <a:gd name="textAreaRight" fmla="*/ 1294560 w 1294200"/>
                <a:gd name="textAreaTop" fmla="*/ 0 h 1638720"/>
                <a:gd name="textAreaBottom" fmla="*/ 1639080 h 163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140000"/>
                  <a:lnTo>
                    <a:pt x="8005" y="368"/>
                  </a:lnTo>
                  <a:arcTo wR="10800" hR="10800" stAng="-6300000" swAng="114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3" name="_s118796"/>
            <p:cNvSpPr/>
            <p:nvPr/>
          </p:nvSpPr>
          <p:spPr>
            <a:xfrm rot="16200000">
              <a:off x="2721240" y="3625560"/>
              <a:ext cx="1294200" cy="1638720"/>
            </a:xfrm>
            <a:custGeom>
              <a:avLst/>
              <a:gdLst>
                <a:gd name="textAreaLeft" fmla="*/ 0 w 1294200"/>
                <a:gd name="textAreaRight" fmla="*/ 1294560 w 1294200"/>
                <a:gd name="textAreaTop" fmla="*/ 0 h 1638720"/>
                <a:gd name="textAreaBottom" fmla="*/ 1639080 h 163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140000"/>
                  <a:lnTo>
                    <a:pt x="8005" y="368"/>
                  </a:lnTo>
                  <a:arcTo wR="10800" hR="10800" stAng="-6300000" swAng="114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4" name="_s118797"/>
            <p:cNvSpPr/>
            <p:nvPr/>
          </p:nvSpPr>
          <p:spPr>
            <a:xfrm rot="18900000">
              <a:off x="2975760" y="2984040"/>
              <a:ext cx="1638720" cy="1294200"/>
            </a:xfrm>
            <a:custGeom>
              <a:avLst/>
              <a:gdLst>
                <a:gd name="textAreaLeft" fmla="*/ 0 w 1638720"/>
                <a:gd name="textAreaRight" fmla="*/ 1639080 w 1638720"/>
                <a:gd name="textAreaTop" fmla="*/ 0 h 1294200"/>
                <a:gd name="textAreaBottom" fmla="*/ 1294560 h 1294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140000"/>
                  <a:lnTo>
                    <a:pt x="8005" y="368"/>
                  </a:lnTo>
                  <a:arcTo wR="10800" hR="10800" stAng="-6300000" swAng="114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5" name="_s118798"/>
            <p:cNvSpPr/>
            <p:nvPr/>
          </p:nvSpPr>
          <p:spPr>
            <a:xfrm>
              <a:off x="5288400" y="2608560"/>
              <a:ext cx="707760" cy="5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600" spc="-1" strike="noStrike">
                  <a:solidFill>
                    <a:srgbClr val="ffffff"/>
                  </a:solidFill>
                  <a:latin typeface="Times New Roman"/>
                  <a:cs typeface="Simplified Arabic"/>
                </a:rPr>
                <a:t>النشأة الاولى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6" name="_s118799"/>
            <p:cNvSpPr/>
            <p:nvPr/>
          </p:nvSpPr>
          <p:spPr>
            <a:xfrm>
              <a:off x="6442560" y="4809240"/>
              <a:ext cx="707760" cy="5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600" spc="-1" strike="noStrike">
                  <a:solidFill>
                    <a:srgbClr val="ffffff"/>
                  </a:solidFill>
                  <a:latin typeface="Times New Roman"/>
                  <a:cs typeface="Simplified Arabic"/>
                </a:rPr>
                <a:t>علاقات العمل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7" name="_s118800"/>
            <p:cNvSpPr/>
            <p:nvPr/>
          </p:nvSpPr>
          <p:spPr>
            <a:xfrm>
              <a:off x="5288760" y="5720760"/>
              <a:ext cx="707760" cy="5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ffffff"/>
                  </a:solidFill>
                  <a:latin typeface="Times New Roman"/>
                  <a:cs typeface="Simplified Arabic"/>
                </a:rPr>
                <a:t>لجنة وايتلي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8" name="_s118801"/>
            <p:cNvSpPr/>
            <p:nvPr/>
          </p:nvSpPr>
          <p:spPr>
            <a:xfrm>
              <a:off x="6442560" y="3520440"/>
              <a:ext cx="707760" cy="5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600" spc="-1" strike="noStrike">
                  <a:solidFill>
                    <a:srgbClr val="ffffff"/>
                  </a:solidFill>
                  <a:latin typeface="Times New Roman"/>
                  <a:cs typeface="Simplified Arabic"/>
                </a:rPr>
                <a:t>عمال الرعاية الاجتماعية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9" name="_s118802"/>
            <p:cNvSpPr/>
            <p:nvPr/>
          </p:nvSpPr>
          <p:spPr>
            <a:xfrm>
              <a:off x="3656880" y="5721120"/>
              <a:ext cx="707760" cy="5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ffffff"/>
                  </a:solidFill>
                  <a:latin typeface="Times New Roman"/>
                  <a:cs typeface="Simplified Arabic"/>
                </a:rPr>
                <a:t>إداري الافراد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0" name="_s118803"/>
            <p:cNvSpPr/>
            <p:nvPr/>
          </p:nvSpPr>
          <p:spPr>
            <a:xfrm>
              <a:off x="2502000" y="4810320"/>
              <a:ext cx="707760" cy="5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ffffff"/>
                  </a:solidFill>
                  <a:latin typeface="Times New Roman"/>
                  <a:cs typeface="Times New Roman"/>
                </a:rPr>
                <a:t>سياسات الافراد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1" name="_s118804"/>
            <p:cNvSpPr/>
            <p:nvPr/>
          </p:nvSpPr>
          <p:spPr>
            <a:xfrm>
              <a:off x="2501640" y="3521160"/>
              <a:ext cx="70776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ffffff"/>
                  </a:solidFill>
                  <a:latin typeface="Times New Roman"/>
                  <a:cs typeface="Simplified Arabic"/>
                </a:rPr>
                <a:t>دور التخطيط الشامل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2" name="_s118805"/>
            <p:cNvSpPr/>
            <p:nvPr/>
          </p:nvSpPr>
          <p:spPr>
            <a:xfrm>
              <a:off x="3655080" y="2609280"/>
              <a:ext cx="707760" cy="5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600" spc="-1" strike="noStrike">
                  <a:solidFill>
                    <a:srgbClr val="ffffff"/>
                  </a:solidFill>
                  <a:latin typeface="Tahoma"/>
                  <a:cs typeface="Simplified Arabic"/>
                </a:rPr>
                <a:t>الافراد و المجتمع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cc"/>
                </a:solidFill>
                <a:latin typeface="Tahoma"/>
                <a:cs typeface="Simplified Arabic"/>
              </a:rPr>
              <a:t>التنظيم في إدارة الافراد</a:t>
            </a:r>
            <a:br>
              <a:rPr sz="4000"/>
            </a:br>
            <a:r>
              <a:rPr b="0" lang="en-US" sz="3600" spc="-1" strike="noStrike">
                <a:solidFill>
                  <a:srgbClr val="ffffcc"/>
                </a:solidFill>
                <a:latin typeface="Tahoma"/>
                <a:ea typeface="Simplified Arabic"/>
              </a:rPr>
              <a:t>1</a:t>
            </a:r>
            <a:r>
              <a:rPr b="0" lang="en-US" sz="3600" spc="-1" strike="noStrike">
                <a:solidFill>
                  <a:srgbClr val="ffffcc"/>
                </a:solidFill>
                <a:latin typeface="Tahoma"/>
                <a:ea typeface="Simplified Arabic"/>
              </a:rPr>
              <a:t>-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  <a:ea typeface="Simplified Arabic"/>
              </a:rPr>
              <a:t> </a:t>
            </a:r>
            <a:r>
              <a:rPr b="0" lang="hi-IN" sz="3200" spc="-1" strike="noStrike">
                <a:solidFill>
                  <a:srgbClr val="ffffcc"/>
                </a:solidFill>
                <a:latin typeface="Tahoma"/>
                <a:cs typeface="Simplified Arabic"/>
              </a:rPr>
              <a:t>وحدة مركزية للأفراد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1604" name=""/>
          <p:cNvGrpSpPr/>
          <p:nvPr/>
        </p:nvGrpSpPr>
        <p:grpSpPr>
          <a:xfrm>
            <a:off x="1541520" y="2360520"/>
            <a:ext cx="6840000" cy="3887640"/>
            <a:chOff x="1541520" y="2360520"/>
            <a:chExt cx="6840000" cy="3887640"/>
          </a:xfrm>
        </p:grpSpPr>
        <p:sp>
          <p:nvSpPr>
            <p:cNvPr id="1605" name=""/>
            <p:cNvSpPr/>
            <p:nvPr/>
          </p:nvSpPr>
          <p:spPr>
            <a:xfrm>
              <a:off x="5404680" y="5746320"/>
              <a:ext cx="1393200" cy="5018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ffffff"/>
                  </a:solidFill>
                  <a:latin typeface="Arial"/>
                  <a:cs typeface="Simplified Arabic"/>
                </a:rPr>
                <a:t>مصنع ب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06" name=""/>
            <p:cNvGrpSpPr/>
            <p:nvPr/>
          </p:nvGrpSpPr>
          <p:grpSpPr>
            <a:xfrm>
              <a:off x="1541520" y="2360520"/>
              <a:ext cx="6840000" cy="3887640"/>
              <a:chOff x="1541520" y="2360520"/>
              <a:chExt cx="6840000" cy="3887640"/>
            </a:xfrm>
          </p:grpSpPr>
          <p:sp>
            <p:nvSpPr>
              <p:cNvPr id="1607" name=""/>
              <p:cNvSpPr/>
              <p:nvPr/>
            </p:nvSpPr>
            <p:spPr>
              <a:xfrm>
                <a:off x="3696120" y="2360520"/>
                <a:ext cx="2786400" cy="50148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2400" spc="-1" strike="noStrike">
                    <a:solidFill>
                      <a:srgbClr val="ffffff"/>
                    </a:solidFill>
                    <a:latin typeface="Arial"/>
                    <a:cs typeface="Simplified Arabic"/>
                  </a:rPr>
                  <a:t>المدير العام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5469120" y="3426480"/>
                <a:ext cx="2786760" cy="50148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2400" spc="-1" strike="noStrike">
                    <a:solidFill>
                      <a:srgbClr val="ffffff"/>
                    </a:solidFill>
                    <a:latin typeface="Arial"/>
                    <a:cs typeface="Simplified Arabic"/>
                  </a:rPr>
                  <a:t>إدارة الأفـــراد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>
                <a:off x="1541520" y="3426480"/>
                <a:ext cx="2851200" cy="50148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2400" spc="-1" strike="noStrike">
                    <a:solidFill>
                      <a:srgbClr val="ffffff"/>
                    </a:solidFill>
                    <a:latin typeface="Arial"/>
                    <a:cs typeface="Simplified Arabic"/>
                  </a:rPr>
                  <a:t>إدارة التمويل 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6226920" y="4492080"/>
                <a:ext cx="2028600" cy="50184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2400" spc="-1" strike="noStrike">
                    <a:solidFill>
                      <a:srgbClr val="ffffff"/>
                    </a:solidFill>
                    <a:latin typeface="Arial"/>
                    <a:cs typeface="Simplified Arabic"/>
                  </a:rPr>
                  <a:t>قسم الإنتاج س 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1541520" y="4492080"/>
                <a:ext cx="2913840" cy="50184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2400" spc="-1" strike="noStrike">
                    <a:solidFill>
                      <a:srgbClr val="ffffff"/>
                    </a:solidFill>
                    <a:latin typeface="Arial"/>
                    <a:cs typeface="Simplified Arabic"/>
                  </a:rPr>
                  <a:t>قسم الإنتاج ص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2" name=""/>
              <p:cNvSpPr/>
              <p:nvPr/>
            </p:nvSpPr>
            <p:spPr>
              <a:xfrm>
                <a:off x="6988320" y="5746320"/>
                <a:ext cx="1393200" cy="50184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2400" spc="-1" strike="noStrike">
                    <a:solidFill>
                      <a:srgbClr val="ffffff"/>
                    </a:solidFill>
                    <a:latin typeface="Arial"/>
                    <a:cs typeface="Simplified Arabic"/>
                  </a:rPr>
                  <a:t>مصنع أ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3189240" y="5746320"/>
                <a:ext cx="1329120" cy="50184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2400" spc="-1" strike="noStrike">
                    <a:solidFill>
                      <a:srgbClr val="ffffff"/>
                    </a:solidFill>
                    <a:latin typeface="Arial"/>
                    <a:cs typeface="Simplified Arabic"/>
                  </a:rPr>
                  <a:t>مصنع ج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1605600" y="5746320"/>
                <a:ext cx="1393200" cy="50184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2400" spc="-1" strike="noStrike">
                    <a:solidFill>
                      <a:srgbClr val="ffffff"/>
                    </a:solidFill>
                    <a:latin typeface="Arial"/>
                    <a:cs typeface="Simplified Arabic"/>
                  </a:rPr>
                  <a:t>مصنع د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15" name=""/>
              <p:cNvGrpSpPr/>
              <p:nvPr/>
            </p:nvGrpSpPr>
            <p:grpSpPr>
              <a:xfrm>
                <a:off x="2682000" y="3050280"/>
                <a:ext cx="4559760" cy="376200"/>
                <a:chOff x="2682000" y="3050280"/>
                <a:chExt cx="4559760" cy="376200"/>
              </a:xfrm>
            </p:grpSpPr>
            <p:sp>
              <p:nvSpPr>
                <p:cNvPr id="1616" name=""/>
                <p:cNvSpPr/>
                <p:nvPr/>
              </p:nvSpPr>
              <p:spPr>
                <a:xfrm>
                  <a:off x="2682000" y="3050280"/>
                  <a:ext cx="0" cy="3762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17" name=""/>
                <p:cNvSpPr/>
                <p:nvPr/>
              </p:nvSpPr>
              <p:spPr>
                <a:xfrm>
                  <a:off x="7241760" y="3050280"/>
                  <a:ext cx="0" cy="3762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18" name=""/>
                <p:cNvSpPr/>
                <p:nvPr/>
              </p:nvSpPr>
              <p:spPr>
                <a:xfrm flipH="1">
                  <a:off x="2682000" y="3050280"/>
                  <a:ext cx="455976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9" name=""/>
              <p:cNvSpPr/>
              <p:nvPr/>
            </p:nvSpPr>
            <p:spPr>
              <a:xfrm>
                <a:off x="4962240" y="2862000"/>
                <a:ext cx="0" cy="11905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2809080" y="4052520"/>
                <a:ext cx="0" cy="376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>
                <a:off x="7369200" y="4052520"/>
                <a:ext cx="0" cy="376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 flipH="1">
                <a:off x="2809080" y="4052520"/>
                <a:ext cx="45597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23" name=""/>
              <p:cNvGrpSpPr/>
              <p:nvPr/>
            </p:nvGrpSpPr>
            <p:grpSpPr>
              <a:xfrm>
                <a:off x="5848200" y="4994280"/>
                <a:ext cx="1963440" cy="626400"/>
                <a:chOff x="5848200" y="4994280"/>
                <a:chExt cx="1963440" cy="626400"/>
              </a:xfrm>
            </p:grpSpPr>
            <p:sp>
              <p:nvSpPr>
                <p:cNvPr id="1624" name=""/>
                <p:cNvSpPr/>
                <p:nvPr/>
              </p:nvSpPr>
              <p:spPr>
                <a:xfrm>
                  <a:off x="6797880" y="4994280"/>
                  <a:ext cx="0" cy="2502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25" name=""/>
                <p:cNvSpPr/>
                <p:nvPr/>
              </p:nvSpPr>
              <p:spPr>
                <a:xfrm flipH="1">
                  <a:off x="5848200" y="5244480"/>
                  <a:ext cx="19630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26" name=""/>
                <p:cNvSpPr/>
                <p:nvPr/>
              </p:nvSpPr>
              <p:spPr>
                <a:xfrm>
                  <a:off x="7811640" y="5244480"/>
                  <a:ext cx="0" cy="3762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27" name=""/>
                <p:cNvSpPr/>
                <p:nvPr/>
              </p:nvSpPr>
              <p:spPr>
                <a:xfrm>
                  <a:off x="5848560" y="5244480"/>
                  <a:ext cx="0" cy="3762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8" name=""/>
              <p:cNvGrpSpPr/>
              <p:nvPr/>
            </p:nvGrpSpPr>
            <p:grpSpPr>
              <a:xfrm>
                <a:off x="2175120" y="4994280"/>
                <a:ext cx="1773360" cy="689760"/>
                <a:chOff x="2175120" y="4994280"/>
                <a:chExt cx="1773360" cy="689760"/>
              </a:xfrm>
            </p:grpSpPr>
            <p:sp>
              <p:nvSpPr>
                <p:cNvPr id="1629" name=""/>
                <p:cNvSpPr/>
                <p:nvPr/>
              </p:nvSpPr>
              <p:spPr>
                <a:xfrm>
                  <a:off x="2998800" y="4994280"/>
                  <a:ext cx="0" cy="3135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30" name=""/>
                <p:cNvSpPr/>
                <p:nvPr/>
              </p:nvSpPr>
              <p:spPr>
                <a:xfrm>
                  <a:off x="3948480" y="5307840"/>
                  <a:ext cx="0" cy="3762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31" name=""/>
                <p:cNvSpPr/>
                <p:nvPr/>
              </p:nvSpPr>
              <p:spPr>
                <a:xfrm>
                  <a:off x="2175120" y="5307840"/>
                  <a:ext cx="0" cy="3762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2" name=""/>
              <p:cNvSpPr/>
              <p:nvPr/>
            </p:nvSpPr>
            <p:spPr>
              <a:xfrm flipH="1">
                <a:off x="2175120" y="5308200"/>
                <a:ext cx="17733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16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16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16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1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cc"/>
                </a:solidFill>
                <a:latin typeface="Tahoma"/>
                <a:cs typeface="Simplified Arabic"/>
              </a:rPr>
              <a:t>التنظيم في إدارة الافراد</a:t>
            </a:r>
            <a:br>
              <a:rPr sz="4000"/>
            </a:br>
            <a:r>
              <a:rPr b="0" lang="en-US" sz="3600" spc="-1" strike="noStrike">
                <a:solidFill>
                  <a:srgbClr val="ffffcc"/>
                </a:solidFill>
                <a:latin typeface="Tahoma"/>
                <a:ea typeface="Simplified Arabic"/>
              </a:rPr>
              <a:t>2</a:t>
            </a:r>
            <a:r>
              <a:rPr b="0" lang="en-US" sz="3600" spc="-1" strike="noStrike">
                <a:solidFill>
                  <a:srgbClr val="ffffcc"/>
                </a:solidFill>
                <a:latin typeface="Tahoma"/>
                <a:ea typeface="Simplified Arabic"/>
              </a:rPr>
              <a:t>-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  <a:ea typeface="Simplified Arabic"/>
              </a:rPr>
              <a:t> </a:t>
            </a:r>
            <a:r>
              <a:rPr b="0" lang="hi-IN" sz="3200" spc="-1" strike="noStrike">
                <a:solidFill>
                  <a:srgbClr val="ffffcc"/>
                </a:solidFill>
                <a:latin typeface="Tahoma"/>
                <a:cs typeface="Simplified Arabic"/>
              </a:rPr>
              <a:t>وحدة مركزية ووحدات تابعة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1634" name=""/>
          <p:cNvGrpSpPr/>
          <p:nvPr/>
        </p:nvGrpSpPr>
        <p:grpSpPr>
          <a:xfrm>
            <a:off x="1295280" y="2432160"/>
            <a:ext cx="7467480" cy="3816000"/>
            <a:chOff x="1295280" y="2432160"/>
            <a:chExt cx="7467480" cy="3816000"/>
          </a:xfrm>
        </p:grpSpPr>
        <p:sp>
          <p:nvSpPr>
            <p:cNvPr id="1635" name=""/>
            <p:cNvSpPr/>
            <p:nvPr/>
          </p:nvSpPr>
          <p:spPr>
            <a:xfrm flipH="1">
              <a:off x="1995840" y="4686840"/>
              <a:ext cx="1788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36" name=""/>
            <p:cNvGrpSpPr/>
            <p:nvPr/>
          </p:nvGrpSpPr>
          <p:grpSpPr>
            <a:xfrm>
              <a:off x="1295280" y="2432160"/>
              <a:ext cx="7467480" cy="3816000"/>
              <a:chOff x="1295280" y="2432160"/>
              <a:chExt cx="7467480" cy="3816000"/>
            </a:xfrm>
          </p:grpSpPr>
          <p:sp>
            <p:nvSpPr>
              <p:cNvPr id="1637" name=""/>
              <p:cNvSpPr/>
              <p:nvPr/>
            </p:nvSpPr>
            <p:spPr>
              <a:xfrm>
                <a:off x="3656160" y="2432160"/>
                <a:ext cx="2808720" cy="46260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2800" spc="-1" strike="noStrike">
                    <a:solidFill>
                      <a:srgbClr val="ffffff"/>
                    </a:solidFill>
                    <a:latin typeface="Arial"/>
                    <a:cs typeface="Simplified Arabic"/>
                  </a:rPr>
                  <a:t>المدير العام 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>
                <a:off x="5762880" y="3125520"/>
                <a:ext cx="2808720" cy="34776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2400" spc="-1" strike="noStrike">
                    <a:solidFill>
                      <a:srgbClr val="ffffff"/>
                    </a:solidFill>
                    <a:latin typeface="Arial"/>
                    <a:cs typeface="Simplified Arabic"/>
                  </a:rPr>
                  <a:t>إدارة الأفـــراد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9" name=""/>
              <p:cNvSpPr/>
              <p:nvPr/>
            </p:nvSpPr>
            <p:spPr>
              <a:xfrm>
                <a:off x="1486440" y="3125520"/>
                <a:ext cx="2873160" cy="34776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2400" spc="-1" strike="noStrike">
                    <a:solidFill>
                      <a:srgbClr val="ffffff"/>
                    </a:solidFill>
                    <a:latin typeface="Arial"/>
                    <a:cs typeface="Simplified Arabic"/>
                  </a:rPr>
                  <a:t>إدارة التمويل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 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0" name=""/>
              <p:cNvSpPr/>
              <p:nvPr/>
            </p:nvSpPr>
            <p:spPr>
              <a:xfrm>
                <a:off x="7102800" y="3993480"/>
                <a:ext cx="1467360" cy="40392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2000" spc="-1" strike="noStrike">
                    <a:solidFill>
                      <a:srgbClr val="ffffff"/>
                    </a:solidFill>
                    <a:latin typeface="Arial"/>
                    <a:cs typeface="Simplified Arabic"/>
                  </a:rPr>
                  <a:t>التصنيع   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1" name=""/>
              <p:cNvSpPr/>
              <p:nvPr/>
            </p:nvSpPr>
            <p:spPr>
              <a:xfrm>
                <a:off x="2124000" y="3993480"/>
                <a:ext cx="1532160" cy="40500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2000" spc="-1" strike="noStrike">
                    <a:solidFill>
                      <a:srgbClr val="ffffff"/>
                    </a:solidFill>
                    <a:latin typeface="Arial"/>
                    <a:cs typeface="Simplified Arabic"/>
                  </a:rPr>
                  <a:t>قسم السلعة  ب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2" name=""/>
              <p:cNvSpPr/>
              <p:nvPr/>
            </p:nvSpPr>
            <p:spPr>
              <a:xfrm>
                <a:off x="7358400" y="5728320"/>
                <a:ext cx="1404360" cy="46224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2000" spc="-1" strike="noStrike">
                    <a:solidFill>
                      <a:srgbClr val="ffffff"/>
                    </a:solidFill>
                    <a:latin typeface="Arial"/>
                    <a:cs typeface="Simplified Arabic"/>
                  </a:rPr>
                  <a:t>مصنع أ 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3" name=""/>
              <p:cNvSpPr/>
              <p:nvPr/>
            </p:nvSpPr>
            <p:spPr>
              <a:xfrm>
                <a:off x="6273720" y="4686840"/>
                <a:ext cx="1404360" cy="75204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2000" spc="-1" strike="noStrike">
                    <a:solidFill>
                      <a:srgbClr val="ffffff"/>
                    </a:solidFill>
                    <a:latin typeface="Arial"/>
                    <a:cs typeface="Simplified Arabic"/>
                  </a:rPr>
                  <a:t>وحدة أفراد 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2000" spc="-1" strike="noStrike">
                    <a:solidFill>
                      <a:srgbClr val="ffffff"/>
                    </a:solidFill>
                    <a:latin typeface="Arial"/>
                    <a:cs typeface="Simplified Arabic"/>
                  </a:rPr>
                  <a:t>التصنيع 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4" name=""/>
              <p:cNvSpPr/>
              <p:nvPr/>
            </p:nvSpPr>
            <p:spPr>
              <a:xfrm>
                <a:off x="3081960" y="5033520"/>
                <a:ext cx="1339560" cy="34668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  </a:t>
                </a:r>
                <a:r>
                  <a:rPr b="1" lang="hi-IN" sz="2000" spc="-1" strike="noStrike">
                    <a:solidFill>
                      <a:srgbClr val="ffffff"/>
                    </a:solidFill>
                    <a:latin typeface="Arial"/>
                    <a:cs typeface="Simplified Arabic"/>
                  </a:rPr>
                  <a:t>وحدة افراد</a:t>
                </a: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  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5" name=""/>
              <p:cNvSpPr/>
              <p:nvPr/>
            </p:nvSpPr>
            <p:spPr>
              <a:xfrm>
                <a:off x="1295280" y="5033520"/>
                <a:ext cx="1404360" cy="34668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2000" spc="-1" strike="noStrike">
                    <a:solidFill>
                      <a:srgbClr val="ffffff"/>
                    </a:solidFill>
                    <a:latin typeface="Arial"/>
                    <a:cs typeface="Simplified Arabic"/>
                  </a:rPr>
                  <a:t>وحدة تمويل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46" name=""/>
              <p:cNvGrpSpPr/>
              <p:nvPr/>
            </p:nvGrpSpPr>
            <p:grpSpPr>
              <a:xfrm>
                <a:off x="2826360" y="2952000"/>
                <a:ext cx="4595760" cy="173160"/>
                <a:chOff x="2826360" y="2952000"/>
                <a:chExt cx="4595760" cy="173160"/>
              </a:xfrm>
            </p:grpSpPr>
            <p:sp>
              <p:nvSpPr>
                <p:cNvPr id="1647" name=""/>
                <p:cNvSpPr/>
                <p:nvPr/>
              </p:nvSpPr>
              <p:spPr>
                <a:xfrm>
                  <a:off x="2826360" y="2952000"/>
                  <a:ext cx="0" cy="1731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48" name=""/>
                <p:cNvSpPr/>
                <p:nvPr/>
              </p:nvSpPr>
              <p:spPr>
                <a:xfrm>
                  <a:off x="7422120" y="2952000"/>
                  <a:ext cx="0" cy="1731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49" name=""/>
                <p:cNvSpPr/>
                <p:nvPr/>
              </p:nvSpPr>
              <p:spPr>
                <a:xfrm flipH="1">
                  <a:off x="2826360" y="2952000"/>
                  <a:ext cx="459576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50" name=""/>
              <p:cNvSpPr/>
              <p:nvPr/>
            </p:nvSpPr>
            <p:spPr>
              <a:xfrm flipH="1">
                <a:off x="5123880" y="2837160"/>
                <a:ext cx="1080" cy="809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1" name=""/>
              <p:cNvSpPr/>
              <p:nvPr/>
            </p:nvSpPr>
            <p:spPr>
              <a:xfrm>
                <a:off x="2954160" y="3646800"/>
                <a:ext cx="0" cy="3463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2" name=""/>
              <p:cNvSpPr/>
              <p:nvPr/>
            </p:nvSpPr>
            <p:spPr>
              <a:xfrm>
                <a:off x="7549920" y="3646800"/>
                <a:ext cx="0" cy="3463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3" name=""/>
              <p:cNvSpPr/>
              <p:nvPr/>
            </p:nvSpPr>
            <p:spPr>
              <a:xfrm flipH="1">
                <a:off x="2954160" y="3646800"/>
                <a:ext cx="45957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4" name=""/>
              <p:cNvGrpSpPr/>
              <p:nvPr/>
            </p:nvGrpSpPr>
            <p:grpSpPr>
              <a:xfrm>
                <a:off x="1995840" y="4397400"/>
                <a:ext cx="1786680" cy="635400"/>
                <a:chOff x="1995840" y="4397400"/>
                <a:chExt cx="1786680" cy="635400"/>
              </a:xfrm>
            </p:grpSpPr>
            <p:sp>
              <p:nvSpPr>
                <p:cNvPr id="1655" name=""/>
                <p:cNvSpPr/>
                <p:nvPr/>
              </p:nvSpPr>
              <p:spPr>
                <a:xfrm>
                  <a:off x="2825640" y="4397400"/>
                  <a:ext cx="0" cy="2890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56" name=""/>
                <p:cNvSpPr/>
                <p:nvPr/>
              </p:nvSpPr>
              <p:spPr>
                <a:xfrm>
                  <a:off x="3782520" y="4686480"/>
                  <a:ext cx="0" cy="3463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57" name=""/>
                <p:cNvSpPr/>
                <p:nvPr/>
              </p:nvSpPr>
              <p:spPr>
                <a:xfrm>
                  <a:off x="1995840" y="4686480"/>
                  <a:ext cx="0" cy="3463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58" name=""/>
              <p:cNvSpPr/>
              <p:nvPr/>
            </p:nvSpPr>
            <p:spPr>
              <a:xfrm>
                <a:off x="5443560" y="3993480"/>
                <a:ext cx="1531080" cy="40392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Simplified Arabic"/>
                  </a:rPr>
                  <a:t>   قسم السلعة أ</a:t>
                </a: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   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9" name=""/>
              <p:cNvSpPr/>
              <p:nvPr/>
            </p:nvSpPr>
            <p:spPr>
              <a:xfrm>
                <a:off x="3145680" y="5843160"/>
                <a:ext cx="1339560" cy="40500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2000" spc="-1" strike="noStrike">
                    <a:solidFill>
                      <a:srgbClr val="ffffff"/>
                    </a:solidFill>
                    <a:latin typeface="Arial"/>
                    <a:cs typeface="Simplified Arabic"/>
                  </a:rPr>
                  <a:t>مصنع ب</a:t>
                </a: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0" name=""/>
              <p:cNvSpPr/>
              <p:nvPr/>
            </p:nvSpPr>
            <p:spPr>
              <a:xfrm>
                <a:off x="1295280" y="5843160"/>
                <a:ext cx="1404360" cy="40500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2000" spc="-1" strike="noStrike">
                    <a:solidFill>
                      <a:srgbClr val="ffffff"/>
                    </a:solidFill>
                    <a:latin typeface="Arial"/>
                    <a:cs typeface="Simplified Arabic"/>
                  </a:rPr>
                  <a:t>مصنع ج 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61" name=""/>
              <p:cNvGrpSpPr/>
              <p:nvPr/>
            </p:nvGrpSpPr>
            <p:grpSpPr>
              <a:xfrm>
                <a:off x="1932480" y="5207040"/>
                <a:ext cx="1851480" cy="577080"/>
                <a:chOff x="1932480" y="5207040"/>
                <a:chExt cx="1851480" cy="577080"/>
              </a:xfrm>
            </p:grpSpPr>
            <p:grpSp>
              <p:nvGrpSpPr>
                <p:cNvPr id="1662" name=""/>
                <p:cNvGrpSpPr/>
                <p:nvPr/>
              </p:nvGrpSpPr>
              <p:grpSpPr>
                <a:xfrm>
                  <a:off x="1995840" y="5207040"/>
                  <a:ext cx="1788120" cy="577080"/>
                  <a:chOff x="1995840" y="5207040"/>
                  <a:chExt cx="1788120" cy="577080"/>
                </a:xfrm>
              </p:grpSpPr>
              <p:sp>
                <p:nvSpPr>
                  <p:cNvPr id="1663" name=""/>
                  <p:cNvSpPr/>
                  <p:nvPr/>
                </p:nvSpPr>
                <p:spPr>
                  <a:xfrm>
                    <a:off x="2826360" y="5207040"/>
                    <a:ext cx="0" cy="26244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4" name=""/>
                  <p:cNvSpPr/>
                  <p:nvPr/>
                </p:nvSpPr>
                <p:spPr>
                  <a:xfrm>
                    <a:off x="3783960" y="5469480"/>
                    <a:ext cx="0" cy="31464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5" name=""/>
                  <p:cNvSpPr/>
                  <p:nvPr/>
                </p:nvSpPr>
                <p:spPr>
                  <a:xfrm>
                    <a:off x="1995840" y="5469480"/>
                    <a:ext cx="0" cy="31464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66" name=""/>
                <p:cNvSpPr/>
                <p:nvPr/>
              </p:nvSpPr>
              <p:spPr>
                <a:xfrm flipH="1">
                  <a:off x="1932480" y="5469480"/>
                  <a:ext cx="17884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7" name=""/>
              <p:cNvSpPr/>
              <p:nvPr/>
            </p:nvSpPr>
            <p:spPr>
              <a:xfrm flipH="1">
                <a:off x="2826000" y="4570920"/>
                <a:ext cx="1080" cy="8092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>
                <a:off x="6337080" y="3646800"/>
                <a:ext cx="0" cy="3463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 flipH="1">
                <a:off x="7676640" y="5033520"/>
                <a:ext cx="5119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70" name=""/>
              <p:cNvGrpSpPr/>
              <p:nvPr/>
            </p:nvGrpSpPr>
            <p:grpSpPr>
              <a:xfrm>
                <a:off x="8187480" y="4456080"/>
                <a:ext cx="0" cy="1212840"/>
                <a:chOff x="8187480" y="4456080"/>
                <a:chExt cx="0" cy="1212840"/>
              </a:xfrm>
            </p:grpSpPr>
            <p:sp>
              <p:nvSpPr>
                <p:cNvPr id="1671" name=""/>
                <p:cNvSpPr/>
                <p:nvPr/>
              </p:nvSpPr>
              <p:spPr>
                <a:xfrm>
                  <a:off x="8187480" y="4456080"/>
                  <a:ext cx="0" cy="10983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2" name=""/>
                <p:cNvSpPr/>
                <p:nvPr/>
              </p:nvSpPr>
              <p:spPr>
                <a:xfrm>
                  <a:off x="8187480" y="5322240"/>
                  <a:ext cx="0" cy="3466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cc"/>
                </a:solidFill>
                <a:latin typeface="Tahoma"/>
                <a:cs typeface="Simplified Arabic"/>
              </a:rPr>
              <a:t>التنظيم في إدارة الافراد</a:t>
            </a:r>
            <a:br>
              <a:rPr sz="4000"/>
            </a:br>
            <a:r>
              <a:rPr b="0" lang="en-US" sz="3600" spc="-1" strike="noStrike">
                <a:solidFill>
                  <a:srgbClr val="ffffcc"/>
                </a:solidFill>
                <a:latin typeface="Tahoma"/>
                <a:ea typeface="Simplified Arabic"/>
              </a:rPr>
              <a:t>3</a:t>
            </a:r>
            <a:r>
              <a:rPr b="0" lang="en-US" sz="3600" spc="-1" strike="noStrike">
                <a:solidFill>
                  <a:srgbClr val="ffffcc"/>
                </a:solidFill>
                <a:latin typeface="Tahoma"/>
                <a:ea typeface="Simplified Arabic"/>
              </a:rPr>
              <a:t>-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  <a:ea typeface="Simplified Arabic"/>
              </a:rPr>
              <a:t> </a:t>
            </a:r>
            <a:r>
              <a:rPr b="0" lang="hi-IN" sz="3200" spc="-1" strike="noStrike">
                <a:solidFill>
                  <a:srgbClr val="ffffcc"/>
                </a:solidFill>
                <a:latin typeface="Tahoma"/>
                <a:cs typeface="Simplified Arabic"/>
              </a:rPr>
              <a:t>وحدة مركزية ووحدات على مستوى المصانع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1674" name=""/>
          <p:cNvGrpSpPr/>
          <p:nvPr/>
        </p:nvGrpSpPr>
        <p:grpSpPr>
          <a:xfrm>
            <a:off x="1371600" y="2565360"/>
            <a:ext cx="6858000" cy="3530520"/>
            <a:chOff x="1371600" y="2565360"/>
            <a:chExt cx="6858000" cy="3530520"/>
          </a:xfrm>
        </p:grpSpPr>
        <p:grpSp>
          <p:nvGrpSpPr>
            <p:cNvPr id="1675" name=""/>
            <p:cNvGrpSpPr/>
            <p:nvPr/>
          </p:nvGrpSpPr>
          <p:grpSpPr>
            <a:xfrm>
              <a:off x="1371600" y="2565360"/>
              <a:ext cx="6858000" cy="3530520"/>
              <a:chOff x="1371600" y="2565360"/>
              <a:chExt cx="6858000" cy="3530520"/>
            </a:xfrm>
          </p:grpSpPr>
          <p:sp>
            <p:nvSpPr>
              <p:cNvPr id="1676" name=""/>
              <p:cNvSpPr/>
              <p:nvPr/>
            </p:nvSpPr>
            <p:spPr>
              <a:xfrm>
                <a:off x="3685680" y="2565360"/>
                <a:ext cx="2546280" cy="41544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2400" spc="-1" strike="noStrike">
                    <a:solidFill>
                      <a:srgbClr val="ffffff"/>
                    </a:solidFill>
                    <a:latin typeface="Arial"/>
                    <a:cs typeface="Simplified Arabic"/>
                  </a:rPr>
                  <a:t>المدير العام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>
                <a:off x="5537880" y="3291840"/>
                <a:ext cx="2546280" cy="31212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2000" spc="-1" strike="noStrike">
                    <a:solidFill>
                      <a:srgbClr val="ffffff"/>
                    </a:solidFill>
                    <a:latin typeface="Arial"/>
                    <a:cs typeface="Simplified Arabic"/>
                  </a:rPr>
                  <a:t>إدارة الأفـــراد</a:t>
                </a: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>
                <a:off x="1661040" y="3291840"/>
                <a:ext cx="2604600" cy="31212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2000" spc="-1" strike="noStrike">
                    <a:solidFill>
                      <a:srgbClr val="ffffff"/>
                    </a:solidFill>
                    <a:latin typeface="Arial"/>
                    <a:cs typeface="Simplified Arabic"/>
                  </a:rPr>
                  <a:t>إدارة التمويل  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>
                <a:off x="5479200" y="4071240"/>
                <a:ext cx="2603520" cy="36252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2000" spc="-1" strike="noStrike">
                    <a:solidFill>
                      <a:srgbClr val="ffffff"/>
                    </a:solidFill>
                    <a:latin typeface="Arial"/>
                    <a:cs typeface="Simplified Arabic"/>
                  </a:rPr>
                  <a:t>قســم صناعي  س</a:t>
                </a: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   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0" name=""/>
              <p:cNvSpPr/>
              <p:nvPr/>
            </p:nvSpPr>
            <p:spPr>
              <a:xfrm>
                <a:off x="1775520" y="4071240"/>
                <a:ext cx="2430360" cy="36360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2000" spc="-1" strike="noStrike">
                    <a:solidFill>
                      <a:srgbClr val="ffffff"/>
                    </a:solidFill>
                    <a:latin typeface="Arial"/>
                    <a:cs typeface="Simplified Arabic"/>
                  </a:rPr>
                  <a:t>قسم صناعي  ص 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>
                <a:off x="7447680" y="5109480"/>
                <a:ext cx="781920" cy="98640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1800" spc="-1" strike="noStrike">
                    <a:solidFill>
                      <a:srgbClr val="ffffff"/>
                    </a:solidFill>
                    <a:latin typeface="Arial"/>
                    <a:cs typeface="Simplified Arabic"/>
                  </a:rPr>
                  <a:t>وحدة 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1800" spc="-1" strike="noStrike">
                    <a:solidFill>
                      <a:srgbClr val="ffffff"/>
                    </a:solidFill>
                    <a:latin typeface="Arial"/>
                    <a:cs typeface="Simplified Arabic"/>
                  </a:rPr>
                  <a:t>أفراد 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1800" spc="-1" strike="noStrike">
                    <a:solidFill>
                      <a:srgbClr val="ffffff"/>
                    </a:solidFill>
                    <a:latin typeface="Arial"/>
                    <a:cs typeface="Simplified Arabic"/>
                  </a:rPr>
                  <a:t>مصنع أ  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82" name=""/>
              <p:cNvGrpSpPr/>
              <p:nvPr/>
            </p:nvGrpSpPr>
            <p:grpSpPr>
              <a:xfrm>
                <a:off x="2874960" y="3136320"/>
                <a:ext cx="4166640" cy="155520"/>
                <a:chOff x="2874960" y="3136320"/>
                <a:chExt cx="4166640" cy="155520"/>
              </a:xfrm>
            </p:grpSpPr>
            <p:sp>
              <p:nvSpPr>
                <p:cNvPr id="1683" name=""/>
                <p:cNvSpPr/>
                <p:nvPr/>
              </p:nvSpPr>
              <p:spPr>
                <a:xfrm>
                  <a:off x="2875320" y="3136320"/>
                  <a:ext cx="0" cy="1555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4" name=""/>
                <p:cNvSpPr/>
                <p:nvPr/>
              </p:nvSpPr>
              <p:spPr>
                <a:xfrm>
                  <a:off x="7041600" y="3136320"/>
                  <a:ext cx="0" cy="1555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5" name=""/>
                <p:cNvSpPr/>
                <p:nvPr/>
              </p:nvSpPr>
              <p:spPr>
                <a:xfrm flipH="1">
                  <a:off x="2874960" y="3136320"/>
                  <a:ext cx="41662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6" name=""/>
              <p:cNvSpPr/>
              <p:nvPr/>
            </p:nvSpPr>
            <p:spPr>
              <a:xfrm>
                <a:off x="4958640" y="2980800"/>
                <a:ext cx="0" cy="7790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>
                <a:off x="2991600" y="3760200"/>
                <a:ext cx="0" cy="3110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>
                <a:off x="7157880" y="3760200"/>
                <a:ext cx="0" cy="3110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 flipH="1">
                <a:off x="2991240" y="3760200"/>
                <a:ext cx="4166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>
                <a:off x="2354760" y="4434120"/>
                <a:ext cx="0" cy="5194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6231960" y="4434120"/>
                <a:ext cx="0" cy="5194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>
                <a:off x="4032360" y="5109480"/>
                <a:ext cx="781920" cy="98640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1800" spc="-1" strike="noStrike">
                    <a:solidFill>
                      <a:srgbClr val="ffffff"/>
                    </a:solidFill>
                    <a:latin typeface="Arial"/>
                    <a:cs typeface="Simplified Arabic"/>
                  </a:rPr>
                  <a:t>وحدة 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1800" spc="-1" strike="noStrike">
                    <a:solidFill>
                      <a:srgbClr val="ffffff"/>
                    </a:solidFill>
                    <a:latin typeface="Arial"/>
                    <a:cs typeface="Simplified Arabic"/>
                  </a:rPr>
                  <a:t>أفراد 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1800" spc="-1" strike="noStrike">
                    <a:solidFill>
                      <a:srgbClr val="ffffff"/>
                    </a:solidFill>
                    <a:latin typeface="Arial"/>
                    <a:cs typeface="Simplified Arabic"/>
                  </a:rPr>
                  <a:t>مصنع ج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>
                <a:off x="3511800" y="5731920"/>
                <a:ext cx="5191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>
                <a:off x="1602360" y="4952160"/>
                <a:ext cx="0" cy="3355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>
                <a:off x="3165120" y="4952160"/>
                <a:ext cx="0" cy="3355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 flipH="1">
                <a:off x="1602000" y="4952160"/>
                <a:ext cx="15627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>
                <a:off x="2644200" y="5316480"/>
                <a:ext cx="867600" cy="75852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2000" spc="-1" strike="noStrike">
                    <a:solidFill>
                      <a:srgbClr val="ffffff"/>
                    </a:solidFill>
                    <a:latin typeface="Arial"/>
                    <a:cs typeface="Simplified Arabic"/>
                  </a:rPr>
                  <a:t>مصنع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2000" spc="-1" strike="noStrike">
                    <a:solidFill>
                      <a:srgbClr val="ffffff"/>
                    </a:solidFill>
                    <a:latin typeface="Arial"/>
                    <a:cs typeface="Simplified Arabic"/>
                  </a:rPr>
                  <a:t>ج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>
                <a:off x="1371600" y="5316480"/>
                <a:ext cx="867240" cy="75852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2000" spc="-1" strike="noStrike">
                    <a:solidFill>
                      <a:srgbClr val="ffffff"/>
                    </a:solidFill>
                    <a:latin typeface="Arial"/>
                    <a:cs typeface="Simplified Arabic"/>
                  </a:rPr>
                  <a:t>مصنع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Simplified Arabic"/>
                  </a:rPr>
                  <a:t> د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5421600" y="4952160"/>
                <a:ext cx="0" cy="3355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6984360" y="4952160"/>
                <a:ext cx="0" cy="3355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 flipH="1">
                <a:off x="5421240" y="4953600"/>
                <a:ext cx="15627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>
                <a:off x="6231960" y="5316480"/>
                <a:ext cx="867240" cy="75852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2000" spc="-1" strike="noStrike">
                    <a:solidFill>
                      <a:srgbClr val="ffffff"/>
                    </a:solidFill>
                    <a:latin typeface="Arial"/>
                    <a:cs typeface="Simplified Arabic"/>
                  </a:rPr>
                  <a:t>مصنع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2000" spc="-1" strike="noStrike">
                    <a:solidFill>
                      <a:srgbClr val="ffffff"/>
                    </a:solidFill>
                    <a:latin typeface="Arial"/>
                    <a:cs typeface="Simplified Arabic"/>
                  </a:rPr>
                  <a:t>أ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5132160" y="5316480"/>
                <a:ext cx="867600" cy="75852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2000" spc="-1" strike="noStrike">
                    <a:solidFill>
                      <a:srgbClr val="ffffff"/>
                    </a:solidFill>
                    <a:latin typeface="Arial"/>
                    <a:cs typeface="Simplified Arabic"/>
                  </a:rPr>
                  <a:t>مصنع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2000" spc="-1" strike="noStrike">
                    <a:solidFill>
                      <a:srgbClr val="ffffff"/>
                    </a:solidFill>
                    <a:latin typeface="Arial"/>
                    <a:cs typeface="Simplified Arabic"/>
                  </a:rPr>
                  <a:t>ب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704" name=""/>
            <p:cNvSpPr/>
            <p:nvPr/>
          </p:nvSpPr>
          <p:spPr>
            <a:xfrm>
              <a:off x="7099200" y="5731920"/>
              <a:ext cx="405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3000"/>
                                        <p:tgtEl>
                                          <p:spTgt spid="16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3000" fill="hold"/>
                                        <p:tgtEl>
                                          <p:spTgt spid="16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3000" fill="hold"/>
                                        <p:tgtEl>
                                          <p:spTgt spid="16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3000" fill="hold"/>
                                        <p:tgtEl>
                                          <p:spTgt spid="16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5" name="PlaceHolder 1"/>
          <p:cNvSpPr>
            <a:spLocks noGrp="1"/>
          </p:cNvSpPr>
          <p:nvPr>
            <p:ph type="title"/>
          </p:nvPr>
        </p:nvSpPr>
        <p:spPr>
          <a:xfrm>
            <a:off x="1042560" y="26028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cc"/>
                </a:solidFill>
                <a:latin typeface="Tahoma"/>
                <a:cs typeface="Simplified Arabic"/>
              </a:rPr>
              <a:t>التنظيم في إدارة الافراد</a:t>
            </a:r>
            <a:br>
              <a:rPr sz="4000"/>
            </a:br>
            <a:r>
              <a:rPr b="0" lang="en-US" sz="3600" spc="-1" strike="noStrike">
                <a:solidFill>
                  <a:srgbClr val="ffffcc"/>
                </a:solidFill>
                <a:latin typeface="Tahoma"/>
                <a:ea typeface="Simplified Arabic"/>
              </a:rPr>
              <a:t>4</a:t>
            </a:r>
            <a:r>
              <a:rPr b="0" lang="en-US" sz="3600" spc="-1" strike="noStrike">
                <a:solidFill>
                  <a:srgbClr val="ffffcc"/>
                </a:solidFill>
                <a:latin typeface="Tahoma"/>
                <a:ea typeface="Simplified Arabic"/>
              </a:rPr>
              <a:t>- </a:t>
            </a:r>
            <a:r>
              <a:rPr b="0" lang="hi-IN" sz="3200" spc="-1" strike="noStrike">
                <a:solidFill>
                  <a:srgbClr val="ffffcc"/>
                </a:solidFill>
                <a:latin typeface="Tahoma"/>
                <a:cs typeface="Simplified Arabic"/>
              </a:rPr>
              <a:t>الشكل المختلط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1706" name=""/>
          <p:cNvGrpSpPr/>
          <p:nvPr/>
        </p:nvGrpSpPr>
        <p:grpSpPr>
          <a:xfrm>
            <a:off x="1368360" y="2349360"/>
            <a:ext cx="7394400" cy="3898800"/>
            <a:chOff x="1368360" y="2349360"/>
            <a:chExt cx="7394400" cy="3898800"/>
          </a:xfrm>
        </p:grpSpPr>
        <p:sp>
          <p:nvSpPr>
            <p:cNvPr id="1707" name=""/>
            <p:cNvSpPr/>
            <p:nvPr/>
          </p:nvSpPr>
          <p:spPr>
            <a:xfrm>
              <a:off x="2934720" y="4448880"/>
              <a:ext cx="0" cy="649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708" name=""/>
            <p:cNvGrpSpPr/>
            <p:nvPr/>
          </p:nvGrpSpPr>
          <p:grpSpPr>
            <a:xfrm>
              <a:off x="1368360" y="2349360"/>
              <a:ext cx="7394400" cy="3898800"/>
              <a:chOff x="1368360" y="2349360"/>
              <a:chExt cx="7394400" cy="3898800"/>
            </a:xfrm>
          </p:grpSpPr>
          <p:sp>
            <p:nvSpPr>
              <p:cNvPr id="1709" name=""/>
              <p:cNvSpPr/>
              <p:nvPr/>
            </p:nvSpPr>
            <p:spPr>
              <a:xfrm>
                <a:off x="2934720" y="5048280"/>
                <a:ext cx="0" cy="6004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710" name=""/>
              <p:cNvGrpSpPr/>
              <p:nvPr/>
            </p:nvGrpSpPr>
            <p:grpSpPr>
              <a:xfrm>
                <a:off x="1368360" y="2349360"/>
                <a:ext cx="7394400" cy="3898800"/>
                <a:chOff x="1368360" y="2349360"/>
                <a:chExt cx="7394400" cy="3898800"/>
              </a:xfrm>
            </p:grpSpPr>
            <p:sp>
              <p:nvSpPr>
                <p:cNvPr id="1711" name=""/>
                <p:cNvSpPr/>
                <p:nvPr/>
              </p:nvSpPr>
              <p:spPr>
                <a:xfrm>
                  <a:off x="3687480" y="2349360"/>
                  <a:ext cx="2756880" cy="399960"/>
                </a:xfrm>
                <a:prstGeom prst="rect">
                  <a:avLst/>
                </a:prstGeom>
                <a:solidFill>
                  <a:srgbClr val="ff33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hi-IN" sz="2400" spc="-1" strike="noStrike">
                      <a:solidFill>
                        <a:srgbClr val="ffffff"/>
                      </a:solidFill>
                      <a:latin typeface="Arial"/>
                      <a:cs typeface="Simplified Arabic"/>
                    </a:rPr>
                    <a:t>المدير العام 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12" name=""/>
                <p:cNvSpPr/>
                <p:nvPr/>
              </p:nvSpPr>
              <p:spPr>
                <a:xfrm>
                  <a:off x="5442120" y="3198960"/>
                  <a:ext cx="2757240" cy="399960"/>
                </a:xfrm>
                <a:prstGeom prst="rect">
                  <a:avLst/>
                </a:prstGeom>
                <a:solidFill>
                  <a:srgbClr val="ff33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hi-IN" sz="2000" spc="-1" strike="noStrike">
                      <a:solidFill>
                        <a:srgbClr val="ffffff"/>
                      </a:solidFill>
                      <a:latin typeface="Arial"/>
                      <a:cs typeface="Simplified Arabic"/>
                    </a:rPr>
                    <a:t>إدارة الأفـــراد 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13" name=""/>
                <p:cNvSpPr/>
                <p:nvPr/>
              </p:nvSpPr>
              <p:spPr>
                <a:xfrm>
                  <a:off x="1555920" y="3198960"/>
                  <a:ext cx="2820960" cy="399960"/>
                </a:xfrm>
                <a:prstGeom prst="rect">
                  <a:avLst/>
                </a:prstGeom>
                <a:solidFill>
                  <a:srgbClr val="ff33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hi-IN" sz="2000" spc="-1" strike="noStrike">
                      <a:solidFill>
                        <a:srgbClr val="ffffff"/>
                      </a:solidFill>
                      <a:latin typeface="Arial"/>
                      <a:cs typeface="Simplified Arabic"/>
                    </a:rPr>
                    <a:t>التمويل  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14" name=""/>
                <p:cNvSpPr/>
                <p:nvPr/>
              </p:nvSpPr>
              <p:spPr>
                <a:xfrm>
                  <a:off x="7382880" y="3999240"/>
                  <a:ext cx="1191960" cy="399600"/>
                </a:xfrm>
                <a:prstGeom prst="rect">
                  <a:avLst/>
                </a:prstGeom>
                <a:solidFill>
                  <a:srgbClr val="ff33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hi-IN" sz="2000" spc="-1" strike="noStrike">
                      <a:solidFill>
                        <a:srgbClr val="ffffff"/>
                      </a:solidFill>
                      <a:latin typeface="Arial"/>
                      <a:cs typeface="Simplified Arabic"/>
                    </a:rPr>
                    <a:t>التسويق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15" name=""/>
                <p:cNvSpPr/>
                <p:nvPr/>
              </p:nvSpPr>
              <p:spPr>
                <a:xfrm>
                  <a:off x="1493640" y="3948480"/>
                  <a:ext cx="2882880" cy="399600"/>
                </a:xfrm>
                <a:prstGeom prst="rect">
                  <a:avLst/>
                </a:prstGeom>
                <a:solidFill>
                  <a:srgbClr val="ff33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hi-IN" sz="2000" spc="-1" strike="noStrike">
                      <a:solidFill>
                        <a:srgbClr val="ffffff"/>
                      </a:solidFill>
                      <a:latin typeface="Arial"/>
                      <a:cs typeface="Simplified Arabic"/>
                    </a:rPr>
                    <a:t>قسم السلعة ب  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16" name=""/>
                <p:cNvSpPr/>
                <p:nvPr/>
              </p:nvSpPr>
              <p:spPr>
                <a:xfrm>
                  <a:off x="5879880" y="4498200"/>
                  <a:ext cx="1378440" cy="650160"/>
                </a:xfrm>
                <a:prstGeom prst="rect">
                  <a:avLst/>
                </a:prstGeom>
                <a:solidFill>
                  <a:srgbClr val="ff33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 rtl="1">
                    <a:lnSpc>
                      <a:spcPct val="7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hi-IN" sz="2000" spc="-1" strike="noStrike">
                      <a:solidFill>
                        <a:srgbClr val="ffffff"/>
                      </a:solidFill>
                      <a:latin typeface="Arial"/>
                      <a:cs typeface="Simplified Arabic"/>
                    </a:rPr>
                    <a:t>وحدة افراد 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 rtl="1">
                    <a:lnSpc>
                      <a:spcPct val="7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hi-IN" sz="2000" spc="-1" strike="noStrike">
                      <a:solidFill>
                        <a:srgbClr val="ffffff"/>
                      </a:solidFill>
                      <a:latin typeface="Arial"/>
                      <a:cs typeface="Simplified Arabic"/>
                    </a:rPr>
                    <a:t>التصنيع</a:t>
                  </a: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  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17" name=""/>
                <p:cNvSpPr/>
                <p:nvPr/>
              </p:nvSpPr>
              <p:spPr>
                <a:xfrm>
                  <a:off x="3184560" y="4648320"/>
                  <a:ext cx="1315080" cy="399960"/>
                </a:xfrm>
                <a:prstGeom prst="rect">
                  <a:avLst/>
                </a:prstGeom>
                <a:solidFill>
                  <a:srgbClr val="ff33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   </a:t>
                  </a:r>
                  <a:r>
                    <a:rPr b="1" lang="hi-IN" sz="2000" spc="-1" strike="noStrike">
                      <a:solidFill>
                        <a:srgbClr val="ffffff"/>
                      </a:solidFill>
                      <a:latin typeface="Arial"/>
                      <a:cs typeface="Simplified Arabic"/>
                    </a:rPr>
                    <a:t>وحدة افراد</a:t>
                  </a: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  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18" name=""/>
                <p:cNvSpPr/>
                <p:nvPr/>
              </p:nvSpPr>
              <p:spPr>
                <a:xfrm>
                  <a:off x="1368360" y="4648320"/>
                  <a:ext cx="1378080" cy="399960"/>
                </a:xfrm>
                <a:prstGeom prst="rect">
                  <a:avLst/>
                </a:prstGeom>
                <a:solidFill>
                  <a:srgbClr val="ff33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r>
                    <a:rPr b="1" lang="hi-IN" sz="2000" spc="-1" strike="noStrike">
                      <a:solidFill>
                        <a:srgbClr val="ffffff"/>
                      </a:solidFill>
                      <a:latin typeface="Arial"/>
                      <a:cs typeface="Simplified Arabic"/>
                    </a:rPr>
                    <a:t>وحدة تمويل</a:t>
                  </a: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719" name=""/>
                <p:cNvGrpSpPr/>
                <p:nvPr/>
              </p:nvGrpSpPr>
              <p:grpSpPr>
                <a:xfrm>
                  <a:off x="2684520" y="2899080"/>
                  <a:ext cx="4511520" cy="299520"/>
                  <a:chOff x="2684520" y="2899080"/>
                  <a:chExt cx="4511520" cy="299520"/>
                </a:xfrm>
              </p:grpSpPr>
              <p:sp>
                <p:nvSpPr>
                  <p:cNvPr id="1720" name=""/>
                  <p:cNvSpPr/>
                  <p:nvPr/>
                </p:nvSpPr>
                <p:spPr>
                  <a:xfrm>
                    <a:off x="2684520" y="2899080"/>
                    <a:ext cx="0" cy="29952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1" name=""/>
                  <p:cNvSpPr/>
                  <p:nvPr/>
                </p:nvSpPr>
                <p:spPr>
                  <a:xfrm>
                    <a:off x="7196040" y="2899080"/>
                    <a:ext cx="0" cy="29952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2" name=""/>
                  <p:cNvSpPr/>
                  <p:nvPr/>
                </p:nvSpPr>
                <p:spPr>
                  <a:xfrm flipH="1">
                    <a:off x="2684520" y="2899080"/>
                    <a:ext cx="451152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3" name=""/>
                <p:cNvSpPr/>
                <p:nvPr/>
              </p:nvSpPr>
              <p:spPr>
                <a:xfrm>
                  <a:off x="4940280" y="2749320"/>
                  <a:ext cx="0" cy="9486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24" name=""/>
                <p:cNvSpPr/>
                <p:nvPr/>
              </p:nvSpPr>
              <p:spPr>
                <a:xfrm flipH="1">
                  <a:off x="2808720" y="3698280"/>
                  <a:ext cx="1080" cy="2498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25" name=""/>
                <p:cNvSpPr/>
                <p:nvPr/>
              </p:nvSpPr>
              <p:spPr>
                <a:xfrm>
                  <a:off x="8072280" y="3698280"/>
                  <a:ext cx="0" cy="2995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26" name=""/>
                <p:cNvSpPr/>
                <p:nvPr/>
              </p:nvSpPr>
              <p:spPr>
                <a:xfrm flipH="1">
                  <a:off x="2810160" y="3698280"/>
                  <a:ext cx="526176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27" name=""/>
                <p:cNvSpPr/>
                <p:nvPr/>
              </p:nvSpPr>
              <p:spPr>
                <a:xfrm>
                  <a:off x="8010360" y="4399200"/>
                  <a:ext cx="0" cy="10987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728" name=""/>
                <p:cNvGrpSpPr/>
                <p:nvPr/>
              </p:nvGrpSpPr>
              <p:grpSpPr>
                <a:xfrm>
                  <a:off x="2119320" y="4248000"/>
                  <a:ext cx="1754640" cy="450360"/>
                  <a:chOff x="2119320" y="4248000"/>
                  <a:chExt cx="1754640" cy="450360"/>
                </a:xfrm>
              </p:grpSpPr>
              <p:sp>
                <p:nvSpPr>
                  <p:cNvPr id="1729" name=""/>
                  <p:cNvSpPr/>
                  <p:nvPr/>
                </p:nvSpPr>
                <p:spPr>
                  <a:xfrm>
                    <a:off x="2934360" y="4248000"/>
                    <a:ext cx="0" cy="20484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0" name=""/>
                  <p:cNvSpPr/>
                  <p:nvPr/>
                </p:nvSpPr>
                <p:spPr>
                  <a:xfrm>
                    <a:off x="3873960" y="4452840"/>
                    <a:ext cx="0" cy="24552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1" name=""/>
                  <p:cNvSpPr/>
                  <p:nvPr/>
                </p:nvSpPr>
                <p:spPr>
                  <a:xfrm>
                    <a:off x="2119320" y="4452840"/>
                    <a:ext cx="0" cy="24552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32" name=""/>
                <p:cNvSpPr/>
                <p:nvPr/>
              </p:nvSpPr>
              <p:spPr>
                <a:xfrm flipH="1">
                  <a:off x="2119320" y="4448880"/>
                  <a:ext cx="175464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33" name=""/>
                <p:cNvSpPr/>
                <p:nvPr/>
              </p:nvSpPr>
              <p:spPr>
                <a:xfrm>
                  <a:off x="5691960" y="3999240"/>
                  <a:ext cx="1440720" cy="399600"/>
                </a:xfrm>
                <a:prstGeom prst="rect">
                  <a:avLst/>
                </a:prstGeom>
                <a:solidFill>
                  <a:srgbClr val="ff33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hi-IN" sz="2000" spc="-1" strike="noStrike">
                      <a:solidFill>
                        <a:srgbClr val="ffffff"/>
                      </a:solidFill>
                      <a:latin typeface="Arial"/>
                      <a:cs typeface="Simplified Arabic"/>
                    </a:rPr>
                    <a:t>قسم السلعة أ</a:t>
                  </a: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34" name=""/>
                <p:cNvSpPr/>
                <p:nvPr/>
              </p:nvSpPr>
              <p:spPr>
                <a:xfrm>
                  <a:off x="6443640" y="3698280"/>
                  <a:ext cx="0" cy="2995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35" name=""/>
                <p:cNvSpPr/>
                <p:nvPr/>
              </p:nvSpPr>
              <p:spPr>
                <a:xfrm>
                  <a:off x="6757200" y="5248800"/>
                  <a:ext cx="2005560" cy="399960"/>
                </a:xfrm>
                <a:prstGeom prst="rect">
                  <a:avLst/>
                </a:prstGeom>
                <a:solidFill>
                  <a:srgbClr val="ff33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hi-IN" sz="2000" spc="-1" strike="noStrike">
                      <a:solidFill>
                        <a:srgbClr val="ffffff"/>
                      </a:solidFill>
                      <a:latin typeface="Arial"/>
                      <a:cs typeface="Simplified Arabic"/>
                    </a:rPr>
                    <a:t>مبيعات المناطق</a:t>
                  </a: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36" name=""/>
                <p:cNvSpPr/>
                <p:nvPr/>
              </p:nvSpPr>
              <p:spPr>
                <a:xfrm>
                  <a:off x="5504040" y="5798880"/>
                  <a:ext cx="3258720" cy="399600"/>
                </a:xfrm>
                <a:prstGeom prst="rect">
                  <a:avLst/>
                </a:prstGeom>
                <a:solidFill>
                  <a:srgbClr val="ff33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hi-IN" sz="2000" spc="-1" strike="noStrike">
                      <a:solidFill>
                        <a:srgbClr val="ffffff"/>
                      </a:solidFill>
                      <a:latin typeface="Arial"/>
                      <a:cs typeface="Simplified Arabic"/>
                    </a:rPr>
                    <a:t>وحدة أفراد مبيعات المناطق 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37" name=""/>
                <p:cNvSpPr/>
                <p:nvPr/>
              </p:nvSpPr>
              <p:spPr>
                <a:xfrm>
                  <a:off x="3372480" y="5848200"/>
                  <a:ext cx="1878480" cy="399960"/>
                </a:xfrm>
                <a:prstGeom prst="rect">
                  <a:avLst/>
                </a:prstGeom>
                <a:solidFill>
                  <a:srgbClr val="ff33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hi-IN" sz="2000" spc="-1" strike="noStrike">
                      <a:solidFill>
                        <a:srgbClr val="ffffff"/>
                      </a:solidFill>
                      <a:latin typeface="Arial"/>
                      <a:cs typeface="Simplified Arabic"/>
                    </a:rPr>
                    <a:t>وحدة افراد مصنع أ</a:t>
                  </a: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  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38" name=""/>
                <p:cNvSpPr/>
                <p:nvPr/>
              </p:nvSpPr>
              <p:spPr>
                <a:xfrm>
                  <a:off x="1368360" y="5848200"/>
                  <a:ext cx="1879920" cy="399960"/>
                </a:xfrm>
                <a:prstGeom prst="rect">
                  <a:avLst/>
                </a:prstGeom>
                <a:solidFill>
                  <a:srgbClr val="ff33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hi-IN" sz="2000" spc="-1" strike="noStrike">
                      <a:solidFill>
                        <a:srgbClr val="ffffff"/>
                      </a:solidFill>
                      <a:latin typeface="Arial"/>
                      <a:cs typeface="Simplified Arabic"/>
                    </a:rPr>
                    <a:t>وحدة تمويل مصنع  أ</a:t>
                  </a: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39" name=""/>
                <p:cNvSpPr/>
                <p:nvPr/>
              </p:nvSpPr>
              <p:spPr>
                <a:xfrm flipH="1">
                  <a:off x="2057040" y="5648760"/>
                  <a:ext cx="175428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40" name=""/>
                <p:cNvSpPr/>
                <p:nvPr/>
              </p:nvSpPr>
              <p:spPr>
                <a:xfrm>
                  <a:off x="2245320" y="5098680"/>
                  <a:ext cx="1315080" cy="399960"/>
                </a:xfrm>
                <a:prstGeom prst="rect">
                  <a:avLst/>
                </a:prstGeom>
                <a:solidFill>
                  <a:srgbClr val="ff33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hi-IN" sz="2000" spc="-1" strike="noStrike">
                      <a:solidFill>
                        <a:srgbClr val="ffffff"/>
                      </a:solidFill>
                      <a:latin typeface="Arial"/>
                      <a:cs typeface="Simplified Arabic"/>
                    </a:rPr>
                    <a:t>مصنع أ</a:t>
                  </a: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41" name=""/>
                <p:cNvSpPr/>
                <p:nvPr/>
              </p:nvSpPr>
              <p:spPr>
                <a:xfrm>
                  <a:off x="3811680" y="5653440"/>
                  <a:ext cx="0" cy="2455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42" name=""/>
                <p:cNvSpPr/>
                <p:nvPr/>
              </p:nvSpPr>
              <p:spPr>
                <a:xfrm>
                  <a:off x="2057400" y="5653440"/>
                  <a:ext cx="0" cy="2455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43" name=""/>
                <p:cNvSpPr/>
                <p:nvPr/>
              </p:nvSpPr>
              <p:spPr>
                <a:xfrm flipH="1">
                  <a:off x="7258320" y="4848480"/>
                  <a:ext cx="7513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7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17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17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1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cc"/>
                </a:solidFill>
                <a:latin typeface="Tahoma"/>
                <a:cs typeface="Simplified Arabic"/>
              </a:rPr>
              <a:t>وظائف إدارة الافراد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1745" name=""/>
          <p:cNvGrpSpPr/>
          <p:nvPr/>
        </p:nvGrpSpPr>
        <p:grpSpPr>
          <a:xfrm>
            <a:off x="1295280" y="3500280"/>
            <a:ext cx="7314480" cy="1439640"/>
            <a:chOff x="1295280" y="3500280"/>
            <a:chExt cx="7314480" cy="1439640"/>
          </a:xfrm>
        </p:grpSpPr>
        <p:grpSp>
          <p:nvGrpSpPr>
            <p:cNvPr id="1746" name=""/>
            <p:cNvGrpSpPr/>
            <p:nvPr/>
          </p:nvGrpSpPr>
          <p:grpSpPr>
            <a:xfrm>
              <a:off x="7529040" y="3500280"/>
              <a:ext cx="1080720" cy="1439280"/>
              <a:chOff x="7529040" y="3500280"/>
              <a:chExt cx="1080720" cy="1439280"/>
            </a:xfrm>
          </p:grpSpPr>
          <p:sp>
            <p:nvSpPr>
              <p:cNvPr id="1747" name=""/>
              <p:cNvSpPr/>
              <p:nvPr/>
            </p:nvSpPr>
            <p:spPr>
              <a:xfrm>
                <a:off x="7812720" y="3500280"/>
                <a:ext cx="797040" cy="143928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1800" spc="-1" strike="noStrike">
                    <a:solidFill>
                      <a:srgbClr val="ffffff"/>
                    </a:solidFill>
                    <a:latin typeface="Arial"/>
                    <a:cs typeface="Simplified Arabic"/>
                  </a:rPr>
                  <a:t>تخطيط 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1800" spc="-1" strike="noStrike">
                    <a:solidFill>
                      <a:srgbClr val="ffffff"/>
                    </a:solidFill>
                    <a:latin typeface="Arial"/>
                    <a:cs typeface="Simplified Arabic"/>
                  </a:rPr>
                  <a:t>الموارد 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1800" spc="-1" strike="noStrike">
                    <a:solidFill>
                      <a:srgbClr val="ffffff"/>
                    </a:solidFill>
                    <a:latin typeface="Arial"/>
                    <a:cs typeface="Simplified Arabic"/>
                  </a:rPr>
                  <a:t>البشرية 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 flipH="1">
                <a:off x="7529040" y="4177800"/>
                <a:ext cx="283680" cy="0"/>
              </a:xfrm>
              <a:prstGeom prst="line">
                <a:avLst/>
              </a:prstGeom>
              <a:ln w="57240">
                <a:solidFill>
                  <a:srgbClr val="ffff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49" name=""/>
            <p:cNvGrpSpPr/>
            <p:nvPr/>
          </p:nvGrpSpPr>
          <p:grpSpPr>
            <a:xfrm>
              <a:off x="6384600" y="3500280"/>
              <a:ext cx="1143720" cy="1439280"/>
              <a:chOff x="6384600" y="3500280"/>
              <a:chExt cx="1143720" cy="1439280"/>
            </a:xfrm>
          </p:grpSpPr>
          <p:sp>
            <p:nvSpPr>
              <p:cNvPr id="1750" name=""/>
              <p:cNvSpPr/>
              <p:nvPr/>
            </p:nvSpPr>
            <p:spPr>
              <a:xfrm>
                <a:off x="6684840" y="3500280"/>
                <a:ext cx="843480" cy="143928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1800" spc="-1" strike="noStrike">
                    <a:solidFill>
                      <a:srgbClr val="ffffff"/>
                    </a:solidFill>
                    <a:latin typeface="Arial"/>
                    <a:cs typeface="Simplified Arabic"/>
                  </a:rPr>
                  <a:t>تحليل 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1800" spc="-1" strike="noStrike">
                    <a:solidFill>
                      <a:srgbClr val="ffffff"/>
                    </a:solidFill>
                    <a:latin typeface="Arial"/>
                    <a:cs typeface="Simplified Arabic"/>
                  </a:rPr>
                  <a:t>وتصميم 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1800" spc="-1" strike="noStrike">
                    <a:solidFill>
                      <a:srgbClr val="ffffff"/>
                    </a:solidFill>
                    <a:latin typeface="Arial"/>
                    <a:cs typeface="Simplified Arabic"/>
                  </a:rPr>
                  <a:t>الوظائف 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 flipH="1">
                <a:off x="6384600" y="4177800"/>
                <a:ext cx="300240" cy="0"/>
              </a:xfrm>
              <a:prstGeom prst="line">
                <a:avLst/>
              </a:prstGeom>
              <a:ln w="57240">
                <a:solidFill>
                  <a:srgbClr val="ffff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52" name=""/>
            <p:cNvGrpSpPr/>
            <p:nvPr/>
          </p:nvGrpSpPr>
          <p:grpSpPr>
            <a:xfrm>
              <a:off x="5238360" y="3500280"/>
              <a:ext cx="1145880" cy="1439280"/>
              <a:chOff x="5238360" y="3500280"/>
              <a:chExt cx="1145880" cy="1439280"/>
            </a:xfrm>
          </p:grpSpPr>
          <p:sp>
            <p:nvSpPr>
              <p:cNvPr id="1753" name=""/>
              <p:cNvSpPr/>
              <p:nvPr/>
            </p:nvSpPr>
            <p:spPr>
              <a:xfrm>
                <a:off x="5539320" y="3500280"/>
                <a:ext cx="844920" cy="143928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1800" spc="-1" strike="noStrike">
                    <a:solidFill>
                      <a:srgbClr val="ffffff"/>
                    </a:solidFill>
                    <a:latin typeface="Arial"/>
                    <a:cs typeface="Simplified Arabic"/>
                  </a:rPr>
                  <a:t>الاستقطاب 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1800" spc="-1" strike="noStrike">
                    <a:solidFill>
                      <a:srgbClr val="ffffff"/>
                    </a:solidFill>
                    <a:latin typeface="Arial"/>
                    <a:cs typeface="Simplified Arabic"/>
                  </a:rPr>
                  <a:t>والاختيار 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1800" spc="-1" strike="noStrike">
                    <a:solidFill>
                      <a:srgbClr val="ffffff"/>
                    </a:solidFill>
                    <a:latin typeface="Arial"/>
                    <a:cs typeface="Simplified Arabic"/>
                  </a:rPr>
                  <a:t>والتعيين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4" name=""/>
              <p:cNvSpPr/>
              <p:nvPr/>
            </p:nvSpPr>
            <p:spPr>
              <a:xfrm flipH="1">
                <a:off x="5238360" y="4177800"/>
                <a:ext cx="300600" cy="0"/>
              </a:xfrm>
              <a:prstGeom prst="line">
                <a:avLst/>
              </a:prstGeom>
              <a:ln w="57240">
                <a:solidFill>
                  <a:srgbClr val="ffff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55" name=""/>
            <p:cNvGrpSpPr/>
            <p:nvPr/>
          </p:nvGrpSpPr>
          <p:grpSpPr>
            <a:xfrm>
              <a:off x="4221720" y="3500280"/>
              <a:ext cx="1016640" cy="1439280"/>
              <a:chOff x="4221720" y="3500280"/>
              <a:chExt cx="1016640" cy="1439280"/>
            </a:xfrm>
          </p:grpSpPr>
          <p:sp>
            <p:nvSpPr>
              <p:cNvPr id="1756" name=""/>
              <p:cNvSpPr/>
              <p:nvPr/>
            </p:nvSpPr>
            <p:spPr>
              <a:xfrm>
                <a:off x="4488840" y="3500280"/>
                <a:ext cx="749520" cy="143928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1" lang="hi-IN" sz="1800" spc="-1" strike="noStrike">
                    <a:solidFill>
                      <a:srgbClr val="ffffff"/>
                    </a:solidFill>
                    <a:latin typeface="Arial"/>
                    <a:cs typeface="Simplified Arabic"/>
                  </a:rPr>
                  <a:t>التدريب 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 flipH="1">
                <a:off x="4221720" y="4177800"/>
                <a:ext cx="266760" cy="0"/>
              </a:xfrm>
              <a:prstGeom prst="line">
                <a:avLst/>
              </a:prstGeom>
              <a:ln w="57240">
                <a:solidFill>
                  <a:srgbClr val="ffff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58" name=""/>
            <p:cNvGrpSpPr/>
            <p:nvPr/>
          </p:nvGrpSpPr>
          <p:grpSpPr>
            <a:xfrm>
              <a:off x="3203640" y="3500280"/>
              <a:ext cx="1016640" cy="1439280"/>
              <a:chOff x="3203640" y="3500280"/>
              <a:chExt cx="1016640" cy="1439280"/>
            </a:xfrm>
          </p:grpSpPr>
          <p:sp>
            <p:nvSpPr>
              <p:cNvPr id="1759" name=""/>
              <p:cNvSpPr/>
              <p:nvPr/>
            </p:nvSpPr>
            <p:spPr>
              <a:xfrm>
                <a:off x="3470760" y="3500280"/>
                <a:ext cx="749520" cy="143928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1800" spc="-1" strike="noStrike">
                    <a:solidFill>
                      <a:srgbClr val="ffffff"/>
                    </a:solidFill>
                    <a:latin typeface="Arial"/>
                    <a:cs typeface="Simplified Arabic"/>
                  </a:rPr>
                  <a:t>تقييم 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1800" spc="-1" strike="noStrike">
                    <a:solidFill>
                      <a:srgbClr val="ffffff"/>
                    </a:solidFill>
                    <a:latin typeface="Arial"/>
                    <a:cs typeface="Simplified Arabic"/>
                  </a:rPr>
                  <a:t>الأداء</a:t>
                </a: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 flipH="1">
                <a:off x="3203640" y="4177800"/>
                <a:ext cx="266760" cy="0"/>
              </a:xfrm>
              <a:prstGeom prst="line">
                <a:avLst/>
              </a:prstGeom>
              <a:ln w="57240">
                <a:solidFill>
                  <a:srgbClr val="ffff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61" name=""/>
            <p:cNvGrpSpPr/>
            <p:nvPr/>
          </p:nvGrpSpPr>
          <p:grpSpPr>
            <a:xfrm>
              <a:off x="2058120" y="3500280"/>
              <a:ext cx="1143720" cy="1439280"/>
              <a:chOff x="2058120" y="3500280"/>
              <a:chExt cx="1143720" cy="1439280"/>
            </a:xfrm>
          </p:grpSpPr>
          <p:sp>
            <p:nvSpPr>
              <p:cNvPr id="1762" name=""/>
              <p:cNvSpPr/>
              <p:nvPr/>
            </p:nvSpPr>
            <p:spPr>
              <a:xfrm>
                <a:off x="2358360" y="3500280"/>
                <a:ext cx="843480" cy="143928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1800" spc="-1" strike="noStrike">
                    <a:solidFill>
                      <a:srgbClr val="ffffff"/>
                    </a:solidFill>
                    <a:latin typeface="Arial"/>
                    <a:cs typeface="Simplified Arabic"/>
                  </a:rPr>
                  <a:t>التعويضات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 flipH="1">
                <a:off x="2058120" y="4177800"/>
                <a:ext cx="300240" cy="0"/>
              </a:xfrm>
              <a:prstGeom prst="line">
                <a:avLst/>
              </a:prstGeom>
              <a:ln w="57240">
                <a:solidFill>
                  <a:srgbClr val="ffff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764" name=""/>
            <p:cNvSpPr/>
            <p:nvPr/>
          </p:nvSpPr>
          <p:spPr>
            <a:xfrm>
              <a:off x="1295280" y="3500280"/>
              <a:ext cx="750240" cy="14396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800" spc="-1" strike="noStrike">
                  <a:solidFill>
                    <a:srgbClr val="ffffff"/>
                  </a:solidFill>
                  <a:latin typeface="Arial"/>
                  <a:cs typeface="Simplified Arabic"/>
                </a:rPr>
                <a:t>الصحة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800" spc="-1" strike="noStrike">
                  <a:solidFill>
                    <a:srgbClr val="ffffff"/>
                  </a:solidFill>
                  <a:latin typeface="Arial"/>
                  <a:cs typeface="Simplified Arabic"/>
                </a:rPr>
                <a:t>و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800" spc="-1" strike="noStrike">
                  <a:solidFill>
                    <a:srgbClr val="ffffff"/>
                  </a:solidFill>
                  <a:latin typeface="Arial"/>
                  <a:cs typeface="Simplified Arabic"/>
                </a:rPr>
                <a:t>السلامة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e5e5ff"/>
                </a:solidFill>
                <a:latin typeface="Garamond"/>
              </a:rPr>
              <a:t>مدرسة النظم الاجتماعية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1042920" y="2349000"/>
            <a:ext cx="7561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Garamond"/>
                <a:cs typeface="Simplified Arabic"/>
              </a:rPr>
              <a:t>المنظمة وحدة اجتماعية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Garamond"/>
                <a:cs typeface="Simplified Arabic"/>
              </a:rPr>
              <a:t>للمنظمة حاجات مثل الكائن الحي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Garamond"/>
                <a:cs typeface="Simplified Arabic"/>
              </a:rPr>
              <a:t>أساس لنظرية الموقف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Garamond"/>
                <a:cs typeface="Simplified Arabic"/>
              </a:rPr>
              <a:t>من روادها سليزنك وبارسونز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5" name="PlaceHolder 1"/>
          <p:cNvSpPr>
            <a:spLocks noGrp="1"/>
          </p:cNvSpPr>
          <p:nvPr>
            <p:ph/>
          </p:nvPr>
        </p:nvSpPr>
        <p:spPr>
          <a:xfrm>
            <a:off x="457200" y="2492280"/>
            <a:ext cx="8229600" cy="32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ffffff"/>
                </a:solidFill>
                <a:latin typeface="Times New Roman"/>
                <a:cs typeface="Motken noqta"/>
              </a:rPr>
              <a:t>إدارة التسويق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 rtl="1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rketing Managemen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>
            <a:off x="0" y="404640"/>
            <a:ext cx="4140360" cy="1152720"/>
          </a:xfrm>
          <a:prstGeom prst="flowChartDelay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7" name=""/>
          <p:cNvSpPr/>
          <p:nvPr/>
        </p:nvSpPr>
        <p:spPr>
          <a:xfrm>
            <a:off x="216000" y="692280"/>
            <a:ext cx="277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cc3300"/>
                </a:solidFill>
                <a:latin typeface="Tahoma"/>
                <a:cs typeface="كبير 6"/>
              </a:rPr>
              <a:t>الفصل الحادي عش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feec94"/>
                </a:solidFill>
                <a:latin typeface="Times New Roman"/>
                <a:cs typeface="Simplified Arabic"/>
              </a:rPr>
              <a:t>المحتويات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مفهوم التسوي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خصائص النشاط التسويقي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مراحل تطور الفكر التسويقي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عناصر المزيج التسويقي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بحوث التسوي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eec94"/>
                </a:solidFill>
                <a:latin typeface="Times New Roman"/>
                <a:cs typeface="Simplified Arabic"/>
              </a:rPr>
              <a:t>مفهوم التسويق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71" name="PlaceHolder 2"/>
          <p:cNvSpPr>
            <a:spLocks noGrp="1"/>
          </p:cNvSpPr>
          <p:nvPr>
            <p:ph/>
          </p:nvPr>
        </p:nvSpPr>
        <p:spPr>
          <a:xfrm>
            <a:off x="457200" y="2004840"/>
            <a:ext cx="8229600" cy="29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”الوسيلة التي يستخدمها المنتج لتقديم المزيج التسويقي من منتجات و تسعير و ترويج و توزيع لإشباع احتياجات ورغبات المستهلكين وتحقيق أهدافهم المختلفة داخل حدود المجتمع الذي يعملون فيه“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eec94"/>
                </a:solidFill>
                <a:latin typeface="Times New Roman"/>
                <a:cs typeface="Simplified Arabic"/>
              </a:rPr>
              <a:t>خصائص النشاط التسويقي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73" name="PlaceHolder 2"/>
          <p:cNvSpPr>
            <a:spLocks noGrp="1"/>
          </p:cNvSpPr>
          <p:nvPr>
            <p:ph/>
          </p:nvPr>
        </p:nvSpPr>
        <p:spPr>
          <a:xfrm>
            <a:off x="1066320" y="2349000"/>
            <a:ext cx="75438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r" rtl="1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لتسويق عملية مخطط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 algn="r" rtl="1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يتم التسويق بوجود سلعة أو خدمة أو فكر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 algn="r" rtl="1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لا بد من وجود طرفين ليتم التسوي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 algn="r" rtl="1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عناصر التسويق:المنتج، السعر، التوزيع ، و الترويج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 algn="r" rtl="1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دراسة ظروف البيئة  لتصميم المزيج التسويقي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 algn="r" rtl="1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هدف التسويق تحقيق رغبات المستهلك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 algn="r" rtl="1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لمنافع التي يحققها التسويق: شكلية،أو زمنية، أو مكانية أو حيازي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 algn="r" rtl="1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لتسويق مهم لجميع المنظمات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 algn="r" rtl="1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لتسويق يبدأ قبل و أثناء و بعد عملية الانتاج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eec94"/>
                </a:solidFill>
                <a:latin typeface="Times New Roman"/>
                <a:cs typeface="Simplified Arabic"/>
              </a:rPr>
              <a:t>مراحل تطور الفكر التسويقي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75" name="PlaceHolder 2"/>
          <p:cNvSpPr>
            <a:spLocks noGrp="1"/>
          </p:cNvSpPr>
          <p:nvPr>
            <p:ph/>
          </p:nvPr>
        </p:nvSpPr>
        <p:spPr>
          <a:xfrm>
            <a:off x="457200" y="2004480"/>
            <a:ext cx="8229600" cy="27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r" rtl="1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مرحلة المفهوم الانتاجي للتسوي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 algn="r" rtl="1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مرحلة المفهوم البيعي للتسوي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 algn="r" rtl="1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مرحلة المفهوم الحديث للتسوي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 algn="r" rtl="1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مرحلة المفهوم الاجتماعي للتسوي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eec94"/>
                </a:solidFill>
                <a:latin typeface="Times New Roman"/>
                <a:cs typeface="Simplified Arabic"/>
              </a:rPr>
              <a:t>عناصر المزيج التسويقي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grpSp>
        <p:nvGrpSpPr>
          <p:cNvPr id="1777" name=""/>
          <p:cNvGrpSpPr/>
          <p:nvPr/>
        </p:nvGrpSpPr>
        <p:grpSpPr>
          <a:xfrm>
            <a:off x="2362320" y="1981080"/>
            <a:ext cx="4951440" cy="4364280"/>
            <a:chOff x="2362320" y="1981080"/>
            <a:chExt cx="4951440" cy="4364280"/>
          </a:xfrm>
        </p:grpSpPr>
        <p:grpSp>
          <p:nvGrpSpPr>
            <p:cNvPr id="1778" name=""/>
            <p:cNvGrpSpPr/>
            <p:nvPr/>
          </p:nvGrpSpPr>
          <p:grpSpPr>
            <a:xfrm>
              <a:off x="2362320" y="1981080"/>
              <a:ext cx="4951440" cy="4364280"/>
              <a:chOff x="2362320" y="1981080"/>
              <a:chExt cx="4951440" cy="4364280"/>
            </a:xfrm>
          </p:grpSpPr>
          <p:grpSp>
            <p:nvGrpSpPr>
              <p:cNvPr id="1779" name=""/>
              <p:cNvGrpSpPr/>
              <p:nvPr/>
            </p:nvGrpSpPr>
            <p:grpSpPr>
              <a:xfrm>
                <a:off x="2362320" y="1981080"/>
                <a:ext cx="4951440" cy="4364280"/>
                <a:chOff x="2362320" y="1981080"/>
                <a:chExt cx="4951440" cy="4364280"/>
              </a:xfrm>
            </p:grpSpPr>
            <p:sp>
              <p:nvSpPr>
                <p:cNvPr id="1780" name=""/>
                <p:cNvSpPr/>
                <p:nvPr/>
              </p:nvSpPr>
              <p:spPr>
                <a:xfrm>
                  <a:off x="2362320" y="1981080"/>
                  <a:ext cx="4951440" cy="4364280"/>
                </a:xfrm>
                <a:prstGeom prst="ellipse">
                  <a:avLst/>
                </a:prstGeom>
                <a:solidFill>
                  <a:srgbClr val="ff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81" name=""/>
                <p:cNvSpPr/>
                <p:nvPr/>
              </p:nvSpPr>
              <p:spPr>
                <a:xfrm>
                  <a:off x="4803480" y="2045880"/>
                  <a:ext cx="68760" cy="42339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82" name=""/>
                <p:cNvSpPr/>
                <p:nvPr/>
              </p:nvSpPr>
              <p:spPr>
                <a:xfrm>
                  <a:off x="4939560" y="2559600"/>
                  <a:ext cx="1627920" cy="834120"/>
                </a:xfrm>
                <a:prstGeom prst="rect">
                  <a:avLst/>
                </a:prstGeom>
                <a:solidFill>
                  <a:srgbClr val="ff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3600" spc="-1" strike="noStrike">
                      <a:solidFill>
                        <a:srgbClr val="cccc00"/>
                      </a:solidFill>
                      <a:latin typeface="Arial"/>
                      <a:cs typeface="Simplified Arabic"/>
                    </a:rPr>
                    <a:t>المنتج </a:t>
                  </a:r>
                  <a:endParaRPr b="0" lang="en-US" sz="3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cccc00"/>
                      </a:solidFill>
                      <a:latin typeface="Times New Roman"/>
                      <a:ea typeface="Times New Roman"/>
                    </a:rPr>
                    <a:t>product</a:t>
                  </a: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83" name=""/>
                <p:cNvSpPr/>
                <p:nvPr/>
              </p:nvSpPr>
              <p:spPr>
                <a:xfrm>
                  <a:off x="2973240" y="2623320"/>
                  <a:ext cx="1628280" cy="834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3600" spc="-1" strike="noStrike">
                      <a:solidFill>
                        <a:srgbClr val="cccc00"/>
                      </a:solidFill>
                      <a:latin typeface="Arial"/>
                      <a:cs typeface="Simplified Arabic"/>
                    </a:rPr>
                    <a:t>الترويج</a:t>
                  </a:r>
                  <a:endParaRPr b="0" lang="en-US" sz="3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cccc00"/>
                      </a:solidFill>
                      <a:latin typeface="Times New Roman"/>
                      <a:ea typeface="Times New Roman"/>
                    </a:rPr>
                    <a:t>Promotion</a:t>
                  </a: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84" name=""/>
                <p:cNvSpPr/>
                <p:nvPr/>
              </p:nvSpPr>
              <p:spPr>
                <a:xfrm>
                  <a:off x="5142960" y="4804560"/>
                  <a:ext cx="1627920" cy="834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2800" spc="-1" strike="noStrike">
                      <a:solidFill>
                        <a:srgbClr val="cccc00"/>
                      </a:solidFill>
                      <a:latin typeface="Arial"/>
                      <a:cs typeface="Simplified Arabic"/>
                    </a:rPr>
                    <a:t>التسعير  </a:t>
                  </a: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cccc00"/>
                      </a:solidFill>
                      <a:latin typeface="Times New Roman"/>
                      <a:ea typeface="Times New Roman"/>
                    </a:rPr>
                    <a:t>price</a:t>
                  </a: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85" name=""/>
                <p:cNvSpPr/>
                <p:nvPr/>
              </p:nvSpPr>
              <p:spPr>
                <a:xfrm>
                  <a:off x="2904840" y="4868280"/>
                  <a:ext cx="1627920" cy="834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ar-SA" sz="4000" spc="-1" strike="noStrike">
                      <a:solidFill>
                        <a:srgbClr val="cccc00"/>
                      </a:solidFill>
                      <a:latin typeface="Arial"/>
                      <a:cs typeface="Simplified Arabic"/>
                    </a:rPr>
                    <a:t>التوزيع</a:t>
                  </a:r>
                  <a:endParaRPr b="0" lang="en-US" sz="40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cccc00"/>
                      </a:solidFill>
                      <a:latin typeface="Times New Roman"/>
                      <a:ea typeface="Times New Roman"/>
                    </a:rPr>
                    <a:t>place</a:t>
                  </a:r>
                  <a:endParaRPr b="0" lang="en-US" sz="2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6" name=""/>
              <p:cNvSpPr/>
              <p:nvPr/>
            </p:nvSpPr>
            <p:spPr>
              <a:xfrm flipH="1">
                <a:off x="2362320" y="4163760"/>
                <a:ext cx="49514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87" name=""/>
            <p:cNvGrpSpPr/>
            <p:nvPr/>
          </p:nvGrpSpPr>
          <p:grpSpPr>
            <a:xfrm>
              <a:off x="4057560" y="3521520"/>
              <a:ext cx="1627920" cy="1475280"/>
              <a:chOff x="4057560" y="3521520"/>
              <a:chExt cx="1627920" cy="1475280"/>
            </a:xfrm>
          </p:grpSpPr>
          <p:sp>
            <p:nvSpPr>
              <p:cNvPr id="1788" name=""/>
              <p:cNvSpPr/>
              <p:nvPr/>
            </p:nvSpPr>
            <p:spPr>
              <a:xfrm>
                <a:off x="4057560" y="3521520"/>
                <a:ext cx="1627920" cy="147528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9" name=""/>
              <p:cNvSpPr/>
              <p:nvPr/>
            </p:nvSpPr>
            <p:spPr>
              <a:xfrm>
                <a:off x="4057560" y="3777480"/>
                <a:ext cx="1627920" cy="83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7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cc3300"/>
                    </a:solidFill>
                    <a:latin typeface="Times New Roman"/>
                    <a:ea typeface="Times New Roman"/>
                  </a:rPr>
                  <a:t>4Ps</a:t>
                </a:r>
                <a:endParaRPr b="0" lang="en-US" sz="4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17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17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7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eec94"/>
                </a:solidFill>
                <a:latin typeface="Times New Roman"/>
                <a:cs typeface="Simplified Arabic"/>
              </a:rPr>
              <a:t>عناصر المزيج الترويجي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grpSp>
        <p:nvGrpSpPr>
          <p:cNvPr id="1791" name=""/>
          <p:cNvGrpSpPr/>
          <p:nvPr/>
        </p:nvGrpSpPr>
        <p:grpSpPr>
          <a:xfrm>
            <a:off x="2590920" y="2057400"/>
            <a:ext cx="4608360" cy="4321080"/>
            <a:chOff x="2590920" y="2057400"/>
            <a:chExt cx="4608360" cy="4321080"/>
          </a:xfrm>
        </p:grpSpPr>
        <p:grpSp>
          <p:nvGrpSpPr>
            <p:cNvPr id="1792" name=""/>
            <p:cNvGrpSpPr/>
            <p:nvPr/>
          </p:nvGrpSpPr>
          <p:grpSpPr>
            <a:xfrm>
              <a:off x="2590920" y="2057400"/>
              <a:ext cx="4608360" cy="4321080"/>
              <a:chOff x="2590920" y="2057400"/>
              <a:chExt cx="4608360" cy="4321080"/>
            </a:xfrm>
          </p:grpSpPr>
          <p:grpSp>
            <p:nvGrpSpPr>
              <p:cNvPr id="1793" name=""/>
              <p:cNvGrpSpPr/>
              <p:nvPr/>
            </p:nvGrpSpPr>
            <p:grpSpPr>
              <a:xfrm>
                <a:off x="2590920" y="2057400"/>
                <a:ext cx="4608360" cy="4321080"/>
                <a:chOff x="2590920" y="2057400"/>
                <a:chExt cx="4608360" cy="4321080"/>
              </a:xfrm>
            </p:grpSpPr>
            <p:sp>
              <p:nvSpPr>
                <p:cNvPr id="1794" name=""/>
                <p:cNvSpPr/>
                <p:nvPr/>
              </p:nvSpPr>
              <p:spPr>
                <a:xfrm>
                  <a:off x="2590920" y="2057400"/>
                  <a:ext cx="4608360" cy="4321080"/>
                </a:xfrm>
                <a:prstGeom prst="ellipse">
                  <a:avLst/>
                </a:prstGeom>
                <a:solidFill>
                  <a:srgbClr val="ff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795" name=""/>
                <p:cNvGrpSpPr/>
                <p:nvPr/>
              </p:nvGrpSpPr>
              <p:grpSpPr>
                <a:xfrm>
                  <a:off x="2590920" y="2631960"/>
                  <a:ext cx="4586400" cy="3671640"/>
                  <a:chOff x="2590920" y="2631960"/>
                  <a:chExt cx="4586400" cy="3671640"/>
                </a:xfrm>
              </p:grpSpPr>
              <p:sp>
                <p:nvSpPr>
                  <p:cNvPr id="1796" name=""/>
                  <p:cNvSpPr/>
                  <p:nvPr/>
                </p:nvSpPr>
                <p:spPr>
                  <a:xfrm>
                    <a:off x="4894560" y="2631960"/>
                    <a:ext cx="1633320" cy="79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hi-IN" sz="2400" spc="-1" strike="noStrike">
                        <a:solidFill>
                          <a:srgbClr val="a50021"/>
                        </a:solidFill>
                        <a:latin typeface="Arial"/>
                        <a:cs typeface="Simplified Arabic"/>
                      </a:rPr>
                      <a:t>تنشيط 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  <a:p>
                    <a:pPr algn="ct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hi-IN" sz="2400" spc="-1" strike="noStrike">
                        <a:solidFill>
                          <a:srgbClr val="a50021"/>
                        </a:solidFill>
                        <a:latin typeface="Arial"/>
                        <a:cs typeface="Simplified Arabic"/>
                      </a:rPr>
                      <a:t>المبيعات 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7" name=""/>
                  <p:cNvSpPr/>
                  <p:nvPr/>
                </p:nvSpPr>
                <p:spPr>
                  <a:xfrm>
                    <a:off x="3022560" y="2703240"/>
                    <a:ext cx="1633680" cy="79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hi-IN" sz="2400" spc="-1" strike="noStrike">
                        <a:solidFill>
                          <a:srgbClr val="a50021"/>
                        </a:solidFill>
                        <a:latin typeface="Arial"/>
                        <a:cs typeface="Simplified Arabic"/>
                      </a:rPr>
                      <a:t>الإعلان 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8" name=""/>
                  <p:cNvSpPr/>
                  <p:nvPr/>
                </p:nvSpPr>
                <p:spPr>
                  <a:xfrm>
                    <a:off x="5543640" y="3928680"/>
                    <a:ext cx="1633680" cy="79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hi-IN" sz="2400" spc="-1" strike="noStrike">
                        <a:solidFill>
                          <a:srgbClr val="a50021"/>
                        </a:solidFill>
                        <a:latin typeface="Arial"/>
                        <a:cs typeface="Simplified Arabic"/>
                      </a:rPr>
                      <a:t>البيع 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  <a:p>
                    <a:pPr algn="ct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hi-IN" sz="2400" spc="-1" strike="noStrike">
                        <a:solidFill>
                          <a:srgbClr val="a50021"/>
                        </a:solidFill>
                        <a:latin typeface="Arial"/>
                        <a:cs typeface="Simplified Arabic"/>
                      </a:rPr>
                      <a:t>الشخصي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9" name=""/>
                  <p:cNvSpPr/>
                  <p:nvPr/>
                </p:nvSpPr>
                <p:spPr>
                  <a:xfrm flipH="1">
                    <a:off x="5470200" y="3423960"/>
                    <a:ext cx="1584360" cy="50472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0" name=""/>
                  <p:cNvSpPr/>
                  <p:nvPr/>
                </p:nvSpPr>
                <p:spPr>
                  <a:xfrm flipV="1">
                    <a:off x="2590920" y="4215960"/>
                    <a:ext cx="1655640" cy="21600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1" name=""/>
                  <p:cNvSpPr/>
                  <p:nvPr/>
                </p:nvSpPr>
                <p:spPr>
                  <a:xfrm>
                    <a:off x="5327640" y="4503600"/>
                    <a:ext cx="1440000" cy="93636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2" name=""/>
                  <p:cNvSpPr/>
                  <p:nvPr/>
                </p:nvSpPr>
                <p:spPr>
                  <a:xfrm flipH="1">
                    <a:off x="4319640" y="4792320"/>
                    <a:ext cx="432000" cy="151128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3" name=""/>
                  <p:cNvSpPr/>
                  <p:nvPr/>
                </p:nvSpPr>
                <p:spPr>
                  <a:xfrm>
                    <a:off x="4246560" y="3568320"/>
                    <a:ext cx="1297080" cy="1224000"/>
                  </a:xfrm>
                  <a:prstGeom prst="ellipse">
                    <a:avLst/>
                  </a:prstGeom>
                  <a:solidFill>
                    <a:srgbClr val="ff99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hi-IN" sz="2400" spc="-1" strike="noStrike">
                        <a:solidFill>
                          <a:srgbClr val="a50021"/>
                        </a:solidFill>
                        <a:latin typeface="Arial"/>
                        <a:cs typeface="Simplified Arabic"/>
                      </a:rPr>
                      <a:t>المزيج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  <a:p>
                    <a:pPr algn="ct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hi-IN" sz="2400" spc="-1" strike="noStrike">
                        <a:solidFill>
                          <a:srgbClr val="a50021"/>
                        </a:solidFill>
                        <a:latin typeface="Arial"/>
                        <a:cs typeface="Simplified Arabic"/>
                      </a:rPr>
                      <a:t>الترويجي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4" name=""/>
                  <p:cNvSpPr/>
                  <p:nvPr/>
                </p:nvSpPr>
                <p:spPr>
                  <a:xfrm>
                    <a:off x="2878200" y="4503600"/>
                    <a:ext cx="1633680" cy="79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hi-IN" sz="2400" spc="-1" strike="noStrike">
                        <a:solidFill>
                          <a:srgbClr val="a50021"/>
                        </a:solidFill>
                        <a:latin typeface="Arial"/>
                        <a:cs typeface="Simplified Arabic"/>
                      </a:rPr>
                      <a:t>الدعاية 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  <a:p>
                    <a:pPr algn="ct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hi-IN" sz="2400" spc="-1" strike="noStrike">
                        <a:solidFill>
                          <a:srgbClr val="a50021"/>
                        </a:solidFill>
                        <a:latin typeface="Arial"/>
                        <a:cs typeface="Simplified Arabic"/>
                      </a:rPr>
                      <a:t>والنشر 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805" name=""/>
              <p:cNvSpPr/>
              <p:nvPr/>
            </p:nvSpPr>
            <p:spPr>
              <a:xfrm>
                <a:off x="4606920" y="2057400"/>
                <a:ext cx="144360" cy="15112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06" name=""/>
            <p:cNvSpPr/>
            <p:nvPr/>
          </p:nvSpPr>
          <p:spPr>
            <a:xfrm>
              <a:off x="4535640" y="5226120"/>
              <a:ext cx="165564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a50021"/>
                  </a:solidFill>
                  <a:latin typeface="Arial"/>
                  <a:cs typeface="Simplified Arabic"/>
                </a:rPr>
                <a:t>التسويق المباشر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3000"/>
                                        <p:tgtEl>
                                          <p:spTgt spid="17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3000" fill="hold"/>
                                        <p:tgtEl>
                                          <p:spTgt spid="17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3000" fill="hold"/>
                                        <p:tgtEl>
                                          <p:spTgt spid="17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3000" fill="hold"/>
                                        <p:tgtEl>
                                          <p:spTgt spid="17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eec94"/>
                </a:solidFill>
                <a:latin typeface="Times New Roman"/>
                <a:cs typeface="Simplified Arabic"/>
              </a:rPr>
              <a:t>منافذ و قنوات التوزيع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grpSp>
        <p:nvGrpSpPr>
          <p:cNvPr id="1808" name=""/>
          <p:cNvGrpSpPr/>
          <p:nvPr/>
        </p:nvGrpSpPr>
        <p:grpSpPr>
          <a:xfrm>
            <a:off x="1295280" y="2060640"/>
            <a:ext cx="7314840" cy="4187520"/>
            <a:chOff x="1295280" y="2060640"/>
            <a:chExt cx="7314840" cy="4187520"/>
          </a:xfrm>
        </p:grpSpPr>
        <p:grpSp>
          <p:nvGrpSpPr>
            <p:cNvPr id="1809" name=""/>
            <p:cNvGrpSpPr/>
            <p:nvPr/>
          </p:nvGrpSpPr>
          <p:grpSpPr>
            <a:xfrm>
              <a:off x="1295280" y="2060640"/>
              <a:ext cx="7314840" cy="4187520"/>
              <a:chOff x="1295280" y="2060640"/>
              <a:chExt cx="7314840" cy="4187520"/>
            </a:xfrm>
          </p:grpSpPr>
          <p:sp>
            <p:nvSpPr>
              <p:cNvPr id="1810" name=""/>
              <p:cNvSpPr/>
              <p:nvPr/>
            </p:nvSpPr>
            <p:spPr>
              <a:xfrm>
                <a:off x="8279280" y="2718720"/>
                <a:ext cx="0" cy="2990520"/>
              </a:xfrm>
              <a:prstGeom prst="line">
                <a:avLst/>
              </a:prstGeom>
              <a:ln w="9360">
                <a:solidFill>
                  <a:srgbClr val="ff99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>
                <a:off x="1295280" y="2060640"/>
                <a:ext cx="7117560" cy="5392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2400" spc="-1" strike="noStrike">
                    <a:solidFill>
                      <a:srgbClr val="cccc00"/>
                    </a:solidFill>
                    <a:latin typeface="Arial"/>
                    <a:cs typeface="Simplified Arabic"/>
                  </a:rPr>
                  <a:t>المنتج</a:t>
                </a:r>
                <a:r>
                  <a:rPr b="1" lang="en-US" sz="2400" spc="-1" strike="noStrike">
                    <a:solidFill>
                      <a:srgbClr val="cccc00"/>
                    </a:solidFill>
                    <a:latin typeface="Arial"/>
                    <a:ea typeface="Simplified Arabic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1624680" y="3137760"/>
                <a:ext cx="1876320" cy="53892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2400" spc="-1" strike="noStrike">
                    <a:solidFill>
                      <a:srgbClr val="cccc00"/>
                    </a:solidFill>
                    <a:latin typeface="Arial"/>
                    <a:cs typeface="Simplified Arabic"/>
                  </a:rPr>
                  <a:t>وكيل بيع</a:t>
                </a:r>
                <a:r>
                  <a:rPr b="1" lang="en-US" sz="2400" spc="-1" strike="noStrike">
                    <a:solidFill>
                      <a:srgbClr val="cccc00"/>
                    </a:solidFill>
                    <a:latin typeface="Arial"/>
                    <a:ea typeface="Simplified Arabic"/>
                  </a:rPr>
                  <a:t> 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3864960" y="3137760"/>
                <a:ext cx="1876320" cy="53892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2400" spc="-1" strike="noStrike">
                    <a:solidFill>
                      <a:srgbClr val="cccc00"/>
                    </a:solidFill>
                    <a:latin typeface="Arial"/>
                    <a:cs typeface="Simplified Arabic"/>
                  </a:rPr>
                  <a:t>تاجر جملة</a:t>
                </a:r>
                <a:r>
                  <a:rPr b="1" lang="en-US" sz="2400" spc="-1" strike="noStrike">
                    <a:solidFill>
                      <a:srgbClr val="cccc00"/>
                    </a:solidFill>
                    <a:latin typeface="Arial"/>
                  </a:rPr>
                  <a:t> 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>
                <a:off x="6171480" y="3137760"/>
                <a:ext cx="1876680" cy="14950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2400" spc="-1" strike="noStrike">
                    <a:solidFill>
                      <a:srgbClr val="cccc00"/>
                    </a:solidFill>
                    <a:latin typeface="Arial"/>
                    <a:cs typeface="Simplified Arabic"/>
                  </a:rPr>
                  <a:t>وكيل بيع</a:t>
                </a:r>
                <a:r>
                  <a:rPr b="1" lang="en-US" sz="2400" spc="-1" strike="noStrike">
                    <a:solidFill>
                      <a:srgbClr val="cccc00"/>
                    </a:solidFill>
                    <a:latin typeface="Arial"/>
                    <a:ea typeface="Simplified Arabic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2400" spc="-1" strike="noStrike">
                    <a:solidFill>
                      <a:srgbClr val="cccc00"/>
                    </a:solidFill>
                    <a:latin typeface="Arial"/>
                    <a:cs typeface="Simplified Arabic"/>
                  </a:rPr>
                  <a:t>أو تاجر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ccc00"/>
                    </a:solidFill>
                    <a:latin typeface="Arial"/>
                    <a:ea typeface="Simplified Arabic"/>
                  </a:rPr>
                  <a:t> </a:t>
                </a:r>
                <a:r>
                  <a:rPr b="1" lang="hi-IN" sz="2400" spc="-1" strike="noStrike">
                    <a:solidFill>
                      <a:srgbClr val="cccc00"/>
                    </a:solidFill>
                    <a:latin typeface="Arial"/>
                    <a:cs typeface="Simplified Arabic"/>
                  </a:rPr>
                  <a:t>تجزئة</a:t>
                </a:r>
                <a:r>
                  <a:rPr b="1" lang="en-US" sz="2400" spc="-1" strike="noStrike">
                    <a:solidFill>
                      <a:srgbClr val="cccc00"/>
                    </a:solidFill>
                    <a:latin typeface="Arial"/>
                  </a:rPr>
                  <a:t> 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3931200" y="3914280"/>
                <a:ext cx="1876680" cy="5392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2400" spc="-1" strike="noStrike">
                    <a:solidFill>
                      <a:srgbClr val="cccc00"/>
                    </a:solidFill>
                    <a:latin typeface="Arial"/>
                    <a:cs typeface="Simplified Arabic"/>
                  </a:rPr>
                  <a:t>تاجر تجزئة</a:t>
                </a:r>
                <a:r>
                  <a:rPr b="1" lang="en-US" sz="2400" spc="-1" strike="noStrike">
                    <a:solidFill>
                      <a:srgbClr val="cccc00"/>
                    </a:solidFill>
                    <a:latin typeface="Arial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>
                <a:off x="1624680" y="3914280"/>
                <a:ext cx="1876320" cy="5392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2400" spc="-1" strike="noStrike">
                    <a:solidFill>
                      <a:srgbClr val="cccc00"/>
                    </a:solidFill>
                    <a:latin typeface="Arial"/>
                    <a:cs typeface="Simplified Arabic"/>
                  </a:rPr>
                  <a:t>تاجر جملة</a:t>
                </a:r>
                <a:r>
                  <a:rPr b="1" lang="en-US" sz="2400" spc="-1" strike="noStrike">
                    <a:solidFill>
                      <a:srgbClr val="cccc00"/>
                    </a:solidFill>
                    <a:latin typeface="Arial"/>
                  </a:rPr>
                  <a:t> 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>
                <a:off x="1624680" y="4812480"/>
                <a:ext cx="1876320" cy="5392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2400" spc="-1" strike="noStrike">
                    <a:solidFill>
                      <a:srgbClr val="cccc00"/>
                    </a:solidFill>
                    <a:latin typeface="Arial"/>
                    <a:cs typeface="Simplified Arabic"/>
                  </a:rPr>
                  <a:t>تاجر تجزئة</a:t>
                </a:r>
                <a:r>
                  <a:rPr b="1" lang="en-US" sz="2400" spc="-1" strike="noStrike">
                    <a:solidFill>
                      <a:srgbClr val="cccc00"/>
                    </a:solidFill>
                    <a:latin typeface="Arial"/>
                  </a:rPr>
                  <a:t> 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1492560" y="5709240"/>
                <a:ext cx="7117560" cy="53892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2400" spc="-1" strike="noStrike">
                    <a:solidFill>
                      <a:srgbClr val="cccc00"/>
                    </a:solidFill>
                    <a:latin typeface="Arial"/>
                    <a:cs typeface="Simplified Arabic"/>
                  </a:rPr>
                  <a:t>مشتري نهائي</a:t>
                </a:r>
                <a:r>
                  <a:rPr b="1" lang="en-US" sz="2400" spc="-1" strike="noStrike">
                    <a:solidFill>
                      <a:srgbClr val="cccc00"/>
                    </a:solidFill>
                    <a:latin typeface="Arial"/>
                  </a:rPr>
                  <a:t> 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>
                <a:off x="2612520" y="2779200"/>
                <a:ext cx="0" cy="358560"/>
              </a:xfrm>
              <a:prstGeom prst="line">
                <a:avLst/>
              </a:prstGeom>
              <a:ln w="9360">
                <a:solidFill>
                  <a:srgbClr val="ff99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>
                <a:off x="7226280" y="2779200"/>
                <a:ext cx="0" cy="358560"/>
              </a:xfrm>
              <a:prstGeom prst="line">
                <a:avLst/>
              </a:prstGeom>
              <a:ln w="9360">
                <a:solidFill>
                  <a:srgbClr val="ff99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 flipH="1">
                <a:off x="2612160" y="2779200"/>
                <a:ext cx="4613400" cy="0"/>
              </a:xfrm>
              <a:prstGeom prst="line">
                <a:avLst/>
              </a:prstGeom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>
                <a:off x="2612520" y="3616560"/>
                <a:ext cx="0" cy="358200"/>
              </a:xfrm>
              <a:prstGeom prst="line">
                <a:avLst/>
              </a:prstGeom>
              <a:ln w="9360">
                <a:solidFill>
                  <a:srgbClr val="ff99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>
                <a:off x="2612520" y="4453920"/>
                <a:ext cx="0" cy="358200"/>
              </a:xfrm>
              <a:prstGeom prst="line">
                <a:avLst/>
              </a:prstGeom>
              <a:ln w="9360">
                <a:solidFill>
                  <a:srgbClr val="ff99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>
                <a:off x="2612520" y="5350320"/>
                <a:ext cx="0" cy="358560"/>
              </a:xfrm>
              <a:prstGeom prst="line">
                <a:avLst/>
              </a:prstGeom>
              <a:ln w="9360">
                <a:solidFill>
                  <a:srgbClr val="ff99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>
                <a:off x="4853880" y="2599920"/>
                <a:ext cx="0" cy="477000"/>
              </a:xfrm>
              <a:prstGeom prst="line">
                <a:avLst/>
              </a:prstGeom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26" name=""/>
            <p:cNvSpPr/>
            <p:nvPr/>
          </p:nvSpPr>
          <p:spPr>
            <a:xfrm>
              <a:off x="4853880" y="2897640"/>
              <a:ext cx="0" cy="240120"/>
            </a:xfrm>
            <a:prstGeom prst="line">
              <a:avLst/>
            </a:prstGeom>
            <a:ln w="936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4853880" y="3675960"/>
              <a:ext cx="0" cy="299160"/>
            </a:xfrm>
            <a:prstGeom prst="line">
              <a:avLst/>
            </a:prstGeom>
            <a:ln w="936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3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0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0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eec94"/>
                </a:solidFill>
                <a:latin typeface="Times New Roman"/>
                <a:cs typeface="Simplified Arabic"/>
              </a:rPr>
              <a:t>بحوث التسويق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29" name="PlaceHolder 2"/>
          <p:cNvSpPr>
            <a:spLocks noGrp="1"/>
          </p:cNvSpPr>
          <p:nvPr>
            <p:ph/>
          </p:nvPr>
        </p:nvSpPr>
        <p:spPr>
          <a:xfrm>
            <a:off x="1042920" y="2349000"/>
            <a:ext cx="7561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  عملية منظمة لجمع و تصنيف و تحليل المعلومات التسويقية اللازمة لإعداد تقارير موسعة عن ما يحدث في السوق لمساعدة المدير على اتخاذ قراره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PlaceHolder 1"/>
          <p:cNvSpPr>
            <a:spLocks noGrp="1"/>
          </p:cNvSpPr>
          <p:nvPr>
            <p:ph/>
          </p:nvPr>
        </p:nvSpPr>
        <p:spPr>
          <a:xfrm>
            <a:off x="457200" y="2485800"/>
            <a:ext cx="8229600" cy="32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ffffff"/>
                </a:solidFill>
                <a:latin typeface="Garamond"/>
                <a:cs typeface="Motken noqta"/>
              </a:rPr>
              <a:t>إدارة الإنتاج 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 rtl="1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duction Management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31" name=""/>
          <p:cNvSpPr/>
          <p:nvPr/>
        </p:nvSpPr>
        <p:spPr>
          <a:xfrm>
            <a:off x="0" y="331920"/>
            <a:ext cx="4140360" cy="1152360"/>
          </a:xfrm>
          <a:prstGeom prst="flowChartDelay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2" name=""/>
          <p:cNvSpPr/>
          <p:nvPr/>
        </p:nvSpPr>
        <p:spPr>
          <a:xfrm>
            <a:off x="216000" y="692280"/>
            <a:ext cx="277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cc3300"/>
                </a:solidFill>
                <a:latin typeface="Tahoma"/>
                <a:cs typeface="كبير 6"/>
              </a:rPr>
              <a:t>الفصل الثاني عش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e5e5ff"/>
                </a:solidFill>
                <a:latin typeface="Garamond"/>
              </a:rPr>
              <a:t>المدرسة المعاصرة في الإدارة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1042920" y="2349000"/>
            <a:ext cx="7561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Garamond"/>
                <a:cs typeface="Simplified Arabic"/>
              </a:rPr>
              <a:t>النموذج الياباني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Garamond"/>
                <a:cs typeface="Simplified Arabic"/>
              </a:rPr>
              <a:t>نظرية الثقافة التنظيمية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Garamond"/>
                <a:cs typeface="Simplified Arabic"/>
              </a:rPr>
              <a:t>إدارة الجودة الكلية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Garamond"/>
                <a:cs typeface="Simplified Arabic"/>
              </a:rPr>
              <a:t>الهندرة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b9efee"/>
                </a:solidFill>
                <a:latin typeface="Garamond"/>
                <a:cs typeface="Simplified Arabic"/>
              </a:rPr>
              <a:t>المحتويات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34" name="PlaceHolder 2"/>
          <p:cNvSpPr>
            <a:spLocks noGrp="1"/>
          </p:cNvSpPr>
          <p:nvPr>
            <p:ph/>
          </p:nvPr>
        </p:nvSpPr>
        <p:spPr>
          <a:xfrm>
            <a:off x="971280" y="227664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Garamond"/>
                <a:cs typeface="Simplified Arabic"/>
              </a:rPr>
              <a:t>مفهوم إدارة الإنتاج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Garamond"/>
                <a:cs typeface="Simplified Arabic"/>
              </a:rPr>
              <a:t>أهمية وظيفة الإنتاج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Garamond"/>
                <a:cs typeface="Simplified Arabic"/>
              </a:rPr>
              <a:t>دور حياة العمل الإنتاجي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Garamond"/>
                <a:cs typeface="Simplified Arabic"/>
              </a:rPr>
              <a:t>العملية الإنتاجية لوظيفة الإنتاج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Garamond"/>
                <a:cs typeface="Simplified Arabic"/>
              </a:rPr>
              <a:t>مراقبة الجودة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b9efee"/>
                </a:solidFill>
                <a:latin typeface="Garamond"/>
                <a:cs typeface="Simplified Arabic"/>
              </a:rPr>
              <a:t>مفهوم ادارة الانتاج</a:t>
            </a: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 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36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7999560" cy="43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99"/>
                </a:solidFill>
                <a:latin typeface="Garamond"/>
                <a:cs typeface="Simplified Arabic"/>
              </a:rPr>
              <a:t>الانتاج :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Garamond"/>
                <a:cs typeface="Simplified Arabic"/>
              </a:rPr>
              <a:t>هو نتاج العناصر او القوى التي تستخدم في عملية التشغيل (العمال،رأس المال، الآلات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99"/>
                </a:solidFill>
                <a:latin typeface="Garamond"/>
                <a:cs typeface="Simplified Arabic"/>
              </a:rPr>
              <a:t>المنتج :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  <a:ea typeface="Simplified Arabic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Garamond"/>
                <a:cs typeface="Simplified Arabic"/>
              </a:rPr>
              <a:t>هو الناتج النهائي لعملية التشغيل (قلم ،سيارة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  <a:ea typeface="Simplified Arabic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99"/>
                </a:solidFill>
                <a:latin typeface="Garamond"/>
                <a:cs typeface="Simplified Arabic"/>
              </a:rPr>
              <a:t>عملية الانتاج :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  <a:ea typeface="Simplified Arabic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Garamond"/>
                <a:cs typeface="Simplified Arabic"/>
              </a:rPr>
              <a:t>سلسلة اجراءات التشغيل التي تجرى على المادة لتحولها من صورتها الاولية الى صورتها الانتاجية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b9efee"/>
                </a:solidFill>
                <a:latin typeface="Garamond"/>
                <a:cs typeface="Simplified Arabic"/>
              </a:rPr>
              <a:t>اهمية وظيفة الانتاج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38" name="PlaceHolder 2"/>
          <p:cNvSpPr>
            <a:spLocks noGrp="1"/>
          </p:cNvSpPr>
          <p:nvPr>
            <p:ph/>
          </p:nvPr>
        </p:nvSpPr>
        <p:spPr>
          <a:xfrm>
            <a:off x="971280" y="1989000"/>
            <a:ext cx="7777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cccc"/>
                </a:solidFill>
                <a:latin typeface="Garamond"/>
                <a:cs typeface="Simplified Arabic"/>
              </a:rPr>
              <a:t>أ-العوامل الخارجية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3352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Garamond"/>
                <a:ea typeface="Simplified Arabic"/>
              </a:rPr>
              <a:t>    </a:t>
            </a:r>
            <a:r>
              <a:rPr b="1" lang="en-US" sz="2800" spc="-1" strike="noStrike">
                <a:solidFill>
                  <a:srgbClr val="ffff99"/>
                </a:solidFill>
                <a:latin typeface="Garamond"/>
                <a:ea typeface="Simplified Arabic"/>
              </a:rPr>
              <a:t>1</a:t>
            </a:r>
            <a:r>
              <a:rPr b="1" lang="en-US" sz="2800" spc="-1" strike="noStrike">
                <a:solidFill>
                  <a:srgbClr val="ffff99"/>
                </a:solidFill>
                <a:latin typeface="Garamond"/>
                <a:ea typeface="Simplified Arabic"/>
              </a:rPr>
              <a:t>- آليات السوق المتضاربة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3352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Garamond"/>
                <a:ea typeface="Simplified Arabic"/>
              </a:rPr>
              <a:t>    </a:t>
            </a:r>
            <a:r>
              <a:rPr b="1" lang="en-US" sz="2800" spc="-1" strike="noStrike">
                <a:solidFill>
                  <a:srgbClr val="ffff99"/>
                </a:solidFill>
                <a:latin typeface="Garamond"/>
                <a:ea typeface="Simplified Arabic"/>
              </a:rPr>
              <a:t>2</a:t>
            </a:r>
            <a:r>
              <a:rPr b="1" lang="en-US" sz="2800" spc="-1" strike="noStrike">
                <a:solidFill>
                  <a:srgbClr val="ffff99"/>
                </a:solidFill>
                <a:latin typeface="Garamond"/>
                <a:ea typeface="Simplified Arabic"/>
              </a:rPr>
              <a:t>- الظروف البيئية المحيطة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3352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3352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cccc"/>
                </a:solidFill>
                <a:latin typeface="Garamond"/>
                <a:cs typeface="Simplified Arabic"/>
              </a:rPr>
              <a:t>ب- العوامل الداخلية 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3352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Garamond"/>
                <a:ea typeface="Simplified Arabic"/>
              </a:rPr>
              <a:t>    </a:t>
            </a:r>
            <a:r>
              <a:rPr b="1" lang="en-US" sz="2800" spc="-1" strike="noStrike">
                <a:solidFill>
                  <a:srgbClr val="ffff99"/>
                </a:solidFill>
                <a:latin typeface="Garamond"/>
                <a:ea typeface="Simplified Arabic"/>
              </a:rPr>
              <a:t>1</a:t>
            </a:r>
            <a:r>
              <a:rPr b="1" lang="en-US" sz="2800" spc="-1" strike="noStrike">
                <a:solidFill>
                  <a:srgbClr val="ffff99"/>
                </a:solidFill>
                <a:latin typeface="Garamond"/>
                <a:ea typeface="Simplified Arabic"/>
              </a:rPr>
              <a:t>- العمالة المتاحة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3352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Garamond"/>
                <a:ea typeface="Simplified Arabic"/>
              </a:rPr>
              <a:t>    </a:t>
            </a:r>
            <a:r>
              <a:rPr b="1" lang="en-US" sz="2800" spc="-1" strike="noStrike">
                <a:solidFill>
                  <a:srgbClr val="ffff99"/>
                </a:solidFill>
                <a:latin typeface="Garamond"/>
                <a:ea typeface="Simplified Arabic"/>
              </a:rPr>
              <a:t>2</a:t>
            </a:r>
            <a:r>
              <a:rPr b="1" lang="en-US" sz="2800" spc="-1" strike="noStrike">
                <a:solidFill>
                  <a:srgbClr val="ffff99"/>
                </a:solidFill>
                <a:latin typeface="Garamond"/>
                <a:ea typeface="Simplified Arabic"/>
              </a:rPr>
              <a:t>- المواد المستخدمة 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3352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Garamond"/>
                <a:ea typeface="Simplified Arabic"/>
              </a:rPr>
              <a:t>    </a:t>
            </a:r>
            <a:r>
              <a:rPr b="1" lang="en-US" sz="2800" spc="-1" strike="noStrike">
                <a:solidFill>
                  <a:srgbClr val="ffff99"/>
                </a:solidFill>
                <a:latin typeface="Garamond"/>
                <a:ea typeface="Simplified Arabic"/>
              </a:rPr>
              <a:t>3</a:t>
            </a:r>
            <a:r>
              <a:rPr b="1" lang="en-US" sz="2800" spc="-1" strike="noStrike">
                <a:solidFill>
                  <a:srgbClr val="ffff99"/>
                </a:solidFill>
                <a:latin typeface="Garamond"/>
                <a:ea typeface="Simplified Arabic"/>
              </a:rPr>
              <a:t>- الالات والمعدات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3352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Garamond"/>
                <a:ea typeface="Simplified Arabic"/>
              </a:rPr>
              <a:t>    </a:t>
            </a:r>
            <a:r>
              <a:rPr b="1" lang="en-US" sz="2800" spc="-1" strike="noStrike">
                <a:solidFill>
                  <a:srgbClr val="ffff99"/>
                </a:solidFill>
                <a:latin typeface="Garamond"/>
                <a:ea typeface="Simplified Arabic"/>
              </a:rPr>
              <a:t>4</a:t>
            </a:r>
            <a:r>
              <a:rPr b="1" lang="en-US" sz="2800" spc="-1" strike="noStrike">
                <a:solidFill>
                  <a:srgbClr val="ffff99"/>
                </a:solidFill>
                <a:latin typeface="Garamond"/>
                <a:ea typeface="Simplified Arabic"/>
              </a:rPr>
              <a:t>- اللوائح التنظيمية لسير العمل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b9efee"/>
                </a:solidFill>
                <a:latin typeface="Garamond"/>
                <a:cs typeface="Simplified Arabic"/>
              </a:rPr>
              <a:t>أهداف النشاط الانتاجي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40" name="PlaceHolder 2"/>
          <p:cNvSpPr>
            <a:spLocks noGrp="1"/>
          </p:cNvSpPr>
          <p:nvPr>
            <p:ph/>
          </p:nvPr>
        </p:nvSpPr>
        <p:spPr>
          <a:xfrm>
            <a:off x="1066320" y="2060640"/>
            <a:ext cx="754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cccc"/>
                </a:solidFill>
                <a:latin typeface="Garamond"/>
                <a:cs typeface="Simplified Arabic"/>
              </a:rPr>
              <a:t>أ – أهداف قصيرة الأجل (أمثلة) 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  <a:ea typeface="Simplified Arabic"/>
              </a:rPr>
              <a:t>      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  <a:ea typeface="Simplified Arabic"/>
              </a:rPr>
              <a:t>1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  <a:ea typeface="Simplified Arabic"/>
              </a:rPr>
              <a:t>- تحسين جودة الإنتاج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  <a:ea typeface="Simplified Arabic"/>
              </a:rPr>
              <a:t>      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  <a:ea typeface="Simplified Arabic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  <a:ea typeface="Simplified Arabic"/>
              </a:rPr>
              <a:t>- تخفيض تكلفة الإنتاج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  <a:ea typeface="Simplified Arabic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cccc"/>
                </a:solidFill>
                <a:latin typeface="Garamond"/>
                <a:cs typeface="Simplified Arabic"/>
              </a:rPr>
              <a:t>ب – أهداف طويلة الأجل (أمثلة) :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  <a:ea typeface="Simplified Arabic"/>
              </a:rPr>
              <a:t>     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  <a:ea typeface="Simplified Arabic"/>
              </a:rPr>
              <a:t>1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  <a:ea typeface="Simplified Arabic"/>
              </a:rPr>
              <a:t>- زيادة معدلات الربحية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  <a:ea typeface="Simplified Arabic"/>
              </a:rPr>
              <a:t>     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  <a:ea typeface="Simplified Arabic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  <a:ea typeface="Simplified Arabic"/>
              </a:rPr>
              <a:t>- تدعيم الاتجاه نحو التصدير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b9efee"/>
                </a:solidFill>
                <a:latin typeface="Garamond"/>
                <a:cs typeface="Simplified Arabic"/>
              </a:rPr>
              <a:t>دورة حياة النشاط الانتاجي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1842" name=""/>
          <p:cNvGrpSpPr/>
          <p:nvPr/>
        </p:nvGrpSpPr>
        <p:grpSpPr>
          <a:xfrm>
            <a:off x="2646360" y="2220840"/>
            <a:ext cx="4718160" cy="3989160"/>
            <a:chOff x="2646360" y="2220840"/>
            <a:chExt cx="4718160" cy="3989160"/>
          </a:xfrm>
        </p:grpSpPr>
        <p:sp>
          <p:nvSpPr>
            <p:cNvPr id="1843" name="_s26650"/>
            <p:cNvSpPr/>
            <p:nvPr/>
          </p:nvSpPr>
          <p:spPr>
            <a:xfrm>
              <a:off x="4041720" y="2252520"/>
              <a:ext cx="1925640" cy="1638360"/>
            </a:xfrm>
            <a:custGeom>
              <a:avLst/>
              <a:gdLst>
                <a:gd name="textAreaLeft" fmla="*/ 0 w 1925640"/>
                <a:gd name="textAreaRight" fmla="*/ 1926000 w 1925640"/>
                <a:gd name="textAreaTop" fmla="*/ 0 h 1638360"/>
                <a:gd name="textAreaBottom" fmla="*/ 1638720 h 163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00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4" name="_s26651"/>
            <p:cNvSpPr/>
            <p:nvPr/>
          </p:nvSpPr>
          <p:spPr>
            <a:xfrm rot="3060000">
              <a:off x="5143680" y="2499840"/>
              <a:ext cx="1638000" cy="1927440"/>
            </a:xfrm>
            <a:custGeom>
              <a:avLst/>
              <a:gdLst>
                <a:gd name="textAreaLeft" fmla="*/ 0 w 1638000"/>
                <a:gd name="textAreaRight" fmla="*/ 1638360 w 1638000"/>
                <a:gd name="textAreaTop" fmla="*/ 0 h 1927440"/>
                <a:gd name="textAreaBottom" fmla="*/ 1927800 h 1927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00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5" name="_s26652"/>
            <p:cNvSpPr/>
            <p:nvPr/>
          </p:nvSpPr>
          <p:spPr>
            <a:xfrm rot="6180000">
              <a:off x="5379840" y="3381120"/>
              <a:ext cx="1638360" cy="1927440"/>
            </a:xfrm>
            <a:custGeom>
              <a:avLst/>
              <a:gdLst>
                <a:gd name="textAreaLeft" fmla="*/ 0 w 1638360"/>
                <a:gd name="textAreaRight" fmla="*/ 1638720 w 1638360"/>
                <a:gd name="textAreaTop" fmla="*/ 0 h 1927440"/>
                <a:gd name="textAreaBottom" fmla="*/ 1927800 h 1927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00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6" name="_s26653"/>
            <p:cNvSpPr/>
            <p:nvPr/>
          </p:nvSpPr>
          <p:spPr>
            <a:xfrm rot="9240000">
              <a:off x="4571280" y="4231800"/>
              <a:ext cx="1927080" cy="1638360"/>
            </a:xfrm>
            <a:custGeom>
              <a:avLst/>
              <a:gdLst>
                <a:gd name="textAreaLeft" fmla="*/ 0 w 1927080"/>
                <a:gd name="textAreaRight" fmla="*/ 1927440 w 1927080"/>
                <a:gd name="textAreaTop" fmla="*/ 0 h 1638360"/>
                <a:gd name="textAreaBottom" fmla="*/ 1638720 h 163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00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7" name="_s26654"/>
            <p:cNvSpPr/>
            <p:nvPr/>
          </p:nvSpPr>
          <p:spPr>
            <a:xfrm rot="12360000">
              <a:off x="3509640" y="4231440"/>
              <a:ext cx="1925640" cy="1638360"/>
            </a:xfrm>
            <a:custGeom>
              <a:avLst/>
              <a:gdLst>
                <a:gd name="textAreaLeft" fmla="*/ 0 w 1925640"/>
                <a:gd name="textAreaRight" fmla="*/ 1926000 w 1925640"/>
                <a:gd name="textAreaTop" fmla="*/ 0 h 1638360"/>
                <a:gd name="textAreaBottom" fmla="*/ 1638720 h 163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00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8" name="_s26655"/>
            <p:cNvSpPr/>
            <p:nvPr/>
          </p:nvSpPr>
          <p:spPr>
            <a:xfrm rot="15420000">
              <a:off x="2991240" y="3381480"/>
              <a:ext cx="1638360" cy="1925640"/>
            </a:xfrm>
            <a:custGeom>
              <a:avLst/>
              <a:gdLst>
                <a:gd name="textAreaLeft" fmla="*/ 0 w 1638360"/>
                <a:gd name="textAreaRight" fmla="*/ 1638720 w 1638360"/>
                <a:gd name="textAreaTop" fmla="*/ 0 h 1925640"/>
                <a:gd name="textAreaBottom" fmla="*/ 1926000 h 192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00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9" name="_s26656"/>
            <p:cNvSpPr/>
            <p:nvPr/>
          </p:nvSpPr>
          <p:spPr>
            <a:xfrm rot="18540000">
              <a:off x="3228120" y="2500920"/>
              <a:ext cx="1638000" cy="1925640"/>
            </a:xfrm>
            <a:custGeom>
              <a:avLst/>
              <a:gdLst>
                <a:gd name="textAreaLeft" fmla="*/ 0 w 1638000"/>
                <a:gd name="textAreaRight" fmla="*/ 1638360 w 1638000"/>
                <a:gd name="textAreaTop" fmla="*/ 0 h 1925640"/>
                <a:gd name="textAreaBottom" fmla="*/ 1926000 h 192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00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0" name="_s26657"/>
            <p:cNvSpPr/>
            <p:nvPr/>
          </p:nvSpPr>
          <p:spPr>
            <a:xfrm>
              <a:off x="5508720" y="2235240"/>
              <a:ext cx="75564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ffcccc"/>
                  </a:solidFill>
                  <a:latin typeface="Times New Roman"/>
                  <a:cs typeface="Simplified Arabic"/>
                </a:rPr>
                <a:t>التنبؤ بالمبيعات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1" name="_s26658"/>
            <p:cNvSpPr/>
            <p:nvPr/>
          </p:nvSpPr>
          <p:spPr>
            <a:xfrm>
              <a:off x="6216480" y="4869000"/>
              <a:ext cx="7560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ffcccc"/>
                  </a:solidFill>
                  <a:latin typeface="Times New Roman"/>
                  <a:cs typeface="Simplified Arabic"/>
                </a:rPr>
                <a:t>تقدير التكلفة الكلية للوحدة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2" name="_s26659"/>
            <p:cNvSpPr/>
            <p:nvPr/>
          </p:nvSpPr>
          <p:spPr>
            <a:xfrm>
              <a:off x="4627440" y="5519880"/>
              <a:ext cx="7556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ffcccc"/>
                  </a:solidFill>
                  <a:latin typeface="Times New Roman"/>
                  <a:cs typeface="Simplified Arabic"/>
                </a:rPr>
                <a:t>تقدير حجم الإنتاج المطلوب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3" name="_s26660"/>
            <p:cNvSpPr/>
            <p:nvPr/>
          </p:nvSpPr>
          <p:spPr>
            <a:xfrm>
              <a:off x="6608880" y="3406680"/>
              <a:ext cx="75564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ffcccc"/>
                  </a:solidFill>
                  <a:latin typeface="Times New Roman"/>
                  <a:cs typeface="Simplified Arabic"/>
                </a:rPr>
                <a:t>التصميم في الاقسام الفنية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4" name="_s26661"/>
            <p:cNvSpPr/>
            <p:nvPr/>
          </p:nvSpPr>
          <p:spPr>
            <a:xfrm>
              <a:off x="3040200" y="4869000"/>
              <a:ext cx="75384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ffcccc"/>
                  </a:solidFill>
                  <a:latin typeface="Times New Roman"/>
                  <a:cs typeface="Simplified Arabic"/>
                </a:rPr>
                <a:t>وضع خطة الانتاج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5" name="_s26662"/>
            <p:cNvSpPr/>
            <p:nvPr/>
          </p:nvSpPr>
          <p:spPr>
            <a:xfrm>
              <a:off x="2646360" y="3408480"/>
              <a:ext cx="7556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ffcccc"/>
                  </a:solidFill>
                  <a:latin typeface="Times New Roman"/>
                  <a:cs typeface="Simplified Arabic"/>
                </a:rPr>
                <a:t>موافقة قسم الرقابة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6" name="_s26663"/>
            <p:cNvSpPr/>
            <p:nvPr/>
          </p:nvSpPr>
          <p:spPr>
            <a:xfrm>
              <a:off x="3745080" y="2236680"/>
              <a:ext cx="75564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1800" spc="-1" strike="noStrike">
                  <a:solidFill>
                    <a:srgbClr val="ffcccc"/>
                  </a:solidFill>
                  <a:latin typeface="Times New Roman"/>
                  <a:cs typeface="Simplified Arabic"/>
                </a:rPr>
                <a:t>الإنتاج في المخازن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b9efee"/>
                </a:solidFill>
                <a:latin typeface="Garamond"/>
                <a:cs typeface="Simplified Arabic"/>
              </a:rPr>
              <a:t>العملية الادارية لوظيفة الإنتاج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58" name="PlaceHolder 2"/>
          <p:cNvSpPr>
            <a:spLocks noGrp="1"/>
          </p:cNvSpPr>
          <p:nvPr>
            <p:ph/>
          </p:nvPr>
        </p:nvSpPr>
        <p:spPr>
          <a:xfrm>
            <a:off x="1066680" y="1915920"/>
            <a:ext cx="7537680" cy="49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Simplified Arabic"/>
              </a:rPr>
              <a:t>1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Simplified Arabic"/>
              </a:rPr>
              <a:t>- تحديد الأهداف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Simplified Arabic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Simplified Arabic"/>
              </a:rPr>
              <a:t>- تخطيط الانتاج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Simplified Arabic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Simplified Arabic"/>
              </a:rPr>
              <a:t>- تنظيم الانتاج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Simplified Arabic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Simplified Arabic"/>
              </a:rPr>
              <a:t>- الرقابة على الانتاج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b9efee"/>
                </a:solidFill>
                <a:latin typeface="Garamond"/>
              </a:rPr>
              <a:t>دورة الرقابة على الانتاج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1860" name=""/>
          <p:cNvGrpSpPr/>
          <p:nvPr/>
        </p:nvGrpSpPr>
        <p:grpSpPr>
          <a:xfrm>
            <a:off x="774720" y="2108160"/>
            <a:ext cx="8064360" cy="4641840"/>
            <a:chOff x="774720" y="2108160"/>
            <a:chExt cx="8064360" cy="4641840"/>
          </a:xfrm>
        </p:grpSpPr>
        <p:grpSp>
          <p:nvGrpSpPr>
            <p:cNvPr id="1861" name=""/>
            <p:cNvGrpSpPr/>
            <p:nvPr/>
          </p:nvGrpSpPr>
          <p:grpSpPr>
            <a:xfrm>
              <a:off x="774720" y="2108160"/>
              <a:ext cx="7777080" cy="4641840"/>
              <a:chOff x="774720" y="2108160"/>
              <a:chExt cx="7777080" cy="4641840"/>
            </a:xfrm>
          </p:grpSpPr>
          <p:sp>
            <p:nvSpPr>
              <p:cNvPr id="1862" name=""/>
              <p:cNvSpPr/>
              <p:nvPr/>
            </p:nvSpPr>
            <p:spPr>
              <a:xfrm>
                <a:off x="919080" y="3547800"/>
                <a:ext cx="19447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2400" spc="-1" strike="noStrike">
                    <a:solidFill>
                      <a:srgbClr val="ffff99"/>
                    </a:solidFill>
                    <a:latin typeface="Tahoma"/>
                  </a:rPr>
                  <a:t>تقدير أوجه العلاج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3" name=""/>
              <p:cNvSpPr/>
              <p:nvPr/>
            </p:nvSpPr>
            <p:spPr>
              <a:xfrm flipV="1">
                <a:off x="1782720" y="4195800"/>
                <a:ext cx="0" cy="7207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4" name=""/>
              <p:cNvSpPr/>
              <p:nvPr/>
            </p:nvSpPr>
            <p:spPr>
              <a:xfrm>
                <a:off x="774720" y="5203800"/>
                <a:ext cx="17287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2400" spc="-1" strike="noStrike">
                    <a:solidFill>
                      <a:srgbClr val="ffff99"/>
                    </a:solidFill>
                    <a:latin typeface="Tahoma"/>
                  </a:rPr>
                  <a:t>اوجه القصور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5" name=""/>
              <p:cNvSpPr/>
              <p:nvPr/>
            </p:nvSpPr>
            <p:spPr>
              <a:xfrm flipH="1">
                <a:off x="1782720" y="6211800"/>
                <a:ext cx="1656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 flipV="1">
                <a:off x="1782720" y="5637240"/>
                <a:ext cx="0" cy="5745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7" name=""/>
              <p:cNvSpPr/>
              <p:nvPr/>
            </p:nvSpPr>
            <p:spPr>
              <a:xfrm flipV="1">
                <a:off x="1854360" y="2395080"/>
                <a:ext cx="0" cy="10810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8" name=""/>
              <p:cNvSpPr/>
              <p:nvPr/>
            </p:nvSpPr>
            <p:spPr>
              <a:xfrm>
                <a:off x="1854360" y="2395440"/>
                <a:ext cx="23050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9" name=""/>
              <p:cNvSpPr/>
              <p:nvPr/>
            </p:nvSpPr>
            <p:spPr>
              <a:xfrm>
                <a:off x="4375080" y="2108160"/>
                <a:ext cx="165744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cccc"/>
                    </a:solidFill>
                    <a:latin typeface="Tahoma"/>
                  </a:rPr>
                  <a:t>(خط الانتاج)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0" name=""/>
              <p:cNvSpPr/>
              <p:nvPr/>
            </p:nvSpPr>
            <p:spPr>
              <a:xfrm>
                <a:off x="6175440" y="2395440"/>
                <a:ext cx="23763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1" name=""/>
              <p:cNvSpPr/>
              <p:nvPr/>
            </p:nvSpPr>
            <p:spPr>
              <a:xfrm>
                <a:off x="8551800" y="2395440"/>
                <a:ext cx="0" cy="15843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2" name=""/>
              <p:cNvSpPr/>
              <p:nvPr/>
            </p:nvSpPr>
            <p:spPr>
              <a:xfrm>
                <a:off x="8551800" y="4771800"/>
                <a:ext cx="0" cy="14400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3" name=""/>
              <p:cNvSpPr/>
              <p:nvPr/>
            </p:nvSpPr>
            <p:spPr>
              <a:xfrm flipH="1">
                <a:off x="6823080" y="6211800"/>
                <a:ext cx="1728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4" name=""/>
              <p:cNvSpPr/>
              <p:nvPr/>
            </p:nvSpPr>
            <p:spPr>
              <a:xfrm>
                <a:off x="3583080" y="5924520"/>
                <a:ext cx="30956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2400" spc="-1" strike="noStrike">
                    <a:solidFill>
                      <a:srgbClr val="ffff99"/>
                    </a:solidFill>
                    <a:latin typeface="Tahoma"/>
                  </a:rPr>
                  <a:t>مقارنة نتائج القياس بالمعايير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5" name=""/>
              <p:cNvSpPr/>
              <p:nvPr/>
            </p:nvSpPr>
            <p:spPr>
              <a:xfrm flipV="1">
                <a:off x="1927080" y="2899800"/>
                <a:ext cx="3240360" cy="3095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6" name=""/>
              <p:cNvSpPr/>
              <p:nvPr/>
            </p:nvSpPr>
            <p:spPr>
              <a:xfrm rot="19069800">
                <a:off x="2639160" y="3731760"/>
                <a:ext cx="189396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2400" spc="-1" strike="noStrike">
                    <a:solidFill>
                      <a:srgbClr val="ffff99"/>
                    </a:solidFill>
                    <a:latin typeface="Tahoma"/>
                  </a:rPr>
                  <a:t>تطابق المعايير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77" name=""/>
            <p:cNvSpPr/>
            <p:nvPr/>
          </p:nvSpPr>
          <p:spPr>
            <a:xfrm>
              <a:off x="6535800" y="4076640"/>
              <a:ext cx="2303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ffff99"/>
                  </a:solidFill>
                  <a:latin typeface="Tahoma"/>
                </a:rPr>
                <a:t>قياس نتائج التنفي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b9efee"/>
                </a:solidFill>
                <a:latin typeface="Garamond"/>
                <a:cs typeface="Simplified Arabic"/>
              </a:rPr>
              <a:t>مراقبة الجوده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99"/>
                </a:solidFill>
                <a:latin typeface="Garamond"/>
                <a:cs typeface="Simplified Arabic"/>
              </a:rPr>
              <a:t>الجودة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Garamond"/>
                <a:ea typeface="Simplified Arabic"/>
              </a:rPr>
              <a:t>	</a:t>
            </a:r>
            <a:r>
              <a:rPr b="1" lang="hi-IN" sz="2800" spc="-1" strike="noStrike">
                <a:solidFill>
                  <a:srgbClr val="ffff99"/>
                </a:solidFill>
                <a:latin typeface="Garamond"/>
                <a:cs typeface="Simplified Arabic"/>
              </a:rPr>
              <a:t>مدى قدرة المنتج على إشباع حاجات المستهلكين من خلال الوفاء بالخصائص و الصفات المطلوبة فيه كسعر بيعه و مكان توزيعه ووقت بيعه والخدمات المصاحبة لتصريفه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ct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cccc"/>
                </a:solidFill>
                <a:latin typeface="Socrates"/>
              </a:rPr>
              <a:t>مراقبة الجودة تقتضي تعاون جميع الإدارات في المنظمة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0" name="PlaceHolder 1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ffffff"/>
                </a:solidFill>
                <a:latin typeface="Garamond"/>
                <a:cs typeface="Motken noqta"/>
              </a:rPr>
              <a:t>الإدارة المالية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 rtl="1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nancial Management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81" name=""/>
          <p:cNvSpPr/>
          <p:nvPr/>
        </p:nvSpPr>
        <p:spPr>
          <a:xfrm>
            <a:off x="0" y="404640"/>
            <a:ext cx="4140360" cy="1152720"/>
          </a:xfrm>
          <a:prstGeom prst="flowChartDelay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2" name=""/>
          <p:cNvSpPr/>
          <p:nvPr/>
        </p:nvSpPr>
        <p:spPr>
          <a:xfrm>
            <a:off x="216000" y="692280"/>
            <a:ext cx="277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cc3300"/>
                </a:solidFill>
                <a:latin typeface="Tahoma"/>
                <a:cs typeface="كبير 6"/>
              </a:rPr>
              <a:t>الفصل الثالث عش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e5e5ff"/>
                </a:solidFill>
                <a:latin typeface="Garamond"/>
                <a:cs typeface="Simplified Arabic"/>
              </a:rPr>
              <a:t>المحتويات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Garamond"/>
                <a:cs typeface="Simplified Arabic"/>
              </a:rPr>
              <a:t>مفهوم الإدارة المالية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Garamond"/>
                <a:cs typeface="Simplified Arabic"/>
              </a:rPr>
              <a:t>أهداف الإدارة المالية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Garamond"/>
                <a:cs typeface="Simplified Arabic"/>
              </a:rPr>
              <a:t>القرارات المالية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Garamond"/>
                <a:cs typeface="Simplified Arabic"/>
              </a:rPr>
              <a:t>التخطيط (التنبؤ) المالي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Garamond"/>
                <a:cs typeface="Simplified Arabic"/>
              </a:rPr>
              <a:t>الرقابة المالية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e5e5ff"/>
                </a:solidFill>
                <a:latin typeface="Garamond"/>
              </a:rPr>
              <a:t>مجالات الإدارة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1042920" y="2349000"/>
            <a:ext cx="7561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Garamond"/>
                <a:cs typeface="Simplified Arabic"/>
              </a:rPr>
              <a:t>الإدارة العامة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Garamond"/>
                <a:cs typeface="Simplified Arabic"/>
              </a:rPr>
              <a:t>إدارة الأعمال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Garamond"/>
                <a:cs typeface="Simplified Arabic"/>
              </a:rPr>
              <a:t>إدارة الهيئات والمنظمات الخاصة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Garamond"/>
                <a:cs typeface="Simplified Arabic"/>
              </a:rPr>
              <a:t>الإدارة الإقليمية الدولية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e5e5ff"/>
                </a:solidFill>
                <a:latin typeface="Garamond"/>
                <a:cs typeface="Simplified Arabic"/>
              </a:rPr>
              <a:t>مفهوم الإدارة المالية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86" name="PlaceHolder 2"/>
          <p:cNvSpPr>
            <a:spLocks noGrp="1"/>
          </p:cNvSpPr>
          <p:nvPr>
            <p:ph/>
          </p:nvPr>
        </p:nvSpPr>
        <p:spPr>
          <a:xfrm>
            <a:off x="457200" y="2004480"/>
            <a:ext cx="8229600" cy="25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Garamond"/>
                <a:cs typeface="Simplified Arabic"/>
              </a:rPr>
              <a:t>النشاط الذهني الذي يختص بالتخطيط و التنظيم والمتابعة لحركتي الدخول و الخروج للأموال الحالية و المرتقبة إلى ومن المنظمة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e5e5ff"/>
                </a:solidFill>
                <a:latin typeface="Garamond"/>
                <a:cs typeface="Simplified Arabic"/>
              </a:rPr>
              <a:t>أهداف الإدارة المالية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88" name="PlaceHolder 2"/>
          <p:cNvSpPr>
            <a:spLocks noGrp="1"/>
          </p:cNvSpPr>
          <p:nvPr>
            <p:ph/>
          </p:nvPr>
        </p:nvSpPr>
        <p:spPr>
          <a:xfrm>
            <a:off x="1066320" y="2349000"/>
            <a:ext cx="75438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Garamond"/>
                <a:cs typeface="Simplified Arabic"/>
              </a:rPr>
              <a:t>تعظيم صافي القيمة الحالية لثروة مالكي المنظمة 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Garamond"/>
                <a:cs typeface="Simplified Arabic"/>
              </a:rPr>
              <a:t>الوفاء بأعباء المسئولية الاجتماعية 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e5e5ff"/>
                </a:solidFill>
                <a:latin typeface="Garamond"/>
                <a:cs typeface="Simplified Arabic"/>
              </a:rPr>
              <a:t>القرارات المالية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90" name="PlaceHolder 2"/>
          <p:cNvSpPr>
            <a:spLocks noGrp="1"/>
          </p:cNvSpPr>
          <p:nvPr>
            <p:ph/>
          </p:nvPr>
        </p:nvSpPr>
        <p:spPr>
          <a:xfrm>
            <a:off x="457200" y="2004840"/>
            <a:ext cx="8229600" cy="27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r" rtl="1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Garamond"/>
                <a:cs typeface="Simplified Arabic"/>
              </a:rPr>
              <a:t>أولا: القرارات الاستثمارية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 algn="r" rtl="1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Garamond"/>
                <a:cs typeface="Simplified Arabic"/>
              </a:rPr>
              <a:t>ثانيا: قرارات التمويل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 algn="r" rtl="1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Garamond"/>
                <a:cs typeface="Simplified Arabic"/>
              </a:rPr>
              <a:t>ثالثا: قرارات إدارة رأس المال العامل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 algn="r" rtl="1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Garamond"/>
                <a:cs typeface="Simplified Arabic"/>
              </a:rPr>
              <a:t>رابعا: قرارات توزيع الأرباح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e5e5ff"/>
                </a:solidFill>
                <a:latin typeface="Garamond"/>
                <a:cs typeface="Simplified Arabic"/>
              </a:rPr>
              <a:t>قرارات التمويل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892" name=""/>
          <p:cNvGrpSpPr/>
          <p:nvPr/>
        </p:nvGrpSpPr>
        <p:grpSpPr>
          <a:xfrm>
            <a:off x="443880" y="2133720"/>
            <a:ext cx="7807680" cy="4751280"/>
            <a:chOff x="443880" y="2133720"/>
            <a:chExt cx="7807680" cy="4751280"/>
          </a:xfrm>
        </p:grpSpPr>
        <p:sp>
          <p:nvSpPr>
            <p:cNvPr id="1893" name=""/>
            <p:cNvSpPr/>
            <p:nvPr/>
          </p:nvSpPr>
          <p:spPr>
            <a:xfrm>
              <a:off x="3567240" y="2133720"/>
              <a:ext cx="2728800" cy="46980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ffff66"/>
                  </a:solidFill>
                  <a:latin typeface="Arial"/>
                  <a:cs typeface="Simplified Arabic"/>
                </a:rPr>
                <a:t>مصادر التمويل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5303160" y="3130920"/>
              <a:ext cx="2729160" cy="47088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ffff66"/>
                  </a:solidFill>
                  <a:latin typeface="Arial"/>
                  <a:cs typeface="Simplified Arabic"/>
                </a:rPr>
                <a:t>الملكية</a:t>
              </a:r>
              <a:r>
                <a:rPr b="1" lang="en-US" sz="2400" spc="-1" strike="noStrike">
                  <a:solidFill>
                    <a:srgbClr val="ffff66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1458360" y="3130920"/>
              <a:ext cx="2791440" cy="47088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ffff66"/>
                  </a:solidFill>
                  <a:latin typeface="Arial"/>
                  <a:cs typeface="Simplified Arabic"/>
                </a:rPr>
                <a:t>الاستدانة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2575440" y="2779920"/>
              <a:ext cx="0" cy="350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7039440" y="2779920"/>
              <a:ext cx="0" cy="350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8" name=""/>
            <p:cNvSpPr/>
            <p:nvPr/>
          </p:nvSpPr>
          <p:spPr>
            <a:xfrm flipH="1">
              <a:off x="2575080" y="2779920"/>
              <a:ext cx="4463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99" name=""/>
            <p:cNvGrpSpPr/>
            <p:nvPr/>
          </p:nvGrpSpPr>
          <p:grpSpPr>
            <a:xfrm>
              <a:off x="5264640" y="3751920"/>
              <a:ext cx="2913480" cy="1173600"/>
              <a:chOff x="5264640" y="3751920"/>
              <a:chExt cx="2913480" cy="1173600"/>
            </a:xfrm>
          </p:grpSpPr>
          <p:sp>
            <p:nvSpPr>
              <p:cNvPr id="1900" name=""/>
              <p:cNvSpPr/>
              <p:nvPr/>
            </p:nvSpPr>
            <p:spPr>
              <a:xfrm>
                <a:off x="5264640" y="4456080"/>
                <a:ext cx="1364400" cy="469440"/>
              </a:xfrm>
              <a:prstGeom prst="rect">
                <a:avLst/>
              </a:prstGeom>
              <a:solidFill>
                <a:srgbClr val="0099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2000" spc="-1" strike="noStrike">
                    <a:solidFill>
                      <a:srgbClr val="ffff66"/>
                    </a:solidFill>
                    <a:latin typeface="Arial"/>
                    <a:cs typeface="Simplified Arabic"/>
                  </a:rPr>
                  <a:t>طويل الأجل 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1" name=""/>
              <p:cNvSpPr/>
              <p:nvPr/>
            </p:nvSpPr>
            <p:spPr>
              <a:xfrm>
                <a:off x="6814080" y="4456080"/>
                <a:ext cx="1364040" cy="469440"/>
              </a:xfrm>
              <a:prstGeom prst="rect">
                <a:avLst/>
              </a:prstGeom>
              <a:solidFill>
                <a:srgbClr val="0099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2000" spc="-1" strike="noStrike">
                    <a:solidFill>
                      <a:srgbClr val="ffff66"/>
                    </a:solidFill>
                    <a:latin typeface="Arial"/>
                    <a:cs typeface="Simplified Arabic"/>
                  </a:rPr>
                  <a:t>قصير الأجل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2" name=""/>
              <p:cNvSpPr/>
              <p:nvPr/>
            </p:nvSpPr>
            <p:spPr>
              <a:xfrm>
                <a:off x="6627240" y="3751920"/>
                <a:ext cx="0" cy="2347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3" name=""/>
              <p:cNvSpPr/>
              <p:nvPr/>
            </p:nvSpPr>
            <p:spPr>
              <a:xfrm flipH="1">
                <a:off x="5698080" y="3986640"/>
                <a:ext cx="19224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4" name=""/>
              <p:cNvSpPr/>
              <p:nvPr/>
            </p:nvSpPr>
            <p:spPr>
              <a:xfrm>
                <a:off x="7620480" y="3986640"/>
                <a:ext cx="0" cy="3520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5" name=""/>
              <p:cNvSpPr/>
              <p:nvPr/>
            </p:nvSpPr>
            <p:spPr>
              <a:xfrm>
                <a:off x="5698080" y="3986640"/>
                <a:ext cx="0" cy="3520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06" name=""/>
            <p:cNvGrpSpPr/>
            <p:nvPr/>
          </p:nvGrpSpPr>
          <p:grpSpPr>
            <a:xfrm>
              <a:off x="1520280" y="3818880"/>
              <a:ext cx="2851560" cy="1173240"/>
              <a:chOff x="1520280" y="3818880"/>
              <a:chExt cx="2851560" cy="1173240"/>
            </a:xfrm>
          </p:grpSpPr>
          <p:sp>
            <p:nvSpPr>
              <p:cNvPr id="1907" name=""/>
              <p:cNvSpPr/>
              <p:nvPr/>
            </p:nvSpPr>
            <p:spPr>
              <a:xfrm>
                <a:off x="3071160" y="4522680"/>
                <a:ext cx="1300680" cy="469440"/>
              </a:xfrm>
              <a:prstGeom prst="rect">
                <a:avLst/>
              </a:prstGeom>
              <a:solidFill>
                <a:srgbClr val="0099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2000" spc="-1" strike="noStrike">
                    <a:solidFill>
                      <a:srgbClr val="ffff66"/>
                    </a:solidFill>
                    <a:latin typeface="Arial"/>
                    <a:cs typeface="Simplified Arabic"/>
                  </a:rPr>
                  <a:t>طويل الأجل 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8" name=""/>
              <p:cNvSpPr/>
              <p:nvPr/>
            </p:nvSpPr>
            <p:spPr>
              <a:xfrm>
                <a:off x="1520280" y="4522680"/>
                <a:ext cx="1364400" cy="469440"/>
              </a:xfrm>
              <a:prstGeom prst="rect">
                <a:avLst/>
              </a:prstGeom>
              <a:solidFill>
                <a:srgbClr val="0099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2000" spc="-1" strike="noStrike">
                    <a:solidFill>
                      <a:srgbClr val="ffff66"/>
                    </a:solidFill>
                    <a:latin typeface="Arial"/>
                    <a:cs typeface="Simplified Arabic"/>
                  </a:rPr>
                  <a:t>قصير الأجل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9" name=""/>
              <p:cNvSpPr/>
              <p:nvPr/>
            </p:nvSpPr>
            <p:spPr>
              <a:xfrm>
                <a:off x="2884680" y="3818880"/>
                <a:ext cx="0" cy="293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910" name=""/>
            <p:cNvSpPr/>
            <p:nvPr/>
          </p:nvSpPr>
          <p:spPr>
            <a:xfrm>
              <a:off x="3784680" y="4156560"/>
              <a:ext cx="0" cy="352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2092320" y="4156560"/>
              <a:ext cx="0" cy="352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2" name=""/>
            <p:cNvSpPr/>
            <p:nvPr/>
          </p:nvSpPr>
          <p:spPr>
            <a:xfrm flipH="1">
              <a:off x="2078280" y="4113360"/>
              <a:ext cx="1735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7521480" y="4965120"/>
              <a:ext cx="0" cy="268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6040440" y="4965120"/>
              <a:ext cx="0" cy="268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3784680" y="5033160"/>
              <a:ext cx="0" cy="269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2092320" y="5033160"/>
              <a:ext cx="0" cy="269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4942080" y="5483520"/>
              <a:ext cx="1843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000" spc="-1" strike="noStrike">
                  <a:solidFill>
                    <a:srgbClr val="ffff66"/>
                  </a:solidFill>
                  <a:latin typeface="Tahoma"/>
                  <a:cs typeface="Simplified Arabic"/>
                </a:rPr>
                <a:t>أرباح محتجزة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000" spc="-1" strike="noStrike">
                  <a:solidFill>
                    <a:srgbClr val="ffff66"/>
                  </a:solidFill>
                  <a:latin typeface="Tahoma"/>
                  <a:cs typeface="Simplified Arabic"/>
                </a:rPr>
                <a:t>أسهم مملوكة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6711480" y="5445000"/>
              <a:ext cx="1540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000" spc="-1" strike="noStrike">
                  <a:solidFill>
                    <a:srgbClr val="ffff66"/>
                  </a:solidFill>
                  <a:latin typeface="Tahoma"/>
                  <a:cs typeface="Simplified Arabic"/>
                </a:rPr>
                <a:t>أرباح دورية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3362400" y="5571360"/>
              <a:ext cx="8420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000" spc="-1" strike="noStrike">
                  <a:solidFill>
                    <a:srgbClr val="ffff66"/>
                  </a:solidFill>
                  <a:latin typeface="Tahoma"/>
                  <a:cs typeface="Simplified Arabic"/>
                </a:rPr>
                <a:t>قروض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000" spc="-1" strike="noStrike">
                  <a:solidFill>
                    <a:srgbClr val="ffff66"/>
                  </a:solidFill>
                  <a:latin typeface="Tahoma"/>
                  <a:cs typeface="Simplified Arabic"/>
                </a:rPr>
                <a:t>سندات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443880" y="5511600"/>
              <a:ext cx="25293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000" spc="-1" strike="noStrike">
                  <a:solidFill>
                    <a:srgbClr val="ffff66"/>
                  </a:solidFill>
                  <a:latin typeface="Tahoma"/>
                  <a:cs typeface="Simplified Arabic"/>
                </a:rPr>
                <a:t>ائتمان مصرفي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000" spc="-1" strike="noStrike">
                  <a:solidFill>
                    <a:srgbClr val="ffff66"/>
                  </a:solidFill>
                  <a:latin typeface="Tahoma"/>
                  <a:cs typeface="Simplified Arabic"/>
                </a:rPr>
                <a:t>ائتمان تجاري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000" spc="-1" strike="noStrike">
                  <a:solidFill>
                    <a:srgbClr val="ffff66"/>
                  </a:solidFill>
                  <a:latin typeface="Tahoma"/>
                  <a:cs typeface="Simplified Arabic"/>
                </a:rPr>
                <a:t>مصروفات مستحقة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e5e5ff"/>
                </a:solidFill>
                <a:latin typeface="Garamond"/>
                <a:cs typeface="Simplified Arabic"/>
              </a:rPr>
              <a:t>التخطيط المالي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922" name=""/>
          <p:cNvGrpSpPr/>
          <p:nvPr/>
        </p:nvGrpSpPr>
        <p:grpSpPr>
          <a:xfrm>
            <a:off x="1066680" y="2514600"/>
            <a:ext cx="7777440" cy="3733920"/>
            <a:chOff x="1066680" y="2514600"/>
            <a:chExt cx="7777440" cy="3733920"/>
          </a:xfrm>
        </p:grpSpPr>
        <p:sp>
          <p:nvSpPr>
            <p:cNvPr id="1923" name=""/>
            <p:cNvSpPr/>
            <p:nvPr/>
          </p:nvSpPr>
          <p:spPr>
            <a:xfrm>
              <a:off x="3633840" y="2514600"/>
              <a:ext cx="2705040" cy="50976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800" spc="-1" strike="noStrike">
                  <a:solidFill>
                    <a:srgbClr val="a50021"/>
                  </a:solidFill>
                  <a:latin typeface="Arial"/>
                  <a:cs typeface="Simplified Arabic"/>
                </a:rPr>
                <a:t>التخطيط المالي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5354640" y="3597120"/>
              <a:ext cx="2703600" cy="51300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a50021"/>
                  </a:solidFill>
                  <a:latin typeface="Arial"/>
                  <a:cs typeface="Simplified Arabic"/>
                </a:rPr>
                <a:t>قصير الأجل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1544760" y="3597120"/>
              <a:ext cx="2765160" cy="51300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a50021"/>
                  </a:solidFill>
                  <a:latin typeface="Arial"/>
                  <a:cs typeface="Simplified Arabic"/>
                </a:rPr>
                <a:t>طويل الأجل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2651040" y="3216240"/>
              <a:ext cx="0" cy="380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7074000" y="3216240"/>
              <a:ext cx="0" cy="380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8" name=""/>
            <p:cNvSpPr/>
            <p:nvPr/>
          </p:nvSpPr>
          <p:spPr>
            <a:xfrm flipH="1">
              <a:off x="2651040" y="3216240"/>
              <a:ext cx="44229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5956200" y="4964040"/>
              <a:ext cx="1352520" cy="128448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600" spc="-1" strike="noStrike">
                  <a:solidFill>
                    <a:srgbClr val="a50021"/>
                  </a:solidFill>
                  <a:latin typeface="Arial"/>
                  <a:cs typeface="Simplified Arabic"/>
                </a:rPr>
                <a:t>الارباح لعناصر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600" spc="-1" strike="noStrike">
                  <a:solidFill>
                    <a:srgbClr val="a50021"/>
                  </a:solidFill>
                  <a:latin typeface="Arial"/>
                  <a:cs typeface="Simplified Arabic"/>
                </a:rPr>
                <a:t>التكاليف و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600" spc="-1" strike="noStrike">
                  <a:solidFill>
                    <a:srgbClr val="a50021"/>
                  </a:solidFill>
                  <a:latin typeface="Arial"/>
                  <a:cs typeface="Simplified Arabic"/>
                </a:rPr>
                <a:t>الإيرادات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7491240" y="4964040"/>
              <a:ext cx="1352880" cy="128448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600" spc="-1" strike="noStrike">
                  <a:solidFill>
                    <a:srgbClr val="a50021"/>
                  </a:solidFill>
                  <a:latin typeface="Arial"/>
                  <a:cs typeface="Simplified Arabic"/>
                </a:rPr>
                <a:t>استثمارات جارية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Arial"/>
                  <a:ea typeface="Simplified Arabic"/>
                </a:rPr>
                <a:t> لعناصر الأصول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600" spc="-1" strike="noStrike">
                  <a:solidFill>
                    <a:srgbClr val="a50021"/>
                  </a:solidFill>
                  <a:latin typeface="Arial"/>
                  <a:cs typeface="Simplified Arabic"/>
                </a:rPr>
                <a:t>المتداولة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6724800" y="4199040"/>
              <a:ext cx="0" cy="253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2" name=""/>
            <p:cNvSpPr/>
            <p:nvPr/>
          </p:nvSpPr>
          <p:spPr>
            <a:xfrm flipH="1">
              <a:off x="4973760" y="4419720"/>
              <a:ext cx="3332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8305920" y="4419720"/>
              <a:ext cx="0" cy="38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6724800" y="4419720"/>
              <a:ext cx="0" cy="38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2603520" y="5110200"/>
              <a:ext cx="1289160" cy="106524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600" spc="-1" strike="noStrike">
                  <a:solidFill>
                    <a:srgbClr val="a50021"/>
                  </a:solidFill>
                  <a:latin typeface="Arial"/>
                  <a:cs typeface="Simplified Arabic"/>
                </a:rPr>
                <a:t>الاستثمارات الثابتة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Arial"/>
                  <a:ea typeface="Simplified Arabic"/>
                </a:rPr>
                <a:t> كالشراء و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600" spc="-1" strike="noStrike">
                  <a:solidFill>
                    <a:srgbClr val="a50021"/>
                  </a:solidFill>
                  <a:latin typeface="Arial"/>
                  <a:cs typeface="Simplified Arabic"/>
                </a:rPr>
                <a:t>الاستئجار 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1066680" y="5110200"/>
              <a:ext cx="1352520" cy="106524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600" spc="-1" strike="noStrike">
                  <a:solidFill>
                    <a:srgbClr val="a50021"/>
                  </a:solidFill>
                  <a:latin typeface="Arial"/>
                  <a:cs typeface="Simplified Arabic"/>
                </a:rPr>
                <a:t>الخصوم الثابتة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600" spc="-1" strike="noStrike">
                  <a:solidFill>
                    <a:srgbClr val="a50021"/>
                  </a:solidFill>
                  <a:latin typeface="Arial"/>
                  <a:cs typeface="Simplified Arabic"/>
                </a:rPr>
                <a:t>كالتمويل بالملكية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600" spc="-1" strike="noStrike">
                  <a:solidFill>
                    <a:srgbClr val="a50021"/>
                  </a:solidFill>
                  <a:latin typeface="Arial"/>
                  <a:cs typeface="Simplified Arabic"/>
                </a:rPr>
                <a:t>و الاستدانة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2535120" y="4272120"/>
              <a:ext cx="0" cy="320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3371760" y="4638600"/>
              <a:ext cx="0" cy="382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1625760" y="4638600"/>
              <a:ext cx="0" cy="382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0" name=""/>
            <p:cNvSpPr/>
            <p:nvPr/>
          </p:nvSpPr>
          <p:spPr>
            <a:xfrm flipH="1">
              <a:off x="1646280" y="4638600"/>
              <a:ext cx="1719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4952880" y="4417920"/>
              <a:ext cx="0" cy="382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4349880" y="5003640"/>
              <a:ext cx="1352520" cy="117180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600" spc="-1" strike="noStrike">
                  <a:solidFill>
                    <a:srgbClr val="a50021"/>
                  </a:solidFill>
                  <a:latin typeface="Arial"/>
                  <a:cs typeface="Simplified Arabic"/>
                </a:rPr>
                <a:t>الخصوم التجارية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600" spc="-1" strike="noStrike">
                  <a:solidFill>
                    <a:srgbClr val="a50021"/>
                  </a:solidFill>
                  <a:latin typeface="Arial"/>
                  <a:cs typeface="Simplified Arabic"/>
                </a:rPr>
                <a:t>للائتمان المصرفي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Arial"/>
                  <a:ea typeface="Simplified Arabic"/>
                </a:rPr>
                <a:t> و التجاري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e5e5ff"/>
                </a:solidFill>
                <a:latin typeface="Garamond"/>
              </a:rPr>
              <a:t>الرقابة المالية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44" name="PlaceHolder 2"/>
          <p:cNvSpPr>
            <a:spLocks noGrp="1"/>
          </p:cNvSpPr>
          <p:nvPr>
            <p:ph/>
          </p:nvPr>
        </p:nvSpPr>
        <p:spPr>
          <a:xfrm>
            <a:off x="1042920" y="2349000"/>
            <a:ext cx="7561440" cy="32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Garamond"/>
                <a:cs typeface="Simplified Arabic"/>
              </a:rPr>
              <a:t>القوائم المالية التقديرية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Garamond"/>
                <a:cs typeface="Simplified Arabic"/>
              </a:rPr>
              <a:t>التحليل المالي بالنسبة لنتائج التصرفات المالية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5" name="PlaceHolder 1"/>
          <p:cNvSpPr>
            <a:spLocks noGrp="1"/>
          </p:cNvSpPr>
          <p:nvPr>
            <p:ph/>
          </p:nvPr>
        </p:nvSpPr>
        <p:spPr>
          <a:xfrm>
            <a:off x="457200" y="2493720"/>
            <a:ext cx="8229600" cy="32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eaeaea"/>
                </a:solidFill>
                <a:latin typeface="Verdana"/>
                <a:cs typeface="Motken noqta"/>
              </a:rPr>
              <a:t>نظام المعلومات الإدارية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 rtl="1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Management Information  System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46" name=""/>
          <p:cNvSpPr/>
          <p:nvPr/>
        </p:nvSpPr>
        <p:spPr>
          <a:xfrm>
            <a:off x="0" y="404640"/>
            <a:ext cx="4140360" cy="1152720"/>
          </a:xfrm>
          <a:prstGeom prst="flowChartDelay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7" name=""/>
          <p:cNvSpPr/>
          <p:nvPr/>
        </p:nvSpPr>
        <p:spPr>
          <a:xfrm>
            <a:off x="216000" y="692280"/>
            <a:ext cx="277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cc3300"/>
                </a:solidFill>
                <a:latin typeface="Tahoma"/>
                <a:cs typeface="كبير 6"/>
              </a:rPr>
              <a:t>الفصل الرابع عش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ffffcc"/>
                </a:solidFill>
                <a:latin typeface="Arial"/>
                <a:cs typeface="Simplified Arabic"/>
              </a:rPr>
              <a:t>المحتويات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49" name="PlaceHolder 2"/>
          <p:cNvSpPr>
            <a:spLocks noGrp="1"/>
          </p:cNvSpPr>
          <p:nvPr>
            <p:ph/>
          </p:nvPr>
        </p:nvSpPr>
        <p:spPr>
          <a:xfrm>
            <a:off x="1115640" y="22050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eaeaea"/>
                </a:solidFill>
                <a:latin typeface="Verdana"/>
                <a:cs typeface="Simplified Arabic"/>
              </a:rPr>
              <a:t>مفهوم نظم المعلومات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r" rtl="1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eaeaea"/>
                </a:solidFill>
                <a:latin typeface="Verdana"/>
                <a:cs typeface="Simplified Arabic"/>
              </a:rPr>
              <a:t>أهمية نظام المعلومات للإدارة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r" rtl="1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eaeaea"/>
                </a:solidFill>
                <a:latin typeface="Verdana"/>
                <a:cs typeface="Simplified Arabic"/>
              </a:rPr>
              <a:t>الحاسوب و نظام المعلومات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 algn="r" rtl="1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eaeaea"/>
                </a:solidFill>
                <a:latin typeface="Verdana"/>
                <a:cs typeface="Simplified Arabic"/>
              </a:rPr>
              <a:t>مكانة نظام المعلومات في بيئة الأعمال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cc"/>
                </a:solidFill>
                <a:latin typeface="Arial"/>
                <a:cs typeface="Simplified Arabic"/>
              </a:rPr>
              <a:t>مفهوم نظام المعلومات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51" name="PlaceHolder 2"/>
          <p:cNvSpPr>
            <a:spLocks noGrp="1"/>
          </p:cNvSpPr>
          <p:nvPr>
            <p:ph/>
          </p:nvPr>
        </p:nvSpPr>
        <p:spPr>
          <a:xfrm>
            <a:off x="457200" y="2004840"/>
            <a:ext cx="8229600" cy="29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” النظام الذي يكفل توفير المعلومات التاريخية و الحالية و المستقبلية المطلوبة لصانعي القرارات “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cc"/>
                </a:solidFill>
                <a:latin typeface="Arial"/>
                <a:cs typeface="Simplified Arabic"/>
              </a:rPr>
              <a:t>مفهوم نظام المعلومات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53" name="PlaceHolder 2"/>
          <p:cNvSpPr>
            <a:spLocks noGrp="1"/>
          </p:cNvSpPr>
          <p:nvPr>
            <p:ph/>
          </p:nvPr>
        </p:nvSpPr>
        <p:spPr>
          <a:xfrm>
            <a:off x="1331640" y="2133360"/>
            <a:ext cx="75438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r" rtl="1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cc3300"/>
                </a:solidFill>
                <a:latin typeface="Verdana"/>
                <a:cs typeface="Simplified Arabic"/>
              </a:rPr>
              <a:t>البيانات:</a:t>
            </a:r>
            <a:r>
              <a:rPr b="1" lang="en-US" sz="3200" spc="-1" strike="noStrike">
                <a:solidFill>
                  <a:srgbClr val="eaeaea"/>
                </a:solidFill>
                <a:latin typeface="Verdana"/>
                <a:ea typeface="Simplified Arabic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660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eaeaea"/>
                </a:solidFill>
                <a:latin typeface="Verdana"/>
                <a:cs typeface="Simplified Arabic"/>
              </a:rPr>
              <a:t>هي المتطلبات أو المعطيات المجردة التي لها صفة الوصف أو التي لها صفة القياس كالأرقام  أو الزمن أو الطول أو الوزن و غيرها من المقاييس من المصادر الداخلية أو الخارجية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660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05280" indent="-305280" algn="r" rtl="1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cc3300"/>
                </a:solidFill>
                <a:latin typeface="Verdana"/>
                <a:cs typeface="Simplified Arabic"/>
              </a:rPr>
              <a:t>المعلومات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660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eaeaea"/>
                </a:solidFill>
                <a:latin typeface="Verdana"/>
                <a:cs typeface="Simplified Arabic"/>
              </a:rPr>
              <a:t>هي البيانات التي أصبح لها معنى مفهوم واضح بعد معالجتها أو تشغيلها و هي بصورتها الاولية مما يكسبها صفة صلاحية إمكانية استخدامها لخدمة صانع القرار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e5e5ff"/>
                </a:solidFill>
                <a:latin typeface="Garamond"/>
              </a:rPr>
              <a:t>عناصر الإدارة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1042920" y="2349000"/>
            <a:ext cx="7561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Garamond"/>
                <a:cs typeface="Simplified Arabic"/>
              </a:rPr>
              <a:t>المنشأة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Garamond"/>
                <a:cs typeface="Simplified Arabic"/>
              </a:rPr>
              <a:t>الوظائف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Garamond"/>
                <a:cs typeface="Simplified Arabic"/>
              </a:rPr>
              <a:t>المهام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Garamond"/>
                <a:cs typeface="Simplified Arabic"/>
              </a:rPr>
              <a:t>الموارد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cc"/>
                </a:solidFill>
                <a:latin typeface="Arial"/>
                <a:cs typeface="Simplified Arabic"/>
              </a:rPr>
              <a:t>مكونات نظام المعلومات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1955" name=""/>
          <p:cNvGrpSpPr/>
          <p:nvPr/>
        </p:nvGrpSpPr>
        <p:grpSpPr>
          <a:xfrm>
            <a:off x="1355760" y="2289240"/>
            <a:ext cx="7025760" cy="4035240"/>
            <a:chOff x="1355760" y="2289240"/>
            <a:chExt cx="7025760" cy="4035240"/>
          </a:xfrm>
        </p:grpSpPr>
        <p:sp>
          <p:nvSpPr>
            <p:cNvPr id="1956" name=""/>
            <p:cNvSpPr/>
            <p:nvPr/>
          </p:nvSpPr>
          <p:spPr>
            <a:xfrm>
              <a:off x="1355760" y="2768400"/>
              <a:ext cx="1986840" cy="170928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ffffff"/>
                  </a:solidFill>
                  <a:latin typeface="Arial"/>
                  <a:cs typeface="Simplified Arabic"/>
                </a:rPr>
                <a:t>معلومات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000" spc="-1" strike="noStrike">
                  <a:solidFill>
                    <a:srgbClr val="ffffff"/>
                  </a:solidFill>
                  <a:latin typeface="Arial"/>
                  <a:cs typeface="Simplified Arabic"/>
                </a:rPr>
                <a:t>نوعية كاملة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Simplified Arabic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000" spc="-1" strike="noStrike">
                  <a:solidFill>
                    <a:srgbClr val="ffffff"/>
                  </a:solidFill>
                  <a:latin typeface="Arial"/>
                  <a:cs typeface="Simplified Arabic"/>
                </a:rPr>
                <a:t>و جاهزة و دقيقة</a:t>
              </a:r>
              <a:r>
                <a:rPr b="0" lang="en-US" sz="3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3769560" y="2768400"/>
              <a:ext cx="2021400" cy="21870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ffffff"/>
                  </a:solidFill>
                  <a:latin typeface="Arial"/>
                  <a:cs typeface="Simplified Arabic"/>
                </a:rPr>
                <a:t>إجراءات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  <a:ea typeface="Simplified Arabic"/>
                </a:rPr>
                <a:t>. </a:t>
              </a:r>
              <a:r>
                <a:rPr b="1" lang="hi-IN" sz="2000" spc="-1" strike="noStrike">
                  <a:solidFill>
                    <a:srgbClr val="ffffff"/>
                  </a:solidFill>
                  <a:latin typeface="Arial"/>
                  <a:cs typeface="Simplified Arabic"/>
                </a:rPr>
                <a:t>الجمع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Simplified Arabic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Simplified Arabic"/>
                </a:rPr>
                <a:t>. </a:t>
              </a:r>
              <a:r>
                <a:rPr b="1" lang="hi-IN" sz="2000" spc="-1" strike="noStrike">
                  <a:solidFill>
                    <a:srgbClr val="ffffff"/>
                  </a:solidFill>
                  <a:latin typeface="Arial"/>
                  <a:cs typeface="Simplified Arabic"/>
                </a:rPr>
                <a:t>التبويب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Simplified Arabic"/>
                </a:rPr>
                <a:t>. </a:t>
              </a:r>
              <a:r>
                <a:rPr b="1" lang="hi-IN" sz="2000" spc="-1" strike="noStrike">
                  <a:solidFill>
                    <a:srgbClr val="ffffff"/>
                  </a:solidFill>
                  <a:latin typeface="Arial"/>
                  <a:cs typeface="Simplified Arabic"/>
                </a:rPr>
                <a:t>التصنيف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Simplified Arabic"/>
                </a:rPr>
                <a:t>. </a:t>
              </a:r>
              <a:r>
                <a:rPr b="1" lang="hi-IN" sz="2000" spc="-1" strike="noStrike">
                  <a:solidFill>
                    <a:srgbClr val="ffffff"/>
                  </a:solidFill>
                  <a:latin typeface="Arial"/>
                  <a:cs typeface="Simplified Arabic"/>
                </a:rPr>
                <a:t>التحليل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Simplified Arabic"/>
                </a:rPr>
                <a:t> 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6181920" y="2768400"/>
              <a:ext cx="2199600" cy="293904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ffffff"/>
                  </a:solidFill>
                  <a:latin typeface="Arial"/>
                  <a:cs typeface="Simplified Arabic"/>
                </a:rPr>
                <a:t>البيانات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000" spc="-1" strike="noStrike">
                  <a:solidFill>
                    <a:srgbClr val="ffffff"/>
                  </a:solidFill>
                  <a:latin typeface="Arial"/>
                  <a:ea typeface="Simplified Arabic"/>
                </a:rPr>
                <a:t>. </a:t>
              </a:r>
              <a:r>
                <a:rPr b="1" lang="ar-SA" sz="2000" spc="-1" strike="noStrike">
                  <a:solidFill>
                    <a:srgbClr val="ffffff"/>
                  </a:solidFill>
                  <a:latin typeface="Arial"/>
                  <a:cs typeface="Simplified Arabic"/>
                </a:rPr>
                <a:t>حجم رأس المال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ffffff"/>
                  </a:solidFill>
                  <a:latin typeface="Arial"/>
                  <a:ea typeface="Simplified Arabic"/>
                </a:rPr>
                <a:t>. </a:t>
              </a:r>
              <a:r>
                <a:rPr b="1" lang="ar-SA" sz="2000" spc="-1" strike="noStrike">
                  <a:solidFill>
                    <a:srgbClr val="ffffff"/>
                  </a:solidFill>
                  <a:latin typeface="Arial"/>
                  <a:cs typeface="Simplified Arabic"/>
                </a:rPr>
                <a:t>الطاقة البشرية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ffffff"/>
                  </a:solidFill>
                  <a:latin typeface="Arial"/>
                  <a:ea typeface="Simplified Arabic"/>
                </a:rPr>
                <a:t>. </a:t>
              </a:r>
              <a:r>
                <a:rPr b="1" lang="ar-SA" sz="2000" spc="-1" strike="noStrike">
                  <a:solidFill>
                    <a:srgbClr val="ffffff"/>
                  </a:solidFill>
                  <a:latin typeface="Arial"/>
                  <a:cs typeface="Simplified Arabic"/>
                </a:rPr>
                <a:t>التشريعات الحكومية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ffffff"/>
                  </a:solidFill>
                  <a:latin typeface="Arial"/>
                  <a:ea typeface="Simplified Arabic"/>
                </a:rPr>
                <a:t>. </a:t>
              </a:r>
              <a:r>
                <a:rPr b="1" lang="ar-SA" sz="2000" spc="-1" strike="noStrike">
                  <a:solidFill>
                    <a:srgbClr val="ffffff"/>
                  </a:solidFill>
                  <a:latin typeface="Arial"/>
                  <a:cs typeface="Simplified Arabic"/>
                </a:rPr>
                <a:t>تشريعات العمل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ffffff"/>
                  </a:solidFill>
                  <a:latin typeface="Arial"/>
                  <a:ea typeface="Simplified Arabic"/>
                </a:rPr>
                <a:t>. </a:t>
              </a:r>
              <a:r>
                <a:rPr b="1" lang="ar-SA" sz="2000" spc="-1" strike="noStrike">
                  <a:solidFill>
                    <a:srgbClr val="ffffff"/>
                  </a:solidFill>
                  <a:latin typeface="Arial"/>
                  <a:cs typeface="Simplified Arabic"/>
                </a:rPr>
                <a:t>الطاقة الإنتاجية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ffffff"/>
                  </a:solidFill>
                  <a:latin typeface="Arial"/>
                  <a:ea typeface="Simplified Arabic"/>
                </a:rPr>
                <a:t>. </a:t>
              </a:r>
              <a:r>
                <a:rPr b="1" lang="ar-SA" sz="2000" spc="-1" strike="noStrike">
                  <a:solidFill>
                    <a:srgbClr val="ffffff"/>
                  </a:solidFill>
                  <a:latin typeface="Arial"/>
                  <a:cs typeface="Simplified Arabic"/>
                </a:rPr>
                <a:t>الطاقة البيعية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ffffff"/>
                  </a:solidFill>
                  <a:latin typeface="Arial"/>
                  <a:ea typeface="Simplified Arabic"/>
                </a:rPr>
                <a:t>. </a:t>
              </a:r>
              <a:r>
                <a:rPr b="1" lang="ar-SA" sz="2000" spc="-1" strike="noStrike">
                  <a:solidFill>
                    <a:srgbClr val="ffffff"/>
                  </a:solidFill>
                  <a:latin typeface="Arial"/>
                  <a:cs typeface="Simplified Arabic"/>
                </a:rPr>
                <a:t>الموردين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ffffff"/>
                  </a:solidFill>
                  <a:latin typeface="Arial"/>
                  <a:ea typeface="Simplified Arabic"/>
                </a:rPr>
                <a:t>. </a:t>
              </a:r>
              <a:r>
                <a:rPr b="1" lang="ar-SA" sz="2000" spc="-1" strike="noStrike">
                  <a:solidFill>
                    <a:srgbClr val="ffffff"/>
                  </a:solidFill>
                  <a:latin typeface="Arial"/>
                  <a:cs typeface="Simplified Arabic"/>
                </a:rPr>
                <a:t>المستهلكين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9" name=""/>
            <p:cNvSpPr/>
            <p:nvPr/>
          </p:nvSpPr>
          <p:spPr>
            <a:xfrm flipV="1">
              <a:off x="7318080" y="5844600"/>
              <a:ext cx="0" cy="479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2278800" y="6324480"/>
              <a:ext cx="5039280" cy="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2278800" y="4614840"/>
              <a:ext cx="0" cy="170928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2" name=""/>
            <p:cNvSpPr/>
            <p:nvPr/>
          </p:nvSpPr>
          <p:spPr>
            <a:xfrm flipH="1">
              <a:off x="5826960" y="3998160"/>
              <a:ext cx="354960" cy="0"/>
            </a:xfrm>
            <a:prstGeom prst="line">
              <a:avLst/>
            </a:prstGeom>
            <a:ln w="936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3" name=""/>
            <p:cNvSpPr/>
            <p:nvPr/>
          </p:nvSpPr>
          <p:spPr>
            <a:xfrm flipH="1">
              <a:off x="3342240" y="3930480"/>
              <a:ext cx="425160" cy="0"/>
            </a:xfrm>
            <a:prstGeom prst="line">
              <a:avLst/>
            </a:prstGeom>
            <a:ln w="936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3840120" y="5776920"/>
              <a:ext cx="1844280" cy="40968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cc3300"/>
                  </a:solidFill>
                  <a:latin typeface="Tahoma"/>
                  <a:cs typeface="Simplified Arabic"/>
                </a:rPr>
                <a:t>بيانات مرتدة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6324480" y="2289240"/>
              <a:ext cx="1844640" cy="3420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000" spc="-1" strike="noStrike">
                  <a:solidFill>
                    <a:srgbClr val="cc3300"/>
                  </a:solidFill>
                  <a:latin typeface="Tahoma"/>
                  <a:cs typeface="Simplified Arabic"/>
                </a:rPr>
                <a:t>المدخلات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3840120" y="2289240"/>
              <a:ext cx="1916280" cy="3420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000" spc="-1" strike="noStrike">
                  <a:solidFill>
                    <a:srgbClr val="cc3300"/>
                  </a:solidFill>
                  <a:latin typeface="Tahoma"/>
                  <a:cs typeface="Simplified Arabic"/>
                </a:rPr>
                <a:t>عمليات التشغيل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1427760" y="2289240"/>
              <a:ext cx="1844280" cy="3420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000" spc="-1" strike="noStrike">
                  <a:solidFill>
                    <a:srgbClr val="cc3300"/>
                  </a:solidFill>
                  <a:latin typeface="Tahoma"/>
                  <a:cs typeface="Simplified Arabic"/>
                </a:rPr>
                <a:t>المخرجات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8" name="PlaceHolder 1"/>
          <p:cNvSpPr>
            <a:spLocks noGrp="1"/>
          </p:cNvSpPr>
          <p:nvPr>
            <p:ph type="title"/>
          </p:nvPr>
        </p:nvSpPr>
        <p:spPr>
          <a:xfrm>
            <a:off x="1115640" y="33336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cc"/>
                </a:solidFill>
                <a:latin typeface="Arial"/>
                <a:cs typeface="Simplified Arabic"/>
              </a:rPr>
              <a:t>أهمية نظام المعلومات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1969" name=""/>
          <p:cNvGrpSpPr/>
          <p:nvPr/>
        </p:nvGrpSpPr>
        <p:grpSpPr>
          <a:xfrm>
            <a:off x="1328760" y="2060640"/>
            <a:ext cx="7129440" cy="4249800"/>
            <a:chOff x="1328760" y="2060640"/>
            <a:chExt cx="7129440" cy="4249800"/>
          </a:xfrm>
        </p:grpSpPr>
        <p:sp>
          <p:nvSpPr>
            <p:cNvPr id="1970" name=""/>
            <p:cNvSpPr/>
            <p:nvPr/>
          </p:nvSpPr>
          <p:spPr>
            <a:xfrm>
              <a:off x="1328760" y="2565360"/>
              <a:ext cx="2089080" cy="223200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000" spc="-1" strike="noStrike">
                  <a:solidFill>
                    <a:srgbClr val="ffffff"/>
                  </a:solidFill>
                  <a:latin typeface="Arial"/>
                  <a:cs typeface="Simplified Arabic"/>
                </a:rPr>
                <a:t>قرارات إدارية في شكل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Simplified Arabic"/>
                </a:rPr>
                <a:t>: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Simplified Arabic"/>
                </a:rPr>
                <a:t>. </a:t>
              </a:r>
              <a:r>
                <a:rPr b="1" lang="hi-IN" sz="2000" spc="-1" strike="noStrike">
                  <a:solidFill>
                    <a:srgbClr val="ffffff"/>
                  </a:solidFill>
                  <a:latin typeface="Arial"/>
                  <a:cs typeface="Simplified Arabic"/>
                </a:rPr>
                <a:t>خطط استراتيجية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Simplified Arabic"/>
                </a:rPr>
                <a:t> </a:t>
              </a:r>
              <a:r>
                <a:rPr b="1" lang="hi-IN" sz="2000" spc="-1" strike="noStrike">
                  <a:solidFill>
                    <a:srgbClr val="ffffff"/>
                  </a:solidFill>
                  <a:latin typeface="Arial"/>
                  <a:cs typeface="Simplified Arabic"/>
                </a:rPr>
                <a:t>و تكتيكية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Simplified Arabic"/>
                </a:rPr>
                <a:t>. </a:t>
              </a:r>
              <a:r>
                <a:rPr b="1" lang="hi-IN" sz="2000" spc="-1" strike="noStrike">
                  <a:solidFill>
                    <a:srgbClr val="ffffff"/>
                  </a:solidFill>
                  <a:latin typeface="Arial"/>
                  <a:cs typeface="Simplified Arabic"/>
                </a:rPr>
                <a:t>سياسات داخلية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Simplified Arabic"/>
                </a:rPr>
                <a:t> </a:t>
              </a:r>
              <a:r>
                <a:rPr b="1" lang="hi-IN" sz="2000" spc="-1" strike="noStrike">
                  <a:solidFill>
                    <a:srgbClr val="ffffff"/>
                  </a:solidFill>
                  <a:latin typeface="Arial"/>
                  <a:cs typeface="Simplified Arabic"/>
                </a:rPr>
                <a:t>و خارجية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Simplified Arabic"/>
                </a:rPr>
                <a:t>. </a:t>
              </a:r>
              <a:r>
                <a:rPr b="1" lang="hi-IN" sz="2000" spc="-1" strike="noStrike">
                  <a:solidFill>
                    <a:srgbClr val="ffffff"/>
                  </a:solidFill>
                  <a:latin typeface="Arial"/>
                  <a:cs typeface="Simplified Arabic"/>
                </a:rPr>
                <a:t>نتائج أخرى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3778200" y="2565360"/>
              <a:ext cx="2051280" cy="230364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000" spc="-1" strike="noStrike">
                  <a:solidFill>
                    <a:srgbClr val="ffffff"/>
                  </a:solidFill>
                  <a:latin typeface="Arial"/>
                  <a:cs typeface="Simplified Arabic"/>
                </a:rPr>
                <a:t>تحليل البيانات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Simplified Arabic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000" spc="-1" strike="noStrike">
                  <a:solidFill>
                    <a:srgbClr val="ffffff"/>
                  </a:solidFill>
                  <a:latin typeface="Arial"/>
                  <a:cs typeface="Simplified Arabic"/>
                </a:rPr>
                <a:t>لأغراض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Simplified Arabic"/>
                </a:rPr>
                <a:t>: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Simplified Arabic"/>
                </a:rPr>
                <a:t>. </a:t>
              </a:r>
              <a:r>
                <a:rPr b="1" lang="hi-IN" sz="2000" spc="-1" strike="noStrike">
                  <a:solidFill>
                    <a:srgbClr val="ffffff"/>
                  </a:solidFill>
                  <a:latin typeface="Arial"/>
                  <a:cs typeface="Simplified Arabic"/>
                </a:rPr>
                <a:t>التنبؤ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Simplified Arabic"/>
                </a:rPr>
                <a:t>. </a:t>
              </a:r>
              <a:r>
                <a:rPr b="1" lang="hi-IN" sz="2000" spc="-1" strike="noStrike">
                  <a:solidFill>
                    <a:srgbClr val="ffffff"/>
                  </a:solidFill>
                  <a:latin typeface="Arial"/>
                  <a:cs typeface="Simplified Arabic"/>
                </a:rPr>
                <a:t>التنظيم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Simplified Arabic"/>
                </a:rPr>
                <a:t>. </a:t>
              </a:r>
              <a:r>
                <a:rPr b="1" lang="hi-IN" sz="2000" spc="-1" strike="noStrike">
                  <a:solidFill>
                    <a:srgbClr val="ffffff"/>
                  </a:solidFill>
                  <a:latin typeface="Arial"/>
                  <a:cs typeface="Simplified Arabic"/>
                </a:rPr>
                <a:t>الرقابة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6226200" y="2565360"/>
              <a:ext cx="2232000" cy="230364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ffffff"/>
                  </a:solidFill>
                  <a:latin typeface="Arial"/>
                  <a:cs typeface="Simplified Arabic"/>
                </a:rPr>
                <a:t>نظام المعلومات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Simplified Arabic"/>
                </a:rPr>
                <a:t> </a:t>
              </a:r>
              <a:r>
                <a:rPr b="1" lang="hi-IN" sz="2400" spc="-1" strike="noStrike">
                  <a:solidFill>
                    <a:srgbClr val="ffffff"/>
                  </a:solidFill>
                  <a:latin typeface="Arial"/>
                  <a:cs typeface="Simplified Arabic"/>
                </a:rPr>
                <a:t>الإداري المتاح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3" name=""/>
            <p:cNvSpPr/>
            <p:nvPr/>
          </p:nvSpPr>
          <p:spPr>
            <a:xfrm flipV="1">
              <a:off x="7378920" y="5805000"/>
              <a:ext cx="0" cy="505080"/>
            </a:xfrm>
            <a:prstGeom prst="line">
              <a:avLst/>
            </a:prstGeom>
            <a:ln w="936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2265480" y="6310440"/>
              <a:ext cx="5113440" cy="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2265480" y="4941720"/>
              <a:ext cx="0" cy="13687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6" name=""/>
            <p:cNvSpPr/>
            <p:nvPr/>
          </p:nvSpPr>
          <p:spPr>
            <a:xfrm flipH="1">
              <a:off x="5865480" y="3860640"/>
              <a:ext cx="360360" cy="0"/>
            </a:xfrm>
            <a:prstGeom prst="line">
              <a:avLst/>
            </a:prstGeom>
            <a:ln w="936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7" name=""/>
            <p:cNvSpPr/>
            <p:nvPr/>
          </p:nvSpPr>
          <p:spPr>
            <a:xfrm flipH="1">
              <a:off x="3417480" y="3789360"/>
              <a:ext cx="358920" cy="0"/>
            </a:xfrm>
            <a:prstGeom prst="line">
              <a:avLst/>
            </a:prstGeom>
            <a:ln w="936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3849840" y="5734080"/>
              <a:ext cx="1871640" cy="43164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cc3300"/>
                  </a:solidFill>
                  <a:latin typeface="Tahoma"/>
                  <a:cs typeface="Simplified Arabic"/>
                </a:rPr>
                <a:t>معلومات مرتدة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6370560" y="2060640"/>
              <a:ext cx="1872000" cy="36036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000" spc="-1" strike="noStrike">
                  <a:solidFill>
                    <a:srgbClr val="cc3300"/>
                  </a:solidFill>
                  <a:latin typeface="Tahoma"/>
                  <a:cs typeface="Simplified Arabic"/>
                </a:rPr>
                <a:t>المدخلات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3849840" y="2060640"/>
              <a:ext cx="1944720" cy="36036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000" spc="-1" strike="noStrike">
                  <a:solidFill>
                    <a:srgbClr val="cc3300"/>
                  </a:solidFill>
                  <a:latin typeface="Tahoma"/>
                  <a:cs typeface="Simplified Arabic"/>
                </a:rPr>
                <a:t>التشغيل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1401840" y="2060640"/>
              <a:ext cx="1871640" cy="36036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000" spc="-1" strike="noStrike">
                  <a:solidFill>
                    <a:srgbClr val="cc3300"/>
                  </a:solidFill>
                  <a:latin typeface="Tahoma"/>
                  <a:cs typeface="Simplified Arabic"/>
                </a:rPr>
                <a:t>المخرجات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cc"/>
                </a:solidFill>
                <a:latin typeface="Arial"/>
                <a:cs typeface="Simplified Arabic"/>
              </a:rPr>
              <a:t>الحاسوب و نظام المعلومات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83" name="PlaceHolder 2"/>
          <p:cNvSpPr>
            <a:spLocks noGrp="1"/>
          </p:cNvSpPr>
          <p:nvPr>
            <p:ph/>
          </p:nvPr>
        </p:nvSpPr>
        <p:spPr>
          <a:xfrm>
            <a:off x="1187280" y="1988640"/>
            <a:ext cx="7537680" cy="37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eaeaea"/>
                </a:solidFill>
                <a:latin typeface="Verdana"/>
                <a:cs typeface="Simplified Arabic"/>
              </a:rPr>
              <a:t>آليات الحاسب الآلي مهمة في نقل معلومات الأعمال  للعديد من المستفيدين مثل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016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01680" indent="-301680" algn="r" rtl="1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eaeaea"/>
                </a:solidFill>
                <a:latin typeface="Verdana"/>
                <a:cs typeface="Simplified Arabic"/>
              </a:rPr>
              <a:t>أصحاب المشروعات التجارية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01680" indent="-301680" algn="r" rtl="1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eaeaea"/>
                </a:solidFill>
                <a:latin typeface="Verdana"/>
                <a:cs typeface="Simplified Arabic"/>
              </a:rPr>
              <a:t>فئة المستثمرين المرتقبين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01680" indent="-301680" algn="r" rtl="1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eaeaea"/>
                </a:solidFill>
                <a:latin typeface="Verdana"/>
                <a:cs typeface="Simplified Arabic"/>
              </a:rPr>
              <a:t>فئة المديرين القائمين على إدارة الأعمال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01680" indent="-301680" algn="r" rtl="1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eaeaea"/>
                </a:solidFill>
                <a:latin typeface="Verdana"/>
                <a:cs typeface="Simplified Arabic"/>
              </a:rPr>
              <a:t>فئة المستهلكين المتوقعين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cc"/>
                </a:solidFill>
                <a:latin typeface="Arial"/>
                <a:cs typeface="Simplified Arabic"/>
              </a:rPr>
              <a:t>مكانة نظام المعلومات في بيئة الاعمال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985" name="" descr=""/>
          <p:cNvPicPr/>
          <p:nvPr/>
        </p:nvPicPr>
        <p:blipFill>
          <a:blip r:embed="rId1"/>
          <a:stretch/>
        </p:blipFill>
        <p:spPr>
          <a:xfrm>
            <a:off x="1279440" y="2811600"/>
            <a:ext cx="6950160" cy="24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e5e5ff"/>
                </a:solidFill>
                <a:latin typeface="Garamond"/>
              </a:rPr>
              <a:t>وظائف الإدارة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1042920" y="2349000"/>
            <a:ext cx="7561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Garamond"/>
                <a:cs typeface="Simplified Arabic"/>
              </a:rPr>
              <a:t>التخطيط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Garamond"/>
                <a:cs typeface="Simplified Arabic"/>
              </a:rPr>
              <a:t>اتخاذ القرارات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Garamond"/>
                <a:cs typeface="Simplified Arabic"/>
              </a:rPr>
              <a:t>التنظيم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Garamond"/>
                <a:cs typeface="Simplified Arabic"/>
              </a:rPr>
              <a:t>التنسي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Garamond"/>
                <a:cs typeface="Simplified Arabic"/>
              </a:rPr>
              <a:t>التوجيه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Garamond"/>
                <a:cs typeface="Simplified Arabic"/>
              </a:rPr>
              <a:t>الرقابة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e5e5ff"/>
                </a:solidFill>
                <a:latin typeface="Garamond"/>
              </a:rPr>
              <a:t>وظائف المنشأة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1042920" y="2349000"/>
            <a:ext cx="7561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Garamond"/>
                <a:cs typeface="Simplified Arabic"/>
              </a:rPr>
              <a:t>الموارد البشرية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Garamond"/>
                <a:cs typeface="Simplified Arabic"/>
              </a:rPr>
              <a:t>إدارة التسوي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Garamond"/>
                <a:cs typeface="Simplified Arabic"/>
              </a:rPr>
              <a:t>إدارة الإنتاج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Garamond"/>
                <a:cs typeface="Simplified Arabic"/>
              </a:rPr>
              <a:t>الإدارة المالية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Garamond"/>
                <a:cs typeface="Simplified Arabic"/>
              </a:rPr>
              <a:t>إدارة نظم المعلومات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/>
          </p:nvPr>
        </p:nvSpPr>
        <p:spPr>
          <a:xfrm>
            <a:off x="457200" y="2493720"/>
            <a:ext cx="8229600" cy="32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ffffff"/>
                </a:solidFill>
                <a:latin typeface="Verdana"/>
                <a:cs typeface="Motken noqta"/>
              </a:rPr>
              <a:t>التخطيط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 rtl="1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nning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8" name=""/>
          <p:cNvSpPr/>
          <p:nvPr/>
        </p:nvSpPr>
        <p:spPr>
          <a:xfrm>
            <a:off x="0" y="331920"/>
            <a:ext cx="4140360" cy="1152360"/>
          </a:xfrm>
          <a:prstGeom prst="flowChartDelay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>
            <a:off x="216000" y="692280"/>
            <a:ext cx="277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cc3300"/>
                </a:solidFill>
                <a:latin typeface="Tahoma"/>
                <a:cs typeface="كبير 6"/>
              </a:rPr>
              <a:t>الفصل الثاني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ccecff"/>
                </a:solidFill>
                <a:latin typeface="Arial"/>
                <a:cs typeface="Simplified Arabic"/>
              </a:rPr>
              <a:t>المحتويات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Verdana"/>
                <a:cs typeface="Simplified Arabic"/>
              </a:rPr>
              <a:t>مفهوم التخطي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Verdana"/>
                <a:cs typeface="Simplified Arabic"/>
              </a:rPr>
              <a:t>فوائد التخطي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Verdana"/>
                <a:cs typeface="Simplified Arabic"/>
              </a:rPr>
              <a:t>عناصر التخطي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Verdana"/>
                <a:cs typeface="Simplified Arabic"/>
              </a:rPr>
              <a:t>أنواع التخطي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Verdana"/>
                <a:cs typeface="Simplified Arabic"/>
              </a:rPr>
              <a:t>خطوات التخطي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Verdana"/>
                <a:cs typeface="Simplified Arabic"/>
              </a:rPr>
              <a:t>صفات التخطيط الفعا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Verdana"/>
                <a:cs typeface="Simplified Arabic"/>
              </a:rPr>
              <a:t>معوقات التخطي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ccecff"/>
                </a:solidFill>
                <a:latin typeface="Arial"/>
              </a:rPr>
              <a:t>مفهوم التخطيط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1066320" y="2133360"/>
            <a:ext cx="7682040" cy="45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”هو التحديد في الوقت الحاضر لما سيتم عمله في المستقبل“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 algn="r" rtl="1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Verdana"/>
              </a:rPr>
              <a:t>خصائص التخطيط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 algn="r" rtl="1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Verdana"/>
              </a:rPr>
              <a:t>أنه مستقبلي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 algn="r" rtl="1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Verdana"/>
              </a:rPr>
              <a:t>أنه توقعي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 algn="r" rtl="1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Verdana"/>
              </a:rPr>
              <a:t>أنه يعتمد على القرارات و الإجراءات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 algn="r" rtl="1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Verdana"/>
              </a:rPr>
              <a:t>أنه يركز على الأهداف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 algn="r" rtl="1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Verdana"/>
              </a:rPr>
              <a:t>أنه عمليه مستمرة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ffffff"/>
                </a:solidFill>
                <a:latin typeface="Garamond"/>
                <a:cs typeface="Motken noqta"/>
              </a:rPr>
              <a:t>مفهوم الإدارة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ffffff"/>
                </a:solidFill>
                <a:latin typeface="Garamond"/>
                <a:ea typeface="Motken noqta"/>
              </a:rPr>
              <a:t> وتطورها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 rtl="1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ment’s Concept and Development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7" name=""/>
          <p:cNvSpPr/>
          <p:nvPr/>
        </p:nvSpPr>
        <p:spPr>
          <a:xfrm>
            <a:off x="0" y="404640"/>
            <a:ext cx="4140360" cy="1152720"/>
          </a:xfrm>
          <a:prstGeom prst="flowChartDelay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216000" y="692280"/>
            <a:ext cx="27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cc3300"/>
                </a:solidFill>
                <a:latin typeface="Tahoma"/>
                <a:cs typeface="كبير 6"/>
              </a:rPr>
              <a:t>الفصل الأو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ccecff"/>
                </a:solidFill>
                <a:latin typeface="Arial"/>
              </a:rPr>
              <a:t>فوائد التخطيط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1066320" y="2349000"/>
            <a:ext cx="75438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406800" indent="-40680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Verdana"/>
                <a:cs typeface="Simplified Arabic"/>
              </a:rPr>
              <a:t>يساهم التخطيط في وضع أهداف واضحة للعمل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406800" indent="-40680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Verdana"/>
                <a:cs typeface="Simplified Arabic"/>
              </a:rPr>
              <a:t>يحقق التخطيط التناسق بين الأهداف المتعددة 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406800" indent="-40680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Verdana"/>
                <a:cs typeface="Simplified Arabic"/>
              </a:rPr>
              <a:t>يساهم التخطيط في التعرف على مشكلات المستقبل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406800" indent="-40680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Verdana"/>
                <a:cs typeface="Simplified Arabic"/>
              </a:rPr>
              <a:t>يساعد التخطيط في وضع ضوابط للاستخدام الأمثل للموارد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406800" indent="-40680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Verdana"/>
                <a:cs typeface="Simplified Arabic"/>
              </a:rPr>
              <a:t>يساهم التخطيط في الرقابة على العمل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406800" indent="-40680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Verdana"/>
                <a:cs typeface="Simplified Arabic"/>
              </a:rPr>
              <a:t>يساعد التخطيط في وضع برامج زمنية محددة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406800" indent="-40680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Verdana"/>
                <a:cs typeface="Simplified Arabic"/>
              </a:rPr>
              <a:t>يساعد التخطيط على تنظيم العمل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ccecff"/>
                </a:solidFill>
                <a:latin typeface="Arial"/>
              </a:rPr>
              <a:t>عناصر التخطيط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87" name=""/>
          <p:cNvSpPr/>
          <p:nvPr/>
        </p:nvSpPr>
        <p:spPr>
          <a:xfrm>
            <a:off x="2771640" y="2997360"/>
            <a:ext cx="939960" cy="57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"/>
          <p:cNvSpPr/>
          <p:nvPr/>
        </p:nvSpPr>
        <p:spPr>
          <a:xfrm flipH="1">
            <a:off x="5651640" y="2924280"/>
            <a:ext cx="93960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 flipH="1" flipV="1">
            <a:off x="5508360" y="4220640"/>
            <a:ext cx="1127160" cy="76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 flipV="1">
            <a:off x="2843280" y="4149360"/>
            <a:ext cx="1128600" cy="950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>
            <a:off x="6335640" y="2133720"/>
            <a:ext cx="1692360" cy="11412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>
            <a:off x="1440000" y="2143080"/>
            <a:ext cx="1692000" cy="11415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>
            <a:off x="6335640" y="4724280"/>
            <a:ext cx="1692360" cy="11415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>
            <a:off x="1584360" y="4808520"/>
            <a:ext cx="1692360" cy="11415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>
            <a:off x="3514680" y="3365640"/>
            <a:ext cx="2444760" cy="1143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>
            <a:off x="6523200" y="2425680"/>
            <a:ext cx="13176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أهدا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>
            <a:off x="1403280" y="2421000"/>
            <a:ext cx="169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سياس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6335640" y="5041800"/>
            <a:ext cx="1692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إجراءات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1584360" y="5157720"/>
            <a:ext cx="1692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قواع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635280" y="3718080"/>
            <a:ext cx="2255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كبير 6"/>
              </a:rPr>
              <a:t>عناصر التخطي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ccecff"/>
                </a:solidFill>
                <a:latin typeface="Arial"/>
              </a:rPr>
              <a:t>عناصر التخطيط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1066320" y="2349360"/>
            <a:ext cx="7543800" cy="41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Verdana"/>
                <a:cs typeface="Simplified Arabic"/>
              </a:rPr>
              <a:t>الأهداف:  وهي الأغراض والغايات التي يراد تحقيقها في المستقبل 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Verdana"/>
                <a:cs typeface="Simplified Arabic"/>
              </a:rPr>
              <a:t>السياسات:  وهي مجموعة المبادئ والقواعد والقوانين التي تضعها الإدارة العليا في المنشأ ه لكي تسترشد بها باقي المستويات الإدارية في المنشأة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Verdana"/>
                <a:cs typeface="Simplified Arabic"/>
              </a:rPr>
              <a:t>القواعد : وهي ما يجب القيام به وما ينبغي الامتناع عنه من سلوك أو تصرفات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Verdana"/>
                <a:cs typeface="Simplified Arabic"/>
              </a:rPr>
              <a:t>الإجراءات:  وهي سلسلة الأعمال والخطوات والمراحل التي يجب اتباعها لتنفيذ عمل معا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ccecff"/>
                </a:solidFill>
                <a:latin typeface="Arial"/>
              </a:rPr>
              <a:t>أنواع التخطيط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1066680" y="1915920"/>
            <a:ext cx="7537680" cy="49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Verdana"/>
              </a:rPr>
              <a:t>التقسيم حسب الفترة الزمنية: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2120" indent="-312120" algn="r" rtl="1">
              <a:spcBef>
                <a:spcPts val="700"/>
              </a:spcBef>
              <a:buClr>
                <a:srgbClr val="ffffff"/>
              </a:buClr>
              <a:buSzPct val="60000"/>
              <a:buFont typeface="Verdana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cc3300"/>
                </a:solidFill>
                <a:latin typeface="Verdana"/>
                <a:cs typeface="Simplified Arabic"/>
              </a:rPr>
              <a:t>تخطيط طويل الأجل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21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Verdana"/>
                <a:cs typeface="Simplified Arabic"/>
              </a:rPr>
              <a:t>تتراوح المدة الزمنية لتخطيط طويل الأجل بين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Simplified Arabic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Simplified Arabic"/>
              </a:rPr>
              <a:t> إلى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Simplified Arabic"/>
              </a:rPr>
              <a:t>10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Simplified Arabic"/>
              </a:rPr>
              <a:t> سنوات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21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Verdana"/>
                <a:ea typeface="Simplified Arabic"/>
              </a:rPr>
              <a:t> ب_ تخطيط متوسط الأجل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21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Verdana"/>
                <a:cs typeface="Simplified Arabic"/>
              </a:rPr>
              <a:t>تتراوح المدة الزمنية لتخطيط متوسط الأجل بين سنه إلى أقل من ثلاث سنوات وهو تفصيل للخطط طويلة الأجل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21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Verdana"/>
                <a:ea typeface="Simplified Arabic"/>
              </a:rPr>
              <a:t> ج- تخطيط قصير الأجل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21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Verdana"/>
                <a:cs typeface="Simplified Arabic"/>
              </a:rPr>
              <a:t>وتكون مدة قصيرة لا تتجاوز سنه واحدة وهو تفصيل للتخطيط متوسط الأجل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ccecff"/>
                </a:solidFill>
                <a:latin typeface="Arial"/>
              </a:rPr>
              <a:t>أنواع التخطيط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1066680" y="1915920"/>
            <a:ext cx="7537680" cy="49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Verdana"/>
                <a:cs typeface="Simplified Arabic"/>
              </a:rPr>
              <a:t>التقسيم حسب المستوى الإداري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9160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cc3300"/>
                </a:solidFill>
                <a:latin typeface="Verdana"/>
                <a:cs typeface="Simplified Arabic"/>
              </a:rPr>
              <a:t>أ- التخطيط على المستوى الإدارة العليا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9160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Verdana"/>
                <a:cs typeface="Simplified Arabic"/>
              </a:rPr>
              <a:t>تتمثل عادة بأعضاء مجلس الإدارة أو رئيس مجلس الإدارة أو مدراء العموم وتتميز بالبعد الاستراتيجي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9160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cc3300"/>
                </a:solidFill>
                <a:latin typeface="Verdana"/>
                <a:cs typeface="Simplified Arabic"/>
              </a:rPr>
              <a:t>ب- التخطيط على مستوى الإدارة الوسطي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9160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Verdana"/>
                <a:cs typeface="Simplified Arabic"/>
              </a:rPr>
              <a:t>التي تتمثل عادة بمساعدي المدراء و رؤساء الأقسام و مدراء الإدارات الفرعية  وتتميز ببعده التفصيلي أو التكتيكي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9160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cc3300"/>
                </a:solidFill>
                <a:latin typeface="Verdana"/>
                <a:cs typeface="Simplified Arabic"/>
              </a:rPr>
              <a:t>ج- التخطيط  على مستوى الإدارة الدنيا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9160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Verdana"/>
                <a:cs typeface="Simplified Arabic"/>
              </a:rPr>
              <a:t>التي تتمثل عادة بالمشرفين ورؤساء الشعب ويتميز بالخطط التشغيلية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ccecff"/>
                </a:solidFill>
                <a:latin typeface="Arial"/>
              </a:rPr>
              <a:t>خطوات التخطيط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6424560" y="2071800"/>
            <a:ext cx="2622600" cy="86508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تحديد الأهدا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5622840" y="2976480"/>
            <a:ext cx="2478240" cy="865440"/>
          </a:xfrm>
          <a:prstGeom prst="roundRect">
            <a:avLst>
              <a:gd name="adj" fmla="val 16667"/>
            </a:avLst>
          </a:prstGeom>
          <a:solidFill>
            <a:srgbClr val="cc66ff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جمع المعلومات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>
            <a:off x="4284720" y="3879720"/>
            <a:ext cx="2663640" cy="86544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وضع الافتراضات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>
            <a:off x="2895480" y="4797360"/>
            <a:ext cx="2684520" cy="865080"/>
          </a:xfrm>
          <a:prstGeom prst="roundRect">
            <a:avLst>
              <a:gd name="adj" fmla="val 16667"/>
            </a:avLst>
          </a:prstGeom>
          <a:solidFill>
            <a:srgbClr val="33cccc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تحديد البدائ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>
            <a:off x="1441440" y="5703840"/>
            <a:ext cx="2843280" cy="86508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Arial"/>
                <a:cs typeface="PT Bold Heading"/>
              </a:rPr>
              <a:t>التنفيذ وتقويم النتائج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ccecff"/>
                </a:solidFill>
                <a:latin typeface="Arial"/>
              </a:rPr>
              <a:t>صفات التخطيط الفعال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57200" y="2004480"/>
            <a:ext cx="8223120" cy="41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Verdana"/>
                <a:cs typeface="Simplified Arabic"/>
              </a:rPr>
              <a:t>وضوح الهدف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Verdana"/>
                <a:cs typeface="Simplified Arabic"/>
              </a:rPr>
              <a:t>المرون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Verdana"/>
                <a:cs typeface="Simplified Arabic"/>
              </a:rPr>
              <a:t>البساط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Verdana"/>
                <a:cs typeface="Simplified Arabic"/>
              </a:rPr>
              <a:t>المشاركة في الإعدا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Verdana"/>
                <a:cs typeface="Simplified Arabic"/>
              </a:rPr>
              <a:t>الواقعي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Verdana"/>
                <a:cs typeface="Simplified Arabic"/>
              </a:rPr>
              <a:t>تحقيق التواز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Verdana"/>
                <a:cs typeface="Simplified Arabic"/>
              </a:rPr>
              <a:t>المتابعة و التقوي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ccecff"/>
                </a:solidFill>
                <a:latin typeface="Arial"/>
              </a:rPr>
              <a:t>معوقات التخطيط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2004480"/>
            <a:ext cx="8223120" cy="41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Verdana"/>
                <a:cs typeface="Simplified Arabic"/>
              </a:rPr>
              <a:t>البيئة المعقدة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Verdana"/>
                <a:cs typeface="Simplified Arabic"/>
              </a:rPr>
              <a:t>نقص المعلومات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Verdana"/>
                <a:cs typeface="Simplified Arabic"/>
              </a:rPr>
              <a:t>مقاومة التغير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Verdana"/>
                <a:cs typeface="Simplified Arabic"/>
              </a:rPr>
              <a:t>عدم الواقعية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Verdana"/>
                <a:cs typeface="Simplified Arabic"/>
              </a:rPr>
              <a:t>عدم التنسيق بين المشروعات الإدارية المختلفة 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Verdana"/>
                <a:cs typeface="Simplified Arabic"/>
              </a:rPr>
              <a:t>وجود القيود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 algn="r" rtl="1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Verdana"/>
                <a:cs typeface="Simplified Arabic"/>
              </a:rPr>
              <a:t>الوقت و التكلفة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/>
          </p:nvPr>
        </p:nvSpPr>
        <p:spPr>
          <a:xfrm>
            <a:off x="457200" y="2485800"/>
            <a:ext cx="8229600" cy="32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ffffff"/>
                </a:solidFill>
                <a:latin typeface="Tahoma"/>
                <a:cs typeface="Motken noqta"/>
              </a:rPr>
              <a:t>اتخاذ القرارات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 rtl="1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cision Making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8" name=""/>
          <p:cNvSpPr/>
          <p:nvPr/>
        </p:nvSpPr>
        <p:spPr>
          <a:xfrm>
            <a:off x="0" y="404640"/>
            <a:ext cx="4140360" cy="1152720"/>
          </a:xfrm>
          <a:prstGeom prst="flowChartDelay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>
            <a:off x="216000" y="692280"/>
            <a:ext cx="277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cc3300"/>
                </a:solidFill>
                <a:latin typeface="Tahoma"/>
                <a:cs typeface="كبير 6"/>
              </a:rPr>
              <a:t>الفصل الثالث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ffffcc"/>
                </a:solidFill>
                <a:latin typeface="Tahoma"/>
                <a:cs typeface="Simplified Arabic"/>
              </a:rPr>
              <a:t>المحتويات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Simplified Arabic"/>
              </a:rPr>
              <a:t>مفهوم اتخاذ القرار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Simplified Arabic"/>
              </a:rPr>
              <a:t>اتخاذ القرارات والعملية الإداري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Simplified Arabic"/>
              </a:rPr>
              <a:t>أنواع القرارات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Simplified Arabic"/>
              </a:rPr>
              <a:t>خطوات اتخاذ القرار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Simplified Arabic"/>
              </a:rPr>
              <a:t>الأسلوب الجماعي في اتخاذ القرارات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Simplified Arabic"/>
              </a:rPr>
              <a:t>الحاسب الآلي واتخاذ القرارات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e5e5ff"/>
                </a:solidFill>
                <a:latin typeface="Garamond"/>
                <a:cs typeface="Simplified Arabic"/>
              </a:rPr>
              <a:t>المحتويات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Garamond"/>
                <a:cs typeface="Simplified Arabic"/>
              </a:rPr>
              <a:t>مفهوم الإدارة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Garamond"/>
                <a:cs typeface="Simplified Arabic"/>
              </a:rPr>
              <a:t>أهمية الإدارة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Garamond"/>
                <a:cs typeface="Simplified Arabic"/>
              </a:rPr>
              <a:t>تطور الفكر الإداري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Garamond"/>
                <a:cs typeface="Simplified Arabic"/>
              </a:rPr>
              <a:t>مجالات الإدارة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Garamond"/>
                <a:cs typeface="Simplified Arabic"/>
              </a:rPr>
              <a:t>عناصر العملية الإدارية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ffffcc"/>
                </a:solidFill>
                <a:latin typeface="Tahoma"/>
                <a:cs typeface="Simplified Arabic"/>
              </a:rPr>
              <a:t>مفهوم اتخاذ القرار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1066320" y="2349360"/>
            <a:ext cx="754380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ahoma"/>
              </a:rPr>
              <a:t>” هي عملية يتم بموجبها اختيار بديل للعمل من أجل حل مشكلة ما</a:t>
            </a:r>
            <a:r>
              <a:rPr b="0" lang="en-US" sz="3200" spc="-1" strike="noStrike">
                <a:solidFill>
                  <a:srgbClr val="ff99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9900"/>
                </a:solidFill>
                <a:latin typeface="Tahoma"/>
              </a:rPr>
              <a:t>“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</a:rPr>
              <a:t>أن اتخاذ القرار يمثل عملية ذهنية او حركية للوصول الى القرار المناسب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</a:rPr>
              <a:t>أن اتخاذ القرار يقوم على اساس الاختيار من بين عدة بدائل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 rtl="1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</a:rPr>
              <a:t>أن هناك هدفا أو غاية من وراء اتخاذ القرار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cc"/>
                </a:solidFill>
                <a:latin typeface="Tahoma"/>
              </a:rPr>
              <a:t>اتخاذ القرارات والعملية الإدارية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1225" name=""/>
          <p:cNvGrpSpPr/>
          <p:nvPr/>
        </p:nvGrpSpPr>
        <p:grpSpPr>
          <a:xfrm>
            <a:off x="826920" y="2282760"/>
            <a:ext cx="8064360" cy="4936320"/>
            <a:chOff x="826920" y="2282760"/>
            <a:chExt cx="8064360" cy="4936320"/>
          </a:xfrm>
        </p:grpSpPr>
        <p:sp>
          <p:nvSpPr>
            <p:cNvPr id="1226" name=""/>
            <p:cNvSpPr/>
            <p:nvPr/>
          </p:nvSpPr>
          <p:spPr>
            <a:xfrm>
              <a:off x="2608920" y="2914200"/>
              <a:ext cx="4470120" cy="3140640"/>
            </a:xfrm>
            <a:prstGeom prst="diamond">
              <a:avLst/>
            </a:prstGeom>
            <a:gradFill rotWithShape="0">
              <a:gsLst>
                <a:gs pos="0">
                  <a:srgbClr val="4d0808"/>
                </a:gs>
                <a:gs pos="100000">
                  <a:srgbClr val="fff200"/>
                </a:gs>
              </a:gsLst>
              <a:path path="rect">
                <a:fillToRect l="50000" t="50000" r="50000" b="50000"/>
              </a:path>
            </a:gradFill>
            <a:ln w="572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3969720" y="2282760"/>
              <a:ext cx="1801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3600" spc="-1" strike="noStrike">
                  <a:solidFill>
                    <a:srgbClr val="ffffff"/>
                  </a:solidFill>
                  <a:latin typeface="Arial"/>
                </a:rPr>
                <a:t>الرقابة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3896640" y="6027840"/>
              <a:ext cx="1801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3600" spc="-1" strike="noStrike">
                  <a:solidFill>
                    <a:srgbClr val="ffffff"/>
                  </a:solidFill>
                  <a:latin typeface="Arial"/>
                </a:rPr>
                <a:t>التنظيم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826920" y="4166280"/>
              <a:ext cx="1802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3600" spc="-1" strike="noStrike">
                  <a:solidFill>
                    <a:srgbClr val="ffffff"/>
                  </a:solidFill>
                  <a:latin typeface="Arial"/>
                </a:rPr>
                <a:t>التوجيه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7088400" y="4200120"/>
              <a:ext cx="18028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3600" spc="-1" strike="noStrike">
                  <a:solidFill>
                    <a:srgbClr val="ffffff"/>
                  </a:solidFill>
                  <a:latin typeface="Arial"/>
                </a:rPr>
                <a:t>التخطيط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3689640" y="3646080"/>
              <a:ext cx="2308320" cy="1663200"/>
            </a:xfrm>
            <a:prstGeom prst="ellipse">
              <a:avLst/>
            </a:prstGeom>
            <a:gradFill rotWithShape="0">
              <a:gsLst>
                <a:gs pos="0">
                  <a:srgbClr val="4d0808"/>
                </a:gs>
                <a:gs pos="100000">
                  <a:srgbClr val="ff9900"/>
                </a:gs>
              </a:gsLst>
              <a:path path="rect">
                <a:fillToRect l="50000" t="50000" r="50000" b="50000"/>
              </a:path>
            </a:gradFill>
            <a:ln w="572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3975840" y="3891960"/>
              <a:ext cx="1804320" cy="181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3200" spc="-1" strike="noStrike">
                  <a:solidFill>
                    <a:srgbClr val="0000cc"/>
                  </a:solidFill>
                  <a:latin typeface="Arial"/>
                  <a:cs typeface="PT Bold Heading"/>
                </a:rPr>
                <a:t>اتخاذ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 rtl="1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3200" spc="-1" strike="noStrike">
                  <a:solidFill>
                    <a:srgbClr val="0000cc"/>
                  </a:solidFill>
                  <a:latin typeface="Arial"/>
                  <a:cs typeface="PT Bold Heading"/>
                </a:rPr>
                <a:t>القرارات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ffffcc"/>
                </a:solidFill>
                <a:latin typeface="Tahoma"/>
              </a:rPr>
              <a:t>أنواع القرارات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34" name=""/>
          <p:cNvGraphicFramePr/>
          <p:nvPr/>
        </p:nvGraphicFramePr>
        <p:xfrm>
          <a:off x="1116000" y="1989000"/>
          <a:ext cx="7777080" cy="4813560"/>
        </p:xfrm>
        <a:graphic>
          <a:graphicData uri="http://schemas.openxmlformats.org/drawingml/2006/table">
            <a:tbl>
              <a:tblPr/>
              <a:tblGrid>
                <a:gridCol w="2581200"/>
                <a:gridCol w="3111480"/>
                <a:gridCol w="20844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القرارات غيرالمبرمجة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القرارات المبرمجة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عنصر المقارنة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800" spc="-1" strike="noStrike">
                          <a:solidFill>
                            <a:srgbClr val="ffffff"/>
                          </a:solidFill>
                          <a:latin typeface="Tahoma"/>
                          <a:cs typeface="Simplified Arabic"/>
                        </a:rPr>
                        <a:t>غير واضحة بشكل دقي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Simplified Arabic"/>
                        </a:rPr>
                        <a:t> واضحة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Simplified Arabic"/>
                        </a:rPr>
                        <a:t> طبيعة المهمة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Simplified Arabic"/>
                        </a:rPr>
                        <a:t> قليلة الى حد كبي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Simplified Arabic"/>
                        </a:rPr>
                        <a:t> متوفرة إلى حد كبي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Simplified Arabic"/>
                        </a:rPr>
                        <a:t> المعلومات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Simplified Arabic"/>
                        </a:rPr>
                        <a:t> محدودة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Simplified Arabic"/>
                        </a:rPr>
                        <a:t> متعددة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Simplified Arabic"/>
                        </a:rPr>
                        <a:t> عدد البدائل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800" spc="-1" strike="noStrike">
                          <a:solidFill>
                            <a:srgbClr val="ffffff"/>
                          </a:solidFill>
                          <a:latin typeface="Tahoma"/>
                          <a:cs typeface="Simplified Arabic"/>
                        </a:rPr>
                        <a:t>الإدارة العليا في الغالب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800" spc="-1" strike="noStrike">
                          <a:solidFill>
                            <a:srgbClr val="ffffff"/>
                          </a:solidFill>
                          <a:latin typeface="Tahoma"/>
                          <a:cs typeface="Simplified Arabic"/>
                        </a:rPr>
                        <a:t>الإدارة الإشرافية و الوسطى في الغالب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800" spc="-1" strike="noStrike">
                          <a:solidFill>
                            <a:srgbClr val="ffffff"/>
                          </a:solidFill>
                          <a:latin typeface="Tahoma"/>
                          <a:cs typeface="Simplified Arabic"/>
                        </a:rPr>
                        <a:t>المستوى الإداري   لمتخذي القرار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Simplified Arabic"/>
                        </a:rPr>
                        <a:t> كبيرة جدا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Simplified Arabic"/>
                        </a:rPr>
                        <a:t> محدودة جدا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  <a:ea typeface="Simplified Arabic"/>
                        </a:rPr>
                        <a:t> درجة المخاطرة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" dur="2000"/>
                                        <p:tgtEl>
                                          <p:spTgt spid="1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ffffcc"/>
                </a:solidFill>
                <a:latin typeface="Tahoma"/>
              </a:rPr>
              <a:t>خطوات اتخاذ القرارات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6" name=""/>
          <p:cNvSpPr/>
          <p:nvPr/>
        </p:nvSpPr>
        <p:spPr>
          <a:xfrm>
            <a:off x="6424560" y="2071800"/>
            <a:ext cx="2622600" cy="865080"/>
          </a:xfrm>
          <a:prstGeom prst="roundRect">
            <a:avLst>
              <a:gd name="adj" fmla="val 16667"/>
            </a:avLst>
          </a:prstGeom>
          <a:solidFill>
            <a:srgbClr val="ff3300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تحديد المشكل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5622840" y="2976480"/>
            <a:ext cx="2478240" cy="865440"/>
          </a:xfrm>
          <a:prstGeom prst="roundRect">
            <a:avLst>
              <a:gd name="adj" fmla="val 16667"/>
            </a:avLst>
          </a:prstGeom>
          <a:solidFill>
            <a:srgbClr val="808000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جمع المعلومات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>
            <a:off x="4284720" y="3879720"/>
            <a:ext cx="2663640" cy="865440"/>
          </a:xfrm>
          <a:prstGeom prst="roundRect">
            <a:avLst>
              <a:gd name="adj" fmla="val 16667"/>
            </a:avLst>
          </a:prstGeom>
          <a:solidFill>
            <a:srgbClr val="339966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طرح البدائ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>
            <a:off x="2895480" y="4797360"/>
            <a:ext cx="2684520" cy="865080"/>
          </a:xfrm>
          <a:prstGeom prst="roundRect">
            <a:avLst>
              <a:gd name="adj" fmla="val 16667"/>
            </a:avLst>
          </a:prstGeom>
          <a:solidFill>
            <a:srgbClr val="993366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تنفيذ الح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>
            <a:off x="1441440" y="5703840"/>
            <a:ext cx="2843280" cy="86508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Arial"/>
                <a:cs typeface="PT Bold Heading"/>
              </a:rPr>
              <a:t>متابعة تنفيذ الح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cc"/>
                </a:solidFill>
                <a:latin typeface="Tahoma"/>
              </a:rPr>
              <a:t>الحاسب الآلي واتخاذ القرارات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755280" y="1981080"/>
            <a:ext cx="807732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Simplified Arabic"/>
              </a:rPr>
              <a:t>نظام مساندة القرار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Simplified Arabic"/>
              </a:rPr>
              <a:t>نظام مساندة القرار الجماعي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Simplified Arabic"/>
              </a:rPr>
              <a:t>نظام الخبرة.   (الذكاء الاصطناعي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Simplified Arabic"/>
              </a:rPr>
              <a:t>نظام مساند المدير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24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ffffff"/>
                </a:solidFill>
                <a:latin typeface="Times New Roman"/>
                <a:cs typeface="Motken noqta"/>
              </a:rPr>
              <a:t>التنظيم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 rtl="1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ganiza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0" y="404640"/>
            <a:ext cx="4140360" cy="1152720"/>
          </a:xfrm>
          <a:prstGeom prst="flowChartDelay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>
            <a:off x="216000" y="692280"/>
            <a:ext cx="27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cc3300"/>
                </a:solidFill>
                <a:latin typeface="Tahoma"/>
                <a:cs typeface="كبير 6"/>
              </a:rPr>
              <a:t>الفصل الراب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feec94"/>
                </a:solidFill>
                <a:latin typeface="Times New Roman"/>
                <a:cs typeface="Simplified Arabic"/>
              </a:rPr>
              <a:t>المحتويات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مفهوم التنظي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أنواع التنظي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مبادئ التنظيم الإداري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لهياكل والخرائط التنظيمي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لدليل التنظيمي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eec94"/>
                </a:solidFill>
                <a:latin typeface="Times New Roman"/>
              </a:rPr>
              <a:t>مفهوم التنظيم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1066680" y="2349000"/>
            <a:ext cx="760896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just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00"/>
                </a:solidFill>
                <a:latin typeface="Times New Roman"/>
                <a:ea typeface="Hesham Kashkool"/>
              </a:rPr>
              <a:t>” توزيع المسئوليات و التنسيق بين كافة العاملين بشكل يضمن تحقيق أقصى درجة ممكنة من الكفاية في تحقيق الأهداف المحددة“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 algn="just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 algn="just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00"/>
                </a:solidFill>
                <a:latin typeface="Times New Roman"/>
                <a:ea typeface="Hesham Kashkoo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 algn="just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00"/>
                </a:solidFill>
                <a:latin typeface="Times New Roman"/>
                <a:ea typeface="Hesham Kashkool"/>
              </a:rPr>
              <a:t>” وضع نظام للعلاقات الإدارية وتحديد الوظائف وتكوين الوحدات الإدارية“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feec94"/>
                </a:solidFill>
                <a:latin typeface="Times New Roman"/>
              </a:rPr>
              <a:t>أنواع التنظيم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1066320" y="2349000"/>
            <a:ext cx="75438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r" rtl="1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cc3300"/>
                </a:solidFill>
                <a:latin typeface="Times New Roman"/>
                <a:cs typeface="Simplified Arabic"/>
              </a:rPr>
              <a:t>التنظيم الرسمي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 algn="just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hi-IN" sz="32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وهو البناء الرسمي الذي يحدد العلاقات و المستويات الإدارية للأعمال التي يقوم بها الأفراد و توزيع المسؤوليات و الواجبات 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 algn="just" rtl="1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cc3300"/>
                </a:solidFill>
                <a:latin typeface="Times New Roman"/>
                <a:cs typeface="Simplified Arabic"/>
              </a:rPr>
              <a:t>التنظيم غير الرسمي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 algn="just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وهو مجموعة من العلاقات التي تنشأ و تستمر بين العاملين بسبب وجودهم في مكان واحد للعمل واشتراكهم في أهداف ومشكلات متشابهة 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11869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eec94"/>
                </a:solidFill>
                <a:latin typeface="Times New Roman"/>
              </a:rPr>
              <a:t>الفرق بين التنظيم الرسمي وغير الرسمي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253" name=""/>
          <p:cNvGraphicFramePr/>
          <p:nvPr/>
        </p:nvGraphicFramePr>
        <p:xfrm>
          <a:off x="1066680" y="1992240"/>
          <a:ext cx="7753320" cy="4532400"/>
        </p:xfrm>
        <a:graphic>
          <a:graphicData uri="http://schemas.openxmlformats.org/drawingml/2006/table">
            <a:tbl>
              <a:tblPr/>
              <a:tblGrid>
                <a:gridCol w="3908520"/>
                <a:gridCol w="3844800"/>
              </a:tblGrid>
              <a:tr h="626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800" spc="-1" strike="noStrike">
                          <a:solidFill>
                            <a:srgbClr val="ffffcc"/>
                          </a:solidFill>
                          <a:latin typeface="Times New Roman"/>
                          <a:cs typeface="Hesham Kashkool"/>
                        </a:rPr>
                        <a:t>التنظيم غير الرسمي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33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800" spc="-1" strike="noStrike">
                          <a:solidFill>
                            <a:srgbClr val="ffffcc"/>
                          </a:solidFill>
                          <a:latin typeface="Times New Roman"/>
                          <a:cs typeface="Hesham Kashkool"/>
                        </a:rPr>
                        <a:t>التنظيم الرسمي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3300">
                        <a:alpha val="50000"/>
                      </a:srgbClr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Times New Roman"/>
                          <a:cs typeface="Simplified Arabic"/>
                        </a:rPr>
                        <a:t>ينتج من تجمع الأفراد داخل المنظم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Times New Roman"/>
                          <a:cs typeface="Simplified Arabic"/>
                        </a:rPr>
                        <a:t>ينتج من الأهداف و المهام الرسمي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>
                        <a:alpha val="50000"/>
                      </a:srgbClr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Times New Roman"/>
                          <a:cs typeface="Simplified Arabic"/>
                        </a:rPr>
                        <a:t>أهداف التنظيم غير الرسمي هي اشباع حاجة كل فرد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Times New Roman"/>
                          <a:cs typeface="Simplified Arabic"/>
                        </a:rPr>
                        <a:t>أهداف التنظيم الرسمي تحقيق الاهداف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>
                        <a:alpha val="50000"/>
                      </a:srgbClr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Times New Roman"/>
                          <a:cs typeface="Simplified Arabic"/>
                        </a:rPr>
                        <a:t>أهدف الفرد إشباع حاجاته المادية و المعنوي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Times New Roman"/>
                          <a:cs typeface="Simplified Arabic"/>
                        </a:rPr>
                        <a:t>أهدف الفرد هي تأدية الوظيف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>
                        <a:alpha val="50000"/>
                      </a:srgbClr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Times New Roman"/>
                          <a:cs typeface="Simplified Arabic"/>
                        </a:rPr>
                        <a:t>علاقات الفرد هي علاقات اجتماعية و ارتباطات شخصي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Times New Roman"/>
                          <a:cs typeface="Simplified Arabic"/>
                        </a:rPr>
                        <a:t>علاقات الفرد هي العلاقات الإدارية الرسمية للوظيف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3300">
                        <a:alpha val="50000"/>
                      </a:srgbClr>
                    </a:solidFill>
                  </a:tcPr>
                </a:tc>
              </a:tr>
              <a:tr h="1062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Times New Roman"/>
                          <a:cs typeface="Simplified Arabic"/>
                        </a:rPr>
                        <a:t>الاتصالات تتم من خلال التأثيرات و النفو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9933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 rtl="1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ffffff"/>
                          </a:solidFill>
                          <a:latin typeface="Times New Roman"/>
                          <a:cs typeface="Simplified Arabic"/>
                        </a:rPr>
                        <a:t>الاتصالات تتم وفقاً للتسلسل الهرمي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9933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e5e5ff"/>
                </a:solidFill>
                <a:latin typeface="Garamond"/>
              </a:rPr>
              <a:t>مفهوم الإدارة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457200" y="2004480"/>
            <a:ext cx="8229600" cy="293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”وظيفة تنفيذ الأعمال عن طريق الآخرين باستخدام التخطيط والتنظيم والتوجيه والرقابة وذلك من أجل تحقيق أهداف المنظمة بكفاية وفاعلية مع مراعاة المؤثرات الداخلية والخارجية على بيئة العمل“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eec94"/>
                </a:solidFill>
                <a:latin typeface="Times New Roman"/>
              </a:rPr>
              <a:t>مبادئ التنظيم الإداري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1066680" y="1989000"/>
            <a:ext cx="75376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r" rtl="1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cccc00"/>
                </a:solidFill>
                <a:latin typeface="Times New Roman"/>
                <a:cs typeface="Simplified Arabic"/>
              </a:rPr>
              <a:t>مبدأ الهدف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r" rtl="1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cccc00"/>
                </a:solidFill>
                <a:latin typeface="Times New Roman"/>
                <a:cs typeface="Simplified Arabic"/>
              </a:rPr>
              <a:t>مبدأ الوظيفة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r" rtl="1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cccc00"/>
                </a:solidFill>
                <a:latin typeface="Times New Roman"/>
                <a:cs typeface="Simplified Arabic"/>
              </a:rPr>
              <a:t>مبدأ التخصص و تقسيم العمل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r" rtl="1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cccc00"/>
                </a:solidFill>
                <a:latin typeface="Times New Roman"/>
                <a:cs typeface="Simplified Arabic"/>
              </a:rPr>
              <a:t>مبدأ وحدة القيادة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r" rtl="1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cccc00"/>
                </a:solidFill>
                <a:latin typeface="Times New Roman"/>
                <a:cs typeface="Simplified Arabic"/>
              </a:rPr>
              <a:t>مبدأ نطاق الإشراف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r" rtl="1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cccc00"/>
                </a:solidFill>
                <a:latin typeface="Times New Roman"/>
                <a:cs typeface="Simplified Arabic"/>
              </a:rPr>
              <a:t>مبدأ تكافؤ المسئولية و السلطة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r" rtl="1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cccc00"/>
                </a:solidFill>
                <a:latin typeface="Times New Roman"/>
                <a:cs typeface="Simplified Arabic"/>
              </a:rPr>
              <a:t>مبدأ المركزية و اللامركزية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r" rtl="1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cccc00"/>
                </a:solidFill>
                <a:latin typeface="Times New Roman"/>
                <a:cs typeface="Simplified Arabic"/>
              </a:rPr>
              <a:t>مبدأ التفويض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r" rtl="1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cccc00"/>
                </a:solidFill>
                <a:latin typeface="Times New Roman"/>
                <a:cs typeface="Simplified Arabic"/>
              </a:rPr>
              <a:t>مبدأ التنسيق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r" rtl="1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cccc00"/>
                </a:solidFill>
                <a:latin typeface="Times New Roman"/>
                <a:cs typeface="Simplified Arabic"/>
              </a:rPr>
              <a:t>مبدأ التوازن و المرونة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eec94"/>
                </a:solidFill>
                <a:latin typeface="Times New Roman"/>
              </a:rPr>
              <a:t>الهياكل التنظيمية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1066680" y="2060280"/>
            <a:ext cx="7537680" cy="45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r" rtl="1">
              <a:lnSpc>
                <a:spcPct val="8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cccc00"/>
                </a:solidFill>
                <a:latin typeface="Times New Roman"/>
                <a:cs typeface="Simplified Arabic"/>
              </a:rPr>
              <a:t>البناء التنظيمي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 algn="just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 </a:t>
            </a:r>
            <a:r>
              <a:rPr b="1" lang="hi-IN" sz="32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وهو النموذج الذي يعكس طبيعة التعامل و التنسيق المصمم من قبل الإدارة و ذلك من أجل الربط بين مهام الأفراد و الجماعات في المنظمة بما يعمل على تحقيق أهداف المنظمة 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 algn="just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 algn="just" rtl="1">
              <a:lnSpc>
                <a:spcPct val="8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cccc00"/>
                </a:solidFill>
                <a:latin typeface="Times New Roman"/>
                <a:cs typeface="Simplified Arabic"/>
              </a:rPr>
              <a:t>الخارطة التنظيمية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 algn="just" rtl="1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 algn="just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وهي رسم بياني أو تخطيطي يصور لنا الخطوط العريضة للهيكل التنظيمي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eec94"/>
                </a:solidFill>
                <a:latin typeface="Times New Roman"/>
                <a:cs typeface="Simplified Arabic"/>
              </a:rPr>
              <a:t>طرق وخطوات تصميم الهيكل التنظيمي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1042920" y="2349000"/>
            <a:ext cx="7561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طريقة تحليل الهد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طريقة تجميع الأنشطة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cccc00"/>
                </a:solidFill>
                <a:latin typeface="Times New Roman"/>
              </a:rPr>
              <a:t>أ - التنظيم على أساس الوظيفة 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cccc00"/>
                </a:solidFill>
                <a:latin typeface="Times New Roman"/>
              </a:rPr>
              <a:t>ب - التنظيم على أساس نوع المنتج 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cccc00"/>
                </a:solidFill>
                <a:latin typeface="Times New Roman"/>
              </a:rPr>
              <a:t>ج - التنظيم على اساس الموقع الجغرافي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cccc00"/>
                </a:solidFill>
                <a:latin typeface="Times New Roman"/>
              </a:rPr>
              <a:t>د – التنظيم على أساس نوع المستفيد (العملاء) 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cccc00"/>
                </a:solidFill>
                <a:latin typeface="Times New Roman"/>
              </a:rPr>
              <a:t>هـ -التنظيم المختلط 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eec94"/>
                </a:solidFill>
                <a:latin typeface="Times New Roman"/>
              </a:rPr>
              <a:t>فوائد الخرائط التنظيمية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/>
          </p:nvPr>
        </p:nvSpPr>
        <p:spPr>
          <a:xfrm>
            <a:off x="1042920" y="2349000"/>
            <a:ext cx="7561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523800" indent="-523800" algn="r" rtl="1"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imes New Roman"/>
                <a:cs typeface="Al-Hadith1"/>
              </a:rPr>
              <a:t>إعطاء صورة كاملة عن الهيكل التنظيمي للمنظمة 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23800" indent="-523800" algn="r" rtl="1"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imes New Roman"/>
                <a:cs typeface="Al-Hadith1"/>
              </a:rPr>
              <a:t>بيان الكيفية التي يقسم بها العمل بين الأفراد و الوحدات في المنظمة 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23800" indent="-523800" algn="r" rtl="1"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imes New Roman"/>
                <a:cs typeface="Al-Hadith1"/>
              </a:rPr>
              <a:t>توضيح المستويات الإدارية 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23800" indent="-523800" algn="r" rtl="1"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imes New Roman"/>
                <a:cs typeface="Al-Hadith1"/>
              </a:rPr>
              <a:t>إعطاء صورة واضحة لنطاق الإشراف للإدارات و الأقسام 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23800" indent="-523800" algn="r" rtl="1"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imes New Roman"/>
                <a:cs typeface="Al-Hadith1"/>
              </a:rPr>
              <a:t>توضيح خطوط السلطة و المسئولية في المنظمة 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eec94"/>
                </a:solidFill>
                <a:latin typeface="Times New Roman"/>
                <a:cs typeface="Simplified Arabic"/>
              </a:rPr>
              <a:t>أشكال الخرائط التنظيمية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/>
          </p:nvPr>
        </p:nvSpPr>
        <p:spPr>
          <a:xfrm>
            <a:off x="1042920" y="2349000"/>
            <a:ext cx="7561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لخرائط التنظيمية التقليدية ”الرأسية أو العمودية“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لخرائط التنظيمية الأفقي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لخرائط التنظيمية الدائري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eec94"/>
                </a:solidFill>
                <a:latin typeface="Times New Roman"/>
                <a:cs typeface="Simplified Arabic"/>
              </a:rPr>
              <a:t>الخرائط التقليدية (الرأسية )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grpSp>
        <p:nvGrpSpPr>
          <p:cNvPr id="1265" name=""/>
          <p:cNvGrpSpPr/>
          <p:nvPr/>
        </p:nvGrpSpPr>
        <p:grpSpPr>
          <a:xfrm>
            <a:off x="1691280" y="2707920"/>
            <a:ext cx="6263280" cy="1917360"/>
            <a:chOff x="1691280" y="2707920"/>
            <a:chExt cx="6263280" cy="1917360"/>
          </a:xfrm>
        </p:grpSpPr>
        <p:cxnSp>
          <p:nvCxnSpPr>
            <p:cNvPr id="1266" name="_s52229"/>
            <p:cNvCxnSpPr>
              <a:stCxn id="1267" idx="1"/>
              <a:endCxn id="1268" idx="3"/>
            </p:cNvCxnSpPr>
            <p:nvPr/>
          </p:nvCxnSpPr>
          <p:spPr>
            <a:xfrm flipV="1" rot="16200000">
              <a:off x="5931000" y="4061160"/>
              <a:ext cx="397440" cy="7920"/>
            </a:xfrm>
            <a:prstGeom prst="bentConnector3">
              <a:avLst>
                <a:gd name="adj1" fmla="val 28739"/>
              </a:avLst>
            </a:prstGeom>
            <a:ln w="28440">
              <a:solidFill>
                <a:srgbClr val="bb5f03"/>
              </a:solidFill>
              <a:miter/>
            </a:ln>
          </p:spPr>
        </p:cxnSp>
        <p:cxnSp>
          <p:nvCxnSpPr>
            <p:cNvPr id="1269" name="_s52230"/>
            <p:cNvCxnSpPr>
              <a:stCxn id="1270" idx="1"/>
              <a:endCxn id="1268" idx="3"/>
            </p:cNvCxnSpPr>
            <p:nvPr/>
          </p:nvCxnSpPr>
          <p:spPr>
            <a:xfrm flipV="1" rot="16200000">
              <a:off x="6543360" y="3448800"/>
              <a:ext cx="397440" cy="1233000"/>
            </a:xfrm>
            <a:prstGeom prst="bentConnector3">
              <a:avLst>
                <a:gd name="adj1" fmla="val 28739"/>
              </a:avLst>
            </a:prstGeom>
            <a:ln w="28440">
              <a:solidFill>
                <a:srgbClr val="bb5f03"/>
              </a:solidFill>
              <a:miter/>
            </a:ln>
          </p:spPr>
        </p:cxnSp>
        <p:cxnSp>
          <p:nvCxnSpPr>
            <p:cNvPr id="1271" name="_s52231"/>
            <p:cNvCxnSpPr>
              <a:stCxn id="1272" idx="1"/>
              <a:endCxn id="1268" idx="3"/>
            </p:cNvCxnSpPr>
            <p:nvPr/>
          </p:nvCxnSpPr>
          <p:spPr>
            <a:xfrm flipH="1" flipV="1" rot="5400000">
              <a:off x="5318640" y="3456720"/>
              <a:ext cx="397440" cy="1217160"/>
            </a:xfrm>
            <a:prstGeom prst="bentConnector3">
              <a:avLst>
                <a:gd name="adj1" fmla="val 28739"/>
              </a:avLst>
            </a:prstGeom>
            <a:ln w="28440">
              <a:solidFill>
                <a:srgbClr val="bb5f03"/>
              </a:solidFill>
              <a:miter/>
            </a:ln>
          </p:spPr>
        </p:cxnSp>
        <p:cxnSp>
          <p:nvCxnSpPr>
            <p:cNvPr id="1273" name="_s52232"/>
            <p:cNvCxnSpPr>
              <a:stCxn id="1274" idx="0"/>
              <a:endCxn id="1275" idx="3"/>
            </p:cNvCxnSpPr>
            <p:nvPr/>
          </p:nvCxnSpPr>
          <p:spPr>
            <a:xfrm flipV="1" rot="16200000">
              <a:off x="3131640" y="3696480"/>
              <a:ext cx="353880" cy="693720"/>
            </a:xfrm>
            <a:prstGeom prst="bentConnector3">
              <a:avLst>
                <a:gd name="adj1" fmla="val 19246"/>
              </a:avLst>
            </a:prstGeom>
            <a:ln w="28440">
              <a:solidFill>
                <a:srgbClr val="bb5f03"/>
              </a:solidFill>
              <a:miter/>
            </a:ln>
          </p:spPr>
        </p:cxnSp>
        <p:cxnSp>
          <p:nvCxnSpPr>
            <p:cNvPr id="1276" name="_s52233"/>
            <p:cNvCxnSpPr>
              <a:stCxn id="1277" idx="1"/>
              <a:endCxn id="1275" idx="3"/>
            </p:cNvCxnSpPr>
            <p:nvPr/>
          </p:nvCxnSpPr>
          <p:spPr>
            <a:xfrm flipH="1" flipV="1" rot="5400000">
              <a:off x="2404080" y="3705840"/>
              <a:ext cx="397440" cy="719280"/>
            </a:xfrm>
            <a:prstGeom prst="bentConnector3">
              <a:avLst>
                <a:gd name="adj1" fmla="val 28739"/>
              </a:avLst>
            </a:prstGeom>
            <a:ln w="28440">
              <a:solidFill>
                <a:srgbClr val="bb5f03"/>
              </a:solidFill>
              <a:miter/>
            </a:ln>
          </p:spPr>
        </p:cxnSp>
        <p:cxnSp>
          <p:nvCxnSpPr>
            <p:cNvPr id="1278" name="_s52234"/>
            <p:cNvCxnSpPr>
              <a:stCxn id="1268" idx="0"/>
              <a:endCxn id="1279" idx="3"/>
            </p:cNvCxnSpPr>
            <p:nvPr/>
          </p:nvCxnSpPr>
          <p:spPr>
            <a:xfrm flipV="1" rot="16200000">
              <a:off x="5328360" y="2621520"/>
              <a:ext cx="349200" cy="1331280"/>
            </a:xfrm>
            <a:prstGeom prst="bentConnector3">
              <a:avLst>
                <a:gd name="adj1" fmla="val 32714"/>
              </a:avLst>
            </a:prstGeom>
            <a:ln w="28440">
              <a:solidFill>
                <a:srgbClr val="bb5f03"/>
              </a:solidFill>
              <a:miter/>
            </a:ln>
          </p:spPr>
        </p:cxnSp>
        <p:cxnSp>
          <p:nvCxnSpPr>
            <p:cNvPr id="1280" name="_s52235"/>
            <p:cNvCxnSpPr>
              <a:stCxn id="1275" idx="0"/>
              <a:endCxn id="1279" idx="3"/>
            </p:cNvCxnSpPr>
            <p:nvPr/>
          </p:nvCxnSpPr>
          <p:spPr>
            <a:xfrm flipH="1" flipV="1" rot="5400000">
              <a:off x="3746880" y="2371320"/>
              <a:ext cx="349200" cy="1832040"/>
            </a:xfrm>
            <a:prstGeom prst="bentConnector3">
              <a:avLst>
                <a:gd name="adj1" fmla="val 32714"/>
              </a:avLst>
            </a:prstGeom>
            <a:ln w="28440">
              <a:solidFill>
                <a:srgbClr val="bb5f03"/>
              </a:solidFill>
              <a:miter/>
            </a:ln>
          </p:spPr>
        </p:cxnSp>
        <p:sp>
          <p:nvSpPr>
            <p:cNvPr id="1279" name="_s52236"/>
            <p:cNvSpPr/>
            <p:nvPr/>
          </p:nvSpPr>
          <p:spPr>
            <a:xfrm>
              <a:off x="4282560" y="2707920"/>
              <a:ext cx="1151280" cy="4050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ff9900">
                    <a:alpha val="40000"/>
                  </a:srgbClr>
                </a:gs>
                <a:gs pos="100000">
                  <a:srgbClr val="993300"/>
                </a:gs>
              </a:gsLst>
              <a:lin ang="5400000"/>
            </a:gra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000" rIns="63000" tIns="31680" bIns="3168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000" spc="-1" strike="noStrike">
                  <a:solidFill>
                    <a:srgbClr val="ffffff"/>
                  </a:solidFill>
                  <a:latin typeface="Arial"/>
                </a:rPr>
                <a:t>مدير عام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5" name="_s52237"/>
            <p:cNvSpPr/>
            <p:nvPr/>
          </p:nvSpPr>
          <p:spPr>
            <a:xfrm>
              <a:off x="2409840" y="3461760"/>
              <a:ext cx="1149840" cy="4050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b76a03">
                    <a:alpha val="40000"/>
                  </a:srgbClr>
                </a:gs>
                <a:gs pos="100000">
                  <a:srgbClr val="993300"/>
                </a:gs>
              </a:gsLst>
              <a:lin ang="5400000"/>
            </a:gradFill>
            <a:ln w="9360">
              <a:solidFill>
                <a:srgbClr val="b76a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000" rIns="63000" tIns="31680" bIns="3168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000" spc="-1" strike="noStrike">
                  <a:solidFill>
                    <a:srgbClr val="ffffff"/>
                  </a:solidFill>
                  <a:latin typeface="Arial"/>
                </a:rPr>
                <a:t>مساعد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8" name="_s52238"/>
            <p:cNvSpPr/>
            <p:nvPr/>
          </p:nvSpPr>
          <p:spPr>
            <a:xfrm>
              <a:off x="5572080" y="3461760"/>
              <a:ext cx="1149840" cy="4050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b76a03">
                    <a:alpha val="40000"/>
                  </a:srgbClr>
                </a:gs>
                <a:gs pos="100000">
                  <a:srgbClr val="993300"/>
                </a:gs>
              </a:gsLst>
              <a:lin ang="5400000"/>
            </a:gradFill>
            <a:ln w="9360">
              <a:solidFill>
                <a:srgbClr val="b76a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000" rIns="63000" tIns="31680" bIns="3168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000" spc="-1" strike="noStrike">
                  <a:solidFill>
                    <a:srgbClr val="ffffff"/>
                  </a:solidFill>
                  <a:latin typeface="Arial"/>
                </a:rPr>
                <a:t>مساعد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7" name="_s52239"/>
            <p:cNvSpPr/>
            <p:nvPr/>
          </p:nvSpPr>
          <p:spPr>
            <a:xfrm>
              <a:off x="1691280" y="4220280"/>
              <a:ext cx="1148400" cy="4050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cccc00">
                    <a:alpha val="40000"/>
                  </a:srgbClr>
                </a:gs>
                <a:gs pos="100000">
                  <a:srgbClr val="993300"/>
                </a:gs>
              </a:gsLst>
              <a:lin ang="5400000"/>
            </a:gradFill>
            <a:ln w="936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000" rIns="63000" tIns="31680" bIns="3168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000" spc="-1" strike="noStrike">
                  <a:solidFill>
                    <a:srgbClr val="ffffff"/>
                  </a:solidFill>
                  <a:latin typeface="Arial"/>
                </a:rPr>
                <a:t>مدير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4" name="_s52240"/>
            <p:cNvSpPr/>
            <p:nvPr/>
          </p:nvSpPr>
          <p:spPr>
            <a:xfrm>
              <a:off x="3059640" y="4220280"/>
              <a:ext cx="1148400" cy="4050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cccc00">
                    <a:alpha val="40000"/>
                  </a:srgbClr>
                </a:gs>
                <a:gs pos="100000">
                  <a:srgbClr val="993300"/>
                </a:gs>
              </a:gsLst>
              <a:lin ang="5400000"/>
            </a:gradFill>
            <a:ln w="936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000" rIns="63000" tIns="31680" bIns="3168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000" spc="-1" strike="noStrike">
                  <a:solidFill>
                    <a:srgbClr val="ffffff"/>
                  </a:solidFill>
                  <a:latin typeface="Arial"/>
                </a:rPr>
                <a:t>مدير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2" name="_s52241"/>
            <p:cNvSpPr/>
            <p:nvPr/>
          </p:nvSpPr>
          <p:spPr>
            <a:xfrm>
              <a:off x="4356000" y="4220280"/>
              <a:ext cx="1150920" cy="4050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cccc00">
                    <a:alpha val="40000"/>
                  </a:srgbClr>
                </a:gs>
                <a:gs pos="100000">
                  <a:srgbClr val="993300"/>
                </a:gs>
              </a:gsLst>
              <a:lin ang="5400000"/>
            </a:gradFill>
            <a:ln w="936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000" rIns="63000" tIns="31680" bIns="3168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000" spc="-1" strike="noStrike">
                  <a:solidFill>
                    <a:srgbClr val="ffffff"/>
                  </a:solidFill>
                  <a:latin typeface="Arial"/>
                </a:rPr>
                <a:t>مدير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0" name="_s52242"/>
            <p:cNvSpPr/>
            <p:nvPr/>
          </p:nvSpPr>
          <p:spPr>
            <a:xfrm>
              <a:off x="6803280" y="4220280"/>
              <a:ext cx="1151280" cy="4050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cccc00">
                    <a:alpha val="40000"/>
                  </a:srgbClr>
                </a:gs>
                <a:gs pos="100000">
                  <a:srgbClr val="993300"/>
                </a:gs>
              </a:gsLst>
              <a:lin ang="5400000"/>
            </a:gradFill>
            <a:ln w="936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000" rIns="63000" tIns="31680" bIns="3168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000" spc="-1" strike="noStrike">
                  <a:solidFill>
                    <a:srgbClr val="ffffff"/>
                  </a:solidFill>
                  <a:latin typeface="Arial"/>
                </a:rPr>
                <a:t>مدير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7" name="_s52243"/>
            <p:cNvSpPr/>
            <p:nvPr/>
          </p:nvSpPr>
          <p:spPr>
            <a:xfrm>
              <a:off x="5580360" y="4220280"/>
              <a:ext cx="1149840" cy="405000"/>
            </a:xfrm>
            <a:prstGeom prst="cube">
              <a:avLst>
                <a:gd name="adj" fmla="val 10763"/>
              </a:avLst>
            </a:prstGeom>
            <a:gradFill rotWithShape="0">
              <a:gsLst>
                <a:gs pos="0">
                  <a:srgbClr val="cccc00">
                    <a:alpha val="40000"/>
                  </a:srgbClr>
                </a:gs>
                <a:gs pos="100000">
                  <a:srgbClr val="993300"/>
                </a:gs>
              </a:gsLst>
              <a:lin ang="5400000"/>
            </a:gradFill>
            <a:ln w="936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36360" bIns="3636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000" spc="-1" strike="noStrike">
                  <a:solidFill>
                    <a:srgbClr val="ffffff"/>
                  </a:solidFill>
                  <a:latin typeface="Arial"/>
                </a:rPr>
                <a:t>مدير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لخرائط الأفقية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grpSp>
        <p:nvGrpSpPr>
          <p:cNvPr id="1282" name=""/>
          <p:cNvGrpSpPr/>
          <p:nvPr/>
        </p:nvGrpSpPr>
        <p:grpSpPr>
          <a:xfrm>
            <a:off x="2208240" y="2781000"/>
            <a:ext cx="5797080" cy="3068640"/>
            <a:chOff x="2208240" y="2781000"/>
            <a:chExt cx="5797080" cy="3068640"/>
          </a:xfrm>
        </p:grpSpPr>
        <p:cxnSp>
          <p:nvCxnSpPr>
            <p:cNvPr id="1283" name="_s53253"/>
            <p:cNvCxnSpPr>
              <a:stCxn id="1284" idx="3"/>
              <a:endCxn id="1285" idx="1"/>
            </p:cNvCxnSpPr>
            <p:nvPr/>
          </p:nvCxnSpPr>
          <p:spPr>
            <a:xfrm flipV="1">
              <a:off x="3470400" y="3703320"/>
              <a:ext cx="1547280" cy="647640"/>
            </a:xfrm>
            <a:prstGeom prst="bentConnector3">
              <a:avLst>
                <a:gd name="adj1" fmla="val 7377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1286" name="_s53254"/>
            <p:cNvCxnSpPr>
              <a:stCxn id="1287" idx="3"/>
              <a:endCxn id="1285" idx="1"/>
            </p:cNvCxnSpPr>
            <p:nvPr/>
          </p:nvCxnSpPr>
          <p:spPr>
            <a:xfrm>
              <a:off x="3470400" y="2984400"/>
              <a:ext cx="1547280" cy="719640"/>
            </a:xfrm>
            <a:prstGeom prst="bentConnector3">
              <a:avLst>
                <a:gd name="adj1" fmla="val 7377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1288" name="_s53255"/>
            <p:cNvCxnSpPr>
              <a:stCxn id="1289" idx="3"/>
              <a:endCxn id="1285" idx="1"/>
            </p:cNvCxnSpPr>
            <p:nvPr/>
          </p:nvCxnSpPr>
          <p:spPr>
            <a:xfrm>
              <a:off x="3470400" y="3703680"/>
              <a:ext cx="1547280" cy="180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1290" name="_s53256"/>
            <p:cNvCxnSpPr>
              <a:stCxn id="1291" idx="3"/>
              <a:endCxn id="1292" idx="1"/>
            </p:cNvCxnSpPr>
            <p:nvPr/>
          </p:nvCxnSpPr>
          <p:spPr>
            <a:xfrm flipV="1">
              <a:off x="3470400" y="5216400"/>
              <a:ext cx="1547280" cy="432720"/>
            </a:xfrm>
            <a:prstGeom prst="bentConnector3">
              <a:avLst>
                <a:gd name="adj1" fmla="val 7377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1293" name="_s53257"/>
            <p:cNvCxnSpPr>
              <a:stCxn id="1294" idx="3"/>
              <a:endCxn id="1292" idx="1"/>
            </p:cNvCxnSpPr>
            <p:nvPr/>
          </p:nvCxnSpPr>
          <p:spPr>
            <a:xfrm>
              <a:off x="3470400" y="4926960"/>
              <a:ext cx="1547280" cy="290160"/>
            </a:xfrm>
            <a:prstGeom prst="bentConnector3">
              <a:avLst>
                <a:gd name="adj1" fmla="val 7377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1295" name="_s53258"/>
            <p:cNvCxnSpPr>
              <a:stCxn id="1285" idx="3"/>
              <a:endCxn id="1296" idx="1"/>
            </p:cNvCxnSpPr>
            <p:nvPr/>
          </p:nvCxnSpPr>
          <p:spPr>
            <a:xfrm>
              <a:off x="6278760" y="3703680"/>
              <a:ext cx="464760" cy="430920"/>
            </a:xfrm>
            <a:prstGeom prst="bentConnector3">
              <a:avLst>
                <a:gd name="adj1" fmla="val 24573"/>
              </a:avLst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1297" name="_s53259"/>
            <p:cNvCxnSpPr>
              <a:stCxn id="1292" idx="3"/>
              <a:endCxn id="1296" idx="1"/>
            </p:cNvCxnSpPr>
            <p:nvPr/>
          </p:nvCxnSpPr>
          <p:spPr>
            <a:xfrm flipV="1">
              <a:off x="6278760" y="4133880"/>
              <a:ext cx="464760" cy="1082520"/>
            </a:xfrm>
            <a:prstGeom prst="bentConnector3">
              <a:avLst>
                <a:gd name="adj1" fmla="val 24573"/>
              </a:avLst>
            </a:prstGeom>
            <a:ln w="28440">
              <a:solidFill>
                <a:srgbClr val="540000"/>
              </a:solidFill>
              <a:miter/>
            </a:ln>
          </p:spPr>
        </p:cxnSp>
        <p:sp>
          <p:nvSpPr>
            <p:cNvPr id="1296" name="_s53260"/>
            <p:cNvSpPr/>
            <p:nvPr/>
          </p:nvSpPr>
          <p:spPr>
            <a:xfrm>
              <a:off x="6743520" y="3931920"/>
              <a:ext cx="1261800" cy="405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9f67f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480" rIns="69480" tIns="34560" bIns="3456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cc3300"/>
                  </a:solidFill>
                  <a:latin typeface="Arial"/>
                </a:rPr>
                <a:t>مدير عام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2" name="_s53261"/>
            <p:cNvSpPr/>
            <p:nvPr/>
          </p:nvSpPr>
          <p:spPr>
            <a:xfrm>
              <a:off x="5016960" y="5012640"/>
              <a:ext cx="1261800" cy="405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480" rIns="69480" tIns="34560" bIns="3456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ffffff"/>
                  </a:solidFill>
                  <a:latin typeface="Arial"/>
                </a:rPr>
                <a:t>مساعد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5" name="_s53262"/>
            <p:cNvSpPr/>
            <p:nvPr/>
          </p:nvSpPr>
          <p:spPr>
            <a:xfrm>
              <a:off x="5016960" y="3499920"/>
              <a:ext cx="1261800" cy="405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480" rIns="69480" tIns="34560" bIns="3456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ffffff"/>
                  </a:solidFill>
                  <a:latin typeface="Arial"/>
                </a:rPr>
                <a:t>مساعد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4" name="_s53263"/>
            <p:cNvSpPr/>
            <p:nvPr/>
          </p:nvSpPr>
          <p:spPr>
            <a:xfrm>
              <a:off x="2208240" y="4724280"/>
              <a:ext cx="1261800" cy="405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00"/>
                </a:gs>
                <a:gs pos="100000">
                  <a:srgbClr val="ff9933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480" rIns="69480" tIns="34560" bIns="3456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cc3300"/>
                  </a:solidFill>
                  <a:latin typeface="Arial"/>
                </a:rPr>
                <a:t>مدير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1" name="_s53264"/>
            <p:cNvSpPr/>
            <p:nvPr/>
          </p:nvSpPr>
          <p:spPr>
            <a:xfrm>
              <a:off x="2208240" y="5444640"/>
              <a:ext cx="1261800" cy="405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00"/>
                </a:gs>
                <a:gs pos="100000">
                  <a:srgbClr val="ff9933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480" rIns="69480" tIns="34560" bIns="3456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cc3300"/>
                  </a:solidFill>
                  <a:latin typeface="Arial"/>
                </a:rPr>
                <a:t>مدير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9" name="_s53265"/>
            <p:cNvSpPr/>
            <p:nvPr/>
          </p:nvSpPr>
          <p:spPr>
            <a:xfrm>
              <a:off x="2208240" y="3499920"/>
              <a:ext cx="1261800" cy="406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00"/>
                </a:gs>
                <a:gs pos="100000">
                  <a:srgbClr val="ff9933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480" rIns="69480" tIns="34560" bIns="3456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cc3300"/>
                  </a:solidFill>
                  <a:latin typeface="Arial"/>
                </a:rPr>
                <a:t>مدير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7" name="_s53266"/>
            <p:cNvSpPr/>
            <p:nvPr/>
          </p:nvSpPr>
          <p:spPr>
            <a:xfrm>
              <a:off x="2208240" y="2781000"/>
              <a:ext cx="1261800" cy="406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00"/>
                </a:gs>
                <a:gs pos="100000">
                  <a:srgbClr val="ff9933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9480" rIns="69480" tIns="34560" bIns="3456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cc3300"/>
                  </a:solidFill>
                  <a:latin typeface="Arial"/>
                </a:rPr>
                <a:t>مدير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4" name="_s53267"/>
            <p:cNvSpPr/>
            <p:nvPr/>
          </p:nvSpPr>
          <p:spPr>
            <a:xfrm>
              <a:off x="2208240" y="4148640"/>
              <a:ext cx="1261800" cy="405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00"/>
                </a:gs>
                <a:gs pos="100000">
                  <a:srgbClr val="ff9933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920" rIns="79920" tIns="39960" bIns="3996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cc3300"/>
                  </a:solidFill>
                  <a:latin typeface="Arial"/>
                </a:rPr>
                <a:t>مدير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eec94"/>
                </a:solidFill>
                <a:latin typeface="Times New Roman"/>
                <a:cs typeface="Simplified Arabic"/>
              </a:rPr>
              <a:t>الخرائط الدائرية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grpSp>
        <p:nvGrpSpPr>
          <p:cNvPr id="1299" name=""/>
          <p:cNvGrpSpPr/>
          <p:nvPr/>
        </p:nvGrpSpPr>
        <p:grpSpPr>
          <a:xfrm>
            <a:off x="2287800" y="2469600"/>
            <a:ext cx="4947840" cy="3541320"/>
            <a:chOff x="2287800" y="2469600"/>
            <a:chExt cx="4947840" cy="3541320"/>
          </a:xfrm>
        </p:grpSpPr>
        <p:sp>
          <p:nvSpPr>
            <p:cNvPr id="1300" name=""/>
            <p:cNvSpPr/>
            <p:nvPr/>
          </p:nvSpPr>
          <p:spPr>
            <a:xfrm>
              <a:off x="2288160" y="2469600"/>
              <a:ext cx="4947480" cy="35208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01" name=""/>
            <p:cNvGrpSpPr/>
            <p:nvPr/>
          </p:nvGrpSpPr>
          <p:grpSpPr>
            <a:xfrm>
              <a:off x="2699280" y="2655000"/>
              <a:ext cx="4454640" cy="3355920"/>
              <a:chOff x="2699280" y="2655000"/>
              <a:chExt cx="4454640" cy="3355920"/>
            </a:xfrm>
          </p:grpSpPr>
          <p:sp>
            <p:nvSpPr>
              <p:cNvPr id="1302" name=""/>
              <p:cNvSpPr/>
              <p:nvPr/>
            </p:nvSpPr>
            <p:spPr>
              <a:xfrm>
                <a:off x="2946600" y="3005280"/>
                <a:ext cx="3629160" cy="240372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4730400" y="4809240"/>
                <a:ext cx="1440" cy="12016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4761360" y="2655000"/>
                <a:ext cx="1072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1800" spc="-1" strike="noStrike">
                    <a:solidFill>
                      <a:srgbClr val="ffffff"/>
                    </a:solidFill>
                    <a:latin typeface="Arial"/>
                  </a:rPr>
                  <a:t>مدير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2864520" y="2835000"/>
                <a:ext cx="1072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1800" spc="-1" strike="noStrike">
                    <a:solidFill>
                      <a:srgbClr val="ffffff"/>
                    </a:solidFill>
                    <a:latin typeface="Arial"/>
                  </a:rPr>
                  <a:t>مدير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2699280" y="5066640"/>
                <a:ext cx="1072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1800" spc="-1" strike="noStrike">
                    <a:solidFill>
                      <a:srgbClr val="ffffff"/>
                    </a:solidFill>
                    <a:latin typeface="Arial"/>
                  </a:rPr>
                  <a:t>مدير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5173920" y="5239080"/>
                <a:ext cx="1072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1800" spc="-1" strike="noStrike">
                    <a:solidFill>
                      <a:srgbClr val="ffffff"/>
                    </a:solidFill>
                    <a:latin typeface="Arial"/>
                  </a:rPr>
                  <a:t>مدير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6081120" y="3864960"/>
                <a:ext cx="1072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hi-IN" sz="1800" spc="-1" strike="noStrike">
                    <a:solidFill>
                      <a:srgbClr val="ffffff"/>
                    </a:solidFill>
                    <a:latin typeface="Arial"/>
                  </a:rPr>
                  <a:t>مدير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09" name=""/>
            <p:cNvSpPr/>
            <p:nvPr/>
          </p:nvSpPr>
          <p:spPr>
            <a:xfrm>
              <a:off x="4019040" y="3586680"/>
              <a:ext cx="1401840" cy="12020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ffffff"/>
                  </a:solidFill>
                  <a:latin typeface="Arial"/>
                </a:rPr>
                <a:t>مدير عام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0" name=""/>
            <p:cNvSpPr/>
            <p:nvPr/>
          </p:nvSpPr>
          <p:spPr>
            <a:xfrm flipV="1">
              <a:off x="4679280" y="2469600"/>
              <a:ext cx="0" cy="111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1" name=""/>
            <p:cNvSpPr/>
            <p:nvPr/>
          </p:nvSpPr>
          <p:spPr>
            <a:xfrm flipH="1">
              <a:off x="2287800" y="4188600"/>
              <a:ext cx="658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2" name=""/>
            <p:cNvSpPr/>
            <p:nvPr/>
          </p:nvSpPr>
          <p:spPr>
            <a:xfrm flipV="1">
              <a:off x="6328800" y="3156840"/>
              <a:ext cx="330480" cy="344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6328800" y="4788720"/>
              <a:ext cx="577800" cy="257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4" name=""/>
            <p:cNvSpPr/>
            <p:nvPr/>
          </p:nvSpPr>
          <p:spPr>
            <a:xfrm rot="5400000">
              <a:off x="5344560" y="3799080"/>
              <a:ext cx="859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000" spc="-1" strike="noStrike">
                  <a:solidFill>
                    <a:srgbClr val="ffffff"/>
                  </a:solidFill>
                  <a:latin typeface="Arial"/>
                </a:rPr>
                <a:t>مساعد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5" name=""/>
            <p:cNvSpPr/>
            <p:nvPr/>
          </p:nvSpPr>
          <p:spPr>
            <a:xfrm rot="16200000">
              <a:off x="3238920" y="3791880"/>
              <a:ext cx="8571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000" spc="-1" strike="noStrike">
                  <a:solidFill>
                    <a:srgbClr val="ffffff"/>
                  </a:solidFill>
                  <a:latin typeface="Arial"/>
                </a:rPr>
                <a:t>مساعد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eec94"/>
                </a:solidFill>
                <a:latin typeface="Times New Roman"/>
                <a:cs typeface="Simplified Arabic"/>
              </a:rPr>
              <a:t>الدليل التنظيمي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/>
          </p:nvPr>
        </p:nvSpPr>
        <p:spPr>
          <a:xfrm>
            <a:off x="1258560" y="2349000"/>
            <a:ext cx="75610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  <a:ea typeface="Andalus"/>
              </a:rPr>
              <a:t>      </a:t>
            </a:r>
            <a:r>
              <a:rPr b="1" lang="hi-IN" sz="32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وثيقة تتضمن معلومات تفصيلية تشمل أهدف المنظمة و نشاطاتها و مسميات و أهداف و ارتباطات ومهام الوحدات الإدارية فيها إلى جانب الخرائط التنظيمية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/>
          </p:nvPr>
        </p:nvSpPr>
        <p:spPr>
          <a:xfrm>
            <a:off x="457200" y="2493720"/>
            <a:ext cx="8229600" cy="32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ffffff"/>
                </a:solidFill>
                <a:latin typeface="Verdana"/>
                <a:cs typeface="Motken noqta"/>
              </a:rPr>
              <a:t>التنسيق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 rtl="1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ordinatio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9" name=""/>
          <p:cNvSpPr/>
          <p:nvPr/>
        </p:nvSpPr>
        <p:spPr>
          <a:xfrm>
            <a:off x="0" y="404640"/>
            <a:ext cx="4140360" cy="1152720"/>
          </a:xfrm>
          <a:prstGeom prst="flowChartDelay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0" name=""/>
          <p:cNvSpPr/>
          <p:nvPr/>
        </p:nvSpPr>
        <p:spPr>
          <a:xfrm>
            <a:off x="216000" y="692280"/>
            <a:ext cx="277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cc3300"/>
                </a:solidFill>
                <a:latin typeface="Tahoma"/>
                <a:cs typeface="كبير 6"/>
              </a:rPr>
              <a:t>الفصل الخام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e5e5ff"/>
                </a:solidFill>
                <a:latin typeface="Garamond"/>
              </a:rPr>
              <a:t>أهمية الإدارة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1066320" y="2349000"/>
            <a:ext cx="75438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r" rtl="1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Garamond"/>
                <a:cs typeface="Simplified Arabic"/>
              </a:rPr>
              <a:t>أنها وسيلة المجتمع في تحقيق أهدافه 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 algn="r" rtl="1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Garamond"/>
                <a:cs typeface="Simplified Arabic"/>
              </a:rPr>
              <a:t>وسيلة المجتمع في تحقيق احتياجات الفرد 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 algn="r" rtl="1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Garamond"/>
                <a:cs typeface="Simplified Arabic"/>
              </a:rPr>
              <a:t>ازدياد عدد المنشآت الإدارية وكبر حجمها 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 algn="r" rtl="1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Garamond"/>
                <a:cs typeface="Simplified Arabic"/>
              </a:rPr>
              <a:t>أهمية العامل الإنساني في نجاح المنشآت 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 algn="r" rtl="1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Garamond"/>
                <a:cs typeface="Simplified Arabic"/>
              </a:rPr>
              <a:t>الفصل بين منظمات الأعمال وملاكها 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 algn="r" rtl="1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Garamond"/>
                <a:cs typeface="Simplified Arabic"/>
              </a:rPr>
              <a:t>الندرة المتزايدة في الموارد المادية والبشرية 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 algn="r" rtl="1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Garamond"/>
                <a:cs typeface="Simplified Arabic"/>
              </a:rPr>
              <a:t>الدعوة إلى العولمة 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 algn="r" rtl="1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Garamond"/>
                <a:cs typeface="Simplified Arabic"/>
              </a:rPr>
              <a:t>المنافسة الشديدة في الأسواق العالمية 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 algn="r" rtl="1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Garamond"/>
                <a:cs typeface="Simplified Arabic"/>
              </a:rPr>
              <a:t>رغبة الأفراد في الوصول إلى مراكز اجتماعيه وقيادية متميزة 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c4c3aa"/>
                </a:solidFill>
                <a:latin typeface="Arial"/>
                <a:cs typeface="Simplified Arabic"/>
              </a:rPr>
              <a:t>المحتويات</a:t>
            </a:r>
            <a:endParaRPr b="0" lang="en-US" sz="48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1066320" y="212256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Verdana"/>
                <a:cs typeface="Simplified Arabic"/>
              </a:rPr>
              <a:t>مفهوم التنسي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 rtl="1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Verdana"/>
                <a:cs typeface="Simplified Arabic"/>
              </a:rPr>
              <a:t>شمولية وظيفة التنسي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 rtl="1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Verdana"/>
                <a:cs typeface="Simplified Arabic"/>
              </a:rPr>
              <a:t>عوائق التنسي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 rtl="1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Verdana"/>
                <a:cs typeface="Simplified Arabic"/>
              </a:rPr>
              <a:t>أهم الوسائل المستخدمة في التنسي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 rtl="1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Verdana"/>
                <a:cs typeface="Simplified Arabic"/>
              </a:rPr>
              <a:t>خصائص التنسيق الفعا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c4c3aa"/>
                </a:solidFill>
                <a:latin typeface="Arial"/>
              </a:rPr>
              <a:t>مفهوم التنسيق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/>
          </p:nvPr>
        </p:nvSpPr>
        <p:spPr>
          <a:xfrm>
            <a:off x="457200" y="2004840"/>
            <a:ext cx="8229600" cy="29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Simplified Arabic"/>
              </a:rPr>
              <a:t>”الترتيب المنظم لجهود الجماعة لكي توجه هذه الجهود في التصرف والتنفيذ لتحقيق الهدف المحدد“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9999"/>
                </a:solidFill>
                <a:latin typeface="Arial"/>
                <a:cs typeface="Simplified Arabic"/>
              </a:rPr>
              <a:t>شمولية وظيفة التنسيق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26" name="PlaceHolder 2"/>
          <p:cNvSpPr>
            <a:spLocks noGrp="1"/>
          </p:cNvSpPr>
          <p:nvPr>
            <p:ph/>
          </p:nvPr>
        </p:nvSpPr>
        <p:spPr>
          <a:xfrm>
            <a:off x="1066320" y="2349000"/>
            <a:ext cx="75438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4d4f45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Verdana"/>
                <a:cs typeface="Simplified Arabic"/>
              </a:rPr>
              <a:t>العلاقة بين التخطيط والتنسيق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 rtl="1">
              <a:spcBef>
                <a:spcPts val="799"/>
              </a:spcBef>
              <a:buClr>
                <a:srgbClr val="4d4f45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Verdana"/>
                <a:cs typeface="Simplified Arabic"/>
              </a:rPr>
              <a:t>العلاقة بين التنظيم والتنسيق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 rtl="1">
              <a:spcBef>
                <a:spcPts val="799"/>
              </a:spcBef>
              <a:buClr>
                <a:srgbClr val="4d4f45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Verdana"/>
                <a:cs typeface="Simplified Arabic"/>
              </a:rPr>
              <a:t>العلاقة بين التوجيه والتنسيق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 rtl="1">
              <a:spcBef>
                <a:spcPts val="799"/>
              </a:spcBef>
              <a:buClr>
                <a:srgbClr val="4d4f45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Verdana"/>
                <a:cs typeface="Simplified Arabic"/>
              </a:rPr>
              <a:t>العلاقة بين الرقابة والتنسيق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c4c3aa"/>
                </a:solidFill>
                <a:latin typeface="Arial"/>
                <a:cs typeface="Simplified Arabic"/>
              </a:rPr>
              <a:t>العلاقة بين التنسيق وبين العمليات الإدارية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grpSp>
        <p:nvGrpSpPr>
          <p:cNvPr id="1328" name=""/>
          <p:cNvGrpSpPr/>
          <p:nvPr/>
        </p:nvGrpSpPr>
        <p:grpSpPr>
          <a:xfrm>
            <a:off x="1116000" y="2142720"/>
            <a:ext cx="7127640" cy="4444920"/>
            <a:chOff x="1116000" y="2142720"/>
            <a:chExt cx="7127640" cy="4444920"/>
          </a:xfrm>
        </p:grpSpPr>
        <p:sp>
          <p:nvSpPr>
            <p:cNvPr id="1329" name=""/>
            <p:cNvSpPr/>
            <p:nvPr/>
          </p:nvSpPr>
          <p:spPr>
            <a:xfrm rot="18894000">
              <a:off x="2650680" y="3312000"/>
              <a:ext cx="4176720" cy="2105640"/>
            </a:xfrm>
            <a:prstGeom prst="flowChartPunchedTape">
              <a:avLst/>
            </a:prstGeom>
            <a:solidFill>
              <a:srgbClr val="9ac2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0" name=""/>
            <p:cNvSpPr/>
            <p:nvPr/>
          </p:nvSpPr>
          <p:spPr>
            <a:xfrm rot="1743000">
              <a:off x="2087280" y="3430440"/>
              <a:ext cx="5508000" cy="1837080"/>
            </a:xfrm>
            <a:prstGeom prst="flowChartPunchedTape">
              <a:avLst/>
            </a:prstGeom>
            <a:solidFill>
              <a:srgbClr val="9ac2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3221640" y="3146400"/>
              <a:ext cx="2916000" cy="2561400"/>
            </a:xfrm>
            <a:prstGeom prst="ellipse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5490000" y="3003840"/>
              <a:ext cx="129600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ffffff"/>
                  </a:solidFill>
                  <a:latin typeface="Times New Roman"/>
                  <a:cs typeface="Times New Roman"/>
                </a:rPr>
                <a:t>تخطيط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2412000" y="3573720"/>
              <a:ext cx="97164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ffffff"/>
                  </a:solidFill>
                  <a:latin typeface="Times New Roman"/>
                  <a:cs typeface="Times New Roman"/>
                </a:rPr>
                <a:t>تنظيم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3060000" y="5424120"/>
              <a:ext cx="80964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ffffff"/>
                  </a:solidFill>
                  <a:latin typeface="Times New Roman"/>
                  <a:cs typeface="Times New Roman"/>
                </a:rPr>
                <a:t>رقابة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6138000" y="5138640"/>
              <a:ext cx="113364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ffffff"/>
                  </a:solidFill>
                  <a:latin typeface="Times New Roman"/>
                  <a:cs typeface="Times New Roman"/>
                </a:rPr>
                <a:t>توجيه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7109640" y="2720160"/>
              <a:ext cx="113400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ffffff"/>
                  </a:solidFill>
                  <a:latin typeface="Times New Roman"/>
                  <a:cs typeface="Simplified Arabic"/>
                </a:rPr>
                <a:t>تنسيق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7272000" y="5850360"/>
              <a:ext cx="81000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ffffff"/>
                  </a:solidFill>
                  <a:latin typeface="Times New Roman"/>
                  <a:cs typeface="Simplified Arabic"/>
                </a:rPr>
                <a:t>تنسيق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1764000" y="5850360"/>
              <a:ext cx="113364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ffffff"/>
                  </a:solidFill>
                  <a:latin typeface="Times New Roman"/>
                  <a:cs typeface="Simplified Arabic"/>
                </a:rPr>
                <a:t>تنسيق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1116000" y="3288240"/>
              <a:ext cx="11336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ffffff"/>
                  </a:solidFill>
                  <a:latin typeface="Times New Roman"/>
                  <a:cs typeface="Simplified Arabic"/>
                </a:rPr>
                <a:t>تنسيق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0" name=""/>
            <p:cNvSpPr/>
            <p:nvPr/>
          </p:nvSpPr>
          <p:spPr>
            <a:xfrm flipH="1">
              <a:off x="6624000" y="2840760"/>
              <a:ext cx="648000" cy="28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1925640" y="3573720"/>
              <a:ext cx="648000" cy="14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2" name=""/>
            <p:cNvSpPr/>
            <p:nvPr/>
          </p:nvSpPr>
          <p:spPr>
            <a:xfrm flipV="1">
              <a:off x="2735640" y="5707440"/>
              <a:ext cx="4856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3" name=""/>
            <p:cNvSpPr/>
            <p:nvPr/>
          </p:nvSpPr>
          <p:spPr>
            <a:xfrm flipH="1" flipV="1">
              <a:off x="6948000" y="5525280"/>
              <a:ext cx="648000" cy="32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4679640" y="3404880"/>
              <a:ext cx="97200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ffffff"/>
                  </a:solidFill>
                  <a:latin typeface="Times New Roman"/>
                  <a:cs typeface="Times New Roman"/>
                </a:rPr>
                <a:t>أفراد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3221640" y="4426920"/>
              <a:ext cx="8100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ffffff"/>
                  </a:solidFill>
                  <a:latin typeface="Times New Roman"/>
                  <a:cs typeface="Times New Roman"/>
                </a:rPr>
                <a:t>آلات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5004000" y="4151880"/>
              <a:ext cx="809640" cy="71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ffffff"/>
                  </a:solidFill>
                  <a:latin typeface="Times New Roman"/>
                  <a:cs typeface="Times New Roman"/>
                </a:rPr>
                <a:t>طرق عمل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3708000" y="5138640"/>
              <a:ext cx="97164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ffffff"/>
                  </a:solidFill>
                  <a:latin typeface="Times New Roman"/>
                  <a:cs typeface="Times New Roman"/>
                </a:rPr>
                <a:t>معدات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4842000" y="4996080"/>
              <a:ext cx="8100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ffffff"/>
                  </a:solidFill>
                  <a:latin typeface="Times New Roman"/>
                  <a:cs typeface="Times New Roman"/>
                </a:rPr>
                <a:t>أموال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3546000" y="3573000"/>
              <a:ext cx="81000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ffffff"/>
                  </a:solidFill>
                  <a:latin typeface="Times New Roman"/>
                  <a:cs typeface="Times New Roman"/>
                </a:rPr>
                <a:t>مواد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c4c3aa"/>
                </a:solidFill>
                <a:latin typeface="Arial"/>
                <a:cs typeface="Simplified Arabic"/>
              </a:rPr>
              <a:t>عوائق التنسيق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457200" y="2004480"/>
            <a:ext cx="8223120" cy="41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9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Verdana"/>
                <a:cs typeface="Simplified Arabic"/>
              </a:rPr>
              <a:t>تطبيق التخصص وتقسيم العمل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r" rtl="1">
              <a:spcBef>
                <a:spcPts val="901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Verdana"/>
                <a:cs typeface="Simplified Arabic"/>
              </a:rPr>
              <a:t>زيادة حجم التنظيم وتعقده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c4c3aa"/>
                </a:solidFill>
                <a:latin typeface="Arial"/>
                <a:cs typeface="Simplified Arabic"/>
              </a:rPr>
              <a:t>أهم الوسائل المستخدمة في التنسيق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53" name="PlaceHolder 2"/>
          <p:cNvSpPr>
            <a:spLocks noGrp="1"/>
          </p:cNvSpPr>
          <p:nvPr>
            <p:ph/>
          </p:nvPr>
        </p:nvSpPr>
        <p:spPr>
          <a:xfrm>
            <a:off x="1066680" y="2349000"/>
            <a:ext cx="75376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r" rtl="1">
              <a:lnSpc>
                <a:spcPct val="8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Verdana"/>
                <a:cs typeface="Simplified Arabic"/>
              </a:rPr>
              <a:t>تسلسل الأوامر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 algn="r" rtl="1">
              <a:lnSpc>
                <a:spcPct val="8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Verdana"/>
                <a:cs typeface="Simplified Arabic"/>
              </a:rPr>
              <a:t>التنسيق بالقواعد والإجراءات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 algn="r" rtl="1">
              <a:lnSpc>
                <a:spcPct val="8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Verdana"/>
                <a:cs typeface="Simplified Arabic"/>
              </a:rPr>
              <a:t>التنسيق بالأهداف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 algn="r" rtl="1">
              <a:lnSpc>
                <a:spcPct val="8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Verdana"/>
                <a:cs typeface="Simplified Arabic"/>
              </a:rPr>
              <a:t>استخدام المساعدين في التنسيق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 algn="r" rtl="1">
              <a:lnSpc>
                <a:spcPct val="8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Verdana"/>
                <a:cs typeface="Simplified Arabic"/>
              </a:rPr>
              <a:t>استخدام الاتصال للتنسيق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 algn="r" rtl="1">
              <a:lnSpc>
                <a:spcPct val="8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Verdana"/>
                <a:cs typeface="Simplified Arabic"/>
              </a:rPr>
              <a:t>اللجان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 algn="r" rtl="1">
              <a:lnSpc>
                <a:spcPct val="8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Verdana"/>
                <a:cs typeface="Simplified Arabic"/>
              </a:rPr>
              <a:t>المشروعات (تنظيم المصفوفة) 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 algn="r" rtl="1">
              <a:lnSpc>
                <a:spcPct val="8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Verdana"/>
                <a:cs typeface="Simplified Arabic"/>
              </a:rPr>
              <a:t>المناقشات غير الرسميه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 algn="r" rtl="1">
              <a:lnSpc>
                <a:spcPct val="8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Verdana"/>
                <a:cs typeface="Simplified Arabic"/>
              </a:rPr>
              <a:t>المنسق الخاص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c4c3aa"/>
                </a:solidFill>
                <a:latin typeface="Arial"/>
                <a:cs typeface="Simplified Arabic"/>
              </a:rPr>
              <a:t>خصائص التنسيق الفعال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1042920" y="2349360"/>
            <a:ext cx="756144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r" rtl="1">
              <a:spcBef>
                <a:spcPts val="700"/>
              </a:spcBef>
              <a:buClr>
                <a:srgbClr val="c4c3aa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c4c3aa"/>
                </a:solidFill>
                <a:latin typeface="Verdana"/>
                <a:cs typeface="Simplified Arabic"/>
              </a:rPr>
              <a:t>تبسيط التنظيم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 algn="r" rtl="1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Simplified Arabic"/>
              </a:rPr>
              <a:t>  تقسيم العمل بين الإدارات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 algn="r" rtl="1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Simplified Arabic"/>
              </a:rPr>
              <a:t>  وضوح التنظيم والخطط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 algn="r" rtl="1">
              <a:spcBef>
                <a:spcPts val="700"/>
              </a:spcBef>
              <a:buClr>
                <a:srgbClr val="c4c3aa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c4c3aa"/>
                </a:solidFill>
                <a:latin typeface="Verdana"/>
                <a:cs typeface="Simplified Arabic"/>
              </a:rPr>
              <a:t>انسجام التخطيط والبرامج وتكاملها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 algn="r" rtl="1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Simplified Arabic"/>
              </a:rPr>
              <a:t>  تكامل البرامج والخطط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990720" indent="-533520" algn="r" rtl="1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Simplified Arabic"/>
              </a:rPr>
              <a:t>  التوقيت السليم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 algn="r" rtl="1">
              <a:spcBef>
                <a:spcPts val="700"/>
              </a:spcBef>
              <a:buClr>
                <a:srgbClr val="c4c3aa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c4c3aa"/>
                </a:solidFill>
                <a:latin typeface="Verdana"/>
                <a:cs typeface="Simplified Arabic"/>
              </a:rPr>
              <a:t>تحسين وسائل الاتصال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 algn="r" rtl="1">
              <a:spcBef>
                <a:spcPts val="700"/>
              </a:spcBef>
              <a:buClr>
                <a:srgbClr val="c4c3aa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c4c3aa"/>
                </a:solidFill>
                <a:latin typeface="Verdana"/>
                <a:cs typeface="Simplified Arabic"/>
              </a:rPr>
              <a:t>تشجيع التنسيق والتعاون الاختياري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/>
          </p:nvPr>
        </p:nvSpPr>
        <p:spPr>
          <a:xfrm>
            <a:off x="457200" y="2485800"/>
            <a:ext cx="8229600" cy="32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ffffff"/>
                </a:solidFill>
                <a:latin typeface="Arial"/>
                <a:cs typeface="Motken noqta"/>
              </a:rPr>
              <a:t>القيادة الإدارية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 rtl="1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ment Leadership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7" name=""/>
          <p:cNvSpPr/>
          <p:nvPr/>
        </p:nvSpPr>
        <p:spPr>
          <a:xfrm>
            <a:off x="0" y="404640"/>
            <a:ext cx="4140360" cy="1152720"/>
          </a:xfrm>
          <a:prstGeom prst="flowChartDelay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8" name=""/>
          <p:cNvSpPr/>
          <p:nvPr/>
        </p:nvSpPr>
        <p:spPr>
          <a:xfrm>
            <a:off x="216000" y="692280"/>
            <a:ext cx="277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cc3300"/>
                </a:solidFill>
                <a:latin typeface="Tahoma"/>
                <a:cs typeface="كبير 6"/>
              </a:rPr>
              <a:t>الفصل الساد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e3e3ff"/>
                </a:solidFill>
                <a:latin typeface="Arial"/>
                <a:cs typeface="Simplified Arabic"/>
              </a:rPr>
              <a:t>المحتويات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  <a:cs typeface="Simplified Arabic"/>
              </a:rPr>
              <a:t>تعريف القياد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  <a:cs typeface="Simplified Arabic"/>
              </a:rPr>
              <a:t>القائد الإداري والرئيس الإداري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  <a:cs typeface="Simplified Arabic"/>
              </a:rPr>
              <a:t>مصادر قوة القائ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  <a:cs typeface="Simplified Arabic"/>
              </a:rPr>
              <a:t>النظريات الحديثة في القياد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  <a:cs typeface="Simplified Arabic"/>
              </a:rPr>
              <a:t>معوقات القيادة الإدارية في الدول النامي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e3e3ff"/>
                </a:solidFill>
                <a:latin typeface="Arial"/>
                <a:cs typeface="Simplified Arabic"/>
              </a:rPr>
              <a:t>مفهوم القيادة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/>
          </p:nvPr>
        </p:nvSpPr>
        <p:spPr>
          <a:xfrm>
            <a:off x="457200" y="2160360"/>
            <a:ext cx="8229600" cy="29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Simplified Arabic"/>
              </a:rPr>
              <a:t>”القدرة على التوجيه من أجل تحقيق هدف معين عن طريق الآخرين“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e5e5ff"/>
                </a:solidFill>
                <a:latin typeface="Garamond"/>
              </a:rPr>
              <a:t>هل الإدارة علم أم فن ؟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457200" y="2004840"/>
            <a:ext cx="8229600" cy="27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Garamond"/>
                <a:cs typeface="Simplified Arabic"/>
              </a:rPr>
              <a:t>الإدارة فن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Garamond"/>
                <a:cs typeface="Simplified Arabic"/>
              </a:rPr>
              <a:t>الإدارة علم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Garamond"/>
                <a:cs typeface="Simplified Arabic"/>
              </a:rPr>
              <a:t>الإدارة علم وفن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e3e3ff"/>
                </a:solidFill>
                <a:latin typeface="Arial"/>
              </a:rPr>
              <a:t>القائد الإداري والرئيس الإداري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4" name="PlaceHolder 2"/>
          <p:cNvSpPr>
            <a:spLocks noGrp="1"/>
          </p:cNvSpPr>
          <p:nvPr>
            <p:ph/>
          </p:nvPr>
        </p:nvSpPr>
        <p:spPr>
          <a:xfrm>
            <a:off x="1066320" y="2349360"/>
            <a:ext cx="7543800" cy="41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 algn="r" rtl="1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Arial"/>
                <a:cs typeface="Simplified Arabic"/>
              </a:rPr>
              <a:t>القيادة تنبع تلقائياً من الجماعة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 algn="r" rtl="1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Arial"/>
                <a:cs typeface="Simplified Arabic"/>
              </a:rPr>
              <a:t>الرئاسة مفروضة على الجماعة نظاما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 algn="r" rtl="1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Arial"/>
                <a:cs typeface="Simplified Arabic"/>
              </a:rPr>
              <a:t>في الرئاسة يختار الرئيس الهدف ولا تحدده الجماعة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 algn="r" rtl="1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Arial"/>
                <a:cs typeface="Simplified Arabic"/>
              </a:rPr>
              <a:t>في القيادة تشترك الجماعة مع قائدها في اختيار الهدف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 algn="r" rtl="1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Arial"/>
                <a:cs typeface="Simplified Arabic"/>
              </a:rPr>
              <a:t>القيادة مصدرها الجماعة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 algn="r" rtl="1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ffffff"/>
                </a:solidFill>
                <a:latin typeface="Arial"/>
                <a:cs typeface="Simplified Arabic"/>
              </a:rPr>
              <a:t>سلطة الرئيس يستمدها من خارج الجماعة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Simplified Arabic"/>
              </a:rPr>
              <a:t>(كل قائد رئيس، وليس كل رئيس قائد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e3e3ff"/>
                </a:solidFill>
                <a:latin typeface="Arial"/>
              </a:rPr>
              <a:t>مصادر قوة القائد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6" name="PlaceHolder 2"/>
          <p:cNvSpPr>
            <a:spLocks noGrp="1"/>
          </p:cNvSpPr>
          <p:nvPr>
            <p:ph/>
          </p:nvPr>
        </p:nvSpPr>
        <p:spPr>
          <a:xfrm>
            <a:off x="1066680" y="2349360"/>
            <a:ext cx="7537680" cy="41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r" rtl="1"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  <a:cs typeface="Simplified Arabic"/>
              </a:rPr>
              <a:t>مصدر التأثير النابع من استخدام أساليب الضغط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  <a:cs typeface="Simplified Arabic"/>
              </a:rPr>
              <a:t>مصدر التأثير الشخصي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  <a:cs typeface="Simplified Arabic"/>
              </a:rPr>
              <a:t>مصدر السلطة النظامي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  <a:cs typeface="Simplified Arabic"/>
              </a:rPr>
              <a:t>مصدر منح التقدير المالي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  <a:cs typeface="Simplified Arabic"/>
              </a:rPr>
              <a:t>مصدر الخبرة والمهار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"/>
          <p:cNvSpPr/>
          <p:nvPr/>
        </p:nvSpPr>
        <p:spPr>
          <a:xfrm>
            <a:off x="1889280" y="2562120"/>
            <a:ext cx="5562360" cy="34290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e3e3ff"/>
                </a:solidFill>
                <a:latin typeface="Arial"/>
              </a:rPr>
              <a:t>نظرية سلسلة السلوك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9" name=""/>
          <p:cNvSpPr/>
          <p:nvPr/>
        </p:nvSpPr>
        <p:spPr>
          <a:xfrm>
            <a:off x="2079720" y="3247920"/>
            <a:ext cx="5079960" cy="693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0" name=""/>
          <p:cNvSpPr/>
          <p:nvPr/>
        </p:nvSpPr>
        <p:spPr>
          <a:xfrm flipH="1">
            <a:off x="2079360" y="3247920"/>
            <a:ext cx="5079960" cy="69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1" name=""/>
          <p:cNvSpPr/>
          <p:nvPr/>
        </p:nvSpPr>
        <p:spPr>
          <a:xfrm>
            <a:off x="1965240" y="3247920"/>
            <a:ext cx="262908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Times New Roman"/>
                <a:cs typeface="كبير 6"/>
              </a:rPr>
              <a:t>درجة السلطة التي يستخدمها المدي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2" name=""/>
          <p:cNvSpPr/>
          <p:nvPr/>
        </p:nvSpPr>
        <p:spPr>
          <a:xfrm>
            <a:off x="4799160" y="3484440"/>
            <a:ext cx="230976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000000"/>
                </a:solidFill>
                <a:latin typeface="Times New Roman"/>
                <a:cs typeface="كبير 6"/>
              </a:rPr>
              <a:t>درجة الحرية المتاحة للمرؤوسين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3" name=""/>
          <p:cNvSpPr/>
          <p:nvPr/>
        </p:nvSpPr>
        <p:spPr>
          <a:xfrm>
            <a:off x="2244600" y="4056120"/>
            <a:ext cx="428760" cy="175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قائد يصنع القرار ويعلنه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4" name=""/>
          <p:cNvSpPr/>
          <p:nvPr/>
        </p:nvSpPr>
        <p:spPr>
          <a:xfrm>
            <a:off x="2774880" y="4056120"/>
            <a:ext cx="384120" cy="175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قائد يبيع قراره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5" name=""/>
          <p:cNvSpPr/>
          <p:nvPr/>
        </p:nvSpPr>
        <p:spPr>
          <a:xfrm>
            <a:off x="3273480" y="4056120"/>
            <a:ext cx="520560" cy="175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قائد يقدم أفكاره ويدعو إلى الأسئلة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6" name=""/>
          <p:cNvSpPr/>
          <p:nvPr/>
        </p:nvSpPr>
        <p:spPr>
          <a:xfrm>
            <a:off x="3895560" y="4067280"/>
            <a:ext cx="635040" cy="174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قائد يعرض قرار غير نهائي يخضع للتغيير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7" name=""/>
          <p:cNvSpPr/>
          <p:nvPr/>
        </p:nvSpPr>
        <p:spPr>
          <a:xfrm>
            <a:off x="4645080" y="4056120"/>
            <a:ext cx="685800" cy="175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قائد يعرض مشكلة ويحصل على مناقشات تعمل قراره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8" name=""/>
          <p:cNvSpPr/>
          <p:nvPr/>
        </p:nvSpPr>
        <p:spPr>
          <a:xfrm>
            <a:off x="5445000" y="4056120"/>
            <a:ext cx="703440" cy="175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قائد يعرض ويحدد المشكلة ويسأل المجموعة لتصنيع القرار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9" name=""/>
          <p:cNvSpPr/>
          <p:nvPr/>
        </p:nvSpPr>
        <p:spPr>
          <a:xfrm>
            <a:off x="6245280" y="4056120"/>
            <a:ext cx="793800" cy="175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قائد يسمح للمرؤوسين بأن يعملوا ضمن حدود عرفت لهم بواسطته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e3e3ff"/>
                </a:solidFill>
                <a:latin typeface="Arial"/>
              </a:rPr>
              <a:t>نظرية القيادة الفعالة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/>
          </p:nvPr>
        </p:nvSpPr>
        <p:spPr>
          <a:xfrm>
            <a:off x="1042560" y="1985760"/>
            <a:ext cx="7543800" cy="11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القائد الدكتاتوري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القائد الديموقراطي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82" name=""/>
          <p:cNvGrpSpPr/>
          <p:nvPr/>
        </p:nvGrpSpPr>
        <p:grpSpPr>
          <a:xfrm>
            <a:off x="1403280" y="3357720"/>
            <a:ext cx="7201080" cy="2998800"/>
            <a:chOff x="1403280" y="3357720"/>
            <a:chExt cx="7201080" cy="2998800"/>
          </a:xfrm>
        </p:grpSpPr>
        <p:sp>
          <p:nvSpPr>
            <p:cNvPr id="1383" name=""/>
            <p:cNvSpPr/>
            <p:nvPr/>
          </p:nvSpPr>
          <p:spPr>
            <a:xfrm>
              <a:off x="1403280" y="3357720"/>
              <a:ext cx="7201080" cy="2998800"/>
            </a:xfrm>
            <a:prstGeom prst="rect">
              <a:avLst/>
            </a:prstGeom>
            <a:solidFill>
              <a:srgbClr val="00ccff"/>
            </a:solidFill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5827680" y="3429000"/>
              <a:ext cx="2631960" cy="1100160"/>
            </a:xfrm>
            <a:prstGeom prst="leftRightArrow">
              <a:avLst>
                <a:gd name="adj1" fmla="val 50000"/>
                <a:gd name="adj2" fmla="val 47625"/>
              </a:avLst>
            </a:prstGeom>
            <a:solidFill>
              <a:srgbClr val="0000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3741840" y="4149720"/>
              <a:ext cx="2630520" cy="1284120"/>
            </a:xfrm>
            <a:prstGeom prst="leftRightArrow">
              <a:avLst>
                <a:gd name="adj1" fmla="val 50000"/>
                <a:gd name="adj2" fmla="val 40780"/>
              </a:avLst>
            </a:prstGeom>
            <a:solidFill>
              <a:srgbClr val="0000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1579680" y="5013360"/>
              <a:ext cx="2631960" cy="1028520"/>
            </a:xfrm>
            <a:prstGeom prst="leftRightArrow">
              <a:avLst>
                <a:gd name="adj1" fmla="val 50000"/>
                <a:gd name="adj2" fmla="val 50942"/>
              </a:avLst>
            </a:prstGeom>
            <a:solidFill>
              <a:srgbClr val="0000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6156360" y="3789360"/>
              <a:ext cx="1871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800" spc="-1" strike="noStrike">
                  <a:solidFill>
                    <a:srgbClr val="ffffff"/>
                  </a:solidFill>
                  <a:latin typeface="Tahoma"/>
                </a:rPr>
                <a:t>قوة الموقع للقائد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3995640" y="4653000"/>
              <a:ext cx="1871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800" spc="-1" strike="noStrike">
                  <a:solidFill>
                    <a:srgbClr val="ffffff"/>
                  </a:solidFill>
                  <a:latin typeface="Tahoma"/>
                </a:rPr>
                <a:t>بناء أو تركيب المهمة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1836720" y="5373720"/>
              <a:ext cx="1871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800" spc="-1" strike="noStrike">
                  <a:solidFill>
                    <a:srgbClr val="ffffff"/>
                  </a:solidFill>
                  <a:latin typeface="Tahoma"/>
                </a:rPr>
                <a:t>العلاقات الشخصية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0" name=""/>
          <p:cNvGrpSpPr/>
          <p:nvPr/>
        </p:nvGrpSpPr>
        <p:grpSpPr>
          <a:xfrm>
            <a:off x="1187280" y="2565360"/>
            <a:ext cx="7046640" cy="3498480"/>
            <a:chOff x="1187280" y="2565360"/>
            <a:chExt cx="7046640" cy="3498480"/>
          </a:xfrm>
        </p:grpSpPr>
        <p:sp>
          <p:nvSpPr>
            <p:cNvPr id="1391" name=""/>
            <p:cNvSpPr/>
            <p:nvPr/>
          </p:nvSpPr>
          <p:spPr>
            <a:xfrm>
              <a:off x="3007800" y="3177000"/>
              <a:ext cx="4031640" cy="272232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5844960" y="3450600"/>
              <a:ext cx="1045080" cy="69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9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 - 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9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2914560" y="3349800"/>
              <a:ext cx="1287720" cy="62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9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 - 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4" name=""/>
            <p:cNvSpPr/>
            <p:nvPr/>
          </p:nvSpPr>
          <p:spPr>
            <a:xfrm flipH="1">
              <a:off x="4500360" y="4314600"/>
              <a:ext cx="104508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 - 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1187280" y="3976200"/>
              <a:ext cx="1549080" cy="11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ffffff"/>
                  </a:solidFill>
                  <a:latin typeface="Times New Roman"/>
                  <a:cs typeface="Simplified Arabic"/>
                </a:rPr>
                <a:t>الاهتمام بالأشخا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1770840" y="2781360"/>
              <a:ext cx="1095840" cy="52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ffffff"/>
                  </a:solidFill>
                  <a:latin typeface="Times New Roman"/>
                  <a:cs typeface="Times New Roman"/>
                </a:rPr>
                <a:t>مرتفع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5844960" y="5309280"/>
              <a:ext cx="104508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 - 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9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3007800" y="5309280"/>
              <a:ext cx="104508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 - 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7188840" y="5373000"/>
              <a:ext cx="1045080" cy="69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ffffff"/>
                  </a:solidFill>
                  <a:latin typeface="Times New Roman"/>
                  <a:cs typeface="Simplified Arabic"/>
                </a:rPr>
                <a:t>مرتفع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1663920" y="5373000"/>
              <a:ext cx="119448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ffffff"/>
                  </a:solidFill>
                  <a:latin typeface="Times New Roman"/>
                  <a:cs typeface="Simplified Arabic"/>
                </a:rPr>
                <a:t>منخفض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3987000" y="2565360"/>
              <a:ext cx="167976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ffffff"/>
                  </a:solidFill>
                  <a:latin typeface="Times New Roman"/>
                  <a:cs typeface="Simplified Arabic"/>
                </a:rPr>
                <a:t>الاهتمام بالإنتاج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e3e3ff"/>
                </a:solidFill>
                <a:latin typeface="Arial"/>
              </a:rPr>
              <a:t>الشبكة الإدارية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e3e3ff"/>
                </a:solidFill>
                <a:latin typeface="Arial"/>
              </a:rPr>
              <a:t>باقي نظريات القيادة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  <a:cs typeface="Simplified Arabic"/>
              </a:rPr>
              <a:t>نظرية دورة الحياة للقياد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  <a:cs typeface="Simplified Arabic"/>
              </a:rPr>
              <a:t>نظرية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Simplified Arabic"/>
              </a:rPr>
              <a:t>X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Simplified Arabic"/>
              </a:rPr>
              <a:t> 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  <a:ea typeface="Simplified Arabic"/>
              </a:rPr>
              <a:t>  و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Simplified Arabic"/>
              </a:rPr>
              <a:t>Y</a:t>
            </a:r>
            <a:r>
              <a:rPr b="1" lang="ar-SA" sz="3200" spc="-1" strike="noStrike">
                <a:solidFill>
                  <a:srgbClr val="ffffff"/>
                </a:solidFill>
                <a:latin typeface="Arial"/>
                <a:ea typeface="Simplified Arabic"/>
              </a:rPr>
              <a:t>  في القيادة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  <a:cs typeface="Simplified Arabic"/>
              </a:rPr>
              <a:t>نظرية الطريق إلى الهدف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e3e3ff"/>
                </a:solidFill>
                <a:latin typeface="Arial"/>
              </a:rPr>
              <a:t>معوقات القيادة الإدارية في الدول النامية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1042920" y="2349000"/>
            <a:ext cx="7561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  <a:cs typeface="Simplified Arabic"/>
              </a:rPr>
              <a:t>العوائق الإداري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  <a:cs typeface="Simplified Arabic"/>
              </a:rPr>
              <a:t>العوائق البيئي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Arial"/>
                <a:cs typeface="Simplified Arabic"/>
              </a:rPr>
              <a:t>المعوقات النابعة من وضع القيادات الإداري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/>
          </p:nvPr>
        </p:nvSpPr>
        <p:spPr>
          <a:xfrm>
            <a:off x="457200" y="2485800"/>
            <a:ext cx="8229600" cy="32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ffffff"/>
                </a:solidFill>
                <a:latin typeface="Tahoma"/>
                <a:cs typeface="Motken noqta"/>
              </a:rPr>
              <a:t>الدافعية والحوافز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 rtl="1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tivations and Incentiv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8" name=""/>
          <p:cNvSpPr/>
          <p:nvPr/>
        </p:nvSpPr>
        <p:spPr>
          <a:xfrm>
            <a:off x="0" y="404640"/>
            <a:ext cx="4140360" cy="1152720"/>
          </a:xfrm>
          <a:prstGeom prst="flowChartDelay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9" name=""/>
          <p:cNvSpPr/>
          <p:nvPr/>
        </p:nvSpPr>
        <p:spPr>
          <a:xfrm>
            <a:off x="216000" y="692280"/>
            <a:ext cx="277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cc3300"/>
                </a:solidFill>
                <a:latin typeface="Tahoma"/>
                <a:cs typeface="كبير 6"/>
              </a:rPr>
              <a:t>الفصل الساب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ffffcc"/>
                </a:solidFill>
                <a:latin typeface="Tahoma"/>
                <a:cs typeface="Simplified Arabic"/>
              </a:rPr>
              <a:t>المحتويات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1" name="PlaceHolder 2"/>
          <p:cNvSpPr>
            <a:spLocks noGrp="1"/>
          </p:cNvSpPr>
          <p:nvPr>
            <p:ph/>
          </p:nvPr>
        </p:nvSpPr>
        <p:spPr>
          <a:xfrm>
            <a:off x="1066320" y="212256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Simplified Arabic"/>
              </a:rPr>
              <a:t>تعريف الدافعي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Simplified Arabic"/>
              </a:rPr>
              <a:t>خصائص الدواف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Simplified Arabic"/>
              </a:rPr>
              <a:t>أنواع الدواف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Simplified Arabic"/>
              </a:rPr>
              <a:t>نظريات الدواف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Simplified Arabic"/>
              </a:rPr>
              <a:t>أنواع الحواف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ffffcc"/>
                </a:solidFill>
                <a:latin typeface="Tahoma"/>
                <a:cs typeface="Simplified Arabic"/>
              </a:rPr>
              <a:t>مفهوم الدافعية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1066320" y="2493720"/>
            <a:ext cx="754380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Simplified Arabic"/>
              </a:rPr>
              <a:t>”حالة داخلية عند الفرد تولد لديه الطاقة والحركة وتوجه السلوك نحو الهدف“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94840" indent="0" algn="r" rtl="1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0" algn="ctr" rtl="1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” </a:t>
            </a: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Simplified Arabic"/>
              </a:rPr>
              <a:t>سلسلة من الاستجابات التي تبدأ بالحاجات التي يشعر بها الفرد وينتج عنها رغبات مما يؤدي الى احداث السلوك لتحقيق الرضا“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e5e5ff"/>
                </a:solidFill>
                <a:latin typeface="Garamond"/>
              </a:rPr>
              <a:t>مدارس الإدارة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457200" y="2004480"/>
            <a:ext cx="822312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Garamond"/>
                <a:cs typeface="Simplified Arabic"/>
              </a:rPr>
              <a:t>المدرسة الكلاسيكية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Garamond"/>
                <a:cs typeface="Simplified Arabic"/>
              </a:rPr>
              <a:t>مدرسة العلاقات الإنسانية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Garamond"/>
                <a:cs typeface="Simplified Arabic"/>
              </a:rPr>
              <a:t>المدرسة التجريبية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Garamond"/>
                <a:cs typeface="Simplified Arabic"/>
              </a:rPr>
              <a:t>مدرسة النظم الاجتماعية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ff"/>
                </a:solidFill>
                <a:latin typeface="Garamond"/>
                <a:cs typeface="Simplified Arabic"/>
              </a:rPr>
              <a:t>المدرسة المعاصرة في الإدارة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 rtl="1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e5e5ff"/>
                </a:solidFill>
                <a:latin typeface="Garamond"/>
                <a:cs typeface="Simplified Arabic"/>
              </a:rPr>
              <a:t>مفهوم الدافعية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415" name=""/>
          <p:cNvGrpSpPr/>
          <p:nvPr/>
        </p:nvGrpSpPr>
        <p:grpSpPr>
          <a:xfrm>
            <a:off x="1258920" y="2205000"/>
            <a:ext cx="6984720" cy="4319280"/>
            <a:chOff x="1258920" y="2205000"/>
            <a:chExt cx="6984720" cy="4319280"/>
          </a:xfrm>
        </p:grpSpPr>
        <p:graphicFrame>
          <p:nvGraphicFramePr>
            <p:cNvPr id="1416" name=""/>
            <p:cNvGraphicFramePr/>
            <p:nvPr/>
          </p:nvGraphicFramePr>
          <p:xfrm>
            <a:off x="4627440" y="2821320"/>
            <a:ext cx="759600" cy="2835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41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627440" y="2821320"/>
                      <a:ext cx="759600" cy="2835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18" name=""/>
            <p:cNvSpPr/>
            <p:nvPr/>
          </p:nvSpPr>
          <p:spPr>
            <a:xfrm>
              <a:off x="5508000" y="2205000"/>
              <a:ext cx="2735640" cy="1689840"/>
            </a:xfrm>
            <a:prstGeom prst="flowChartAlternateProcess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800" spc="-1" strike="noStrike">
                  <a:solidFill>
                    <a:srgbClr val="ffffff"/>
                  </a:solidFill>
                  <a:latin typeface="Arial"/>
                  <a:cs typeface="Simplified Arabic"/>
                </a:rPr>
                <a:t>تنشيط السلوك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1258920" y="2206800"/>
              <a:ext cx="2736000" cy="1690200"/>
            </a:xfrm>
            <a:prstGeom prst="flowChartAlternateProcess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800" spc="-1" strike="noStrike">
                  <a:solidFill>
                    <a:srgbClr val="ffffff"/>
                  </a:solidFill>
                  <a:latin typeface="Arial"/>
                  <a:cs typeface="Simplified Arabic"/>
                </a:rPr>
                <a:t>توجيه السلوك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3335400" y="4834080"/>
              <a:ext cx="2736000" cy="1690200"/>
            </a:xfrm>
            <a:prstGeom prst="flowChartAlternateProcess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800" spc="-1" strike="noStrike">
                  <a:solidFill>
                    <a:srgbClr val="ffffff"/>
                  </a:solidFill>
                  <a:latin typeface="Arial"/>
                  <a:cs typeface="Simplified Arabic"/>
                </a:rPr>
                <a:t>تثبيت او تعديل 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800" spc="-1" strike="noStrike">
                  <a:solidFill>
                    <a:srgbClr val="ffffff"/>
                  </a:solidFill>
                  <a:latin typeface="Arial"/>
                  <a:cs typeface="Simplified Arabic"/>
                </a:rPr>
                <a:t>السلوك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1" name=""/>
            <p:cNvSpPr/>
            <p:nvPr/>
          </p:nvSpPr>
          <p:spPr>
            <a:xfrm flipH="1">
              <a:off x="4186080" y="2864520"/>
              <a:ext cx="11318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2769120" y="3989880"/>
              <a:ext cx="849240" cy="655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3" name=""/>
            <p:cNvSpPr/>
            <p:nvPr/>
          </p:nvSpPr>
          <p:spPr>
            <a:xfrm flipV="1">
              <a:off x="5790600" y="4083480"/>
              <a:ext cx="848520" cy="5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cc"/>
                </a:solidFill>
                <a:latin typeface="Tahoma"/>
              </a:rPr>
              <a:t>الــــدوافع والحــوافز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/>
          </p:nvPr>
        </p:nvSpPr>
        <p:spPr>
          <a:xfrm>
            <a:off x="898560" y="2060280"/>
            <a:ext cx="792144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  <a:cs typeface="Simplified Arabic"/>
              </a:rPr>
              <a:t>فرق علماء السلوك التنظيمي بين 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  <a:cs typeface="Simplified Arabic"/>
              </a:rPr>
              <a:t>الدافعية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Simplified Arabic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Simplified Arabic"/>
              </a:rPr>
              <a:t>motivation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  <a:ea typeface="Simplified Arabic"/>
              </a:rPr>
              <a:t>  وبين الحوافز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Simplified Arabic"/>
              </a:rPr>
              <a:t>incentives</a:t>
            </a:r>
            <a:r>
              <a:rPr b="1" lang="ar-SA" sz="3200" spc="-1" strike="noStrike">
                <a:solidFill>
                  <a:srgbClr val="ffffff"/>
                </a:solidFill>
                <a:latin typeface="Tahoma"/>
                <a:ea typeface="Simplified Arabic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 algn="r" rtl="1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  <a:cs typeface="Simplified Arabic"/>
              </a:rPr>
              <a:t>فالدافعية هي محرك داخلي للسلوك الانساني وتنبع من ذات الفرد لإشباع حاجة محددة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 algn="r" rtl="1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  <a:cs typeface="Simplified Arabic"/>
              </a:rPr>
              <a:t>الحوافز هي المحركات والمؤثرات الخارجية التي تستخدمها الادارة لإثارة دوافع الانجاز لدى الافراد العاملين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cc"/>
                </a:solidFill>
                <a:latin typeface="Tahoma"/>
              </a:rPr>
              <a:t>خصائص الدوافع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7" name="PlaceHolder 2"/>
          <p:cNvSpPr>
            <a:spLocks noGrp="1"/>
          </p:cNvSpPr>
          <p:nvPr>
            <p:ph/>
          </p:nvPr>
        </p:nvSpPr>
        <p:spPr>
          <a:xfrm>
            <a:off x="1066680" y="2349360"/>
            <a:ext cx="7537680" cy="41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  <a:ea typeface="Simplified Arabic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  <a:ea typeface="Simplified Arabic"/>
              </a:rPr>
              <a:t>- تعبئة طاقة الكائن الحي وتنشيطه وجعله في حالة يقظة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  <a:ea typeface="Simplified Arabic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  <a:ea typeface="Simplified Arabic"/>
              </a:rPr>
              <a:t>- تنظيم السلوك وتوجيه الى هدفه الذي يشبع حاجاته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  <a:ea typeface="Simplified Arabic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  <a:ea typeface="Simplified Arabic"/>
              </a:rPr>
              <a:t>- تناسب الطاقة المبذولة مع قوة الدافع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  <a:ea typeface="Simplified Arabic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  <a:ea typeface="Simplified Arabic"/>
              </a:rPr>
              <a:t>- استمرار طاقة الكائن الحي في حالة تعبئة الى أن تحقق الهدف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  <a:ea typeface="Simplified Arabic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  <a:ea typeface="Simplified Arabic"/>
              </a:rPr>
              <a:t>-القابلية لتغيير المسار لتحقيق الهدف 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cc"/>
                </a:solidFill>
                <a:latin typeface="Tahoma"/>
              </a:rPr>
              <a:t>أنواع الدوافع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1066680" y="2349360"/>
            <a:ext cx="7537680" cy="41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r" rtl="1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  <a:cs typeface="Simplified Arabic"/>
              </a:rPr>
              <a:t>الدوافع الأولية والدوافع الثانوية 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r" rtl="1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  <a:cs typeface="Simplified Arabic"/>
              </a:rPr>
              <a:t>الدوافع الفردية والدوافع الاجتماعية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r" rtl="1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  <a:cs typeface="Simplified Arabic"/>
              </a:rPr>
              <a:t>الدوافع الشعورية والدوافع اللاشعورية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cc"/>
                </a:solidFill>
                <a:latin typeface="Tahoma"/>
              </a:rPr>
              <a:t>نظرية تدرج الحاجات (مازلو)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1431" name=""/>
          <p:cNvGrpSpPr/>
          <p:nvPr/>
        </p:nvGrpSpPr>
        <p:grpSpPr>
          <a:xfrm>
            <a:off x="2491200" y="2205720"/>
            <a:ext cx="4665600" cy="4221000"/>
            <a:chOff x="2491200" y="2205720"/>
            <a:chExt cx="4665600" cy="4221000"/>
          </a:xfrm>
        </p:grpSpPr>
        <p:sp>
          <p:nvSpPr>
            <p:cNvPr id="1432" name="_s84997"/>
            <p:cNvSpPr/>
            <p:nvPr/>
          </p:nvSpPr>
          <p:spPr>
            <a:xfrm flipV="1">
              <a:off x="4357080" y="2205720"/>
              <a:ext cx="934560" cy="843120"/>
            </a:xfrm>
            <a:custGeom>
              <a:avLst/>
              <a:gdLst>
                <a:gd name="textAreaLeft" fmla="*/ 335160 w 934560"/>
                <a:gd name="textAreaRight" fmla="*/ 599400 w 934560"/>
                <a:gd name="textAreaTop" fmla="*/ 302400 h 843120"/>
                <a:gd name="textAreaBottom" fmla="*/ 540720 h 843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ff3300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480" rIns="60480" tIns="30240" bIns="30240" anchor="ctr" rot="10800000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200" spc="-1" strike="noStrike">
                  <a:solidFill>
                    <a:srgbClr val="ffffff"/>
                  </a:solidFill>
                  <a:latin typeface="Arial"/>
                </a:rPr>
                <a:t>الحاجة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200" spc="-1" strike="noStrike">
                  <a:solidFill>
                    <a:srgbClr val="ffffff"/>
                  </a:solidFill>
                  <a:latin typeface="Arial"/>
                </a:rPr>
                <a:t>لتحقيق الذات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3" name="_s84998"/>
            <p:cNvSpPr/>
            <p:nvPr/>
          </p:nvSpPr>
          <p:spPr>
            <a:xfrm flipV="1">
              <a:off x="3891600" y="3049200"/>
              <a:ext cx="1865520" cy="845280"/>
            </a:xfrm>
            <a:custGeom>
              <a:avLst/>
              <a:gdLst>
                <a:gd name="textAreaLeft" fmla="*/ 410040 w 1865520"/>
                <a:gd name="textAreaRight" fmla="*/ 1455480 w 1865520"/>
                <a:gd name="textAreaTop" fmla="*/ 185760 h 845280"/>
                <a:gd name="textAreaBottom" fmla="*/ 659520 h 84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3300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480" rIns="60480" tIns="30240" bIns="30240" anchor="ctr" rot="10800000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800" spc="-1" strike="noStrike">
                  <a:solidFill>
                    <a:srgbClr val="ffffff"/>
                  </a:solidFill>
                  <a:latin typeface="Arial"/>
                  <a:cs typeface="Simplified Arabic"/>
                </a:rPr>
                <a:t>الحاجة للتقدير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1800" spc="-1" strike="noStrike">
                  <a:solidFill>
                    <a:srgbClr val="ffffff"/>
                  </a:solidFill>
                  <a:latin typeface="Arial"/>
                  <a:cs typeface="Simplified Arabic"/>
                </a:rPr>
                <a:t>والاحترام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4" name="_s84999"/>
            <p:cNvSpPr/>
            <p:nvPr/>
          </p:nvSpPr>
          <p:spPr>
            <a:xfrm flipV="1">
              <a:off x="3423960" y="3893760"/>
              <a:ext cx="2800080" cy="843480"/>
            </a:xfrm>
            <a:custGeom>
              <a:avLst/>
              <a:gdLst>
                <a:gd name="textAreaLeft" fmla="*/ 486000 w 2800080"/>
                <a:gd name="textAreaRight" fmla="*/ 2314080 w 2800080"/>
                <a:gd name="textAreaTop" fmla="*/ 146160 h 843480"/>
                <a:gd name="textAreaBottom" fmla="*/ 697320 h 843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ff3300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480" rIns="60480" tIns="30240" bIns="30240" anchor="ctr" rot="10800000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000" spc="-1" strike="noStrike">
                  <a:solidFill>
                    <a:srgbClr val="ffffff"/>
                  </a:solidFill>
                  <a:latin typeface="Arial"/>
                </a:rPr>
                <a:t>الحاجات الاجتماعية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(الحب والانتماء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5" name="_s85000"/>
            <p:cNvSpPr/>
            <p:nvPr/>
          </p:nvSpPr>
          <p:spPr>
            <a:xfrm flipV="1">
              <a:off x="2958480" y="4738320"/>
              <a:ext cx="3731040" cy="845280"/>
            </a:xfrm>
            <a:custGeom>
              <a:avLst/>
              <a:gdLst>
                <a:gd name="textAreaLeft" fmla="*/ 561240 w 3731040"/>
                <a:gd name="textAreaRight" fmla="*/ 3169800 w 3731040"/>
                <a:gd name="textAreaTop" fmla="*/ 127080 h 845280"/>
                <a:gd name="textAreaBottom" fmla="*/ 718200 h 84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ff3300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480" rIns="60480" tIns="30240" bIns="30240" anchor="ctr" rot="10800000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ffffff"/>
                  </a:solidFill>
                  <a:latin typeface="Arial"/>
                  <a:cs typeface="Simplified Arabic"/>
                </a:rPr>
                <a:t>حاجات الأمان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6" name="_s85001"/>
            <p:cNvSpPr/>
            <p:nvPr/>
          </p:nvSpPr>
          <p:spPr>
            <a:xfrm flipV="1">
              <a:off x="2491200" y="5583600"/>
              <a:ext cx="4665600" cy="843120"/>
            </a:xfrm>
            <a:custGeom>
              <a:avLst/>
              <a:gdLst>
                <a:gd name="textAreaLeft" fmla="*/ 637200 w 4665600"/>
                <a:gd name="textAreaRight" fmla="*/ 4028400 w 4665600"/>
                <a:gd name="textAreaTop" fmla="*/ 114840 h 843120"/>
                <a:gd name="textAreaBottom" fmla="*/ 728280 h 843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ff3300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480" rIns="60480" tIns="30240" bIns="30240" anchor="ctr" rot="10800000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ffffff"/>
                  </a:solidFill>
                  <a:latin typeface="Arial"/>
                  <a:cs typeface="Simplified Arabic"/>
                </a:rPr>
                <a:t>الحاجات الفسيولوجية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cc"/>
                </a:solidFill>
                <a:latin typeface="Tahoma"/>
              </a:rPr>
              <a:t>نظريات 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X  Y  Z</a:t>
            </a:r>
            <a:br>
              <a:rPr sz="4400"/>
            </a:br>
            <a:r>
              <a:rPr b="0" lang="ar-SA" sz="4400" spc="-1" strike="noStrike">
                <a:solidFill>
                  <a:srgbClr val="ffffcc"/>
                </a:solidFill>
                <a:latin typeface="Tahoma"/>
              </a:rPr>
              <a:t>ماكجريجور ، أوشي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438" name=""/>
          <p:cNvGraphicFramePr/>
          <p:nvPr/>
        </p:nvGraphicFramePr>
        <p:xfrm>
          <a:off x="1042920" y="2463840"/>
          <a:ext cx="7848360" cy="3557520"/>
        </p:xfrm>
        <a:graphic>
          <a:graphicData uri="http://schemas.openxmlformats.org/drawingml/2006/table">
            <a:tbl>
              <a:tblPr/>
              <a:tblGrid>
                <a:gridCol w="3671640"/>
                <a:gridCol w="4176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74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نظرية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74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نظرية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448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160200"/>
                          <a:tab algn="l" pos="388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- يحب الفرد العمل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160200"/>
                          <a:tab algn="l" pos="388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- ممارسة الرقابة الذاتي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160200"/>
                          <a:tab algn="l" pos="388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- يسعى الفرد إلى تحمل المسئولي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160200"/>
                          <a:tab algn="l" pos="388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- يفضل التوجيه الذاتي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160200"/>
                          <a:tab algn="l" pos="388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- طموحات عالية ودوافع للابتكار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160200"/>
                          <a:tab algn="l" pos="388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- يكون مدفوعاً للعمل أساساً نتيجة  للحوافز المعنوي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160200"/>
                          <a:tab algn="l" pos="388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- يرغب في الإثراء الوظيفي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274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1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 – يكره الفرد العمل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274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2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 – هناك ضرورة للرقابة اللصيقة المباشر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274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3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 – الفرد يتجنب المسئولي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274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4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 – يفضل التوجيه عن طريق الآخرين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274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5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 – لديه طموح قليل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274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6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 – يكون مدفوعاً للعمل نتيجة للحوافز المادية أو الاقتصادي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274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7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 – يفضل التخصص الدقيق في الوظيفة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cc"/>
                </a:solidFill>
                <a:latin typeface="Tahoma"/>
              </a:rPr>
              <a:t>نظريات الدوافع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40" name="PlaceHolder 2"/>
          <p:cNvSpPr>
            <a:spLocks noGrp="1"/>
          </p:cNvSpPr>
          <p:nvPr>
            <p:ph/>
          </p:nvPr>
        </p:nvSpPr>
        <p:spPr>
          <a:xfrm>
            <a:off x="1066680" y="2349360"/>
            <a:ext cx="7537680" cy="41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r" rtl="1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  <a:cs typeface="Simplified Arabic"/>
              </a:rPr>
              <a:t>نظرية دافع الإنجاز  ( ماكيلاند 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r" rtl="1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  <a:cs typeface="Simplified Arabic"/>
              </a:rPr>
              <a:t>نظرية العدالة (المساواة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cc"/>
                </a:solidFill>
                <a:latin typeface="Tahoma"/>
              </a:rPr>
              <a:t>أنواع الحوافز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42" name="PlaceHolder 2"/>
          <p:cNvSpPr>
            <a:spLocks noGrp="1"/>
          </p:cNvSpPr>
          <p:nvPr>
            <p:ph/>
          </p:nvPr>
        </p:nvSpPr>
        <p:spPr>
          <a:xfrm>
            <a:off x="1066680" y="2349360"/>
            <a:ext cx="7537680" cy="41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r" rtl="1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Simplified Arabic"/>
              </a:rPr>
              <a:t>الـحوافــز المادية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r" rtl="1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Simplified Arabic"/>
              </a:rPr>
              <a:t>الحـوافز المـعنوية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r" rtl="1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Simplified Arabic"/>
              </a:rPr>
              <a:t>الحوافز الفــرديـة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r" rtl="1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Simplified Arabic"/>
              </a:rPr>
              <a:t>الحوافـز الاجتماعية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r" rtl="1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ahoma"/>
                <a:cs typeface="Simplified Arabic"/>
              </a:rPr>
              <a:t>الحـوافز الايجابيــة والسلبيـة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/>
          </p:nvPr>
        </p:nvSpPr>
        <p:spPr>
          <a:xfrm>
            <a:off x="457200" y="2492280"/>
            <a:ext cx="8229600" cy="32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ffffff"/>
                </a:solidFill>
                <a:latin typeface="Times New Roman"/>
                <a:cs typeface="Motken noqta"/>
              </a:rPr>
              <a:t>الاتصالات الإدارية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 rtl="1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unication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0" y="404640"/>
            <a:ext cx="4140360" cy="1152720"/>
          </a:xfrm>
          <a:prstGeom prst="flowChartDelay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5" name=""/>
          <p:cNvSpPr/>
          <p:nvPr/>
        </p:nvSpPr>
        <p:spPr>
          <a:xfrm>
            <a:off x="216000" y="692280"/>
            <a:ext cx="277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cc3300"/>
                </a:solidFill>
                <a:latin typeface="Tahoma"/>
                <a:cs typeface="كبير 6"/>
              </a:rPr>
              <a:t>الفصل الثام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feec94"/>
                </a:solidFill>
                <a:latin typeface="Times New Roman"/>
                <a:cs typeface="Simplified Arabic"/>
              </a:rPr>
              <a:t>المحتويات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47" name="PlaceHolder 2"/>
          <p:cNvSpPr>
            <a:spLocks noGrp="1"/>
          </p:cNvSpPr>
          <p:nvPr>
            <p:ph/>
          </p:nvPr>
        </p:nvSpPr>
        <p:spPr>
          <a:xfrm>
            <a:off x="1066320" y="212256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تعريف الاتصال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عناصر الاتصال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أهداف الاتصال الإداري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أنواع الاتصالات الإداري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وسائل الاتصالات الإداري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خصائص الاتصال الفعال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معوقات الاتصال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e5e5ff"/>
                </a:solidFill>
                <a:latin typeface="Garamond"/>
              </a:rPr>
              <a:t>المدرسة الكلاسيكية (التقليدية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2004480"/>
            <a:ext cx="822312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Garamond"/>
                <a:cs typeface="Simplified Arabic"/>
              </a:rPr>
              <a:t>وهي تمثل المرحلة الأولى من التطور الإداري ، وهي تدعو بضرورة معاملة الإنسان على أنة شبيه بالآلة ويحفز بواسطة المكاسب المادية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Garamond"/>
                <a:cs typeface="Simplified Arabic"/>
              </a:rPr>
              <a:t>من روادها  ماكس ويبر -  فردريك تايلور 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feec94"/>
                </a:solidFill>
                <a:latin typeface="Times New Roman"/>
                <a:cs typeface="Simplified Arabic"/>
              </a:rPr>
              <a:t>مفهوم الاتصال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/>
          </p:nvPr>
        </p:nvSpPr>
        <p:spPr>
          <a:xfrm>
            <a:off x="457200" y="2165400"/>
            <a:ext cx="822960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Simplified Arabic"/>
              </a:rPr>
              <a:t>”عملية نقل المعلومات من شخص إلى آخر بهدف إيجاد نوع من التفاهم المتبادل بينهما“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feec94"/>
                </a:solidFill>
                <a:latin typeface="Times New Roman"/>
                <a:cs typeface="Simplified Arabic"/>
              </a:rPr>
              <a:t>عناصر الاتصال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7128000" y="2914560"/>
            <a:ext cx="1260360" cy="123516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2" name=""/>
          <p:cNvSpPr/>
          <p:nvPr/>
        </p:nvSpPr>
        <p:spPr>
          <a:xfrm flipH="1">
            <a:off x="6408720" y="3500280"/>
            <a:ext cx="719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3" name=""/>
          <p:cNvSpPr/>
          <p:nvPr/>
        </p:nvSpPr>
        <p:spPr>
          <a:xfrm>
            <a:off x="5148360" y="2914560"/>
            <a:ext cx="1260360" cy="123516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4" name=""/>
          <p:cNvSpPr/>
          <p:nvPr/>
        </p:nvSpPr>
        <p:spPr>
          <a:xfrm flipH="1">
            <a:off x="4427640" y="3500280"/>
            <a:ext cx="72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5" name=""/>
          <p:cNvSpPr/>
          <p:nvPr/>
        </p:nvSpPr>
        <p:spPr>
          <a:xfrm flipH="1">
            <a:off x="2411280" y="3500280"/>
            <a:ext cx="72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6" name=""/>
          <p:cNvSpPr/>
          <p:nvPr/>
        </p:nvSpPr>
        <p:spPr>
          <a:xfrm>
            <a:off x="3166920" y="2914560"/>
            <a:ext cx="1260720" cy="123516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7" name=""/>
          <p:cNvSpPr/>
          <p:nvPr/>
        </p:nvSpPr>
        <p:spPr>
          <a:xfrm>
            <a:off x="1187280" y="2914560"/>
            <a:ext cx="1260720" cy="123516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8" name=""/>
          <p:cNvSpPr/>
          <p:nvPr/>
        </p:nvSpPr>
        <p:spPr>
          <a:xfrm>
            <a:off x="6227640" y="2637000"/>
            <a:ext cx="108108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لتشوي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9" name=""/>
          <p:cNvSpPr/>
          <p:nvPr/>
        </p:nvSpPr>
        <p:spPr>
          <a:xfrm>
            <a:off x="7128000" y="3375000"/>
            <a:ext cx="126036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المرسل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0" name=""/>
          <p:cNvSpPr/>
          <p:nvPr/>
        </p:nvSpPr>
        <p:spPr>
          <a:xfrm>
            <a:off x="5148360" y="3375000"/>
            <a:ext cx="126036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الرسال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1" name=""/>
          <p:cNvSpPr/>
          <p:nvPr/>
        </p:nvSpPr>
        <p:spPr>
          <a:xfrm>
            <a:off x="3166920" y="3375000"/>
            <a:ext cx="126072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الوسيل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2" name=""/>
          <p:cNvSpPr/>
          <p:nvPr/>
        </p:nvSpPr>
        <p:spPr>
          <a:xfrm>
            <a:off x="1187280" y="3375000"/>
            <a:ext cx="12607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المستقبل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3" name=""/>
          <p:cNvSpPr/>
          <p:nvPr/>
        </p:nvSpPr>
        <p:spPr>
          <a:xfrm>
            <a:off x="1763640" y="4221000"/>
            <a:ext cx="0" cy="382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4" name=""/>
          <p:cNvSpPr/>
          <p:nvPr/>
        </p:nvSpPr>
        <p:spPr>
          <a:xfrm>
            <a:off x="1800360" y="4653000"/>
            <a:ext cx="594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5" name=""/>
          <p:cNvSpPr/>
          <p:nvPr/>
        </p:nvSpPr>
        <p:spPr>
          <a:xfrm flipV="1">
            <a:off x="7812000" y="4220640"/>
            <a:ext cx="0" cy="382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6" name=""/>
          <p:cNvSpPr/>
          <p:nvPr/>
        </p:nvSpPr>
        <p:spPr>
          <a:xfrm>
            <a:off x="2087640" y="4782960"/>
            <a:ext cx="522108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لتغذية الراجع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7" name=""/>
          <p:cNvSpPr/>
          <p:nvPr/>
        </p:nvSpPr>
        <p:spPr>
          <a:xfrm>
            <a:off x="2268360" y="2637000"/>
            <a:ext cx="108144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لتشوي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8" name=""/>
          <p:cNvSpPr/>
          <p:nvPr/>
        </p:nvSpPr>
        <p:spPr>
          <a:xfrm>
            <a:off x="4284720" y="2637000"/>
            <a:ext cx="108108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لتشوي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eec94"/>
                </a:solidFill>
                <a:latin typeface="Times New Roman"/>
              </a:rPr>
              <a:t>أهداف الاتصال الإداري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898560" y="2060280"/>
            <a:ext cx="792144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تعريف المرؤوسين بالأهداف والسياسات والبرامج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شرح وتفسير القواعد والإجراءات التنفيذي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متابعة الإنجا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تبادل المعلومات بين الوحدات الإداري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حث الأفراد ودفعهم للعمل والإنجا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تأكيد وتعزيز علاقات العمل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eec94"/>
                </a:solidFill>
                <a:latin typeface="Times New Roman"/>
              </a:rPr>
              <a:t>أنواع الاتصال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/>
          </p:nvPr>
        </p:nvSpPr>
        <p:spPr>
          <a:xfrm>
            <a:off x="898560" y="2060280"/>
            <a:ext cx="792144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لاتصال الشفهي والاتصال الكتابي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لاتصال الرسمي والاتصال غير الرسمي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لاتصال النازل والاتصال الصاع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"/>
          <p:cNvSpPr/>
          <p:nvPr/>
        </p:nvSpPr>
        <p:spPr>
          <a:xfrm>
            <a:off x="1171440" y="2381400"/>
            <a:ext cx="7361280" cy="4071960"/>
          </a:xfrm>
          <a:prstGeom prst="rect">
            <a:avLst/>
          </a:prstGeom>
          <a:solidFill>
            <a:srgbClr val="ffcccc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eec94"/>
                </a:solidFill>
                <a:latin typeface="Times New Roman"/>
              </a:rPr>
              <a:t>أنواع الاتصال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3892680" y="2906640"/>
            <a:ext cx="2239920" cy="59364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رئيس مجلس الإدار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6" name=""/>
          <p:cNvSpPr/>
          <p:nvPr/>
        </p:nvSpPr>
        <p:spPr>
          <a:xfrm>
            <a:off x="3892680" y="4095720"/>
            <a:ext cx="2239920" cy="59364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المدير العا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7" name=""/>
          <p:cNvSpPr/>
          <p:nvPr/>
        </p:nvSpPr>
        <p:spPr>
          <a:xfrm>
            <a:off x="6292800" y="5473800"/>
            <a:ext cx="1760760" cy="59364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مدير إدارة التسوي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8" name=""/>
          <p:cNvSpPr/>
          <p:nvPr/>
        </p:nvSpPr>
        <p:spPr>
          <a:xfrm>
            <a:off x="3892680" y="5484960"/>
            <a:ext cx="1919160" cy="59364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مدير الشئون المالي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9" name=""/>
          <p:cNvSpPr/>
          <p:nvPr/>
        </p:nvSpPr>
        <p:spPr>
          <a:xfrm>
            <a:off x="1647720" y="5484960"/>
            <a:ext cx="1758960" cy="59364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مدير إدارة الإنتاج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0" name=""/>
          <p:cNvSpPr/>
          <p:nvPr/>
        </p:nvSpPr>
        <p:spPr>
          <a:xfrm>
            <a:off x="8211960" y="3173400"/>
            <a:ext cx="3240" cy="3170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1" name=""/>
          <p:cNvSpPr/>
          <p:nvPr/>
        </p:nvSpPr>
        <p:spPr>
          <a:xfrm>
            <a:off x="1492200" y="2906640"/>
            <a:ext cx="1800" cy="3170160"/>
          </a:xfrm>
          <a:prstGeom prst="line">
            <a:avLst/>
          </a:prstGeom>
          <a:ln w="38160">
            <a:solidFill>
              <a:srgbClr val="9933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2" name=""/>
          <p:cNvSpPr/>
          <p:nvPr/>
        </p:nvSpPr>
        <p:spPr>
          <a:xfrm>
            <a:off x="5011560" y="3500280"/>
            <a:ext cx="3240" cy="595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3" name=""/>
          <p:cNvSpPr/>
          <p:nvPr/>
        </p:nvSpPr>
        <p:spPr>
          <a:xfrm>
            <a:off x="5011560" y="4689360"/>
            <a:ext cx="324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4" name=""/>
          <p:cNvSpPr/>
          <p:nvPr/>
        </p:nvSpPr>
        <p:spPr>
          <a:xfrm flipH="1">
            <a:off x="5811840" y="5878440"/>
            <a:ext cx="48096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5" name=""/>
          <p:cNvSpPr/>
          <p:nvPr/>
        </p:nvSpPr>
        <p:spPr>
          <a:xfrm flipH="1">
            <a:off x="3411000" y="5878440"/>
            <a:ext cx="48132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6" name=""/>
          <p:cNvSpPr/>
          <p:nvPr/>
        </p:nvSpPr>
        <p:spPr>
          <a:xfrm flipV="1">
            <a:off x="3411360" y="3500280"/>
            <a:ext cx="481320" cy="198144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7" name=""/>
          <p:cNvSpPr/>
          <p:nvPr/>
        </p:nvSpPr>
        <p:spPr>
          <a:xfrm>
            <a:off x="8211960" y="2708280"/>
            <a:ext cx="3240" cy="3368520"/>
          </a:xfrm>
          <a:prstGeom prst="line">
            <a:avLst/>
          </a:prstGeom>
          <a:ln w="38160">
            <a:solidFill>
              <a:srgbClr val="8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8" name=""/>
          <p:cNvSpPr/>
          <p:nvPr/>
        </p:nvSpPr>
        <p:spPr>
          <a:xfrm>
            <a:off x="5276880" y="3625920"/>
            <a:ext cx="160020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الاتصالات الرسمي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9" name=""/>
          <p:cNvSpPr/>
          <p:nvPr/>
        </p:nvSpPr>
        <p:spPr>
          <a:xfrm>
            <a:off x="1650960" y="4670280"/>
            <a:ext cx="192096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الاتصالات غير الرسمي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0" name=""/>
          <p:cNvSpPr/>
          <p:nvPr/>
        </p:nvSpPr>
        <p:spPr>
          <a:xfrm>
            <a:off x="7253280" y="2490840"/>
            <a:ext cx="958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الاتصالات النازل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1" name=""/>
          <p:cNvSpPr/>
          <p:nvPr/>
        </p:nvSpPr>
        <p:spPr>
          <a:xfrm>
            <a:off x="1492200" y="2562120"/>
            <a:ext cx="191916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Simplified Arabic"/>
              </a:rPr>
              <a:t>الاتصالات الصاعد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eec94"/>
                </a:solidFill>
                <a:latin typeface="Times New Roman"/>
              </a:rPr>
              <a:t>وسائل الاتصال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1066680" y="2349360"/>
            <a:ext cx="7537680" cy="41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r" rtl="1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لتعليمات والقرارات وقواعد العمل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r" rtl="1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لتقارير المالية والسنوي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r" rtl="1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مجلات ونشرات العمال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r" rtl="1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لإعلانات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r" rtl="1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لكتيبات والأدل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r" rtl="1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لندوات والاجتماعات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r" rtl="1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لخطابات و التقاري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r" rtl="1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لوسائل السمعية والمرئي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r" rtl="1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لهاتف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r" rtl="1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للجان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r" rtl="1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لشبكات الحاسوبية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eec94"/>
                </a:solidFill>
                <a:latin typeface="Times New Roman"/>
              </a:rPr>
              <a:t>معوقات الاتصال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95" name="PlaceHolder 2"/>
          <p:cNvSpPr>
            <a:spLocks noGrp="1"/>
          </p:cNvSpPr>
          <p:nvPr>
            <p:ph/>
          </p:nvPr>
        </p:nvSpPr>
        <p:spPr>
          <a:xfrm>
            <a:off x="1066680" y="2349360"/>
            <a:ext cx="7537680" cy="41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لغة الاتصال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موضوع الاتصال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عنصر الوقت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لعوامل التنظيمي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لعوامل الاجتماعي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PlaceHolder 1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2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5400" spc="-1" strike="noStrike">
                <a:solidFill>
                  <a:srgbClr val="ffffff"/>
                </a:solidFill>
                <a:latin typeface="Garamond"/>
                <a:cs typeface="Motken noqta"/>
              </a:rPr>
              <a:t>الرقابة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 rtl="1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rol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7" name=""/>
          <p:cNvSpPr/>
          <p:nvPr/>
        </p:nvSpPr>
        <p:spPr>
          <a:xfrm>
            <a:off x="0" y="404640"/>
            <a:ext cx="4140360" cy="1152720"/>
          </a:xfrm>
          <a:prstGeom prst="flowChartDelay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8" name=""/>
          <p:cNvSpPr/>
          <p:nvPr/>
        </p:nvSpPr>
        <p:spPr>
          <a:xfrm>
            <a:off x="216000" y="692280"/>
            <a:ext cx="277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cc3300"/>
                </a:solidFill>
                <a:latin typeface="Tahoma"/>
                <a:cs typeface="كبير 6"/>
              </a:rPr>
              <a:t>الفصل التاس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ffccff"/>
                </a:solidFill>
                <a:latin typeface="Garamond"/>
                <a:cs typeface="Simplified Arabic"/>
              </a:rPr>
              <a:t>المحتويات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00" name="PlaceHolder 2"/>
          <p:cNvSpPr>
            <a:spLocks noGrp="1"/>
          </p:cNvSpPr>
          <p:nvPr>
            <p:ph/>
          </p:nvPr>
        </p:nvSpPr>
        <p:spPr>
          <a:xfrm>
            <a:off x="1066320" y="212256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Garamond"/>
                <a:cs typeface="Simplified Arabic"/>
              </a:rPr>
              <a:t>مفهوم الرقابة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Garamond"/>
                <a:cs typeface="Simplified Arabic"/>
              </a:rPr>
              <a:t>فوائد الرقابة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Garamond"/>
                <a:cs typeface="Simplified Arabic"/>
              </a:rPr>
              <a:t>خطوات الرقابة الإدارية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Garamond"/>
                <a:cs typeface="Simplified Arabic"/>
              </a:rPr>
              <a:t>أنواع الرقابة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ffff"/>
                </a:solidFill>
                <a:latin typeface="Garamond"/>
                <a:cs typeface="Simplified Arabic"/>
              </a:rPr>
              <a:t>خصائص الرقابة الفعالة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ffccff"/>
                </a:solidFill>
                <a:latin typeface="Garamond"/>
                <a:cs typeface="Simplified Arabic"/>
              </a:rPr>
              <a:t>مفهوم الرقابة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02" name="PlaceHolder 2"/>
          <p:cNvSpPr>
            <a:spLocks noGrp="1"/>
          </p:cNvSpPr>
          <p:nvPr>
            <p:ph/>
          </p:nvPr>
        </p:nvSpPr>
        <p:spPr>
          <a:xfrm>
            <a:off x="457200" y="2161800"/>
            <a:ext cx="8229600" cy="21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  <a:ea typeface="Simplified Arabic"/>
              </a:rPr>
              <a:t>”التأكــد من أن كـل شي  في المنظمة يـتم وفق الخطـط الموضـوعة, والتعليمـات الصـادرة, والمبادئ المعتمـدة“ وذلك لـهدف كـشف مـواطـن الضعـف وتصحيحـهـا“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e5e5ff"/>
                </a:solidFill>
                <a:latin typeface="Garamond"/>
              </a:rPr>
              <a:t>مدرسة العلاقات الإنسانية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1042920" y="2349000"/>
            <a:ext cx="7561440" cy="32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Garamond"/>
                <a:cs typeface="Simplified Arabic"/>
              </a:rPr>
              <a:t>تعارض الاتجاه التقليدي 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Garamond"/>
                <a:cs typeface="Simplified Arabic"/>
              </a:rPr>
              <a:t>نادى بها ، ماري فوليت ، وسايمون ، و ألتون مايو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Garamond"/>
                <a:cs typeface="Simplified Arabic"/>
              </a:rPr>
              <a:t>اعتبرت الإنسان من أهم عناصر الإدارة 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Garamond"/>
                <a:cs typeface="Simplified Arabic"/>
              </a:rPr>
              <a:t>اهتمت بالروح المعنوية للعاملين 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ccff"/>
                </a:solidFill>
                <a:latin typeface="Garamond"/>
              </a:rPr>
              <a:t>فوائد الرقابة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/>
          </p:nvPr>
        </p:nvSpPr>
        <p:spPr>
          <a:xfrm>
            <a:off x="898560" y="2060280"/>
            <a:ext cx="792144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Garamond"/>
                <a:cs typeface="Simplified Arabic"/>
              </a:rPr>
              <a:t>فوائد الرقابة للمنظمة 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Garamond"/>
                <a:ea typeface="Simplified Arabic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Garamond"/>
                <a:ea typeface="Simplified Arabic"/>
              </a:rPr>
              <a:t>-التأكد من مدى تحقيق الأهـداف العامـة والفرعية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Garamond"/>
                <a:ea typeface="Simplified Arabic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Garamond"/>
                <a:ea typeface="Simplified Arabic"/>
              </a:rPr>
              <a:t>-التأكد من مدى مطـابقـة الأداء الفعلـي للخطط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Garamond"/>
                <a:ea typeface="Simplified Arabic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Garamond"/>
                <a:ea typeface="Simplified Arabic"/>
              </a:rPr>
              <a:t>-اكتشاف الانحرافات السلبية تمهيدا لمعالجتها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Garamond"/>
                <a:ea typeface="Simplified Arabic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Garamond"/>
                <a:ea typeface="Simplified Arabic"/>
              </a:rPr>
              <a:t>-التأكد من مدى مناسبة كل من الموارد البشرية والمادية لمتطلبات الخطط نوعا ووقتا.        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Garamond"/>
                <a:ea typeface="Simplified Arabic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Garamond"/>
                <a:ea typeface="Simplified Arabic"/>
              </a:rPr>
              <a:t>-التأكد من الاستخدام  الكفء لكل الموارد المتاحة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Garamond"/>
                <a:ea typeface="Simplified Arabic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Garamond"/>
                <a:ea typeface="Simplified Arabic"/>
              </a:rPr>
              <a:t>-التأكد من أن الاداء التنفيذي يسير وفقا للإجراءات  التفصيلية .</a:t>
            </a:r>
            <a:r>
              <a:rPr b="0" lang="ar-SA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ccff"/>
                </a:solidFill>
                <a:latin typeface="Garamond"/>
              </a:rPr>
              <a:t>فوائد الرقابة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06" name=""/>
          <p:cNvSpPr/>
          <p:nvPr/>
        </p:nvSpPr>
        <p:spPr>
          <a:xfrm>
            <a:off x="898560" y="2060640"/>
            <a:ext cx="7921440" cy="44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فوائد الرقابة للأفراد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 rtl="1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طمئنان العامل  الكفء لعدالة عملية المراقبة عند تقييم أدائه الفعلي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اطمئنان العامل المقصر لعدالة عملية المراقبة عند تقييم أدائه الفعلي لإتاحة الفرصة لتجديد مهارته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r" rtl="1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cs typeface="Simplified Arabic"/>
              </a:rPr>
              <a:t>حفظ الحقوق لأفراد جمهور المتعاملين مع المنظمة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ccff"/>
                </a:solidFill>
                <a:latin typeface="Garamond"/>
              </a:rPr>
              <a:t>خطوات الرقابة الإدارية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08" name=""/>
          <p:cNvSpPr/>
          <p:nvPr/>
        </p:nvSpPr>
        <p:spPr>
          <a:xfrm>
            <a:off x="6424560" y="2071800"/>
            <a:ext cx="2622600" cy="865080"/>
          </a:xfrm>
          <a:prstGeom prst="roundRect">
            <a:avLst>
              <a:gd name="adj" fmla="val 16667"/>
            </a:avLst>
          </a:prstGeom>
          <a:solidFill>
            <a:srgbClr val="0099cc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Arial"/>
                <a:cs typeface="PT Bold Heading"/>
              </a:rPr>
              <a:t>وضع المعايير الرقابي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9" name=""/>
          <p:cNvSpPr/>
          <p:nvPr/>
        </p:nvSpPr>
        <p:spPr>
          <a:xfrm>
            <a:off x="5622840" y="2976480"/>
            <a:ext cx="2478240" cy="865440"/>
          </a:xfrm>
          <a:prstGeom prst="roundRect">
            <a:avLst>
              <a:gd name="adj" fmla="val 16667"/>
            </a:avLst>
          </a:prstGeom>
          <a:solidFill>
            <a:srgbClr val="808000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Arial"/>
                <a:cs typeface="PT Bold Heading"/>
              </a:rPr>
              <a:t>قياس الأداء الفعل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0" name=""/>
          <p:cNvSpPr/>
          <p:nvPr/>
        </p:nvSpPr>
        <p:spPr>
          <a:xfrm>
            <a:off x="4284720" y="3879720"/>
            <a:ext cx="2663640" cy="865440"/>
          </a:xfrm>
          <a:prstGeom prst="roundRect">
            <a:avLst>
              <a:gd name="adj" fmla="val 16667"/>
            </a:avLst>
          </a:prstGeom>
          <a:solidFill>
            <a:srgbClr val="339966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Arial"/>
                <a:cs typeface="PT Bold Heading"/>
              </a:rPr>
              <a:t>تصويب الانحرافات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1" name=""/>
          <p:cNvSpPr/>
          <p:nvPr/>
        </p:nvSpPr>
        <p:spPr>
          <a:xfrm>
            <a:off x="2895480" y="4797360"/>
            <a:ext cx="2684520" cy="865080"/>
          </a:xfrm>
          <a:prstGeom prst="roundRect">
            <a:avLst>
              <a:gd name="adj" fmla="val 16667"/>
            </a:avLst>
          </a:prstGeom>
          <a:solidFill>
            <a:srgbClr val="993366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Arial"/>
                <a:cs typeface="PT Bold Heading"/>
              </a:rPr>
              <a:t>اقتراح الحلول البديل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2" name=""/>
          <p:cNvSpPr/>
          <p:nvPr/>
        </p:nvSpPr>
        <p:spPr>
          <a:xfrm>
            <a:off x="1441440" y="5703840"/>
            <a:ext cx="2843280" cy="86508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Arial"/>
                <a:cs typeface="PT Bold Heading"/>
              </a:rPr>
              <a:t>المتابع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ff"/>
                </a:solidFill>
                <a:latin typeface="Garamond"/>
              </a:rPr>
              <a:t>1</a:t>
            </a:r>
            <a:r>
              <a:rPr b="1" lang="en-US" sz="4400" spc="-1" strike="noStrike">
                <a:solidFill>
                  <a:srgbClr val="ffccff"/>
                </a:solidFill>
                <a:latin typeface="Garamond"/>
              </a:rPr>
              <a:t>- وضع المعايير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4" name="PlaceHolder 2"/>
          <p:cNvSpPr>
            <a:spLocks noGrp="1"/>
          </p:cNvSpPr>
          <p:nvPr>
            <p:ph/>
          </p:nvPr>
        </p:nvSpPr>
        <p:spPr>
          <a:xfrm>
            <a:off x="898560" y="2060280"/>
            <a:ext cx="792144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cccc"/>
                </a:solidFill>
                <a:latin typeface="Garamond"/>
                <a:cs typeface="Simplified Arabic"/>
              </a:rPr>
              <a:t>معايير مادية ملموسة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Garamond"/>
                <a:cs typeface="Simplified Arabic"/>
              </a:rPr>
              <a:t>مقاييس كمية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Garamond"/>
                <a:cs typeface="Simplified Arabic"/>
              </a:rPr>
              <a:t>مقاييس مالية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cccc"/>
                </a:solidFill>
                <a:latin typeface="Garamond"/>
                <a:cs typeface="Simplified Arabic"/>
              </a:rPr>
              <a:t>معايير غير مادية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Garamond"/>
                <a:cs typeface="Simplified Arabic"/>
              </a:rPr>
              <a:t>فئة الموظفين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Garamond"/>
                <a:cs typeface="Simplified Arabic"/>
              </a:rPr>
              <a:t>فئة المستهلكين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 algn="r" rtl="1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Garamond"/>
                <a:cs typeface="Simplified Arabic"/>
              </a:rPr>
              <a:t>فئة الموردين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ff"/>
                </a:solidFill>
                <a:latin typeface="Garamond"/>
              </a:rPr>
              <a:t>2</a:t>
            </a:r>
            <a:r>
              <a:rPr b="1" lang="en-US" sz="4400" spc="-1" strike="noStrike">
                <a:solidFill>
                  <a:srgbClr val="ffccff"/>
                </a:solidFill>
                <a:latin typeface="Garamond"/>
              </a:rPr>
              <a:t>- قياس الأداء الفعلي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6" name="PlaceHolder 2"/>
          <p:cNvSpPr>
            <a:spLocks noGrp="1"/>
          </p:cNvSpPr>
          <p:nvPr>
            <p:ph/>
          </p:nvPr>
        </p:nvSpPr>
        <p:spPr>
          <a:xfrm>
            <a:off x="898560" y="2060280"/>
            <a:ext cx="792144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cccc"/>
                </a:solidFill>
                <a:latin typeface="Garamond"/>
                <a:cs typeface="Simplified Arabic"/>
              </a:rPr>
              <a:t>مراعاة نطاق الإشراف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cccc"/>
                </a:solidFill>
                <a:latin typeface="Garamond"/>
                <a:cs typeface="Simplified Arabic"/>
              </a:rPr>
              <a:t>مدى تفهم المرؤوسين لأهداف المراقبة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cccc"/>
                </a:solidFill>
                <a:latin typeface="Garamond"/>
                <a:cs typeface="Simplified Arabic"/>
              </a:rPr>
              <a:t>أن يكون هناك حداً للخطأ المسموح به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7" name=""/>
          <p:cNvGrpSpPr/>
          <p:nvPr/>
        </p:nvGrpSpPr>
        <p:grpSpPr>
          <a:xfrm>
            <a:off x="2819520" y="3657600"/>
            <a:ext cx="4543200" cy="698040"/>
            <a:chOff x="2819520" y="3657600"/>
            <a:chExt cx="4543200" cy="698040"/>
          </a:xfrm>
        </p:grpSpPr>
        <p:sp>
          <p:nvSpPr>
            <p:cNvPr id="1518" name=""/>
            <p:cNvSpPr/>
            <p:nvPr/>
          </p:nvSpPr>
          <p:spPr>
            <a:xfrm>
              <a:off x="2819520" y="3993480"/>
              <a:ext cx="4543200" cy="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7362720" y="3984480"/>
              <a:ext cx="0" cy="35640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2824560" y="3999240"/>
              <a:ext cx="0" cy="35640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5103360" y="3657600"/>
              <a:ext cx="0" cy="35676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ff"/>
                </a:solidFill>
                <a:latin typeface="Garamond"/>
              </a:rPr>
              <a:t>3</a:t>
            </a:r>
            <a:r>
              <a:rPr b="1" lang="en-US" sz="4400" spc="-1" strike="noStrike">
                <a:solidFill>
                  <a:srgbClr val="ffccff"/>
                </a:solidFill>
                <a:latin typeface="Garamond"/>
              </a:rPr>
              <a:t>- تصويب الانحرافات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23" name=""/>
          <p:cNvSpPr/>
          <p:nvPr/>
        </p:nvSpPr>
        <p:spPr>
          <a:xfrm>
            <a:off x="6393600" y="4419720"/>
            <a:ext cx="192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cccc"/>
                </a:solidFill>
                <a:latin typeface="Tahoma"/>
                <a:cs typeface="Simplified Arabic"/>
              </a:rPr>
              <a:t>نتائج إيجابي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4" name=""/>
          <p:cNvSpPr/>
          <p:nvPr/>
        </p:nvSpPr>
        <p:spPr>
          <a:xfrm>
            <a:off x="1890000" y="4419720"/>
            <a:ext cx="180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cccc"/>
                </a:solidFill>
                <a:latin typeface="Tahoma"/>
                <a:cs typeface="Simplified Arabic"/>
              </a:rPr>
              <a:t>نتائج سلبي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5" name=""/>
          <p:cNvSpPr/>
          <p:nvPr/>
        </p:nvSpPr>
        <p:spPr>
          <a:xfrm>
            <a:off x="1676520" y="502920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ahoma"/>
                <a:cs typeface="Simplified Arabic"/>
              </a:rPr>
              <a:t>وهي التي تنتج من انحراف التنفيذ الفعلي عن المعايير الكمية والوصفية المقررة </a:t>
            </a:r>
            <a:r>
              <a:rPr b="1" lang="en-US" sz="1800" spc="-1" strike="noStrike">
                <a:solidFill>
                  <a:srgbClr val="ffffff"/>
                </a:solidFill>
                <a:latin typeface="AL-Mohanad"/>
                <a:ea typeface="Simplified Arabic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6" name=""/>
          <p:cNvSpPr/>
          <p:nvPr/>
        </p:nvSpPr>
        <p:spPr>
          <a:xfrm>
            <a:off x="6019920" y="5029200"/>
            <a:ext cx="2562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ahoma"/>
                <a:cs typeface="Simplified Arabic"/>
              </a:rPr>
              <a:t>وهي التي تنتج من مطابقة التنفيذ الفعلي للمعايير الكمية والوصفية المقررة</a:t>
            </a:r>
            <a:r>
              <a:rPr b="1" lang="en-US" sz="1800" spc="-1" strike="noStrike">
                <a:solidFill>
                  <a:srgbClr val="ffffff"/>
                </a:solidFill>
                <a:latin typeface="AL-Mohanad"/>
                <a:ea typeface="Simplified Arabic"/>
              </a:rPr>
              <a:t>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7" name=""/>
          <p:cNvSpPr/>
          <p:nvPr/>
        </p:nvSpPr>
        <p:spPr>
          <a:xfrm>
            <a:off x="0" y="24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8" name=""/>
          <p:cNvSpPr/>
          <p:nvPr/>
        </p:nvSpPr>
        <p:spPr>
          <a:xfrm>
            <a:off x="3733920" y="2940120"/>
            <a:ext cx="2743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ccff"/>
                </a:solidFill>
                <a:latin typeface="Arial"/>
                <a:cs typeface="Simplified Arabic"/>
              </a:rPr>
              <a:t>نتائج القياس الفعل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ccff"/>
                </a:solidFill>
                <a:latin typeface="Garamond"/>
              </a:rPr>
              <a:t>باقي خطوات الرقابة الإدارية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30" name="PlaceHolder 2"/>
          <p:cNvSpPr>
            <a:spLocks noGrp="1"/>
          </p:cNvSpPr>
          <p:nvPr>
            <p:ph/>
          </p:nvPr>
        </p:nvSpPr>
        <p:spPr>
          <a:xfrm>
            <a:off x="898560" y="2060280"/>
            <a:ext cx="792144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Garamond"/>
                <a:ea typeface="Simplified Arabic"/>
              </a:rPr>
              <a:t>4</a:t>
            </a:r>
            <a:r>
              <a:rPr b="1" lang="ar-SA" sz="3200" spc="-1" strike="noStrike">
                <a:solidFill>
                  <a:srgbClr val="ffffff"/>
                </a:solidFill>
                <a:latin typeface="Garamond"/>
                <a:ea typeface="Simplified Arabic"/>
              </a:rPr>
              <a:t>- اقتراح الحلول البديلة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Garamond"/>
                <a:ea typeface="Simplified Arabic"/>
              </a:rPr>
              <a:t>5</a:t>
            </a:r>
            <a:r>
              <a:rPr b="1" lang="ar-SA" sz="3200" spc="-1" strike="noStrike">
                <a:solidFill>
                  <a:srgbClr val="ffffff"/>
                </a:solidFill>
                <a:latin typeface="Garamond"/>
                <a:ea typeface="Simplified Arabic"/>
              </a:rPr>
              <a:t>- المتابعة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ccff"/>
                </a:solidFill>
                <a:latin typeface="Garamond"/>
              </a:rPr>
              <a:t>أنواع الرقابة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32" name=""/>
          <p:cNvSpPr/>
          <p:nvPr/>
        </p:nvSpPr>
        <p:spPr>
          <a:xfrm rot="9418200">
            <a:off x="5367240" y="3260160"/>
            <a:ext cx="1231920" cy="1106280"/>
          </a:xfrm>
          <a:prstGeom prst="flowChartDisplay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3" name=""/>
          <p:cNvSpPr/>
          <p:nvPr/>
        </p:nvSpPr>
        <p:spPr>
          <a:xfrm rot="18444000">
            <a:off x="3628800" y="4458960"/>
            <a:ext cx="1108080" cy="1231920"/>
          </a:xfrm>
          <a:prstGeom prst="flowChartDisplay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4" name=""/>
          <p:cNvSpPr/>
          <p:nvPr/>
        </p:nvSpPr>
        <p:spPr>
          <a:xfrm rot="14068800">
            <a:off x="4998960" y="4451400"/>
            <a:ext cx="1108080" cy="1231920"/>
          </a:xfrm>
          <a:prstGeom prst="flowChartDisplay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5" name=""/>
          <p:cNvSpPr/>
          <p:nvPr/>
        </p:nvSpPr>
        <p:spPr>
          <a:xfrm rot="1359600">
            <a:off x="3165120" y="3295440"/>
            <a:ext cx="1231920" cy="1106280"/>
          </a:xfrm>
          <a:prstGeom prst="flowChartDisplay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6" name=""/>
          <p:cNvSpPr/>
          <p:nvPr/>
        </p:nvSpPr>
        <p:spPr>
          <a:xfrm rot="5319000">
            <a:off x="4300200" y="2609640"/>
            <a:ext cx="1108080" cy="1231920"/>
          </a:xfrm>
          <a:prstGeom prst="flowChartDisplay">
            <a:avLst/>
          </a:prstGeom>
          <a:solidFill>
            <a:srgbClr val="0099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7" name=""/>
          <p:cNvSpPr/>
          <p:nvPr/>
        </p:nvSpPr>
        <p:spPr>
          <a:xfrm>
            <a:off x="4067280" y="3500280"/>
            <a:ext cx="1643040" cy="147636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8" name=""/>
          <p:cNvSpPr txBox="1"/>
          <p:nvPr/>
        </p:nvSpPr>
        <p:spPr>
          <a:xfrm>
            <a:off x="4316400" y="2759040"/>
            <a:ext cx="1042920" cy="70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DecoType Naskh Variants"/>
              </a:rPr>
              <a:t>توقيت أداء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DecoType Naskh Variants"/>
              <a:ea typeface="DecoType Naskh Variant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DecoType Naskh Variants"/>
              </a:rPr>
              <a:t> </a:t>
            </a:r>
            <a:r>
              <a:rPr b="0" lang="hi-IN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DecoType Naskh Variants"/>
              </a:rPr>
              <a:t>الرقابة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DecoType Naskh Variants"/>
              <a:ea typeface="DecoType Naskh Variants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383000" y="4014720"/>
            <a:ext cx="1042920" cy="4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Normal"/>
              </a:rPr>
              <a:t>معايير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Normal"/>
              <a:ea typeface="HeshamNorm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Normal"/>
              </a:rPr>
              <a:t>التصنيف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Normal"/>
              <a:ea typeface="HeshamNormal"/>
            </a:endParaRPr>
          </a:p>
        </p:txBody>
      </p:sp>
      <p:sp>
        <p:nvSpPr>
          <p:cNvPr id="1540" name=""/>
          <p:cNvSpPr txBox="1"/>
          <p:nvPr/>
        </p:nvSpPr>
        <p:spPr>
          <a:xfrm rot="3951600">
            <a:off x="5542920" y="3449520"/>
            <a:ext cx="938160" cy="662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DecoType Naskh Variants"/>
              </a:rPr>
              <a:t>الأنشطة محل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DecoType Naskh Variants"/>
              <a:ea typeface="DecoType Naskh Variants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DecoType Naskh Variants"/>
              </a:rPr>
              <a:t>الرقابة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DecoType Naskh Variants"/>
              <a:ea typeface="DecoType Naskh Variants"/>
            </a:endParaRPr>
          </a:p>
        </p:txBody>
      </p:sp>
      <p:sp>
        <p:nvSpPr>
          <p:cNvPr id="1541" name=""/>
          <p:cNvSpPr txBox="1"/>
          <p:nvPr/>
        </p:nvSpPr>
        <p:spPr>
          <a:xfrm rot="17789400">
            <a:off x="3304440" y="3578760"/>
            <a:ext cx="938160" cy="63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DecoType Naskh Variants"/>
              </a:rPr>
              <a:t>الهدف من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DecoType Naskh Variants"/>
              <a:ea typeface="DecoType Naskh Variants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DecoType Naskh Variants"/>
              </a:rPr>
              <a:t>الرقابة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DecoType Naskh Variants"/>
              <a:ea typeface="DecoType Naskh Variants"/>
            </a:endParaRPr>
          </a:p>
        </p:txBody>
      </p:sp>
      <p:sp>
        <p:nvSpPr>
          <p:cNvPr id="1542" name=""/>
          <p:cNvSpPr txBox="1"/>
          <p:nvPr/>
        </p:nvSpPr>
        <p:spPr>
          <a:xfrm rot="13074000">
            <a:off x="3665520" y="4862160"/>
            <a:ext cx="96696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DecoType Naskh Variants"/>
              </a:rPr>
              <a:t>الجهة الت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DecoType Naskh Variants"/>
              <a:ea typeface="DecoType Naskh Variants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DecoType Naskh Variants"/>
              </a:rPr>
              <a:t>تقوم بـالرقاب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DecoType Naskh Variants"/>
              <a:ea typeface="DecoType Naskh Variants"/>
            </a:endParaRPr>
          </a:p>
        </p:txBody>
      </p:sp>
      <p:sp>
        <p:nvSpPr>
          <p:cNvPr id="1543" name=""/>
          <p:cNvSpPr txBox="1"/>
          <p:nvPr/>
        </p:nvSpPr>
        <p:spPr>
          <a:xfrm rot="8577600">
            <a:off x="5067000" y="4846680"/>
            <a:ext cx="104292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DecoType Naskh Variants"/>
              </a:rPr>
              <a:t>النظام الذي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DecoType Naskh Variants"/>
              <a:ea typeface="DecoType Naskh Variants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DecoType Naskh Variants"/>
              </a:rPr>
              <a:t>يطبق به الرقابة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DecoType Naskh Variants"/>
              <a:ea typeface="DecoType Naskh Variants"/>
            </a:endParaRPr>
          </a:p>
        </p:txBody>
      </p:sp>
      <p:grpSp>
        <p:nvGrpSpPr>
          <p:cNvPr id="1544" name=""/>
          <p:cNvGrpSpPr/>
          <p:nvPr/>
        </p:nvGrpSpPr>
        <p:grpSpPr>
          <a:xfrm>
            <a:off x="3807000" y="2257560"/>
            <a:ext cx="2215800" cy="350640"/>
            <a:chOff x="3807000" y="2257560"/>
            <a:chExt cx="2215800" cy="350640"/>
          </a:xfrm>
        </p:grpSpPr>
        <p:sp>
          <p:nvSpPr>
            <p:cNvPr id="1545" name=""/>
            <p:cNvSpPr/>
            <p:nvPr/>
          </p:nvSpPr>
          <p:spPr>
            <a:xfrm>
              <a:off x="3807000" y="2608200"/>
              <a:ext cx="2215800" cy="0"/>
            </a:xfrm>
            <a:prstGeom prst="line">
              <a:avLst/>
            </a:prstGeom>
            <a:ln w="2844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6" name=""/>
            <p:cNvSpPr/>
            <p:nvPr/>
          </p:nvSpPr>
          <p:spPr>
            <a:xfrm flipV="1">
              <a:off x="6022800" y="2257560"/>
              <a:ext cx="0" cy="350640"/>
            </a:xfrm>
            <a:prstGeom prst="line">
              <a:avLst/>
            </a:prstGeom>
            <a:ln w="28440">
              <a:solidFill>
                <a:srgbClr val="ff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7" name=""/>
            <p:cNvSpPr/>
            <p:nvPr/>
          </p:nvSpPr>
          <p:spPr>
            <a:xfrm flipV="1">
              <a:off x="3807000" y="2257560"/>
              <a:ext cx="0" cy="350640"/>
            </a:xfrm>
            <a:prstGeom prst="line">
              <a:avLst/>
            </a:prstGeom>
            <a:ln w="28440">
              <a:solidFill>
                <a:srgbClr val="ff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8" name=""/>
            <p:cNvSpPr/>
            <p:nvPr/>
          </p:nvSpPr>
          <p:spPr>
            <a:xfrm flipV="1">
              <a:off x="4849560" y="2257560"/>
              <a:ext cx="0" cy="350640"/>
            </a:xfrm>
            <a:prstGeom prst="line">
              <a:avLst/>
            </a:prstGeom>
            <a:ln w="28440">
              <a:solidFill>
                <a:srgbClr val="ff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49" name=""/>
          <p:cNvGrpSpPr/>
          <p:nvPr/>
        </p:nvGrpSpPr>
        <p:grpSpPr>
          <a:xfrm>
            <a:off x="6248520" y="2612880"/>
            <a:ext cx="1157040" cy="1982880"/>
            <a:chOff x="6248520" y="2612880"/>
            <a:chExt cx="1157040" cy="1982880"/>
          </a:xfrm>
        </p:grpSpPr>
        <p:sp>
          <p:nvSpPr>
            <p:cNvPr id="1550" name=""/>
            <p:cNvSpPr/>
            <p:nvPr/>
          </p:nvSpPr>
          <p:spPr>
            <a:xfrm>
              <a:off x="6248520" y="2770200"/>
              <a:ext cx="797400" cy="1825560"/>
            </a:xfrm>
            <a:prstGeom prst="line">
              <a:avLst/>
            </a:prstGeom>
            <a:ln w="2844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1" name=""/>
            <p:cNvSpPr/>
            <p:nvPr/>
          </p:nvSpPr>
          <p:spPr>
            <a:xfrm flipV="1">
              <a:off x="7045920" y="4438440"/>
              <a:ext cx="359640" cy="157320"/>
            </a:xfrm>
            <a:prstGeom prst="line">
              <a:avLst/>
            </a:prstGeom>
            <a:ln w="28440">
              <a:solidFill>
                <a:srgbClr val="ff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2" name=""/>
            <p:cNvSpPr/>
            <p:nvPr/>
          </p:nvSpPr>
          <p:spPr>
            <a:xfrm flipV="1">
              <a:off x="6248520" y="2612880"/>
              <a:ext cx="359640" cy="157320"/>
            </a:xfrm>
            <a:prstGeom prst="line">
              <a:avLst/>
            </a:prstGeom>
            <a:ln w="28440">
              <a:solidFill>
                <a:srgbClr val="ff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3" name=""/>
            <p:cNvSpPr/>
            <p:nvPr/>
          </p:nvSpPr>
          <p:spPr>
            <a:xfrm flipV="1">
              <a:off x="6623640" y="3471840"/>
              <a:ext cx="359640" cy="157320"/>
            </a:xfrm>
            <a:prstGeom prst="line">
              <a:avLst/>
            </a:prstGeom>
            <a:ln w="28440">
              <a:solidFill>
                <a:srgbClr val="ff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54" name=""/>
          <p:cNvGrpSpPr/>
          <p:nvPr/>
        </p:nvGrpSpPr>
        <p:grpSpPr>
          <a:xfrm>
            <a:off x="2293920" y="2545920"/>
            <a:ext cx="1317960" cy="1963080"/>
            <a:chOff x="2293920" y="2545920"/>
            <a:chExt cx="1317960" cy="1963080"/>
          </a:xfrm>
        </p:grpSpPr>
        <p:sp>
          <p:nvSpPr>
            <p:cNvPr id="1555" name=""/>
            <p:cNvSpPr/>
            <p:nvPr/>
          </p:nvSpPr>
          <p:spPr>
            <a:xfrm flipV="1">
              <a:off x="2694240" y="2707920"/>
              <a:ext cx="869040" cy="1792800"/>
            </a:xfrm>
            <a:prstGeom prst="line">
              <a:avLst/>
            </a:prstGeom>
            <a:ln w="2844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6" name=""/>
            <p:cNvSpPr/>
            <p:nvPr/>
          </p:nvSpPr>
          <p:spPr>
            <a:xfrm flipH="1" flipV="1">
              <a:off x="3260160" y="2545920"/>
              <a:ext cx="351720" cy="170280"/>
            </a:xfrm>
            <a:prstGeom prst="line">
              <a:avLst/>
            </a:prstGeom>
            <a:ln w="28440">
              <a:solidFill>
                <a:srgbClr val="ff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7" name=""/>
            <p:cNvSpPr/>
            <p:nvPr/>
          </p:nvSpPr>
          <p:spPr>
            <a:xfrm flipH="1" flipV="1">
              <a:off x="2293920" y="4338720"/>
              <a:ext cx="351720" cy="170280"/>
            </a:xfrm>
            <a:prstGeom prst="line">
              <a:avLst/>
            </a:prstGeom>
            <a:ln w="28440">
              <a:solidFill>
                <a:srgbClr val="ff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58" name=""/>
          <p:cNvGrpSpPr/>
          <p:nvPr/>
        </p:nvGrpSpPr>
        <p:grpSpPr>
          <a:xfrm>
            <a:off x="5015880" y="4978800"/>
            <a:ext cx="2045160" cy="1468080"/>
            <a:chOff x="5015880" y="4978800"/>
            <a:chExt cx="2045160" cy="1468080"/>
          </a:xfrm>
        </p:grpSpPr>
        <p:sp>
          <p:nvSpPr>
            <p:cNvPr id="1559" name=""/>
            <p:cNvSpPr/>
            <p:nvPr/>
          </p:nvSpPr>
          <p:spPr>
            <a:xfrm flipH="1">
              <a:off x="5015880" y="4978800"/>
              <a:ext cx="1836720" cy="1239840"/>
            </a:xfrm>
            <a:prstGeom prst="line">
              <a:avLst/>
            </a:prstGeom>
            <a:ln w="2844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5026680" y="6155280"/>
              <a:ext cx="196560" cy="291600"/>
            </a:xfrm>
            <a:prstGeom prst="line">
              <a:avLst/>
            </a:prstGeom>
            <a:ln w="28440">
              <a:solidFill>
                <a:srgbClr val="ff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6864480" y="5041440"/>
              <a:ext cx="196560" cy="291600"/>
            </a:xfrm>
            <a:prstGeom prst="line">
              <a:avLst/>
            </a:prstGeom>
            <a:ln w="28440">
              <a:solidFill>
                <a:srgbClr val="ff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62" name=""/>
          <p:cNvGrpSpPr/>
          <p:nvPr/>
        </p:nvGrpSpPr>
        <p:grpSpPr>
          <a:xfrm>
            <a:off x="2622960" y="4917960"/>
            <a:ext cx="2008440" cy="1524600"/>
            <a:chOff x="2622960" y="4917960"/>
            <a:chExt cx="2008440" cy="1524600"/>
          </a:xfrm>
        </p:grpSpPr>
        <p:sp>
          <p:nvSpPr>
            <p:cNvPr id="1563" name=""/>
            <p:cNvSpPr/>
            <p:nvPr/>
          </p:nvSpPr>
          <p:spPr>
            <a:xfrm flipH="1" flipV="1">
              <a:off x="2841840" y="4917960"/>
              <a:ext cx="1789560" cy="1306800"/>
            </a:xfrm>
            <a:prstGeom prst="line">
              <a:avLst/>
            </a:prstGeom>
            <a:ln w="2844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4" name=""/>
            <p:cNvSpPr/>
            <p:nvPr/>
          </p:nvSpPr>
          <p:spPr>
            <a:xfrm flipH="1">
              <a:off x="2622960" y="4983840"/>
              <a:ext cx="207360" cy="283680"/>
            </a:xfrm>
            <a:prstGeom prst="line">
              <a:avLst/>
            </a:prstGeom>
            <a:ln w="28440">
              <a:solidFill>
                <a:srgbClr val="ff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5" name=""/>
            <p:cNvSpPr/>
            <p:nvPr/>
          </p:nvSpPr>
          <p:spPr>
            <a:xfrm flipH="1">
              <a:off x="4412520" y="6158520"/>
              <a:ext cx="207360" cy="284040"/>
            </a:xfrm>
            <a:prstGeom prst="line">
              <a:avLst/>
            </a:prstGeom>
            <a:ln w="28440">
              <a:solidFill>
                <a:srgbClr val="ff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66" name=""/>
          <p:cNvSpPr txBox="1"/>
          <p:nvPr/>
        </p:nvSpPr>
        <p:spPr>
          <a:xfrm>
            <a:off x="3546360" y="1905120"/>
            <a:ext cx="260676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1" strike="noStrike">
                <a:ln w="9360">
                  <a:solidFill>
                    <a:srgbClr val="ff99cc"/>
                  </a:solidFill>
                  <a:miter/>
                </a:ln>
                <a:solidFill>
                  <a:srgbClr val="000000"/>
                </a:solidFill>
                <a:latin typeface="DecoType Naskh Variants"/>
              </a:rPr>
              <a:t>قبل التنفيذ         أثناء التنفيذ           بعد التنفيذ</a:t>
            </a:r>
            <a:endParaRPr b="0" lang="en-US" sz="2000" spc="1" strike="noStrike">
              <a:ln w="9360">
                <a:solidFill>
                  <a:srgbClr val="ff99cc"/>
                </a:solidFill>
                <a:miter/>
              </a:ln>
              <a:solidFill>
                <a:srgbClr val="000000"/>
              </a:solidFill>
              <a:latin typeface="DecoType Naskh Variants"/>
              <a:ea typeface="DecoType Naskh Variants"/>
            </a:endParaRPr>
          </a:p>
        </p:txBody>
      </p:sp>
      <p:sp>
        <p:nvSpPr>
          <p:cNvPr id="1567" name=""/>
          <p:cNvSpPr txBox="1"/>
          <p:nvPr/>
        </p:nvSpPr>
        <p:spPr>
          <a:xfrm rot="17804400">
            <a:off x="1483560" y="3232800"/>
            <a:ext cx="2342880" cy="392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1" strike="noStrike">
                <a:ln w="9360">
                  <a:solidFill>
                    <a:srgbClr val="ff99cc"/>
                  </a:solidFill>
                  <a:miter/>
                </a:ln>
                <a:solidFill>
                  <a:srgbClr val="000000"/>
                </a:solidFill>
                <a:latin typeface="DecoType Naskh Variants"/>
              </a:rPr>
              <a:t>إيــجـــــابية                                                  ســــلبــية</a:t>
            </a:r>
            <a:endParaRPr b="0" lang="en-US" sz="2000" spc="1" strike="noStrike">
              <a:ln w="9360">
                <a:solidFill>
                  <a:srgbClr val="ff99cc"/>
                </a:solidFill>
                <a:miter/>
              </a:ln>
              <a:solidFill>
                <a:srgbClr val="000000"/>
              </a:solidFill>
              <a:latin typeface="DecoType Naskh Variants"/>
              <a:ea typeface="DecoType Naskh Variants"/>
            </a:endParaRPr>
          </a:p>
        </p:txBody>
      </p:sp>
      <p:sp>
        <p:nvSpPr>
          <p:cNvPr id="1568" name=""/>
          <p:cNvSpPr txBox="1"/>
          <p:nvPr/>
        </p:nvSpPr>
        <p:spPr>
          <a:xfrm rot="12996000">
            <a:off x="2057040" y="5772960"/>
            <a:ext cx="260676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1" strike="noStrike">
                <a:ln w="9360">
                  <a:solidFill>
                    <a:srgbClr val="ff99cc"/>
                  </a:solidFill>
                  <a:miter/>
                </a:ln>
                <a:solidFill>
                  <a:srgbClr val="000000"/>
                </a:solidFill>
                <a:latin typeface="DecoType Naskh Variants"/>
              </a:rPr>
              <a:t>داخليـــــــــة                                            خـــــارجية</a:t>
            </a:r>
            <a:endParaRPr b="0" lang="en-US" sz="2000" spc="1" strike="noStrike">
              <a:ln w="9360">
                <a:solidFill>
                  <a:srgbClr val="ff99cc"/>
                </a:solidFill>
                <a:miter/>
              </a:ln>
              <a:solidFill>
                <a:srgbClr val="000000"/>
              </a:solidFill>
              <a:latin typeface="DecoType Naskh Variants"/>
              <a:ea typeface="DecoType Naskh Variants"/>
            </a:endParaRPr>
          </a:p>
        </p:txBody>
      </p:sp>
      <p:sp>
        <p:nvSpPr>
          <p:cNvPr id="1569" name=""/>
          <p:cNvSpPr txBox="1"/>
          <p:nvPr/>
        </p:nvSpPr>
        <p:spPr>
          <a:xfrm rot="8740200">
            <a:off x="4936320" y="5773320"/>
            <a:ext cx="260676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1" strike="noStrike">
                <a:ln w="9360">
                  <a:solidFill>
                    <a:srgbClr val="ff99cc"/>
                  </a:solidFill>
                  <a:miter/>
                </a:ln>
                <a:solidFill>
                  <a:srgbClr val="000000"/>
                </a:solidFill>
                <a:latin typeface="DecoType Naskh Variants"/>
              </a:rPr>
              <a:t>مغلقـــــــــة                                            مفــــــتوحة</a:t>
            </a:r>
            <a:endParaRPr b="0" lang="en-US" sz="2000" spc="1" strike="noStrike">
              <a:ln w="9360">
                <a:solidFill>
                  <a:srgbClr val="ff99cc"/>
                </a:solidFill>
                <a:miter/>
              </a:ln>
              <a:solidFill>
                <a:srgbClr val="000000"/>
              </a:solidFill>
              <a:latin typeface="DecoType Naskh Variants"/>
              <a:ea typeface="DecoType Naskh Variants"/>
            </a:endParaRPr>
          </a:p>
        </p:txBody>
      </p:sp>
      <p:sp>
        <p:nvSpPr>
          <p:cNvPr id="1570" name=""/>
          <p:cNvSpPr txBox="1"/>
          <p:nvPr/>
        </p:nvSpPr>
        <p:spPr>
          <a:xfrm rot="4045200">
            <a:off x="6046560" y="3233520"/>
            <a:ext cx="2342880" cy="39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1" strike="noStrike">
                <a:ln w="9360">
                  <a:solidFill>
                    <a:srgbClr val="ff99cc"/>
                  </a:solidFill>
                  <a:miter/>
                </a:ln>
                <a:solidFill>
                  <a:srgbClr val="000000"/>
                </a:solidFill>
                <a:latin typeface="DecoType Naskh Variants"/>
              </a:rPr>
              <a:t>الكفاءة الأدارية         قضائية           الحسابية</a:t>
            </a:r>
            <a:endParaRPr b="1" lang="en-US" sz="2000" spc="1" strike="noStrike">
              <a:ln w="9360">
                <a:solidFill>
                  <a:srgbClr val="ff99cc"/>
                </a:solidFill>
                <a:miter/>
              </a:ln>
              <a:solidFill>
                <a:srgbClr val="000000"/>
              </a:solidFill>
              <a:latin typeface="DecoType Naskh Variants"/>
              <a:ea typeface="DecoType Naskh Variants"/>
            </a:endParaRP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ccff"/>
                </a:solidFill>
                <a:latin typeface="Garamond"/>
              </a:rPr>
              <a:t>أنواع الرقابة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72" name="PlaceHolder 2"/>
          <p:cNvSpPr>
            <a:spLocks noGrp="1"/>
          </p:cNvSpPr>
          <p:nvPr>
            <p:ph/>
          </p:nvPr>
        </p:nvSpPr>
        <p:spPr>
          <a:xfrm>
            <a:off x="898560" y="2060280"/>
            <a:ext cx="792144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cccc"/>
                </a:solidFill>
                <a:latin typeface="Garamond"/>
                <a:cs typeface="Simplified Arabic"/>
              </a:rPr>
              <a:t>المعيار الأول</a:t>
            </a:r>
            <a:r>
              <a:rPr b="1" lang="ar-SA" sz="3200" spc="-1" strike="noStrike">
                <a:solidFill>
                  <a:srgbClr val="ffffff"/>
                </a:solidFill>
                <a:latin typeface="Garamond"/>
                <a:ea typeface="Simplified Arabic"/>
              </a:rPr>
              <a:t> : بحسب نوع النظام الذي يطبق به الرقابة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937080" indent="-187200" algn="r" rtl="1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Garamond"/>
                <a:cs typeface="Simplified Arabic"/>
              </a:rPr>
              <a:t>نظام الرقابة المغلق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937080" indent="-187200" algn="r" rtl="1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Garamond"/>
                <a:cs typeface="Simplified Arabic"/>
              </a:rPr>
              <a:t>نظام الرقابة المفتوح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116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cccc"/>
                </a:solidFill>
                <a:latin typeface="Garamond"/>
                <a:cs typeface="Simplified Arabic"/>
              </a:rPr>
              <a:t>المعيار الثاني</a:t>
            </a:r>
            <a:r>
              <a:rPr b="1" lang="ar-SA" sz="3200" spc="-1" strike="noStrike">
                <a:solidFill>
                  <a:srgbClr val="ffffff"/>
                </a:solidFill>
                <a:latin typeface="Garamond"/>
                <a:ea typeface="Simplified Arabic"/>
              </a:rPr>
              <a:t> : بحسب الهدف من اكتشاف الأخطاء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937080" indent="-187200" algn="r" rtl="1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Garamond"/>
                <a:cs typeface="Simplified Arabic"/>
              </a:rPr>
              <a:t>الرقابة الإيجابية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937080" indent="-187200" algn="r" rtl="1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Garamond"/>
                <a:cs typeface="Simplified Arabic"/>
              </a:rPr>
              <a:t>الرقابة السلبية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116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cccc"/>
                </a:solidFill>
                <a:latin typeface="Garamond"/>
                <a:cs typeface="Simplified Arabic"/>
              </a:rPr>
              <a:t>المعيار الثالث</a:t>
            </a:r>
            <a:r>
              <a:rPr b="1" lang="ar-SA" sz="3200" spc="-1" strike="noStrike">
                <a:solidFill>
                  <a:srgbClr val="ffffff"/>
                </a:solidFill>
                <a:latin typeface="Garamond"/>
                <a:ea typeface="Simplified Arabic"/>
              </a:rPr>
              <a:t> : بحسب التوقيت الزمني للرقابة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937080" indent="-187200" algn="r" rtl="1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Garamond"/>
                <a:cs typeface="Simplified Arabic"/>
              </a:rPr>
              <a:t>الرقابة السابقة للتنفي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937080" indent="-187200" algn="r" rtl="1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Garamond"/>
                <a:cs typeface="Simplified Arabic"/>
              </a:rPr>
              <a:t>الرقابة اللاحقة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ccff"/>
                </a:solidFill>
                <a:latin typeface="Garamond"/>
              </a:rPr>
              <a:t>أنواع الرقابة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74" name="PlaceHolder 2"/>
          <p:cNvSpPr>
            <a:spLocks noGrp="1"/>
          </p:cNvSpPr>
          <p:nvPr>
            <p:ph/>
          </p:nvPr>
        </p:nvSpPr>
        <p:spPr>
          <a:xfrm>
            <a:off x="898560" y="2060280"/>
            <a:ext cx="792144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ffcccc"/>
                </a:solidFill>
                <a:latin typeface="Garamond"/>
                <a:cs typeface="Simplified Arabic"/>
              </a:rPr>
              <a:t>المعيار الرابع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  <a:ea typeface="Simplified Arabic"/>
              </a:rPr>
              <a:t> : بحسب نوع النشاط الذي تمارس من أجله الرقابة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 algn="r" rtl="1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Garamond"/>
                <a:cs typeface="Simplified Arabic"/>
              </a:rPr>
              <a:t>الرقابة على كفاءة أداء المهام الإدارية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 algn="r" rtl="1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Garamond"/>
                <a:cs typeface="Simplified Arabic"/>
              </a:rPr>
              <a:t>الرقابة الحسابية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 algn="r" rtl="1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ff"/>
                </a:solidFill>
                <a:latin typeface="Garamond"/>
                <a:cs typeface="Simplified Arabic"/>
              </a:rPr>
              <a:t>الرقابة القضائية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4T08:05:42Z</dcterms:created>
  <dc:creator>xp2</dc:creator>
  <dc:description/>
  <dc:language>en-US</dc:language>
  <cp:lastModifiedBy>xp2</cp:lastModifiedBy>
  <dcterms:modified xsi:type="dcterms:W3CDTF">2009-10-05T07:01:07Z</dcterms:modified>
  <cp:revision>15</cp:revision>
  <dc:subject/>
  <dc:title>الشريحة 1</dc:title>
</cp:coreProperties>
</file>