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camera.wav" ContentType="audio/x-wav"/>
  <Override PartName="/ppt/media/image5.wmf" ContentType="image/x-wmf"/>
  <Override PartName="/ppt/media/image6.png" ContentType="image/png"/>
  <Override PartName="/ppt/media/arrow.wav" ContentType="audio/x-wav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  <p:sldId id="371" r:id="rId134"/>
    <p:sldId id="372" r:id="rId135"/>
    <p:sldId id="373" r:id="rId136"/>
    <p:sldId id="374" r:id="rId137"/>
    <p:sldId id="375" r:id="rId138"/>
    <p:sldId id="376" r:id="rId139"/>
    <p:sldId id="377" r:id="rId140"/>
    <p:sldId id="378" r:id="rId141"/>
    <p:sldId id="379" r:id="rId142"/>
    <p:sldId id="380" r:id="rId143"/>
    <p:sldId id="381" r:id="rId144"/>
    <p:sldId id="382" r:id="rId145"/>
    <p:sldId id="383" r:id="rId146"/>
    <p:sldId id="384" r:id="rId147"/>
    <p:sldId id="385" r:id="rId148"/>
    <p:sldId id="386" r:id="rId149"/>
    <p:sldId id="387" r:id="rId150"/>
    <p:sldId id="388" r:id="rId151"/>
    <p:sldId id="389" r:id="rId152"/>
    <p:sldId id="390" r:id="rId153"/>
    <p:sldId id="391" r:id="rId154"/>
    <p:sldId id="392" r:id="rId155"/>
    <p:sldId id="393" r:id="rId156"/>
    <p:sldId id="394" r:id="rId157"/>
    <p:sldId id="395" r:id="rId158"/>
    <p:sldId id="396" r:id="rId159"/>
    <p:sldId id="397" r:id="rId160"/>
    <p:sldId id="398" r:id="rId1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slide" Target="slides/slide116.xml"/><Relationship Id="rId135" Type="http://schemas.openxmlformats.org/officeDocument/2006/relationships/slide" Target="slides/slide117.xml"/><Relationship Id="rId136" Type="http://schemas.openxmlformats.org/officeDocument/2006/relationships/slide" Target="slides/slide118.xml"/><Relationship Id="rId137" Type="http://schemas.openxmlformats.org/officeDocument/2006/relationships/slide" Target="slides/slide119.xml"/><Relationship Id="rId138" Type="http://schemas.openxmlformats.org/officeDocument/2006/relationships/slide" Target="slides/slide120.xml"/><Relationship Id="rId139" Type="http://schemas.openxmlformats.org/officeDocument/2006/relationships/slide" Target="slides/slide121.xml"/><Relationship Id="rId140" Type="http://schemas.openxmlformats.org/officeDocument/2006/relationships/slide" Target="slides/slide122.xml"/><Relationship Id="rId141" Type="http://schemas.openxmlformats.org/officeDocument/2006/relationships/slide" Target="slides/slide123.xml"/><Relationship Id="rId142" Type="http://schemas.openxmlformats.org/officeDocument/2006/relationships/slide" Target="slides/slide124.xml"/><Relationship Id="rId143" Type="http://schemas.openxmlformats.org/officeDocument/2006/relationships/slide" Target="slides/slide125.xml"/><Relationship Id="rId144" Type="http://schemas.openxmlformats.org/officeDocument/2006/relationships/slide" Target="slides/slide126.xml"/><Relationship Id="rId145" Type="http://schemas.openxmlformats.org/officeDocument/2006/relationships/slide" Target="slides/slide127.xml"/><Relationship Id="rId146" Type="http://schemas.openxmlformats.org/officeDocument/2006/relationships/slide" Target="slides/slide128.xml"/><Relationship Id="rId147" Type="http://schemas.openxmlformats.org/officeDocument/2006/relationships/slide" Target="slides/slide129.xml"/><Relationship Id="rId148" Type="http://schemas.openxmlformats.org/officeDocument/2006/relationships/slide" Target="slides/slide130.xml"/><Relationship Id="rId149" Type="http://schemas.openxmlformats.org/officeDocument/2006/relationships/slide" Target="slides/slide131.xml"/><Relationship Id="rId150" Type="http://schemas.openxmlformats.org/officeDocument/2006/relationships/slide" Target="slides/slide132.xml"/><Relationship Id="rId151" Type="http://schemas.openxmlformats.org/officeDocument/2006/relationships/slide" Target="slides/slide133.xml"/><Relationship Id="rId152" Type="http://schemas.openxmlformats.org/officeDocument/2006/relationships/slide" Target="slides/slide134.xml"/><Relationship Id="rId153" Type="http://schemas.openxmlformats.org/officeDocument/2006/relationships/slide" Target="slides/slide135.xml"/><Relationship Id="rId154" Type="http://schemas.openxmlformats.org/officeDocument/2006/relationships/slide" Target="slides/slide136.xml"/><Relationship Id="rId155" Type="http://schemas.openxmlformats.org/officeDocument/2006/relationships/slide" Target="slides/slide137.xml"/><Relationship Id="rId156" Type="http://schemas.openxmlformats.org/officeDocument/2006/relationships/slide" Target="slides/slide138.xml"/><Relationship Id="rId157" Type="http://schemas.openxmlformats.org/officeDocument/2006/relationships/slide" Target="slides/slide139.xml"/><Relationship Id="rId158" Type="http://schemas.openxmlformats.org/officeDocument/2006/relationships/slide" Target="slides/slide140.xml"/><Relationship Id="rId159" Type="http://schemas.openxmlformats.org/officeDocument/2006/relationships/slide" Target="slides/slide141.xml"/><Relationship Id="rId160" Type="http://schemas.openxmlformats.org/officeDocument/2006/relationships/slide" Target="slides/slide142.xml"/><Relationship Id="rId161" Type="http://schemas.openxmlformats.org/officeDocument/2006/relationships/slide" Target="slides/slide143.xml"/><Relationship Id="rId1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dt" idx="4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ftr" idx="5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 type="sldNum" idx="5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C541-01D6-4A7A-900C-5DC72AD2BB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Abdelgalil Mohammed Hass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3E72-7012-4BFC-B97D-4EE0AEC8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D547-A7FA-46A7-A5A5-CC97D5C7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BE117-4D3C-409D-BE35-992EEFEE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D09CB-0C0C-4AFB-9FA0-E6CC8F91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322F4-AAE2-470B-A281-AD72E15F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80225-DDC8-43E4-AA72-74C7C811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AAAF4-59DC-483E-8B3B-B6E8B349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D6986-E74C-49FE-A93A-2725E62F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21826-518A-48A3-819D-253D50F2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BC5F1-C25A-43FD-A0E6-11AFC25C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C86DB-9D9D-427B-BAB7-22692C29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CD8D3-62FB-4EE3-A697-FB79AD32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2610-4C85-48BF-B27A-1102A1EC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E6024-A823-4EAB-B70E-ECFF1941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37747-B2E0-4DB4-81B5-2ACC557D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CA3F2-A5AF-47C2-B188-8F6B729C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88641-2998-4594-AA51-5293400F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B8FE4-06F5-4A8D-B787-87D841D9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83D72-44F8-4E50-9265-8391B4D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4EBC4-6A24-4300-A778-3731E08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8ED47-4818-4286-B968-1497007F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3FC79-754F-4199-BFE8-48BCCE92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A1B9F-EFD4-4C32-B1FE-56D67A5E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FA9FD-D832-47ED-9287-B8B5DF7F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3A429-7947-4871-A06F-44BE9289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4FAF9-BE8F-41A9-B56D-051EDD9B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1A316-5417-4F06-9059-FBC17C32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D5EB1-6AF6-4FA4-B809-08721D64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0E7B2-01B9-40D2-9DA1-7E56FF4B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F9340-4303-4682-8F02-9A7CDFCA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C90B0-AF0D-4F62-975E-70F96991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C96A4-6C73-4F5D-BD3F-60733340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ABFCC-20DB-4676-BD2F-3B8699C7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38871-0A93-4679-A0EE-E9EA7D50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6B74-57C4-468B-9B4A-C7896E3F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F16BD-0269-400D-91AC-9C62CFF9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ACB52-3667-43ED-8678-EEE04338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1034C-58D4-4623-93A2-066CE18F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032A3-A01B-41F5-B488-C085FFBB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93E96-D14E-4DDB-9B94-369AC9CC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FD7E8-4E73-4BB9-9042-F4E88C8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DE419-0078-4449-B3A4-047B40A2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0005A-574C-4B90-B3B2-A7D35C8C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59345-778E-4A8B-9048-E8526AB5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FA162-C224-4ADE-9EB2-B74F8B15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FE76-481A-4541-94DE-63C0DD2C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9F904-CCCB-4FE9-A746-DBEBD79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78AAC-AEC3-4984-8155-67C4C41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953AF-6D60-42F8-ACF8-1E1CA0AF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78C90-F227-47DE-93F5-8600796A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36E9F-2539-4323-849F-4B6127B4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D9BB0-2A07-4907-AD27-728DE63B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711D8-9AEB-4C00-B16F-2E2E0C9C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B8730-3662-4DDD-8810-9B0070D0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4DD85-6B9B-42EB-8A64-36053E5B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7CEF7-F5A6-45C4-9E72-9F7ACEC0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1F88-7852-4540-B39C-EDC1897D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C899A-4A29-4F7D-BD36-D9E54C69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04365-447A-48AC-A74F-8D1BE8A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9DD06-2D04-4871-878C-D245761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575EA-0CB5-4E56-AB86-127FE6E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F952D-7375-4205-83E0-693D1FC7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FF96F-7020-45DD-9339-C87BD8B5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A8D59-776F-4E23-AA63-A4247383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75F89-8F06-4BF1-83BC-86F7BF00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51CEC-4EF1-4E3B-9531-E0611BB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37A39-CC2D-4491-8A00-101F8C57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55B7-3271-4306-B8AC-BE606EC3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AF45F-7652-4F37-811D-8A763FF2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DA792-2980-495D-B41B-EE006D12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EBB56-5DB6-4474-9120-3CA05C17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5B3FF-2C73-4447-A6A6-20DEDF11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91BDD-60D2-4BD0-BEE9-A04822D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724D1-7186-4E33-A677-950AAE95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E17A6-7FE8-43B5-9ECA-E93983C1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A6035-5E8D-44E2-9E5B-C82D137B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F3D4B-3001-4E8B-B7AF-02DF7C87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C138F-0B9E-4862-AAA4-DEF6E556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B0AA-6B48-4C8C-B162-425B07D3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702C0-C667-4B4C-A9C7-351D5718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4D670-57A0-4CA0-AC62-DD963C5A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57EC0-7933-4AB9-BE7C-3788F804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18065-8536-4339-8468-4F168646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86D59-1533-4982-ABE8-9D381592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3635D-74E2-47F9-B84C-C9FD7B69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0556A-E0FF-4846-BCB4-B046AE06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8ADD4-910A-4C93-9A59-8C871D51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A9F54-7427-4F2F-8ABD-3DD99ABE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E1F5F3-9704-47FC-BF5F-82879AAB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B278-BD76-4F86-B8D0-2FAA7CD6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71E99-001C-4CE5-88EC-7A021924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C76C0-1259-4E08-863D-2C6D0670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7633F-0C92-4E3B-BD36-AE5F7B87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70B60-F30C-4491-8248-025CF69A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4C9C4-0D61-48BD-861C-AD90916D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5B86B-E32E-459C-8B8E-744E866B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96B47-7BD4-48DD-A318-8B62F4BA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85260-9EDA-4584-B916-92C820B4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C589E-4900-4CCE-9D19-D59551FE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AA9F49-5451-414C-B641-8E77FE2C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A3C9-F915-4439-B96A-EAA8BC46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B248C-3896-4B70-AEFE-FD194E96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C1D57-F484-43D2-89A5-F96F95E5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8EC9F-07A1-4CEB-8FDE-64B999AE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D26E-15B7-4210-B14B-56EEC5AC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9E42-C420-4C9A-9F45-53E8B2ED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25FE-C0A4-487D-9B6D-21A4F8A9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4CCC-CEB5-42A0-B1FF-62EB7782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A4B0-01A2-4102-8BBD-431D1810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652B-E4A7-47E4-A556-D8FF56E8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2EBF-005B-455F-8A86-702181F6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AA94D-095B-4CC9-B4EE-23AFCFD2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CD4C-18A2-4894-8B47-2B638CB4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5DCB-55B4-4ADB-B30A-51E61A5A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F60B-DA32-4998-8F49-CB63943A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13D4-8CDB-4DA5-9E8C-0F1F452E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9844-682F-4D9C-9244-9BC90763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FED0-0BA1-40A6-B6DF-27B85DDB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83D6-C8F0-4936-B803-A1F83A93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DFEB-B0D8-4B29-B01E-D4649BDB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9CFB-F006-45B9-9DC5-345EE522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BAAF-1AF9-4EC2-BD21-F4AE8B6E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0DA4-047C-43B1-9917-0F886EDF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1372-7117-48B7-96BD-3EE022A6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2BFF5-C906-45E9-9751-F5A7C037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F7EA-2269-4812-B95B-CC81C2F3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DB30-20F8-42F0-B792-DCD74BA5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951BD-86ED-437B-8248-5CA41F8C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54E1-DE3A-4BC1-ABA6-43D4EB12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BD368-DBB7-4432-AB19-A74FEB6E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8FD1-4AF7-4C3F-9DDE-D41AB3A0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E386-EEE8-42A7-9D6A-5DC0F498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C3E00-DDDC-484C-AF01-5CA2A8A2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C891A-CE03-4371-842F-EB895126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1A79-4CD6-4485-BDD2-FEC275D4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AA307-5C3F-401E-9C42-2770E579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DD57F-F2F2-4D2A-9BCB-E04DE2B7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D380-FEDE-4163-9C20-3373530B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DC0CC-009C-497D-B640-A3382AA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9C32-6F3F-4C9B-A660-952CFC77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7D5B8-D920-4C65-896C-0CAFCB7F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3F0B7-53F4-4D62-9E44-00EFED24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15A2-FEE3-48A0-8596-FADA813F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25521-706A-4635-95D4-911013AA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015CC-9FA6-4902-A7C8-1902B42D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FC1B2-55C0-4FFB-A729-FAF0F7D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122B8-4F5C-4525-A685-DF38F421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AB22B-D2BB-4834-8D02-9B08E161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5F70-6295-4F5F-9D4D-BB36213A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C996F-5F4D-4775-BB2D-E55EB7BD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7A1A0-C48F-4385-A19A-BAF524D5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BEB40-A243-438E-9472-6E74FA40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44893-5E02-46B2-8CE1-1ED0E75A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A21A1-C380-4944-BD7E-77FB0E84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A82CA-C71C-4BAB-9BF6-08D73031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45438-0E6A-4E8D-9F74-D0F484B5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3F7B0-7218-43B7-ACF7-CD58BA85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96C6-010B-47CD-8695-EE481B3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63378-6086-4929-8ACD-250AC010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5277-404B-4021-9AEA-24D48C35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2ABBC-0F5D-4DC2-9680-C26A45FD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91418-3BCC-43CF-AAE3-3177EF9F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1171D-953C-4FEC-AEBB-454C44CD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D9C0B-D11E-4E3E-A2ED-8D476AA0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9479-09BB-49BD-8C7B-0E26CE58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391E5-91B7-4FA4-920E-FD02DA13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EA3EB-4C14-4888-A311-45022C01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9CFFE-8E72-47B2-8F9C-E7DE0EAF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42C8B-5DAD-4F80-88E6-DF5C3AFD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4D9DE-6221-4D83-8F8E-602BCD19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F964-B255-4477-883B-6B6296A3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99B2B-D033-4701-8714-D1B7AED8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8B9A8-895D-4877-8281-6DA614B8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0F57C-895F-49D8-912B-30334FB0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B42C-80B8-4675-AB62-0C3B597C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818DB-62BF-4765-8476-29CCCEFB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A55572-8912-4B36-8292-0D2B3444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220A23-FDF6-4383-ADF2-BAEA8843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6965C9-FC6F-42D2-9558-DBFB24D1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3EFEA-77DC-4899-9D02-99E52DEE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A84C98-119D-4B61-B05F-583FDE9F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9FFF-1B6F-4A3B-A9FA-A8E39EB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BD614-FDBD-4114-AA9C-E4970F23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25E5D0-C1A9-4C31-916F-FB9A6B4A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52086C-F8A2-44BD-BA89-360A49FA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811791-EC8E-4963-ADDF-A2E509C3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5165A9-8292-4FAE-9A37-E8357AC7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0A4C85-5B3E-4C1A-9EF8-88B85368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CEDD05-7AE6-4DC9-AAC3-C3CB145D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182C4-C080-4F49-8CAD-B645B29B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59DEA-C19A-43BB-AF0E-1E3C0D2F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D0717-789C-42A7-9C08-74C563FE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FEEC-A6E9-43D7-AE73-C3678354D8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2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5707-6EAF-495E-B5FB-2FD8466616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7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BC77-B799-449C-AA7E-CD66AF6C1A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3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2531-118E-49E8-934C-C6E20E7710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A5C3-68D1-4343-960F-793451C2B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5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F27C-7AE1-40DF-B25F-DC9A8F30E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809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810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18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819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20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6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2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3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4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5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57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858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9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0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1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2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3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4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5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6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7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8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9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70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1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4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5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6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7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8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9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0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1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2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3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4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5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9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2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3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4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5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6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7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8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9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0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1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2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3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4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5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06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07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9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19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920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26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927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32" name="PlaceHolder 1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29A4-05D8-4CF8-86F3-8CFDA9D3812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974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77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85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986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7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8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9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0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1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6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7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8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9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0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1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2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5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6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7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8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9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0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1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2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4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5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6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9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022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023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4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5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6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7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8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9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0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1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2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3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4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6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7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3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5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6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7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8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9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2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3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5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8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3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4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5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6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8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9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0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071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072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4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84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085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092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86F3-F2C1-422F-81E8-613E5CB9E88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E5D-47EA-4899-8004-9577E799A9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A8C2-2205-412C-8F5E-3CB513C32B8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338D-1F65-4674-856D-4AA02BD19D0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5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4D6A-4C4F-42EF-93D1-463A27C2CF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0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2A1F-B010-42CE-8AE6-1EDA2AF42B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4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4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37A9-53DF-41A8-801E-CF204E00C5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0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0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1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6405-0ED0-480B-8FCE-2E1E98F132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6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27C5-D59D-4782-8F69-668B11C011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4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342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ffcc00"/>
                </a:solidFill>
                <a:latin typeface="Garamond"/>
                <a:cs typeface="Arabic Typesetting"/>
              </a:rPr>
              <a:t>بسم الله الرحمن الرحيم</a:t>
            </a:r>
            <a:br>
              <a:rPr sz="10000"/>
            </a:br>
            <a:r>
              <a:rPr b="0" lang="ar-SA" sz="10000" spc="-1" strike="noStrike">
                <a:solidFill>
                  <a:srgbClr val="ff0000"/>
                </a:solidFill>
                <a:latin typeface="Garamond"/>
                <a:cs typeface="Arabic Typesetting"/>
              </a:rPr>
              <a:t>مبادئ </a:t>
            </a:r>
            <a:r>
              <a:rPr b="0" lang="ar-SA" sz="10000" spc="-1" strike="noStrike">
                <a:solidFill>
                  <a:srgbClr val="336600"/>
                </a:solidFill>
                <a:latin typeface="Garamond"/>
                <a:cs typeface="Arabic Typesetting"/>
              </a:rPr>
              <a:t>إدارة</a:t>
            </a:r>
            <a:r>
              <a:rPr b="0" lang="ar-SA" sz="10000" spc="-1" strike="noStrike">
                <a:solidFill>
                  <a:srgbClr val="000514"/>
                </a:solidFill>
                <a:latin typeface="Garamond"/>
                <a:ea typeface="Arabic Typesetting"/>
              </a:rPr>
              <a:t> </a:t>
            </a:r>
            <a:r>
              <a:rPr b="0" lang="ar-SA" sz="10000" spc="-1" strike="noStrike">
                <a:solidFill>
                  <a:srgbClr val="ffcc00"/>
                </a:solidFill>
                <a:latin typeface="Garamond"/>
                <a:cs typeface="Arabic Typesetting"/>
              </a:rPr>
              <a:t>الأعمال</a:t>
            </a:r>
            <a:endParaRPr b="1" lang="en-US" sz="10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371240" y="2707920"/>
            <a:ext cx="67294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0c08"/>
                </a:solidFill>
                <a:latin typeface="Arabic Typesetting"/>
                <a:cs typeface="Arabic Typesetting"/>
              </a:rPr>
              <a:t>الدكتو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6600"/>
                </a:solidFill>
                <a:latin typeface="Arabic Typesetting"/>
                <a:cs typeface="Arabic Typesetting"/>
              </a:rPr>
              <a:t>عبد الجليل محمد حس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abic Typesetting"/>
                <a:cs typeface="Arabic Typesetting"/>
              </a:rPr>
              <a:t>أستاذ إدارة الأعمال المساع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886e0"/>
                </a:solidFill>
                <a:latin typeface="Arabic Typesetting"/>
                <a:cs typeface="Arabic Typesetting"/>
              </a:rPr>
              <a:t>كلية العلوم الإدارية والإنسانية بالمجمع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قسم إدارة الأعما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400"/>
                            </p:stCondLst>
                            <p:childTnLst>
                              <p:par>
                                <p:cTn id="10" autoRev="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00"/>
                                </p:to>
                              </p:animCl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800"/>
                            </p:stCondLst>
                            <p:childTnLst>
                              <p:par>
                                <p:cTn id="14" autoRev="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800"/>
                            </p:stCondLst>
                            <p:childTnLst>
                              <p:par>
                                <p:cTn id="18" autoRev="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2" autoRev="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7000"/>
                            </p:stCondLst>
                            <p:childTnLst>
                              <p:par>
                                <p:cTn id="26" autoRev="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" dur="1" fill="hold"/>
                                  <p:tgtEl>
                                    <p:spTgt spid="1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المدرسة التجريب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تعني أن الإدارة مهنة يمكن تعلمها وممارست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ركز أصحاب هذه النظريه على الاتجاه العملي للإدار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همية المعلوم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روادها [ وليام نيومان ، بيتر دراكر 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خصائص الرقابة الفعال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ن تكون المعايير الرقابية والوسائل مفهوم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ن تكون الوسائل الرقابية المطبقة اقتصاد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لمام وإمكانية تطبيقها من قبل المراق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تعدد وتنوع الوسائل والأدوات الرقاب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ن تكون مرن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راعاة الكم والنو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tken noqta"/>
              </a:rPr>
              <a:t>إدارة الموارد البشرية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Resources Mana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"/>
          <p:cNvSpPr/>
          <p:nvPr/>
        </p:nvSpPr>
        <p:spPr>
          <a:xfrm>
            <a:off x="0" y="331920"/>
            <a:ext cx="4140360" cy="115236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عاش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مفهوم و أهداف إدارة الأفر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تطوير إدارة الأفر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تنظيم في إدارة الأفر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وظائف إدارة الأفر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مفهوم إدارة الافرا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8204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66"/>
                </a:solidFill>
                <a:latin typeface="Tahoma"/>
              </a:rPr>
              <a:t>وظيفة الأفراد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الانشطة المختلفة التي تمارسها الوحدة التنظيمية المسئولة عن تدبير القوى العاملة اللازمة للمنظمة كما و نوعا و توقيتا و المحافظة عليها و تعويضها و تنميتها و تحفيز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66"/>
                </a:solidFill>
                <a:latin typeface="Tahoma"/>
              </a:rPr>
              <a:t>إدارة الافراد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الكيفية التي يتعامل بها كل مدير مع مرؤوسيه ليصل بهم إلى تحقيق الأهداف المحدد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  <a:cs typeface="Simplified Arabic"/>
              </a:rPr>
              <a:t>مراحل تطور إدارة الأفرا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2501640" y="2594160"/>
            <a:ext cx="4648680" cy="3701520"/>
            <a:chOff x="2501640" y="2594160"/>
            <a:chExt cx="4648680" cy="3701520"/>
          </a:xfrm>
        </p:grpSpPr>
        <p:sp>
          <p:nvSpPr>
            <p:cNvPr id="1587" name="_s118790"/>
            <p:cNvSpPr/>
            <p:nvPr/>
          </p:nvSpPr>
          <p:spPr>
            <a:xfrm>
              <a:off x="4006440" y="2647440"/>
              <a:ext cx="1638720" cy="1294200"/>
            </a:xfrm>
            <a:custGeom>
              <a:avLst/>
              <a:gdLst>
                <a:gd name="textAreaLeft" fmla="*/ 0 w 1638720"/>
                <a:gd name="textAreaRight" fmla="*/ 1639080 w 1638720"/>
                <a:gd name="textAreaTop" fmla="*/ 0 h 1294200"/>
                <a:gd name="textAreaBottom" fmla="*/ 1294560 h 12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_s118791"/>
            <p:cNvSpPr/>
            <p:nvPr/>
          </p:nvSpPr>
          <p:spPr>
            <a:xfrm rot="2700000">
              <a:off x="5209200" y="2811600"/>
              <a:ext cx="1294200" cy="163872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638720"/>
                <a:gd name="textAreaBottom" fmla="*/ 1639080 h 163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_s118792"/>
            <p:cNvSpPr/>
            <p:nvPr/>
          </p:nvSpPr>
          <p:spPr>
            <a:xfrm rot="5400000">
              <a:off x="5635800" y="3625200"/>
              <a:ext cx="1294200" cy="163872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638720"/>
                <a:gd name="textAreaBottom" fmla="*/ 1639080 h 163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_s118793"/>
            <p:cNvSpPr/>
            <p:nvPr/>
          </p:nvSpPr>
          <p:spPr>
            <a:xfrm rot="8100000">
              <a:off x="5036760" y="4610880"/>
              <a:ext cx="1638720" cy="1294200"/>
            </a:xfrm>
            <a:custGeom>
              <a:avLst/>
              <a:gdLst>
                <a:gd name="textAreaLeft" fmla="*/ 0 w 1638720"/>
                <a:gd name="textAreaRight" fmla="*/ 1639080 w 1638720"/>
                <a:gd name="textAreaTop" fmla="*/ 0 h 1294200"/>
                <a:gd name="textAreaBottom" fmla="*/ 1294560 h 12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_s118794"/>
            <p:cNvSpPr/>
            <p:nvPr/>
          </p:nvSpPr>
          <p:spPr>
            <a:xfrm rot="10800000">
              <a:off x="4007160" y="4948200"/>
              <a:ext cx="1638720" cy="1294200"/>
            </a:xfrm>
            <a:custGeom>
              <a:avLst/>
              <a:gdLst>
                <a:gd name="textAreaLeft" fmla="*/ 0 w 1638720"/>
                <a:gd name="textAreaRight" fmla="*/ 1639080 w 1638720"/>
                <a:gd name="textAreaTop" fmla="*/ 0 h 1294200"/>
                <a:gd name="textAreaBottom" fmla="*/ 1294560 h 12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_s118795"/>
            <p:cNvSpPr/>
            <p:nvPr/>
          </p:nvSpPr>
          <p:spPr>
            <a:xfrm rot="13500000">
              <a:off x="3148200" y="4439160"/>
              <a:ext cx="1294200" cy="163872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638720"/>
                <a:gd name="textAreaBottom" fmla="*/ 1639080 h 163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_s118796"/>
            <p:cNvSpPr/>
            <p:nvPr/>
          </p:nvSpPr>
          <p:spPr>
            <a:xfrm rot="16200000">
              <a:off x="2721240" y="3625560"/>
              <a:ext cx="1294200" cy="163872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638720"/>
                <a:gd name="textAreaBottom" fmla="*/ 1639080 h 163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_s118797"/>
            <p:cNvSpPr/>
            <p:nvPr/>
          </p:nvSpPr>
          <p:spPr>
            <a:xfrm rot="18900000">
              <a:off x="2975760" y="2984040"/>
              <a:ext cx="1638720" cy="1294200"/>
            </a:xfrm>
            <a:custGeom>
              <a:avLst/>
              <a:gdLst>
                <a:gd name="textAreaLeft" fmla="*/ 0 w 1638720"/>
                <a:gd name="textAreaRight" fmla="*/ 1639080 w 1638720"/>
                <a:gd name="textAreaTop" fmla="*/ 0 h 1294200"/>
                <a:gd name="textAreaBottom" fmla="*/ 1294560 h 12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_s118798"/>
            <p:cNvSpPr/>
            <p:nvPr/>
          </p:nvSpPr>
          <p:spPr>
            <a:xfrm>
              <a:off x="5288400" y="260856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النشأة الاول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_s118799"/>
            <p:cNvSpPr/>
            <p:nvPr/>
          </p:nvSpPr>
          <p:spPr>
            <a:xfrm>
              <a:off x="6442560" y="480924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علاقات العمل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_s118800"/>
            <p:cNvSpPr/>
            <p:nvPr/>
          </p:nvSpPr>
          <p:spPr>
            <a:xfrm>
              <a:off x="5288760" y="572076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لجنة وايتلي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_s118801"/>
            <p:cNvSpPr/>
            <p:nvPr/>
          </p:nvSpPr>
          <p:spPr>
            <a:xfrm>
              <a:off x="6442560" y="352044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عمال الرعاية الاجتماعي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_s118802"/>
            <p:cNvSpPr/>
            <p:nvPr/>
          </p:nvSpPr>
          <p:spPr>
            <a:xfrm>
              <a:off x="3656880" y="572112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إداري الافرا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_s118803"/>
            <p:cNvSpPr/>
            <p:nvPr/>
          </p:nvSpPr>
          <p:spPr>
            <a:xfrm>
              <a:off x="2502000" y="481032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سياسات الافرا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_s118804"/>
            <p:cNvSpPr/>
            <p:nvPr/>
          </p:nvSpPr>
          <p:spPr>
            <a:xfrm>
              <a:off x="2501640" y="3521160"/>
              <a:ext cx="70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دور التخطيط الشام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_s118805"/>
            <p:cNvSpPr/>
            <p:nvPr/>
          </p:nvSpPr>
          <p:spPr>
            <a:xfrm>
              <a:off x="3655080" y="260928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ahoma"/>
                  <a:cs typeface="Simplified Arabic"/>
                </a:rPr>
                <a:t>الافراد و المجتم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تنظيم في إدارة الافراد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1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Simplified Arabic"/>
              </a:rPr>
              <a:t> </a:t>
            </a:r>
            <a:r>
              <a:rPr b="0" lang="hi-IN" sz="3200" spc="-1" strike="noStrike">
                <a:solidFill>
                  <a:srgbClr val="ffffcc"/>
                </a:solidFill>
                <a:latin typeface="Tahoma"/>
                <a:cs typeface="Simplified Arabic"/>
              </a:rPr>
              <a:t>وحدة مركزية للأفراد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1541520" y="2360520"/>
            <a:ext cx="6840000" cy="3887640"/>
            <a:chOff x="1541520" y="2360520"/>
            <a:chExt cx="6840000" cy="3887640"/>
          </a:xfrm>
        </p:grpSpPr>
        <p:sp>
          <p:nvSpPr>
            <p:cNvPr id="1605" name=""/>
            <p:cNvSpPr/>
            <p:nvPr/>
          </p:nvSpPr>
          <p:spPr>
            <a:xfrm>
              <a:off x="5404680" y="5746320"/>
              <a:ext cx="1393200" cy="501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مصنع ب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1541520" y="2360520"/>
              <a:ext cx="6840000" cy="3887640"/>
              <a:chOff x="1541520" y="2360520"/>
              <a:chExt cx="6840000" cy="3887640"/>
            </a:xfrm>
          </p:grpSpPr>
          <p:sp>
            <p:nvSpPr>
              <p:cNvPr id="1607" name=""/>
              <p:cNvSpPr/>
              <p:nvPr/>
            </p:nvSpPr>
            <p:spPr>
              <a:xfrm>
                <a:off x="3696120" y="2360520"/>
                <a:ext cx="2786400" cy="501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مدير العام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469120" y="3426480"/>
                <a:ext cx="2786760" cy="501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أفـــراد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541520" y="3426480"/>
                <a:ext cx="2851200" cy="501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تمويل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226920" y="4492080"/>
                <a:ext cx="2028600" cy="501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قسم الإنتاج س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541520" y="4492080"/>
                <a:ext cx="2913840" cy="501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قسم الإنتاج ص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988320" y="5746320"/>
                <a:ext cx="1393200" cy="501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أ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189240" y="5746320"/>
                <a:ext cx="1329120" cy="501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ج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605600" y="5746320"/>
                <a:ext cx="1393200" cy="501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د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5" name=""/>
              <p:cNvGrpSpPr/>
              <p:nvPr/>
            </p:nvGrpSpPr>
            <p:grpSpPr>
              <a:xfrm>
                <a:off x="2682000" y="3050280"/>
                <a:ext cx="4559760" cy="376200"/>
                <a:chOff x="2682000" y="3050280"/>
                <a:chExt cx="4559760" cy="37620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2682000" y="305028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241760" y="305028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2682000" y="3050280"/>
                  <a:ext cx="4559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9" name=""/>
              <p:cNvSpPr/>
              <p:nvPr/>
            </p:nvSpPr>
            <p:spPr>
              <a:xfrm>
                <a:off x="4962240" y="2862000"/>
                <a:ext cx="0" cy="1190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809080" y="4052520"/>
                <a:ext cx="0" cy="37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369200" y="4052520"/>
                <a:ext cx="0" cy="37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>
                <a:off x="2809080" y="4052520"/>
                <a:ext cx="4559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3" name=""/>
              <p:cNvGrpSpPr/>
              <p:nvPr/>
            </p:nvGrpSpPr>
            <p:grpSpPr>
              <a:xfrm>
                <a:off x="5848200" y="4994280"/>
                <a:ext cx="1963440" cy="626400"/>
                <a:chOff x="5848200" y="4994280"/>
                <a:chExt cx="1963440" cy="62640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6797880" y="4994280"/>
                  <a:ext cx="0" cy="250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5848200" y="5244480"/>
                  <a:ext cx="1963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7811640" y="524448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5848560" y="524448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2175120" y="4994280"/>
                <a:ext cx="1773360" cy="689760"/>
                <a:chOff x="2175120" y="4994280"/>
                <a:chExt cx="1773360" cy="68976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2998800" y="4994280"/>
                  <a:ext cx="0" cy="313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948480" y="530784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2175120" y="530784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2" name=""/>
              <p:cNvSpPr/>
              <p:nvPr/>
            </p:nvSpPr>
            <p:spPr>
              <a:xfrm flipH="1">
                <a:off x="2175120" y="5308200"/>
                <a:ext cx="1773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تنظيم في إدارة الافراد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Simplified Arabic"/>
              </a:rPr>
              <a:t> </a:t>
            </a:r>
            <a:r>
              <a:rPr b="0" lang="hi-IN" sz="3200" spc="-1" strike="noStrike">
                <a:solidFill>
                  <a:srgbClr val="ffffcc"/>
                </a:solidFill>
                <a:latin typeface="Tahoma"/>
                <a:cs typeface="Simplified Arabic"/>
              </a:rPr>
              <a:t>وحدة مركزية ووحدات تابعة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34" name=""/>
          <p:cNvGrpSpPr/>
          <p:nvPr/>
        </p:nvGrpSpPr>
        <p:grpSpPr>
          <a:xfrm>
            <a:off x="1295280" y="2432160"/>
            <a:ext cx="7467480" cy="3816000"/>
            <a:chOff x="1295280" y="2432160"/>
            <a:chExt cx="7467480" cy="3816000"/>
          </a:xfrm>
        </p:grpSpPr>
        <p:sp>
          <p:nvSpPr>
            <p:cNvPr id="1635" name=""/>
            <p:cNvSpPr/>
            <p:nvPr/>
          </p:nvSpPr>
          <p:spPr>
            <a:xfrm flipH="1">
              <a:off x="1995840" y="4686840"/>
              <a:ext cx="1788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1295280" y="2432160"/>
              <a:ext cx="7467480" cy="3816000"/>
              <a:chOff x="1295280" y="2432160"/>
              <a:chExt cx="7467480" cy="3816000"/>
            </a:xfrm>
          </p:grpSpPr>
          <p:sp>
            <p:nvSpPr>
              <p:cNvPr id="1637" name=""/>
              <p:cNvSpPr/>
              <p:nvPr/>
            </p:nvSpPr>
            <p:spPr>
              <a:xfrm>
                <a:off x="3656160" y="2432160"/>
                <a:ext cx="2808720" cy="4626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مدير العام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762880" y="3125520"/>
                <a:ext cx="2808720" cy="3477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أفـــراد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486440" y="3125520"/>
                <a:ext cx="2873160" cy="3477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تمويل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102800" y="3993480"/>
                <a:ext cx="1467360" cy="403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تصنيع 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124000" y="3993480"/>
                <a:ext cx="1532160" cy="405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قسم السلعة  ب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358400" y="5728320"/>
                <a:ext cx="1404360" cy="4622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أ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273720" y="4686840"/>
                <a:ext cx="1404360" cy="7520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حدة أفراد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تصنيع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081960" y="5033520"/>
                <a:ext cx="1339560" cy="3466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حدة افراد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295280" y="5033520"/>
                <a:ext cx="1404360" cy="3466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حدة تمويل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2826360" y="2952000"/>
                <a:ext cx="4595760" cy="173160"/>
                <a:chOff x="2826360" y="2952000"/>
                <a:chExt cx="4595760" cy="17316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2826360" y="2952000"/>
                  <a:ext cx="0" cy="17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7422120" y="2952000"/>
                  <a:ext cx="0" cy="17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2826360" y="2952000"/>
                  <a:ext cx="4595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"/>
              <p:cNvSpPr/>
              <p:nvPr/>
            </p:nvSpPr>
            <p:spPr>
              <a:xfrm flipH="1">
                <a:off x="5123880" y="2837160"/>
                <a:ext cx="1080" cy="80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954160" y="3646800"/>
                <a:ext cx="0" cy="34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549920" y="3646800"/>
                <a:ext cx="0" cy="34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>
                <a:off x="2954160" y="3646800"/>
                <a:ext cx="4595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4" name=""/>
              <p:cNvGrpSpPr/>
              <p:nvPr/>
            </p:nvGrpSpPr>
            <p:grpSpPr>
              <a:xfrm>
                <a:off x="1995840" y="4397400"/>
                <a:ext cx="1786680" cy="635400"/>
                <a:chOff x="1995840" y="4397400"/>
                <a:chExt cx="1786680" cy="635400"/>
              </a:xfrm>
            </p:grpSpPr>
            <p:sp>
              <p:nvSpPr>
                <p:cNvPr id="1655" name=""/>
                <p:cNvSpPr/>
                <p:nvPr/>
              </p:nvSpPr>
              <p:spPr>
                <a:xfrm>
                  <a:off x="2825640" y="4397400"/>
                  <a:ext cx="0" cy="289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3782520" y="4686480"/>
                  <a:ext cx="0" cy="34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995840" y="4686480"/>
                  <a:ext cx="0" cy="34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8" name=""/>
              <p:cNvSpPr/>
              <p:nvPr/>
            </p:nvSpPr>
            <p:spPr>
              <a:xfrm>
                <a:off x="5443560" y="3993480"/>
                <a:ext cx="1531080" cy="403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Simplified Arabic"/>
                  </a:rPr>
                  <a:t>   قسم السلعة أ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45680" y="5843160"/>
                <a:ext cx="1339560" cy="405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ب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295280" y="5843160"/>
                <a:ext cx="1404360" cy="405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ج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1" name=""/>
              <p:cNvGrpSpPr/>
              <p:nvPr/>
            </p:nvGrpSpPr>
            <p:grpSpPr>
              <a:xfrm>
                <a:off x="1932480" y="5207040"/>
                <a:ext cx="1851480" cy="577080"/>
                <a:chOff x="1932480" y="5207040"/>
                <a:chExt cx="1851480" cy="577080"/>
              </a:xfrm>
            </p:grpSpPr>
            <p:grpSp>
              <p:nvGrpSpPr>
                <p:cNvPr id="1662" name=""/>
                <p:cNvGrpSpPr/>
                <p:nvPr/>
              </p:nvGrpSpPr>
              <p:grpSpPr>
                <a:xfrm>
                  <a:off x="1995840" y="5207040"/>
                  <a:ext cx="1788120" cy="577080"/>
                  <a:chOff x="1995840" y="5207040"/>
                  <a:chExt cx="1788120" cy="577080"/>
                </a:xfrm>
              </p:grpSpPr>
              <p:sp>
                <p:nvSpPr>
                  <p:cNvPr id="1663" name=""/>
                  <p:cNvSpPr/>
                  <p:nvPr/>
                </p:nvSpPr>
                <p:spPr>
                  <a:xfrm>
                    <a:off x="2826360" y="5207040"/>
                    <a:ext cx="0" cy="262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3783960" y="5469480"/>
                    <a:ext cx="0" cy="314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1995840" y="5469480"/>
                    <a:ext cx="0" cy="314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6" name=""/>
                <p:cNvSpPr/>
                <p:nvPr/>
              </p:nvSpPr>
              <p:spPr>
                <a:xfrm flipH="1">
                  <a:off x="1932480" y="5469480"/>
                  <a:ext cx="1788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7" name=""/>
              <p:cNvSpPr/>
              <p:nvPr/>
            </p:nvSpPr>
            <p:spPr>
              <a:xfrm flipH="1">
                <a:off x="2826000" y="4570920"/>
                <a:ext cx="1080" cy="80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337080" y="3646800"/>
                <a:ext cx="0" cy="34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7676640" y="5033520"/>
                <a:ext cx="511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8187480" y="4456080"/>
                <a:ext cx="0" cy="1212840"/>
                <a:chOff x="8187480" y="4456080"/>
                <a:chExt cx="0" cy="121284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8187480" y="4456080"/>
                  <a:ext cx="0" cy="1098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8187480" y="5322240"/>
                  <a:ext cx="0" cy="34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تنظيم في إدارة الافراد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3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Simplified Arabic"/>
              </a:rPr>
              <a:t> </a:t>
            </a:r>
            <a:r>
              <a:rPr b="0" lang="hi-IN" sz="3200" spc="-1" strike="noStrike">
                <a:solidFill>
                  <a:srgbClr val="ffffcc"/>
                </a:solidFill>
                <a:latin typeface="Tahoma"/>
                <a:cs typeface="Simplified Arabic"/>
              </a:rPr>
              <a:t>وحدة مركزية ووحدات على مستوى المصان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1371600" y="2565360"/>
            <a:ext cx="6858000" cy="3530520"/>
            <a:chOff x="1371600" y="2565360"/>
            <a:chExt cx="6858000" cy="3530520"/>
          </a:xfrm>
        </p:grpSpPr>
        <p:grpSp>
          <p:nvGrpSpPr>
            <p:cNvPr id="1675" name=""/>
            <p:cNvGrpSpPr/>
            <p:nvPr/>
          </p:nvGrpSpPr>
          <p:grpSpPr>
            <a:xfrm>
              <a:off x="1371600" y="2565360"/>
              <a:ext cx="6858000" cy="3530520"/>
              <a:chOff x="1371600" y="2565360"/>
              <a:chExt cx="6858000" cy="3530520"/>
            </a:xfrm>
          </p:grpSpPr>
          <p:sp>
            <p:nvSpPr>
              <p:cNvPr id="1676" name=""/>
              <p:cNvSpPr/>
              <p:nvPr/>
            </p:nvSpPr>
            <p:spPr>
              <a:xfrm>
                <a:off x="3685680" y="2565360"/>
                <a:ext cx="2546280" cy="415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مدير العام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537880" y="3291840"/>
                <a:ext cx="2546280" cy="3121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أفـــراد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661040" y="3291840"/>
                <a:ext cx="2604600" cy="3121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تمويل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479200" y="4071240"/>
                <a:ext cx="2603520" cy="362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قســم صناعي  س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775520" y="4071240"/>
                <a:ext cx="2430360" cy="3636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قسم صناعي  ص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447680" y="5109480"/>
                <a:ext cx="781920" cy="986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حدة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أفراد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أ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2" name=""/>
              <p:cNvGrpSpPr/>
              <p:nvPr/>
            </p:nvGrpSpPr>
            <p:grpSpPr>
              <a:xfrm>
                <a:off x="2874960" y="3136320"/>
                <a:ext cx="4166640" cy="155520"/>
                <a:chOff x="2874960" y="3136320"/>
                <a:chExt cx="4166640" cy="1555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2875320" y="3136320"/>
                  <a:ext cx="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7041600" y="3136320"/>
                  <a:ext cx="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flipH="1">
                  <a:off x="2874960" y="3136320"/>
                  <a:ext cx="4166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6" name=""/>
              <p:cNvSpPr/>
              <p:nvPr/>
            </p:nvSpPr>
            <p:spPr>
              <a:xfrm>
                <a:off x="4958640" y="2980800"/>
                <a:ext cx="0" cy="77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991600" y="3760200"/>
                <a:ext cx="0" cy="311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157880" y="3760200"/>
                <a:ext cx="0" cy="311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2991240" y="3760200"/>
                <a:ext cx="4166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354760" y="4434120"/>
                <a:ext cx="0" cy="51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231960" y="4434120"/>
                <a:ext cx="0" cy="51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032360" y="5109480"/>
                <a:ext cx="781920" cy="986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حدة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أفراد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ج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511800" y="5731920"/>
                <a:ext cx="51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602360" y="4952160"/>
                <a:ext cx="0" cy="33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65120" y="4952160"/>
                <a:ext cx="0" cy="33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1602000" y="4952160"/>
                <a:ext cx="1562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644200" y="5316480"/>
                <a:ext cx="867600" cy="758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371600" y="5316480"/>
                <a:ext cx="867240" cy="758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Simplified Arabic"/>
                  </a:rPr>
                  <a:t> د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421600" y="4952160"/>
                <a:ext cx="0" cy="33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984360" y="4952160"/>
                <a:ext cx="0" cy="33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5421240" y="4953600"/>
                <a:ext cx="1562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231960" y="5316480"/>
                <a:ext cx="867240" cy="758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أ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132160" y="5316480"/>
                <a:ext cx="867600" cy="758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ب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7099200" y="5731920"/>
              <a:ext cx="4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تنظيم في إدارة الافراد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 </a:t>
            </a:r>
            <a:r>
              <a:rPr b="0" lang="hi-IN" sz="32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شكل المختلط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1368360" y="2349360"/>
            <a:ext cx="7394400" cy="3898800"/>
            <a:chOff x="1368360" y="2349360"/>
            <a:chExt cx="7394400" cy="3898800"/>
          </a:xfrm>
        </p:grpSpPr>
        <p:sp>
          <p:nvSpPr>
            <p:cNvPr id="1707" name=""/>
            <p:cNvSpPr/>
            <p:nvPr/>
          </p:nvSpPr>
          <p:spPr>
            <a:xfrm>
              <a:off x="2934720" y="4448880"/>
              <a:ext cx="0" cy="64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1368360" y="2349360"/>
              <a:ext cx="7394400" cy="3898800"/>
              <a:chOff x="1368360" y="2349360"/>
              <a:chExt cx="7394400" cy="3898800"/>
            </a:xfrm>
          </p:grpSpPr>
          <p:sp>
            <p:nvSpPr>
              <p:cNvPr id="1709" name=""/>
              <p:cNvSpPr/>
              <p:nvPr/>
            </p:nvSpPr>
            <p:spPr>
              <a:xfrm>
                <a:off x="2934720" y="5048280"/>
                <a:ext cx="0" cy="600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10" name=""/>
              <p:cNvGrpSpPr/>
              <p:nvPr/>
            </p:nvGrpSpPr>
            <p:grpSpPr>
              <a:xfrm>
                <a:off x="1368360" y="2349360"/>
                <a:ext cx="7394400" cy="3898800"/>
                <a:chOff x="1368360" y="2349360"/>
                <a:chExt cx="7394400" cy="389880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3687480" y="2349360"/>
                  <a:ext cx="275688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4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المدير العام 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5442120" y="3198960"/>
                  <a:ext cx="275724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إدارة الأفـــراد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1555920" y="3198960"/>
                  <a:ext cx="282096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التمويل 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7382880" y="3999240"/>
                  <a:ext cx="1191960" cy="3996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التسويق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1493640" y="3948480"/>
                  <a:ext cx="2882880" cy="3996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قسم السلعة ب 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5879880" y="4498200"/>
                  <a:ext cx="1378440" cy="6501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افراد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التصنيع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184560" y="4648320"/>
                  <a:ext cx="131508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  </a:t>
                  </a: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افراد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1368360" y="4648320"/>
                  <a:ext cx="137808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تمويل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19" name=""/>
                <p:cNvGrpSpPr/>
                <p:nvPr/>
              </p:nvGrpSpPr>
              <p:grpSpPr>
                <a:xfrm>
                  <a:off x="2684520" y="2899080"/>
                  <a:ext cx="4511520" cy="299520"/>
                  <a:chOff x="2684520" y="2899080"/>
                  <a:chExt cx="4511520" cy="299520"/>
                </a:xfrm>
              </p:grpSpPr>
              <p:sp>
                <p:nvSpPr>
                  <p:cNvPr id="1720" name=""/>
                  <p:cNvSpPr/>
                  <p:nvPr/>
                </p:nvSpPr>
                <p:spPr>
                  <a:xfrm>
                    <a:off x="2684520" y="2899080"/>
                    <a:ext cx="0" cy="299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7196040" y="2899080"/>
                    <a:ext cx="0" cy="299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 flipH="1">
                    <a:off x="2684520" y="2899080"/>
                    <a:ext cx="45115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3" name=""/>
                <p:cNvSpPr/>
                <p:nvPr/>
              </p:nvSpPr>
              <p:spPr>
                <a:xfrm>
                  <a:off x="4940280" y="2749320"/>
                  <a:ext cx="0" cy="94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H="1">
                  <a:off x="2808720" y="3698280"/>
                  <a:ext cx="1080" cy="249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8072280" y="3698280"/>
                  <a:ext cx="0" cy="299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H="1">
                  <a:off x="2810160" y="3698280"/>
                  <a:ext cx="5261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8010360" y="4399200"/>
                  <a:ext cx="0" cy="1098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28" name=""/>
                <p:cNvGrpSpPr/>
                <p:nvPr/>
              </p:nvGrpSpPr>
              <p:grpSpPr>
                <a:xfrm>
                  <a:off x="2119320" y="4248000"/>
                  <a:ext cx="1754640" cy="450360"/>
                  <a:chOff x="2119320" y="4248000"/>
                  <a:chExt cx="1754640" cy="45036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2934360" y="4248000"/>
                    <a:ext cx="0" cy="2048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73960" y="4452840"/>
                    <a:ext cx="0" cy="24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2119320" y="4452840"/>
                    <a:ext cx="0" cy="24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2" name=""/>
                <p:cNvSpPr/>
                <p:nvPr/>
              </p:nvSpPr>
              <p:spPr>
                <a:xfrm flipH="1">
                  <a:off x="2119320" y="4448880"/>
                  <a:ext cx="175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5691960" y="3999240"/>
                  <a:ext cx="1440720" cy="3996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قسم السلعة أ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6443640" y="3698280"/>
                  <a:ext cx="0" cy="299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6757200" y="5248800"/>
                  <a:ext cx="200556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مبيعات المناطق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5504040" y="5798880"/>
                  <a:ext cx="3258720" cy="3996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أفراد مبيعات المناطق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372480" y="5848200"/>
                  <a:ext cx="187848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افراد مصنع أ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1368360" y="5848200"/>
                  <a:ext cx="187992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تمويل مصنع  أ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>
                  <a:off x="2057040" y="5648760"/>
                  <a:ext cx="1754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245320" y="5098680"/>
                  <a:ext cx="131508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مصنع أ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3811680" y="5653440"/>
                  <a:ext cx="0" cy="24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2057400" y="5653440"/>
                  <a:ext cx="0" cy="24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>
                  <a:off x="7258320" y="4848480"/>
                  <a:ext cx="751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  <a:cs typeface="Simplified Arabic"/>
              </a:rPr>
              <a:t>وظائف إدارة الافرا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1295280" y="3500280"/>
            <a:ext cx="7314480" cy="1439640"/>
            <a:chOff x="1295280" y="3500280"/>
            <a:chExt cx="7314480" cy="1439640"/>
          </a:xfrm>
        </p:grpSpPr>
        <p:grpSp>
          <p:nvGrpSpPr>
            <p:cNvPr id="1746" name=""/>
            <p:cNvGrpSpPr/>
            <p:nvPr/>
          </p:nvGrpSpPr>
          <p:grpSpPr>
            <a:xfrm>
              <a:off x="7529040" y="3500280"/>
              <a:ext cx="1080720" cy="1439280"/>
              <a:chOff x="7529040" y="3500280"/>
              <a:chExt cx="1080720" cy="1439280"/>
            </a:xfrm>
          </p:grpSpPr>
          <p:sp>
            <p:nvSpPr>
              <p:cNvPr id="1747" name=""/>
              <p:cNvSpPr/>
              <p:nvPr/>
            </p:nvSpPr>
            <p:spPr>
              <a:xfrm>
                <a:off x="7812720" y="3500280"/>
                <a:ext cx="79704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تخطيط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موارد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بشرية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>
                <a:off x="7529040" y="4177800"/>
                <a:ext cx="28368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6384600" y="3500280"/>
              <a:ext cx="1143720" cy="1439280"/>
              <a:chOff x="6384600" y="3500280"/>
              <a:chExt cx="1143720" cy="1439280"/>
            </a:xfrm>
          </p:grpSpPr>
          <p:sp>
            <p:nvSpPr>
              <p:cNvPr id="1750" name=""/>
              <p:cNvSpPr/>
              <p:nvPr/>
            </p:nvSpPr>
            <p:spPr>
              <a:xfrm>
                <a:off x="6684840" y="3500280"/>
                <a:ext cx="84348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تحليل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تصميم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وظائف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6384600" y="4177800"/>
                <a:ext cx="30024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238360" y="3500280"/>
              <a:ext cx="1145880" cy="1439280"/>
              <a:chOff x="5238360" y="3500280"/>
              <a:chExt cx="1145880" cy="1439280"/>
            </a:xfrm>
          </p:grpSpPr>
          <p:sp>
            <p:nvSpPr>
              <p:cNvPr id="1753" name=""/>
              <p:cNvSpPr/>
              <p:nvPr/>
            </p:nvSpPr>
            <p:spPr>
              <a:xfrm>
                <a:off x="5539320" y="3500280"/>
                <a:ext cx="84492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استقطاب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الاختيار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التعيين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5238360" y="4177800"/>
                <a:ext cx="30060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5" name=""/>
            <p:cNvGrpSpPr/>
            <p:nvPr/>
          </p:nvGrpSpPr>
          <p:grpSpPr>
            <a:xfrm>
              <a:off x="4221720" y="3500280"/>
              <a:ext cx="1016640" cy="1439280"/>
              <a:chOff x="4221720" y="3500280"/>
              <a:chExt cx="1016640" cy="1439280"/>
            </a:xfrm>
          </p:grpSpPr>
          <p:sp>
            <p:nvSpPr>
              <p:cNvPr id="1756" name=""/>
              <p:cNvSpPr/>
              <p:nvPr/>
            </p:nvSpPr>
            <p:spPr>
              <a:xfrm>
                <a:off x="4488840" y="3500280"/>
                <a:ext cx="74952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تدريب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>
                <a:off x="4221720" y="4177800"/>
                <a:ext cx="26676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8" name=""/>
            <p:cNvGrpSpPr/>
            <p:nvPr/>
          </p:nvGrpSpPr>
          <p:grpSpPr>
            <a:xfrm>
              <a:off x="3203640" y="3500280"/>
              <a:ext cx="1016640" cy="1439280"/>
              <a:chOff x="3203640" y="3500280"/>
              <a:chExt cx="1016640" cy="1439280"/>
            </a:xfrm>
          </p:grpSpPr>
          <p:sp>
            <p:nvSpPr>
              <p:cNvPr id="1759" name=""/>
              <p:cNvSpPr/>
              <p:nvPr/>
            </p:nvSpPr>
            <p:spPr>
              <a:xfrm>
                <a:off x="3470760" y="3500280"/>
                <a:ext cx="74952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تقييم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أداء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3203640" y="4177800"/>
                <a:ext cx="26676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2058120" y="3500280"/>
              <a:ext cx="1143720" cy="1439280"/>
              <a:chOff x="2058120" y="3500280"/>
              <a:chExt cx="1143720" cy="1439280"/>
            </a:xfrm>
          </p:grpSpPr>
          <p:sp>
            <p:nvSpPr>
              <p:cNvPr id="1762" name=""/>
              <p:cNvSpPr/>
              <p:nvPr/>
            </p:nvSpPr>
            <p:spPr>
              <a:xfrm>
                <a:off x="2358360" y="3500280"/>
                <a:ext cx="84348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تعويضات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2058120" y="4177800"/>
                <a:ext cx="30024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4" name=""/>
            <p:cNvSpPr/>
            <p:nvPr/>
          </p:nvSpPr>
          <p:spPr>
            <a:xfrm>
              <a:off x="1295280" y="3500280"/>
              <a:ext cx="750240" cy="1439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صحة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و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سلامة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مدرسة النظم الاجتماع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نظمة وحدة اجتماع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للمنظمة حاجات مثل الكائن الح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ساس لنظرية الموق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ن روادها سليزنك وبارسون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2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imes New Roman"/>
                <a:cs typeface="Motken noqta"/>
              </a:rPr>
              <a:t>إدارة التسوي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eting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حادي عش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فهوم التسوي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خصائص النشاط التسويق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راحل تطور الفكر التسويق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اصر المزيج التسويق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حوث التسوي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مفهوم التسوي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”الوسيلة التي يستخدمها المنتج لتقديم المزيج التسويقي من منتجات و تسعير و ترويج و توزيع لإشباع احتياجات ورغبات المستهلكين وتحقيق أهدافهم المختلفة داخل حدود المجتمع الذي يعملون فيه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خصائص النشاط التسويق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سويق عملية مخطط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التسويق بوجود سلعة أو خدمة أو فك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بد من وجود طرفين ليتم التسوي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اصر التسويق:المنتج، السعر، التوزيع ، و التروي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راسة ظروف البيئة  لتصميم المزيج التسويق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دف التسويق تحقيق رغبات المستهل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نافع التي يحققها التسويق: شكلية،أو زمنية، أو مكانية أو حياز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سويق مهم لجميع المنظم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سويق يبدأ قبل و أثناء و بعد عملية الانتا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مراحل تطور الفكر التسويق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رحلة المفهوم الانتاجي للتسوي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رحلة المفهوم البيعي للتسوي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رحلة المفهوم الحديث للتسوي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رحلة المفهوم الاجتماعي للتسوي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عناصر المزيج التسويق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2362320" y="1981080"/>
            <a:ext cx="4951440" cy="4364280"/>
            <a:chOff x="2362320" y="1981080"/>
            <a:chExt cx="4951440" cy="4364280"/>
          </a:xfrm>
        </p:grpSpPr>
        <p:grpSp>
          <p:nvGrpSpPr>
            <p:cNvPr id="1778" name=""/>
            <p:cNvGrpSpPr/>
            <p:nvPr/>
          </p:nvGrpSpPr>
          <p:grpSpPr>
            <a:xfrm>
              <a:off x="2362320" y="1981080"/>
              <a:ext cx="4951440" cy="4364280"/>
              <a:chOff x="2362320" y="1981080"/>
              <a:chExt cx="4951440" cy="4364280"/>
            </a:xfrm>
          </p:grpSpPr>
          <p:grpSp>
            <p:nvGrpSpPr>
              <p:cNvPr id="1779" name=""/>
              <p:cNvGrpSpPr/>
              <p:nvPr/>
            </p:nvGrpSpPr>
            <p:grpSpPr>
              <a:xfrm>
                <a:off x="2362320" y="1981080"/>
                <a:ext cx="4951440" cy="4364280"/>
                <a:chOff x="2362320" y="1981080"/>
                <a:chExt cx="4951440" cy="436428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2362320" y="1981080"/>
                  <a:ext cx="4951440" cy="436428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803480" y="2045880"/>
                  <a:ext cx="68760" cy="4233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939560" y="2559600"/>
                  <a:ext cx="1627920" cy="83412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cccc00"/>
                      </a:solidFill>
                      <a:latin typeface="Arial"/>
                      <a:cs typeface="Simplified Arabic"/>
                    </a:rPr>
                    <a:t>المنتج 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cc00"/>
                      </a:solidFill>
                      <a:latin typeface="Times New Roman"/>
                      <a:ea typeface="Times New Roman"/>
                    </a:rPr>
                    <a:t>product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2973240" y="2623320"/>
                  <a:ext cx="1628280" cy="83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cccc00"/>
                      </a:solidFill>
                      <a:latin typeface="Arial"/>
                      <a:cs typeface="Simplified Arabic"/>
                    </a:rPr>
                    <a:t>الترويج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cc00"/>
                      </a:solidFill>
                      <a:latin typeface="Times New Roman"/>
                      <a:ea typeface="Times New Roman"/>
                    </a:rPr>
                    <a:t>Promotion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142960" y="4804560"/>
                  <a:ext cx="1627920" cy="83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cccc00"/>
                      </a:solidFill>
                      <a:latin typeface="Arial"/>
                      <a:cs typeface="Simplified Arabic"/>
                    </a:rPr>
                    <a:t>التسعير  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cc00"/>
                      </a:solidFill>
                      <a:latin typeface="Times New Roman"/>
                      <a:ea typeface="Times New Roman"/>
                    </a:rPr>
                    <a:t>price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2904840" y="4868280"/>
                  <a:ext cx="1627920" cy="83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4000" spc="-1" strike="noStrike">
                      <a:solidFill>
                        <a:srgbClr val="cccc00"/>
                      </a:solidFill>
                      <a:latin typeface="Arial"/>
                      <a:cs typeface="Simplified Arabic"/>
                    </a:rPr>
                    <a:t>التوزيع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cc00"/>
                      </a:solidFill>
                      <a:latin typeface="Times New Roman"/>
                      <a:ea typeface="Times New Roman"/>
                    </a:rPr>
                    <a:t>place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6" name=""/>
              <p:cNvSpPr/>
              <p:nvPr/>
            </p:nvSpPr>
            <p:spPr>
              <a:xfrm flipH="1">
                <a:off x="2362320" y="4163760"/>
                <a:ext cx="495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4057560" y="3521520"/>
              <a:ext cx="1627920" cy="1475280"/>
              <a:chOff x="4057560" y="3521520"/>
              <a:chExt cx="1627920" cy="1475280"/>
            </a:xfrm>
          </p:grpSpPr>
          <p:sp>
            <p:nvSpPr>
              <p:cNvPr id="1788" name=""/>
              <p:cNvSpPr/>
              <p:nvPr/>
            </p:nvSpPr>
            <p:spPr>
              <a:xfrm>
                <a:off x="4057560" y="3521520"/>
                <a:ext cx="1627920" cy="1475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057560" y="3777480"/>
                <a:ext cx="1627920" cy="83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4Ps</a:t>
                </a: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عناصر المزيج الترويج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2590920" y="2057400"/>
            <a:ext cx="4608360" cy="4321080"/>
            <a:chOff x="2590920" y="2057400"/>
            <a:chExt cx="4608360" cy="4321080"/>
          </a:xfrm>
        </p:grpSpPr>
        <p:grpSp>
          <p:nvGrpSpPr>
            <p:cNvPr id="1792" name=""/>
            <p:cNvGrpSpPr/>
            <p:nvPr/>
          </p:nvGrpSpPr>
          <p:grpSpPr>
            <a:xfrm>
              <a:off x="2590920" y="2057400"/>
              <a:ext cx="4608360" cy="4321080"/>
              <a:chOff x="2590920" y="2057400"/>
              <a:chExt cx="4608360" cy="4321080"/>
            </a:xfrm>
          </p:grpSpPr>
          <p:grpSp>
            <p:nvGrpSpPr>
              <p:cNvPr id="1793" name=""/>
              <p:cNvGrpSpPr/>
              <p:nvPr/>
            </p:nvGrpSpPr>
            <p:grpSpPr>
              <a:xfrm>
                <a:off x="2590920" y="2057400"/>
                <a:ext cx="4608360" cy="4321080"/>
                <a:chOff x="2590920" y="2057400"/>
                <a:chExt cx="4608360" cy="4321080"/>
              </a:xfrm>
            </p:grpSpPr>
            <p:sp>
              <p:nvSpPr>
                <p:cNvPr id="1794" name=""/>
                <p:cNvSpPr/>
                <p:nvPr/>
              </p:nvSpPr>
              <p:spPr>
                <a:xfrm>
                  <a:off x="2590920" y="2057400"/>
                  <a:ext cx="4608360" cy="432108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95" name=""/>
                <p:cNvGrpSpPr/>
                <p:nvPr/>
              </p:nvGrpSpPr>
              <p:grpSpPr>
                <a:xfrm>
                  <a:off x="2590920" y="2631960"/>
                  <a:ext cx="4586400" cy="3671640"/>
                  <a:chOff x="2590920" y="2631960"/>
                  <a:chExt cx="4586400" cy="367164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4894560" y="2631960"/>
                    <a:ext cx="1633320" cy="79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تنشيط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مبيعات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022560" y="2703240"/>
                    <a:ext cx="1633680" cy="79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إعلان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5543640" y="3928680"/>
                    <a:ext cx="1633680" cy="79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بيع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شخصي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 flipH="1">
                    <a:off x="5470200" y="3423960"/>
                    <a:ext cx="1584360" cy="504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 flipV="1">
                    <a:off x="2590920" y="4215960"/>
                    <a:ext cx="1655640" cy="216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5327640" y="4503600"/>
                    <a:ext cx="1440000" cy="936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 flipH="1">
                    <a:off x="4319640" y="4792320"/>
                    <a:ext cx="432000" cy="1511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4246560" y="3568320"/>
                    <a:ext cx="1297080" cy="12240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مزيج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ترويجي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2878200" y="4503600"/>
                    <a:ext cx="1633680" cy="79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دعاية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والنشر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05" name=""/>
              <p:cNvSpPr/>
              <p:nvPr/>
            </p:nvSpPr>
            <p:spPr>
              <a:xfrm>
                <a:off x="4606920" y="2057400"/>
                <a:ext cx="144360" cy="151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4535640" y="5226120"/>
              <a:ext cx="1655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تسويق المب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منافذ و قنوات التوزي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808" name=""/>
          <p:cNvGrpSpPr/>
          <p:nvPr/>
        </p:nvGrpSpPr>
        <p:grpSpPr>
          <a:xfrm>
            <a:off x="1295280" y="2060640"/>
            <a:ext cx="7314840" cy="4187520"/>
            <a:chOff x="1295280" y="2060640"/>
            <a:chExt cx="7314840" cy="4187520"/>
          </a:xfrm>
        </p:grpSpPr>
        <p:grpSp>
          <p:nvGrpSpPr>
            <p:cNvPr id="1809" name=""/>
            <p:cNvGrpSpPr/>
            <p:nvPr/>
          </p:nvGrpSpPr>
          <p:grpSpPr>
            <a:xfrm>
              <a:off x="1295280" y="2060640"/>
              <a:ext cx="7314840" cy="4187520"/>
              <a:chOff x="1295280" y="2060640"/>
              <a:chExt cx="7314840" cy="4187520"/>
            </a:xfrm>
          </p:grpSpPr>
          <p:sp>
            <p:nvSpPr>
              <p:cNvPr id="1810" name=""/>
              <p:cNvSpPr/>
              <p:nvPr/>
            </p:nvSpPr>
            <p:spPr>
              <a:xfrm>
                <a:off x="8279280" y="2718720"/>
                <a:ext cx="0" cy="299052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295280" y="2060640"/>
                <a:ext cx="7117560" cy="53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المنتج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  <a:ea typeface="Simplified Arabic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624680" y="3137760"/>
                <a:ext cx="1876320" cy="538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وكيل بيع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  <a:ea typeface="Simplified Arabic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864960" y="3137760"/>
                <a:ext cx="1876320" cy="538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تاجر جملة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171480" y="3137760"/>
                <a:ext cx="1876680" cy="1495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وكيل بيع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  <a:ea typeface="Simplified Arabic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أو تاجر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  <a:ea typeface="Simplified Arabic"/>
                  </a:rPr>
                  <a:t> </a:t>
                </a: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تجزئة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931200" y="3914280"/>
                <a:ext cx="1876680" cy="53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تاجر تجزئة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24680" y="3914280"/>
                <a:ext cx="1876320" cy="53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تاجر جملة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24680" y="4812480"/>
                <a:ext cx="1876320" cy="53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تاجر تجزئة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492560" y="5709240"/>
                <a:ext cx="7117560" cy="538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مشتري نهائي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612520" y="2779200"/>
                <a:ext cx="0" cy="358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226280" y="2779200"/>
                <a:ext cx="0" cy="358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2612160" y="2779200"/>
                <a:ext cx="4613400" cy="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612520" y="3616560"/>
                <a:ext cx="0" cy="3582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612520" y="4453920"/>
                <a:ext cx="0" cy="3582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612520" y="5350320"/>
                <a:ext cx="0" cy="358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853880" y="2599920"/>
                <a:ext cx="0" cy="4770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6" name=""/>
            <p:cNvSpPr/>
            <p:nvPr/>
          </p:nvSpPr>
          <p:spPr>
            <a:xfrm>
              <a:off x="4853880" y="2897640"/>
              <a:ext cx="0" cy="2401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853880" y="3675960"/>
              <a:ext cx="0" cy="2991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بحوث التسوي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عملية منظمة لجمع و تصنيف و تحليل المعلومات التسويقية اللازمة لإعداد تقارير موسعة عن ما يحدث في السوق لمساعدة المدير على اتخاذ قرار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Garamond"/>
                <a:cs typeface="Motken noqta"/>
              </a:rPr>
              <a:t>إدارة الإنتاج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 Management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1" name=""/>
          <p:cNvSpPr/>
          <p:nvPr/>
        </p:nvSpPr>
        <p:spPr>
          <a:xfrm>
            <a:off x="0" y="331920"/>
            <a:ext cx="4140360" cy="115236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ثاني عش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المدرسة المعاصرة في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نموذج اليابان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نظرية الثقافة التنظيم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الجودة الك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هند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b9efee"/>
                </a:solidFill>
                <a:latin typeface="Garamond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97128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فهوم إدارة الإنتاج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همية وظيفة الإنتاج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دور حياة العمل الإنتاج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عملية الإنتاجية لوظيفة الإنتاج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راقبة الجود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مفهوم ادارة الانتاج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995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99"/>
                </a:solidFill>
                <a:latin typeface="Garamond"/>
                <a:cs typeface="Simplified Arabic"/>
              </a:rPr>
              <a:t>الانتاج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هو نتاج العناصر او القوى التي تستخدم في عملية التشغيل (العمال،رأس المال، الآلات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99"/>
                </a:solidFill>
                <a:latin typeface="Garamond"/>
                <a:cs typeface="Simplified Arabic"/>
              </a:rPr>
              <a:t>المنتج 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هو الناتج النهائي لعملية التشغيل (قلم ،سيارة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99"/>
                </a:solidFill>
                <a:latin typeface="Garamond"/>
                <a:cs typeface="Simplified Arabic"/>
              </a:rPr>
              <a:t>عملية الانتاج 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سلسلة اجراءات التشغيل التي تجرى على المادة لتحولها من صورتها الاولية الى صورتها الانتاجية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اهمية وظيفة الانتاج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77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أ-العوامل الخارجية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1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آليات السوق المتضارب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2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الظروف البيئية المحيط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ب- العوامل الداخلية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1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العمالة المتاح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2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المواد المستخدم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الالات والمعدات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4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اللوائح التنظيمية لسير العمل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أهداف النشاط الانتاجي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1066320" y="206064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أ – أهداف قصيرة الأجل (أمثلة)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حسين جودة الإنتاج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خفيض تكلفة الإنتاج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ب – أهداف طويلة الأجل (أمثلة)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زيادة معدلات الربحي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دعيم الاتجاه نحو التصدير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دورة حياة النشاط الانتاجي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2646360" y="2220840"/>
            <a:ext cx="4718160" cy="3989160"/>
            <a:chOff x="2646360" y="2220840"/>
            <a:chExt cx="4718160" cy="3989160"/>
          </a:xfrm>
        </p:grpSpPr>
        <p:sp>
          <p:nvSpPr>
            <p:cNvPr id="1843" name="_s26650"/>
            <p:cNvSpPr/>
            <p:nvPr/>
          </p:nvSpPr>
          <p:spPr>
            <a:xfrm>
              <a:off x="4041720" y="2252520"/>
              <a:ext cx="1925640" cy="163836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_s26651"/>
            <p:cNvSpPr/>
            <p:nvPr/>
          </p:nvSpPr>
          <p:spPr>
            <a:xfrm rot="3060000">
              <a:off x="5143680" y="2499840"/>
              <a:ext cx="1638000" cy="192744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927440"/>
                <a:gd name="textAreaBottom" fmla="*/ 1927800 h 19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_s26652"/>
            <p:cNvSpPr/>
            <p:nvPr/>
          </p:nvSpPr>
          <p:spPr>
            <a:xfrm rot="6180000">
              <a:off x="5379840" y="3381120"/>
              <a:ext cx="1638360" cy="192744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927440"/>
                <a:gd name="textAreaBottom" fmla="*/ 1927800 h 19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_s26653"/>
            <p:cNvSpPr/>
            <p:nvPr/>
          </p:nvSpPr>
          <p:spPr>
            <a:xfrm rot="9240000">
              <a:off x="4571280" y="4231800"/>
              <a:ext cx="1927080" cy="1638360"/>
            </a:xfrm>
            <a:custGeom>
              <a:avLst/>
              <a:gdLst>
                <a:gd name="textAreaLeft" fmla="*/ 0 w 1927080"/>
                <a:gd name="textAreaRight" fmla="*/ 1927440 w 192708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_s26654"/>
            <p:cNvSpPr/>
            <p:nvPr/>
          </p:nvSpPr>
          <p:spPr>
            <a:xfrm rot="12360000">
              <a:off x="3509640" y="4231440"/>
              <a:ext cx="1925640" cy="163836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_s26655"/>
            <p:cNvSpPr/>
            <p:nvPr/>
          </p:nvSpPr>
          <p:spPr>
            <a:xfrm rot="15420000">
              <a:off x="2991240" y="3381480"/>
              <a:ext cx="1638360" cy="192564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925640"/>
                <a:gd name="textAreaBottom" fmla="*/ 1926000 h 19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_s26656"/>
            <p:cNvSpPr/>
            <p:nvPr/>
          </p:nvSpPr>
          <p:spPr>
            <a:xfrm rot="18540000">
              <a:off x="3228120" y="2500920"/>
              <a:ext cx="1638000" cy="192564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925640"/>
                <a:gd name="textAreaBottom" fmla="*/ 1926000 h 19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_s26657"/>
            <p:cNvSpPr/>
            <p:nvPr/>
          </p:nvSpPr>
          <p:spPr>
            <a:xfrm>
              <a:off x="5508720" y="2235240"/>
              <a:ext cx="755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التنبؤ بالمبيعات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_s26658"/>
            <p:cNvSpPr/>
            <p:nvPr/>
          </p:nvSpPr>
          <p:spPr>
            <a:xfrm>
              <a:off x="6216480" y="4869000"/>
              <a:ext cx="756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تقدير التكلفة الكلية للوحد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_s26659"/>
            <p:cNvSpPr/>
            <p:nvPr/>
          </p:nvSpPr>
          <p:spPr>
            <a:xfrm>
              <a:off x="4627440" y="5519880"/>
              <a:ext cx="755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تقدير حجم الإنتاج المطلو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_s26660"/>
            <p:cNvSpPr/>
            <p:nvPr/>
          </p:nvSpPr>
          <p:spPr>
            <a:xfrm>
              <a:off x="6608880" y="3406680"/>
              <a:ext cx="755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التصميم في الاقسام الفني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_s26661"/>
            <p:cNvSpPr/>
            <p:nvPr/>
          </p:nvSpPr>
          <p:spPr>
            <a:xfrm>
              <a:off x="3040200" y="4869000"/>
              <a:ext cx="7538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وضع خطة الانتا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_s26662"/>
            <p:cNvSpPr/>
            <p:nvPr/>
          </p:nvSpPr>
          <p:spPr>
            <a:xfrm>
              <a:off x="2646360" y="3408480"/>
              <a:ext cx="755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موافقة قسم الرقاب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_s26663"/>
            <p:cNvSpPr/>
            <p:nvPr/>
          </p:nvSpPr>
          <p:spPr>
            <a:xfrm>
              <a:off x="3745080" y="2236680"/>
              <a:ext cx="75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الإنتاج في المخاز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العملية الادارية لوظيفة الإنتاج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066680" y="1915920"/>
            <a:ext cx="75376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حديد الأهدا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خطيط الانتاج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نظيم الانتاج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الرقابة على الانتاج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</a:rPr>
              <a:t>دورة الرقابة على الانتاج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774720" y="2108160"/>
            <a:ext cx="8064360" cy="4641840"/>
            <a:chOff x="774720" y="2108160"/>
            <a:chExt cx="8064360" cy="4641840"/>
          </a:xfrm>
        </p:grpSpPr>
        <p:grpSp>
          <p:nvGrpSpPr>
            <p:cNvPr id="1861" name=""/>
            <p:cNvGrpSpPr/>
            <p:nvPr/>
          </p:nvGrpSpPr>
          <p:grpSpPr>
            <a:xfrm>
              <a:off x="774720" y="2108160"/>
              <a:ext cx="7777080" cy="4641840"/>
              <a:chOff x="774720" y="2108160"/>
              <a:chExt cx="7777080" cy="4641840"/>
            </a:xfrm>
          </p:grpSpPr>
          <p:sp>
            <p:nvSpPr>
              <p:cNvPr id="1862" name=""/>
              <p:cNvSpPr/>
              <p:nvPr/>
            </p:nvSpPr>
            <p:spPr>
              <a:xfrm>
                <a:off x="919080" y="3547800"/>
                <a:ext cx="1944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99"/>
                    </a:solidFill>
                    <a:latin typeface="Tahoma"/>
                  </a:rPr>
                  <a:t>تقدير أوجه العلاج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V="1">
                <a:off x="1782720" y="4195800"/>
                <a:ext cx="0" cy="7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74720" y="5203800"/>
                <a:ext cx="1728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99"/>
                    </a:solidFill>
                    <a:latin typeface="Tahoma"/>
                  </a:rPr>
                  <a:t>اوجه القصور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1782720" y="6211800"/>
                <a:ext cx="165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1782720" y="5637240"/>
                <a:ext cx="0" cy="57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1854360" y="2395080"/>
                <a:ext cx="0" cy="108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854360" y="2395440"/>
                <a:ext cx="2305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375080" y="2108160"/>
                <a:ext cx="1657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cc"/>
                    </a:solidFill>
                    <a:latin typeface="Tahoma"/>
                  </a:rPr>
                  <a:t>(خط الانتاج)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175440" y="2395440"/>
                <a:ext cx="23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551800" y="2395440"/>
                <a:ext cx="0" cy="158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8551800" y="4771800"/>
                <a:ext cx="0" cy="144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6823080" y="6211800"/>
                <a:ext cx="17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583080" y="5924520"/>
                <a:ext cx="3095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99"/>
                    </a:solidFill>
                    <a:latin typeface="Tahoma"/>
                  </a:rPr>
                  <a:t>مقارنة نتائج القياس بالمعايير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1927080" y="2899800"/>
                <a:ext cx="3240360" cy="3095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19069800">
                <a:off x="2639160" y="3731760"/>
                <a:ext cx="1893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99"/>
                    </a:solidFill>
                    <a:latin typeface="Tahoma"/>
                  </a:rPr>
                  <a:t>تطابق المعايير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6535800" y="4076640"/>
              <a:ext cx="230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99"/>
                  </a:solidFill>
                  <a:latin typeface="Tahoma"/>
                </a:rPr>
                <a:t>قياس نتائج التنفي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مراقبة الجود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Garamond"/>
                <a:cs typeface="Simplified Arabic"/>
              </a:rPr>
              <a:t>الجود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Garamond"/>
                <a:ea typeface="Simplified Arabic"/>
              </a:rPr>
              <a:t>	</a:t>
            </a:r>
            <a:r>
              <a:rPr b="1" lang="hi-IN" sz="2800" spc="-1" strike="noStrike">
                <a:solidFill>
                  <a:srgbClr val="ffff99"/>
                </a:solidFill>
                <a:latin typeface="Garamond"/>
                <a:cs typeface="Simplified Arabic"/>
              </a:rPr>
              <a:t>مدى قدرة المنتج على إشباع حاجات المستهلكين من خلال الوفاء بالخصائص و الصفات المطلوبة فيه كسعر بيعه و مكان توزيعه ووقت بيعه والخدمات المصاحبة لتصريفه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cc"/>
                </a:solidFill>
                <a:latin typeface="Socrates"/>
              </a:rPr>
              <a:t>مراقبة الجودة تقتضي تعاون جميع الإدارات في المنظم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Garamond"/>
                <a:cs typeface="Motken noqta"/>
              </a:rPr>
              <a:t>الإدارة المالية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ncial Managem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1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ثالث عش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e5e5ff"/>
                </a:solidFill>
                <a:latin typeface="Garamond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فهوم الإدارة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هداف الإدارة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قرارات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خطيط (التنبؤ) المال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مجالات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العام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الأعما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الهيئات والمنظمات الخاص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الإقليمية الدولي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  <a:cs typeface="Simplified Arabic"/>
              </a:rPr>
              <a:t>مفهوم الإدارة المال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960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نشاط الذهني الذي يختص بالتخطيط و التنظيم والمتابعة لحركتي الدخول و الخروج للأموال الحالية و المرتقبة إلى ومن المنظم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  <a:cs typeface="Simplified Arabic"/>
              </a:rPr>
              <a:t>أهداف الإدارة المال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تعظيم صافي القيمة الحالية لثروة مالكي المنظم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وفاء بأعباء المسئولية الاجتماعي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  <a:cs typeface="Simplified Arabic"/>
              </a:rPr>
              <a:t>القرارات المال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ولا: القرارات الاستثمار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ثانيا: قرارات التمويل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ثالثا: قرارات إدارة رأس المال العامل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رابعا: قرارات توزيع الأرباح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  <a:cs typeface="Simplified Arabic"/>
              </a:rPr>
              <a:t>قرارات التموي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443880" y="2133720"/>
            <a:ext cx="7807680" cy="4751280"/>
            <a:chOff x="443880" y="2133720"/>
            <a:chExt cx="7807680" cy="4751280"/>
          </a:xfrm>
        </p:grpSpPr>
        <p:sp>
          <p:nvSpPr>
            <p:cNvPr id="1893" name=""/>
            <p:cNvSpPr/>
            <p:nvPr/>
          </p:nvSpPr>
          <p:spPr>
            <a:xfrm>
              <a:off x="3567240" y="2133720"/>
              <a:ext cx="2728800" cy="46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66"/>
                  </a:solidFill>
                  <a:latin typeface="Arial"/>
                  <a:cs typeface="Simplified Arabic"/>
                </a:rPr>
                <a:t>مصادر التموي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303160" y="3130920"/>
              <a:ext cx="2729160" cy="4708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66"/>
                  </a:solidFill>
                  <a:latin typeface="Arial"/>
                  <a:cs typeface="Simplified Arabic"/>
                </a:rPr>
                <a:t>الملكية</a:t>
              </a: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58360" y="3130920"/>
              <a:ext cx="2791440" cy="4708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66"/>
                  </a:solidFill>
                  <a:latin typeface="Arial"/>
                  <a:cs typeface="Simplified Arabic"/>
                </a:rPr>
                <a:t>الاستدان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575440" y="2779920"/>
              <a:ext cx="0" cy="350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039440" y="2779920"/>
              <a:ext cx="0" cy="350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2575080" y="2779920"/>
              <a:ext cx="446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9" name=""/>
            <p:cNvGrpSpPr/>
            <p:nvPr/>
          </p:nvGrpSpPr>
          <p:grpSpPr>
            <a:xfrm>
              <a:off x="5264640" y="3751920"/>
              <a:ext cx="2913480" cy="1173600"/>
              <a:chOff x="5264640" y="3751920"/>
              <a:chExt cx="2913480" cy="1173600"/>
            </a:xfrm>
          </p:grpSpPr>
          <p:sp>
            <p:nvSpPr>
              <p:cNvPr id="1900" name=""/>
              <p:cNvSpPr/>
              <p:nvPr/>
            </p:nvSpPr>
            <p:spPr>
              <a:xfrm>
                <a:off x="5264640" y="4456080"/>
                <a:ext cx="1364400" cy="46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66"/>
                    </a:solidFill>
                    <a:latin typeface="Arial"/>
                    <a:cs typeface="Simplified Arabic"/>
                  </a:rPr>
                  <a:t>طويل الأجل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814080" y="4456080"/>
                <a:ext cx="1364040" cy="46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66"/>
                    </a:solidFill>
                    <a:latin typeface="Arial"/>
                    <a:cs typeface="Simplified Arabic"/>
                  </a:rPr>
                  <a:t>قصير الأجل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627240" y="3751920"/>
                <a:ext cx="0" cy="23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5698080" y="39866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620480" y="3986640"/>
                <a:ext cx="0" cy="35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98080" y="3986640"/>
                <a:ext cx="0" cy="35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1520280" y="3818880"/>
              <a:ext cx="2851560" cy="1173240"/>
              <a:chOff x="1520280" y="3818880"/>
              <a:chExt cx="2851560" cy="1173240"/>
            </a:xfrm>
          </p:grpSpPr>
          <p:sp>
            <p:nvSpPr>
              <p:cNvPr id="1907" name=""/>
              <p:cNvSpPr/>
              <p:nvPr/>
            </p:nvSpPr>
            <p:spPr>
              <a:xfrm>
                <a:off x="3071160" y="4522680"/>
                <a:ext cx="1300680" cy="46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66"/>
                    </a:solidFill>
                    <a:latin typeface="Arial"/>
                    <a:cs typeface="Simplified Arabic"/>
                  </a:rPr>
                  <a:t>طويل الأجل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520280" y="4522680"/>
                <a:ext cx="1364400" cy="46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66"/>
                    </a:solidFill>
                    <a:latin typeface="Arial"/>
                    <a:cs typeface="Simplified Arabic"/>
                  </a:rPr>
                  <a:t>قصير الأجل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884680" y="3818880"/>
                <a:ext cx="0" cy="29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0" name=""/>
            <p:cNvSpPr/>
            <p:nvPr/>
          </p:nvSpPr>
          <p:spPr>
            <a:xfrm>
              <a:off x="3784680" y="4156560"/>
              <a:ext cx="0" cy="35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092320" y="4156560"/>
              <a:ext cx="0" cy="35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2078280" y="4113360"/>
              <a:ext cx="1735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521480" y="4965120"/>
              <a:ext cx="0" cy="26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40440" y="4965120"/>
              <a:ext cx="0" cy="26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784680" y="5033160"/>
              <a:ext cx="0" cy="26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092320" y="5033160"/>
              <a:ext cx="0" cy="26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942080" y="5483520"/>
              <a:ext cx="184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أرباح محتجز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أسهم مملوك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711480" y="5445000"/>
              <a:ext cx="15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أرباح دور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362400" y="5571360"/>
              <a:ext cx="842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قرو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سند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43880" y="5511600"/>
              <a:ext cx="2529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ائتمان مصرفي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ائتمان تجاري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مصروفات مستحق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  <a:cs typeface="Simplified Arabic"/>
              </a:rPr>
              <a:t>التخطيط المالي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1066680" y="2514600"/>
            <a:ext cx="7777440" cy="3733920"/>
            <a:chOff x="1066680" y="2514600"/>
            <a:chExt cx="7777440" cy="3733920"/>
          </a:xfrm>
        </p:grpSpPr>
        <p:sp>
          <p:nvSpPr>
            <p:cNvPr id="1923" name=""/>
            <p:cNvSpPr/>
            <p:nvPr/>
          </p:nvSpPr>
          <p:spPr>
            <a:xfrm>
              <a:off x="3633840" y="2514600"/>
              <a:ext cx="2705040" cy="5097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تخطيط المالي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354640" y="3597120"/>
              <a:ext cx="2703600" cy="513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قصير الأج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544760" y="3597120"/>
              <a:ext cx="2765160" cy="513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طويل الأج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651040" y="32162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074000" y="32162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2651040" y="3216240"/>
              <a:ext cx="4422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956200" y="4964040"/>
              <a:ext cx="1352520" cy="1284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ارباح لعناصر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تكاليف و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إيرادات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491240" y="4964040"/>
              <a:ext cx="1352880" cy="1284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ستثمارات جاري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Simplified Arabic"/>
                </a:rPr>
                <a:t> لعناصر الأصول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متداول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724800" y="4199040"/>
              <a:ext cx="0" cy="253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4973760" y="4419720"/>
              <a:ext cx="3332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305920" y="4419720"/>
              <a:ext cx="0" cy="38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724800" y="4419720"/>
              <a:ext cx="0" cy="38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603520" y="5110200"/>
              <a:ext cx="1289160" cy="10652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استثمارات الثابت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Simplified Arabic"/>
                </a:rPr>
                <a:t> كالشراء و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استئجار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66680" y="5110200"/>
              <a:ext cx="1352520" cy="10652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خصوم الثابتة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كالتمويل بالملكية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و الاستدان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535120" y="4272120"/>
              <a:ext cx="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371760" y="4638600"/>
              <a:ext cx="0" cy="38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625760" y="4638600"/>
              <a:ext cx="0" cy="38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1646280" y="4638600"/>
              <a:ext cx="171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952880" y="4417920"/>
              <a:ext cx="0" cy="38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349880" y="5003640"/>
              <a:ext cx="1352520" cy="1171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خصوم التجارية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للائتمان المصرفي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Simplified Arabic"/>
                </a:rPr>
                <a:t> و التجاري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الرقابة المال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قوائم المالية التقدي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حليل المالي بالنسبة لنتائج التصرفات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/>
          </p:nvPr>
        </p:nvSpPr>
        <p:spPr>
          <a:xfrm>
            <a:off x="457200" y="249372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eaeaea"/>
                </a:solidFill>
                <a:latin typeface="Verdana"/>
                <a:cs typeface="Motken noqta"/>
              </a:rPr>
              <a:t>نظام المعلومات الإدارية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nagement Information  System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رابع عش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1115640" y="2205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مفهوم نظم المعلومات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أهمية نظام المعلومات للإدار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الحاسوب و نظام المعلومات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مكانة نظام المعلومات في بيئة الأعمال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مفهوم نظام المعلوم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” النظام الذي يكفل توفير المعلومات التاريخية و الحالية و المستقبلية المطلوبة لصانعي القرارات “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مفهوم نظام المعلوم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54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Verdana"/>
                <a:cs typeface="Simplified Arabic"/>
              </a:rPr>
              <a:t>البيانات: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  <a:ea typeface="Simplified Arabic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eaeaea"/>
                </a:solidFill>
                <a:latin typeface="Verdana"/>
                <a:cs typeface="Simplified Arabic"/>
              </a:rPr>
              <a:t>هي المتطلبات أو المعطيات المجردة التي لها صفة الوصف أو التي لها صفة القياس كالأرقام  أو الزمن أو الطول أو الوزن و غيرها من المقاييس من المصادر الداخلية أو الخارجي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Verdana"/>
                <a:cs typeface="Simplified Arabic"/>
              </a:rPr>
              <a:t>المعلومات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eaeaea"/>
                </a:solidFill>
                <a:latin typeface="Verdana"/>
                <a:cs typeface="Simplified Arabic"/>
              </a:rPr>
              <a:t>هي البيانات التي أصبح لها معنى مفهوم واضح بعد معالجتها أو تشغيلها و هي بصورتها الاولية مما يكسبها صفة صلاحية إمكانية استخدامها لخدمة صانع القرار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عناصر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نشأ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وظائ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ها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وار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مكونات نظام المعلوم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1355760" y="2289240"/>
            <a:ext cx="7025760" cy="4035240"/>
            <a:chOff x="1355760" y="2289240"/>
            <a:chExt cx="7025760" cy="4035240"/>
          </a:xfrm>
        </p:grpSpPr>
        <p:sp>
          <p:nvSpPr>
            <p:cNvPr id="1956" name=""/>
            <p:cNvSpPr/>
            <p:nvPr/>
          </p:nvSpPr>
          <p:spPr>
            <a:xfrm>
              <a:off x="1355760" y="2768400"/>
              <a:ext cx="1986840" cy="1709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معلوم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نوعية كاملة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و جاهزة و دقيقة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769560" y="2768400"/>
              <a:ext cx="2021400" cy="2187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إجراء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جمع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بويب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صني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حليل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181920" y="2768400"/>
              <a:ext cx="2199600" cy="29390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بيان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حجم رأس الما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طاقة البشر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شريعات الحكوم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تشريعات العم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طاقة الإنتاج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طاقة البيع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موردي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مستهلكي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7318080" y="5844600"/>
              <a:ext cx="0" cy="479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278800" y="6324480"/>
              <a:ext cx="50392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278800" y="4614840"/>
              <a:ext cx="0" cy="1709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5826960" y="3998160"/>
              <a:ext cx="3549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3342240" y="3930480"/>
              <a:ext cx="4251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840120" y="5776920"/>
              <a:ext cx="1844280" cy="4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بيانات مرت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324480" y="2289240"/>
              <a:ext cx="1844640" cy="342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المدخل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40120" y="2289240"/>
              <a:ext cx="1916280" cy="342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عمليات التشغي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427760" y="2289240"/>
              <a:ext cx="1844280" cy="342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المخرج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أهمية نظام المعلوم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69" name=""/>
          <p:cNvGrpSpPr/>
          <p:nvPr/>
        </p:nvGrpSpPr>
        <p:grpSpPr>
          <a:xfrm>
            <a:off x="1328760" y="2060640"/>
            <a:ext cx="7129440" cy="4249800"/>
            <a:chOff x="1328760" y="2060640"/>
            <a:chExt cx="7129440" cy="4249800"/>
          </a:xfrm>
        </p:grpSpPr>
        <p:sp>
          <p:nvSpPr>
            <p:cNvPr id="1970" name=""/>
            <p:cNvSpPr/>
            <p:nvPr/>
          </p:nvSpPr>
          <p:spPr>
            <a:xfrm>
              <a:off x="1328760" y="2565360"/>
              <a:ext cx="2089080" cy="2232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قرارات إدارية في شكل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خطط استراتيج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و تكتيك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سياسات داخل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و خارج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نتائج أخر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778200" y="2565360"/>
              <a:ext cx="2051280" cy="230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تحليل البيانات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لأغراض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نب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نظي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رقاب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226200" y="2565360"/>
              <a:ext cx="2232000" cy="230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نظام المعلوم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إداري المتا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7378920" y="5805000"/>
              <a:ext cx="0" cy="505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65480" y="6310440"/>
              <a:ext cx="51134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265480" y="4941720"/>
              <a:ext cx="0" cy="13687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5865480" y="3860640"/>
              <a:ext cx="3603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3417480" y="3789360"/>
              <a:ext cx="3589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849840" y="5734080"/>
              <a:ext cx="1871640" cy="431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معلومات مرت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370560" y="2060640"/>
              <a:ext cx="1872000" cy="360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المدخل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49840" y="2060640"/>
              <a:ext cx="1944720" cy="360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التشغي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401840" y="2060640"/>
              <a:ext cx="1871640" cy="360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المخرج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حاسوب و نظام المعلوم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53768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آليات الحاسب الآلي مهمة في نقل معلومات الأعمال  للعديد من المستفيدين مثل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أصحاب المشروعات التجاري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فئة المستثمرين المرتقبي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فئة المديرين القائمين على إدارة الأعمال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فئة المستهلكين المتوقعي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مكانة نظام المعلومات في بيئة الاعمال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5" name="" descr=""/>
          <p:cNvPicPr/>
          <p:nvPr/>
        </p:nvPicPr>
        <p:blipFill>
          <a:blip r:embed="rId1"/>
          <a:stretch/>
        </p:blipFill>
        <p:spPr>
          <a:xfrm>
            <a:off x="1279440" y="2811600"/>
            <a:ext cx="69501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وظائف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خطي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تخاذ القرار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نظي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نسي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وجي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وظائف المنشأ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وارد البش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التسوي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الإنتاج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نظم المعلوم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/>
          </p:nvPr>
        </p:nvSpPr>
        <p:spPr>
          <a:xfrm>
            <a:off x="457200" y="249372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Verdana"/>
                <a:cs typeface="Motken noqta"/>
              </a:rPr>
              <a:t>التخطيط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n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"/>
          <p:cNvSpPr/>
          <p:nvPr/>
        </p:nvSpPr>
        <p:spPr>
          <a:xfrm>
            <a:off x="0" y="331920"/>
            <a:ext cx="4140360" cy="115236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ثان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cecff"/>
                </a:solidFill>
                <a:latin typeface="Arial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مفهوم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فوائد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عناصر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أنواع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خطوات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صفات التخطيط الفعا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معوقات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مفهوم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8204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”هو التحديد في الوقت الحاضر لما سيتم عمله في المستقبل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خصائص التخطيط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أنه مستقبلي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أنه توقعي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أنه يعتمد على القرارات و الإجراءات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أنه يركز على الأهدا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أنه عمليه مستمر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Garamond"/>
                <a:cs typeface="Motken noqta"/>
              </a:rPr>
              <a:t>مفهوم الإدارة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otken noqta"/>
              </a:rPr>
              <a:t> وتطورها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’s Concept and Developm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16000" y="69228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أو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فوائد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هم التخطيط في وضع أهداف واضحة للعم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حقق التخطيط التناسق بين الأهداف المتعدد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هم التخطيط في التعرف على مشكلات المستقب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عد التخطيط في وضع ضوابط للاستخدام الأمثل للموارد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هم التخطيط في الرقابة على العم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عد التخطيط في وضع برامج زمنية محدد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عد التخطيط على تنظيم العم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عناصر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771640" y="2997360"/>
            <a:ext cx="9399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5651640" y="2924280"/>
            <a:ext cx="939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 flipV="1">
            <a:off x="5508360" y="4220640"/>
            <a:ext cx="1127160" cy="76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2843280" y="4149360"/>
            <a:ext cx="1128600" cy="9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335640" y="2133720"/>
            <a:ext cx="1692360" cy="1141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440000" y="2143080"/>
            <a:ext cx="1692000" cy="1141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335640" y="4724280"/>
            <a:ext cx="1692360" cy="1141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584360" y="4808520"/>
            <a:ext cx="1692360" cy="1141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514680" y="3365640"/>
            <a:ext cx="24447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523200" y="2425680"/>
            <a:ext cx="1317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هد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03280" y="2421000"/>
            <a:ext cx="16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سياس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335640" y="5041800"/>
            <a:ext cx="16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جر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84360" y="5157720"/>
            <a:ext cx="16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و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635280" y="3718080"/>
            <a:ext cx="2255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كبير 6"/>
              </a:rPr>
              <a:t>عناصر التخط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عناصر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066320" y="2349360"/>
            <a:ext cx="7543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أهداف:  وهي الأغراض والغايات التي يراد تحقيقها في المستقبل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سياسات:  وهي مجموعة المبادئ والقواعد والقوانين التي تضعها الإدارة العليا في المنشأ ه لكي تسترشد بها باقي المستويات الإدارية في المنشأ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قواعد : وهي ما يجب القيام به وما ينبغي الامتناع عنه من سلوك أو تصرفات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إجراءات:  وهي سلسلة الأعمال والخطوات والمراحل التي يجب اتباعها لتنفيذ عمل مع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أنواع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915920"/>
            <a:ext cx="75376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التقسيم حسب الفترة الزمنية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Verdana"/>
                <a:cs typeface="Simplified Arabic"/>
              </a:rPr>
              <a:t>تخطيط طويل الأجل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تراوح المدة الزمنية لتخطيط طويل الأجل بين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إلى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سنو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  <a:ea typeface="Simplified Arabic"/>
              </a:rPr>
              <a:t> ب_ تخطيط متوسط الأجل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تراوح المدة الزمنية لتخطيط متوسط الأجل بين سنه إلى أقل من ثلاث سنوات وهو تفصيل للخطط طويلة الأج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  <a:ea typeface="Simplified Arabic"/>
              </a:rPr>
              <a:t> ج- تخطيط قصير الأجل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وتكون مدة قصيرة لا تتجاوز سنه واحدة وهو تفصيل للتخطيط متوسط الأج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أنواع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066680" y="1915920"/>
            <a:ext cx="75376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تقسيم حسب المستوى الإداري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Verdana"/>
                <a:cs typeface="Simplified Arabic"/>
              </a:rPr>
              <a:t>أ- التخطيط على المستوى الإدارة العليا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تمثل عادة بأعضاء مجلس الإدارة أو رئيس مجلس الإدارة أو مدراء العموم وتتميز بالبعد الاستراتيجي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Verdana"/>
                <a:cs typeface="Simplified Arabic"/>
              </a:rPr>
              <a:t>ب- التخطيط على مستوى الإدارة الوسطي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تي تتمثل عادة بمساعدي المدراء و رؤساء الأقسام و مدراء الإدارات الفرعية  وتتميز ببعده التفصيلي أو التكتيكي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Verdana"/>
                <a:cs typeface="Simplified Arabic"/>
              </a:rPr>
              <a:t>ج- التخطيط  على مستوى الإدارة الدني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تي تتمثل عادة بالمشرفين ورؤساء الشعب ويتميز بالخطط التشغيلية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خطوات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424560" y="2071800"/>
            <a:ext cx="2622600" cy="865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تحديد الأهدا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622840" y="2976480"/>
            <a:ext cx="2478240" cy="8654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جمع المعلوم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284720" y="3879720"/>
            <a:ext cx="2663640" cy="8654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وضع الافتراض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895480" y="4797360"/>
            <a:ext cx="2684520" cy="865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تحديد البدائ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441440" y="5703840"/>
            <a:ext cx="2843280" cy="8650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التنفيذ وتقويم النتائج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صفات التخطيط الفعا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3120" cy="41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وضوح الهدف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رون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بساط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شاركة في الإعدا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واقعي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حقيق التواز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تابعة و التقوي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معوقات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3120" cy="41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بيئة المعقد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نقص المعلوما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مقاومة التغي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عدم الواقعي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عدم التنسيق بين المشروعات الإدارية المختلف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وجود القيود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وقت و التكلف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tken noqta"/>
              </a:rPr>
              <a:t>اتخاذ القرارات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sion Mak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ثال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مفهوم اتخاذ القر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تخاذ القرارات والعملية الإدار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أنواع القرار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خطوات اتخاذ القر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أسلوب الجماعي في اتخاذ القرار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اسب الآلي واتخاذ القرار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e5e5ff"/>
                </a:solidFill>
                <a:latin typeface="Garamond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فهوم الإدا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همية الإدا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تطور الفكر الإدار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جالات الإدا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عناصر العملية الإدا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  <a:cs typeface="Simplified Arabic"/>
              </a:rPr>
              <a:t>مفهوم اتخاذ القرار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066320" y="2349360"/>
            <a:ext cx="75438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” هي عملية يتم بموجبها اختيار بديل للعمل من أجل حل مشكلة ما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أن اتخاذ القرار يمثل عملية ذهنية او حركية للوصول الى القرار المناس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أن اتخاذ القرار يقوم على اساس الاختيار من بين عدة بدائ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أن هناك هدفا أو غاية من وراء اتخاذ القر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اتخاذ القرارات والعملية الإداري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826920" y="2282760"/>
            <a:ext cx="8064360" cy="4936320"/>
            <a:chOff x="826920" y="2282760"/>
            <a:chExt cx="8064360" cy="4936320"/>
          </a:xfrm>
        </p:grpSpPr>
        <p:sp>
          <p:nvSpPr>
            <p:cNvPr id="1226" name=""/>
            <p:cNvSpPr/>
            <p:nvPr/>
          </p:nvSpPr>
          <p:spPr>
            <a:xfrm>
              <a:off x="2608920" y="2914200"/>
              <a:ext cx="4470120" cy="3140640"/>
            </a:xfrm>
            <a:prstGeom prst="diamond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69720" y="2282760"/>
              <a:ext cx="180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</a:rPr>
                <a:t>الرقاب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896640" y="6027840"/>
              <a:ext cx="180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</a:rPr>
                <a:t>التنظي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6920" y="4166280"/>
              <a:ext cx="180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</a:rPr>
                <a:t>التوجي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8400" y="4200120"/>
              <a:ext cx="180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</a:rPr>
                <a:t>التخطيط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89640" y="3646080"/>
              <a:ext cx="2308320" cy="166320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975840" y="3891960"/>
              <a:ext cx="1804320" cy="18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cc"/>
                  </a:solidFill>
                  <a:latin typeface="Arial"/>
                  <a:cs typeface="PT Bold Heading"/>
                </a:rPr>
                <a:t>اتخا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cc"/>
                  </a:solidFill>
                  <a:latin typeface="Arial"/>
                  <a:cs typeface="PT Bold Heading"/>
                </a:rPr>
                <a:t>القرارات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</a:rPr>
              <a:t>أنواع القرارات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34" name=""/>
          <p:cNvGraphicFramePr/>
          <p:nvPr/>
        </p:nvGraphicFramePr>
        <p:xfrm>
          <a:off x="1116000" y="1989000"/>
          <a:ext cx="7777080" cy="4813560"/>
        </p:xfrm>
        <a:graphic>
          <a:graphicData uri="http://schemas.openxmlformats.org/drawingml/2006/table">
            <a:tbl>
              <a:tblPr/>
              <a:tblGrid>
                <a:gridCol w="2581200"/>
                <a:gridCol w="3111480"/>
                <a:gridCol w="2084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القرارات غيرالمبرمج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القرارات المبرمج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عنصر المقارن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Simplified Arabic"/>
                        </a:rPr>
                        <a:t>غير واضحة بشكل دقي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واضح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طبيعة المهم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قليلة الى حد كبي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متوفرة إلى حد كبي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المعلوم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محدو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متعد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عدد البدائ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Simplified Arabic"/>
                        </a:rPr>
                        <a:t>الإدارة العليا في الغال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Simplified Arabic"/>
                        </a:rPr>
                        <a:t>الإدارة الإشرافية و الوسطى في الغال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Simplified Arabic"/>
                        </a:rPr>
                        <a:t>المستوى الإداري   لمتخذي القرا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كبيرة جد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محدودة جد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درجة المخاط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</a:rPr>
              <a:t>خطوات اتخاذ القرارات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6" name=""/>
          <p:cNvSpPr/>
          <p:nvPr/>
        </p:nvSpPr>
        <p:spPr>
          <a:xfrm>
            <a:off x="6424560" y="2071800"/>
            <a:ext cx="2622600" cy="8650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تحديد المشكل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622840" y="2976480"/>
            <a:ext cx="2478240" cy="86544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جمع المعلوم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284720" y="3879720"/>
            <a:ext cx="2663640" cy="8654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طرح البدائ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895480" y="4797360"/>
            <a:ext cx="2684520" cy="8650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تنفيذ 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441440" y="5703840"/>
            <a:ext cx="2843280" cy="865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PT Bold Heading"/>
              </a:rPr>
              <a:t>متابعة تنفيذ الح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الحاسب الآلي واتخاذ القرار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0773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ام مساندة القرا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ام مساندة القرار الجماع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ام الخبرة.   (الذكاء الاصطناعي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ام مساند المد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imes New Roman"/>
                <a:cs typeface="Motken noqta"/>
              </a:rPr>
              <a:t>التنظيم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16000" y="69228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راب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فهوم التنظي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واع التنظي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بادئ التنظيم الإدا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هياكل والخرائط التنظيم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دليل التنظيم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مفهوم التنظي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066680" y="2349000"/>
            <a:ext cx="76089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  <a:ea typeface="Hesham Kashkool"/>
              </a:rPr>
              <a:t>” توزيع المسئوليات و التنسيق بين كافة العاملين بشكل يضمن تحقيق أقصى درجة ممكنة من الكفاية في تحقيق الأهداف المحددة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  <a:ea typeface="Hesham Kashkoo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  <a:ea typeface="Hesham Kashkool"/>
              </a:rPr>
              <a:t>” وضع نظام للعلاقات الإدارية وتحديد الوظائف وتكوين الوحدات الإدارية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</a:rPr>
              <a:t>أنواع التنظيم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3300"/>
                </a:solidFill>
                <a:latin typeface="Times New Roman"/>
                <a:cs typeface="Simplified Arabic"/>
              </a:rPr>
              <a:t>التنظيم الرسم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و البناء الرسمي الذي يحدد العلاقات و المستويات الإدارية للأعمال التي يقوم بها الأفراد و توزيع المسؤوليات و الواجبات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3300"/>
                </a:solidFill>
                <a:latin typeface="Times New Roman"/>
                <a:cs typeface="Simplified Arabic"/>
              </a:rPr>
              <a:t>التنظيم غير الرسم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و مجموعة من العلاقات التي تنشأ و تستمر بين العاملين بسبب وجودهم في مكان واحد للعمل واشتراكهم في أهداف ومشكلات متشابه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869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فرق بين التنظيم الرسمي وغير الرسم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53" name=""/>
          <p:cNvGraphicFramePr/>
          <p:nvPr/>
        </p:nvGraphicFramePr>
        <p:xfrm>
          <a:off x="1066680" y="1992240"/>
          <a:ext cx="7753320" cy="4532400"/>
        </p:xfrm>
        <a:graphic>
          <a:graphicData uri="http://schemas.openxmlformats.org/drawingml/2006/table">
            <a:tbl>
              <a:tblPr/>
              <a:tblGrid>
                <a:gridCol w="3908520"/>
                <a:gridCol w="3844800"/>
              </a:tblGrid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cc"/>
                          </a:solidFill>
                          <a:latin typeface="Times New Roman"/>
                          <a:cs typeface="Hesham Kashkool"/>
                        </a:rPr>
                        <a:t>التنظيم غير الرسم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cc"/>
                          </a:solidFill>
                          <a:latin typeface="Times New Roman"/>
                          <a:cs typeface="Hesham Kashkool"/>
                        </a:rPr>
                        <a:t>التنظيم الرسم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ينتج من تجمع الأفراد داخل المنظم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ينتج من الأهداف و المهام الرسم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هداف التنظيم غير الرسمي هي اشباع حاجة كل فر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هداف التنظيم الرسمي تحقيق الاهدا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هدف الفرد إشباع حاجاته المادية و المعنو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هدف الفرد هي تأدية الوظيف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علاقات الفرد هي علاقات اجتماعية و ارتباطات شخص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علاقات الفرد هي العلاقات الإدارية الرسمية للوظيف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</a:tr>
              <a:tr h="106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اتصالات تتم من خلال التأثيرات و النفو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اتصالات تتم وفقاً للتسلسل الهرم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مفهوم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96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”وظيفة تنفيذ الأعمال عن طريق الآخرين باستخدام التخطيط والتنظيم والتوجيه والرقابة وذلك من أجل تحقيق أهداف المنظمة بكفاية وفاعلية مع مراعاة المؤثرات الداخلية والخارجية على بيئة العمل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مبادئ التنظيم الإدار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066680" y="1989000"/>
            <a:ext cx="7537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هدف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وظيف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تخصص و تقسيم العمل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وحدة القياد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نطاق الإشراف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تكافؤ المسئولية و السلط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مركزية و اللامركزي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تفويض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تنسيق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توازن و المرون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هياكل التنظيم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53768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البناء التنظيمي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و النموذج الذي يعكس طبيعة التعامل و التنسيق المصمم من قبل الإدارة و ذلك من أجل الربط بين مهام الأفراد و الجماعات في المنظمة بما يعمل على تحقيق أهداف المنظم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 rtl="1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الخارطة التنظيمية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ي رسم بياني أو تخطيطي يصور لنا الخطوط العريضة للهيكل التنظيمي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طرق وخطوات تصميم الهيكل التنظيم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طريقة تحليل الهد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طريقة تجميع الأنشط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cc00"/>
                </a:solidFill>
                <a:latin typeface="Times New Roman"/>
              </a:rPr>
              <a:t>أ - التنظيم على أساس الوظيفة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cc00"/>
                </a:solidFill>
                <a:latin typeface="Times New Roman"/>
              </a:rPr>
              <a:t>ب - التنظيم على أساس نوع المنتج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cc00"/>
                </a:solidFill>
                <a:latin typeface="Times New Roman"/>
              </a:rPr>
              <a:t>ج - التنظيم على اساس الموقع الجغراف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cc00"/>
                </a:solidFill>
                <a:latin typeface="Times New Roman"/>
              </a:rPr>
              <a:t>د – التنظيم على أساس نوع المستفيد (العملاء)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cc00"/>
                </a:solidFill>
                <a:latin typeface="Times New Roman"/>
              </a:rPr>
              <a:t>هـ -التنظيم المختلط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فوائد الخرائط التنظيم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Hadith1"/>
              </a:rPr>
              <a:t>إعطاء صورة كاملة عن الهيكل التنظيمي للمنظم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Hadith1"/>
              </a:rPr>
              <a:t>بيان الكيفية التي يقسم بها العمل بين الأفراد و الوحدات في المنظم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Hadith1"/>
              </a:rPr>
              <a:t>توضيح المستويات الإداري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Hadith1"/>
              </a:rPr>
              <a:t>إعطاء صورة واضحة لنطاق الإشراف للإدارات و الأقسام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Hadith1"/>
              </a:rPr>
              <a:t>توضيح خطوط السلطة و المسئولية في المنظم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أشكال الخرائط التنظيم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خرائط التنظيمية التقليدية ”الرأسية أو العمودية“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خرائط التنظيمية الأفق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خرائط التنظيمية الدائ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خرائط التقليدية (الرأسية 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1691280" y="2707920"/>
            <a:ext cx="6263280" cy="1917360"/>
            <a:chOff x="1691280" y="2707920"/>
            <a:chExt cx="6263280" cy="1917360"/>
          </a:xfrm>
        </p:grpSpPr>
        <p:cxnSp>
          <p:nvCxnSpPr>
            <p:cNvPr id="1266" name="_s52229"/>
            <p:cNvCxnSpPr>
              <a:stCxn id="1267" idx="1"/>
              <a:endCxn id="1268" idx="3"/>
            </p:cNvCxnSpPr>
            <p:nvPr/>
          </p:nvCxnSpPr>
          <p:spPr>
            <a:xfrm flipV="1" rot="16200000">
              <a:off x="5931000" y="4061160"/>
              <a:ext cx="397440" cy="7920"/>
            </a:xfrm>
            <a:prstGeom prst="bentConnector3">
              <a:avLst>
                <a:gd name="adj1" fmla="val 28739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69" name="_s52230"/>
            <p:cNvCxnSpPr>
              <a:stCxn id="1270" idx="1"/>
              <a:endCxn id="1268" idx="3"/>
            </p:cNvCxnSpPr>
            <p:nvPr/>
          </p:nvCxnSpPr>
          <p:spPr>
            <a:xfrm flipV="1" rot="16200000">
              <a:off x="6543360" y="3448800"/>
              <a:ext cx="397440" cy="1233000"/>
            </a:xfrm>
            <a:prstGeom prst="bentConnector3">
              <a:avLst>
                <a:gd name="adj1" fmla="val 28739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71" name="_s52231"/>
            <p:cNvCxnSpPr>
              <a:stCxn id="1272" idx="1"/>
              <a:endCxn id="1268" idx="3"/>
            </p:cNvCxnSpPr>
            <p:nvPr/>
          </p:nvCxnSpPr>
          <p:spPr>
            <a:xfrm flipH="1" flipV="1" rot="5400000">
              <a:off x="5318640" y="3456720"/>
              <a:ext cx="397440" cy="1217160"/>
            </a:xfrm>
            <a:prstGeom prst="bentConnector3">
              <a:avLst>
                <a:gd name="adj1" fmla="val 28739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73" name="_s52232"/>
            <p:cNvCxnSpPr>
              <a:stCxn id="1274" idx="0"/>
              <a:endCxn id="1275" idx="3"/>
            </p:cNvCxnSpPr>
            <p:nvPr/>
          </p:nvCxnSpPr>
          <p:spPr>
            <a:xfrm flipV="1" rot="16200000">
              <a:off x="3131640" y="3696480"/>
              <a:ext cx="353880" cy="693720"/>
            </a:xfrm>
            <a:prstGeom prst="bentConnector3">
              <a:avLst>
                <a:gd name="adj1" fmla="val 19246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76" name="_s52233"/>
            <p:cNvCxnSpPr>
              <a:stCxn id="1277" idx="1"/>
              <a:endCxn id="1275" idx="3"/>
            </p:cNvCxnSpPr>
            <p:nvPr/>
          </p:nvCxnSpPr>
          <p:spPr>
            <a:xfrm flipH="1" flipV="1" rot="5400000">
              <a:off x="2404080" y="3705840"/>
              <a:ext cx="397440" cy="719280"/>
            </a:xfrm>
            <a:prstGeom prst="bentConnector3">
              <a:avLst>
                <a:gd name="adj1" fmla="val 28739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78" name="_s52234"/>
            <p:cNvCxnSpPr>
              <a:stCxn id="1268" idx="0"/>
              <a:endCxn id="1279" idx="3"/>
            </p:cNvCxnSpPr>
            <p:nvPr/>
          </p:nvCxnSpPr>
          <p:spPr>
            <a:xfrm flipV="1" rot="16200000">
              <a:off x="5328360" y="2621520"/>
              <a:ext cx="349200" cy="1331280"/>
            </a:xfrm>
            <a:prstGeom prst="bentConnector3">
              <a:avLst>
                <a:gd name="adj1" fmla="val 32714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80" name="_s52235"/>
            <p:cNvCxnSpPr>
              <a:stCxn id="1275" idx="0"/>
              <a:endCxn id="1279" idx="3"/>
            </p:cNvCxnSpPr>
            <p:nvPr/>
          </p:nvCxnSpPr>
          <p:spPr>
            <a:xfrm flipH="1" flipV="1" rot="5400000">
              <a:off x="3746880" y="2371320"/>
              <a:ext cx="349200" cy="1832040"/>
            </a:xfrm>
            <a:prstGeom prst="bentConnector3">
              <a:avLst>
                <a:gd name="adj1" fmla="val 32714"/>
              </a:avLst>
            </a:prstGeom>
            <a:ln w="28440">
              <a:solidFill>
                <a:srgbClr val="bb5f03"/>
              </a:solidFill>
              <a:miter/>
            </a:ln>
          </p:spPr>
        </p:cxnSp>
        <p:sp>
          <p:nvSpPr>
            <p:cNvPr id="1279" name="_s52236"/>
            <p:cNvSpPr/>
            <p:nvPr/>
          </p:nvSpPr>
          <p:spPr>
            <a:xfrm>
              <a:off x="4282560" y="2707920"/>
              <a:ext cx="115128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 عا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_s52237"/>
            <p:cNvSpPr/>
            <p:nvPr/>
          </p:nvSpPr>
          <p:spPr>
            <a:xfrm>
              <a:off x="2409840" y="3461760"/>
              <a:ext cx="114984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76a03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_s52238"/>
            <p:cNvSpPr/>
            <p:nvPr/>
          </p:nvSpPr>
          <p:spPr>
            <a:xfrm>
              <a:off x="5572080" y="3461760"/>
              <a:ext cx="114984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76a03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_s52239"/>
            <p:cNvSpPr/>
            <p:nvPr/>
          </p:nvSpPr>
          <p:spPr>
            <a:xfrm>
              <a:off x="1691280" y="4220280"/>
              <a:ext cx="114840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_s52240"/>
            <p:cNvSpPr/>
            <p:nvPr/>
          </p:nvSpPr>
          <p:spPr>
            <a:xfrm>
              <a:off x="3059640" y="4220280"/>
              <a:ext cx="114840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_s52241"/>
            <p:cNvSpPr/>
            <p:nvPr/>
          </p:nvSpPr>
          <p:spPr>
            <a:xfrm>
              <a:off x="4356000" y="4220280"/>
              <a:ext cx="115092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_s52242"/>
            <p:cNvSpPr/>
            <p:nvPr/>
          </p:nvSpPr>
          <p:spPr>
            <a:xfrm>
              <a:off x="6803280" y="4220280"/>
              <a:ext cx="115128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_s52243"/>
            <p:cNvSpPr/>
            <p:nvPr/>
          </p:nvSpPr>
          <p:spPr>
            <a:xfrm>
              <a:off x="5580360" y="4220280"/>
              <a:ext cx="114984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خرائط الأفق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2208240" y="2781000"/>
            <a:ext cx="5797080" cy="3068640"/>
            <a:chOff x="2208240" y="2781000"/>
            <a:chExt cx="5797080" cy="3068640"/>
          </a:xfrm>
        </p:grpSpPr>
        <p:cxnSp>
          <p:nvCxnSpPr>
            <p:cNvPr id="1283" name="_s53253"/>
            <p:cNvCxnSpPr>
              <a:stCxn id="1284" idx="3"/>
              <a:endCxn id="1285" idx="1"/>
            </p:cNvCxnSpPr>
            <p:nvPr/>
          </p:nvCxnSpPr>
          <p:spPr>
            <a:xfrm flipV="1">
              <a:off x="3470400" y="3703320"/>
              <a:ext cx="1547280" cy="647640"/>
            </a:xfrm>
            <a:prstGeom prst="bentConnector3">
              <a:avLst>
                <a:gd name="adj1" fmla="val 737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86" name="_s53254"/>
            <p:cNvCxnSpPr>
              <a:stCxn id="1287" idx="3"/>
              <a:endCxn id="1285" idx="1"/>
            </p:cNvCxnSpPr>
            <p:nvPr/>
          </p:nvCxnSpPr>
          <p:spPr>
            <a:xfrm>
              <a:off x="3470400" y="2984400"/>
              <a:ext cx="1547280" cy="719640"/>
            </a:xfrm>
            <a:prstGeom prst="bentConnector3">
              <a:avLst>
                <a:gd name="adj1" fmla="val 737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88" name="_s53255"/>
            <p:cNvCxnSpPr>
              <a:stCxn id="1289" idx="3"/>
              <a:endCxn id="1285" idx="1"/>
            </p:cNvCxnSpPr>
            <p:nvPr/>
          </p:nvCxnSpPr>
          <p:spPr>
            <a:xfrm>
              <a:off x="3470400" y="3703680"/>
              <a:ext cx="1547280" cy="18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90" name="_s53256"/>
            <p:cNvCxnSpPr>
              <a:stCxn id="1291" idx="3"/>
              <a:endCxn id="1292" idx="1"/>
            </p:cNvCxnSpPr>
            <p:nvPr/>
          </p:nvCxnSpPr>
          <p:spPr>
            <a:xfrm flipV="1">
              <a:off x="3470400" y="5216400"/>
              <a:ext cx="1547280" cy="432720"/>
            </a:xfrm>
            <a:prstGeom prst="bentConnector3">
              <a:avLst>
                <a:gd name="adj1" fmla="val 737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93" name="_s53257"/>
            <p:cNvCxnSpPr>
              <a:stCxn id="1294" idx="3"/>
              <a:endCxn id="1292" idx="1"/>
            </p:cNvCxnSpPr>
            <p:nvPr/>
          </p:nvCxnSpPr>
          <p:spPr>
            <a:xfrm>
              <a:off x="3470400" y="4926960"/>
              <a:ext cx="1547280" cy="290160"/>
            </a:xfrm>
            <a:prstGeom prst="bentConnector3">
              <a:avLst>
                <a:gd name="adj1" fmla="val 737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95" name="_s53258"/>
            <p:cNvCxnSpPr>
              <a:stCxn id="1285" idx="3"/>
              <a:endCxn id="1296" idx="1"/>
            </p:cNvCxnSpPr>
            <p:nvPr/>
          </p:nvCxnSpPr>
          <p:spPr>
            <a:xfrm>
              <a:off x="6278760" y="3703680"/>
              <a:ext cx="464760" cy="430920"/>
            </a:xfrm>
            <a:prstGeom prst="bentConnector3">
              <a:avLst>
                <a:gd name="adj1" fmla="val 2457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97" name="_s53259"/>
            <p:cNvCxnSpPr>
              <a:stCxn id="1292" idx="3"/>
              <a:endCxn id="1296" idx="1"/>
            </p:cNvCxnSpPr>
            <p:nvPr/>
          </p:nvCxnSpPr>
          <p:spPr>
            <a:xfrm flipV="1">
              <a:off x="6278760" y="4133880"/>
              <a:ext cx="464760" cy="1082520"/>
            </a:xfrm>
            <a:prstGeom prst="bentConnector3">
              <a:avLst>
                <a:gd name="adj1" fmla="val 24573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96" name="_s53260"/>
            <p:cNvSpPr/>
            <p:nvPr/>
          </p:nvSpPr>
          <p:spPr>
            <a:xfrm>
              <a:off x="6743520" y="393192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 عا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_s53261"/>
            <p:cNvSpPr/>
            <p:nvPr/>
          </p:nvSpPr>
          <p:spPr>
            <a:xfrm>
              <a:off x="5016960" y="501264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_s53262"/>
            <p:cNvSpPr/>
            <p:nvPr/>
          </p:nvSpPr>
          <p:spPr>
            <a:xfrm>
              <a:off x="5016960" y="349992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_s53263"/>
            <p:cNvSpPr/>
            <p:nvPr/>
          </p:nvSpPr>
          <p:spPr>
            <a:xfrm>
              <a:off x="2208240" y="472428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_s53264"/>
            <p:cNvSpPr/>
            <p:nvPr/>
          </p:nvSpPr>
          <p:spPr>
            <a:xfrm>
              <a:off x="2208240" y="544464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_s53265"/>
            <p:cNvSpPr/>
            <p:nvPr/>
          </p:nvSpPr>
          <p:spPr>
            <a:xfrm>
              <a:off x="2208240" y="3499920"/>
              <a:ext cx="1261800" cy="406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_s53266"/>
            <p:cNvSpPr/>
            <p:nvPr/>
          </p:nvSpPr>
          <p:spPr>
            <a:xfrm>
              <a:off x="2208240" y="2781000"/>
              <a:ext cx="1261800" cy="40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_s53267"/>
            <p:cNvSpPr/>
            <p:nvPr/>
          </p:nvSpPr>
          <p:spPr>
            <a:xfrm>
              <a:off x="2208240" y="414864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خرائط الدائر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2287800" y="2469600"/>
            <a:ext cx="4947840" cy="3541320"/>
            <a:chOff x="2287800" y="2469600"/>
            <a:chExt cx="4947840" cy="3541320"/>
          </a:xfrm>
        </p:grpSpPr>
        <p:sp>
          <p:nvSpPr>
            <p:cNvPr id="1300" name=""/>
            <p:cNvSpPr/>
            <p:nvPr/>
          </p:nvSpPr>
          <p:spPr>
            <a:xfrm>
              <a:off x="2288160" y="2469600"/>
              <a:ext cx="4947480" cy="3520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2699280" y="2655000"/>
              <a:ext cx="4454640" cy="3355920"/>
              <a:chOff x="2699280" y="2655000"/>
              <a:chExt cx="4454640" cy="3355920"/>
            </a:xfrm>
          </p:grpSpPr>
          <p:sp>
            <p:nvSpPr>
              <p:cNvPr id="1302" name=""/>
              <p:cNvSpPr/>
              <p:nvPr/>
            </p:nvSpPr>
            <p:spPr>
              <a:xfrm>
                <a:off x="2946600" y="3005280"/>
                <a:ext cx="3629160" cy="24037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730400" y="4809240"/>
                <a:ext cx="1440" cy="1201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761360" y="2655000"/>
                <a:ext cx="107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</a:rPr>
                  <a:t>مدير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864520" y="2835000"/>
                <a:ext cx="107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</a:rPr>
                  <a:t>مدير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699280" y="5066640"/>
                <a:ext cx="107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</a:rPr>
                  <a:t>مدير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173920" y="5239080"/>
                <a:ext cx="107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</a:rPr>
                  <a:t>مدير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081120" y="3864960"/>
                <a:ext cx="107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</a:rPr>
                  <a:t>مدير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4019040" y="3586680"/>
              <a:ext cx="1401840" cy="1202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</a:rPr>
                <a:t>مدير عا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4679280" y="2469600"/>
              <a:ext cx="0" cy="111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2287800" y="4188600"/>
              <a:ext cx="65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6328800" y="3156840"/>
              <a:ext cx="330480" cy="34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28800" y="4788720"/>
              <a:ext cx="577800" cy="2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5400000">
              <a:off x="5344560" y="3799080"/>
              <a:ext cx="85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16200000">
              <a:off x="3238920" y="3791880"/>
              <a:ext cx="85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دليل التنظيم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1258560" y="2349000"/>
            <a:ext cx="756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Andalus"/>
              </a:rPr>
              <a:t>     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ثيقة تتضمن معلومات تفصيلية تشمل أهدف المنظمة و نشاطاتها و مسميات و أهداف و ارتباطات ومهام الوحدات الإدارية فيها إلى جانب الخرائط التنظيمي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457200" y="249372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Verdana"/>
                <a:cs typeface="Motken noqta"/>
              </a:rPr>
              <a:t>التنسيق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rdin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خام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أهمية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نها وسيلة المجتمع في تحقيق أهدافه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وسيلة المجتمع في تحقيق احتياجات الفرد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زدياد عدد المنشآت الإدارية وكبر حجمها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همية العامل الإنساني في نجاح المنشآت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فصل بين منظمات الأعمال وملاكها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ندرة المتزايدة في الموارد المادية والبشر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دعوة إلى العولم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نافسة الشديدة في الأسواق العالم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رغبة الأفراد في الوصول إلى مراكز اجتماعيه وقيادية متميز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4c3aa"/>
                </a:solidFill>
                <a:latin typeface="Arial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106632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مفهوم التنسي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شمولية وظيفة التنسي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عوائق التنسي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أهم الوسائل المستخدمة في التنسي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خصائص التنسيق الفعا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c3aa"/>
                </a:solidFill>
                <a:latin typeface="Arial"/>
              </a:rPr>
              <a:t>مفهوم التنسيق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Simplified Arabic"/>
              </a:rPr>
              <a:t>”الترتيب المنظم لجهود الجماعة لكي توجه هذه الجهود في التصرف والتنفيذ لتحقيق الهدف المحدد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99"/>
                </a:solidFill>
                <a:latin typeface="Arial"/>
                <a:cs typeface="Simplified Arabic"/>
              </a:rPr>
              <a:t>شمولية وظيفة التنسيق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علاقة بين التخطيط وا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علاقة بين التنظيم وا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علاقة بين التوجيه وا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علاقة بين الرقابة وا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c3aa"/>
                </a:solidFill>
                <a:latin typeface="Arial"/>
                <a:cs typeface="Simplified Arabic"/>
              </a:rPr>
              <a:t>العلاقة بين التنسيق وبين العمليات الإدارية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1116000" y="2142720"/>
            <a:ext cx="7127640" cy="4444920"/>
            <a:chOff x="1116000" y="2142720"/>
            <a:chExt cx="7127640" cy="4444920"/>
          </a:xfrm>
        </p:grpSpPr>
        <p:sp>
          <p:nvSpPr>
            <p:cNvPr id="1329" name=""/>
            <p:cNvSpPr/>
            <p:nvPr/>
          </p:nvSpPr>
          <p:spPr>
            <a:xfrm rot="18894000">
              <a:off x="2650680" y="3312000"/>
              <a:ext cx="4176720" cy="2105640"/>
            </a:xfrm>
            <a:prstGeom prst="flowChartPunchedTape">
              <a:avLst/>
            </a:prstGeom>
            <a:solidFill>
              <a:srgbClr val="9ac2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1743000">
              <a:off x="2087280" y="3430440"/>
              <a:ext cx="5508000" cy="1837080"/>
            </a:xfrm>
            <a:prstGeom prst="flowChartPunchedTape">
              <a:avLst/>
            </a:prstGeom>
            <a:solidFill>
              <a:srgbClr val="9ac2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21640" y="3146400"/>
              <a:ext cx="2916000" cy="2561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90000" y="3003840"/>
              <a:ext cx="1296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خطي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412000" y="3573720"/>
              <a:ext cx="971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نظي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060000" y="5424120"/>
              <a:ext cx="809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رقاب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138000" y="5138640"/>
              <a:ext cx="1133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وجي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109640" y="2720160"/>
              <a:ext cx="1134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تنسي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272000" y="5850360"/>
              <a:ext cx="810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تنسي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64000" y="5850360"/>
              <a:ext cx="1133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تنسي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16000" y="3288240"/>
              <a:ext cx="113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تنسي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6624000" y="2840760"/>
              <a:ext cx="6480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925640" y="3573720"/>
              <a:ext cx="64800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2735640" y="5707440"/>
              <a:ext cx="485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 flipV="1">
              <a:off x="6948000" y="5525280"/>
              <a:ext cx="64800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679640" y="3404880"/>
              <a:ext cx="972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أفرا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221640" y="4426920"/>
              <a:ext cx="810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آل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004000" y="4151880"/>
              <a:ext cx="80964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طرق عم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08000" y="5138640"/>
              <a:ext cx="971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معد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842000" y="4996080"/>
              <a:ext cx="810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أموا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546000" y="3573000"/>
              <a:ext cx="810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موا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c3aa"/>
                </a:solidFill>
                <a:latin typeface="Arial"/>
                <a:cs typeface="Simplified Arabic"/>
              </a:rPr>
              <a:t>عوائق التنسيق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3120" cy="41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طبيق التخصص وتقسيم العمل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Verdana"/>
                <a:cs typeface="Simplified Arabic"/>
              </a:rPr>
              <a:t>زيادة حجم التنظيم وتعقده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c3aa"/>
                </a:solidFill>
                <a:latin typeface="Arial"/>
                <a:cs typeface="Simplified Arabic"/>
              </a:rPr>
              <a:t>أهم الوسائل المستخدمة في التنسيق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066680" y="2349000"/>
            <a:ext cx="7537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سلسل الأوام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تنسيق بالقواعد والإجراءا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تنسيق بالأهدا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ستخدام المساعدين في ا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ستخدام الاتصال ل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لجا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شروعات (تنظيم المصفوفة)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ناقشات غير الرسميه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نسق الخا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c3aa"/>
                </a:solidFill>
                <a:latin typeface="Arial"/>
                <a:cs typeface="Simplified Arabic"/>
              </a:rPr>
              <a:t>خصائص التنسيق الفعال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5614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4c3aa"/>
                </a:solidFill>
                <a:latin typeface="Verdana"/>
                <a:cs typeface="Simplified Arabic"/>
              </a:rPr>
              <a:t>تبسيط التنظيم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تقسيم العمل بين الإدار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وضوح التنظيم والخط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4c3aa"/>
                </a:solidFill>
                <a:latin typeface="Verdana"/>
                <a:cs typeface="Simplified Arabic"/>
              </a:rPr>
              <a:t>انسجام التخطيط والبرامج وتكاملها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تكامل البرامج والخط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التوقيت السلي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4c3aa"/>
                </a:solidFill>
                <a:latin typeface="Verdana"/>
                <a:cs typeface="Simplified Arabic"/>
              </a:rPr>
              <a:t>تحسين وسائل الاتصال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4c3aa"/>
                </a:solidFill>
                <a:latin typeface="Verdana"/>
                <a:cs typeface="Simplified Arabic"/>
              </a:rPr>
              <a:t>تشجيع التنسيق والتعاون الاختياري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Motken noqta"/>
              </a:rPr>
              <a:t>القيادة الإداري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Leade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ساد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3ff"/>
                </a:solidFill>
                <a:latin typeface="Arial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تعريف القيا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قائد الإداري والرئيس الإدار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ادر قوة القائ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نظريات الحديثة في القيا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عوقات القيادة الإدارية في الدول النام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3ff"/>
                </a:solidFill>
                <a:latin typeface="Arial"/>
                <a:cs typeface="Simplified Arabic"/>
              </a:rPr>
              <a:t>مفهوم القيادة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216036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Simplified Arabic"/>
              </a:rPr>
              <a:t>”القدرة على التوجيه من أجل تحقيق هدف معين عن طريق الآخرين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هل الإدارة علم أم فن 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فن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عل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علم وف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القائد الإداري والرئيس الإداري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1066320" y="2349360"/>
            <a:ext cx="7543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قيادة تنبع تلقائياً من الجماع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رئاسة مفروضة على الجماعة نظاما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في الرئاسة يختار الرئيس الهدف ولا تحدده الجماع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في القيادة تشترك الجماعة مع قائدها في اختيار الهد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قيادة مصدرها الجماع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سلطة الرئيس يستمدها من خارج الجماع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(كل قائد رئيس، وليس كل رئيس قائ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مصادر قوة القائد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در التأثير النابع من استخدام أساليب الضغ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در التأثير الشخص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در السلطة النظام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در منح التقدير المال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در الخبرة والمها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1889280" y="2562120"/>
            <a:ext cx="5562360" cy="3429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نظرية سلسلة السلو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079720" y="3247920"/>
            <a:ext cx="50799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2079360" y="3247920"/>
            <a:ext cx="5079960" cy="69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965240" y="3247920"/>
            <a:ext cx="26290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كبير 6"/>
              </a:rPr>
              <a:t>درجة السلطة التي يستخدمها المدي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799160" y="3484440"/>
            <a:ext cx="230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كبير 6"/>
              </a:rPr>
              <a:t>درجة الحرية المتاحة للمرؤوسي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244600" y="4056120"/>
            <a:ext cx="42876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صنع القرار ويعلن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774880" y="4056120"/>
            <a:ext cx="38412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بيع قرار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273480" y="4056120"/>
            <a:ext cx="52056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قدم أفكاره ويدعو إلى الأسئل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895560" y="4067280"/>
            <a:ext cx="635040" cy="17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عرض قرار غير نهائي يخضع للتغيي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645080" y="4056120"/>
            <a:ext cx="68580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عرض مشكلة ويحصل على مناقشات تعمل قرار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45000" y="4056120"/>
            <a:ext cx="70344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عرض ويحدد المشكلة ويسأل المجموعة لتصنيع القرا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245280" y="4056120"/>
            <a:ext cx="79380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سمح للمرؤوسين بأن يعملوا ضمن حدود عرفت لهم بواسطت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نظرية القيادة الفعال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042560" y="1985760"/>
            <a:ext cx="754380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ائد الدكتاتور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ائد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1403280" y="3357720"/>
            <a:ext cx="7201080" cy="2998800"/>
            <a:chOff x="1403280" y="3357720"/>
            <a:chExt cx="7201080" cy="2998800"/>
          </a:xfrm>
        </p:grpSpPr>
        <p:sp>
          <p:nvSpPr>
            <p:cNvPr id="1383" name=""/>
            <p:cNvSpPr/>
            <p:nvPr/>
          </p:nvSpPr>
          <p:spPr>
            <a:xfrm>
              <a:off x="1403280" y="3357720"/>
              <a:ext cx="7201080" cy="2998800"/>
            </a:xfrm>
            <a:prstGeom prst="rect">
              <a:avLst/>
            </a:prstGeom>
            <a:solidFill>
              <a:srgbClr val="00cc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827680" y="3429000"/>
              <a:ext cx="2631960" cy="1100160"/>
            </a:xfrm>
            <a:prstGeom prst="leftRightArrow">
              <a:avLst>
                <a:gd name="adj1" fmla="val 50000"/>
                <a:gd name="adj2" fmla="val 47625"/>
              </a:avLst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741840" y="4149720"/>
              <a:ext cx="2630520" cy="1284120"/>
            </a:xfrm>
            <a:prstGeom prst="leftRightArrow">
              <a:avLst>
                <a:gd name="adj1" fmla="val 50000"/>
                <a:gd name="adj2" fmla="val 40780"/>
              </a:avLst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579680" y="5013360"/>
              <a:ext cx="2631960" cy="1028520"/>
            </a:xfrm>
            <a:prstGeom prst="leftRightArrow">
              <a:avLst>
                <a:gd name="adj1" fmla="val 50000"/>
                <a:gd name="adj2" fmla="val 50942"/>
              </a:avLst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156360" y="378936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Tahoma"/>
                </a:rPr>
                <a:t>قوة الموقع للقائ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995640" y="465300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Tahoma"/>
                </a:rPr>
                <a:t>بناء أو تركيب المهم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36720" y="537372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Tahoma"/>
                </a:rPr>
                <a:t>العلاقات الشخصي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0" name=""/>
          <p:cNvGrpSpPr/>
          <p:nvPr/>
        </p:nvGrpSpPr>
        <p:grpSpPr>
          <a:xfrm>
            <a:off x="1187280" y="2565360"/>
            <a:ext cx="7046640" cy="3498480"/>
            <a:chOff x="1187280" y="2565360"/>
            <a:chExt cx="7046640" cy="3498480"/>
          </a:xfrm>
        </p:grpSpPr>
        <p:sp>
          <p:nvSpPr>
            <p:cNvPr id="1391" name=""/>
            <p:cNvSpPr/>
            <p:nvPr/>
          </p:nvSpPr>
          <p:spPr>
            <a:xfrm>
              <a:off x="3007800" y="3177000"/>
              <a:ext cx="4031640" cy="27223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44960" y="3450600"/>
              <a:ext cx="104508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14560" y="3349800"/>
              <a:ext cx="12877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4500360" y="4314600"/>
              <a:ext cx="1045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187280" y="3976200"/>
              <a:ext cx="1549080" cy="11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الاهتمام بالأشخ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770840" y="2781360"/>
              <a:ext cx="10958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مرتف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44960" y="5309280"/>
              <a:ext cx="1045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007800" y="5309280"/>
              <a:ext cx="1045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188840" y="5373000"/>
              <a:ext cx="104508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مرتف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663920" y="5373000"/>
              <a:ext cx="11944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منخف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87000" y="2565360"/>
              <a:ext cx="1679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الاهتمام بالإنتا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الشبكة الإداري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باقي نظريات القياد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ظرية دورة الحياة للقيا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ظرية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 و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Y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 في القيا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ظرية الطريق إلى الهد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معوقات القيادة الإدارية في الدول النامي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عوائق الإدار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عوائق البيئ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معوقات النابعة من وضع القيادات الإدار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tken noqta"/>
              </a:rPr>
              <a:t>الدافعية والحواف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vations and Incen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ساب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06632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تعريف الداف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خصائص الدواف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أنواع الدواف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ريات الدواف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أنواع الحواف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  <a:cs typeface="Simplified Arabic"/>
              </a:rPr>
              <a:t>مفهوم الدافعية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066320" y="2493720"/>
            <a:ext cx="7543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"/>
              </a:rPr>
              <a:t>”حالة داخلية عند الفرد تولد لديه الطاقة والحركة وتوجه السلوك نحو الهدف“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سلسلة من الاستجابات التي تبدأ بالحاجات التي يشعر بها الفرد وينتج عنها رغبات مما يؤدي الى احداث السلوك لتحقيق الرضا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مدارس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312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درسة الكلاسيك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درسة العلاقات الإنسان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درسة التجريب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درسة النظم الاجتماع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درسة المعاصرة في الإدار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e5e5ff"/>
                </a:solidFill>
                <a:latin typeface="Garamond"/>
                <a:cs typeface="Simplified Arabic"/>
              </a:rPr>
              <a:t>مفهوم الدافعية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258920" y="2205000"/>
            <a:ext cx="6984720" cy="4319280"/>
            <a:chOff x="1258920" y="2205000"/>
            <a:chExt cx="6984720" cy="4319280"/>
          </a:xfrm>
        </p:grpSpPr>
        <p:graphicFrame>
          <p:nvGraphicFramePr>
            <p:cNvPr id="1416" name=""/>
            <p:cNvGraphicFramePr/>
            <p:nvPr/>
          </p:nvGraphicFramePr>
          <p:xfrm>
            <a:off x="4627440" y="2821320"/>
            <a:ext cx="759600" cy="283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27440" y="2821320"/>
                      <a:ext cx="759600" cy="283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8" name=""/>
            <p:cNvSpPr/>
            <p:nvPr/>
          </p:nvSpPr>
          <p:spPr>
            <a:xfrm>
              <a:off x="5508000" y="2205000"/>
              <a:ext cx="2735640" cy="1689840"/>
            </a:xfrm>
            <a:prstGeom prst="flowChartAlternateProcess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تنشيط السلو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258920" y="2206800"/>
              <a:ext cx="2736000" cy="1690200"/>
            </a:xfrm>
            <a:prstGeom prst="flowChartAlternateProcess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توجيه السلو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35400" y="4834080"/>
              <a:ext cx="2736000" cy="1690200"/>
            </a:xfrm>
            <a:prstGeom prst="flowChartAlternateProcess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تثبيت او تعديل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سلو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186080" y="2864520"/>
              <a:ext cx="1131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769120" y="3989880"/>
              <a:ext cx="849240" cy="655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5790600" y="4083480"/>
              <a:ext cx="848520" cy="5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الــــدوافع والحــواف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فرق علماء السلوك التنظيمي بين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دافعية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plified Arabic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plified Arabic"/>
              </a:rPr>
              <a:t>motivation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Simplified Arabic"/>
              </a:rPr>
              <a:t>  وبين الحوافز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plified Arabic"/>
              </a:rPr>
              <a:t>incentives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Simplified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فالدافعية هي محرك داخلي للسلوك الانساني وتنبع من ذات الفرد لإشباع حاجة محددة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وافز هي المحركات والمؤثرات الخارجية التي تستخدمها الادارة لإثارة دوافع الانجاز لدى الافراد العاملي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خصائص الدواف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تعبئة طاقة الكائن الحي وتنشيطه وجعله في حالة يقظ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تنظيم السلوك وتوجيه الى هدفه الذي يشبع حاجات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تناسب الطاقة المبذولة مع قوة الدافع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استمرار طاقة الكائن الحي في حالة تعبئة الى أن تحقق الهدف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-القابلية لتغيير المسار لتحقيق الهدف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أنواع الدواف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دوافع الأولية والدوافع الثانو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دوافع الفردية والدوافع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دوافع الشعورية والدوافع اللاشعو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نظرية تدرج الحاجات (مازلو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2491200" y="2205720"/>
            <a:ext cx="4665600" cy="4221000"/>
            <a:chOff x="2491200" y="2205720"/>
            <a:chExt cx="4665600" cy="4221000"/>
          </a:xfrm>
        </p:grpSpPr>
        <p:sp>
          <p:nvSpPr>
            <p:cNvPr id="1432" name="_s84997"/>
            <p:cNvSpPr/>
            <p:nvPr/>
          </p:nvSpPr>
          <p:spPr>
            <a:xfrm flipV="1">
              <a:off x="4357080" y="2205720"/>
              <a:ext cx="934560" cy="843120"/>
            </a:xfrm>
            <a:custGeom>
              <a:avLst/>
              <a:gdLst>
                <a:gd name="textAreaLeft" fmla="*/ 335160 w 934560"/>
                <a:gd name="textAreaRight" fmla="*/ 599400 w 934560"/>
                <a:gd name="textAreaTop" fmla="*/ 302400 h 843120"/>
                <a:gd name="textAreaBottom" fmla="*/ 540720 h 8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ffffff"/>
                  </a:solidFill>
                  <a:latin typeface="Arial"/>
                </a:rPr>
                <a:t>الحاج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ffffff"/>
                  </a:solidFill>
                  <a:latin typeface="Arial"/>
                </a:rPr>
                <a:t>لتحقيق الذات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_s84998"/>
            <p:cNvSpPr/>
            <p:nvPr/>
          </p:nvSpPr>
          <p:spPr>
            <a:xfrm flipV="1">
              <a:off x="3891600" y="3049200"/>
              <a:ext cx="1865520" cy="845280"/>
            </a:xfrm>
            <a:custGeom>
              <a:avLst/>
              <a:gdLst>
                <a:gd name="textAreaLeft" fmla="*/ 410040 w 1865520"/>
                <a:gd name="textAreaRight" fmla="*/ 1455480 w 1865520"/>
                <a:gd name="textAreaTop" fmla="*/ 185760 h 845280"/>
                <a:gd name="textAreaBottom" fmla="*/ 659520 h 84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حاجة للتقدي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والاحترا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_s84999"/>
            <p:cNvSpPr/>
            <p:nvPr/>
          </p:nvSpPr>
          <p:spPr>
            <a:xfrm flipV="1">
              <a:off x="3423960" y="3893760"/>
              <a:ext cx="2800080" cy="843480"/>
            </a:xfrm>
            <a:custGeom>
              <a:avLst/>
              <a:gdLst>
                <a:gd name="textAreaLeft" fmla="*/ 486000 w 2800080"/>
                <a:gd name="textAreaRight" fmla="*/ 2314080 w 2800080"/>
                <a:gd name="textAreaTop" fmla="*/ 146160 h 843480"/>
                <a:gd name="textAreaBottom" fmla="*/ 697320 h 84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الحاجات الاجتماع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(الحب والانتماء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_s85000"/>
            <p:cNvSpPr/>
            <p:nvPr/>
          </p:nvSpPr>
          <p:spPr>
            <a:xfrm flipV="1">
              <a:off x="2958480" y="4738320"/>
              <a:ext cx="3731040" cy="845280"/>
            </a:xfrm>
            <a:custGeom>
              <a:avLst/>
              <a:gdLst>
                <a:gd name="textAreaLeft" fmla="*/ 561240 w 3731040"/>
                <a:gd name="textAreaRight" fmla="*/ 3169800 w 3731040"/>
                <a:gd name="textAreaTop" fmla="*/ 127080 h 845280"/>
                <a:gd name="textAreaBottom" fmla="*/ 718200 h 84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حاجات الأما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_s85001"/>
            <p:cNvSpPr/>
            <p:nvPr/>
          </p:nvSpPr>
          <p:spPr>
            <a:xfrm flipV="1">
              <a:off x="2491200" y="5583600"/>
              <a:ext cx="4665600" cy="843120"/>
            </a:xfrm>
            <a:custGeom>
              <a:avLst/>
              <a:gdLst>
                <a:gd name="textAreaLeft" fmla="*/ 637200 w 4665600"/>
                <a:gd name="textAreaRight" fmla="*/ 4028400 w 4665600"/>
                <a:gd name="textAreaTop" fmla="*/ 114840 h 843120"/>
                <a:gd name="textAreaBottom" fmla="*/ 728280 h 8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حاجات الفسيولوج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نظريات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X  Y  Z</a:t>
            </a:r>
            <a:br>
              <a:rPr sz="4400"/>
            </a:b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ماكجريجور ، أوشي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8" name=""/>
          <p:cNvGraphicFramePr/>
          <p:nvPr/>
        </p:nvGraphicFramePr>
        <p:xfrm>
          <a:off x="1042920" y="2463840"/>
          <a:ext cx="7848360" cy="3557520"/>
        </p:xfrm>
        <a:graphic>
          <a:graphicData uri="http://schemas.openxmlformats.org/drawingml/2006/table">
            <a:tbl>
              <a:tblPr/>
              <a:tblGrid>
                <a:gridCol w="3671640"/>
                <a:gridCol w="417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7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7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يحب الفرد الع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ممارسة الرقابة الذات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يسعى الفرد إلى تحمل المسئو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يفضل التوجيه الذات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طموحات عالية ودوافع للابتكا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يكون مدفوعاً للعمل أساساً نتيجة  للحوافز المعنو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يرغب في الإثراء الوظيف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يكره الفرد الع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هناك ضرورة للرقابة اللصيقة المباشر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الفرد يتجنب المسئو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يفضل التوجيه عن طريق الآخري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5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لديه طموح قل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يكون مدفوعاً للعمل نتيجة للحوافز المادية أو الاقتصا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يفضل التخصص الدقيق في الوظيف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نظريات الدواف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رية دافع الإنجاز  ( ماكيلاند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رية العدالة (المساواة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أنواع الحواف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ـحوافــز الماد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ـوافز المـعنو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وافز الفــرديـ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وافـز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ـوافز الايجابيــة والسلبيـ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2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imes New Roman"/>
                <a:cs typeface="Motken noqta"/>
              </a:rPr>
              <a:t>الاتصالات الإدار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ثام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06632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ريف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اصر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هداف الاتصال الإدا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واع الاتصالات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سائل الاتصالات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خصائص الاتصال الفع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عوقات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المدرسة الكلاسيكية (التقليدية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312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وهي تمثل المرحلة الأولى من التطور الإداري ، وهي تدعو بضرورة معاملة الإنسان على أنة شبيه بالآلة ويحفز بواسطة المكاسب المادي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ن روادها  ماكس ويبر -  فردريك تايلور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مفهوم الاتصال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2165400"/>
            <a:ext cx="82296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”عملية نقل المعلومات من شخص إلى آخر بهدف إيجاد نوع من التفاهم المتبادل بينهما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عناصر الاتصال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128000" y="2914560"/>
            <a:ext cx="1260360" cy="12351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6408720" y="3500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48360" y="2914560"/>
            <a:ext cx="1260360" cy="12351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4427640" y="35002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2411280" y="35002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166920" y="2914560"/>
            <a:ext cx="1260720" cy="12351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187280" y="2914560"/>
            <a:ext cx="1260720" cy="12351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227640" y="2637000"/>
            <a:ext cx="1081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شوي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128000" y="3375000"/>
            <a:ext cx="12603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رس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148360" y="3375000"/>
            <a:ext cx="12603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رسال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166920" y="3375000"/>
            <a:ext cx="1260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وسيل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187280" y="3375000"/>
            <a:ext cx="1260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قب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763640" y="422100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800360" y="4653000"/>
            <a:ext cx="59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7812000" y="422064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087640" y="4782960"/>
            <a:ext cx="5221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غذية الراجع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268360" y="2637000"/>
            <a:ext cx="1081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شوي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284720" y="2637000"/>
            <a:ext cx="1081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شوي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أهداف الاتصال الإدار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ريف المرؤوسين بالأهداف والسياسات والبرام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شرح وتفسير القواعد والإجراءات التنفيذ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تابعة الإنجا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ادل المعلومات بين الوحدات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ث الأفراد ودفعهم للعمل والإنجا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أكيد وتعزيز علاقات العم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أنواع الاتص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تصال الشفهي والاتصال الكتاب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تصال الرسمي والاتصال غير الرسم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تصال النازل والاتصال الصاع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/>
          <p:nvPr/>
        </p:nvSpPr>
        <p:spPr>
          <a:xfrm>
            <a:off x="1171440" y="2381400"/>
            <a:ext cx="7361280" cy="40719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أنواع الاتص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892680" y="2906640"/>
            <a:ext cx="2239920" cy="59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رئيس مجلس الإدا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892680" y="4095720"/>
            <a:ext cx="2239920" cy="59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دير العا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292800" y="5473800"/>
            <a:ext cx="1760760" cy="59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دير إدارة التسوي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892680" y="5484960"/>
            <a:ext cx="1919160" cy="59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دير الشئون المال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647720" y="5484960"/>
            <a:ext cx="1758960" cy="59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دير إدارة الإنتا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8211960" y="3173400"/>
            <a:ext cx="3240" cy="3170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492200" y="2906640"/>
            <a:ext cx="1800" cy="3170160"/>
          </a:xfrm>
          <a:prstGeom prst="line">
            <a:avLst/>
          </a:prstGeom>
          <a:ln w="38160">
            <a:solidFill>
              <a:srgbClr val="99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011560" y="3500280"/>
            <a:ext cx="3240" cy="5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011560" y="4689360"/>
            <a:ext cx="32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5811840" y="5878440"/>
            <a:ext cx="480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411000" y="5878440"/>
            <a:ext cx="481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3411360" y="3500280"/>
            <a:ext cx="481320" cy="1981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8211960" y="2708280"/>
            <a:ext cx="3240" cy="336852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276880" y="3625920"/>
            <a:ext cx="1600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تصالات الرسم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650960" y="4670280"/>
            <a:ext cx="1920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تصالات غير الرسم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7253280" y="2490840"/>
            <a:ext cx="958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تصالات النازل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492200" y="2562120"/>
            <a:ext cx="19191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تصالات الصاع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وسائل الاتص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عليمات والقرارات وقواعد العم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قارير المالية والسنو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جلات ونشرات العم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علان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كتيبات والأدل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ندوات والاجتماع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خطابات و التقاري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سائل السمعية والمرئ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هات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جا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شبكات الحاسوب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معوقات الاتص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غة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وضوع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صر الوق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عوامل التنظيم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عوامل الاجتماع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Garamond"/>
                <a:cs typeface="Motken noqta"/>
              </a:rPr>
              <a:t>الرقابة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7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تاس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ccff"/>
                </a:solidFill>
                <a:latin typeface="Garamond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106632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فهوم 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فوائد 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خطوات الرقابة الإدا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نواع 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خصائص الرقابة الفعال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ccff"/>
                </a:solidFill>
                <a:latin typeface="Garamond"/>
                <a:cs typeface="Simplified Arabic"/>
              </a:rPr>
              <a:t>مفهوم الرقابة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2161800"/>
            <a:ext cx="822960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”التأكــد من أن كـل شي  في المنظمة يـتم وفق الخطـط الموضـوعة, والتعليمـات الصـادرة, والمبادئ المعتمـدة“ وذلك لـهدف كـشف مـواطـن الضعـف وتصحيحـهـا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مدرسة العلاقات الإنسان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تعارض الاتجاه التقليدي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نادى بها ، ماري فوليت ، وسايمون ، و ألتون مايو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عتبرت الإنسان من أهم عناصر الإدار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هتمت بالروح المعنوية للعاملين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فوائد الرقاب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فوائد الرقابة للمنظمة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لتأكد من مدى تحقيق الأهـداف العامـة والفرعي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لتأكد من مدى مطـابقـة الأداء الفعلـي للخطط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كتشاف الانحرافات السلبية تمهيدا لمعالجت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لتأكد من مدى مناسبة كل من الموارد البشرية والمادية لمتطلبات الخطط نوعا ووقتا.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لتأكد من الاستخدام  الكفء لكل الموارد المتاحة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لتأكد من أن الاداء التنفيذي يسير وفقا للإجراءات  التفصيلية .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فوائد الرقاب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6" name=""/>
          <p:cNvSpPr/>
          <p:nvPr/>
        </p:nvSpPr>
        <p:spPr>
          <a:xfrm>
            <a:off x="898560" y="2060640"/>
            <a:ext cx="7921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وائد الرقابة للأفراد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طمئنان العامل  الكفء لعدالة عملية المراقبة عند تقييم أدائه الفع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طمئنان العامل المقصر لعدالة عملية المراقبة عند تقييم أدائه الفعلي لإتاحة الفرصة لتجديد مهارت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فظ الحقوق لأفراد جمهور المتعاملين مع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خطوات الرقابة الإدار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8" name=""/>
          <p:cNvSpPr/>
          <p:nvPr/>
        </p:nvSpPr>
        <p:spPr>
          <a:xfrm>
            <a:off x="6424560" y="2071800"/>
            <a:ext cx="2622600" cy="8650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وضع المعايير الرقاب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622840" y="2976480"/>
            <a:ext cx="2478240" cy="86544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قياس الأداء الفعل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4284720" y="3879720"/>
            <a:ext cx="2663640" cy="8654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تصويب الانحراف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895480" y="4797360"/>
            <a:ext cx="2684520" cy="8650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اقتراح الحلول البديل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41440" y="5703840"/>
            <a:ext cx="2843280" cy="865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المتابع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1</a:t>
            </a: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- وضع المعايي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معايير مادية ملموس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قاييس كم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قاييس مال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معايير غير ماد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فئة الموظفي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فئة المستهلكي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فئة الموردي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- قياس الأداء الفعلي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مراعاة نطاق الإشرا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مدى تفهم المرؤوسين لأهداف المراق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أن يكون هناك حداً للخطأ المسموح ب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7" name=""/>
          <p:cNvGrpSpPr/>
          <p:nvPr/>
        </p:nvGrpSpPr>
        <p:grpSpPr>
          <a:xfrm>
            <a:off x="2819520" y="3657600"/>
            <a:ext cx="4543200" cy="698040"/>
            <a:chOff x="2819520" y="3657600"/>
            <a:chExt cx="4543200" cy="698040"/>
          </a:xfrm>
        </p:grpSpPr>
        <p:sp>
          <p:nvSpPr>
            <p:cNvPr id="1518" name=""/>
            <p:cNvSpPr/>
            <p:nvPr/>
          </p:nvSpPr>
          <p:spPr>
            <a:xfrm>
              <a:off x="2819520" y="3993480"/>
              <a:ext cx="45432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362720" y="3984480"/>
              <a:ext cx="0" cy="356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24560" y="3999240"/>
              <a:ext cx="0" cy="356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103360" y="3657600"/>
              <a:ext cx="0" cy="3567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3</a:t>
            </a: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- تصويب الانحرا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3" name=""/>
          <p:cNvSpPr/>
          <p:nvPr/>
        </p:nvSpPr>
        <p:spPr>
          <a:xfrm>
            <a:off x="6393600" y="44197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cccc"/>
                </a:solidFill>
                <a:latin typeface="Tahoma"/>
                <a:cs typeface="Simplified Arabic"/>
              </a:rPr>
              <a:t>نتائج إيجاب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890000" y="4419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cccc"/>
                </a:solidFill>
                <a:latin typeface="Tahoma"/>
                <a:cs typeface="Simplified Arabic"/>
              </a:rPr>
              <a:t>نتائج سلب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676520" y="50292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  <a:cs typeface="Simplified Arabic"/>
              </a:rPr>
              <a:t>وهي التي تنتج من انحراف التنفيذ الفعلي عن المعايير الكمية والوصفية المقررة </a:t>
            </a:r>
            <a:r>
              <a:rPr b="1" lang="en-US" sz="1800" spc="-1" strike="noStrike">
                <a:solidFill>
                  <a:srgbClr val="ffffff"/>
                </a:solidFill>
                <a:latin typeface="AL-Mohanad"/>
                <a:ea typeface="Simplified Arab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019920" y="5029200"/>
            <a:ext cx="256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  <a:cs typeface="Simplified Arabic"/>
              </a:rPr>
              <a:t>وهي التي تنتج من مطابقة التنفيذ الفعلي للمعايير الكمية والوصفية المقررة</a:t>
            </a:r>
            <a:r>
              <a:rPr b="1" lang="en-US" sz="1800" spc="-1" strike="noStrike">
                <a:solidFill>
                  <a:srgbClr val="ffffff"/>
                </a:solidFill>
                <a:latin typeface="AL-Mohanad"/>
                <a:ea typeface="Simplified Arabic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733920" y="29401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ff"/>
                </a:solidFill>
                <a:latin typeface="Arial"/>
                <a:cs typeface="Simplified Arabic"/>
              </a:rPr>
              <a:t>نتائج القياس الفع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باقي خطوات الرقابة الإدار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اقتراح الحلول البديل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المتابع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أنواع الرقاب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2" name=""/>
          <p:cNvSpPr/>
          <p:nvPr/>
        </p:nvSpPr>
        <p:spPr>
          <a:xfrm rot="9418200">
            <a:off x="5367240" y="3260160"/>
            <a:ext cx="1231920" cy="1106280"/>
          </a:xfrm>
          <a:prstGeom prst="flowChartDisplay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 rot="18444000">
            <a:off x="3628800" y="4458960"/>
            <a:ext cx="1108080" cy="1231920"/>
          </a:xfrm>
          <a:prstGeom prst="flowChartDisplay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rot="14068800">
            <a:off x="4998960" y="4451400"/>
            <a:ext cx="1108080" cy="1231920"/>
          </a:xfrm>
          <a:prstGeom prst="flowChartDisplay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rot="1359600">
            <a:off x="3165120" y="3295440"/>
            <a:ext cx="1231920" cy="1106280"/>
          </a:xfrm>
          <a:prstGeom prst="flowChartDisplay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rot="5319000">
            <a:off x="4300200" y="2609640"/>
            <a:ext cx="1108080" cy="1231920"/>
          </a:xfrm>
          <a:prstGeom prst="flowChartDisplay">
            <a:avLst/>
          </a:prstGeom>
          <a:solidFill>
            <a:srgbClr val="0099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7280" y="3500280"/>
            <a:ext cx="1643040" cy="147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4316400" y="2759040"/>
            <a:ext cx="10429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توقيت أداء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رقابة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383000" y="4014720"/>
            <a:ext cx="1042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Normal"/>
              </a:rPr>
              <a:t>معايير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Normal"/>
              <a:ea typeface="HeshamNorm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Normal"/>
              </a:rPr>
              <a:t>التصني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Normal"/>
              <a:ea typeface="HeshamNormal"/>
            </a:endParaRPr>
          </a:p>
        </p:txBody>
      </p:sp>
      <p:sp>
        <p:nvSpPr>
          <p:cNvPr id="1540" name=""/>
          <p:cNvSpPr txBox="1"/>
          <p:nvPr/>
        </p:nvSpPr>
        <p:spPr>
          <a:xfrm rot="3951600">
            <a:off x="5542920" y="3449520"/>
            <a:ext cx="93816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أنشطة محل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رقابة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41" name=""/>
          <p:cNvSpPr txBox="1"/>
          <p:nvPr/>
        </p:nvSpPr>
        <p:spPr>
          <a:xfrm rot="17789400">
            <a:off x="3304440" y="3578760"/>
            <a:ext cx="9381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هدف من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رقابة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42" name=""/>
          <p:cNvSpPr txBox="1"/>
          <p:nvPr/>
        </p:nvSpPr>
        <p:spPr>
          <a:xfrm rot="13074000">
            <a:off x="3665520" y="4862160"/>
            <a:ext cx="9669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جهة ال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تقوم بـالرقاب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43" name=""/>
          <p:cNvSpPr txBox="1"/>
          <p:nvPr/>
        </p:nvSpPr>
        <p:spPr>
          <a:xfrm rot="8577600">
            <a:off x="5067000" y="4846680"/>
            <a:ext cx="10429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نظام الذي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يطبق به الرقابة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3807000" y="2257560"/>
            <a:ext cx="2215800" cy="350640"/>
            <a:chOff x="3807000" y="2257560"/>
            <a:chExt cx="2215800" cy="350640"/>
          </a:xfrm>
        </p:grpSpPr>
        <p:sp>
          <p:nvSpPr>
            <p:cNvPr id="1545" name=""/>
            <p:cNvSpPr/>
            <p:nvPr/>
          </p:nvSpPr>
          <p:spPr>
            <a:xfrm>
              <a:off x="3807000" y="2608200"/>
              <a:ext cx="221580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6022800" y="2257560"/>
              <a:ext cx="0" cy="35064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3807000" y="2257560"/>
              <a:ext cx="0" cy="35064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849560" y="2257560"/>
              <a:ext cx="0" cy="35064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6248520" y="2612880"/>
            <a:ext cx="1157040" cy="1982880"/>
            <a:chOff x="6248520" y="2612880"/>
            <a:chExt cx="1157040" cy="1982880"/>
          </a:xfrm>
        </p:grpSpPr>
        <p:sp>
          <p:nvSpPr>
            <p:cNvPr id="1550" name=""/>
            <p:cNvSpPr/>
            <p:nvPr/>
          </p:nvSpPr>
          <p:spPr>
            <a:xfrm>
              <a:off x="6248520" y="2770200"/>
              <a:ext cx="797400" cy="18255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7045920" y="4438440"/>
              <a:ext cx="359640" cy="15732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6248520" y="2612880"/>
              <a:ext cx="359640" cy="15732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6623640" y="3471840"/>
              <a:ext cx="359640" cy="15732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2293920" y="2545920"/>
            <a:ext cx="1317960" cy="1963080"/>
            <a:chOff x="2293920" y="2545920"/>
            <a:chExt cx="1317960" cy="1963080"/>
          </a:xfrm>
        </p:grpSpPr>
        <p:sp>
          <p:nvSpPr>
            <p:cNvPr id="1555" name=""/>
            <p:cNvSpPr/>
            <p:nvPr/>
          </p:nvSpPr>
          <p:spPr>
            <a:xfrm flipV="1">
              <a:off x="2694240" y="2707920"/>
              <a:ext cx="869040" cy="1792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3260160" y="2545920"/>
              <a:ext cx="351720" cy="17028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2293920" y="4338720"/>
              <a:ext cx="351720" cy="17028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5015880" y="4978800"/>
            <a:ext cx="2045160" cy="1468080"/>
            <a:chOff x="5015880" y="4978800"/>
            <a:chExt cx="2045160" cy="1468080"/>
          </a:xfrm>
        </p:grpSpPr>
        <p:sp>
          <p:nvSpPr>
            <p:cNvPr id="1559" name=""/>
            <p:cNvSpPr/>
            <p:nvPr/>
          </p:nvSpPr>
          <p:spPr>
            <a:xfrm flipH="1">
              <a:off x="5015880" y="4978800"/>
              <a:ext cx="1836720" cy="123984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026680" y="6155280"/>
              <a:ext cx="196560" cy="2916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64480" y="5041440"/>
              <a:ext cx="196560" cy="2916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2" name=""/>
          <p:cNvGrpSpPr/>
          <p:nvPr/>
        </p:nvGrpSpPr>
        <p:grpSpPr>
          <a:xfrm>
            <a:off x="2622960" y="4917960"/>
            <a:ext cx="2008440" cy="1524600"/>
            <a:chOff x="2622960" y="4917960"/>
            <a:chExt cx="2008440" cy="1524600"/>
          </a:xfrm>
        </p:grpSpPr>
        <p:sp>
          <p:nvSpPr>
            <p:cNvPr id="1563" name=""/>
            <p:cNvSpPr/>
            <p:nvPr/>
          </p:nvSpPr>
          <p:spPr>
            <a:xfrm flipH="1" flipV="1">
              <a:off x="2841840" y="4917960"/>
              <a:ext cx="1789560" cy="1306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2622960" y="4983840"/>
              <a:ext cx="207360" cy="28368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4412520" y="6158520"/>
              <a:ext cx="207360" cy="28404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6" name=""/>
          <p:cNvSpPr txBox="1"/>
          <p:nvPr/>
        </p:nvSpPr>
        <p:spPr>
          <a:xfrm>
            <a:off x="3546360" y="1905120"/>
            <a:ext cx="26067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قبل التنفيذ         أثناء التنفيذ           بعد التنفيذ</a:t>
            </a:r>
            <a:endParaRPr b="0" lang="en-US" sz="20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67" name=""/>
          <p:cNvSpPr txBox="1"/>
          <p:nvPr/>
        </p:nvSpPr>
        <p:spPr>
          <a:xfrm rot="17804400">
            <a:off x="1483560" y="3232800"/>
            <a:ext cx="234288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إيــجـــــابية                                                  ســــلبــية</a:t>
            </a:r>
            <a:endParaRPr b="0" lang="en-US" sz="20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68" name=""/>
          <p:cNvSpPr txBox="1"/>
          <p:nvPr/>
        </p:nvSpPr>
        <p:spPr>
          <a:xfrm rot="12996000">
            <a:off x="2057040" y="5772960"/>
            <a:ext cx="260676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داخليـــــــــة                                            خـــــارجية</a:t>
            </a:r>
            <a:endParaRPr b="0" lang="en-US" sz="20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69" name=""/>
          <p:cNvSpPr txBox="1"/>
          <p:nvPr/>
        </p:nvSpPr>
        <p:spPr>
          <a:xfrm rot="8740200">
            <a:off x="4936320" y="5773320"/>
            <a:ext cx="260676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غلقـــــــــة                                            مفــــــتوحة</a:t>
            </a:r>
            <a:endParaRPr b="0" lang="en-US" sz="20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70" name=""/>
          <p:cNvSpPr txBox="1"/>
          <p:nvPr/>
        </p:nvSpPr>
        <p:spPr>
          <a:xfrm rot="4045200">
            <a:off x="6046560" y="3233520"/>
            <a:ext cx="234288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كفاءة الأدارية         قضائية           الحسابية</a:t>
            </a:r>
            <a:endParaRPr b="1" lang="en-US" sz="20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أنواع الرقاب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المعيار الأول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: بحسب نوع النظام الذي يطبق به 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نظام الرقابة المغل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نظام الرقابة المفتو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المعيار الثاني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: بحسب الهدف من اكتشاف الأخطا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إيجاب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سلب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المعيار الثالث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: بحسب التوقيت الزمني ل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سابقة للتنفي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لاحق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أنواع الرقاب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المعيار الراب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: بحسب نوع النشاط الذي تمارس من أجله 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على كفاءة أداء المهام الإداري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حساب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قضائ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05:42Z</dcterms:created>
  <dc:creator>xp2</dc:creator>
  <dc:description/>
  <dc:language>en-US</dc:language>
  <cp:lastModifiedBy>xp2</cp:lastModifiedBy>
  <dcterms:modified xsi:type="dcterms:W3CDTF">2009-10-05T07:01:07Z</dcterms:modified>
  <cp:revision>15</cp:revision>
  <dc:subject/>
  <dc:title>الشريحة 1</dc:title>
</cp:coreProperties>
</file>