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77C-50AB-473C-8DE1-2BC8042F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F8F-B2A0-449F-94B0-9DAEE1A7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E193-5729-43F3-AD43-1EB05EBA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40B-F3AD-4DC1-AF1B-97F19093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7BF5-2B7E-4328-8777-FC6CD5CF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0470-E9CC-4E64-8265-2518FDE4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252B-5605-43F7-B0FA-004DC16C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D89E-D24E-48AD-AE73-58104447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6243-3C22-4A47-B26F-EA14EB81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A01A-6A4D-40A2-A768-081F2B62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B666-6863-4AFF-919A-B63D16CC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21C7-9765-460D-A0FA-1D5BEFE8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EAFA-DF54-453B-8259-A2721827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2647-365C-49CB-83A7-FE4975B6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19BE-782B-478F-8141-F6039316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096D-8B01-4293-9950-B2AA205D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9876-2957-42E3-948C-0913FDAF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69D-A866-4431-8F3B-D36D864D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9A7-26A9-48FF-8C9E-F676E42C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635-1B48-46E2-9FA5-77FEF281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2EA-258E-4799-AE83-F0029772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676-2C7E-40AD-81DA-1A4CAD78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A28-CED1-4FC8-A9D6-8E9FF4C4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5D2-AE35-4DB0-ADA8-DF1FBE40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DACD-AE99-4A7A-A095-9AFAA4A7436E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6D4F-B292-4356-A0B0-7A7DD60D4CA0}" type="slidenum">
              <a:rPr b="0" lang="ar-SA" sz="1400" spc="-1" strike="noStrike">
                <a:solidFill>
                  <a:srgbClr val="1c1c1c"/>
                </a:solidFill>
                <a:latin typeface="Tahoma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468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فصل الأول: ماهية الإدار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84360" y="2205000"/>
            <a:ext cx="3529080" cy="331164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9448400">
            <a:off x="4764240" y="1850760"/>
            <a:ext cx="1155600" cy="367164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ستويات الإدار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2916360" y="2205000"/>
            <a:ext cx="2663640" cy="251928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2205000"/>
            <a:ext cx="1657080" cy="158436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9426800">
            <a:off x="4643280" y="1915920"/>
            <a:ext cx="865440" cy="28112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9453800">
            <a:off x="4498920" y="2053800"/>
            <a:ext cx="576360" cy="172728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68560" y="2925720"/>
            <a:ext cx="7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إدار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علي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59960" y="40784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إدارة الوسط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04640" y="49417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ahoma"/>
                <a:cs typeface="Arial"/>
              </a:rPr>
              <a:t>الإدارة الدنيا (المباشرة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1720" y="6613560"/>
            <a:ext cx="378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  <a:cs typeface="Arial"/>
              </a:rPr>
              <a:t>المصدر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ggins. 1991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Management Challen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Figure 1-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332000" y="2133720"/>
            <a:ext cx="5111640" cy="6476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2000" y="4508640"/>
            <a:ext cx="6769080" cy="865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3645000"/>
            <a:ext cx="6769080" cy="86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2779560"/>
            <a:ext cx="6769080" cy="865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333399"/>
                </a:solidFill>
                <a:latin typeface="Tahoma"/>
              </a:rPr>
              <a:t>أهمية وظائف الإدارة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بالنسبة لمستويات الإدار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432480" y="2997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إدارة العل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206040" y="386064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إدارة الوسط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95040" y="47196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إدارة الدن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45120" y="2362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التخطي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85400" y="23623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التنظي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8120" y="2362320"/>
            <a:ext cx="83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التوجي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3600" y="236232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الرقاب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2781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2133720"/>
            <a:ext cx="79200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2133720"/>
            <a:ext cx="93636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2133720"/>
            <a:ext cx="64800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1720" y="6613560"/>
            <a:ext cx="378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  <a:cs typeface="Arial"/>
              </a:rPr>
              <a:t>المصدر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ggins. 1991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Management Challen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Figure 1-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32000" y="4508640"/>
            <a:ext cx="6769080" cy="865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3645000"/>
            <a:ext cx="6769080" cy="865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2779560"/>
            <a:ext cx="6769080" cy="865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2133720"/>
            <a:ext cx="5111640" cy="6476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333399"/>
                </a:solidFill>
                <a:latin typeface="Tahoma"/>
              </a:rPr>
              <a:t>أهمية المهارات الإدارية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بالنسبة لمستويات الإدار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58600" y="227664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المهارات الانسا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9720" y="227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المهارات الذه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7760" y="2276640"/>
            <a:ext cx="164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المهارات التق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32480" y="299736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إدارة العل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06040" y="386064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إدارة الوسط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95040" y="47196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إدارة الدن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43640" y="2781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2133720"/>
            <a:ext cx="93672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2133720"/>
            <a:ext cx="86508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91720" y="6613560"/>
            <a:ext cx="378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  <a:cs typeface="Arial"/>
              </a:rPr>
              <a:t>المصدر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ggins. 1991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Management Challen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Figure 1-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إدارة الأعمال والإدارة العام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كلاهما يستخدم نفس الوظائف الادار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(تخطيط ، تنظيم ، توجيه ، رقابة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الفرق بينهما في مجالات العمل وليس في الجوه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ولكن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ربح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احت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قوى السياسية والاقتصادي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1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هل الإدارة علم أم فن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770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ما فائدة الاجابة على هذا السؤال 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إدارة علم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قواعد عامة ونظريات يمكن الاسترشاد 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إدارة فن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لأن تطبيق هذه القواعد والنظريات قد لا يؤدي الى نتائج متماثلة من شخص لآخ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كيف تستخدم مهاراتك الشخصية عند تطبيق المبادئ والقواعد والنظريات الاداري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in" orient="horz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حتوي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تعريف الإدار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أهمية الإدارة في الوقت الحاض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العلاقة بين المنظمة والبيئ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مبرر قيام المنظمات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خصائص الإدار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مستويات الإدار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إدارة الأعمال والإدارة العام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هل الإدارة علم أم فن 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051560" y="3198960"/>
            <a:ext cx="3366720" cy="3123360"/>
            <a:chOff x="1051560" y="3198960"/>
            <a:chExt cx="3366720" cy="3123360"/>
          </a:xfrm>
        </p:grpSpPr>
        <p:sp>
          <p:nvSpPr>
            <p:cNvPr id="104" name="_s32791"/>
            <p:cNvSpPr/>
            <p:nvPr/>
          </p:nvSpPr>
          <p:spPr>
            <a:xfrm>
              <a:off x="1051920" y="3199320"/>
              <a:ext cx="3366360" cy="312300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32792"/>
            <p:cNvSpPr/>
            <p:nvPr/>
          </p:nvSpPr>
          <p:spPr>
            <a:xfrm rot="5400000">
              <a:off x="1173240" y="3077640"/>
              <a:ext cx="3123000" cy="336636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32793"/>
            <p:cNvSpPr/>
            <p:nvPr/>
          </p:nvSpPr>
          <p:spPr>
            <a:xfrm rot="10800000">
              <a:off x="1051560" y="3198960"/>
              <a:ext cx="3366360" cy="312300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32795"/>
            <p:cNvSpPr/>
            <p:nvPr/>
          </p:nvSpPr>
          <p:spPr>
            <a:xfrm rot="16200000">
              <a:off x="1173600" y="3077280"/>
              <a:ext cx="3123000" cy="3366360"/>
            </a:xfrm>
            <a:prstGeom prst="blockArc">
              <a:avLst>
                <a:gd name="adj1" fmla="val 14880000"/>
                <a:gd name="adj2" fmla="val 6720000"/>
                <a:gd name="adj3" fmla="val 12500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32778"/>
            <p:cNvSpPr/>
            <p:nvPr/>
          </p:nvSpPr>
          <p:spPr>
            <a:xfrm>
              <a:off x="1265400" y="5327640"/>
              <a:ext cx="86328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Tahoma"/>
                  <a:cs typeface="Arial"/>
                </a:rPr>
                <a:t>توجيه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32785"/>
            <p:cNvSpPr/>
            <p:nvPr/>
          </p:nvSpPr>
          <p:spPr>
            <a:xfrm>
              <a:off x="3346200" y="5325120"/>
              <a:ext cx="86292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Tahoma"/>
                  <a:cs typeface="Arial"/>
                </a:rPr>
                <a:t>تنظيم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32775"/>
            <p:cNvSpPr/>
            <p:nvPr/>
          </p:nvSpPr>
          <p:spPr>
            <a:xfrm>
              <a:off x="3344760" y="3394440"/>
              <a:ext cx="86328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Tahoma"/>
                  <a:cs typeface="Arial"/>
                </a:rPr>
                <a:t>تخطيط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32794"/>
            <p:cNvSpPr/>
            <p:nvPr/>
          </p:nvSpPr>
          <p:spPr>
            <a:xfrm>
              <a:off x="1262520" y="3395880"/>
              <a:ext cx="86328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000000"/>
                  </a:solidFill>
                  <a:latin typeface="Tahoma"/>
                  <a:cs typeface="Arial"/>
                </a:rPr>
                <a:t>رقا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  <a:cs typeface="Arial"/>
              </a:rPr>
              <a:t>تعريف 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Arial"/>
              </a:rPr>
              <a:t>ذلك النشاط الذي يهتم </a:t>
            </a:r>
            <a:r>
              <a:rPr b="0" lang="hi-IN" sz="3200" spc="-1" strike="noStrike" u="sng">
                <a:solidFill>
                  <a:srgbClr val="000000"/>
                </a:solidFill>
                <a:uFillTx/>
                <a:latin typeface="Tahoma"/>
                <a:cs typeface="Arial"/>
              </a:rPr>
              <a:t>بتخطيط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و</a:t>
            </a:r>
            <a:r>
              <a:rPr b="0" lang="hi-IN" sz="3200" spc="-1" strike="noStrike" u="sng">
                <a:solidFill>
                  <a:srgbClr val="000000"/>
                </a:solidFill>
                <a:uFillTx/>
                <a:latin typeface="Tahoma"/>
                <a:cs typeface="Arial"/>
              </a:rPr>
              <a:t>تنظيم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و</a:t>
            </a:r>
            <a:r>
              <a:rPr b="0" lang="hi-IN" sz="3200" spc="-1" strike="noStrike" u="sng">
                <a:solidFill>
                  <a:srgbClr val="000000"/>
                </a:solidFill>
                <a:uFillTx/>
                <a:latin typeface="Tahoma"/>
                <a:cs typeface="Arial"/>
              </a:rPr>
              <a:t>توجي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و</a:t>
            </a:r>
            <a:r>
              <a:rPr b="0" lang="hi-IN" sz="3200" spc="-1" strike="noStrike" u="sng">
                <a:solidFill>
                  <a:srgbClr val="000000"/>
                </a:solidFill>
                <a:uFillTx/>
                <a:latin typeface="Tahoma"/>
                <a:cs typeface="Arial"/>
              </a:rPr>
              <a:t>رقاب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 موارد المنظمة لتحقيق أهدافه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r" rtl="1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Arial"/>
              </a:rPr>
              <a:t>وظائف الإدارة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التخطيط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التنظيم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التوجيه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 algn="r" rtl="1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  <a:cs typeface="Arial"/>
              </a:rPr>
              <a:t>الرقاب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أهمية الإدارة في الوقت الحاض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770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كبر حجم المنظمات ، وزيادة الحاجة الى التخصصات المختلف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وجود انفصال بين المنظمات وملاكها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التغييرات التقنية والاقتصادية والاجتماعي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المنافسة الشديدة في الأسواق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الندرة المتزايدة للموارد المادية والبشري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تزايد قوة منظمات حماية المستهل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cc33"/>
              </a:buClr>
              <a:buSzPct val="60000"/>
              <a:buFont typeface="Wingdings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تزايد قوة التجمعات العمالي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2362320"/>
            <a:ext cx="3657600" cy="322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بيئة كمدخل لدراسة الإدار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5892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 algn="r" rtl="1">
              <a:spcBef>
                <a:spcPts val="700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بيئة : (خارجية ؛ داخلية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 algn="r" rtl="1">
              <a:spcBef>
                <a:spcPts val="601"/>
              </a:spcBef>
              <a:buClr>
                <a:srgbClr val="3333cc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بيئة الطبيع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 algn="r" rtl="1">
              <a:spcBef>
                <a:spcPts val="601"/>
              </a:spcBef>
              <a:buClr>
                <a:srgbClr val="3333cc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بيئة الانساني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 algn="r" rtl="1">
              <a:spcBef>
                <a:spcPts val="700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نظام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 algn="r" rtl="1">
              <a:spcBef>
                <a:spcPts val="601"/>
              </a:spcBef>
              <a:buClr>
                <a:srgbClr val="3333cc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ظمة مفتوح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96040" indent="-447840" algn="r" rtl="1">
              <a:spcBef>
                <a:spcPts val="601"/>
              </a:spcBef>
              <a:buClr>
                <a:srgbClr val="3333cc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أنظمة مغلقة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 algn="r" rtl="1">
              <a:spcBef>
                <a:spcPts val="700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ahoma"/>
              </a:rPr>
              <a:t>التأثر المشترك بين البيئة والنظا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741320" y="3235320"/>
            <a:ext cx="1600200" cy="990720"/>
          </a:xfrm>
          <a:prstGeom prst="ellipse">
            <a:avLst/>
          </a:prstGeom>
          <a:solidFill>
            <a:srgbClr val="ffe4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8360" y="350532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17040" y="494172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بيئة الخار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03480" y="26668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القوى التقني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365800">
            <a:off x="3165480" y="3581280"/>
            <a:ext cx="12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القوى الاقتصادي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074600">
            <a:off x="793440" y="3469320"/>
            <a:ext cx="10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القوى الاجتماعي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54200" y="445608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000000"/>
                </a:solidFill>
                <a:latin typeface="Times New Roman"/>
              </a:rPr>
              <a:t>القوى السياسية والقانوني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8680" y="5373720"/>
            <a:ext cx="378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  <a:cs typeface="Arial"/>
              </a:rPr>
              <a:t>المصدر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ggins. 1991.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Management Challeng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Figure 1-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2057400"/>
            <a:ext cx="7924680" cy="4495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2781360"/>
            <a:ext cx="1297080" cy="576360"/>
          </a:xfrm>
          <a:prstGeom prst="rect">
            <a:avLst/>
          </a:prstGeom>
          <a:solidFill>
            <a:srgbClr val="ffe4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2565360"/>
            <a:ext cx="1512720" cy="576360"/>
          </a:xfrm>
          <a:prstGeom prst="rect">
            <a:avLst/>
          </a:prstGeom>
          <a:solidFill>
            <a:srgbClr val="ffe4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1661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نظمة كنظام مفتو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2971800"/>
            <a:ext cx="1981080" cy="1523880"/>
          </a:xfrm>
          <a:prstGeom prst="ellipse">
            <a:avLst/>
          </a:prstGeom>
          <a:solidFill>
            <a:srgbClr val="ffe47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85160" y="3141720"/>
            <a:ext cx="199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أنشطة تحو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3141720"/>
            <a:ext cx="1523880" cy="1892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10320" y="266688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مدخ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46320" y="3276720"/>
            <a:ext cx="107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أف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رأس 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مواد خا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تقن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معلوم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منشآ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3357720"/>
            <a:ext cx="1295640" cy="9856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54800" y="286056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مخرج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48120" y="3505320"/>
            <a:ext cx="89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سل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خدم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562720" y="37339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514600" y="373392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4419720"/>
            <a:ext cx="0" cy="1523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238880" y="52574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5943600"/>
            <a:ext cx="5638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1480" y="537372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imes New Roman"/>
              </a:rPr>
              <a:t>الأثر الرجع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36450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26440" y="6308640"/>
            <a:ext cx="479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  <a:cs typeface="Arial"/>
              </a:rPr>
              <a:t>المصدر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rmerhorn et al.  1997.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rganizational Behavio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6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edition, Figure 1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2374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منظمة كنظام مفتوح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r" rtl="1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خلاصة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منظم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بيئة الخارجي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منظم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منظمات المماثلة العاملة في البيئ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المنظم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وحدات النظام الأكب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فاعلية العلاقة بين المنظمة والبيئة الخارجية تؤثر على قدرة المنظمة على القيام بوظائفها وتحقيق أهداف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عدم قدرة المنظمة على القيام بوظائفها يهدد بقائ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16520" indent="-438840" algn="r" rtl="1"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يجب على المنظمة أن تتعرف على مختلف القوى المؤثرة على أدائها ووظائفه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2852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32846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37162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8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مبرر قيام المنظم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33cc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قيام بأعمال ضخمة ومتنوعة لا يستطيع الشخص بمفرده القيام بها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spcBef>
                <a:spcPts val="799"/>
              </a:spcBef>
              <a:buClr>
                <a:srgbClr val="33cc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ظاهرة الندرة : (الموارد المتاحة &lt; الاحتياجات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مما يزيد من مشكلة الندرة أن المخرجات &lt; المدخلات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r" rtl="1">
              <a:spcBef>
                <a:spcPts val="799"/>
              </a:spcBef>
              <a:buClr>
                <a:srgbClr val="33cc33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</a:rPr>
              <a:t>الرغبة في الاستفادة من التخصص وتقسيم العمل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omb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0930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خصائص الإدار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نشاط انساني يتكون من وظائف مختلف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لتحقيق أهداف محدد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تختص بالعنصر الانساني في العم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تنظم العمل الجماع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تختلف عن العمل الفن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تختلف عن العمل التنفيذ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07:37:20Z</dcterms:created>
  <dc:creator>Sulaiman Al-Alsheikh</dc:creator>
  <dc:description/>
  <dc:language>en-US</dc:language>
  <cp:lastModifiedBy>user</cp:lastModifiedBy>
  <dcterms:modified xsi:type="dcterms:W3CDTF">2007-10-31T21:43:17Z</dcterms:modified>
  <cp:revision>18</cp:revision>
  <dc:subject/>
  <dc:title>الفصل الأول</dc:title>
</cp:coreProperties>
</file>