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A3E-3650-4F99-9650-AC83998E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A89-968B-40D4-80E0-D0CFD287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8E3-F3CA-49FA-8060-4EAF79DC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237-B8E4-488F-BEC0-40665078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F585-2AAE-4A68-844A-4E28D55C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4F5B-C3AF-4BD0-9C49-1FB20FAA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9522-F256-4C05-AB64-FF4BBF2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8F99-38EE-4C0D-B16C-59F8B36E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78E-4F6B-4CDF-8BC0-49B61FA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2F6D-0B3A-4EA1-A1D8-DDF1CD0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D53F-A50C-4394-A7D0-220DBB5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2C0-F5CB-4D23-9376-C7B8C09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68AD-BABD-4A6C-B3AD-9DC308D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A760-1EE4-414A-9EE2-F53B6DD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797B-E094-42C5-830D-FDA4F1E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83C-05A4-4669-BA3A-C4B21574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C2B-9D11-4822-8564-16C70BD7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28B-5F26-4E66-9A8B-F6628DC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4C5-0B4E-450C-B195-9B1F1421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0EE-3749-4273-B8EE-C88C371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7BB-F923-4A3A-B585-2DB2B49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392-EF5A-4C56-8D87-A1819B4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BB5-70DC-4C60-998C-96881C1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179-15D9-4A59-AB6E-1C987E9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0D6-3AF3-4449-B8A7-38A4B1F5CFD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758-36E6-4B21-8C50-460919DC1BD7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أول: ماهية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84360" y="2205000"/>
            <a:ext cx="3529080" cy="3311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48400">
            <a:off x="4764240" y="1850760"/>
            <a:ext cx="1155600" cy="3671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ستويات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2205000"/>
            <a:ext cx="2663640" cy="251928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2205000"/>
            <a:ext cx="1657080" cy="15843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9426800">
            <a:off x="4643280" y="1915920"/>
            <a:ext cx="865440" cy="28112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9453800">
            <a:off x="4498920" y="2053800"/>
            <a:ext cx="576360" cy="172728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8560" y="2925720"/>
            <a:ext cx="7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عل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59960" y="40784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04640" y="4941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دنيا (المباشر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133720"/>
            <a:ext cx="5111640" cy="647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508640"/>
            <a:ext cx="6769080" cy="865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645000"/>
            <a:ext cx="6769080" cy="86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779560"/>
            <a:ext cx="6769080" cy="865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Tahoma"/>
              </a:rPr>
              <a:t>أهمية وظائف الإدارة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بالنسبة لمستويات الإدار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43248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ع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06040" y="386064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وسط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95040" y="4719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دن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45120" y="236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85400" y="23623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نظ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8120" y="236232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وجي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3600" y="23623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2781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2133720"/>
            <a:ext cx="79200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133720"/>
            <a:ext cx="93636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2133720"/>
            <a:ext cx="64800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32000" y="4508640"/>
            <a:ext cx="6769080" cy="865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3645000"/>
            <a:ext cx="6769080" cy="86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779560"/>
            <a:ext cx="6769080" cy="865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133720"/>
            <a:ext cx="5111640" cy="647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Tahoma"/>
              </a:rPr>
              <a:t>أهمية المهارات الإدارية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بالنسبة لمستويات الإدار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58600" y="227664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انسا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9720" y="227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ذه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7760" y="22766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تق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3248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ع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06040" y="386064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وسط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5040" y="4719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دن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2781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133720"/>
            <a:ext cx="93672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2133720"/>
            <a:ext cx="86508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إدارة الأعمال والإدارة العام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كلاهما يستخدم نفس الوظائف الاد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(تخطيط ، تنظيم ، توجيه ، رقاب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فرق بينهما في مجالات العمل وليس في الجوه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ولك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ربح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حت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وى السياسية والاقتصاد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هل الإدارة علم أم فن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ما فائدة الاجابة على هذا السؤال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إدارة علم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قواعد عامة ونظريات يمكن الاسترشاد 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إدارة ف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لأن تطبيق هذه القواعد والنظريات قد لا يؤدي الى نتائج متماثلة من شخص لآخ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كيف تستخدم مهاراتك الشخصية عند تطبيق المبادئ والقواعد والنظريات الاد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عريف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أهمية الإدارة في الوقت الحاض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علاقة بين المنظمة والبيئ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برر قيام المنظم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خصائص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ستويات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إدارة الأعمال والإدارة العا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هل الإدارة علم أم فن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51560" y="3198960"/>
            <a:ext cx="3366720" cy="3123360"/>
            <a:chOff x="1051560" y="3198960"/>
            <a:chExt cx="3366720" cy="3123360"/>
          </a:xfrm>
        </p:grpSpPr>
        <p:sp>
          <p:nvSpPr>
            <p:cNvPr id="104" name="_s32791"/>
            <p:cNvSpPr/>
            <p:nvPr/>
          </p:nvSpPr>
          <p:spPr>
            <a:xfrm>
              <a:off x="1051920" y="3199320"/>
              <a:ext cx="3366360" cy="3123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32792"/>
            <p:cNvSpPr/>
            <p:nvPr/>
          </p:nvSpPr>
          <p:spPr>
            <a:xfrm rot="5400000">
              <a:off x="1173240" y="3077640"/>
              <a:ext cx="3123000" cy="336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32793"/>
            <p:cNvSpPr/>
            <p:nvPr/>
          </p:nvSpPr>
          <p:spPr>
            <a:xfrm rot="10800000">
              <a:off x="1051560" y="3198960"/>
              <a:ext cx="3366360" cy="3123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32795"/>
            <p:cNvSpPr/>
            <p:nvPr/>
          </p:nvSpPr>
          <p:spPr>
            <a:xfrm rot="16200000">
              <a:off x="1173600" y="3077280"/>
              <a:ext cx="3123000" cy="336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32778"/>
            <p:cNvSpPr/>
            <p:nvPr/>
          </p:nvSpPr>
          <p:spPr>
            <a:xfrm>
              <a:off x="1265400" y="532764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وجي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32785"/>
            <p:cNvSpPr/>
            <p:nvPr/>
          </p:nvSpPr>
          <p:spPr>
            <a:xfrm>
              <a:off x="3346200" y="5325120"/>
              <a:ext cx="86292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نظي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32775"/>
            <p:cNvSpPr/>
            <p:nvPr/>
          </p:nvSpPr>
          <p:spPr>
            <a:xfrm>
              <a:off x="3344760" y="339444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خطي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32794"/>
            <p:cNvSpPr/>
            <p:nvPr/>
          </p:nvSpPr>
          <p:spPr>
            <a:xfrm>
              <a:off x="1262520" y="339588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تعريف 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ذلك النشاط الذي يهتم 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بتخطي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تنظي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توجي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رقاب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موارد المنظمة لتحقيق أهداف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وظائف الإدار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نظي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وجيه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رقاب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همية الإدارة في الوقت الحاض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كبر حجم المنظمات ، وزيادة الحاجة الى التخصصات المختلف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وجود انفصال بين المنظمات وملاكها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تغييرات التقنية والاقتصادية والاجتماع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منافسة الشديدة في الأسوا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ندرة المتزايدة للموارد المادية والبشر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زايد قوة منظمات حماية المستهل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زايد قوة التجمعات العمال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2362320"/>
            <a:ext cx="3657600" cy="322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بيئة كمدخل لدراسة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بيئة : (خارجية ؛ داخلي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طبيع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انسان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نظا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ظمة مفتوح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ظمة مغلق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أثر المشترك بين البيئة والنظا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741320" y="3235320"/>
            <a:ext cx="1600200" cy="990720"/>
          </a:xfrm>
          <a:prstGeom prst="ellipse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360" y="35053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7040" y="49417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03480" y="26668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تقن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65800">
            <a:off x="3165480" y="35812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اقتصاد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074600">
            <a:off x="793440" y="3469320"/>
            <a:ext cx="10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اجتماع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4200" y="4456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سياسية والقانون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8680" y="537372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057400"/>
            <a:ext cx="7924680" cy="4495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781360"/>
            <a:ext cx="1297080" cy="576360"/>
          </a:xfrm>
          <a:prstGeom prst="rect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2565360"/>
            <a:ext cx="1512720" cy="576360"/>
          </a:xfrm>
          <a:prstGeom prst="rect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نظمة كنظام مفتو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971800"/>
            <a:ext cx="1981080" cy="1523880"/>
          </a:xfrm>
          <a:prstGeom prst="ellipse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85160" y="3141720"/>
            <a:ext cx="19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أنشطة تحو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3141720"/>
            <a:ext cx="1523880" cy="1892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0320" y="26668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دخ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46320" y="3276720"/>
            <a:ext cx="107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أف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رأس 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واد خا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تق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علوم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نشآ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357720"/>
            <a:ext cx="1295640" cy="9856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4800" y="28605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خرج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48120" y="3505320"/>
            <a:ext cx="8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سل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خدم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62720" y="37339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600" y="37339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238880" y="5257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943600"/>
            <a:ext cx="5638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1480" y="53737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أثر الرج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3645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26440" y="6308640"/>
            <a:ext cx="479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rmerhorn et al.  1997.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ganizational Behavi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edition, Figure 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نظمة كنظام مفتو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خلاص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ات المماثلة العاملة في البيئ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وحدات النظام الأكب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فاعلية العلاقة بين المنظمة والبيئة الخارجية تؤثر على قدرة المنظمة على القيام بوظائفها وتحقيق أهداف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عدم قدرة المنظمة على القيام بوظائفها يهدد بقائ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جب على المنظمة أن تتعرف على مختلف القوى المؤثرة على أدائها ووظائف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2852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3284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7162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برر قيام المنظم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قيام بأعمال ضخمة ومتنوعة لا يستطيع الشخص بمفرده القيام بها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ظاهرة الندرة : (الموارد المتاحة &lt; الاحتياجات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مما يزيد من مشكلة الندرة أن المخرجات &lt; المدخل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رغبة في الاستفادة من التخصص وتقسيم العمل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0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صائص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نشاط انساني يتكون من وظائف مختلف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لتحقيق أهداف محدد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ص بالعنصر الانساني في العم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نظم العمل الج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لف عن العمل الفن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لف عن العمل التنفيذ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7:37:20Z</dcterms:created>
  <dc:creator>Sulaiman Al-Alsheikh</dc:creator>
  <dc:description/>
  <dc:language>en-US</dc:language>
  <cp:lastModifiedBy>user</cp:lastModifiedBy>
  <dcterms:modified xsi:type="dcterms:W3CDTF">2007-10-31T21:43:17Z</dcterms:modified>
  <cp:revision>18</cp:revision>
  <dc:subject/>
  <dc:title>الفصل الأول</dc:title>
</cp:coreProperties>
</file>