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99F-F63A-46EE-9DC5-6B77838B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598-69C2-41E1-A0D4-8A157904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F45-9289-4B2E-921C-EF8D6217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06A-1488-4C94-ADEA-9D02B8AD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7ACC-587C-4CF6-AF9F-ED775147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B674-B285-4539-87FA-FB49D985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9165-86BF-4C1A-9DE5-E683B3B0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AB77-ADE3-4466-9802-BA900623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D79F-D0BF-4274-9FE8-C728E0C6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7F32-60C6-4F0F-A2D1-7C42DE38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942F-D35A-45AA-971A-E22C4DEC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76E-DE7F-4A45-952C-878F16EC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0B32-24AE-454C-8178-DCC63739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34B1-C466-4B94-96CE-482C30FF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1A70-096B-49B5-979F-D9C2BD1A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9A2C-6C7F-4DBC-B7DE-2A7736FC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0808-1D61-4BAD-89A4-E188EB39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589-A56D-4CA6-BB10-72E5CB8D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CCA-5131-4879-A5B4-EE6EED04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610F-0EF3-43A7-B23D-C5EC1C4C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34A7-2127-4F7B-B7B1-E2F28402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A3D-035E-40C7-A7C1-51DE8171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578-3D28-48EA-AB9B-88715EB7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E065-3E41-4279-A8DE-1BB3033F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4FE7-BEC0-424D-A730-CC8973A9A9DB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5E22-18BD-415A-AE22-49A8AE954CCB}" type="slidenum">
              <a:rPr b="0" lang="ar-SA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830240"/>
            <a:ext cx="7468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فصل الثاني:  تطور الفكر الإدار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  <a:cs typeface="Arial"/>
              </a:rPr>
              <a:t>مدرسة الإدارة العلمي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(تاب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  <a:cs typeface="Arial"/>
              </a:rPr>
              <a:t>مبادئ تيلور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  <a:cs typeface="Arial"/>
              </a:rPr>
              <a:t>الدراسة العل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  <a:cs typeface="Arial"/>
              </a:rPr>
              <a:t>وضع معيار لمتوسط انتاج العا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  <a:cs typeface="Arial"/>
              </a:rPr>
              <a:t>اختيار العام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  <a:cs typeface="Arial"/>
              </a:rPr>
              <a:t>التدر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  <a:cs typeface="Arial"/>
              </a:rPr>
              <a:t>الحوافز الم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000000"/>
                </a:solidFill>
                <a:uFillTx/>
                <a:latin typeface="Tahoma"/>
                <a:cs typeface="Arial"/>
              </a:rPr>
              <a:t>الإدار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هي أن تعلم تماما ما تريد من موظفيك ، ثم تنظر كيف يمكن لهم أن ينفذوا أوامرك بأفضل وأرخص طريق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درسة الإدارة العلمي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سلبيات مبادئ تيلور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r" rtl="1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نظرت الى العامل وكأنه آل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r" rtl="1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تقسيم العملية الانتاجية أدى الى تسرب الملل الى العما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 algn="r" rtl="1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تضارب الإدارة مع العما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كان هناك رفض شديد من نقابات العمال لمبادئ الإدارة العلمية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  <a:cs typeface="Arial"/>
              </a:rPr>
              <a:t>مدرسة النظرية الادار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Arial"/>
              </a:rPr>
              <a:t>هنري فايول (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1841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1925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Arial"/>
              </a:rPr>
              <a:t>التحق بشركة كومامباولت للتنقيب عام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18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1888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 أصبح مدير عام الشرك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Arial"/>
              </a:rPr>
              <a:t>كيف يمكن التنسيق بين وظائف المنظمة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Arial"/>
              </a:rPr>
              <a:t> انتاج ، تسويق ، مالية ، محاسب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1900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 قدم ورقة عمل للمؤتمر العالمي لشركات التنقي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Arial"/>
              </a:rPr>
              <a:t> فصل بين القدرات الادارية والتق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درسة النظرية الاداري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0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قدم ورقة عمل لمؤتمر صناعة التعدي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نجاح المنظمات يعتمد على قدرات قائدها الادارية أكثر من اعتمادها على قدراته التقن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1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نشر خلاصة أفكاره في مقالة بعنوان ”الإدارة العامة والإدارة الصناعية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1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الى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أسس وأدار مركز أبحاث الإدار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أكد على عدم تعارض أفكاره مع أفكار تيلور ، بل أنهما مكملتان لبعضهما البعض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درسة النظرية الاداري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2017800"/>
            <a:ext cx="387828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خلاصة أفكار فايول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Arial"/>
              </a:rPr>
              <a:t>شمولية علم الإدارة وأهميته لنجاح المنظ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Arial"/>
              </a:rPr>
              <a:t>أهمية تدريس الإدارة كعل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  <a:cs typeface="Arial"/>
              </a:rPr>
              <a:t>عناصر الإدا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Arial"/>
              </a:rPr>
              <a:t>التخطي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Arial"/>
              </a:rPr>
              <a:t>التنظي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cs typeface="Arial"/>
              </a:rPr>
              <a:t>القيادة ، التنسيق ، الرقاب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5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Arial"/>
              </a:rPr>
              <a:t>14</a:t>
            </a: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Arial"/>
              </a:rPr>
              <a:t> مبدأ للادارة، منها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 algn="r" rtl="1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  <a:cs typeface="Arial"/>
              </a:rPr>
              <a:t>التخصص وتقسيم العم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 algn="r" rtl="1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  <a:cs typeface="Arial"/>
              </a:rPr>
              <a:t>نطاق الاشرا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 algn="r" rtl="1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ahoma"/>
                <a:cs typeface="Arial"/>
              </a:rPr>
              <a:t>تكافؤ السلطة مع المسؤو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5589720"/>
            <a:ext cx="38102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 algn="r" rtl="1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Tahoma"/>
                <a:cs typeface="Arial"/>
              </a:rPr>
              <a:t>وحدة الأم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Tahoma"/>
                <a:cs typeface="Arial"/>
              </a:rPr>
              <a:t>المركز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00"/>
                </a:solidFill>
                <a:latin typeface="Tahoma"/>
                <a:cs typeface="Arial"/>
              </a:rPr>
              <a:t>التسلسل الرئاس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68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درسة العلاقات الانسان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43280" y="2276640"/>
            <a:ext cx="58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دراسات هاوثورن : (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1924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1932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تأثير الإضاءة على انتاج العما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تأثير أوقات الراحة وساعات الدوا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برنامج المقابلات الشخص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دراسة سلوك فريق العم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021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درسة العلاقات الانساني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 algn="r" rtl="1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هم نتائج دراسات هاوثورن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478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نظمة عبارة عن نظام اجتماعي متداخل الاجزا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478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نظمة تؤدي وظيفتي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2000" indent="-383760" algn="r" rtl="1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تقديم سلعة أو خدم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2000" indent="-383760" algn="r" rtl="1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</a:rPr>
              <a:t>توزيع الرضا بين أفراده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478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ينظر الافراد الى أي شئ يمس وضعهم الشخصي على أنه غير عاد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478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لا يكون الحافز المادي فعالا في كل الحالات ، بل قد تؤثر بعض القيم والاعتقادات والعواطف على الأفراد أكثر من تأثير الحافز الماد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44784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تكون في المنظمة جماعات غير رسمية الى جانب تنظيمها الرس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 algn="r" rtl="1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فتح الباب واسعا لعلوم الاجتماع وعلم النفس وعلم الانسان لتشارك في حل مشكلات المنظمات التجاري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2060640"/>
            <a:ext cx="3384720" cy="1224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021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مدرسة السلوك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 algn="r" rtl="1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 u="sng">
                <a:solidFill>
                  <a:srgbClr val="ff0000"/>
                </a:solidFill>
                <a:uFillTx/>
                <a:latin typeface="Tahoma"/>
              </a:rPr>
              <a:t>الحاف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هو شعور داخلي لدى الفرد يول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6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فيه الرغبة لاتخاذ نشاط أو </a:t>
            </a:r>
            <a:r>
              <a:rPr b="0" lang="hi-IN" sz="2800" spc="-1" strike="noStrike" u="sng">
                <a:solidFill>
                  <a:srgbClr val="ff0000"/>
                </a:solidFill>
                <a:uFillTx/>
                <a:latin typeface="Tahoma"/>
              </a:rPr>
              <a:t>سلوك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معي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6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يهدف منه للوصول إلى </a:t>
            </a:r>
            <a:r>
              <a:rPr b="0" lang="hi-IN" sz="2800" spc="-1" strike="noStrike" u="sng">
                <a:solidFill>
                  <a:srgbClr val="ff0000"/>
                </a:solidFill>
                <a:uFillTx/>
                <a:latin typeface="Tahoma"/>
              </a:rPr>
              <a:t>أهداف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محدد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6040" indent="-536040" algn="r" rtl="1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أفكار الرئيسية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71560" indent="-46944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اهتمام بالجانب الانساني في العمل بجانب العامل الماد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1560" indent="-46944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يستجيب الفرد العامل للإدارة عندما تحقق حاجاته الاجتماعية والاقتصاد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1560" indent="-46944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منظمة عبارة عن وحدة اجتماعية وليست اقتصادية فق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1560" indent="-46944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يمكن تحقيق الزيادة في الانتاج من خلال الاشباع المتوازن لحاجات الافراد المادية والاجتماعية والذات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71560" indent="-46944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تشجيع التنظيمات غير الرسمية على الظهو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362320"/>
            <a:ext cx="914400" cy="6094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2362320"/>
            <a:ext cx="914400" cy="609480"/>
          </a:xfrm>
          <a:prstGeom prst="rect">
            <a:avLst/>
          </a:prstGeom>
          <a:solidFill>
            <a:srgbClr val="ffe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73120" y="243828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حاف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6320" y="243828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سل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447920" y="266688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مدرسة السلوكي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نظرية تسلسل الحاجات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هناك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مستويات من الحاجات الفردية بعضها أهم من بعض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يجب أن تشبع الحاجات الدنيا قبل أن يتمكن المدير من استعمال الحاجات العليا كحافز للتأثير على سلوك الأفرا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r" rtl="1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حاجة المشبعة لا تؤثر على السلو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886280" cy="4476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76160" y="5881680"/>
            <a:ext cx="25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  <a:cs typeface="Arial"/>
              </a:rPr>
              <a:t>الحاجات الفسيولوجية (الوظائفية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75040" y="5089680"/>
            <a:ext cx="129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  <a:cs typeface="Arial"/>
              </a:rPr>
              <a:t>الحاجات الأمن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78560" y="444168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  <a:cs typeface="Arial"/>
              </a:rPr>
              <a:t>الحاجات الاجتماع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86040" y="3649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  <a:cs typeface="Arial"/>
              </a:rPr>
              <a:t>حاجات الاحترام والتقدي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43440" y="2641680"/>
            <a:ext cx="110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  <a:cs typeface="Arial"/>
              </a:rPr>
              <a:t>حاج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Arial"/>
                <a:cs typeface="Arial"/>
              </a:rPr>
              <a:t>تحقيق الذ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31320" y="6613560"/>
            <a:ext cx="38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  <a:cs typeface="Arial"/>
              </a:rPr>
              <a:t>المصدر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iggins. 1991.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Management Challeng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Figure 13-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950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مدرسة السلوكي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1981080"/>
          <a:ext cx="7772400" cy="4572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نظرية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y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نظرية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x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الانسان يحب العمل كحبه للراحة والاستجمام ، فمتى ما توفرت الظروف الاجتماعية والاقتصادية الملائمة تجده يسعى للعمل بمحض ارادت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لدى الانسان العادي كراهية فطرية للعم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تحت الظروف المناسبة يتعلم الانسان تحمل المسؤولية بل ويسعى اليه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يكره الانسان العادي المسؤولية ، لذا يجب أن يوجه من رئيس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الانسان طموح بطبيعت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الانسان العادي خامل وغير طمو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الانسان قادر على الابداع والابتكار وركوب المخاطر اذا أعطي الفرصة لذل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الانسان العادي يفتقد المبادرة ولا يسعى لاتخاذ موقف المخاط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العقاب ليس الوسيلة الوحيدة لدفع الأفراد للعم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Arial"/>
                        </a:rPr>
                        <a:t>أغلب الناس يجب أن يجبروا على العمل ويجب أن يراقبوا ويوجهوا ويهددوا بالعقاب.  فلو ترك العامل لوحده فلن يعم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محتوي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755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إدارة في العصور القديم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إدارة في العصر الحدي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مدارس الإدارة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مدرسة الإدارة العلم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مدرسة النظرية الادار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مدرسة العلاقات الانسان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مدرسة السلوك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مدخل النظ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مدخل الموق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إدارة في العصور القديم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7007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بابليين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قوانين حمورابي (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225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قبل الميلاد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صين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كتاب ”فن الحرب“ لصن تزو (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60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قبل الميلاد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ختيار موظفي الدول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تقسيم العمل وهيكلة المنظم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الهند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كتاب ”آرثاساسترا“ لتشاناكيا كاوتيلا (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قبل الميلاد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51080" y="214200"/>
            <a:ext cx="7108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إدارة في العصور القديم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954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فراعنة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مشاريع الاهرامات وقنوات الميا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قانون العشر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وزي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عبريين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يوسف ، موسى ، داود ، سليمان عليهم السلا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نصيحة شعيب لموس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توراة 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Tahoma"/>
              </a:rPr>
              <a:t>الشور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Tahoma"/>
              </a:rPr>
              <a:t>المراقب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8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إدارة في العصور القديم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1988640"/>
            <a:ext cx="79916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يونانيين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انت التجارة مهنة وضيع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سقراطس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40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قبل الميلاد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رسطوطل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6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قبل الميلاد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زينوفون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7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قبل الميلاد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رومان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صناعات الحرب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شبكة طر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تجار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شركات مساهم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قانون العشر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68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إدارة في العصور القديمة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تابع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71640" y="1989000"/>
            <a:ext cx="582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عالم الاسلامي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محمد صلى الله عليه وسل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تشريع الاسلا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تاب الخراج للامام أبو يوسف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7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للميلاد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تاب الأحكام السلطانية للماوردي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1058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للميلاد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تاب احياء علوم الدين للغزالي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109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للميلاد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تاب السياسة الشرعية لابن تيمية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130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للميلاد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كتاب المقدمة لابن خلدون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1377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9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021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إدارة في العصر الحدي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النظام الاقطاع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الصحو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كانت هناك طريقتين للتصنيع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نظام النقابات (من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الى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للميلاد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50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نقابة التجار ونقابة الصنا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النظام المحل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50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يعمل الصناع من منازلهم لدى التجار مقابل أج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50000"/>
              <a:buFont typeface="Wingdings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مع تزايد حجم التجار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000000"/>
                </a:solidFill>
                <a:latin typeface="Tahoma"/>
              </a:rPr>
              <a:t>نظام غير فعا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i-IN" sz="2000" spc="-1" strike="noStrike" u="sng">
                <a:solidFill>
                  <a:srgbClr val="000000"/>
                </a:solidFill>
                <a:uFillTx/>
                <a:latin typeface="Tahoma"/>
              </a:rPr>
              <a:t>بداية ظهور المصان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37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  <a:cs typeface="Arial"/>
              </a:rPr>
              <a:t>الإدارة في العصر الحديث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Arial"/>
              </a:rPr>
              <a:t>(تاب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1989000"/>
            <a:ext cx="554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Arial"/>
              </a:rPr>
              <a:t>الثورة الصناعية (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Arial"/>
              </a:rPr>
              <a:t>175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r" rtl="1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جامز واط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ial"/>
              </a:rPr>
              <a:t>175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r" rtl="1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Arial"/>
              </a:rPr>
              <a:t>آدم سميث (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ial"/>
              </a:rPr>
              <a:t>1765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Arial"/>
              </a:rPr>
              <a:t>ظهرت حاجة ماسة لتطوير الانظمة الاد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Arial"/>
              </a:rPr>
              <a:t>    المتبعة في ذلك الوق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r" rtl="1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ial"/>
              </a:rPr>
              <a:t> كيف يمكن أن نقلل من الضياع في وقت المديرين والعمال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Arial"/>
              </a:rPr>
              <a:t>في عام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Arial"/>
              </a:rPr>
              <a:t>1880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Arial"/>
              </a:rPr>
              <a:t> انشأت المنظمة الامريكية للمهندسين الميكانيكي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 algn="r" rtl="1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ial"/>
              </a:rPr>
              <a:t>1886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Arial"/>
              </a:rPr>
              <a:t> ألقى هنري توين محاضرة في المؤتمر السنوي بعنوان ”المهندس كرجل اقتصاد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درسة الإدارة العلم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1916280"/>
            <a:ext cx="669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Arial"/>
              </a:rPr>
              <a:t>فريدريك تيلور (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1856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1915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Arial"/>
              </a:rPr>
              <a:t>التحق بشركة ميرفال لصناعة الحديد عام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187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Arial"/>
              </a:rPr>
              <a:t>في عام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1884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 أصبح رئيس المهندسين ولمدة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ea typeface="Arial"/>
              </a:rPr>
              <a:t> سنو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Arial"/>
              </a:rPr>
              <a:t>مشكلة التظاهر بالعم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Arial"/>
              </a:rPr>
              <a:t>كيف يمكن تجاوز هذه المشكلة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Arial"/>
              </a:rPr>
              <a:t> على الإدارة أن تصمم الوظائف بطريقة عل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ea typeface="Arial"/>
              </a:rPr>
              <a:t> وضع الحوافز المناسبة لحث الموظفين على العم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3:14:48Z</dcterms:created>
  <dc:creator>Sulaiman Al-Alsheikh</dc:creator>
  <dc:description/>
  <dc:language>en-US</dc:language>
  <cp:lastModifiedBy>user</cp:lastModifiedBy>
  <dcterms:modified xsi:type="dcterms:W3CDTF">2007-10-31T21:43:48Z</dcterms:modified>
  <cp:revision>19</cp:revision>
  <dc:subject/>
  <dc:title>الفصل الثاني</dc:title>
</cp:coreProperties>
</file>