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183-A11C-4BFF-872A-8D90A09C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621-5047-46B4-B27B-9C0C76E9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AE3-A53C-4DDB-8E64-747340CF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BE1-925F-41A7-AE5D-F9E79469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28F0-A7DF-4052-B765-C0F59C3C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C797-1C94-424E-8707-050EB8C2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BBF3-A9A4-4C6B-B6D5-9A40BAFA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50AA-2385-4A36-B0FE-7F477D54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DAD1-9962-4915-8B48-71063DAC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C04D-E836-4F5C-B6A8-724CF18B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2233-E335-4778-B82C-FC176DA7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C16-DE7A-4697-A62F-57523211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BBDD-497C-4382-A680-FE46FCED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7903-1268-423E-B14C-E654291A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1A2F-EA2B-4D01-83B1-1F9A4D14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F6CE-6091-460D-89C5-9D9B94AA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38FC-54BD-411E-9F9D-E3960D43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54A-46C7-42C7-B86B-5E664DBA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83F-5BB4-445D-B932-B014B66C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6B5-EB2A-4B1F-8784-F78C6E8E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A18-82D3-44B6-B079-87E22E38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1B5-C665-4BBA-9FBC-CDF4E558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4C0-F904-4B00-B455-BADC1A1B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72A-7AF9-4104-B11E-5A32AF17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5961-947F-4748-B4FE-52385747F0D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F8D-E4A5-4264-974D-D91D6E46C2D1}" type="slidenum"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830240"/>
            <a:ext cx="7468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فصل الثاني:  تطور الفكر الإدار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  <a:cs typeface="Arial"/>
              </a:rPr>
              <a:t>مدرسة الإدارة العلم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(تاب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Arial"/>
              </a:rPr>
              <a:t>مبادئ تيلور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Arial"/>
              </a:rPr>
              <a:t>الدراسة العل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Arial"/>
              </a:rPr>
              <a:t>وضع معيار لمتوسط انتاج العا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Arial"/>
              </a:rPr>
              <a:t>اختيار العام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Arial"/>
              </a:rPr>
              <a:t>التدر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Arial"/>
              </a:rPr>
              <a:t>الحوافز الم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Tahoma"/>
                <a:cs typeface="Arial"/>
              </a:rPr>
              <a:t>الإدار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هي أن تعلم تماما ما تريد من موظفيك ، ثم تنظر كيف يمكن لهم أن ينفذوا أوامرك بأفضل وأرخص طريق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إدارة العلم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سلبيات مبادئ تيلور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نظرت الى العامل وكأنه آل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تقسيم العملية الانتاجية أدى الى تسرب الملل الى العما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تضارب الإدارة مع العما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كان هناك رفض شديد من نقابات العمال لمبادئ الإدارة العلمية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  <a:cs typeface="Arial"/>
              </a:rPr>
              <a:t>مدرسة النظرية الادا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هنري فايول (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41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925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التحق بشركة كومامباولت للتنقيب عام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88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أصبح مدير عام الشر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كيف يمكن التنسيق بين وظائف المنظمة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انتاج ، تسويق ، مالية ، محاسب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900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قدم ورقة عمل للمؤتمر العالمي لشركات التنقي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فصل بين القدرات الادارية والتق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نظرية الادار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0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قدم ورقة عمل لمؤتمر صناعة التعدي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نجاح المنظمات يعتمد على قدرات قائدها الادارية أكثر من اعتمادها على قدراته التقن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1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نشر خلاصة أفكاره في مقالة بعنوان ”الإدارة العامة والإدارة الصناعية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1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الى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أسس وأدار مركز أبحاث الإدار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أكد على عدم تعارض أفكاره مع أفكار تيلور ، بل أنهما مكملتان لبعضهما البع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نظرية الادار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2017800"/>
            <a:ext cx="387828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خلاصة أفكار فايول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Arial"/>
              </a:rPr>
              <a:t>شمولية علم الإدارة وأهميته لنجاح المنظ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Arial"/>
              </a:rPr>
              <a:t>أهمية تدريس الإدارة كعل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Arial"/>
              </a:rPr>
              <a:t>عناصر الإدا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التخطي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التنظي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القيادة ، التنسيق ، الرقاب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Arial"/>
              </a:rPr>
              <a:t>14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Arial"/>
              </a:rPr>
              <a:t> مبدأ للادارة، منها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  <a:cs typeface="Arial"/>
              </a:rPr>
              <a:t>التخصص وتقسيم العم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  <a:cs typeface="Arial"/>
              </a:rPr>
              <a:t>نطاق الاشرا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  <a:cs typeface="Arial"/>
              </a:rPr>
              <a:t>تكافؤ السلطة مع المسؤو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5589720"/>
            <a:ext cx="38102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Tahoma"/>
                <a:cs typeface="Arial"/>
              </a:rPr>
              <a:t>وحدة الأم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Tahoma"/>
                <a:cs typeface="Arial"/>
              </a:rPr>
              <a:t>المركز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Tahoma"/>
                <a:cs typeface="Arial"/>
              </a:rPr>
              <a:t>التسلسل الرئاس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68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علاقات الانسا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43280" y="2276640"/>
            <a:ext cx="58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دراسات هاوثورن : (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1924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1932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تأثير الإضاءة على انتاج العم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تأثير أوقات الراحة وساعات الدوا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برنامج المقابلات الشخص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دراسة سلوك فريق العم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021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علاقات الانسان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 algn="r" rtl="1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هم نتائج دراسات هاوثورن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478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نظمة عبارة عن نظام اجتماعي متداخل الاجزا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478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نظمة تؤدي وظيفت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2000" indent="-383760" algn="r" rtl="1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قديم سلعة أو خدم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2000" indent="-383760" algn="r" rtl="1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وزيع الرضا بين أفراده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478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نظر الافراد الى أي شئ يمس وضعهم الشخصي على أنه غير عاد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478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لا يكون الحافز المادي فعالا في كل الحالات ، بل قد تؤثر بعض القيم والاعتقادات والعواطف على الأفراد أكثر من تأثير الحافز الما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478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كون في المنظمة جماعات غير رسمية الى جانب تنظيمها الرس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 algn="r" rtl="1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فتح الباب واسعا لعلوم الاجتماع وعلم النفس وعلم الانسان لتشارك في حل مشكلات المنظمات التجاري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2060640"/>
            <a:ext cx="3384720" cy="1224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021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درسة السلوك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0000"/>
                </a:solidFill>
                <a:uFillTx/>
                <a:latin typeface="Tahoma"/>
              </a:rPr>
              <a:t>الحاف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هو شعور داخلي لدى الفرد يول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فيه الرغبة لاتخاذ نشاط أو </a:t>
            </a:r>
            <a:r>
              <a:rPr b="0" lang="hi-IN" sz="2800" spc="-1" strike="noStrike" u="sng">
                <a:solidFill>
                  <a:srgbClr val="ff0000"/>
                </a:solidFill>
                <a:uFillTx/>
                <a:latin typeface="Tahoma"/>
              </a:rPr>
              <a:t>سلو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معي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يهدف منه للوصول إلى </a:t>
            </a:r>
            <a:r>
              <a:rPr b="0" lang="hi-IN" sz="2800" spc="-1" strike="noStrike" u="sng">
                <a:solidFill>
                  <a:srgbClr val="ff0000"/>
                </a:solidFill>
                <a:uFillTx/>
                <a:latin typeface="Tahoma"/>
              </a:rPr>
              <a:t>أهدا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محدد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 algn="r" rtl="1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أفكار الرئيسية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694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اهتمام بالجانب الانساني في العمل بجانب العامل الما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694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ستجيب الفرد العامل للإدارة عندما تحقق حاجاته الاجتماعية والاقتصاد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694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نظمة عبارة عن وحدة اجتماعية وليست اقتصادية فق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694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مكن تحقيق الزيادة في الانتاج من خلال الاشباع المتوازن لحاجات الافراد المادية والاجتماعية والذات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694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تشجيع التنظيمات غير الرسمية على الظهو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362320"/>
            <a:ext cx="914400" cy="6094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2362320"/>
            <a:ext cx="914400" cy="609480"/>
          </a:xfrm>
          <a:prstGeom prst="rect">
            <a:avLst/>
          </a:prstGeom>
          <a:solidFill>
            <a:srgbClr val="ffe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73120" y="243828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حاف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6320" y="243828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سل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47920" y="26668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درسة السلوك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نظرية تسلسل الحاجات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هناك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مستويات من الحاجات الفردية بعضها أهم من بعض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جب أن تشبع الحاجات الدنيا قبل أن يتمكن المدير من استعمال الحاجات العليا كحافز للتأثير على سلوك الأفرا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حاجة المشبعة لا تؤثر على السلو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886280" cy="4476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76160" y="5881680"/>
            <a:ext cx="25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الحاجات الفسيولوجية (الوظائفية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75040" y="508968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الحاجات الأم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78560" y="444168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الحاجات الاجتماع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86040" y="3649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حاجات الاحترام والتقدي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43440" y="2641680"/>
            <a:ext cx="11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حاج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تحقيق الذ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31320" y="6613560"/>
            <a:ext cx="38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gins. 1991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Management Challen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Figure 13-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950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درسة السلوك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نظرية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نظرية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x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انسان يحب العمل كحبه للراحة والاستجمام ، فمتى ما توفرت الظروف الاجتماعية والاقتصادية الملائمة تجده يسعى للعمل بمحض ارادت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لدى الانسان العادي كراهية فطرية لل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تحت الظروف المناسبة يتعلم الانسان تحمل المسؤولية بل ويسعى الي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يكره الانسان العادي المسؤولية ، لذا يجب أن يوجه من رئيس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انسان طموح بطبيعت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انسان العادي خامل وغير 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انسان قادر على الابداع والابتكار وركوب المخاطر اذا أعطي الفرصة لذل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انسان العادي يفتقد المبادرة ولا يسعى لاتخاذ موقف المخاط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عقاب ليس الوسيلة الوحيدة لدفع الأفراد لل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أغلب الناس يجب أن يجبروا على العمل ويجب أن يراقبوا ويوجهوا ويهددوا بالعقاب.  فلو ترك العامل لوحده فلن ي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حتوي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55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إدارة في العصور القديم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إدارة في العصر الحدي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مدارس الإدارة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درسة الإدارة العلم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درسة النظرية الادار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درسة العلاقات الانسان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درسة السلوك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دخل النظ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دخل الموق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إدارة في العصور القديم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00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بابليين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وانين حمورابي (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225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صين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كتاب ”فن الحرب“ لصن تزو (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6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يار موظفي الدو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قسيم العمل وهيكلة المنظم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هند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كتاب ”آرثاساسترا“ لتشاناكيا كاوتيلا (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1080" y="214200"/>
            <a:ext cx="710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إدارة في العصور القديم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954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فراعنة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شاريع الاهرامات وقنوات الميا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قانون العشر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وزي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عبريين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وسف ، موسى ، داود ، سليمان عليهم السلا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نصيحة شعيب لموس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توراة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الشور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المراقب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إدارة في العصور القديم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9916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يونانيين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انت التجارة مهنة وضيع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سقراطس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40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رسطوطل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6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زينوفون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7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رومان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صناعات الحرب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شبكة طر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جار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شركات مساهم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قانون العشر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68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إدارة في العصور القديم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71640" y="1989000"/>
            <a:ext cx="582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عالم الاسلامي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محمد صلى الله عليه وسل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شريع الاسلا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 الخراج للامام أبو يوسف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7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ل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 الأحكام السلطانية للماوردي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058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ل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 احياء علوم الدين للغزالي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09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ل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 السياسة الشرعية لابن تيمية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30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ل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 المقدمة لابن خلدون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377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021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إدارة في العصر الحدي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النظام الاقطاع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الصحو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كانت هناك طريقتين للتصنيع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نظام النقابات (من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للميلا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نقابة التجار ونقابة الصنا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نظام المحل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عمل الصناع من منازلهم لدى التجار مقابل أج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ع تزايد حجم التجار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نظام غير فعا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2000" spc="-1" strike="noStrike" u="sng">
                <a:solidFill>
                  <a:srgbClr val="000000"/>
                </a:solidFill>
                <a:uFillTx/>
                <a:latin typeface="Tahoma"/>
              </a:rPr>
              <a:t>بداية ظهور المصان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  <a:cs typeface="Arial"/>
              </a:rPr>
              <a:t>الإدارة في العصر الحديث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(تاب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1989000"/>
            <a:ext cx="554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Arial"/>
              </a:rPr>
              <a:t>الثورة الصناعية (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175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جامز واط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175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آدم سميث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1765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Arial"/>
              </a:rPr>
              <a:t>ظهرت حاجة ماسة لتطوير الانظمة الاد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   المتبعة في ذلك الوق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 كيف يمكن أن نقلل من الضياع في وقت المديرين والعمال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Arial"/>
              </a:rPr>
              <a:t>في عام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188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انشأت المنظمة الامريكية للمهندسين الميكانيكي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1886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 ألقى هنري توين محاضرة في المؤتمر السنوي بعنوان ”المهندس كرجل اقتصاد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إدارة العلم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916280"/>
            <a:ext cx="669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فريدريك تيلور (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56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915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التحق بشركة ميرفال لصناعة الحديد عام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في عام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84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أصبح رئيس المهندسين ولمدة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مشكلة التظاهر ب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كيف يمكن تجاوز هذه المشكلة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على الإدارة أن تصمم الوظائف بطريقة 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وضع الحوافز المناسبة لحث الموظفين على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3:14:48Z</dcterms:created>
  <dc:creator>Sulaiman Al-Alsheikh</dc:creator>
  <dc:description/>
  <dc:language>en-US</dc:language>
  <cp:lastModifiedBy>user</cp:lastModifiedBy>
  <dcterms:modified xsi:type="dcterms:W3CDTF">2007-10-31T21:43:48Z</dcterms:modified>
  <cp:revision>19</cp:revision>
  <dc:subject/>
  <dc:title>الفصل الثاني</dc:title>
</cp:coreProperties>
</file>