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CCA-17D3-45D9-9852-15FB13CD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9BA-55C6-4621-A09B-01A0C22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109-9F2F-4009-9550-F76F6C8E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BD2-5355-4C3C-9598-0CD083A7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E4D-4257-4A0F-A449-510BEA28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8655-6D92-4C2C-B84B-A4BC0E7E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C5DF-E997-4238-A1FF-C6FB090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234-AE03-49B0-852C-2FB329B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983D-775D-4AF9-907E-FEDA0D31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ECEC-4962-47A6-86F5-FFA5C9A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990-05FA-4507-9A83-D9828B3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F9A-8D11-44D5-AD8B-0C3770CF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CAD0-0E7F-46B0-A34A-3F14578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363A-42F2-4DFD-B399-1EB6F456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86C3-5698-4F02-A729-7B603014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6FEF-94E1-4367-AEAF-72B5715B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9FD-DFD5-4B79-9E89-04F2B51F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6E3-285C-4AC1-84B2-226441C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1A0-D546-414F-98F2-D10C421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DE1-0E0D-4A6E-8CA5-622D482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F7E-33FB-4D3F-A8DF-D33DF99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812-E8E9-4AF4-A451-F1C5EE1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7AB-5612-4AD5-8D08-3FFC425C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DFB-3566-43C8-B798-BBB4129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D16F-36D0-436C-934A-614D2093C3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A2D6-099F-422B-BD00-F1EFCDDB8562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468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فصل الرابع: 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63640" y="3933720"/>
            <a:ext cx="571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يس التحدي في أن تصمم هيكلا تنظيميا كاملا ، بل في أن  تبني هيكلا تنظيميا أفضل مما بناه منافسوك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إيان مكميلان وباتريشيا جونز (باحثان في علم الإدارة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5445000"/>
            <a:ext cx="6845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عملي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91800" y="40053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غز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2120" y="40053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نسي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6680" y="4005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صباغ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880" y="4005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تجهي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5445000"/>
            <a:ext cx="6989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عملا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191772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52760" y="3070080"/>
            <a:ext cx="15825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9440" y="198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1680" y="307008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39440" y="31417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تجار جم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7280" y="3141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تجار تجزئ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746400" y="2709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96360" y="4221000"/>
            <a:ext cx="1008000" cy="86544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2284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نس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4221000"/>
            <a:ext cx="1008360" cy="86544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412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رج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1080" y="4221000"/>
            <a:ext cx="1008000" cy="8654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756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أطف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4221000"/>
            <a:ext cx="1008000" cy="86544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7448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نس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221000"/>
            <a:ext cx="1008000" cy="86544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0612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رج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2720" y="4221000"/>
            <a:ext cx="1008000" cy="8654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920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أطف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340000" y="2708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272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240" y="5373720"/>
            <a:ext cx="6845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مناطق الجغراف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9640" y="40053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غر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66040" y="4005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وسط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0" y="40053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شرق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8160" y="4005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جنو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240" y="5950080"/>
            <a:ext cx="680076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وق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068720" y="1989000"/>
            <a:ext cx="109224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9880" y="20606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70800" y="2921040"/>
            <a:ext cx="1008000" cy="503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5496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41720" y="2921040"/>
            <a:ext cx="1008000" cy="503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4880" y="306864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عملي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5400" y="2916360"/>
            <a:ext cx="1008000" cy="5079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84160" y="30639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شتري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2708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010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11800" y="3857760"/>
            <a:ext cx="100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9240" y="40053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تج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62000" y="3857760"/>
            <a:ext cx="1008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40053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تج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3645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098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5440" y="4962600"/>
            <a:ext cx="1152360" cy="57636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116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465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35440" y="4962600"/>
            <a:ext cx="1152720" cy="57636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0152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لث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15080" y="4962600"/>
            <a:ext cx="1152720" cy="57636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8116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أول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454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3272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2560" y="4962600"/>
            <a:ext cx="115272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1864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69840" y="465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2920" y="4962600"/>
            <a:ext cx="115236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64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لث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92560" y="4962600"/>
            <a:ext cx="115236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5828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أول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56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98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984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تنظيم الغير رس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ساعد على تحقيق أهداف المنظ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عوض أفراد المجموعة عن القيود التي يفرضها التنظيم الرسم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قدم لأعضائه الوسائل الكافية لإشباع حاجاتهم الاجتماع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نخفاض نسبة الوقت الذي يخصصه المدير للتنسيق والمتابع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زود الإدارة بالمعلومات الخفية بطريقة غير مباش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زيد من فهم الإدارة للأفراد ويعمق لديها المسؤولية في حل مشاكلهم وتلبية احتياجات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ساوئ التنظيم الغير رس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قد يؤدي الى معارضة أهداف المنظمة وأنشطت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قد يؤدي الى خسارة اقتصادية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خروج بعض الأعضاء ودخول أعضاء جدد يتطلب إعادة التنسيق بين أفراد التنظيم مما  قد يؤدي إلى تخفيض كفاءة العمل لبعض الوق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عدم قدرة المنظمة على التنبؤ بالسلوك الإنساني داخل المنظ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ركنا التنظيم: السلطة والمسؤول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سلط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هي الحق المعطى للشخص بموجب وظيفته والذي يضع في يده القوة التي تمكنه من اتخاذ القرارات وإصدار الأوامر والتعليم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عتمد السلطة على أمرين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سلطة التشريعي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سلطة الشخصي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مسؤولي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التزام الملقى على عاتق الشخص للقيام بالمهام المحددة ل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6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59280" y="2017800"/>
            <a:ext cx="589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فوائد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خلص من بعض الأعمال الروتينية ليتفرغ لوظيفته الرئيسية (التخطيط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يتيح الفرصة لمساعديه للتدرب على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يعد الكوادر الجاهزة لاستلام القيادة متى ما دعت الظروف لذ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يحقق السرعة في اتخاذ القرارات والبت في المشاكل اليو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تفويض السلط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381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تفويض السلطة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شروط التفويض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كون من فوضت إليه السلطة قادرا على تحمل أعبائ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تتوفر ثقة صاحب السلطة الأصلية فيمن فوضت أليه السل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كون التفويض واضح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وجد نظام للرقاب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دريب الأشخاص قبل أن تفوض إليهم السل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كون التفويض في حدود الإمكانيات المتاح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راعي التفويض مبدأ وحدة الأم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مفهوم التنظ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أهداف التنظ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خصائص التنظيم الجي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عملية البناء التنظي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أنواع التنظ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ركنا التنظيم: السلطة والمسئول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فويض السلط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فهوم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تعريف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عملية ترتيب وتوزيع موارد المنظمة بطريقة تؤدي إلى سرعة تحقيق الهد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كيف يتم التنظيم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تحديد التقسيمات الإدار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تحديد السلطات والصلاحيات الممنوحة لكل ق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تحديد العلاقات وطرق الاتصال بين الأقس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هداف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اعد على إظهار أهمية ومدى المساهمة التي تقدمها الوحدة التنظيم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اعد على تخفيض التضارب والازدواجية والتداخل بين أهداف المستويات المختلفة ويخلصها من الغمو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اعد على تحديد نوعية ومدى النشاط الذي يعهد به المدير إلى كل وحدة وكل فرد في التنظي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وفر المعايير اللازمة لقياس أداء الوحدا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هم في تحقيق التمايز بين الأهداف والغايات والوسائل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صائص التنظيم الجي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وحدة الأم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تسلسل الرئا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نطاق المناسب للإشرا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فويض السل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وضوح في تحديد المسؤولي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كافؤ السلطة مع المسؤول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مراعاة الطاقة البشرية في توزيع الواجب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شبكة فعالة للاتص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جنب الازدوا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مرونة والبسا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ستقرار التنظي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75280" y="39546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4480" y="2998800"/>
            <a:ext cx="92700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1920" y="2998800"/>
            <a:ext cx="92736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52840" y="2998800"/>
            <a:ext cx="92700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998800"/>
            <a:ext cx="92736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1960" y="2084400"/>
            <a:ext cx="1514520" cy="533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عملية البناء التنظيم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0880" y="213840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أهداف المن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67000" y="305280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إنتا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30528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تسوي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1560" y="305280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أف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360" y="3052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30320" y="22147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الأهدا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09280" y="3052800"/>
            <a:ext cx="29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أوجه النشاطات المختلف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3160" y="3967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عمل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27160" y="3954600"/>
            <a:ext cx="838440" cy="41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040" y="3967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عمل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51400" y="39546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8920" y="3967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عمل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404352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العمليات المطلوبة في نشا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77200" y="48816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الوظائف المطلوبة في كل عم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5280" y="48690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26960" y="4881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وظيف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27360" y="4869000"/>
            <a:ext cx="838440" cy="415800"/>
          </a:xfrm>
          <a:prstGeom prst="roundRect">
            <a:avLst>
              <a:gd name="adj" fmla="val 16667"/>
            </a:avLst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79400" y="4881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وظيف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03480" y="48690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55160" y="4881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وظيف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259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3733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6483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791320"/>
            <a:ext cx="1600200" cy="64440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23320" y="5338800"/>
            <a:ext cx="396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واجبات كل وظيف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عيين الأفراد وتكليفهم بالوظائ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إعطاء السلطات للموظف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وفير التسهيلات والإمكانيات الخاصة بالعم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إعداد الخريطة التنظيمية والدليل التنظيم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5486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9436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57920" y="5948280"/>
            <a:ext cx="19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الخطوا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إل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الرس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الرأسي (التنفيذي أو العسكري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الوظيف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التنفيذي الاستشار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مع استخدام اللجا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الغير رس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5229000"/>
            <a:ext cx="741672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وظيف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1000" y="4005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إدارة الأفرا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1680" y="400536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إدارة الإنتا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1720" y="4005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إدارة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440" y="4005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240" y="5373720"/>
            <a:ext cx="6774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سلعة أو الخد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53400" y="400536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شفرولي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34440" y="40053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بونتيا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99640" y="40053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كاديلا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640" y="400536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أولدزموب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9:14:30Z</dcterms:created>
  <dc:creator>Sulaiman Al-Alsheikh</dc:creator>
  <dc:description/>
  <dc:language>en-US</dc:language>
  <cp:lastModifiedBy>user</cp:lastModifiedBy>
  <dcterms:modified xsi:type="dcterms:W3CDTF">2007-10-31T21:44:43Z</dcterms:modified>
  <cp:revision>19</cp:revision>
  <dc:subject/>
  <dc:title>مقدمة في علم الإدارة</dc:title>
</cp:coreProperties>
</file>