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915A-1ECE-4141-9455-EE93593E8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B408-C11E-4926-966A-8A5421272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88F8-FEB4-460C-A136-078D10C1E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4044-76AD-42A6-960D-DD94006E9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DEEE0-F405-4CCC-878D-848A22477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0A5E0-F266-4087-B74F-2CE0983D3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364CF-0F05-4EC0-BB30-491FDC0E9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4ED4B-7C92-4A52-B2DD-5B61FCAF5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5A024-B5CD-42F4-80BD-549CDC2C0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49A7F-15CA-4F8D-AF75-AD565D3B6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A0420-49B8-44D3-8D76-0821643C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AB68-6372-4C6E-9BB2-D0D08DC02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7992F-8089-4EBD-9D03-790CB6DD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022B5-19C2-4004-816F-D3A45538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66D82-7A64-41CA-91C5-2B221EC74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1F994-F10B-4361-9827-DA8186ED5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30C3A-62A5-473E-8623-F2DCB80C8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BFC8-FAC1-496F-B31C-D967E0814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7FBE-5865-4E7B-95D5-21C9D4A85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952C-85AF-49A4-9296-798FD5491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F11B-E1D3-4D92-BE55-FE181631C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BC45-924A-4874-B63D-D059B00A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9800-D657-47F2-86B6-DFF88259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28BA-9BF9-4AB0-833B-FCBBF5C2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A9C35-148C-4041-BB6A-247E5A32DCBB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c1c1c"/>
                </a:solidFill>
                <a:latin typeface="Tahoma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C151F-C4A6-40AC-ABF4-F6B56AB6E97A}" type="slidenum">
              <a:rPr b="0" lang="ar-SA" sz="1400" spc="-1" strike="noStrike">
                <a:solidFill>
                  <a:srgbClr val="1c1c1c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1676160"/>
            <a:ext cx="7468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فصل الرابع:  التنظيم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763640" y="3933720"/>
            <a:ext cx="5716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ليس التحدي في أن تصمم هيكلا تنظيميا كاملا ، بل في أن  تبني هيكلا تنظيميا أفضل مما بناه منافسوك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r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ahoma"/>
                <a:cs typeface="Arial"/>
              </a:rPr>
              <a:t>إيان مكميلان وباتريشيا جونز (باحثان في علم الإدارة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16616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أنواع التنظيم الرسمي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تابع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240" y="5445000"/>
            <a:ext cx="6845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ahoma"/>
              </a:rPr>
              <a:t>التنظيم على أساس العمليا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3924360" y="2349360"/>
            <a:ext cx="1582560" cy="503280"/>
          </a:xfrm>
          <a:prstGeom prst="rect">
            <a:avLst/>
          </a:prstGeom>
          <a:solidFill>
            <a:srgbClr val="6afd5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00360" y="3933720"/>
            <a:ext cx="1582560" cy="503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069440" y="24210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  <a:cs typeface="Arial"/>
              </a:rPr>
              <a:t>المدير الع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859280" y="3933720"/>
            <a:ext cx="1582920" cy="503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9640" y="3933720"/>
            <a:ext cx="1582920" cy="503280"/>
          </a:xfrm>
          <a:prstGeom prst="rect">
            <a:avLst/>
          </a:prstGeom>
          <a:solidFill>
            <a:srgbClr val="ffde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020000" y="3933720"/>
            <a:ext cx="1582560" cy="503280"/>
          </a:xfrm>
          <a:prstGeom prst="rect">
            <a:avLst/>
          </a:prstGeom>
          <a:solidFill>
            <a:srgbClr val="5ba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291800" y="400536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  <a:cs typeface="Arial"/>
              </a:rPr>
              <a:t>قسم الغز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992120" y="400536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  <a:cs typeface="Arial"/>
              </a:rPr>
              <a:t>قسم النسي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776680" y="400536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  <a:cs typeface="Arial"/>
              </a:rPr>
              <a:t>قسم الصباغ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32880" y="400536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  <a:cs typeface="Arial"/>
              </a:rPr>
              <a:t>قسم التجهي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58920" y="3357720"/>
            <a:ext cx="662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643280" y="2852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885080" y="33577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24360" y="33577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92360" y="33577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258920" y="33577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sh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2374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أنواع التنظيم الرسمي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تابع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82600" y="5445000"/>
            <a:ext cx="698976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ahoma"/>
              </a:rPr>
              <a:t>التنظيم على أساس العملا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3924360" y="1917720"/>
            <a:ext cx="1582560" cy="503280"/>
          </a:xfrm>
          <a:prstGeom prst="rect">
            <a:avLst/>
          </a:prstGeom>
          <a:solidFill>
            <a:srgbClr val="6afd5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652760" y="3070080"/>
            <a:ext cx="1582560" cy="503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069440" y="19890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  <a:cs typeface="Arial"/>
              </a:rPr>
              <a:t>المدير الع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881680" y="3070080"/>
            <a:ext cx="1582920" cy="503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139440" y="314172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  <a:cs typeface="Arial"/>
              </a:rPr>
              <a:t>تجار جمل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07280" y="3141720"/>
            <a:ext cx="11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  <a:cs typeface="Arial"/>
              </a:rPr>
              <a:t>تجار تجزئ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43280" y="2421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6746400" y="270972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596360" y="4221000"/>
            <a:ext cx="1008000" cy="865440"/>
          </a:xfrm>
          <a:prstGeom prst="rect">
            <a:avLst/>
          </a:prstGeom>
          <a:solidFill>
            <a:srgbClr val="ffde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422840" y="4365720"/>
            <a:ext cx="132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  <a:cs typeface="Arial"/>
              </a:rPr>
              <a:t>قسم ملاب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  <a:cs typeface="Arial"/>
              </a:rPr>
              <a:t>النسا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227640" y="4221000"/>
            <a:ext cx="1008360" cy="865440"/>
          </a:xfrm>
          <a:prstGeom prst="rect">
            <a:avLst/>
          </a:prstGeom>
          <a:solidFill>
            <a:srgbClr val="5ba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54120" y="4365720"/>
            <a:ext cx="132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  <a:cs typeface="Arial"/>
              </a:rPr>
              <a:t>قسم ملاب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  <a:cs typeface="Arial"/>
              </a:rPr>
              <a:t>الرجا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61080" y="4221000"/>
            <a:ext cx="1008000" cy="8654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687560" y="4365720"/>
            <a:ext cx="132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  <a:cs typeface="Arial"/>
              </a:rPr>
              <a:t>قسم ملاب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  <a:cs typeface="Arial"/>
              </a:rPr>
              <a:t>الأطفا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348000" y="4221000"/>
            <a:ext cx="1008000" cy="865440"/>
          </a:xfrm>
          <a:prstGeom prst="rect">
            <a:avLst/>
          </a:prstGeom>
          <a:solidFill>
            <a:srgbClr val="ffde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74480" y="4365720"/>
            <a:ext cx="132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  <a:cs typeface="Arial"/>
              </a:rPr>
              <a:t>قسم ملاب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  <a:cs typeface="Arial"/>
              </a:rPr>
              <a:t>النسا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79640" y="4221000"/>
            <a:ext cx="1008000" cy="865440"/>
          </a:xfrm>
          <a:prstGeom prst="rect">
            <a:avLst/>
          </a:prstGeom>
          <a:solidFill>
            <a:srgbClr val="5ba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06120" y="4365720"/>
            <a:ext cx="132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  <a:cs typeface="Arial"/>
              </a:rPr>
              <a:t>قسم ملاب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  <a:cs typeface="Arial"/>
              </a:rPr>
              <a:t>الرجا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12720" y="4221000"/>
            <a:ext cx="1008000" cy="8654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39200" y="4365720"/>
            <a:ext cx="132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  <a:cs typeface="Arial"/>
              </a:rPr>
              <a:t>قسم ملاب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  <a:cs typeface="Arial"/>
              </a:rPr>
              <a:t>الأطفا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2340000" y="2708280"/>
            <a:ext cx="439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340000" y="2708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042920" y="386064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042920" y="386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35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51280" y="386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92720" y="386064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92720" y="386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732720" y="35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101080" y="386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2374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أنواع التنظيم الرسمي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تابع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82240" y="5373720"/>
            <a:ext cx="68454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ahoma"/>
              </a:rPr>
              <a:t>التنظيم على أساس المناطق الجغرافي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"/>
          <p:cNvSpPr/>
          <p:nvPr/>
        </p:nvSpPr>
        <p:spPr>
          <a:xfrm>
            <a:off x="3924360" y="2349360"/>
            <a:ext cx="1582560" cy="503280"/>
          </a:xfrm>
          <a:prstGeom prst="rect">
            <a:avLst/>
          </a:prstGeom>
          <a:solidFill>
            <a:srgbClr val="6afd5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700360" y="3933720"/>
            <a:ext cx="1582560" cy="503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069440" y="24210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  <a:cs typeface="Arial"/>
              </a:rPr>
              <a:t>المدير الع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859280" y="3933720"/>
            <a:ext cx="1582920" cy="503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39640" y="3933720"/>
            <a:ext cx="1582920" cy="503280"/>
          </a:xfrm>
          <a:prstGeom prst="rect">
            <a:avLst/>
          </a:prstGeom>
          <a:solidFill>
            <a:srgbClr val="ffde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020000" y="3933720"/>
            <a:ext cx="1582560" cy="503280"/>
          </a:xfrm>
          <a:prstGeom prst="rect">
            <a:avLst/>
          </a:prstGeom>
          <a:solidFill>
            <a:srgbClr val="5ba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929640" y="4005360"/>
            <a:ext cx="16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  <a:cs typeface="Arial"/>
              </a:rPr>
              <a:t>المنطقة الغرب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766040" y="400536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  <a:cs typeface="Arial"/>
              </a:rPr>
              <a:t>المنطقة الوسط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09200" y="4005360"/>
            <a:ext cx="17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  <a:cs typeface="Arial"/>
              </a:rPr>
              <a:t>المنطقة الشرق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88160" y="4005360"/>
            <a:ext cx="17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  <a:cs typeface="Arial"/>
              </a:rPr>
              <a:t>المنطقة الجنوب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58920" y="3357720"/>
            <a:ext cx="662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643280" y="2852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885080" y="33577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724360" y="33577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492360" y="33577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58920" y="33577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16616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أنواع التنظيم الرسمي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تابع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371240" y="5950080"/>
            <a:ext cx="680076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ahoma"/>
              </a:rPr>
              <a:t>التنظيم على أساس الوق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>
            <a:off x="4068720" y="1989000"/>
            <a:ext cx="1092240" cy="503280"/>
          </a:xfrm>
          <a:prstGeom prst="rect">
            <a:avLst/>
          </a:prstGeom>
          <a:solidFill>
            <a:srgbClr val="6afd5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169880" y="2060640"/>
            <a:ext cx="7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  <a:cs typeface="Arial"/>
              </a:rPr>
              <a:t>المدي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570800" y="2921040"/>
            <a:ext cx="1008000" cy="50328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554960" y="3068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  <a:cs typeface="Arial"/>
              </a:rPr>
              <a:t>التخطي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41720" y="2921040"/>
            <a:ext cx="1008000" cy="50328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034880" y="3068640"/>
            <a:ext cx="9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  <a:cs typeface="Arial"/>
              </a:rPr>
              <a:t>العمليات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5400" y="2916360"/>
            <a:ext cx="1008000" cy="50796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84160" y="306396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  <a:cs typeface="Arial"/>
              </a:rPr>
              <a:t>المشتريات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476360" y="2708280"/>
            <a:ext cx="66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572000" y="2492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101080" y="2708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2708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211800" y="3857760"/>
            <a:ext cx="1008000" cy="503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159240" y="4005360"/>
            <a:ext cx="107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  <a:cs typeface="Arial"/>
              </a:rPr>
              <a:t>المنتج 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962000" y="3857760"/>
            <a:ext cx="1008360" cy="503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909800" y="4005360"/>
            <a:ext cx="107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  <a:cs typeface="Arial"/>
              </a:rPr>
              <a:t>المنتج 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411280" y="3645000"/>
            <a:ext cx="43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732720" y="36450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409840" y="36450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572000" y="3429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175440" y="4962600"/>
            <a:ext cx="1152360" cy="576360"/>
          </a:xfrm>
          <a:prstGeom prst="rect">
            <a:avLst/>
          </a:prstGeom>
          <a:solidFill>
            <a:srgbClr val="5ba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41160" y="5013360"/>
            <a:ext cx="139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Tahoma"/>
                <a:cs typeface="Arial"/>
              </a:rPr>
              <a:t>الوردية الثان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Tahoma"/>
                <a:cs typeface="Arial"/>
              </a:rPr>
              <a:t>من الساعة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5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 -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292720" y="465300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735440" y="4962600"/>
            <a:ext cx="1152720" cy="576360"/>
          </a:xfrm>
          <a:prstGeom prst="rect">
            <a:avLst/>
          </a:prstGeom>
          <a:solidFill>
            <a:srgbClr val="5ba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601520" y="5013360"/>
            <a:ext cx="139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Tahoma"/>
                <a:cs typeface="Arial"/>
              </a:rPr>
              <a:t>الوردية الثالث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Tahoma"/>
                <a:cs typeface="Arial"/>
              </a:rPr>
              <a:t>من الساعة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 -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15080" y="4962600"/>
            <a:ext cx="1152720" cy="576360"/>
          </a:xfrm>
          <a:prstGeom prst="rect">
            <a:avLst/>
          </a:prstGeom>
          <a:solidFill>
            <a:srgbClr val="5ba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481160" y="5013360"/>
            <a:ext cx="139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Tahoma"/>
                <a:cs typeface="Arial"/>
              </a:rPr>
              <a:t>الوردية الأول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Tahoma"/>
                <a:cs typeface="Arial"/>
              </a:rPr>
              <a:t>من الساعة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9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 -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245440" y="4653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292720" y="4653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732720" y="43657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852560" y="4962600"/>
            <a:ext cx="1152720" cy="5763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718640" y="5013360"/>
            <a:ext cx="139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Tahoma"/>
                <a:cs typeface="Arial"/>
              </a:rPr>
              <a:t>الوردية الثان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Tahoma"/>
                <a:cs typeface="Arial"/>
              </a:rPr>
              <a:t>من الساعة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5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 -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969840" y="465300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2920" y="4962600"/>
            <a:ext cx="1152360" cy="5763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8640" y="5013360"/>
            <a:ext cx="139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Tahoma"/>
                <a:cs typeface="Arial"/>
              </a:rPr>
              <a:t>الوردية الثالث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Tahoma"/>
                <a:cs typeface="Arial"/>
              </a:rPr>
              <a:t>من الساعة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 -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292560" y="4962600"/>
            <a:ext cx="1152360" cy="5763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158280" y="5013360"/>
            <a:ext cx="139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Tahoma"/>
                <a:cs typeface="Arial"/>
              </a:rPr>
              <a:t>الوردية الأول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Tahoma"/>
                <a:cs typeface="Arial"/>
              </a:rPr>
              <a:t>من الساعة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9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 -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22560" y="4653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969840" y="4653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409840" y="43657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16616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فوائد التنظيم الغير رسم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26920" y="2017800"/>
            <a:ext cx="777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23e10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يساعد على تحقيق أهداف المنظم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 algn="r" rtl="1">
              <a:spcBef>
                <a:spcPts val="700"/>
              </a:spcBef>
              <a:buClr>
                <a:srgbClr val="23e10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يعوض أفراد المجموعة عن القيود التي يفرضها التنظيم الرسم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 algn="r" rtl="1">
              <a:spcBef>
                <a:spcPts val="700"/>
              </a:spcBef>
              <a:buClr>
                <a:srgbClr val="23e10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يقدم لأعضائه الوسائل الكافية لإشباع حاجاتهم الاجتماعي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 algn="r" rtl="1">
              <a:spcBef>
                <a:spcPts val="700"/>
              </a:spcBef>
              <a:buClr>
                <a:srgbClr val="23e10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انخفاض نسبة الوقت الذي يخصصه المدير للتنسيق والمتابع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 algn="r" rtl="1">
              <a:spcBef>
                <a:spcPts val="700"/>
              </a:spcBef>
              <a:buClr>
                <a:srgbClr val="23e10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يزود الإدارة بالمعلومات الخفية بطريقة غير مباشر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 algn="r" rtl="1">
              <a:spcBef>
                <a:spcPts val="700"/>
              </a:spcBef>
              <a:buClr>
                <a:srgbClr val="23e10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يزيد من فهم الإدارة للأفراد ويعمق لديها المسؤولية في حل مشاكلهم وتلبية احتياجاته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vert"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8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8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8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8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8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8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8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8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8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8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8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8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8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8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8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8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8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800" fill="hold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800" fill="hold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800" fill="hold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8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800" fill="hold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800" fill="hold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800" fill="hold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2374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مساوئ التنظيم الغير رسم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493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ahoma"/>
              </a:rPr>
              <a:t>قد يؤدي الى معارضة أهداف المنظمة وأنشطته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ahoma"/>
              </a:rPr>
              <a:t>قد يؤدي الى خسارة اقتصادية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ahoma"/>
              </a:rPr>
              <a:t>خروج بعض الأعضاء ودخول أعضاء جدد يتطلب إعادة التنسيق بين أفراد التنظيم مما  قد يؤدي إلى تخفيض كفاءة العمل لبعض الوق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ahoma"/>
              </a:rPr>
              <a:t>عدم قدرة المنظمة على التنبؤ بالسلوك الإنساني داخل المنظم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out" orient="vert"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2374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ركنا التنظيم: السلطة والمسؤولية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421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ahoma"/>
              </a:rPr>
              <a:t>السلطة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 algn="r" rtl="1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هي الحق المعطى للشخص بموجب وظيفته والذي يضع في يده القوة التي تمكنه من اتخاذ القرارات وإصدار الأوامر والتعليمات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 algn="r" rtl="1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تعتمد السلطة على أمرين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 algn="r" rtl="1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Tahoma"/>
              </a:rPr>
              <a:t>السلطة التشريعية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 algn="r" rtl="1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Tahoma"/>
              </a:rPr>
              <a:t>السلطة الشخصية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ahoma"/>
              </a:rPr>
              <a:t>المسؤولية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 algn="r" rtl="1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الالتزام الملقى على عاتق الشخص للقيام بالمهام المحددة ل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6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1" dur="5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6" dur="5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1" dur="5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6" dur="500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1" dur="500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6" dur="500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059280" y="2017800"/>
            <a:ext cx="5895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566640" indent="-566640" algn="r" rtl="1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ahoma"/>
                <a:cs typeface="Arial"/>
              </a:rPr>
              <a:t>فوائده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 algn="r" rtl="1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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ahoma"/>
                <a:cs typeface="Arial"/>
              </a:rPr>
              <a:t>التخلص من بعض الأعمال الروتينية ليتفرغ لوظيفته الرئيسية (التخطيط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 algn="r" rtl="1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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ahoma"/>
                <a:cs typeface="Arial"/>
              </a:rPr>
              <a:t>يتيح الفرصة لمساعديه للتدرب على القيا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 algn="r" rtl="1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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ahoma"/>
                <a:cs typeface="Arial"/>
              </a:rPr>
              <a:t>يعد الكوادر الجاهزة لاستلام القيادة متى ما دعت الظروف لذل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1240" indent="-496080" algn="r" rtl="1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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ahoma"/>
                <a:cs typeface="Arial"/>
              </a:rPr>
              <a:t>يحقق السرعة في اتخاذ القرارات والبت في المشاكل اليوم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 algn="r" rtl="1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2374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تفويض السلطة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slow">
    <p:newsflash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3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6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1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6" dur="5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1" dur="5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3818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تفويض السلطة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تابع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 algn="r" rtl="1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ahoma"/>
              </a:rPr>
              <a:t>شروط التفويض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41040" indent="-506520" algn="r" rtl="1">
              <a:spcBef>
                <a:spcPts val="601"/>
              </a:spcBef>
              <a:buClr>
                <a:srgbClr val="23e103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أن يكون من فوضت إليه السلطة قادرا على تحمل أعبائها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41040" indent="-506520" algn="r" rtl="1">
              <a:spcBef>
                <a:spcPts val="601"/>
              </a:spcBef>
              <a:buClr>
                <a:srgbClr val="23e103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أن تتوفر ثقة صاحب السلطة الأصلية فيمن فوضت أليه السلط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41040" indent="-506520" algn="r" rtl="1">
              <a:spcBef>
                <a:spcPts val="601"/>
              </a:spcBef>
              <a:buClr>
                <a:srgbClr val="23e103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أن يكون التفويض واضحا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41040" indent="-506520" algn="r" rtl="1">
              <a:spcBef>
                <a:spcPts val="601"/>
              </a:spcBef>
              <a:buClr>
                <a:srgbClr val="23e103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أن يوجد نظام للرقاب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41040" indent="-506520" algn="r" rtl="1">
              <a:spcBef>
                <a:spcPts val="601"/>
              </a:spcBef>
              <a:buClr>
                <a:srgbClr val="23e103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تدريب الأشخاص قبل أن تفوض إليهم السلط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41040" indent="-506520" algn="r" rtl="1">
              <a:spcBef>
                <a:spcPts val="601"/>
              </a:spcBef>
              <a:buClr>
                <a:srgbClr val="23e103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أن يكون التفويض في حدود الإمكانيات المتاح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41040" indent="-506520" algn="r" rtl="1">
              <a:spcBef>
                <a:spcPts val="601"/>
              </a:spcBef>
              <a:buClr>
                <a:srgbClr val="23e103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أن يراعي التفويض مبدأ وحدة الأم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dissolve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8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1" dur="5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6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1" dur="5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6" dur="500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1" dur="500"/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6" dur="500"/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1" dur="500"/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16616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محتويات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35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مفهوم التنظي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r" rtl="1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أهداف التنظي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r" rtl="1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خصائص التنظيم الجيد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r" rtl="1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عملية البناء التنظيمي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r" rtl="1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أنواع التنظي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r" rtl="1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ركنا التنظيم: السلطة والمسئولي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r" rtl="1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تفويض السلط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2374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مفهوم التنظيم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421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ahoma"/>
              </a:rPr>
              <a:t>تعريف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ahoma"/>
              </a:rPr>
              <a:t>عملية ترتيب وتوزيع موارد المنظمة بطريقة تؤدي إلى سرعة تحقيق الهد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ahoma"/>
              </a:rPr>
              <a:t>كيف يتم التنظيم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ahoma"/>
              </a:rPr>
              <a:t>تحديد التقسيمات الإداري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ahoma"/>
              </a:rPr>
              <a:t>تحديد السلطات والصلاحيات الممنوحة لكل قس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ahoma"/>
              </a:rPr>
              <a:t>تحديد العلاقات وطرق الاتصال بين الأقسا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16616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أهداف التنظيم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35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6afd51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ahoma"/>
              </a:rPr>
              <a:t>يساعد على إظهار أهمية ومدى المساهمة التي تقدمها الوحدة التنظيمية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 algn="r" rtl="1">
              <a:spcBef>
                <a:spcPts val="700"/>
              </a:spcBef>
              <a:buClr>
                <a:srgbClr val="6afd51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ahoma"/>
              </a:rPr>
              <a:t>يساعد على تخفيض التضارب والازدواجية والتداخل بين أهداف المستويات المختلفة ويخلصها من الغموض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 algn="r" rtl="1">
              <a:spcBef>
                <a:spcPts val="700"/>
              </a:spcBef>
              <a:buClr>
                <a:srgbClr val="6afd51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ahoma"/>
              </a:rPr>
              <a:t>يساعد على تحديد نوعية ومدى النشاط الذي يعهد به المدير إلى كل وحدة وكل فرد في التنظيم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 algn="r" rtl="1">
              <a:spcBef>
                <a:spcPts val="700"/>
              </a:spcBef>
              <a:buClr>
                <a:srgbClr val="6afd51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ahoma"/>
              </a:rPr>
              <a:t>يوفر المعايير اللازمة لقياس أداء الوحدات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 algn="r" rtl="1">
              <a:spcBef>
                <a:spcPts val="700"/>
              </a:spcBef>
              <a:buClr>
                <a:srgbClr val="6afd51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ahoma"/>
              </a:rPr>
              <a:t>يسهم في تحقيق التمايز بين الأهداف والغايات والوسائل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lus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3087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خصائص التنظيم الجيد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35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وحدة الأم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 algn="r" rtl="1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التسلسل الرئاس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 algn="r" rtl="1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النطاق المناسب للإشرا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 algn="r" rtl="1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تفويض السلط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 algn="r" rtl="1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الوضوح في تحديد المسؤوليات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 algn="r" rtl="1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تكافؤ السلطة مع المسؤولي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 algn="r" rtl="1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مراعاة الطاقة البشرية في توزيع الواجبات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 algn="r" rtl="1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شبكة فعالة للاتصا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 algn="r" rtl="1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تجنب الازدوا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 algn="r" rtl="1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المرونة والبساط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 algn="r" rtl="1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استقرار التنظي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blinds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075280" y="3954600"/>
            <a:ext cx="838080" cy="415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44480" y="2998800"/>
            <a:ext cx="927000" cy="492120"/>
          </a:xfrm>
          <a:prstGeom prst="roundRect">
            <a:avLst>
              <a:gd name="adj" fmla="val 16667"/>
            </a:avLst>
          </a:prstGeom>
          <a:solidFill>
            <a:srgbClr val="6afd5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31920" y="2998800"/>
            <a:ext cx="927360" cy="492120"/>
          </a:xfrm>
          <a:prstGeom prst="roundRect">
            <a:avLst>
              <a:gd name="adj" fmla="val 16667"/>
            </a:avLst>
          </a:prstGeom>
          <a:solidFill>
            <a:srgbClr val="6afd5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52840" y="2998800"/>
            <a:ext cx="927000" cy="492120"/>
          </a:xfrm>
          <a:prstGeom prst="roundRect">
            <a:avLst>
              <a:gd name="adj" fmla="val 16667"/>
            </a:avLst>
          </a:prstGeom>
          <a:solidFill>
            <a:srgbClr val="6afd5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952880" y="2998800"/>
            <a:ext cx="927360" cy="492120"/>
          </a:xfrm>
          <a:prstGeom prst="roundRect">
            <a:avLst>
              <a:gd name="adj" fmla="val 16667"/>
            </a:avLst>
          </a:prstGeom>
          <a:solidFill>
            <a:srgbClr val="6afd5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31960" y="2084400"/>
            <a:ext cx="1514520" cy="533520"/>
          </a:xfrm>
          <a:prstGeom prst="roundRect">
            <a:avLst>
              <a:gd name="adj" fmla="val 1666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50920" y="214200"/>
            <a:ext cx="73087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  <a:cs typeface="Arial"/>
              </a:rPr>
              <a:t>عملية البناء التنظيم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50880" y="2138400"/>
            <a:ext cx="178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  <a:cs typeface="Arial"/>
              </a:rPr>
              <a:t>أهداف المنظم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067000" y="3052800"/>
            <a:ext cx="6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  <a:cs typeface="Arial"/>
              </a:rPr>
              <a:t>إنتا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62200" y="3052800"/>
            <a:ext cx="89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  <a:cs typeface="Arial"/>
              </a:rPr>
              <a:t>تسوي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21560" y="3052800"/>
            <a:ext cx="6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  <a:cs typeface="Arial"/>
              </a:rPr>
              <a:t>أفرا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5360" y="305280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  <a:cs typeface="Arial"/>
              </a:rPr>
              <a:t>تموي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330320" y="2214720"/>
            <a:ext cx="158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 تحديد الأهدا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209280" y="3052800"/>
            <a:ext cx="297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 تحديد أوجه النشاطات المختلف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943160" y="3967200"/>
            <a:ext cx="99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  <a:cs typeface="Arial"/>
              </a:rPr>
              <a:t>عملية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27160" y="3954600"/>
            <a:ext cx="838440" cy="415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95040" y="3967200"/>
            <a:ext cx="99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  <a:cs typeface="Arial"/>
              </a:rPr>
              <a:t>عملية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51400" y="3954600"/>
            <a:ext cx="838080" cy="415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18920" y="3967200"/>
            <a:ext cx="99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  <a:cs typeface="Arial"/>
              </a:rPr>
              <a:t>عملية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11920" y="4043520"/>
            <a:ext cx="330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 تحديد العمليات المطلوبة في نشا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77200" y="4881600"/>
            <a:ext cx="36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 تحديد الوظائف المطلوبة في كل عمل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075280" y="4869000"/>
            <a:ext cx="838080" cy="415800"/>
          </a:xfrm>
          <a:prstGeom prst="roundRect">
            <a:avLst>
              <a:gd name="adj" fmla="val 16667"/>
            </a:avLst>
          </a:prstGeom>
          <a:solidFill>
            <a:srgbClr val="5ba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26960" y="4881600"/>
            <a:ext cx="106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  <a:cs typeface="Arial"/>
              </a:rPr>
              <a:t>وظيفة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27360" y="4869000"/>
            <a:ext cx="838440" cy="415800"/>
          </a:xfrm>
          <a:prstGeom prst="roundRect">
            <a:avLst>
              <a:gd name="adj" fmla="val 16667"/>
            </a:avLst>
          </a:prstGeom>
          <a:solidFill>
            <a:srgbClr val="5ba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479400" y="4881600"/>
            <a:ext cx="106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  <a:cs typeface="Arial"/>
              </a:rPr>
              <a:t>وظيفة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03480" y="4869000"/>
            <a:ext cx="838080" cy="415800"/>
          </a:xfrm>
          <a:prstGeom prst="roundRect">
            <a:avLst>
              <a:gd name="adj" fmla="val 16667"/>
            </a:avLst>
          </a:prstGeom>
          <a:solidFill>
            <a:srgbClr val="5ba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55160" y="4881600"/>
            <a:ext cx="106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  <a:cs typeface="Arial"/>
              </a:rPr>
              <a:t>وظيفة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19320" y="281952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19320" y="2819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819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38480" y="2819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90920" y="2819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352680" y="2590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362320" y="3733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362320" y="3733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486400" y="3733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962520" y="3733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62520" y="350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38280" y="464832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438280" y="4648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562720" y="4648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038480" y="4648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0384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352680" y="5791320"/>
            <a:ext cx="1600200" cy="64440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038480" y="5334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23320" y="5338800"/>
            <a:ext cx="39646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 تحديد واجبات كل وظيف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 تعيين الأفراد وتكليفهم بالوظائ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 إعطاء السلطات للموظفي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 توفير التسهيلات والإمكانيات الخاصة بالعم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 إعداد الخريطة التنظيمية والدليل التنظيم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62720" y="5486400"/>
            <a:ext cx="380880" cy="1219320"/>
          </a:xfrm>
          <a:custGeom>
            <a:avLst/>
            <a:gdLst>
              <a:gd name="textAreaLeft" fmla="*/ 243360 w 380880"/>
              <a:gd name="textAreaRight" fmla="*/ 381240 w 3808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029200" y="5943600"/>
            <a:ext cx="457200" cy="304920"/>
          </a:xfrm>
          <a:prstGeom prst="leftArrow">
            <a:avLst>
              <a:gd name="adj1" fmla="val 50000"/>
              <a:gd name="adj2" fmla="val 3748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157920" y="5948280"/>
            <a:ext cx="199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Arial"/>
                <a:cs typeface="Arial"/>
              </a:rPr>
              <a:t>الخطوات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إلى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9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9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9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9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9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9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9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9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9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9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9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9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9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9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9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3087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أنواع التنظيم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35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ahoma"/>
              </a:rPr>
              <a:t>التنظيم الرسمي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ahoma"/>
              </a:rPr>
              <a:t>التنظيم الرأسي (التنفيذي أو العسكري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ahoma"/>
              </a:rPr>
              <a:t>التنظيم الوظيف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ahoma"/>
              </a:rPr>
              <a:t>التنظيم التنفيذي الاستشار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ahoma"/>
              </a:rPr>
              <a:t>التنظيم مع استخدام اللجا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ahoma"/>
              </a:rPr>
              <a:t>التنظيم الغير رسمي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mb dir="vert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924360" y="2349360"/>
            <a:ext cx="1582560" cy="503280"/>
          </a:xfrm>
          <a:prstGeom prst="rect">
            <a:avLst/>
          </a:prstGeom>
          <a:solidFill>
            <a:srgbClr val="6afd5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3087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أنواع التنظيم الرسم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42920" y="5229000"/>
            <a:ext cx="741672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ahoma"/>
              </a:rPr>
              <a:t>التنظيم على أساس الوظيف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2700360" y="3933720"/>
            <a:ext cx="1582560" cy="503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069440" y="24210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  <a:cs typeface="Arial"/>
              </a:rPr>
              <a:t>المدير الع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59280" y="3933720"/>
            <a:ext cx="1582920" cy="503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9640" y="3933720"/>
            <a:ext cx="1582920" cy="503280"/>
          </a:xfrm>
          <a:prstGeom prst="rect">
            <a:avLst/>
          </a:prstGeom>
          <a:solidFill>
            <a:srgbClr val="ffde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020000" y="3933720"/>
            <a:ext cx="1582560" cy="503280"/>
          </a:xfrm>
          <a:prstGeom prst="rect">
            <a:avLst/>
          </a:prstGeom>
          <a:solidFill>
            <a:srgbClr val="5ba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191000" y="4005360"/>
            <a:ext cx="130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  <a:cs typeface="Arial"/>
              </a:rPr>
              <a:t>إدارة الأفرا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981680" y="400536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  <a:cs typeface="Arial"/>
              </a:rPr>
              <a:t>إدارة الإنتا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691720" y="4005360"/>
            <a:ext cx="150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  <a:cs typeface="Arial"/>
              </a:rPr>
              <a:t>إدارة المبيعات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41440" y="4005360"/>
            <a:ext cx="14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  <a:cs typeface="Arial"/>
              </a:rPr>
              <a:t>الإدارة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58920" y="3357720"/>
            <a:ext cx="662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643280" y="2852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885080" y="33577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24360" y="33577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492360" y="33577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58920" y="33577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3087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أنواع التنظيم الرسمي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تابع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240" y="5373720"/>
            <a:ext cx="67741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ahoma"/>
              </a:rPr>
              <a:t>التنظيم على أساس السلعة أو الخدم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3924360" y="2349360"/>
            <a:ext cx="1582560" cy="503280"/>
          </a:xfrm>
          <a:prstGeom prst="rect">
            <a:avLst/>
          </a:prstGeom>
          <a:solidFill>
            <a:srgbClr val="6afd5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00360" y="3933720"/>
            <a:ext cx="1582560" cy="503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069440" y="24210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  <a:cs typeface="Arial"/>
              </a:rPr>
              <a:t>المدير الع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59280" y="3933720"/>
            <a:ext cx="1582920" cy="503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9640" y="3933720"/>
            <a:ext cx="1582920" cy="503280"/>
          </a:xfrm>
          <a:prstGeom prst="rect">
            <a:avLst/>
          </a:prstGeom>
          <a:solidFill>
            <a:srgbClr val="ffde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020000" y="3933720"/>
            <a:ext cx="1582560" cy="503280"/>
          </a:xfrm>
          <a:prstGeom prst="rect">
            <a:avLst/>
          </a:prstGeom>
          <a:solidFill>
            <a:srgbClr val="5ba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953400" y="4005360"/>
            <a:ext cx="16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ahoma"/>
                <a:cs typeface="Arial"/>
              </a:rPr>
              <a:t>قسم الشفرولي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834440" y="4005360"/>
            <a:ext cx="149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ahoma"/>
                <a:cs typeface="Arial"/>
              </a:rPr>
              <a:t>قسم البونتيا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99640" y="4005360"/>
            <a:ext cx="15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ahoma"/>
                <a:cs typeface="Arial"/>
              </a:rPr>
              <a:t>قسم الكاديلا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95640" y="4005360"/>
            <a:ext cx="186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ahoma"/>
                <a:cs typeface="Arial"/>
              </a:rPr>
              <a:t>قسم الأولدزموبي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58920" y="3357720"/>
            <a:ext cx="662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643280" y="2852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885080" y="33577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24360" y="33577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492360" y="33577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58920" y="33577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6T09:14:30Z</dcterms:created>
  <dc:creator>Sulaiman Al-Alsheikh</dc:creator>
  <dc:description/>
  <dc:language>en-US</dc:language>
  <cp:lastModifiedBy>user</cp:lastModifiedBy>
  <dcterms:modified xsi:type="dcterms:W3CDTF">2007-10-31T21:44:43Z</dcterms:modified>
  <cp:revision>19</cp:revision>
  <dc:subject/>
  <dc:title>مقدمة في علم الإدارة</dc:title>
</cp:coreProperties>
</file>