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8133-62F0-4A6A-8C3C-7B64648F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F017-DC00-4DD3-AAE4-4A197885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632A-9C84-42DD-84D5-8D6AE1B2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B88B-7FCB-44E1-9D8B-288ACC54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7F74-9F9B-4021-BAF0-A470CE95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630D-1E70-43FA-8CA2-478809E8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CC13-941B-4FDF-B8B7-904F1226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0445-036B-4837-8C60-4B6DFDAC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3C13-E546-4729-961C-D4138E0D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C29F-0A97-4B85-9841-B82DEE24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3097-76B2-41C0-9E4D-29BC9F14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2530-F055-40B4-B866-08307257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2D06-A5E4-4E28-AB7D-E65C61B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AC56-9155-4CF3-9CF8-1301AAB2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4F3E-4518-49CB-8F8B-F4788F4A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E2D2-5A8D-4B96-8467-EF24E2BB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793A-3315-40DB-8F9A-3049F94A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B060-2E04-4BDC-A08F-0EB3A835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E5799-D506-4A9F-BB48-FEF3A47C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AE57-747C-4B38-8671-1091A088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717F0-4993-47D3-A8CA-8B80261A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6BEC-A597-43D4-9F3E-4CA8BB19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EC4F-63D5-4BC3-AF19-088DAAF7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8F2C-E4BE-497F-9BCD-EC90DAC0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923040" cy="6858000"/>
            <a:chOff x="0" y="0"/>
            <a:chExt cx="9923040" cy="6858000"/>
          </a:xfrm>
        </p:grpSpPr>
        <p:sp>
          <p:nvSpPr>
            <p:cNvPr id="1" name="Rectangle 3"/>
            <p:cNvSpPr/>
            <p:nvPr/>
          </p:nvSpPr>
          <p:spPr>
            <a:xfrm>
              <a:off x="8998200" y="1440"/>
              <a:ext cx="907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816200" y="0"/>
              <a:ext cx="3297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971800" y="0"/>
              <a:ext cx="7426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879720" y="0"/>
              <a:ext cx="41292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311560" y="0"/>
              <a:ext cx="660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2548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95000" y="0"/>
              <a:ext cx="3301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950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71448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788000" y="0"/>
              <a:ext cx="9079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145960" y="0"/>
              <a:ext cx="24732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675400" y="0"/>
              <a:ext cx="43308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8007480" y="0"/>
              <a:ext cx="2473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924680" y="0"/>
              <a:ext cx="1155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6026400" y="0"/>
              <a:ext cx="1072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603840" y="0"/>
              <a:ext cx="9082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51212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609080" y="0"/>
              <a:ext cx="2610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4068720" y="0"/>
              <a:ext cx="577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90612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923040" cy="276480"/>
            </a:xfrm>
            <a:custGeom>
              <a:avLst/>
              <a:gdLst>
                <a:gd name="textAreaLeft" fmla="*/ 0 w 9923040"/>
                <a:gd name="textAreaRight" fmla="*/ 9923400 w 99230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V 19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F9DD-C3D4-4978-9292-E99C035337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A7C0-FC14-469F-A37D-2CD39D86C56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923040" cy="6858000"/>
            <a:chOff x="0" y="0"/>
            <a:chExt cx="99230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998200" y="1440"/>
              <a:ext cx="907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816200" y="0"/>
              <a:ext cx="3297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971800" y="0"/>
              <a:ext cx="7426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879720" y="0"/>
              <a:ext cx="41292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311560" y="0"/>
              <a:ext cx="660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82548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95000" y="0"/>
              <a:ext cx="3301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950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71448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788000" y="0"/>
              <a:ext cx="9079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2145960" y="0"/>
              <a:ext cx="24732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675400" y="0"/>
              <a:ext cx="43308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8007480" y="0"/>
              <a:ext cx="2473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924680" y="0"/>
              <a:ext cx="11552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6026400" y="0"/>
              <a:ext cx="1072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603840" y="0"/>
              <a:ext cx="9082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7512120" y="0"/>
              <a:ext cx="412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609080" y="0"/>
              <a:ext cx="2610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4068720" y="0"/>
              <a:ext cx="577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90612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923040" cy="276480"/>
            </a:xfrm>
            <a:custGeom>
              <a:avLst/>
              <a:gdLst>
                <a:gd name="textAreaLeft" fmla="*/ 0 w 9923040"/>
                <a:gd name="textAreaRight" fmla="*/ 9923400 w 99230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97E-E68B-4FF5-ABBB-0089AA5176D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OV 19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E34D-BA04-4391-BDF5-19471FAB5B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9A20-7D8E-48E0-AE5C-7AA36E0CF7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" descr="bis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1905120" y="685800"/>
            <a:ext cx="5968800" cy="4832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2F75-01E0-481A-BC92-41ECD7E30FB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External Morphological Features and the Digestive System of the rat, </a:t>
            </a:r>
            <a:r>
              <a:rPr b="1" i="1" lang="en-US" sz="2000" spc="-1" strike="noStrike">
                <a:solidFill>
                  <a:srgbClr val="ffffcc"/>
                </a:solidFill>
                <a:latin typeface="Tahoma"/>
              </a:rPr>
              <a:t>Rattus norvegicus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16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39F4-7EEC-4F23-BAD2-12CDB7C0280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457200" y="685800"/>
            <a:ext cx="8763120" cy="60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assification of the 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Kingdom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nimali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bkingdom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tazo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hylum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horda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b phylum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ertebr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ass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ammal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b class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uther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rder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odent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nus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u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pecies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musculu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6B95-CCAB-455C-A98F-81343FC1C8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2" descr="http://sites.google.com/site/jenbailey85/_/rsrc/1238588154003/rat-dissection/Lab%20Rat.jpg"/>
          <p:cNvPicPr/>
          <p:nvPr/>
        </p:nvPicPr>
        <p:blipFill>
          <a:blip r:embed="rId1"/>
          <a:stretch/>
        </p:blipFill>
        <p:spPr>
          <a:xfrm>
            <a:off x="1600200" y="685800"/>
            <a:ext cx="670572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9AAD-5770-497C-BBF4-12C6E4CAA4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detailed view of digestive system in rat 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62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8"/>
          <p:cNvSpPr/>
          <p:nvPr/>
        </p:nvSpPr>
        <p:spPr>
          <a:xfrm>
            <a:off x="709920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EE18-EC38-4E0D-9BE1-CDC1E3E9B82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2" descr="C:\Users\ab\Desktop\Cut_rat_2.jpg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2:03:39Z</dcterms:created>
  <dc:creator>Mohammed Usman</dc:creator>
  <dc:description/>
  <dc:language>en-US</dc:language>
  <cp:lastModifiedBy>ab</cp:lastModifiedBy>
  <cp:lastPrinted>1999-11-21T08:52:45Z</cp:lastPrinted>
  <dcterms:modified xsi:type="dcterms:W3CDTF">2016-07-19T21:51:11Z</dcterms:modified>
  <cp:revision>1364</cp:revision>
  <dc:subject>PRESENTATION</dc:subject>
  <dc:title>KACS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