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907588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4C9E3-76A9-4861-86E9-C19055F6E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CB14A-E91D-43B0-A319-188469FC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49391-09C9-4F9E-B03D-B40B02745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3A525-BBB2-4AB3-9D0A-9EBF35772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3DB0-BD50-4D06-894D-91ABCDDA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4AA9-EBDF-4382-B087-8264DFC5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421F-EFD7-4285-9045-FF2CA84C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F506-461D-4E20-9FA6-D5FDF2DC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FB2C-73B7-4C8F-99E7-1FCAB087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DD8A-888C-43AD-81E2-F5876B87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8BB4-5C0E-438C-AB8E-84664297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F4D40-1C83-4A6F-BA18-DF8F8D36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C5D9-EFBA-4728-A508-814BD084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67B6-C0A5-459A-8EAF-3B9A0C9A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3F09-FB73-4332-9C5F-96843ACA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F0F8-49AB-4D4C-BC6B-1C81180E4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7FEA-279D-4D13-A2FC-A7639BD15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D2F27-B123-4B86-AB20-D09340F5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C498B-672B-44C6-BCA6-CC277D00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D2D98-5BFE-4685-AAA1-F3AAD910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52F44-0245-4016-8B6D-7040FA7F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0D114-51BE-41C8-A7E5-E58E2538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6288B-79B5-40E2-8D65-13E8DCD9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0DEA2-931E-4C5D-BB80-08423709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923040" cy="6858000"/>
            <a:chOff x="0" y="0"/>
            <a:chExt cx="9923040" cy="6858000"/>
          </a:xfrm>
        </p:grpSpPr>
        <p:sp>
          <p:nvSpPr>
            <p:cNvPr id="1" name="Rectangle 3"/>
            <p:cNvSpPr/>
            <p:nvPr/>
          </p:nvSpPr>
          <p:spPr>
            <a:xfrm>
              <a:off x="8998200" y="1440"/>
              <a:ext cx="90792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816200" y="0"/>
              <a:ext cx="3297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971800" y="0"/>
              <a:ext cx="7426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879720" y="0"/>
              <a:ext cx="41292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311560" y="0"/>
              <a:ext cx="6602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82548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95000" y="0"/>
              <a:ext cx="3301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950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714480" y="0"/>
              <a:ext cx="412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788000" y="0"/>
              <a:ext cx="9079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145960" y="0"/>
              <a:ext cx="24732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675400" y="0"/>
              <a:ext cx="43308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8007480" y="0"/>
              <a:ext cx="2473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924680" y="0"/>
              <a:ext cx="11552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6026400" y="0"/>
              <a:ext cx="1072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603840" y="0"/>
              <a:ext cx="9082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7512120" y="0"/>
              <a:ext cx="412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609080" y="0"/>
              <a:ext cx="2610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4068720" y="0"/>
              <a:ext cx="577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90612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923040" cy="276480"/>
            </a:xfrm>
            <a:custGeom>
              <a:avLst/>
              <a:gdLst>
                <a:gd name="textAreaLeft" fmla="*/ 0 w 9923040"/>
                <a:gd name="textAreaRight" fmla="*/ 9923400 w 99230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NOV 199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C509-0891-462B-9916-6E31C8448E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E4EA-E4BB-49DE-9390-759A451933BD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923040" cy="6858000"/>
            <a:chOff x="0" y="0"/>
            <a:chExt cx="99230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998200" y="1440"/>
              <a:ext cx="90792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816200" y="0"/>
              <a:ext cx="3297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971800" y="0"/>
              <a:ext cx="7426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879720" y="0"/>
              <a:ext cx="41292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311560" y="0"/>
              <a:ext cx="6602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82548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95000" y="0"/>
              <a:ext cx="3301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950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714480" y="0"/>
              <a:ext cx="412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788000" y="0"/>
              <a:ext cx="9079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2145960" y="0"/>
              <a:ext cx="24732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675400" y="0"/>
              <a:ext cx="43308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8007480" y="0"/>
              <a:ext cx="2473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924680" y="0"/>
              <a:ext cx="11552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6026400" y="0"/>
              <a:ext cx="1072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603840" y="0"/>
              <a:ext cx="9082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7512120" y="0"/>
              <a:ext cx="412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609080" y="0"/>
              <a:ext cx="2610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4068720" y="0"/>
              <a:ext cx="577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90612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923040" cy="276480"/>
            </a:xfrm>
            <a:custGeom>
              <a:avLst/>
              <a:gdLst>
                <a:gd name="textAreaLeft" fmla="*/ 0 w 9923040"/>
                <a:gd name="textAreaRight" fmla="*/ 9923400 w 99230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1657-2B97-45CD-8A41-BF6442182B8A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NOV 199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3F96-EDCD-474F-B799-9630528EA5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709920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40DD-1FD6-4FAB-9791-61A0ED675E3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2" descr="bis"/>
          <p:cNvPicPr/>
          <p:nvPr/>
        </p:nvPicPr>
        <p:blipFill>
          <a:blip r:embed="rId1">
            <a:lum contrast="100000"/>
          </a:blip>
          <a:stretch/>
        </p:blipFill>
        <p:spPr>
          <a:xfrm>
            <a:off x="1905120" y="685800"/>
            <a:ext cx="5968800" cy="4832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8"/>
          <p:cNvSpPr/>
          <p:nvPr/>
        </p:nvSpPr>
        <p:spPr>
          <a:xfrm>
            <a:off x="709920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73F2-B6C0-4E89-B417-64CB969EE55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External Morphological Features and the Digestive System of the rat, 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Rattus norvegicus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1600"/>
            </a:b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709920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7395-9411-442F-B8CC-9BBC921795C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457200" y="685800"/>
            <a:ext cx="8763120" cy="60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lassification of the R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Kingdom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nimali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ubkingdom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Metazo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hylum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hordat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ub phylum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Vertebrat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lass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Mammali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ub class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Eutheri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Order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Rodenti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enus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u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pecies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musculu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709920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EBD7-835C-4223-A4EB-C15A561EA1C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2" descr="http://sites.google.com/site/jenbailey85/_/rsrc/1238588154003/rat-dissection/Lab%20Rat.jpg"/>
          <p:cNvPicPr/>
          <p:nvPr/>
        </p:nvPicPr>
        <p:blipFill>
          <a:blip r:embed="rId1"/>
          <a:stretch/>
        </p:blipFill>
        <p:spPr>
          <a:xfrm>
            <a:off x="1600200" y="685800"/>
            <a:ext cx="6705720" cy="4724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9920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7881-8A88-48DB-A989-47FB8F20E44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4" descr="detailed view of digestive system in rat "/>
          <p:cNvPicPr/>
          <p:nvPr/>
        </p:nvPicPr>
        <p:blipFill>
          <a:blip r:embed="rId1"/>
          <a:stretch/>
        </p:blipFill>
        <p:spPr>
          <a:xfrm>
            <a:off x="457200" y="0"/>
            <a:ext cx="8686800" cy="6629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8"/>
          <p:cNvSpPr/>
          <p:nvPr/>
        </p:nvSpPr>
        <p:spPr>
          <a:xfrm>
            <a:off x="709920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0474-E40A-4F3B-B47D-EF32820D3AD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8" name="Picture 2" descr="C:\Users\ab\Desktop\Cut_rat_2.jpg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2:03:39Z</dcterms:created>
  <dc:creator>Mohammed Usman</dc:creator>
  <dc:description/>
  <dc:language>en-US</dc:language>
  <cp:lastModifiedBy>ab</cp:lastModifiedBy>
  <cp:lastPrinted>1999-11-21T08:52:45Z</cp:lastPrinted>
  <dcterms:modified xsi:type="dcterms:W3CDTF">2016-07-19T21:51:11Z</dcterms:modified>
  <cp:revision>1364</cp:revision>
  <dc:subject>PRESENTATION</dc:subject>
  <dc:title>KACS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