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BDA9-DE2D-45F7-9F7D-195BDD28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DD4A-95A2-4CC2-B254-15A5D131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81E1-DCC2-4D9E-8349-EC95DB8F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1947-A7FD-46BF-8E3B-A48DA6F8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5D6-A7F8-4107-81C1-3FFE588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C984-5EC7-4EFB-BCEA-8531A75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4DED-A1E9-4590-9D16-084FB7D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0A5C-F770-495E-A3C4-6D99CC4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560-7490-4437-8667-E31EC6F1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35A0-E0A7-4175-90F2-B12101D2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DB8D-4528-4291-A444-CA4CD87E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2BDC-9F4F-4C7B-A19B-74F6945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1EFA-9E43-43D7-A1B5-F7EA657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FFD-DF20-4A98-B4A5-FF02A69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93B0-EF9D-4C8E-99CD-F7DF1BC5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9E38-D313-4A2E-BDAA-7C4C90F4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F36C-DD06-4AD9-93F8-3EAA1B37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1BCA-930A-436E-B25B-0511516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3F88-4F80-4821-9790-DEE159A0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D91A-46FB-4C06-91F5-BC17ED6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000D-CA27-4454-8373-2E00ACA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6131-8D9B-48EA-9F30-3135F1E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117C-336E-480D-A7C1-6BCF2E3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9C00-D184-40D0-8994-579E8A5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1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53DE-7718-430B-A3E0-2772E9E13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6AB-8652-4430-A6D8-6792F41F97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5F2-6441-4438-BAD0-F2BE2E1BA4F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1D5C-EF8C-4DB2-90E4-51898F6B01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4D5B-1A82-4157-835F-AD342648B7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Reproductive System: In Both Male and Female rat </a:t>
            </a: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Rattus norvegicus.</a:t>
            </a:r>
            <a:br>
              <a:rPr sz="2400"/>
            </a:br>
            <a:br>
              <a:rPr sz="80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17A6-D6AC-4296-AA39-7DFB4EDFEC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09480" y="6094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system, responsible for the production of their own kind is called the reproductive syst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organs that participate in the process of reproduction are Male organs and female organs bo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971800" y="2438280"/>
            <a:ext cx="464832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le Reproduc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609480" y="3657600"/>
            <a:ext cx="28195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pididym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s defer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minal Ve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rmatic Co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wpers g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tat gla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562720" y="3657600"/>
            <a:ext cx="3581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Ureth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Pen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Tes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crot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5"/>
          <p:cNvSpPr/>
          <p:nvPr/>
        </p:nvSpPr>
        <p:spPr>
          <a:xfrm>
            <a:off x="1447920" y="3276720"/>
            <a:ext cx="632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4" name="Straight Arrow Connector 17"/>
          <p:cNvCxnSpPr/>
          <p:nvPr/>
        </p:nvCxnSpPr>
        <p:spPr>
          <a:xfrm flipH="1">
            <a:off x="1445400" y="3278160"/>
            <a:ext cx="39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18"/>
          <p:cNvCxnSpPr/>
          <p:nvPr/>
        </p:nvCxnSpPr>
        <p:spPr>
          <a:xfrm flipH="1">
            <a:off x="7772040" y="327672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71AE-1B7D-4C18-91EA-31B16F5B26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male-rat-reproductive-system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ig101"/>
          <p:cNvPicPr/>
          <p:nvPr/>
        </p:nvPicPr>
        <p:blipFill>
          <a:blip r:embed="rId2"/>
          <a:stretch/>
        </p:blipFill>
        <p:spPr>
          <a:xfrm>
            <a:off x="5105520" y="1219320"/>
            <a:ext cx="4800600" cy="495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DA3-841F-4DED-971C-8CA99FC64A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2209680" y="609480"/>
            <a:ext cx="40388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emale Reproduc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838080" y="2209680"/>
            <a:ext cx="2819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g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er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idu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llopian Tub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wpers g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638680" y="2286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ternal Org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ul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traight Connector 6"/>
          <p:cNvSpPr/>
          <p:nvPr/>
        </p:nvSpPr>
        <p:spPr>
          <a:xfrm>
            <a:off x="1447920" y="1600200"/>
            <a:ext cx="632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Straight Arrow Connector 7"/>
          <p:cNvCxnSpPr/>
          <p:nvPr/>
        </p:nvCxnSpPr>
        <p:spPr>
          <a:xfrm flipH="1">
            <a:off x="1447560" y="160020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 flipH="1">
            <a:off x="7772040" y="1600200"/>
            <a:ext cx="21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5DF-E3B5-448A-9846-6DDA2978A6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female-rat-reproductive-system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464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fig104"/>
          <p:cNvPicPr/>
          <p:nvPr/>
        </p:nvPicPr>
        <p:blipFill>
          <a:blip r:embed="rId2"/>
          <a:stretch/>
        </p:blipFill>
        <p:spPr>
          <a:xfrm>
            <a:off x="5105520" y="152280"/>
            <a:ext cx="480060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F36-7C7F-4F65-993D-E650EB6ADD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2"/>
          <p:cNvSpPr txBox="1"/>
          <p:nvPr/>
        </p:nvSpPr>
        <p:spPr>
          <a:xfrm>
            <a:off x="990720" y="129528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2:03:39Z</dcterms:created>
  <dc:creator>Mohammed Usman</dc:creator>
  <dc:description/>
  <dc:language>en-US</dc:language>
  <cp:lastModifiedBy>ab</cp:lastModifiedBy>
  <cp:lastPrinted>1999-11-21T08:52:45Z</cp:lastPrinted>
  <dcterms:modified xsi:type="dcterms:W3CDTF">2016-07-19T21:51:25Z</dcterms:modified>
  <cp:revision>1355</cp:revision>
  <dc:subject>PRESENTATION</dc:subject>
  <dc:title>KACS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