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89AF-B90B-435A-8493-E73223D4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B0D1-28C0-444B-97FD-29433646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7ACC-F2A3-4631-A5CB-1D561465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94DE-31A1-4D23-9AEC-877EED48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7126-9DCB-4335-8DFA-2A1E26BD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1174-66BC-470A-9B40-3E447BC8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3A2A-7875-4077-B679-EDD17674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DFE7-D3B8-43F6-9143-ACE63D5F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3E0B-7E68-4DF3-80C3-0E9D7A8E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CE69-226E-454D-A9B3-9892F677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6BA-6587-46CD-A448-3D96EB6D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ED57-9B55-4DC5-AA05-8654193E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2949-093E-41D4-AA82-310B6B67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9FAB-4F0D-4DA2-B73B-3F2E9FD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765D-6280-43BC-A22A-247A4C91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600B-5B35-4B79-BEC6-03E55053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BCC5-3D4B-440D-B230-31A7628F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FF16-6FC2-408A-88D8-9DCAEE08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2804-6F6E-4C3E-B1A5-E74D48C9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601E-D81E-41D9-BDFA-43E2C02B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85D6-8D98-49BF-8C76-7346D167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C19C-D78C-491E-A745-32712A40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27B4-36A3-4587-801C-0A49849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49E7-23B6-41AF-B029-ED53E8C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23040" cy="6858000"/>
            <a:chOff x="0" y="0"/>
            <a:chExt cx="9923040" cy="6858000"/>
          </a:xfrm>
        </p:grpSpPr>
        <p:sp>
          <p:nvSpPr>
            <p:cNvPr id="1" name="Rectangle 3"/>
            <p:cNvSpPr/>
            <p:nvPr/>
          </p:nvSpPr>
          <p:spPr>
            <a:xfrm>
              <a:off x="8998200" y="1440"/>
              <a:ext cx="907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816200" y="0"/>
              <a:ext cx="3297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971800" y="0"/>
              <a:ext cx="742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879720" y="0"/>
              <a:ext cx="41292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311560" y="0"/>
              <a:ext cx="660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2548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95000" y="0"/>
              <a:ext cx="33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950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71448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788000" y="0"/>
              <a:ext cx="907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145960" y="0"/>
              <a:ext cx="24732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675400" y="0"/>
              <a:ext cx="43308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8007480" y="0"/>
              <a:ext cx="2473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924680" y="0"/>
              <a:ext cx="1155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026400" y="0"/>
              <a:ext cx="1072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603840" y="0"/>
              <a:ext cx="9082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51212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609080" y="0"/>
              <a:ext cx="26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4068720" y="0"/>
              <a:ext cx="577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90612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923040" cy="276480"/>
            </a:xfrm>
            <a:custGeom>
              <a:avLst/>
              <a:gdLst>
                <a:gd name="textAreaLeft" fmla="*/ 0 w 9923040"/>
                <a:gd name="textAreaRight" fmla="*/ 9923400 w 99230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2230-95F9-4930-A75A-7D81D14829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6E7C-35AC-400C-AB19-693F3610CBF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923040" cy="6858000"/>
            <a:chOff x="0" y="0"/>
            <a:chExt cx="99230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998200" y="1440"/>
              <a:ext cx="907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816200" y="0"/>
              <a:ext cx="3297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971800" y="0"/>
              <a:ext cx="742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879720" y="0"/>
              <a:ext cx="41292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311560" y="0"/>
              <a:ext cx="660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82548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95000" y="0"/>
              <a:ext cx="33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950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71448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788000" y="0"/>
              <a:ext cx="907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2145960" y="0"/>
              <a:ext cx="24732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675400" y="0"/>
              <a:ext cx="43308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8007480" y="0"/>
              <a:ext cx="2473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924680" y="0"/>
              <a:ext cx="1155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6026400" y="0"/>
              <a:ext cx="1072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603840" y="0"/>
              <a:ext cx="9082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751212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609080" y="0"/>
              <a:ext cx="26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4068720" y="0"/>
              <a:ext cx="577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90612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923040" cy="276480"/>
            </a:xfrm>
            <a:custGeom>
              <a:avLst/>
              <a:gdLst>
                <a:gd name="textAreaLeft" fmla="*/ 0 w 9923040"/>
                <a:gd name="textAreaRight" fmla="*/ 9923400 w 99230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95DD-2116-499B-99F2-688A792BE47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CF1A-6195-4767-95FF-BD0D4FC589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F5E6-318E-4796-B0C3-82E9E06845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Reproductive System: In Both Male and Female rat </a:t>
            </a: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Rattus norvegicus.</a:t>
            </a:r>
            <a:br>
              <a:rPr sz="2400"/>
            </a:br>
            <a:br>
              <a:rPr sz="8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0A94-E4F5-4D9D-B9B6-18CBD38846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09480" y="6094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system, responsible for the production of their own kind is called the reproductive syst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organs that participate in the process of reproduction are Male organs and female organs bo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971800" y="2438280"/>
            <a:ext cx="464832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le Reproductive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609480" y="3657600"/>
            <a:ext cx="28195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ernal Org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pididym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s defer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minal Ves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rmatic C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wpers g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tat g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562720" y="3657600"/>
            <a:ext cx="3581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ernal Org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Ureth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Pen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Tes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Scrot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traight Connector 15"/>
          <p:cNvSpPr/>
          <p:nvPr/>
        </p:nvSpPr>
        <p:spPr>
          <a:xfrm>
            <a:off x="1447920" y="3276720"/>
            <a:ext cx="632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4" name="Straight Arrow Connector 17"/>
          <p:cNvCxnSpPr/>
          <p:nvPr/>
        </p:nvCxnSpPr>
        <p:spPr>
          <a:xfrm flipH="1">
            <a:off x="1445400" y="3278160"/>
            <a:ext cx="39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8"/>
          <p:cNvCxnSpPr/>
          <p:nvPr/>
        </p:nvCxnSpPr>
        <p:spPr>
          <a:xfrm flipH="1">
            <a:off x="7772040" y="327672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2E66-2557-49A5-BE04-168C738245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male-rat-reproductive-system"/>
          <p:cNvPicPr/>
          <p:nvPr/>
        </p:nvPicPr>
        <p:blipFill>
          <a:blip r:embed="rId1"/>
          <a:stretch/>
        </p:blipFill>
        <p:spPr>
          <a:xfrm>
            <a:off x="152280" y="1219320"/>
            <a:ext cx="4876920" cy="49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fig101"/>
          <p:cNvPicPr/>
          <p:nvPr/>
        </p:nvPicPr>
        <p:blipFill>
          <a:blip r:embed="rId2"/>
          <a:stretch/>
        </p:blipFill>
        <p:spPr>
          <a:xfrm>
            <a:off x="5105520" y="1219320"/>
            <a:ext cx="4800600" cy="495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A58A-2206-49AD-AD01-A34A12614B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209680" y="609480"/>
            <a:ext cx="40388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emale Reproductive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838080" y="2209680"/>
            <a:ext cx="2819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ernal Org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gi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er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idu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llopian Tub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wpers gl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5638680" y="22860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ernal Org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ul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traight Connector 6"/>
          <p:cNvSpPr/>
          <p:nvPr/>
        </p:nvSpPr>
        <p:spPr>
          <a:xfrm>
            <a:off x="1447920" y="1600200"/>
            <a:ext cx="632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4" name="Straight Arrow Connector 7"/>
          <p:cNvCxnSpPr/>
          <p:nvPr/>
        </p:nvCxnSpPr>
        <p:spPr>
          <a:xfrm flipH="1">
            <a:off x="1447560" y="160020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 flipH="1">
            <a:off x="7772040" y="160020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2B2B-3EEA-47C3-B84B-3728A54595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female-rat-reproductive-system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4648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fig104"/>
          <p:cNvPicPr/>
          <p:nvPr/>
        </p:nvPicPr>
        <p:blipFill>
          <a:blip r:embed="rId2"/>
          <a:stretch/>
        </p:blipFill>
        <p:spPr>
          <a:xfrm>
            <a:off x="5105520" y="152280"/>
            <a:ext cx="480060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4F62-BC43-41C4-B4B8-EEBB6A85CF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2"/>
          <p:cNvSpPr txBox="1"/>
          <p:nvPr/>
        </p:nvSpPr>
        <p:spPr>
          <a:xfrm>
            <a:off x="990720" y="1295280"/>
            <a:ext cx="8153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2:03:39Z</dcterms:created>
  <dc:creator>Mohammed Usman</dc:creator>
  <dc:description/>
  <dc:language>en-US</dc:language>
  <cp:lastModifiedBy>ab</cp:lastModifiedBy>
  <cp:lastPrinted>1999-11-21T08:52:45Z</cp:lastPrinted>
  <dcterms:modified xsi:type="dcterms:W3CDTF">2016-07-19T21:51:25Z</dcterms:modified>
  <cp:revision>1355</cp:revision>
  <dc:subject>PRESENTATION</dc:subject>
  <dc:title>KACS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