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43000" y="3060360"/>
            <a:ext cx="10718640" cy="168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ctr"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92960" indent="-74160" algn="ctr">
              <a:buClr>
                <a:srgbClr val="674b23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297000" indent="-59400" algn="ctr"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415800" indent="-59400" algn="ctr">
              <a:buClr>
                <a:srgbClr val="674b23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534600" indent="-5940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534600" indent="-5940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534600" indent="-5940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5" name="Line 5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8" name="Line 8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9" name="Line 9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0" name="Line 10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6516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4097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8543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33" name="Group 10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434" name="Line 2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435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4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5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438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Line 7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40" name="Line 8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41" name="Line 9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9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479" name="Line 1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480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3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483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Line 6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85" name="Line 7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486" name="Line 8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52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2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52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52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3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0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52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53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marL="44280" indent="-44280" algn="ctr"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6480" indent="-37080" algn="ctr">
              <a:buClr>
                <a:srgbClr val="674b23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48320" indent="-29520" algn="ctr"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207720" indent="-29520" algn="ctr">
              <a:buClr>
                <a:srgbClr val="674b23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67120" indent="-2952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67120" indent="-2952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67120" indent="-2952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495360" y="6413400"/>
            <a:ext cx="12014280" cy="2806560"/>
            <a:chOff x="495360" y="6413400"/>
            <a:chExt cx="12014280" cy="2806560"/>
          </a:xfrm>
        </p:grpSpPr>
        <p:sp>
          <p:nvSpPr>
            <p:cNvPr id="99" name="Line 3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101" name="Picture 5" descr=""/>
            <p:cNvPicPr/>
            <p:nvPr/>
          </p:nvPicPr>
          <p:blipFill>
            <a:blip r:embed="rId3"/>
            <a:stretch/>
          </p:blipFill>
          <p:spPr>
            <a:xfrm>
              <a:off x="123825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"/>
            <p:cNvPicPr/>
            <p:nvPr/>
          </p:nvPicPr>
          <p:blipFill>
            <a:blip r:embed="rId4"/>
            <a:stretch/>
          </p:blipFill>
          <p:spPr>
            <a:xfrm>
              <a:off x="4953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9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4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14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4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4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194" name="Picture 2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95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196" name="Line 4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197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198" name="Picture 6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sp>
          <p:nvSpPr>
            <p:cNvPr id="199" name="Line 7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01" name="Line 9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43040" indent="-285840" algn="ctr">
              <a:buClr>
                <a:srgbClr val="674b23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43000" indent="-228600" algn="ctr">
              <a:buClr>
                <a:srgbClr val="674b23"/>
              </a:buClr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600200" indent="-228600" algn="ctr">
              <a:buClr>
                <a:srgbClr val="674b23"/>
              </a:buClr>
              <a:buFont typeface="Baskervil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057400" indent="-228600" algn="ctr">
              <a:buClr>
                <a:srgbClr val="674b23"/>
              </a:buClr>
              <a:buFont typeface="Baskervil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057400" indent="-228600">
              <a:spcBef>
                <a:spcPts val="901"/>
              </a:spcBef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057400" indent="-228600">
              <a:spcBef>
                <a:spcPts val="901"/>
              </a:spcBef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242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44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45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290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92" name="Picture 4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293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6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8" name="Line 10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299" name="Line 11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marL="116640" indent="-116640" algn="ctr"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252360" indent="-96840" algn="ctr">
              <a:buClr>
                <a:srgbClr val="674b23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388440" indent="-77400" algn="ctr">
              <a:buClr>
                <a:srgbClr val="674b23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543960" indent="-77400" algn="ctr">
              <a:buClr>
                <a:srgbClr val="674b23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699480" indent="-7740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699480" indent="-7740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699480" indent="-77400" algn="ctr">
              <a:buClr>
                <a:srgbClr val="674b23"/>
              </a:buClr>
              <a:buFont typeface="Baskervil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39" name="Line 3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pic>
          <p:nvPicPr>
            <p:cNvPr id="340" name="Picture 4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5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6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43" name="Picture 7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Line 8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46" name="Line 10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8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38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38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/>
              </a:outerShdw>
            </a:effectLst>
          </p:spPr>
        </p:pic>
        <p:pic>
          <p:nvPicPr>
            <p:cNvPr id="38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10718640" cy="450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9d583f"/>
                </a:solidFill>
                <a:latin typeface="Baskerville"/>
              </a:rPr>
              <a:t>Lab1:</a:t>
            </a:r>
            <a:br>
              <a:rPr sz="7100"/>
            </a:br>
            <a:r>
              <a:rPr b="0" lang="en-US" sz="7100" spc="-1" strike="noStrike">
                <a:solidFill>
                  <a:srgbClr val="9d583f"/>
                </a:solidFill>
                <a:latin typeface="Baskerville"/>
              </a:rPr>
              <a:t>Microscopy</a:t>
            </a:r>
            <a:br>
              <a:rPr sz="7100"/>
            </a:br>
            <a:r>
              <a:rPr b="0" lang="en-US" sz="7100" spc="-1" strike="noStrike">
                <a:solidFill>
                  <a:srgbClr val="9d583f"/>
                </a:solidFill>
                <a:latin typeface="Baskerville"/>
              </a:rPr>
              <a:t>&amp;</a:t>
            </a:r>
            <a:br>
              <a:rPr sz="7100"/>
            </a:br>
            <a:r>
              <a:rPr b="0" lang="en-US" sz="7100" spc="-1" strike="noStrike">
                <a:solidFill>
                  <a:srgbClr val="9d583f"/>
                </a:solidFill>
                <a:latin typeface="Baskerville"/>
              </a:rPr>
              <a:t>Cellular structure</a:t>
            </a:r>
            <a:endParaRPr b="0" lang="en-US" sz="71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43000" y="6108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Lama AlAbdi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Eukaryotes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2440" y="2641320"/>
            <a:ext cx="509256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8d"/>
                </a:solidFill>
                <a:latin typeface="Baskerville"/>
              </a:rPr>
              <a:t>Plant cells: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b23"/>
                </a:solidFill>
                <a:latin typeface="Baskerville"/>
              </a:rPr>
              <a:t>Have cell wall.</a:t>
            </a:r>
            <a:endParaRPr b="0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b23"/>
                </a:solidFill>
                <a:latin typeface="Baskerville"/>
              </a:rPr>
              <a:t>example: onion cells.</a:t>
            </a:r>
            <a:endParaRPr b="0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lvl="2" marL="1460520" indent="-57168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b23"/>
                </a:solidFill>
                <a:latin typeface="Baskerville"/>
              </a:rPr>
              <a:t>Rectangular with eccentric nucleus.</a:t>
            </a:r>
            <a:endParaRPr b="0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6060960" y="2806560"/>
            <a:ext cx="5829480" cy="2832120"/>
            <a:chOff x="6060960" y="2806560"/>
            <a:chExt cx="5829480" cy="2832120"/>
          </a:xfrm>
        </p:grpSpPr>
        <p:pic>
          <p:nvPicPr>
            <p:cNvPr id="620" name="Picture 3" descr=""/>
            <p:cNvPicPr/>
            <p:nvPr/>
          </p:nvPicPr>
          <p:blipFill>
            <a:blip r:embed="rId5"/>
            <a:srcRect l="0" t="20617" r="0" b="20334"/>
            <a:stretch/>
          </p:blipFill>
          <p:spPr>
            <a:xfrm>
              <a:off x="6264000" y="3022560"/>
              <a:ext cx="541836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" descr=""/>
            <p:cNvPicPr/>
            <p:nvPr/>
          </p:nvPicPr>
          <p:blipFill>
            <a:blip r:embed="rId6"/>
            <a:stretch/>
          </p:blipFill>
          <p:spPr>
            <a:xfrm>
              <a:off x="6060960" y="2806560"/>
              <a:ext cx="5829480" cy="283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2" name="Group 8"/>
          <p:cNvGrpSpPr/>
          <p:nvPr/>
        </p:nvGrpSpPr>
        <p:grpSpPr>
          <a:xfrm>
            <a:off x="1465200" y="5931000"/>
            <a:ext cx="3416400" cy="3111480"/>
            <a:chOff x="1465200" y="5931000"/>
            <a:chExt cx="3416400" cy="3111480"/>
          </a:xfrm>
        </p:grpSpPr>
        <p:pic>
          <p:nvPicPr>
            <p:cNvPr id="623" name="Picture 6" descr=""/>
            <p:cNvPicPr/>
            <p:nvPr/>
          </p:nvPicPr>
          <p:blipFill>
            <a:blip r:embed="rId7"/>
            <a:srcRect l="8275" t="0" r="8157" b="0"/>
            <a:stretch/>
          </p:blipFill>
          <p:spPr>
            <a:xfrm>
              <a:off x="1668240" y="6147000"/>
              <a:ext cx="2998800" cy="26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7" descr=""/>
            <p:cNvPicPr/>
            <p:nvPr/>
          </p:nvPicPr>
          <p:blipFill>
            <a:blip r:embed="rId8"/>
            <a:stretch/>
          </p:blipFill>
          <p:spPr>
            <a:xfrm>
              <a:off x="1465200" y="5931000"/>
              <a:ext cx="3416400" cy="311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Rectangle 9"/>
          <p:cNvSpPr/>
          <p:nvPr/>
        </p:nvSpPr>
        <p:spPr>
          <a:xfrm>
            <a:off x="7112160" y="5880240"/>
            <a:ext cx="448308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spcBef>
                <a:spcPts val="28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8d"/>
                </a:solidFill>
                <a:latin typeface="Baskerville"/>
                <a:ea typeface="Baskerville"/>
              </a:rPr>
              <a:t>Animal cells:</a:t>
            </a: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marL="571680" indent="-571680">
              <a:spcBef>
                <a:spcPts val="28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Does NOT</a:t>
            </a:r>
            <a:r>
              <a:rPr b="0" lang="en-US" sz="2400" spc="-1" strike="noStrike">
                <a:solidFill>
                  <a:srgbClr val="674b23"/>
                </a:solidFill>
                <a:latin typeface="Baskerville"/>
                <a:ea typeface="Baskerville"/>
              </a:rPr>
              <a:t> have cell wall.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Under the Microscope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" descr=""/>
          <p:cNvPicPr/>
          <p:nvPr/>
        </p:nvPicPr>
        <p:blipFill>
          <a:blip r:embed="rId1"/>
          <a:stretch/>
        </p:blipFill>
        <p:spPr>
          <a:xfrm>
            <a:off x="2311560" y="185760"/>
            <a:ext cx="7962840" cy="582912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66924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9d583f"/>
                </a:solidFill>
                <a:latin typeface="Baskerville"/>
              </a:rPr>
              <a:t>Plant cell: onion cell</a:t>
            </a:r>
            <a:endParaRPr b="0" lang="en-US" sz="64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3000" y="7848360"/>
            <a:ext cx="1071864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4b23"/>
                </a:solidFill>
                <a:latin typeface="Baskerville"/>
              </a:rPr>
              <a:t>1. Nucleus.         2. Cell wall.      3. Cytoplasm</a:t>
            </a:r>
            <a:endParaRPr b="0" lang="en-US" sz="2600" spc="-1" strike="noStrike">
              <a:solidFill>
                <a:srgbClr val="674b23"/>
              </a:solidFill>
              <a:latin typeface="Baskerville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4b23"/>
                </a:solidFill>
                <a:latin typeface="Baskerville"/>
              </a:rPr>
              <a:t>4. Cell membrane.</a:t>
            </a:r>
            <a:endParaRPr b="0" lang="en-US" sz="2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647640" y="600120"/>
            <a:ext cx="11138040" cy="499104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616440"/>
            <a:ext cx="107186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d583f"/>
                </a:solidFill>
                <a:latin typeface="Baskerville"/>
              </a:rPr>
              <a:t>Animal cell: simple squamous epithelium- mouth mucosa (Top view)</a:t>
            </a:r>
            <a:endParaRPr b="0" lang="en-US" sz="38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43000" y="7886520"/>
            <a:ext cx="10718640" cy="99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4b23"/>
                </a:solidFill>
                <a:latin typeface="Baskerville"/>
              </a:rPr>
              <a:t>1. Cell membrane.      2. Cytoplasm.</a:t>
            </a:r>
            <a:endParaRPr b="0" lang="en-US" sz="3000" spc="-1" strike="noStrike">
              <a:solidFill>
                <a:srgbClr val="674b23"/>
              </a:solidFill>
              <a:latin typeface="Baskerville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4b23"/>
                </a:solidFill>
                <a:latin typeface="Baskerville"/>
              </a:rPr>
              <a:t>3. Nucleus.</a:t>
            </a:r>
            <a:endParaRPr b="0" lang="en-US" sz="30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946080" y="893880"/>
            <a:ext cx="10477080" cy="4444920"/>
            <a:chOff x="946080" y="893880"/>
            <a:chExt cx="10477080" cy="4444920"/>
          </a:xfrm>
        </p:grpSpPr>
        <p:pic>
          <p:nvPicPr>
            <p:cNvPr id="634" name="Picture 4" descr=""/>
            <p:cNvPicPr/>
            <p:nvPr/>
          </p:nvPicPr>
          <p:blipFill>
            <a:blip r:embed="rId2"/>
            <a:stretch/>
          </p:blipFill>
          <p:spPr>
            <a:xfrm>
              <a:off x="946080" y="893880"/>
              <a:ext cx="10477080" cy="44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Line 5"/>
            <p:cNvSpPr/>
            <p:nvPr/>
          </p:nvSpPr>
          <p:spPr>
            <a:xfrm flipV="1">
              <a:off x="6006600" y="3587400"/>
              <a:ext cx="2444760" cy="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>
              <a:off x="4605480" y="3389400"/>
              <a:ext cx="1263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 Bold"/>
                  <a:ea typeface="Arial Bold"/>
                </a:rPr>
                <a:t>1</a:t>
              </a:r>
              <a:endParaRPr b="0" i="1" lang="en-US" sz="18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637" name="Line 7"/>
            <p:cNvSpPr/>
            <p:nvPr/>
          </p:nvSpPr>
          <p:spPr>
            <a:xfrm flipV="1">
              <a:off x="5310360" y="4772160"/>
              <a:ext cx="2617920" cy="1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638" name="Line 8"/>
            <p:cNvSpPr/>
            <p:nvPr/>
          </p:nvSpPr>
          <p:spPr>
            <a:xfrm flipH="1" flipV="1">
              <a:off x="4437360" y="4179600"/>
              <a:ext cx="2270160" cy="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639" name="Rectangle 9"/>
            <p:cNvSpPr/>
            <p:nvPr/>
          </p:nvSpPr>
          <p:spPr>
            <a:xfrm>
              <a:off x="6704640" y="3883320"/>
              <a:ext cx="12621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 Bold"/>
                  <a:ea typeface="Arial Bold"/>
                </a:rPr>
                <a:t>2</a:t>
              </a:r>
              <a:endParaRPr b="0" i="1" lang="en-US" sz="18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>
              <a:off x="4429440" y="4475160"/>
              <a:ext cx="12621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 Bold"/>
                  <a:ea typeface="Arial Bold"/>
                </a:rPr>
                <a:t>3</a:t>
              </a:r>
              <a:endParaRPr b="0" i="1" lang="en-US" sz="1800" spc="-1" strike="noStrike">
                <a:solidFill>
                  <a:srgbClr val="674b23"/>
                </a:solidFill>
                <a:latin typeface="Baskerville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"/>
          <p:cNvSpPr/>
          <p:nvPr/>
        </p:nvSpPr>
        <p:spPr>
          <a:xfrm>
            <a:off x="1143000" y="4114800"/>
            <a:ext cx="10718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  <a:ea typeface="Baskerville"/>
              </a:rPr>
              <a:t>THANK YOU</a:t>
            </a:r>
            <a:endParaRPr b="0" i="1" lang="en-US" sz="72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d583f"/>
                </a:solidFill>
                <a:latin typeface="Baskerville"/>
              </a:rPr>
              <a:t>Applications of compound microscope</a:t>
            </a:r>
            <a:endParaRPr b="0" lang="en-US" sz="48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Investigation of cells and cellular structures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marL="571680" indent="-57168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tudy of tissues and microorganisms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marL="571680" indent="-57168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Monitoring embryos development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marL="571680" indent="-57168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And much more...  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9d583f"/>
                </a:solidFill>
                <a:latin typeface="Baskerville"/>
              </a:rPr>
              <a:t>Structure &amp; Systems</a:t>
            </a:r>
            <a:endParaRPr b="0" lang="en-US" sz="69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e compound microscope is made of 3 systems: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e mounting and movement System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e magnification System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e illumination System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" descr=""/>
          <p:cNvPicPr/>
          <p:nvPr/>
        </p:nvPicPr>
        <p:blipFill>
          <a:blip r:embed="rId1"/>
          <a:stretch/>
        </p:blipFill>
        <p:spPr>
          <a:xfrm>
            <a:off x="3903840" y="0"/>
            <a:ext cx="5206680" cy="7950240"/>
          </a:xfrm>
          <a:prstGeom prst="rect">
            <a:avLst/>
          </a:prstGeom>
          <a:ln w="0">
            <a:noFill/>
          </a:ln>
        </p:spPr>
      </p:pic>
      <p:sp>
        <p:nvSpPr>
          <p:cNvPr id="579" name="Line 2"/>
          <p:cNvSpPr/>
          <p:nvPr/>
        </p:nvSpPr>
        <p:spPr>
          <a:xfrm flipV="1">
            <a:off x="7696080" y="3238200"/>
            <a:ext cx="2082960" cy="29196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3060720" y="6070680"/>
            <a:ext cx="2057400" cy="1116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1" name="Line 4"/>
          <p:cNvSpPr/>
          <p:nvPr/>
        </p:nvSpPr>
        <p:spPr>
          <a:xfrm flipV="1">
            <a:off x="7962120" y="4597560"/>
            <a:ext cx="1701720" cy="26640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7823160" y="5232240"/>
            <a:ext cx="1981080" cy="30492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3" name="Line 6"/>
          <p:cNvSpPr/>
          <p:nvPr/>
        </p:nvSpPr>
        <p:spPr>
          <a:xfrm>
            <a:off x="3060720" y="4165560"/>
            <a:ext cx="2057400" cy="1116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3238560" y="2768760"/>
            <a:ext cx="2057400" cy="1080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0" y="1460520"/>
            <a:ext cx="37702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nose piece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fad3"/>
                </a:solidFill>
                <a:latin typeface="Baskerville"/>
                <a:ea typeface="Baskerville"/>
              </a:rPr>
              <a:t>Carries the objective lenses and move them accordingly above the stage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6" name="Line 9"/>
          <p:cNvSpPr/>
          <p:nvPr/>
        </p:nvSpPr>
        <p:spPr>
          <a:xfrm flipV="1">
            <a:off x="7085880" y="2019240"/>
            <a:ext cx="2793960" cy="101592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12600" y="3441600"/>
            <a:ext cx="37720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stage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fad3"/>
                </a:solidFill>
                <a:latin typeface="Baskerville"/>
                <a:ea typeface="Baskerville"/>
              </a:rPr>
              <a:t>Horizontal platform upon which the slide of interest rest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698400" y="5149800"/>
            <a:ext cx="2793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base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fad3"/>
                </a:solidFill>
                <a:latin typeface="Baskerville"/>
                <a:ea typeface="Baskerville"/>
              </a:rPr>
              <a:t>Supports the microscope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9550440" y="2400480"/>
            <a:ext cx="34290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arm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fad3"/>
                </a:solidFill>
                <a:latin typeface="Baskerville"/>
                <a:ea typeface="Baskerville"/>
              </a:rPr>
              <a:t>Supports and connects the upper part of the microscope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9563040" y="971640"/>
            <a:ext cx="3429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body tube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fad3"/>
                </a:solidFill>
                <a:latin typeface="Baskerville"/>
                <a:ea typeface="Baskerville"/>
              </a:rPr>
              <a:t>carries the ocular lenses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9042480" y="4178160"/>
            <a:ext cx="39369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coarse focusing knob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fad3"/>
                </a:solidFill>
                <a:latin typeface="Baskerville"/>
                <a:ea typeface="Baskerville"/>
              </a:rPr>
              <a:t>for stage movement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9435960" y="5118120"/>
            <a:ext cx="342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fine focusing knob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fad3"/>
                </a:solidFill>
                <a:latin typeface="Baskerville"/>
                <a:ea typeface="Baskerville"/>
              </a:rPr>
              <a:t>for image sharpness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3000" y="8051400"/>
            <a:ext cx="10718640" cy="96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d583f"/>
                </a:solidFill>
                <a:latin typeface="Baskerville"/>
              </a:rPr>
              <a:t>The Mounting and Movement System</a:t>
            </a:r>
            <a:endParaRPr b="0" lang="en-US" sz="38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382680" y="811080"/>
            <a:ext cx="4775040" cy="39117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143000" y="7556040"/>
            <a:ext cx="10718640" cy="115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2712"/>
                </a:solidFill>
                <a:latin typeface="Baskerville"/>
              </a:rPr>
              <a:t>How to calculate the magnification power?</a:t>
            </a:r>
            <a:endParaRPr b="0" lang="en-US" sz="2300" spc="-1" strike="noStrike">
              <a:solidFill>
                <a:srgbClr val="674b23"/>
              </a:solidFill>
              <a:latin typeface="Baskerville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58e28"/>
                </a:solidFill>
                <a:latin typeface="Baskerville"/>
              </a:rPr>
              <a:t>Magnification power = ocular lens * objective lens.</a:t>
            </a:r>
            <a:endParaRPr b="0" lang="en-US" sz="2300" spc="-1" strike="noStrike">
              <a:solidFill>
                <a:srgbClr val="674b23"/>
              </a:solidFill>
              <a:latin typeface="Baskerville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74b23"/>
                </a:solidFill>
                <a:latin typeface="Baskerville"/>
              </a:rPr>
              <a:t>(e.g.) 10X * 40X = 400X                          hint: Don’t forget the unit</a:t>
            </a:r>
            <a:endParaRPr b="0" lang="en-US" sz="23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6029640" y="3039120"/>
            <a:ext cx="4460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objective lenses:</a:t>
            </a: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Scanning lens: 3.5X or 4X or 5X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Low power lens: 10X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High power lens: 40X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Oil immersion lens: 100X 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5895000" y="1110960"/>
            <a:ext cx="397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ocular lenses: </a:t>
            </a: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5X, 10X, and 15X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3873600" y="1600200"/>
            <a:ext cx="2057400" cy="1116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99" name="Line 6"/>
          <p:cNvSpPr/>
          <p:nvPr/>
        </p:nvSpPr>
        <p:spPr>
          <a:xfrm flipV="1">
            <a:off x="3200400" y="3668760"/>
            <a:ext cx="2844720" cy="144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00" name="AutoShape 7"/>
          <p:cNvSpPr/>
          <p:nvPr/>
        </p:nvSpPr>
        <p:spPr>
          <a:xfrm flipH="1">
            <a:off x="1053360" y="3035160"/>
            <a:ext cx="1663560" cy="1155960"/>
          </a:xfrm>
          <a:prstGeom prst="pie">
            <a:avLst/>
          </a:prstGeom>
          <a:solidFill>
            <a:srgbClr val="ff271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1320840" y="6565680"/>
            <a:ext cx="10718640" cy="96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d583f"/>
                </a:solidFill>
                <a:latin typeface="Baskerville"/>
              </a:rPr>
              <a:t>The Magnification System</a:t>
            </a:r>
            <a:endParaRPr b="0" lang="en-US" sz="55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1" descr=""/>
          <p:cNvPicPr/>
          <p:nvPr/>
        </p:nvPicPr>
        <p:blipFill>
          <a:blip r:embed="rId1"/>
          <a:stretch/>
        </p:blipFill>
        <p:spPr>
          <a:xfrm>
            <a:off x="4160880" y="203040"/>
            <a:ext cx="4673520" cy="57913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43000" y="7023240"/>
            <a:ext cx="10718640" cy="121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d583f"/>
                </a:solidFill>
                <a:latin typeface="Baskerville"/>
              </a:rPr>
              <a:t>The Illumination System</a:t>
            </a:r>
            <a:endParaRPr b="0" lang="en-US" sz="59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04" name="Line 3"/>
          <p:cNvSpPr/>
          <p:nvPr/>
        </p:nvSpPr>
        <p:spPr>
          <a:xfrm flipV="1">
            <a:off x="3276720" y="3719160"/>
            <a:ext cx="2652480" cy="83988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6261120" y="4533840"/>
            <a:ext cx="3162240" cy="1260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2984400" y="2336760"/>
            <a:ext cx="2540160" cy="1243080"/>
          </a:xfrm>
          <a:prstGeom prst="line">
            <a:avLst/>
          </a:prstGeom>
          <a:ln w="507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9248760" y="3943080"/>
            <a:ext cx="356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illuminator: </a:t>
            </a: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light source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217440" y="3956040"/>
            <a:ext cx="34797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condenser: </a:t>
            </a: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collects and concentrate the light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-27000" y="1352520"/>
            <a:ext cx="32623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712"/>
                </a:solidFill>
                <a:latin typeface="Baskerville"/>
                <a:ea typeface="Baskerville"/>
              </a:rPr>
              <a:t>The iris diaphragm: </a:t>
            </a:r>
            <a:endParaRPr b="0" i="1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fdd5"/>
                </a:solidFill>
                <a:latin typeface="Baskerville"/>
                <a:ea typeface="Baskerville"/>
              </a:rPr>
              <a:t>controls the amount of light reaching the slide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The cell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548640" indent="-54864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It is the functional and structural unit in organisms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marL="548640" indent="-54864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Different cell structures depending on their location and function in the body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marL="548640" indent="-54864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3 major cell components: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75240" indent="-54828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Genetic material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75240" indent="-54828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ytoplasm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75240" indent="-548280"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ell membrane.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ell types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b23"/>
                </a:solidFill>
                <a:latin typeface="Baskerville"/>
              </a:rPr>
              <a:t>Two major cell types depending on the arrangement of the genetic material inside the cell:</a:t>
            </a:r>
            <a:endParaRPr b="0" lang="en-US" sz="32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b23"/>
                </a:solidFill>
                <a:latin typeface="Baskerville"/>
              </a:rPr>
              <a:t>Eukaryotic cells (True nucleated cells): </a:t>
            </a:r>
            <a:endParaRPr b="0" lang="en-US" sz="3200" spc="-1" strike="noStrike">
              <a:solidFill>
                <a:srgbClr val="674b23"/>
              </a:solidFill>
              <a:latin typeface="Baskerville"/>
            </a:endParaRPr>
          </a:p>
          <a:p>
            <a:pPr lvl="2" marL="1460520" indent="-57168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b23"/>
                </a:solidFill>
                <a:latin typeface="Baskerville"/>
              </a:rPr>
              <a:t>Nucleus is present. DNA is associated with protein making </a:t>
            </a:r>
            <a:r>
              <a:rPr b="0" lang="en-US" sz="3200" spc="-1" strike="noStrike">
                <a:solidFill>
                  <a:srgbClr val="ff2712"/>
                </a:solidFill>
                <a:latin typeface="Baskerville"/>
              </a:rPr>
              <a:t>chromatin</a:t>
            </a:r>
            <a:r>
              <a:rPr b="0" lang="en-US" sz="3200" spc="-1" strike="noStrike">
                <a:solidFill>
                  <a:srgbClr val="674b23"/>
                </a:solidFill>
                <a:latin typeface="Baskerville"/>
              </a:rPr>
              <a:t>. </a:t>
            </a:r>
            <a:endParaRPr b="0" lang="en-US" sz="32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b23"/>
                </a:solidFill>
                <a:latin typeface="Baskerville"/>
              </a:rPr>
              <a:t>Prokaryotic cells (pro = before; Karyone = nucleus):</a:t>
            </a:r>
            <a:endParaRPr b="0" lang="en-US" sz="3200" spc="-1" strike="noStrike">
              <a:solidFill>
                <a:srgbClr val="674b23"/>
              </a:solidFill>
              <a:latin typeface="Baskerville"/>
            </a:endParaRPr>
          </a:p>
          <a:p>
            <a:pPr lvl="2" marL="1460520" indent="-57168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b23"/>
                </a:solidFill>
                <a:latin typeface="Baskerville"/>
              </a:rPr>
              <a:t>Nucleus is absent. The region where the DNA is located in the cytoplasm is called </a:t>
            </a:r>
            <a:r>
              <a:rPr b="0" lang="en-US" sz="3200" spc="-1" strike="noStrike">
                <a:solidFill>
                  <a:srgbClr val="ff2712"/>
                </a:solidFill>
                <a:latin typeface="Baskerville"/>
              </a:rPr>
              <a:t>nucleoid.</a:t>
            </a:r>
            <a:endParaRPr b="0" lang="en-US" sz="32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9d583f"/>
                </a:solidFill>
                <a:latin typeface="Baskerville"/>
              </a:rPr>
              <a:t>Prokaryotes: bacteria</a:t>
            </a:r>
            <a:endParaRPr b="0" lang="en-US" sz="64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91880" y="30481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b23"/>
                </a:solidFill>
                <a:latin typeface="Baskerville"/>
              </a:rPr>
              <a:t>Bacillus:</a:t>
            </a:r>
            <a:endParaRPr b="0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b23"/>
                </a:solidFill>
                <a:latin typeface="Baskerville"/>
              </a:rPr>
              <a:t>Rod shape and occur in strands.</a:t>
            </a:r>
            <a:endParaRPr b="0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1015920" y="5029200"/>
            <a:ext cx="7467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b23"/>
                </a:solidFill>
                <a:latin typeface="Baskerville"/>
                <a:ea typeface="Baskerville"/>
              </a:rPr>
              <a:t>Coccus: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  <a:p>
            <a:pPr lvl="1" marL="1015920" indent="-5713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b23"/>
                </a:solidFill>
                <a:latin typeface="Baskerville"/>
                <a:ea typeface="Baskerville"/>
              </a:rPr>
              <a:t>Rounded and occur in colonies or strands.</a:t>
            </a:r>
            <a:endParaRPr b="0" i="1" lang="en-US" sz="24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ama</cp:lastModifiedBy>
  <dcterms:modified xsi:type="dcterms:W3CDTF">2012-09-09T19:00:42Z</dcterms:modified>
  <cp:revision>1</cp:revision>
  <dc:subject/>
  <dc:title>Lab1: Microscopy &amp; Cellular structure</dc:title>
</cp:coreProperties>
</file>