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A57-B960-45AB-8594-67FDAC54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1DB-9A18-41D6-BD90-9A8B9186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04D-67AA-4AE5-AC4E-DE64B4CB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745-AA50-490A-BD2E-ABDD7B15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F11-98A6-41AA-A492-3C49FA0C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881-F799-493F-8BD1-1C651A29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A22-1B41-4B1E-8368-2ACA394C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C24-9541-4A38-9766-70782ACB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C4E-15A8-4F17-B9DD-5A33AB1E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428-E2D3-4984-BE93-86A8488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B50-2D97-4837-BBCC-0BFC5AB7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77F-925D-45C0-9CB4-46345A3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C323-8BF8-43BD-AE7E-96C8556A6A6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صورة 4" descr="IMG_020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صورة 3" descr="IMG_0207.png"/>
          <p:cNvPicPr/>
          <p:nvPr/>
        </p:nvPicPr>
        <p:blipFill>
          <a:blip r:embed="rId2"/>
          <a:stretch/>
        </p:blipFill>
        <p:spPr>
          <a:xfrm>
            <a:off x="299880" y="2998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3" descr="IMG_0205.png"/>
          <p:cNvPicPr/>
          <p:nvPr/>
        </p:nvPicPr>
        <p:blipFill>
          <a:blip r:embed="rId2"/>
          <a:stretch/>
        </p:blipFill>
        <p:spPr>
          <a:xfrm>
            <a:off x="149400" y="149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22:57Z</dcterms:created>
  <dc:creator>ندا بنت حسن الحميد</dc:creator>
  <dc:description/>
  <dc:language>en-US</dc:language>
  <cp:lastModifiedBy>ندا بنت حسن الحميد</cp:lastModifiedBy>
  <dcterms:modified xsi:type="dcterms:W3CDTF">2012-10-04T15:27:00Z</dcterms:modified>
  <cp:revision>1</cp:revision>
  <dc:subject/>
  <dc:title>الشريحة 1</dc:title>
</cp:coreProperties>
</file>