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762-B76F-4F62-9AF3-EFC732C5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E7D-665A-4012-ACC5-6616C307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A28-F465-41BF-AACA-C8DC7645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D57-10A8-4825-A982-B3C7F252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BF4-5BE8-4578-AC8E-DDDFE769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C73-5705-4F8C-BE6F-2CD0AC6E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A58-2B42-4969-8611-B8330DB5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64A-346E-4EA0-83DE-6048D13C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92D-60D5-4F52-BD41-B8B84B4A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0AE-097C-47A1-9531-36034198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6BC-9CF3-4AEA-84ED-CBD43433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1D6-F656-49D1-8A84-E443E04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C0C3-A2E3-41B1-B45B-CEC8AAB847D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صورة 4" descr="IMG_020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صورة 3" descr="IMG_0207.png"/>
          <p:cNvPicPr/>
          <p:nvPr/>
        </p:nvPicPr>
        <p:blipFill>
          <a:blip r:embed="rId2"/>
          <a:stretch/>
        </p:blipFill>
        <p:spPr>
          <a:xfrm>
            <a:off x="299880" y="2998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3" descr="IMG_0205.png"/>
          <p:cNvPicPr/>
          <p:nvPr/>
        </p:nvPicPr>
        <p:blipFill>
          <a:blip r:embed="rId2"/>
          <a:stretch/>
        </p:blipFill>
        <p:spPr>
          <a:xfrm>
            <a:off x="149400" y="149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22:57Z</dcterms:created>
  <dc:creator>ندا بنت حسن الحميد</dc:creator>
  <dc:description/>
  <dc:language>en-US</dc:language>
  <cp:lastModifiedBy>ندا بنت حسن الحميد</cp:lastModifiedBy>
  <dcterms:modified xsi:type="dcterms:W3CDTF">2012-10-04T15:27:00Z</dcterms:modified>
  <cp:revision>1</cp:revision>
  <dc:subject/>
  <dc:title>الشريحة 1</dc:title>
</cp:coreProperties>
</file>