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17.png" ContentType="image/png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8869-75B7-450D-AFAC-5C86993D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1D6-A5E1-4E46-AD0B-DE78778E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E851-4459-4638-A9D8-F575F870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48F-454A-4271-BBF5-179C8C0F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C130-13F8-4B84-B8D6-6C84B0D2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1B2C-1B66-4199-8127-982E43CF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7D0A-C47F-4051-B1FD-91894976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5CF0-59AE-4D59-B4E6-042A1A5E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F32E-AFF9-47A7-BDBE-A53DECC9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509A-6D3A-4072-813E-AFD70E91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57B4-CFD3-4F1C-891B-BA263F52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A44-DF92-434B-88B3-D7DD262C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444E-827D-4B85-88B8-A92F3ED6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3214-4826-40B2-82B7-65F17EEF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F071-5E36-4495-B336-13D46DDC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7981-11F5-42CF-BB9A-BE60B342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253E-5E21-4583-8877-242DA32F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8C13F-58FF-43DE-8E4B-8AF0FEB1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868BA-AA97-48F6-AFB9-4B3ABABF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8DEDA-35A3-4546-89DD-54F862E5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0D1E6-8765-4615-8D24-70BF3A6F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3602E-A601-49BF-83E3-B5CB2FA9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480-D658-47B5-B087-33989BA8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2C895-64C4-4830-97C1-D4DD55B4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439F4-416B-44BD-B2D0-A89E504E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C9395-C662-46C9-87DD-4CD483E9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A9742-F4C5-4FCE-91E4-04B3F613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1E822-4C00-4AF6-AC2F-D642CF60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3DE5C-2641-4C04-A831-593923A3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D8A02-3DFD-4C44-9D4D-6B117A4F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57545-70BD-48AF-B59F-DD5C9A0A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9930A-683E-44A6-A965-E29DFF06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7CBD0-959D-4300-99D1-589D68D9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123-6F48-4C0D-9C6D-829670EA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5F076-A2A0-4EF7-96D0-5C277E7D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4ABF1-0C73-45D4-9183-E0365013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DCA41-08BC-4A5E-8AD1-ED621CBF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75A98-DF5E-4747-BE98-98795677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2E19D-38C4-4C24-93CF-D5F2D090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B097E-3C3B-4110-8D2E-A40E757A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40660-0EDA-4A25-92B7-D0AE5597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9D0ED-18E9-4A9E-95BF-7DF92322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D9D81-A094-462A-BD5D-0A49BE89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F43C9-A454-4A8B-B090-420E6D22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0C2-D7EE-4F00-B5E8-FA1F6EF0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CC2C2-8DED-4EFF-9DDE-555E2152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CAD3A-834E-4082-BF3A-3A758BC3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60810-AF1C-4BBB-8587-F5018A31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2A713-D453-4503-B36A-DE17EFAA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70308-47DB-47A9-91B0-3DC93B72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B5EFA-C68E-41EB-A6D1-AFB2D8B5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C580A-6E06-4587-B6CA-7E3C4F14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FB745-2637-4FC1-AD4C-94E59155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3B03A-2EBE-4538-9160-38F5455D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D186A-8DAB-43F0-93E3-94DD5992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65A8-695A-45D2-952D-23F162F5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75902-57AA-40D2-A7F5-98CCFB5C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F25FE-AD50-4376-8F35-2D385B80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DEDAF-8F58-4A71-BC09-7FBBE7A1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19389-E55C-4251-96DA-95CB4DEE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3C7CE-7EAC-41CC-B83E-F16B6078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3136F-F8EE-49D7-AD3B-75B150BC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60D86-10BB-4AE2-9395-5E57256F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870E9-CC2F-4A39-877A-E86BAB31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01C0D-4A66-441D-B562-E7AFAE57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49D45-F940-4539-AD02-EB4DF2F9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90B-0F8E-4D2B-BA93-3F66E95A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1E84F-9B3C-4CDD-8445-BD574740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12BB4-0275-4338-947B-B8EDEEE3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7B947-FDE4-4EE6-9AB8-0CB55801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FFF-ECC9-4D9F-B97A-E1F4E595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7CEE-A8AE-4B9A-9008-BFE4DA05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FAA7-5A69-4114-9011-1D4A309D8CA1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شكل حر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شكل حر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18DE-A6E2-4DE3-9013-F6242DEC31C4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شكل حر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شكل حر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6B27-BFCA-4056-A68C-1833C19B6CC2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1892-8513-4907-B503-30E074C9A2B1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B0E2-C85F-44D5-B945-5A8170FE14D7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00C5-052C-4E6C-814F-876713DE4008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689040" y="189000"/>
            <a:ext cx="7772400" cy="2230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financial_planning"/>
          <p:cNvPicPr/>
          <p:nvPr/>
        </p:nvPicPr>
        <p:blipFill>
          <a:blip r:embed="rId2"/>
          <a:stretch/>
        </p:blipFill>
        <p:spPr>
          <a:xfrm>
            <a:off x="0" y="2708280"/>
            <a:ext cx="9144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عنصر نائب للمحتوى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791920" cy="5840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dollar"/>
          <p:cNvPicPr/>
          <p:nvPr/>
        </p:nvPicPr>
        <p:blipFill>
          <a:blip r:embed="rId2"/>
          <a:stretch/>
        </p:blipFill>
        <p:spPr>
          <a:xfrm>
            <a:off x="3419640" y="2565360"/>
            <a:ext cx="24606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3" name="عنصر نائب للمحتوى 1" descr=""/>
          <p:cNvPicPr/>
          <p:nvPr/>
        </p:nvPicPr>
        <p:blipFill>
          <a:blip r:embed="rId1"/>
          <a:stretch/>
        </p:blipFill>
        <p:spPr>
          <a:xfrm>
            <a:off x="42840" y="146160"/>
            <a:ext cx="8997840" cy="5979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C:\Users\General\AppData\Local\Microsoft\Windows\Temporary Internet Files\Content.IE5\ZF1RAK9B\MP900430503[1].jpg"/>
          <p:cNvPicPr/>
          <p:nvPr/>
        </p:nvPicPr>
        <p:blipFill>
          <a:blip r:embed="rId2"/>
          <a:stretch/>
        </p:blipFill>
        <p:spPr>
          <a:xfrm>
            <a:off x="3116160" y="2349360"/>
            <a:ext cx="2737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رسم تخطيطي 1" descr=""/>
          <p:cNvPicPr/>
          <p:nvPr/>
        </p:nvPicPr>
        <p:blipFill>
          <a:blip r:embed="rId1"/>
          <a:stretch/>
        </p:blipFill>
        <p:spPr>
          <a:xfrm>
            <a:off x="30240" y="262080"/>
            <a:ext cx="8901000" cy="6333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C:\Program Files\Microsoft Office\MEDIA\CAGCAT10\j0195384.wmf"/>
          <p:cNvPicPr/>
          <p:nvPr/>
        </p:nvPicPr>
        <p:blipFill>
          <a:blip r:embed="rId2"/>
          <a:stretch/>
        </p:blipFill>
        <p:spPr>
          <a:xfrm>
            <a:off x="7020000" y="260280"/>
            <a:ext cx="1795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مستطيل 2"/>
          <p:cNvSpPr/>
          <p:nvPr/>
        </p:nvSpPr>
        <p:spPr>
          <a:xfrm>
            <a:off x="1979640" y="620640"/>
            <a:ext cx="5113440" cy="5238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4" descr="News_Paper_Employe"/>
          <p:cNvPicPr/>
          <p:nvPr/>
        </p:nvPicPr>
        <p:blipFill>
          <a:blip r:embed="rId1"/>
          <a:stretch/>
        </p:blipFill>
        <p:spPr>
          <a:xfrm>
            <a:off x="1042920" y="3638520"/>
            <a:ext cx="6881760" cy="3219480"/>
          </a:xfrm>
          <a:prstGeom prst="rect">
            <a:avLst/>
          </a:prstGeom>
          <a:ln w="0">
            <a:noFill/>
          </a:ln>
        </p:spPr>
      </p:pic>
      <p:sp>
        <p:nvSpPr>
          <p:cNvPr id="289" name="مربع نص 1"/>
          <p:cNvSpPr/>
          <p:nvPr/>
        </p:nvSpPr>
        <p:spPr>
          <a:xfrm>
            <a:off x="1763640" y="62064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Times New Roman"/>
                <a:cs typeface="Arial"/>
              </a:rPr>
              <a:t>الخطوة الثالثة: تصويب الانحراف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سهم إلى اليمين 3"/>
          <p:cNvSpPr/>
          <p:nvPr/>
        </p:nvSpPr>
        <p:spPr>
          <a:xfrm rot="18400800">
            <a:off x="1033920" y="1757520"/>
            <a:ext cx="2425680" cy="17798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Tahoma"/>
              </a:rPr>
              <a:t>ايجاب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3580920"/>
            <a:ext cx="746748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سهم إلى اليمين 7"/>
          <p:cNvSpPr/>
          <p:nvPr/>
        </p:nvSpPr>
        <p:spPr>
          <a:xfrm rot="18559800">
            <a:off x="3468960" y="1607400"/>
            <a:ext cx="1913040" cy="151128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Tahoma"/>
              </a:rPr>
              <a:t>سلب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1814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التزام المرؤوسي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مناسبة الاقتراحات للإمكانيات المتاح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ايجابية النتائج المحققة عن هذه الاجراءات المستجد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مستطيل 1"/>
          <p:cNvSpPr/>
          <p:nvPr/>
        </p:nvSpPr>
        <p:spPr>
          <a:xfrm>
            <a:off x="3059280" y="620640"/>
            <a:ext cx="5616360" cy="8064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00000"/>
                </a:solidFill>
                <a:latin typeface="Arial"/>
                <a:cs typeface="Tahoma"/>
              </a:rPr>
              <a:t>الخطوة الرابعة: اقتراح الحلول البديل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مستطيل 2"/>
          <p:cNvSpPr/>
          <p:nvPr/>
        </p:nvSpPr>
        <p:spPr>
          <a:xfrm>
            <a:off x="3882960" y="2581200"/>
            <a:ext cx="4827600" cy="9144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00000"/>
                </a:solidFill>
                <a:latin typeface="Arial"/>
                <a:cs typeface="Tahoma"/>
              </a:rPr>
              <a:t>الخطوة الخامسة: المتابع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684360" y="1023840"/>
            <a:ext cx="177156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00b0f0"/>
                </a:solidFill>
                <a:latin typeface="Franklin Gothic Book"/>
              </a:rPr>
              <a:t>المحتويات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مفهوم الرقا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فوائد الرقا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خطوات عملية الرقابة الإدا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أنواع الرقا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خصائص الرقابة الفعال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تعريف الرقابة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تنسيق1"/>
          <p:cNvPicPr/>
          <p:nvPr/>
        </p:nvPicPr>
        <p:blipFill>
          <a:blip r:embed="rId1"/>
          <a:stretch/>
        </p:blipFill>
        <p:spPr>
          <a:xfrm>
            <a:off x="0" y="4108320"/>
            <a:ext cx="9144000" cy="2749680"/>
          </a:xfrm>
          <a:prstGeom prst="rect">
            <a:avLst/>
          </a:prstGeom>
          <a:ln w="0">
            <a:noFill/>
          </a:ln>
        </p:spPr>
      </p:pic>
      <p:sp>
        <p:nvSpPr>
          <p:cNvPr id="261" name="شكل بيضاوي 3"/>
          <p:cNvSpPr/>
          <p:nvPr/>
        </p:nvSpPr>
        <p:spPr>
          <a:xfrm>
            <a:off x="539640" y="1341360"/>
            <a:ext cx="6912000" cy="251928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Tahoma"/>
              </a:rPr>
              <a:t>هو التأكد من أن كل شيء في المنظمة يتم وفق الخطط الموضوعة , والتعليمات الصادرة, والمبادئ المعتمدة, وذلك لهدف كشف مواطن الضعف وتصحيحها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أنواع الانحرافات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سلبية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إيجابية الغير مقبولة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علم وفن"/>
          <p:cNvPicPr/>
          <p:nvPr/>
        </p:nvPicPr>
        <p:blipFill>
          <a:blip r:embed="rId1"/>
          <a:stretch/>
        </p:blipFill>
        <p:spPr>
          <a:xfrm>
            <a:off x="0" y="3753000"/>
            <a:ext cx="89647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رسم تخطيطي 1" descr=""/>
          <p:cNvPicPr/>
          <p:nvPr/>
        </p:nvPicPr>
        <p:blipFill>
          <a:blip r:embed="rId1"/>
          <a:stretch/>
        </p:blipFill>
        <p:spPr>
          <a:xfrm>
            <a:off x="249120" y="500040"/>
            <a:ext cx="8510760" cy="5145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C:\Program Files\Microsoft Office\MEDIA\CAGCAT10\j0195812.wmf"/>
          <p:cNvPicPr/>
          <p:nvPr/>
        </p:nvPicPr>
        <p:blipFill>
          <a:blip r:embed="rId2"/>
          <a:stretch/>
        </p:blipFill>
        <p:spPr>
          <a:xfrm>
            <a:off x="3635280" y="3068640"/>
            <a:ext cx="177336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91520" cy="12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صنفي الجهات التالية إلى جهات رقابية داخلية وجهات رقابية خارجية ؟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16280"/>
            <a:ext cx="74674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مشرف على العمال بالمصن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ديوان المراقبة العام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رئيس قسم التسويق على مرؤوسين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team-work"/>
          <p:cNvPicPr/>
          <p:nvPr/>
        </p:nvPicPr>
        <p:blipFill>
          <a:blip r:embed="rId1"/>
          <a:stretch/>
        </p:blipFill>
        <p:spPr>
          <a:xfrm>
            <a:off x="0" y="447660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7467480" cy="1009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أولاً: فوائد الرقابة للمنظمة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560" y="1484280"/>
            <a:ext cx="8713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التأكد من مدى تحقيق الأهداف للخطط المرسوم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التأكد من مدى مطابقة الأداء الفعلي لمسارات الخطط المرسوم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التأكد من مناسبة الموارد البشرية ، والمادية ، لمتطلبات الخطط (كما ونوعا ووقتا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التأكد من الاستخدام الكفء للموار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C:\Program Files\Microsoft Office\MEDIA\CAGCAT10\j0217698.wmf"/>
          <p:cNvPicPr/>
          <p:nvPr/>
        </p:nvPicPr>
        <p:blipFill>
          <a:blip r:embed="rId1"/>
          <a:stretch/>
        </p:blipFill>
        <p:spPr>
          <a:xfrm>
            <a:off x="1476360" y="4076640"/>
            <a:ext cx="17463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Franklin Gothic Book"/>
              </a:rPr>
              <a:t>ثانياً: فوائد الرقابة للأفراد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9280" y="162828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طمئنان العامل الكفء لعدالة عملية المراقبة عند تقييم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طمئنان العامل المقصر لعدالة عملية المراقبة عند تقييم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فظ الحقوق لجمهور المتعاملين مع المنظ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15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Franklin Gothic Book"/>
              </a:rPr>
              <a:t>خطوات الرقابة الإدارية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8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547640" y="1487520"/>
            <a:ext cx="7272360" cy="4614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work-stress"/>
          <p:cNvPicPr/>
          <p:nvPr/>
        </p:nvPicPr>
        <p:blipFill>
          <a:blip r:embed="rId2"/>
          <a:stretch/>
        </p:blipFill>
        <p:spPr>
          <a:xfrm>
            <a:off x="0" y="0"/>
            <a:ext cx="154764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1:15:47Z</dcterms:created>
  <dc:creator/>
  <dc:description/>
  <dc:language>en-US</dc:language>
  <cp:lastModifiedBy/>
  <dcterms:modified xsi:type="dcterms:W3CDTF">2017-11-15T04:29:32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