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png" ContentType="image/pn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DED1-D24B-4FA3-BAA0-86206D66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D3AD-BF5A-41B5-8159-D34F6A1A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73D-4838-49C7-945F-A5AEFB4D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CCF-DF76-4398-AFCC-1116FF07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D8AB-BED5-4B18-8FD0-64F1ED8F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154F-05B4-44E0-884F-66F0ED5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A6C6-6407-4C02-B31E-2973210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46EF-09B2-4E37-9A9E-0A419FB3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FF61-41B0-4989-B436-E542E304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3D5-C84B-4741-8342-EC8A3AE2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19A6-699C-4269-829D-0F5ABF1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0BD-3E14-4536-B0EF-EADC73A4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5B4C-5704-4D44-89E5-7C6E976E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97CE-F9EF-4FD2-BE82-3F71254E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015-B219-48A2-96F6-AB388F1E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4D31-5ACF-4423-8FC8-3E60E9EB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C953-3374-4D90-A389-AE0B28A3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F879-ED9C-4B2B-B3C3-DEE8D5AD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648D-8E1B-4BAE-AE5E-436C08F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493AE-1685-40F1-A68A-B403CB62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10A2-8B11-4854-8FA4-5273B267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B5C2-BE03-43C2-AD96-9658D4A6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8F39-3DB4-4148-843C-29B4E16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3AED1-62E6-4EA6-972B-E131C0AF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72D3-6F0F-4241-9C76-FB8B621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13D8-2714-43BF-BB41-58F8CC1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6CA2-1A03-48E0-9656-01DFEE7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D5ED-A432-438D-9751-212774E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2AF3-A8BB-44E5-81AA-4B5CC8FD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0C7F2-F999-4723-8375-E0743388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4B15-717F-4727-9883-BD9DF088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18190-C71D-4159-9DF2-26C9E82B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2E5B-11ED-4475-A67F-130F288E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4CB7-DB94-47C0-A7C1-0794FD84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D1966-1335-4BFE-96C0-BDE8CD7D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0FAB-4B91-47A5-99F4-B14160C4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1E6B5-D6BE-4512-80EF-5777DD3D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9284-E4EB-4A7A-A7E2-155DC3A2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77452-E6B9-49C3-9624-67EA97B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2EB0-1956-41AB-818B-BA52AA94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8ECD3-9F6A-4651-A86C-54016311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88463-EF64-4100-845D-4C29688A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6A03-267D-44E4-AA14-0DA32467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67124-EC4C-41CD-A801-6DBAEEE4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1D6-E4ED-4B06-AF09-FAEAB38C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A62D4-1A10-4286-A5A2-D83E0CF8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0561-1692-4C7E-92E9-EF08B1C4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1E5CB-BCA4-4BCA-BCB3-F1FDAF1A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DAAB6-9E1C-4BD8-93F0-AB08F788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DDBFE-8169-4D29-9F59-C6142FD9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993F4-FF10-444F-9B07-E1070380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E4F7-6B6E-4480-A491-4992F83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9D5A-4971-4B8F-BD8A-AB6FD514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F155D-D40A-4930-8E28-CDBDC22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696D-18B4-45FF-BEA4-FC0BCA1B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0E5-C463-40DE-97A0-DACD5B0C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12915-90E5-44E8-ABE5-59495CD3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C2EDA-12CF-4B37-A585-3F5C2776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5B00C-3F88-432B-995B-88258DD7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0077-FD83-4FB5-9E94-794670F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E6833-91CC-4214-A5B7-85798F76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BD19-1A24-4B43-87B1-F8D805FF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41C4B-375C-490E-9484-86A3D6CC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4A507-7F7F-4FEE-97E3-E1D3F9B5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76F6-07FC-48F7-B96C-629A781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E504F-A010-457D-93BE-55E36B76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D27-9520-4A71-BF30-98765F7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50405-A065-48F7-9CBB-6A481513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EBA6-5B82-4195-9938-2ADD122D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9F36D-D8AF-46E5-B3EE-763FA867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A215-A350-497B-8CAE-688550A6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4A3-C59A-412B-AF5B-3EF9D30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6BF0-60BB-403B-9AF5-3EECC649E63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F361-DA09-42E8-B0E7-5AF6C63D6F8E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شكل حر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شكل حر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DAE8-E1FE-4DB4-A713-CAAF25BD5362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844B-5FFC-4E55-9BFF-5059E2428014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شكل حر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شكل حر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169C-076B-4572-AAAF-3863B2AB1BB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 algn="r" rtl="1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 algn="r" rtl="1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 algn="r" rtl="1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 algn="r" rtl="1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 algn="r" rtl="1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B137-8806-47E8-A2DE-AF1C34238B61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689040" y="189000"/>
            <a:ext cx="7772400" cy="2230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financial_planning"/>
          <p:cNvPicPr/>
          <p:nvPr/>
        </p:nvPicPr>
        <p:blipFill>
          <a:blip r:embed="rId2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عنصر نائب للمحتوى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791920" cy="584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dollar"/>
          <p:cNvPicPr/>
          <p:nvPr/>
        </p:nvPicPr>
        <p:blipFill>
          <a:blip r:embed="rId2"/>
          <a:stretch/>
        </p:blipFill>
        <p:spPr>
          <a:xfrm>
            <a:off x="3419640" y="2565360"/>
            <a:ext cx="24606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3" name="عنصر نائب للمحتوى 1" descr=""/>
          <p:cNvPicPr/>
          <p:nvPr/>
        </p:nvPicPr>
        <p:blipFill>
          <a:blip r:embed="rId1"/>
          <a:stretch/>
        </p:blipFill>
        <p:spPr>
          <a:xfrm>
            <a:off x="42840" y="146160"/>
            <a:ext cx="8997840" cy="59799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C:\Users\General\AppData\Local\Microsoft\Windows\Temporary Internet Files\Content.IE5\ZF1RAK9B\MP900430503[1].jpg"/>
          <p:cNvPicPr/>
          <p:nvPr/>
        </p:nvPicPr>
        <p:blipFill>
          <a:blip r:embed="rId2"/>
          <a:stretch/>
        </p:blipFill>
        <p:spPr>
          <a:xfrm>
            <a:off x="3116160" y="2349360"/>
            <a:ext cx="2737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رسم تخطيطي 1" descr=""/>
          <p:cNvPicPr/>
          <p:nvPr/>
        </p:nvPicPr>
        <p:blipFill>
          <a:blip r:embed="rId1"/>
          <a:stretch/>
        </p:blipFill>
        <p:spPr>
          <a:xfrm>
            <a:off x="30240" y="262080"/>
            <a:ext cx="8901000" cy="6333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C:\Program Files\Microsoft Office\MEDIA\CAGCAT10\j0195384.wmf"/>
          <p:cNvPicPr/>
          <p:nvPr/>
        </p:nvPicPr>
        <p:blipFill>
          <a:blip r:embed="rId2"/>
          <a:stretch/>
        </p:blipFill>
        <p:spPr>
          <a:xfrm>
            <a:off x="7020000" y="260280"/>
            <a:ext cx="1795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مستطيل 2"/>
          <p:cNvSpPr/>
          <p:nvPr/>
        </p:nvSpPr>
        <p:spPr>
          <a:xfrm>
            <a:off x="1979640" y="620640"/>
            <a:ext cx="5113440" cy="5238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Picture 4" descr="News_Paper_Employe"/>
          <p:cNvPicPr/>
          <p:nvPr/>
        </p:nvPicPr>
        <p:blipFill>
          <a:blip r:embed="rId1"/>
          <a:stretch/>
        </p:blipFill>
        <p:spPr>
          <a:xfrm>
            <a:off x="1042920" y="3638520"/>
            <a:ext cx="6881760" cy="3219480"/>
          </a:xfrm>
          <a:prstGeom prst="rect">
            <a:avLst/>
          </a:prstGeom>
          <a:ln w="0">
            <a:noFill/>
          </a:ln>
        </p:spPr>
      </p:pic>
      <p:sp>
        <p:nvSpPr>
          <p:cNvPr id="289" name="مربع نص 1"/>
          <p:cNvSpPr/>
          <p:nvPr/>
        </p:nvSpPr>
        <p:spPr>
          <a:xfrm>
            <a:off x="1763640" y="62064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0000"/>
                </a:solidFill>
                <a:latin typeface="Times New Roman"/>
                <a:cs typeface="Arial"/>
              </a:rPr>
              <a:t>الخطوة الثالثة: تصويب الانحراف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سهم إلى اليمين 3"/>
          <p:cNvSpPr/>
          <p:nvPr/>
        </p:nvSpPr>
        <p:spPr>
          <a:xfrm rot="18400800">
            <a:off x="1033920" y="1757520"/>
            <a:ext cx="2425680" cy="17798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ايجا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3580920"/>
            <a:ext cx="746748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سهم إلى اليمين 7"/>
          <p:cNvSpPr/>
          <p:nvPr/>
        </p:nvSpPr>
        <p:spPr>
          <a:xfrm rot="18559800">
            <a:off x="3468960" y="1607400"/>
            <a:ext cx="1913040" cy="15112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  <a:cs typeface="Tahoma"/>
              </a:rPr>
              <a:t>سلب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1814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لتزام المرؤوسي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مناسبة الاقتراحات للإمكانيات المتاح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دى ايجابية النتائج المحققة عن هذه الاجراءات المستجد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مستطيل 1"/>
          <p:cNvSpPr/>
          <p:nvPr/>
        </p:nvSpPr>
        <p:spPr>
          <a:xfrm>
            <a:off x="3059280" y="620640"/>
            <a:ext cx="5616360" cy="806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رابعة: 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مستطيل 2"/>
          <p:cNvSpPr/>
          <p:nvPr/>
        </p:nvSpPr>
        <p:spPr>
          <a:xfrm>
            <a:off x="3882960" y="2581200"/>
            <a:ext cx="4827600" cy="91440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00000"/>
                </a:solidFill>
                <a:latin typeface="Arial"/>
                <a:cs typeface="Tahoma"/>
              </a:rPr>
              <a:t>الخطوة الخامسة: المتابع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Picture 4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84360" y="1023840"/>
            <a:ext cx="17715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b0f0"/>
                </a:solidFill>
                <a:latin typeface="Franklin Gothic Book"/>
              </a:rPr>
              <a:t>المحتويات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مفهوم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فوائد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خطوات عملية الرقابة الإدا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أنواع الرقا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خصائص الرقابة الفع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تعريف الرقاب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تنسيق1"/>
          <p:cNvPicPr/>
          <p:nvPr/>
        </p:nvPicPr>
        <p:blipFill>
          <a:blip r:embed="rId1"/>
          <a:stretch/>
        </p:blipFill>
        <p:spPr>
          <a:xfrm>
            <a:off x="0" y="4108320"/>
            <a:ext cx="9144000" cy="2749680"/>
          </a:xfrm>
          <a:prstGeom prst="rect">
            <a:avLst/>
          </a:prstGeom>
          <a:ln w="0">
            <a:noFill/>
          </a:ln>
        </p:spPr>
      </p:pic>
      <p:sp>
        <p:nvSpPr>
          <p:cNvPr id="261" name="شكل بيضاوي 3"/>
          <p:cNvSpPr/>
          <p:nvPr/>
        </p:nvSpPr>
        <p:spPr>
          <a:xfrm>
            <a:off x="539640" y="1341360"/>
            <a:ext cx="6912000" cy="251928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  <a:cs typeface="Tahoma"/>
              </a:rPr>
              <a:t>هو التأكد من أن كل شيء في المنظمة يتم وفق الخطط الموضوعة , والتعليمات الصادرة, والمبادئ المعتمدة, وذلك لهدف كشف مواطن الضعف وتصحيح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نواع الانحرافات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سلبي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إيجابية الغير مقبولة 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علم وفن"/>
          <p:cNvPicPr/>
          <p:nvPr/>
        </p:nvPicPr>
        <p:blipFill>
          <a:blip r:embed="rId1"/>
          <a:stretch/>
        </p:blipFill>
        <p:spPr>
          <a:xfrm>
            <a:off x="0" y="3753000"/>
            <a:ext cx="8964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رسم تخطيطي 1" descr=""/>
          <p:cNvPicPr/>
          <p:nvPr/>
        </p:nvPicPr>
        <p:blipFill>
          <a:blip r:embed="rId1"/>
          <a:stretch/>
        </p:blipFill>
        <p:spPr>
          <a:xfrm>
            <a:off x="249120" y="500040"/>
            <a:ext cx="8510760" cy="5145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C:\Program Files\Microsoft Office\MEDIA\CAGCAT10\j0195812.wmf"/>
          <p:cNvPicPr/>
          <p:nvPr/>
        </p:nvPicPr>
        <p:blipFill>
          <a:blip r:embed="rId2"/>
          <a:stretch/>
        </p:blipFill>
        <p:spPr>
          <a:xfrm>
            <a:off x="3635280" y="3068640"/>
            <a:ext cx="177336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9152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صنفي الجهات التالية إلى جهات رقابية داخلية وجهات رقابية خارجية 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16280"/>
            <a:ext cx="7467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مشرف على العمال بالمصن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ديوان المراقبة العام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رئيس قسم التسويق على مرؤوسين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r" rtl="1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team-work"/>
          <p:cNvPicPr/>
          <p:nvPr/>
        </p:nvPicPr>
        <p:blipFill>
          <a:blip r:embed="rId1"/>
          <a:stretch/>
        </p:blipFill>
        <p:spPr>
          <a:xfrm>
            <a:off x="0" y="447660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7467480" cy="1009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c00000"/>
                </a:solidFill>
                <a:latin typeface="Franklin Gothic Book"/>
              </a:rPr>
              <a:t>أولاً: فوائد الرقابة للمنظمة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دى تحقيق الأهداف للخطط المرسوم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دى مطابقة الأداء الفعلي لمسارات الخطط المرسوم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مناسبة الموارد البشرية ، والمادية ، لمتطلبات الخطط (كما ونوعا ووقتا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 algn="r" rtl="1">
              <a:lnSpc>
                <a:spcPct val="15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التأكد من الاستخدام الكفء للموار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1476360" y="4076640"/>
            <a:ext cx="17463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Franklin Gothic Book"/>
              </a:rPr>
              <a:t>ثانياً: فوائد الرقابة للأفراد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280" y="1628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كفء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طمئنان العامل المقصر لعدالة عملية المراقبة عند تقييم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2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فظ الحقوق ل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lnSpc>
                <a:spcPct val="15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 algn="r" rtl="1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Franklin Gothic Book"/>
              </a:rPr>
              <a:t>خطوات الرقابة الإدارية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8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547640" y="1487520"/>
            <a:ext cx="7272360" cy="46148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work-stress"/>
          <p:cNvPicPr/>
          <p:nvPr/>
        </p:nvPicPr>
        <p:blipFill>
          <a:blip r:embed="rId2"/>
          <a:stretch/>
        </p:blipFill>
        <p:spPr>
          <a:xfrm>
            <a:off x="0" y="0"/>
            <a:ext cx="1547640" cy="66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5:47Z</dcterms:created>
  <dc:creator/>
  <dc:description/>
  <dc:language>en-US</dc:language>
  <cp:lastModifiedBy/>
  <dcterms:modified xsi:type="dcterms:W3CDTF">2017-11-15T04:29:32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