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217B-5BAB-4021-A12B-CE493D5E5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21C6-A711-401E-A645-C93CCB952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855B-3673-4C88-916B-3E9E4A52C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219A-9FDE-481E-96E8-07FF8FF9B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C2DA-602C-48DF-A738-22635F593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EE0F-8CEE-4C56-A34A-021C4901A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819E-BD97-4822-99C9-0EE809EA0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3978-E13E-46D6-90BF-62D741727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184D-211B-4AFA-94E8-B56AAFF08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32C6-F817-4512-9F8B-5555D0877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E9FE-B33E-495A-9C3B-151684692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9554-DE79-4E7A-9C85-18DEDE388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BD02-01BC-41CA-89E7-CC75B07B0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B013-C72F-4666-B8DB-7B985F2FD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57CF-A157-4424-8FD2-7D858376D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199D-D359-42D4-B755-5D6C83804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C68C-4A32-4A37-8952-6C7AFD7B9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32D7-FD60-4537-84A1-7AC0D034A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A788-566B-4F8D-B140-9C5F2AB82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73BD-FA1E-47F7-A472-1BD64C97C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22DB-D27D-4378-9DA2-50D1082C1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1B86-0193-4228-B428-D368F9D8B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B3D7-0843-407F-A88D-18E3211FD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4610-DEC9-466E-A7DD-2B931617F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7E1E-6704-4079-AC6B-5F9DC1325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DAFD-9959-409D-B0E6-F25F1C7DE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DCDD-01BF-4704-99CB-B234418B1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B8B9-E041-4B5C-A29D-F0AC5D494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1BB8-8704-418B-8739-1FFAB09F3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0347-300B-4D62-BC9F-CEC527818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7C96-E493-486F-A995-5E213B6E8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AC6D-6147-4694-8655-5CEF4BDF3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2E22-6239-4008-B65A-1105347A5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5D42-BD06-49F8-94F9-A35F321FA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80A3-66C5-457A-83DD-D251EBA29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41CE-6596-41C6-BA60-6A6045F3B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D04E-5600-4E80-9D9C-23D5E3A57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56DA-9118-494B-AA73-DB0EF6F1E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DE1E-F92A-40E1-9213-8EA9B4472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6570-504A-4A3A-A98B-7CC09112B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52C0-7469-44B8-8E70-039C64D20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AD54-1A78-4AA1-A0D4-8B828FD0E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E14B4-036E-4C40-BA60-DD96553F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CD4D7-5367-4608-AE06-A0E27D41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DE01B-C2E5-45BE-A2D8-576A6CCF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37E4B-5A70-4F44-B37A-CE300826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07CC-05E1-4F43-A6AF-2351F1F9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2026-D337-47A7-BD74-E846C555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12AC-F823-49F4-B204-DD1D895E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BA2F-CEF4-4AA6-9723-7DE62AAB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2D12-A1A3-4CC7-9FB1-24005D19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2A59-B6BB-4625-A57C-CBE76C71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0CDD-4B4A-45E6-9EA9-C613D207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BE02A-0106-4564-A617-80537CD1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A9A6-AE29-4DC9-8C64-D482881B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9B9E-F5B7-4EEB-8129-1C2986D1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3AF2-913F-4E53-A01A-72E318D2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11B5-CAEC-45E2-9D34-5366091A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3587-4F56-45DF-8D3E-A71F1AD6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64350-005A-423E-8F1D-C32C2DF6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E63F5-13C4-46BF-839F-6A1BA59C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39F3A-7DFB-4C89-9F12-A31000AC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DC07B-47A3-4AAA-B2E3-6EFEFCE2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6ADCE-74D7-48DC-8C45-95A896A4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07DA8-EBC4-443A-93BC-226C7006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5A629-B8C5-4417-BAC3-2F05BAE5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4AA8-E92B-476A-85EC-12BCCF7E75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42"/>
          <p:cNvSpPr/>
          <p:nvPr/>
        </p:nvSpPr>
        <p:spPr>
          <a:xfrm>
            <a:off x="380880" y="68580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47"/>
          <p:cNvSpPr/>
          <p:nvPr/>
        </p:nvSpPr>
        <p:spPr>
          <a:xfrm>
            <a:off x="380880" y="165240"/>
            <a:ext cx="8305920" cy="41904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29019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ftware Architecture: Foundations, Theory, and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2"/>
          <p:cNvSpPr/>
          <p:nvPr/>
        </p:nvSpPr>
        <p:spPr>
          <a:xfrm rot="5400000">
            <a:off x="-2019240" y="3162240"/>
            <a:ext cx="487656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3886200" y="655308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64"/>
          <p:cNvSpPr/>
          <p:nvPr/>
        </p:nvSpPr>
        <p:spPr>
          <a:xfrm rot="5400000">
            <a:off x="6400800" y="4190760"/>
            <a:ext cx="464796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9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0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1"/>
          <p:cNvSpPr/>
          <p:nvPr/>
        </p:nvSpPr>
        <p:spPr>
          <a:xfrm>
            <a:off x="2645640" y="6583320"/>
            <a:ext cx="665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© Richard N. Taylor, Nenad Medvidovic, and Eric M. Dashof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6FC3-EBB5-419E-8AD5-F4214B5D7B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1676520"/>
            <a:ext cx="70102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nalysis of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oftware Architectures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666880" y="411444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oftware Architect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cture 10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rface Consist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ompasses name consis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so involves parameter lists in component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rich spectrum of choices at the architectural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matching provided and required interf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qInt:   getSubQ(Natural first, Natural last, Boolean remove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s FIFOQueue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vInt1: getSubQ(Index first, Index las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s FIFOQue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vInt2: getSubQ(Natural first, Natural last, Boolean remove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s Que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0702-004C-4D7E-8948-34C3E66C5A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ehavioral Consist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s and interfaces of interacting components may match, but behaviors need 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subtr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tract(Integer x, Integer y) returns Integer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we be sure what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ubtrac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on do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QueueClient and QueueServer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eue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condition  q.size &gt; 0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stcondition ~q.size = q.siz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eue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condition  q.size &gt; 1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stcondition ~q.size = q.size - 1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BFD2-E7EE-49BF-A32E-62F66F68DE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raction Consist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00AF-F46F-41A0-A6D2-1D55DC0F4D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s, interfaces, and behaviors of interacting components may match, yet they may still be unable to interact prope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QueueClient and QueueServer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7" descr="Queue Protocol"/>
          <p:cNvPicPr/>
          <p:nvPr/>
        </p:nvPicPr>
        <p:blipFill>
          <a:blip r:embed="rId1"/>
          <a:stretch/>
        </p:blipFill>
        <p:spPr>
          <a:xfrm>
            <a:off x="1143000" y="3505320"/>
            <a:ext cx="693432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finement Consist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al models are refined during the design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lationship must be maintained between higher and lower level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lements are preserved in the lower leve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design decisions are preserved in the lower-leve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w design decisions violate existing design dec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CCD7-026A-48A4-B835-D9DB3951BD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finement Consistency Examp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E0B4-39C4-4F78-9835-B2E5649CC9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Linux Connector"/>
          <p:cNvPicPr/>
          <p:nvPr/>
        </p:nvPicPr>
        <p:blipFill>
          <a:blip r:embed="rId1"/>
          <a:stretch/>
        </p:blipFill>
        <p:spPr>
          <a:xfrm>
            <a:off x="2136600" y="1676520"/>
            <a:ext cx="441648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Analysis Goals – Compatibil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tibility is an external property of an architectur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the architectural model adheres to guidelines and constraints 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ty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ference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chitectural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7EB6-8F78-4614-9441-E2577F6F05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chitectural Compatibility Example – Lunar Lander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0" name="Object 3"/>
          <p:cNvGraphicFramePr/>
          <p:nvPr/>
        </p:nvGraphicFramePr>
        <p:xfrm>
          <a:off x="1709640" y="1870200"/>
          <a:ext cx="5799240" cy="422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9640" y="1870200"/>
                    <a:ext cx="5799240" cy="42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FBDE-C172-470B-A523-9F64CF21FF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-56052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Analysis Goals – Correctnes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rectness is an external property of an architectural mod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29480" indent="-4294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sures tha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9320" indent="-429480">
              <a:spcBef>
                <a:spcPts val="550"/>
              </a:spcBef>
              <a:buClr>
                <a:srgbClr val="8fbac8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rchitectural model fully realizes a system specif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9320" indent="-429480">
              <a:spcBef>
                <a:spcPts val="550"/>
              </a:spcBef>
              <a:buClr>
                <a:srgbClr val="8fbac8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ystem’s implementation fully realizes the archite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29480" indent="-4294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clusion of OTS elements impacts correctn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9320" indent="-4294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ystem may include structural elements, functionality, and non-functional properties that are not part of the archite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9320" indent="-4294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otion of </a:t>
            </a:r>
            <a:r>
              <a:rPr b="0" i="1" lang="en-US" sz="2200" spc="-1" strike="noStrike">
                <a:solidFill>
                  <a:srgbClr val="00355e"/>
                </a:solidFill>
                <a:latin typeface="Tahoma"/>
              </a:rPr>
              <a:t>fulfillment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key to ensuring architectural correctn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2DEF-A235-4207-A61C-1EC83A004C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cope of Architectural Analys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onent- and connector-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system- and system-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ware of the “honey-baked ham” syndro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exchanged in a system or sub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erties of data exchan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tectures at different abstraction lev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arison of two or more archite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functional proper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B7E9-3B32-437C-93CF-87475E0418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a Exchange Examp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7C79-E72F-476B-A663-992900D2FB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DataAnalysis"/>
          <p:cNvPicPr/>
          <p:nvPr/>
        </p:nvPicPr>
        <p:blipFill>
          <a:blip r:embed="rId1"/>
          <a:stretch/>
        </p:blipFill>
        <p:spPr>
          <a:xfrm>
            <a:off x="1981080" y="2286000"/>
            <a:ext cx="530712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Is Architectural Analysis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55e"/>
                </a:solidFill>
                <a:latin typeface="Tahoma"/>
              </a:rPr>
              <a:t>Architectural analys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activity of discovering important system properties using the system’s architectural mode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y, useful answers about relevant architectural asp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prior to system’s co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ant to kn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8fbac8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questions to a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8fbac8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to ask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8fbac8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ask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8fbac8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ensure that they can be answ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E129-F607-4A79-83A4-749CDE55FF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chitectures at Different Abstraction Level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6DF2-DEDC-4DFC-AC75-69A68551A7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4" descr="High-Level Architecture"/>
          <p:cNvPicPr/>
          <p:nvPr/>
        </p:nvPicPr>
        <p:blipFill>
          <a:blip r:embed="rId1"/>
          <a:stretch/>
        </p:blipFill>
        <p:spPr>
          <a:xfrm>
            <a:off x="609480" y="1828800"/>
            <a:ext cx="2286000" cy="1924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Refined Architecture"/>
          <p:cNvPicPr/>
          <p:nvPr/>
        </p:nvPicPr>
        <p:blipFill>
          <a:blip r:embed="rId2"/>
          <a:stretch/>
        </p:blipFill>
        <p:spPr>
          <a:xfrm>
            <a:off x="3505320" y="1828800"/>
            <a:ext cx="5029200" cy="43718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6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nalysis Concerns &amp; Stakehold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cer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uctural characteristic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havioral characteristic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action characteristic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n-functional characteristic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kehold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chit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velop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ag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stom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ndo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0DD7-C53A-43C7-B758-270C025FCF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, Formality, Autom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nalys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ynamic analys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cenario-driven analysis: Can be both static and dynam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m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formal mode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mi-formal mode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mal mode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utom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tially automa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ully automa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8758-180E-4E74-9DB3-FDF1007589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Analysis in a Nutshe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2CAA-164C-4EDB-8092-27774B5003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Group 14"/>
          <p:cNvGrpSpPr/>
          <p:nvPr/>
        </p:nvGrpSpPr>
        <p:grpSpPr>
          <a:xfrm>
            <a:off x="762120" y="1547640"/>
            <a:ext cx="7543440" cy="4776840"/>
            <a:chOff x="762120" y="1547640"/>
            <a:chExt cx="7543440" cy="4776840"/>
          </a:xfrm>
        </p:grpSpPr>
        <p:pic>
          <p:nvPicPr>
            <p:cNvPr id="178" name="Picture 13" descr=""/>
            <p:cNvPicPr/>
            <p:nvPr/>
          </p:nvPicPr>
          <p:blipFill>
            <a:blip r:embed="rId1"/>
            <a:stretch/>
          </p:blipFill>
          <p:spPr>
            <a:xfrm>
              <a:off x="762120" y="1547640"/>
              <a:ext cx="3712680" cy="477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2" descr=""/>
            <p:cNvPicPr/>
            <p:nvPr/>
          </p:nvPicPr>
          <p:blipFill>
            <a:blip r:embed="rId2"/>
            <a:stretch/>
          </p:blipFill>
          <p:spPr>
            <a:xfrm>
              <a:off x="4601520" y="2024280"/>
              <a:ext cx="3704040" cy="364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Text Box 15"/>
          <p:cNvSpPr/>
          <p:nvPr/>
        </p:nvSpPr>
        <p:spPr>
          <a:xfrm>
            <a:off x="-56052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nalysis Technique Categori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pection- and review-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-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ation-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6FC5-00F3-4CAD-8B01-2803A44D09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Inspections and Review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al models studied by human stakeholders for specific 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keholders define analysis objec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in the case of informal architectural descri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in establishing “soft” system 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scalability or adap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le to consider multiple stakeholders’ objectives and multiple architectural 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BFE1-E16F-4C2B-981B-B7009C26AB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pections and Reviews in a Nutshe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nalysis Go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nalysis 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an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nalysis Conce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any, but particularly suited for non-functional 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rchitectural Mode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any, but must be geared to stakeholder needs and analysis objec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nalysis Typ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mostly static and scenario-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utomation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manual, human int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Stakehold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any, except perhaps compone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759F-B7EE-457A-8615-DDE806A24C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xample – ATAM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s for architectural trade-off analysis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man-centric process for identifying risks early on in software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s specifically on four quality attributes (NF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als how well an architecture satisfies quality goals and how those goals trade-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F65B-D462-46AA-B2F6-87F0F277E4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TAM Proces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DCA5-4D99-41F7-88EA-DFCFC99800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4" descr="ATAM Process"/>
          <p:cNvPicPr/>
          <p:nvPr/>
        </p:nvPicPr>
        <p:blipFill>
          <a:blip r:embed="rId1"/>
          <a:stretch/>
        </p:blipFill>
        <p:spPr>
          <a:xfrm>
            <a:off x="593640" y="1752480"/>
            <a:ext cx="8016840" cy="4572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TAM Business Driv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’s critical function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technical, managerial, economic, or political cons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ject’s business goals an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ajor stakehol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incipal quality attribute (NFP)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527A-759F-462E-A5CF-9089B0760C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formal Architectural Models and Analys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790960" y="1828440"/>
            <a:ext cx="2819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lps architects get clarification from system custom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lps managers ensure project sco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as useful to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4E3D-8AC4-465E-BB76-2F1DFE4453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LunarLanderPPT"/>
          <p:cNvPicPr/>
          <p:nvPr/>
        </p:nvPicPr>
        <p:blipFill>
          <a:blip r:embed="rId1"/>
          <a:stretch/>
        </p:blipFill>
        <p:spPr>
          <a:xfrm>
            <a:off x="609480" y="1979640"/>
            <a:ext cx="4876920" cy="36590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TAM Scenari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3352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-case scenar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be how the system is envisioned by the stakeholders to be u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wth scenar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be planned and envisioned modifications to th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ratory scenar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y to establish the limits of architecture’s adaptability with respect 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’s function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onal pro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lying execution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enarios are prioritized based on importance to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1816-F3A0-4718-8E6E-08772BC679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TAM Architectu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ical cons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d hardware platforms, OS, middleware, programming languages, and OTS function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ther systems with which the system must inte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rchitectural approach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have been used to meet the quality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s of architectural design decisions employed to solve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rchitectural patterns and sty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F8A3-84B6-4E03-9B4C-47659380DC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TAM Analys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y step in AT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jective is to establish relationship between architectural approaches and quality attrib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ach architectural approach a set of analysis questions are formul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ed at the approach and quality attributes in qu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 architects and ATAM evaluation team work together to answer these questions and identif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sk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se are distilled into risk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Ris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sitivity po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de-off po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d on answers, further analysis may be perform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BE0A-55AA-478B-9EFC-2BB4B61C48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TAM in a Nutshe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85800" y="1600200"/>
          <a:ext cx="7772400" cy="4913280"/>
        </p:xfrm>
        <a:graphic>
          <a:graphicData uri="http://schemas.openxmlformats.org/drawingml/2006/table">
            <a:tbl>
              <a:tblPr/>
              <a:tblGrid>
                <a:gridCol w="2224080"/>
                <a:gridCol w="554832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e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ist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t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rectness`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system- and system-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ex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ce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func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i-f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-driv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mation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kehol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hit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ag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stom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395C-60AE-4D37-9D2D-A6D86A4BFD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94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el-Based Architectural Analys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ysis techniques that manipulate architectural description to discover architectural proper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ol-driven, hence potentially less cos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cally useful for establishing “hard” architectural properties on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able to capture design intent and ration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focus on a single architectural asp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syntactic correctness, deadlock freedom, adherence to a sty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alability may be an iss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iques typically used in tandem to provide more complete answ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67BE-70C9-4AE1-A4A0-666FA6F60C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el-Based Analysis in a Nutshe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nalysis Go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consistency, compatibility, internal 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nalysis 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an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nalysis Conce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structural, behavioral, interaction, and possibly non-functional 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rchitectural Mode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semi-formal and for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nalysis Typ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sta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utomation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partially and fully autom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Stakehold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mostly architects and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342E-CAB0-4740-8E88-5BA110DF11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Reliability Analys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55e"/>
                </a:solidFill>
                <a:latin typeface="Tahoma"/>
              </a:rPr>
              <a:t>Reliabi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probability that the system will perform its intended functionality under specified design limits, without failur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000" spc="-1" strike="noStrike">
                <a:solidFill>
                  <a:srgbClr val="00355e"/>
                </a:solidFill>
                <a:latin typeface="Tahoma"/>
              </a:rPr>
              <a:t>failu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occurrence of an incorrect output as a result of an input value that is received, with respect to the specific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An </a:t>
            </a:r>
            <a:r>
              <a:rPr b="0" i="1" lang="en-US" sz="2000" spc="-1" strike="noStrike">
                <a:solidFill>
                  <a:srgbClr val="00355e"/>
                </a:solidFill>
                <a:latin typeface="Tahoma"/>
                <a:ea typeface="굴림"/>
              </a:rPr>
              <a:t>err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s a mental mistake made by the designer or programm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A </a:t>
            </a:r>
            <a:r>
              <a:rPr b="0" i="1" lang="en-US" sz="2000" spc="-1" strike="noStrike">
                <a:solidFill>
                  <a:srgbClr val="00355e"/>
                </a:solidFill>
                <a:latin typeface="Tahoma"/>
                <a:ea typeface="굴림"/>
              </a:rPr>
              <a:t>faul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or a </a:t>
            </a:r>
            <a:r>
              <a:rPr b="0" i="1" lang="en-US" sz="2000" spc="-1" strike="noStrike">
                <a:solidFill>
                  <a:srgbClr val="00355e"/>
                </a:solidFill>
                <a:latin typeface="Tahoma"/>
                <a:ea typeface="굴림"/>
              </a:rPr>
              <a:t>defec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s the manifestation of that error in the syst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An abnormal condition that may cause a reduction in, or loss of, the capability of a component to perform a required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A requirements, design, or implementation flaw or deviation from a desired or intended stat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DC28-B8A0-4FB7-B0A6-BA1570EF8D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liability Metric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re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between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7CB6-1ABF-4B07-BB73-1FEC6B346A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ssessing Reliability at Architectural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llenged by unknow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onal pro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and recovery his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llenged by uncertain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development scenar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ying granularity of architectural mod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information sources about system u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tectural reliability values must be qualified by assumptions made to deal with the above uncertain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iability modeling techniques are needed that deal effectively with uncertain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Hidden Markov Models (HMM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5F41-AA49-4A96-8E77-786ECC2297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chitectural Reliability Analysis in a Nutshel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85800" y="1752480"/>
          <a:ext cx="7772400" cy="4710240"/>
        </p:xfrm>
        <a:graphic>
          <a:graphicData uri="http://schemas.openxmlformats.org/drawingml/2006/table">
            <a:tbl>
              <a:tblPr/>
              <a:tblGrid>
                <a:gridCol w="2224080"/>
                <a:gridCol w="5548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ist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t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rect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nent- and connector-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system- and system-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ce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func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-ba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mation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ially autom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kehol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hit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ag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stom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d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5AA9-B9B4-47B6-A30A-B3DCD04C78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95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rmal Architectural Models and Analys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72200" y="1752120"/>
            <a:ext cx="2666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lps architects determine component compos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lps developers with implementation-level deci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lps with locating and selecting appropriate OTS compon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lps with automated code gener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as useful for discussions with non-technical stakehold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4625-E76F-4644-839C-75B55CC553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533520" y="1695600"/>
            <a:ext cx="5651280" cy="455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685800" y="1768320"/>
            <a:ext cx="533412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omponent UserInterfa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Port getValu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Port calcul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ompu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onnector Ca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Role Caller =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Role Callee =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Glue =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onfiguration LunarLan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Instan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DS : DataSto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 : Calcu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UI : UserInterfa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toUIgetValues, CtoUIstoreValues, UItoC, UItoDS : Cal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Attach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.getValues as CtoUIgetValues.Call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DS.getValues as CtoUIgetValues.Calle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.storeValues as CtoUIstoreValues.Call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DS.storeValues as CtoUIstoreValues.Calle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UI.calculate as UItoC.Call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.calulate as UItoC.Calle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UI.getValues as UItoDS.Call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DS.getValues as UItoDS.Calle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End LunarLand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mulation-Based Analys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producing an executable system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ation need not exhibit identical behavior to system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low-level system parameters may be un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needs to be precise and not necessarily accu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architectural models may not be amenable to sim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require translation to a simulatabl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B036-3582-46B6-8442-47AC8EA111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and Simulation Mode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3409-EA71-4F5F-B6D1-66E8866326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4" descr="ADLtoSimtoExec"/>
          <p:cNvPicPr/>
          <p:nvPr/>
        </p:nvPicPr>
        <p:blipFill>
          <a:blip r:embed="rId1"/>
          <a:stretch/>
        </p:blipFill>
        <p:spPr>
          <a:xfrm>
            <a:off x="2438280" y="1447920"/>
            <a:ext cx="5608800" cy="5014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mulation-Based Analysis in a Nutshe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nalysis Go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nalysis 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an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nalysis Conce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behavioral, interaction, and non-functional 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rchitectural Mode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for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nalysis Typ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dynamic and scenario-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utomation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fully automated; model mapping may be man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Stakehold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9779-D858-4CE3-91B3-12AA9C1391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cerns Relevant to Architectural Analys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s of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ope of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architectural concern being analy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vel of formality of architectural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vel of auto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 stakeholders interested in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A9BB-4D84-43D4-A859-4585467CA4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Analysis Goa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ur “C”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s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6E2E-892B-409E-914C-3FF00D973F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chitectural Analysis Goals – Completenes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teness is both an external and an internal go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respect to system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llenged by the complexity of large systems’ requirements and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llenged by the many notations used to capture complex requirements as well as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respect to the architectural intent and modeling no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e all elements been fully modeled in the not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e all design decisions been properly captur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5DE3-3BD6-4166-A33A-E33F4B0028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Analysis Goals – Consist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35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stency is an internal property of an architectur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different model elements do not contradict one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mensions of architectural consis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C673-D01D-4BB8-B981-2B2F40D844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ame Consist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and connector n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service n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non-trivial to establish at the architectural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ystem elements/services with identical n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se coupling via publish-subscribe or asynchronous event 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adaptable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9860-2F80-4CF0-981C-EE29EC6632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6:57:16Z</dcterms:created>
  <dc:creator>Taylor, Medvidovic, and Dashofy</dc:creator>
  <dc:description>Copyright (C) Richard N. Taylor, Nenad Medvidovic, and Eric M. Dashofy. All rights reserved.</dc:description>
  <dc:language>en-US</dc:language>
  <cp:lastModifiedBy>zakarya</cp:lastModifiedBy>
  <dcterms:modified xsi:type="dcterms:W3CDTF">2011-11-19T22:07:01Z</dcterms:modified>
  <cp:revision>55</cp:revision>
  <dc:subject>Software Architecture: Foundations, Theory, and Practice</dc:subject>
  <dc:title>Analysis of Software Architectures</dc:title>
</cp:coreProperties>
</file>