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DE24-79C8-4CD8-888F-9AE5FE3E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090B-E1D9-4EA7-9C7D-A1444409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99C0-511F-48B4-8B5A-7490CB53B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EF37-C943-4100-A2F6-37617E424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4C18-99B8-4B7D-93B5-E67A57E2B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06BC-AF73-4E96-BC8F-1A3860D9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0136-DD3A-4FA7-9B12-1E5755A7B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4132-B169-4152-8734-B2DB7EB6E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7BE2-8F31-4BE4-9E09-08D020E52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502A-5129-4429-BAB9-D3BC9977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9C00-3E36-49C8-A6C1-83C4B9543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AB5F-DC29-496B-9A2C-6601A4091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0F88-C104-4FC1-8D54-7EAEA8D8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E1ED-26FE-428F-8696-CF8C13517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6531-48E4-4FD1-9B7C-B429AB2DE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5042-6AFA-48DA-AF73-1920CC07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48DC-0A6D-416B-9D5D-7929230FB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29F9-5486-43B3-A0C4-491B24C3D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54A2-85BF-4C1F-B6EA-8ABE2729A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E44C-3AE8-479A-942A-B6A646659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10F1-E59C-4188-A06F-0684AFF9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23E1-B8A8-413F-9581-BF692F09A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A5F5-7E95-4321-8DB0-B58E44F37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FE9D-8F57-4040-AA58-EC9BB5DF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FB5E-55CD-4C83-8D0A-C5585F2AA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834B-DEF0-482A-92D2-7981CAC27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262C-37E9-4AD9-8BD0-3004E529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F54C-2D09-406F-8A62-EA0B1968C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54D6-B81F-4799-963B-D941866EE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BC86-7140-4439-98D8-558867D47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364F-00C3-4729-B118-924D57FC0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E295-0092-4D85-9393-BA095973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37B2-1A64-4CE1-9194-62E841B9A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7A5D-3EA3-4A55-BD29-933F61056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B08D-F01D-4A30-9AD5-E40EEEC06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22ED-9FC5-45A2-8BDA-E091D15DC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9C7C-D2ED-4EED-B29F-4814C54A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41D3-7679-43B5-B459-BCB073E57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2028-86DC-477D-98C2-2A28CBB2C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25D-A465-48DB-BA66-F2151163E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212C-F8E2-4FC9-B88E-6B986B264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FF83-5915-46EB-BA92-6857A03C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8FDAF-0DBC-444E-8566-AF981756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08AC-A4D6-416A-B5B3-052D3599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B1B1-3008-433E-BDDD-DB5D156E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19BF-435D-43BF-8C36-E9FFF1ED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2B0D-B5F6-444A-B0C5-31C68CCF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5223-7E3D-4E60-9D8C-AFB9EF78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4D8D-ABDF-48D5-B6CD-681C4855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5C99-5CFB-4B45-AB02-3156DE0A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20E4-302C-4877-B0EB-EC96FE5A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53AC-6A48-4314-B804-5AE5477C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6150-EDCD-4E10-ABC3-E63E14BD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C5F66-FA4D-4520-B6ED-37FF83EE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0661-72E6-4E4B-94DE-2BC95E5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3DB5-6C91-429B-B707-C7F91DE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7CBD-BAC2-4580-A2A2-40E58D8A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64AD-86C4-4C87-B7C3-A060D0DF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FC3C-8D1C-474E-888E-E2E3AD56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360F-3C60-4920-8B55-E27B2173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7BBB-17CF-44B5-A961-D4F37C4D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1CBF-87FE-430F-BA1D-C754F8D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E359-9282-4C09-9D8B-86A44DCA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53834-532D-44AB-94E2-5BBCC7B4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AC889-ADC7-4E66-B681-80CDAA7B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6904-5925-49C4-A20B-BE3200E5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B813-D485-4163-847C-5DE1EE698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7DDC-53E3-490E-A460-DB8415E810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167652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nalysis of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oftware Architecture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0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face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mpasses name consis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involves parameter lists in component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rich spectrum of choices at the architectural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matching provided and required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qInt:   getSubQ(Natural first, Natural last, Boolean remov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s FIFOQueue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vInt1: getSubQ(Index first, Index las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s FIFOQue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vInt2: getSubQ(Natural first, Natural last, Boolean remove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s Que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48FF-58D6-4054-B89A-FFDF3B667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havioral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 and interfaces of interacting components may match, but behaviors need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ubt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tract(Integer x, Integer y) returns Integer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be sure what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btrac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 do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QueueClient and QueueServ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ue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condition  q.size &gt; 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tcondition ~q.size = q.siz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ue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condition  q.size &gt;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ostcondition ~q.size = q.size - 1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5C3E-3533-42EF-86AB-408C3AD11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action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FB64-4DBD-4DDA-B66C-89F4E1C10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s, interfaces, and behaviors of interacting components may match, yet they may still be unable to interact prope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QueueClient and QueueServer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Queue Protocol"/>
          <p:cNvPicPr/>
          <p:nvPr/>
        </p:nvPicPr>
        <p:blipFill>
          <a:blip r:embed="rId1"/>
          <a:stretch/>
        </p:blipFill>
        <p:spPr>
          <a:xfrm>
            <a:off x="1143000" y="3505320"/>
            <a:ext cx="693432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inement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models are refined during the design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lationship must be maintained between higher and lower level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lements are preserved in the lower leve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esign decisions are preserved in the lower-leve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w design decisions violate existing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6EC7-FA2F-474B-B738-574502B118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inement Consistency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C475-F954-48BB-B3C5-3BC1AB30F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Linux Connector"/>
          <p:cNvPicPr/>
          <p:nvPr/>
        </p:nvPicPr>
        <p:blipFill>
          <a:blip r:embed="rId1"/>
          <a:stretch/>
        </p:blipFill>
        <p:spPr>
          <a:xfrm>
            <a:off x="2136600" y="1676520"/>
            <a:ext cx="44164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Goals – Compati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tibility is an external property of an architectur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the architectural model adheres to guidelines and constraints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y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ferenc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hitectural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CFB3-B100-4E56-83D7-46A6FA3B4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al Compatibility Example – Lunar Lander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1709640" y="1870200"/>
          <a:ext cx="5799240" cy="422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9640" y="1870200"/>
                    <a:ext cx="5799240" cy="42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B080-5271-4DC7-97E3-944376AC6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-56052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Goals – Correctnes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rectness is an external property of an architectural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es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550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rchitectural model fully realizes a system specif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550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ystem’s implementation fully realizes the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lusion of OTS elements impacts correctn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stem may include structural elements, functionality, and non-functional properties that are not part of the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859320" indent="-4294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otion of </a:t>
            </a:r>
            <a:r>
              <a:rPr b="0" i="1" lang="en-US" sz="2200" spc="-1" strike="noStrike">
                <a:solidFill>
                  <a:srgbClr val="00355e"/>
                </a:solidFill>
                <a:latin typeface="Tahoma"/>
              </a:rPr>
              <a:t>fulfillment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key to ensuring architectural correctn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D95C-4BBB-41E6-94DF-BA4F731380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ope of Architectural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- and connector-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system- and system-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ware of the “honey-baked ham” syndr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exchanged in a system or sub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erties of data exchan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es at different abstraction lev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rison of two or more archite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function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3262-B65F-4FD1-862C-203CF9272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 Exchange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D780-98BD-4A3F-B6F5-A150E45F7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DataAnalysis"/>
          <p:cNvPicPr/>
          <p:nvPr/>
        </p:nvPicPr>
        <p:blipFill>
          <a:blip r:embed="rId1"/>
          <a:stretch/>
        </p:blipFill>
        <p:spPr>
          <a:xfrm>
            <a:off x="1981080" y="2286000"/>
            <a:ext cx="53071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Architectural Analysis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55e"/>
                </a:solidFill>
                <a:latin typeface="Tahoma"/>
              </a:rPr>
              <a:t>Architectural analys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activity of discovering important system properties using the system’s architectural mod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, useful answers about relevant architectural asp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prior to system’s 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t to kn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questions to 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to ask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ask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ensure that they can be answ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2EDA-34F6-4F6D-B06B-DDBE8FF6C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es at Different Abstraction Level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FE9B-FBD6-461F-A249-20B2706DB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High-Level Architecture"/>
          <p:cNvPicPr/>
          <p:nvPr/>
        </p:nvPicPr>
        <p:blipFill>
          <a:blip r:embed="rId1"/>
          <a:stretch/>
        </p:blipFill>
        <p:spPr>
          <a:xfrm>
            <a:off x="609480" y="1828800"/>
            <a:ext cx="2286000" cy="192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Refined Architecture"/>
          <p:cNvPicPr/>
          <p:nvPr/>
        </p:nvPicPr>
        <p:blipFill>
          <a:blip r:embed="rId2"/>
          <a:stretch/>
        </p:blipFill>
        <p:spPr>
          <a:xfrm>
            <a:off x="3505320" y="1828800"/>
            <a:ext cx="5029200" cy="4371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Concerns &amp; Stakehold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uctural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al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action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functional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kehol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velop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ag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nd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F823-D924-441F-AD6B-FEC3A60C96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, Formality, Autom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ynamic analy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enario-driven analysis: Can be both static and dynam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m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mi-form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mal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utom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ally autom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lly autom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B7BC-D441-42C4-99F0-B5D6345EA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A852-0FEF-4CCB-BEBB-F21F975DA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762120" y="1547640"/>
            <a:ext cx="7543440" cy="4776840"/>
            <a:chOff x="762120" y="1547640"/>
            <a:chExt cx="7543440" cy="4776840"/>
          </a:xfrm>
        </p:grpSpPr>
        <p:pic>
          <p:nvPicPr>
            <p:cNvPr id="178" name="Picture 13" descr=""/>
            <p:cNvPicPr/>
            <p:nvPr/>
          </p:nvPicPr>
          <p:blipFill>
            <a:blip r:embed="rId1"/>
            <a:stretch/>
          </p:blipFill>
          <p:spPr>
            <a:xfrm>
              <a:off x="762120" y="1547640"/>
              <a:ext cx="3712680" cy="47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2" descr=""/>
            <p:cNvPicPr/>
            <p:nvPr/>
          </p:nvPicPr>
          <p:blipFill>
            <a:blip r:embed="rId2"/>
            <a:stretch/>
          </p:blipFill>
          <p:spPr>
            <a:xfrm>
              <a:off x="4601520" y="2024280"/>
              <a:ext cx="3704040" cy="364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15"/>
          <p:cNvSpPr/>
          <p:nvPr/>
        </p:nvSpPr>
        <p:spPr>
          <a:xfrm>
            <a:off x="-56052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Technique Categor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ection- and review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D68D-949A-4FFE-A96D-4A1B04BA9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Inspections and Review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models studied by human stakeholders for specific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keholders define analysis obj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in the case of informal architectural descri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in establishing “soft” system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calability or adap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le to consider multiple stakeholders’ objectives and multiple architectur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5A7B-8ECC-45E4-AA6E-4311B2824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pections and Reviews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Go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Conc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, but particularly suited for non-function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rchitectural 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, but must be geared to stakeholder needs and analysis obj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ostly static and scenario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utomation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anual, human int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, except perhaps compone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43C3-13A8-4510-84C9-0675C5564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 – ATAM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s for architectural trade-off analysis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-centric process for identifying risks early on in software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specifically on four quality attributes (NF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als how well an architecture satisfies quality goals and how those goals trade-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E90A-8541-4067-AD8D-FA7672D33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Proces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ECCC-9ABE-4D63-9B81-802F09F4D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ATAM Process"/>
          <p:cNvPicPr/>
          <p:nvPr/>
        </p:nvPicPr>
        <p:blipFill>
          <a:blip r:embed="rId1"/>
          <a:stretch/>
        </p:blipFill>
        <p:spPr>
          <a:xfrm>
            <a:off x="593640" y="1752480"/>
            <a:ext cx="8016840" cy="4572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Business Driv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’s critical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technical, managerial, economic, or political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ject’s business goals an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jor stak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incipal quality attribute (NFP)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0E01-9F1C-481C-BDC2-0A6A773BD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rmal Architectural Models and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790960" y="1828440"/>
            <a:ext cx="2819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architects get clarification from system custom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s managers ensure project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s useful to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6732-03AB-45CD-88EB-14A2C8750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LunarLanderPPT"/>
          <p:cNvPicPr/>
          <p:nvPr/>
        </p:nvPicPr>
        <p:blipFill>
          <a:blip r:embed="rId1"/>
          <a:stretch/>
        </p:blipFill>
        <p:spPr>
          <a:xfrm>
            <a:off x="609480" y="1979640"/>
            <a:ext cx="4876920" cy="3659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Scenari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52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-case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how the system is envisioned by the stakeholders to b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wth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 planned and envisioned modifications to th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atory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y to establish the limits of architecture’s adaptability with respect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’s function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pro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execution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 are prioritized based on importance to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3B75-9F58-4F05-8645-D21B80BF1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cal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hardware platforms, OS, middleware, programming languages, and OTS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ther systems with which the system must inte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approach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have been used to meet the quality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of architectural design decisions employed to solve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rchitectural patterns and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74FE-8650-4518-84ED-F4C4B709FD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step in AT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ive is to establish relationship between architectural approaches and quality attrib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architectural approach a set of analysis questions are formul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ed at the approach and quality attributes in qu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architects and ATAM evaluation team work together to answer these questions and identif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k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se are distilled into risk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Ris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sitivity 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e-off 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answers, further analysis may be perform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38E3-1065-4D64-BAF9-3642E1300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TAM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5800" y="1600200"/>
          <a:ext cx="7772400" cy="4913280"/>
        </p:xfrm>
        <a:graphic>
          <a:graphicData uri="http://schemas.openxmlformats.org/drawingml/2006/table">
            <a:tbl>
              <a:tblPr/>
              <a:tblGrid>
                <a:gridCol w="2224080"/>
                <a:gridCol w="55483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s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t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ness`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ystem- and system-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ex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func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i-f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-dri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hit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velop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3976-4DB6-46CC-B590-94DA8042D7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94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-Based Architectural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alysis techniques that manipulate architectural description to discover architectur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-driven, hence potentially less cos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cally useful for establishing “hard” architectural properties on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able to capture design intent and rationa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focus on a single architectural asp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yntactic correctness, deadlock freedom, adherence to a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lability may be an iss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ques typically used in tandem to provide more complete 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657D-DF96-4189-99FF-265723FF4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-Based Analysis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Go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consistency, compatibility, internal 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Conc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tructural, behavioral, interaction, and possibly non-function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rchitectural 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mi-formal and f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t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utomation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artially and fully autom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ostly architects and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CCE-23D9-4C1D-B380-65F89F876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Reliability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55e"/>
                </a:solidFill>
                <a:latin typeface="Tahoma"/>
              </a:rPr>
              <a:t>Reli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probability that the system will perform its intended functionality under specified design limits, without failu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000" spc="-1" strike="noStrike">
                <a:solidFill>
                  <a:srgbClr val="00355e"/>
                </a:solidFill>
                <a:latin typeface="Tahoma"/>
              </a:rPr>
              <a:t>failu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ccurrence of an incorrect output as a result of an input value that is received, with respect to the specific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n </a:t>
            </a:r>
            <a:r>
              <a:rPr b="0" i="1" lang="en-US" sz="2000" spc="-1" strike="noStrike">
                <a:solidFill>
                  <a:srgbClr val="00355e"/>
                </a:solidFill>
                <a:latin typeface="Tahoma"/>
                <a:ea typeface="굴림"/>
              </a:rPr>
              <a:t>err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s a mental mistake made by the designer or progra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A </a:t>
            </a:r>
            <a:r>
              <a:rPr b="0" i="1" lang="en-US" sz="2000" spc="-1" strike="noStrike">
                <a:solidFill>
                  <a:srgbClr val="00355e"/>
                </a:solidFill>
                <a:latin typeface="Tahoma"/>
                <a:ea typeface="굴림"/>
              </a:rPr>
              <a:t>faul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r a </a:t>
            </a:r>
            <a:r>
              <a:rPr b="0" i="1" lang="en-US" sz="2000" spc="-1" strike="noStrike">
                <a:solidFill>
                  <a:srgbClr val="00355e"/>
                </a:solidFill>
                <a:latin typeface="Tahoma"/>
                <a:ea typeface="굴림"/>
              </a:rPr>
              <a:t>defec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s the manifestation of that error in the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An abnormal condition that may cause a reduction in, or loss of, the capability of a component to perform a required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굴림"/>
              </a:rPr>
              <a:t>A requirements, design, or implementation flaw or deviation from a desired or intended sta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1EFC-C34F-4E87-9832-11CAA69E0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liability Metr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re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between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556A-F89F-4E42-8039-F4028D7ADA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essing Reliability at Architectural Lev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llenged by unknow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onal pro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and recovery 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llenged by uncertai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development scenari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ying granularity of architectural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information sources about system u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al reliability values must be qualified by assumptions made to deal with the above uncertai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iability modeling techniques are needed that deal effectively with uncertai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Hidden Markov Models (HM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447B-679F-4329-917B-684A44896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al Reliability Analysis in a Nutshel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5800" y="1752480"/>
          <a:ext cx="7772400" cy="4710240"/>
        </p:xfrm>
        <a:graphic>
          <a:graphicData uri="http://schemas.openxmlformats.org/drawingml/2006/table">
            <a:tbl>
              <a:tblPr/>
              <a:tblGrid>
                <a:gridCol w="2224080"/>
                <a:gridCol w="55483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ist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t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rect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onent- and connector-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ystem- and system-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er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func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-ba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mation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ially autom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chit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to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4AAA-57EC-4108-BC78-37A089313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9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mal Architectural Models and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72200" y="1752120"/>
            <a:ext cx="2666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s architects determine component compos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s developers with implementation-level deci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s with locating and selecting appropriate OTS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lps with automated code gener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as useful for discussions with non-technical stakehold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038A-D7A3-4596-8195-81626F407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33520" y="1695600"/>
            <a:ext cx="5651280" cy="455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85800" y="1768320"/>
            <a:ext cx="533412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mponent UserInte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ort getValu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ort calcu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mpu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nnector C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ole Caller =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Role Callee =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lue =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onfiguration LunarLan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stan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S : DataSto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 : Calc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I : UserInterfa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toUIgetValues, CtoUIstoreValues, UItoC, UItoDS : Cal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Attach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.getValues as CtoUIgetValues.C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S.getValues as CtoUIgetValues.Call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.storeValues as CtoUIstoreValues.C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S.storeValues as CtoUIstoreValues.Call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I.calculate as UItoC.C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.calulate as UItoC.Call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I.getValues as UItoDS.Call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S.getValues as UItoDS.Calle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nd LunarLand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-Based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producing an executable system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ation need not exhibit identical behavior to system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low-level system parameters may be un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needs to be precise and not necessarily accu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rchitectural models may not be amenable to sim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require translation to a simulatabl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DB5E-53C4-42A5-B6E2-AF511B8E3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d Simulation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7D5B-7C53-473D-8494-B992A5E10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4" descr="ADLtoSimtoExec"/>
          <p:cNvPicPr/>
          <p:nvPr/>
        </p:nvPicPr>
        <p:blipFill>
          <a:blip r:embed="rId1"/>
          <a:stretch/>
        </p:blipFill>
        <p:spPr>
          <a:xfrm>
            <a:off x="2438280" y="1447920"/>
            <a:ext cx="5608800" cy="5014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ulation-Based Analysis in a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Go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Conc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behavioral, interaction, and non-function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rchitectural 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or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nalysis 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ynamic and scenario-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Automation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fully automated; model mapping may be man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B95B-6166-4D13-8121-77E83493C5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cerns Relevant to Architectural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s of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pe of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architectural concern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of formality of architectural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of auto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stakeholders interested in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169D-8D9E-43BB-A8A4-3C2D089A7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Goa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ur “C”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F76D-F6F1-4954-9315-023D568A0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al Analysis Goals – Completenes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ness is both an external and an internal go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respect to system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llenged by the complexity of large systems’ requirements and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llenged by the many notations used to capture complex requirements as well as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respect to the architectural intent and modeling 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all elements been fully modeled in the not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all design decisions been properly captu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3408-2BA1-4BF8-B62C-DCB189A39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Analysis Goals –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52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 is an internal property of an architectur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different model elements do not contradict one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mensions of architectural 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CB8F-EBE5-4EC8-9976-694C86F7C9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ame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and connector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service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non-trivial to establish at the architectural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ystem elements/services with identical n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se coupling via publish-subscribe or asynchronous event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adaptable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C8E5-3923-4911-AEDC-58770EDCF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6:57:16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11-19T22:07:01Z</dcterms:modified>
  <cp:revision>55</cp:revision>
  <dc:subject>Software Architecture: Foundations, Theory, and Practice</dc:subject>
  <dc:title>Analysis of Software Architectures</dc:title>
</cp:coreProperties>
</file>