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  <p:sldId id="288" r:id="rId69"/>
    <p:sldId id="289" r:id="rId70"/>
    <p:sldId id="290" r:id="rId71"/>
    <p:sldId id="291" r:id="rId72"/>
    <p:sldId id="292" r:id="rId73"/>
    <p:sldId id="293" r:id="rId74"/>
    <p:sldId id="294" r:id="rId75"/>
    <p:sldId id="295" r:id="rId76"/>
    <p:sldId id="296" r:id="rId77"/>
    <p:sldId id="297" r:id="rId78"/>
    <p:sldId id="298" r:id="rId79"/>
    <p:sldId id="299" r:id="rId80"/>
    <p:sldId id="300" r:id="rId81"/>
    <p:sldId id="301" r:id="rId82"/>
    <p:sldId id="302" r:id="rId83"/>
    <p:sldId id="303" r:id="rId84"/>
    <p:sldId id="304" r:id="rId85"/>
    <p:sldId id="305" r:id="rId86"/>
    <p:sldId id="306" r:id="rId87"/>
    <p:sldId id="307" r:id="rId88"/>
    <p:sldId id="308" r:id="rId89"/>
    <p:sldId id="309" r:id="rId90"/>
    <p:sldId id="310" r:id="rId91"/>
    <p:sldId id="311" r:id="rId92"/>
    <p:sldId id="312" r:id="rId93"/>
    <p:sldId id="313" r:id="rId94"/>
    <p:sldId id="314" r:id="rId95"/>
    <p:sldId id="315" r:id="rId96"/>
    <p:sldId id="316" r:id="rId97"/>
    <p:sldId id="317" r:id="rId98"/>
    <p:sldId id="318" r:id="rId99"/>
    <p:sldId id="319" r:id="rId100"/>
    <p:sldId id="320" r:id="rId101"/>
    <p:sldId id="321" r:id="rId102"/>
    <p:sldId id="322" r:id="rId103"/>
    <p:sldId id="323" r:id="rId104"/>
    <p:sldId id="324" r:id="rId105"/>
    <p:sldId id="325" r:id="rId106"/>
    <p:sldId id="326" r:id="rId107"/>
    <p:sldId id="327" r:id="rId108"/>
    <p:sldId id="328" r:id="rId109"/>
    <p:sldId id="329" r:id="rId110"/>
    <p:sldId id="330" r:id="rId1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slide" Target="slides/slide33.xml"/><Relationship Id="rId70" Type="http://schemas.openxmlformats.org/officeDocument/2006/relationships/slide" Target="slides/slide34.xml"/><Relationship Id="rId71" Type="http://schemas.openxmlformats.org/officeDocument/2006/relationships/slide" Target="slides/slide35.xml"/><Relationship Id="rId72" Type="http://schemas.openxmlformats.org/officeDocument/2006/relationships/slide" Target="slides/slide36.xml"/><Relationship Id="rId73" Type="http://schemas.openxmlformats.org/officeDocument/2006/relationships/slide" Target="slides/slide37.xml"/><Relationship Id="rId74" Type="http://schemas.openxmlformats.org/officeDocument/2006/relationships/slide" Target="slides/slide38.xml"/><Relationship Id="rId75" Type="http://schemas.openxmlformats.org/officeDocument/2006/relationships/slide" Target="slides/slide39.xml"/><Relationship Id="rId76" Type="http://schemas.openxmlformats.org/officeDocument/2006/relationships/slide" Target="slides/slide40.xml"/><Relationship Id="rId77" Type="http://schemas.openxmlformats.org/officeDocument/2006/relationships/slide" Target="slides/slide41.xml"/><Relationship Id="rId78" Type="http://schemas.openxmlformats.org/officeDocument/2006/relationships/slide" Target="slides/slide42.xml"/><Relationship Id="rId79" Type="http://schemas.openxmlformats.org/officeDocument/2006/relationships/slide" Target="slides/slide43.xml"/><Relationship Id="rId80" Type="http://schemas.openxmlformats.org/officeDocument/2006/relationships/slide" Target="slides/slide44.xml"/><Relationship Id="rId81" Type="http://schemas.openxmlformats.org/officeDocument/2006/relationships/slide" Target="slides/slide45.xml"/><Relationship Id="rId82" Type="http://schemas.openxmlformats.org/officeDocument/2006/relationships/slide" Target="slides/slide46.xml"/><Relationship Id="rId83" Type="http://schemas.openxmlformats.org/officeDocument/2006/relationships/slide" Target="slides/slide47.xml"/><Relationship Id="rId84" Type="http://schemas.openxmlformats.org/officeDocument/2006/relationships/slide" Target="slides/slide48.xml"/><Relationship Id="rId85" Type="http://schemas.openxmlformats.org/officeDocument/2006/relationships/slide" Target="slides/slide49.xml"/><Relationship Id="rId86" Type="http://schemas.openxmlformats.org/officeDocument/2006/relationships/slide" Target="slides/slide50.xml"/><Relationship Id="rId87" Type="http://schemas.openxmlformats.org/officeDocument/2006/relationships/slide" Target="slides/slide51.xml"/><Relationship Id="rId88" Type="http://schemas.openxmlformats.org/officeDocument/2006/relationships/slide" Target="slides/slide52.xml"/><Relationship Id="rId89" Type="http://schemas.openxmlformats.org/officeDocument/2006/relationships/slide" Target="slides/slide53.xml"/><Relationship Id="rId90" Type="http://schemas.openxmlformats.org/officeDocument/2006/relationships/slide" Target="slides/slide54.xml"/><Relationship Id="rId91" Type="http://schemas.openxmlformats.org/officeDocument/2006/relationships/slide" Target="slides/slide55.xml"/><Relationship Id="rId92" Type="http://schemas.openxmlformats.org/officeDocument/2006/relationships/slide" Target="slides/slide56.xml"/><Relationship Id="rId93" Type="http://schemas.openxmlformats.org/officeDocument/2006/relationships/slide" Target="slides/slide57.xml"/><Relationship Id="rId94" Type="http://schemas.openxmlformats.org/officeDocument/2006/relationships/slide" Target="slides/slide58.xml"/><Relationship Id="rId95" Type="http://schemas.openxmlformats.org/officeDocument/2006/relationships/slide" Target="slides/slide59.xml"/><Relationship Id="rId96" Type="http://schemas.openxmlformats.org/officeDocument/2006/relationships/slide" Target="slides/slide60.xml"/><Relationship Id="rId97" Type="http://schemas.openxmlformats.org/officeDocument/2006/relationships/slide" Target="slides/slide61.xml"/><Relationship Id="rId98" Type="http://schemas.openxmlformats.org/officeDocument/2006/relationships/slide" Target="slides/slide62.xml"/><Relationship Id="rId99" Type="http://schemas.openxmlformats.org/officeDocument/2006/relationships/slide" Target="slides/slide63.xml"/><Relationship Id="rId100" Type="http://schemas.openxmlformats.org/officeDocument/2006/relationships/slide" Target="slides/slide64.xml"/><Relationship Id="rId101" Type="http://schemas.openxmlformats.org/officeDocument/2006/relationships/slide" Target="slides/slide65.xml"/><Relationship Id="rId102" Type="http://schemas.openxmlformats.org/officeDocument/2006/relationships/slide" Target="slides/slide66.xml"/><Relationship Id="rId103" Type="http://schemas.openxmlformats.org/officeDocument/2006/relationships/slide" Target="slides/slide67.xml"/><Relationship Id="rId104" Type="http://schemas.openxmlformats.org/officeDocument/2006/relationships/slide" Target="slides/slide68.xml"/><Relationship Id="rId105" Type="http://schemas.openxmlformats.org/officeDocument/2006/relationships/slide" Target="slides/slide69.xml"/><Relationship Id="rId106" Type="http://schemas.openxmlformats.org/officeDocument/2006/relationships/slide" Target="slides/slide70.xml"/><Relationship Id="rId107" Type="http://schemas.openxmlformats.org/officeDocument/2006/relationships/slide" Target="slides/slide71.xml"/><Relationship Id="rId108" Type="http://schemas.openxmlformats.org/officeDocument/2006/relationships/slide" Target="slides/slide72.xml"/><Relationship Id="rId109" Type="http://schemas.openxmlformats.org/officeDocument/2006/relationships/slide" Target="slides/slide73.xml"/><Relationship Id="rId110" Type="http://schemas.openxmlformats.org/officeDocument/2006/relationships/slide" Target="slides/slide74.xml"/><Relationship Id="rId111" Type="http://schemas.openxmlformats.org/officeDocument/2006/relationships/slide" Target="slides/slide75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66C-F077-4E42-B3AC-E22BD2D64E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F59-0CD5-4B9A-9081-A8421DE42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A0F4-8C4C-416B-BBAC-99DE7C24CA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2782-E770-49E8-8525-B61FF02176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B2B-5D6C-4A4B-B714-17A47501D5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01CA-BD53-40BE-96EA-4D80CB49D5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1976-2679-459C-9DFD-7673577322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388F-83D2-4608-9046-10204F500F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056-CB9A-48B1-BF31-CB8DCA0ACD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3EA-6F00-43A9-AA61-BC7AEBF04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F88-B742-47BE-B63F-B7A8A58C1B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B4E4-B4CA-4872-8310-70D0A982D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BA3C-8B52-437F-B9E6-BDDF71239F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FEB-EE61-402C-A3CC-E106B7615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FE8-8B37-4AB3-BEA0-92C928881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34EB-0CC9-46C8-8EE0-CEDD23A561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039-8C22-48FB-A703-67DAD7553D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81E1-B8FE-437D-B494-434E8BC736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3011-2A1C-4BF7-9288-26C8210AAF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58FC-850E-48C6-9BBB-470DDB93CF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FFD-7E33-4B7D-B5BF-CD095C4340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603-A3A2-4087-B27C-D7F2903A78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B77-7343-4409-8C3E-9019031B2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3AA-F657-4BF0-9EEC-C34497398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664F-E39A-485D-A805-06DC9915C5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E66-07DE-4794-A486-819D715E0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F778-284C-443A-B01C-7DC12573A1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974F-9642-443E-9145-F3D299007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A23E-38CF-4535-8326-8C84DDB31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5C57-5B80-409D-BCBC-AD29FB9629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8377-916D-4DF0-BA55-063788539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3C7-E572-4E84-9FAC-B6F9C07FC6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A52-CBA8-41D3-8BB6-0DF5FB582A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025-17D1-415F-810C-93307385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DDB-926E-4D72-9470-D0E0817A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5AC10-6923-4A29-BCAC-F6BA74D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34EA8-44F7-49BB-9CE1-CD7CC809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7C4AC-87EE-4CEE-92C3-1DC61334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42683-1F46-4B08-B0CC-60F2D1F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D1290-9E1B-4BA9-89CF-A5D6CB7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CC4EE-AB90-4420-8658-91D2E26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AACA6-0C8D-414F-9FAA-AB98E9BF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FF3E-8A62-49D4-A57E-D5F839BF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58EF2-4F0A-4528-B323-919CA4F0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866D7-E104-41B9-BF90-9D58EDE6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A8E-4109-483D-B665-6E38943D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F5FE5-569F-4ACF-BCE1-BB82180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C5DE9-1F39-449D-B994-651B2805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8168B-4353-4828-BD96-293955EE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8B4D6-05FC-4290-980A-5E70FD6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95B7F-EAA4-4D4D-BED4-651547E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49A6-8B3D-4805-8B29-1D0387C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1041A-7233-4289-99A4-7AA5225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5825A-015B-463E-A30A-C0CD24C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A7CD4-1581-49C6-912D-A20BB4E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7F4AD-814A-4267-AC3F-25CECF86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D9D-5FBC-4B0D-A7E9-888A6381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FAA3A-8E70-42DA-A733-79EF25D9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C147-7327-457B-8015-8943925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6206-CD03-4188-9256-AD6229AC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3C10E-3D53-409E-9A33-2CBDEAAF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6E546-2FFE-45C0-85DC-A59DB1D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8E84F-ABE4-4421-82F4-DEA7100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BE6B-8A0B-4DB8-923C-0012FA0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E1A3E-B1DF-483C-B146-579EB116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DA94-9392-4A1C-9786-441BD23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BF564-AFFB-4B40-A151-8C67EF1A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EC5-3D56-4906-AB63-4B1C1ADB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95919-0FCC-4BD5-A804-DF04A52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12AC8-7676-4F0A-8041-D448A8F3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16A85-B91E-430F-866E-0ED6AF4B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101F6-F1D9-4E3B-9E5D-608B82BD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C73D0-4CA5-4BA6-A3F2-CE3C5AD8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DD066-FDB4-443C-B317-6A7E461B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BDC6A-A790-465F-8207-45A12B7D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51B7E-186B-433D-A0B3-D2304C2E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86E61-D1EA-4D78-8E2A-3F59233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14532-19FD-4E15-9EE1-256A3A1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B827-5349-47B7-B306-CFB7906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D5CBC-A50D-40E1-9A9F-A5C5C7C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93D70-597F-435C-9AC6-2E1B3E4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D80D6-91FA-4F7D-8F45-C5A4CDC1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DC831-0D59-4386-A588-478E78FB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7B473-6FC8-4102-A3D1-CAE10CD9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D5D98-3D91-4894-9E39-B17CA7DA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03AF8-E5DE-4EDB-BACB-F8B11020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39656-5229-454A-9EA7-6A024F74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A992D-96DE-474B-AF0A-3D47F0B9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C1A1B-0A2B-46A5-BD11-83DA4F1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07C2-3D6E-4B06-A87E-257529FA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F80C6-0537-4C8A-8658-C2C61DDC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0265D-16E4-4CE1-9ED6-A141D7F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646D5-0DC1-4A13-B8AC-E8E5C99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11A3B-7814-44F0-A5E0-42F2AD9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C9225-7BB0-4117-8539-61152E41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E4A13-0484-4D7B-B542-22BD84F7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14016-6154-4E01-A81F-C80AA5F2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7FC9E-95EC-49BB-8846-16427B89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7300C-20DF-4CC5-B55C-9DE49472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9D75B-3877-4234-ACC9-93C692AF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BF40-1F88-40D6-9321-59B335A2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F1843-7F22-4999-BEB0-5F7E64C9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244DB-E6FB-4D48-AC23-CDC1C4C7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E3403-806A-4412-A976-4647F72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E2D55-3358-4745-B3EA-F1017D1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7DA89-5104-44E0-8658-90159CF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3C679-CA90-4EE5-9E0F-AD82CE5C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36CA7-D716-451C-947A-9C0C3C9F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561E0-4BEB-4231-A700-FA27EA59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C904C-ED6C-416F-965E-B50B0326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55201-6795-48A4-9FDD-0A7A0A5D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1FEC-BECE-4E42-917A-7E7EF61C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B248E-059B-4305-B299-0E0ED934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1A882-3484-4795-B296-7CC2AC0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EC19F-487A-4080-AB7A-1770E8EF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25F5E-8684-4B6F-A9E3-0F28FA10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91084-0FE5-4CAF-8FCF-FCD06E6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00547-CD4C-4997-9D12-1FFCB25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CE350-E539-4A2A-9B3E-90997BA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88797-FB02-4342-884D-AD32CEF1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B4460-54C0-44B8-953C-908CE13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48A1C-DDFA-4EE8-A9F9-97B13045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539-BFA3-4F6F-9869-3E916EB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5C6BA-3C7C-4334-95EE-A38C605E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662E5-7193-4C6A-93B8-CB499EA7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05B5D-8F04-47B0-84CE-A8EC368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CAAAE-68F8-4275-B391-F9409106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E05CF-E6D5-4C0A-B3D2-5A75C69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A59B2-8E0D-4134-B781-720E9B5A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18670-A1BB-42C8-81F7-67418CE4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909F7-4CD2-4474-BA36-818FD762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C5CF3-F2E6-4039-BBBD-75252345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45122-122F-43FE-B9DC-336C8DA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1C0D-5818-4B79-A61A-EF02D4C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32F71-131A-493F-8D3D-76FBE014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0FED6-3F5C-41EF-8611-3A39C07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8CA295-D5C3-4629-B73E-0E35D8ED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3558D-DC87-469D-BA73-5B96508F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E0704-139E-4592-BC3F-BBE4E275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43536-4E64-4D1C-8AFB-7BEB58FF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BDF6B-73F2-4F02-8CD2-F899BC3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DFC33-8289-49FB-9026-F4E77066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653A5-1F37-4824-AE04-2EB5463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1404F-4ABA-4C55-8371-3799762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D32-53D0-412B-8015-C4838F5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F40D-0EB6-46AD-99B2-5927AA9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5078D-601D-4E9C-88AD-5EB9CD41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A65A1-7488-4F59-B55B-E67D64A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26476-F51C-4EB5-AF8C-F72D77F0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73671-D3D7-4C98-ACD8-CA634DBD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CBA56-48A7-4094-A53E-9EB989AE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51099-04BD-4F4E-A3F0-4CE19D3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8A02C-EDA3-4EA2-8584-0E80C5A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17BE9-38D0-4873-9DF4-1A81FD09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FAE46-9BC8-4ABF-B636-D22FFAA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6575D-53A8-44AE-A9A7-D1F0B42E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DE50-A6BA-4AD9-924A-82DCB7A1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B38A1-61F4-40BB-BBB4-04FF2A0F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EB162-D818-4442-B2CB-92CA933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7076E-F9EF-497C-BBE1-16EBCB9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69EC6-788C-469E-9657-EE08FE53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57BB4-25AF-48E9-99A2-CCD705A5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36F901-BEFD-492E-90B1-35FF6F9C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A1551F-77D3-4D80-8664-F549C735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5AE68-03C7-41A2-A0C3-51D7084B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EABD66-E790-429B-BCDF-8BBAD45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A2F0A-74BC-46BE-80E6-D9FD21E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083-610F-4432-B817-68B9A1D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A3991-6C8B-4557-A00C-71706B1F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792BD-B077-4EDE-98B3-9FD8D1D7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5AD4C-5166-40E9-B635-1482E026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135E1-413D-4130-842B-AF43165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22A8C-E4B8-4D54-B161-E72EFCD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4E19B-C967-4F09-9D5B-3D6D7BF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104E33-628F-43C5-B902-650A5E90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F1262-0C30-4681-8DD8-E4A24004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057F1-DC1D-4BFB-B7A2-676460C3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6A1BE-EDAB-4A11-8E82-4673A422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02CF-B2BD-4555-AE62-C08004D6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B5DBB-ECB1-4B08-A50F-95E910E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FB099-488B-4293-A31C-413E866C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7F9B6-0B22-4E4C-8A78-8B1E574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97CF9-85C4-4022-A743-F0A364FA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9EBB5-8F71-4AF3-BC5A-08D3275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612178-4749-4E4E-90DF-0151A3D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2DE3F6-AEED-45B0-9B48-377D06E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3B42CC-7F03-4481-B1CB-135A2556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9C6D0-95D7-49D7-8ABA-B33EBC4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C7016-5272-416B-8291-8604B6E7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0789-889A-4BB7-9B79-FB6D65E1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D9CE0-B878-47EB-9A2D-B3A30293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DB858-9E0D-4E32-ABD0-D6C94E8B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883B4-83F9-4851-A8E5-95D55377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A973C-A269-4F3B-A9D5-E05A17D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F8D74-8BD5-4969-80D8-DCFA1E9B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26E98F-FBAD-40FE-9F9E-DA720C8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56ED8-C290-4A2B-A5A7-F928B96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A6A97-1883-41DF-A1D5-EAB505E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BAF89-9F17-40B8-8F53-A0A5C6FD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B7749A-2339-42DB-9455-654279F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3B98-1008-4B59-BA9C-32C95BCF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89127-AC30-44E1-85D8-6B2A165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4F04D-3689-431A-8B8C-DA492B8B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60E745-0CE4-4230-A74B-F4927BF0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B94968-1A0B-4130-886F-B307BCDB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14D22-06F7-40D2-B362-87BD1EDE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D85404-1D89-431F-9E11-0762924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BFA7A-CF73-4F8D-A875-6FA6B4A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7A2696-858C-40B0-B029-5595F933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CA2D0-C5EC-45DC-BD18-0D4FD10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62E73F-8E5F-4516-AC51-11FE18A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490A-ED69-4BDA-AAC3-6926DA7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CAB707-36E5-40C3-A122-3CEA4CD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E880C-0672-40A6-825A-1A737B8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3CAC7-3315-443C-9074-DFAAC719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2D9CD-4733-4284-95B1-798B9F29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A36662-F0C1-406B-895F-2A3476B0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D0E52F-3376-4F60-91CF-220EB2CD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DF0243-BB57-4D70-A3C3-0D327FAA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BFADE-5620-4E0A-99FB-2B19F2A4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489F7-345B-46EB-9D1A-B0B420C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32A8E-EA8E-4D5D-978A-B5BA35E1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0B66-5EF0-4150-BCED-763FEE91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47CAAA-44BD-4CC3-8B52-8FDF1980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0F239-B46C-4E3F-AFB9-49E10C5A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661CDA-E038-4746-8099-A9376BE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653892-57DD-43F6-ACDF-9C3DC500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6F7D9-25FB-4AE6-B4EB-00A25AFC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7E4122-969D-48C0-88EA-85B674AF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29007-782A-4937-9B6F-3D446D2A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19691C-A410-49AB-9EAD-8B917A84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205BB-7FBC-4A15-A241-6D4DAD39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1EA56E-0D82-42C2-9062-506EC8A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DBC3-1346-40D7-87CA-059FC0E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E6932-5453-4547-8DF6-34D75E82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BF4D10-E0BE-42E3-9ACC-DE988077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F698D8-0D84-49BF-9E7C-900723B4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9D303C-C6B4-4E55-92CE-C95AA338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F04E48-6FB4-479D-B52E-DFCA905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7C807B-0E7C-4CFB-B42F-050BEE1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E440D-A2CE-42B2-9097-D00F07DE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9B7AF-138F-4CB9-9FDF-D4B3F590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C287EC-168C-4417-ADA3-5CBB5A07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7C0997-76F1-4D71-84BC-A9E3865F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8414-4DB4-444F-9D75-041E4A3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BE49C6-4BF1-47FD-8D2B-2CC63043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629FA4-B1A2-4FDA-99C4-FEB74F8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7F7E26-6659-420C-9707-95E209E9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28E504-24BB-45B5-81D8-0B45082C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3F3939-0835-4A41-9926-3A08BC73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05F61D-5859-46D3-891C-810B700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668613-C7C2-44AC-927A-4BA2945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5046F4-78A1-44C6-B6D0-C20D026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405BC3-82AC-46CA-929E-7C9B22E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D2AF30-8CB4-465F-AC52-560CBECD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D29-A576-4A0B-8F9F-FDA93B0F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47A2-1E67-4724-822E-A3E7673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C17240-6506-4B9F-B080-D712B4C5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B714CD-C4EE-4DD0-AE98-DC94243B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B5783-86F0-4BC6-99D7-B968482D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CC9B23-32EF-4A31-BE02-85A2E24B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A930B5-741E-4637-BDB8-AEB28F0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D1A5F5-F2DC-413E-A71B-F86156A5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8397A5-4A7D-4305-876E-3A55D2A8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AB95AC-52C4-4942-9DF5-45AA5EE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6FED85-9CC7-4D3B-A3E7-2A19357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773E6F-A81A-49CD-88B9-C437226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615D-437C-4196-96AF-5FA5FB15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0E1917-092B-4BAA-BF5B-48034CF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2120FE-F5A8-41C8-A082-A56CF290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AEC38F-8E5D-445A-BB01-F1CDA113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96AFD1-6935-42BE-8C4D-62D980B7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1AA61C-F0DD-4D59-B1DD-201D7796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579FD7-4B94-47AE-844A-AC76BCC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C3A016-5699-4C0C-A127-9B719E8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B94F21-93E3-4A8D-A3F5-102F83D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A6CBFA-2860-4AD5-BA5B-5BDD883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77659C-4F64-4E70-872D-552A350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1003-7A48-43C4-BDB2-6F85C73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2FBB8D-228B-4BA3-A5BE-6016D1A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61F6E4-0375-45D2-B863-48B2CF9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AC0329-2EB1-4B66-A0C4-CC461CE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9FEBF7-53A2-43D9-A28B-381610E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60DC0-51CD-47DB-B1DE-221AEC6E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BEF43C-DF73-4E5D-B0CC-E498EC2F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68CB41-784B-4710-83CA-9227048C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913F64-1F6A-4D4A-BA5E-A55E7387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786045-5611-44C5-8FA4-55B2224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019620-A541-4AC4-A3FB-AAD6065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9212-031D-4816-8F87-4D8BE9E8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D3CDEE-E6DD-429C-BE18-27EBA03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5D2345-1048-4B3F-AC9B-7B28746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733473-E87B-41B9-8A46-331B8FA6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E72E1A-2F48-4418-A272-D5D4877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1F71BC-3AFC-404D-85FC-7D8D90BB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39B01F-C3BB-4991-8034-C0F93F64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BF7249-9811-44ED-8E1B-808EEE8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3111DC-B9B0-4715-A7A8-ACA26DF2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A9F426-6E7E-43DC-A2A8-768F7890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4508A7-9DCA-478D-AFAC-FED2B70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D59F-FBBC-4645-A702-9151991C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812D43-2BA1-4AF7-80A0-F87E3995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E64EF8-A2D7-4F53-83FE-94FA379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0BA938-392E-4AD1-907C-C63A875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29E9B2-87DD-416B-BD80-48CD251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0E06CD-BE4F-4C4A-9516-727DB7F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0D3022-BAA0-4EAA-B65C-1CF9265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709C45-318C-4A04-A8F9-659C1D31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5C9CF5-80AD-4368-BAB1-0762C3CF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38C4BA-0E3A-4B41-8C40-674AD97A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DC525F-94E9-44FA-8BBA-6EF696CF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52DC-2A51-4C47-B732-322B3368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84107-EDA1-4C13-89A3-6CEBDD82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94C9F7-3029-48F6-A33C-830F5411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50EE5-D5C7-45B2-8A7C-662BBFC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C5E8E1-54C4-478C-B7D2-D25268DE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876A02-F4A0-4E51-BC8E-A268FF08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92C522-C60B-43DE-9BC2-64ED70A5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3DE36A-F801-4793-B600-89A67CD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AE94A0-EE27-4331-897E-3291E588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BCFB0C-E62E-424F-9A67-F54F69B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D48B22-AB16-4DD6-B282-D87E2C7B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9533-999B-4704-90CE-FE906730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9142B6-96C2-4C9C-A893-E8147743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5EBBF9-20AD-427E-8865-FEACB713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6409D7-3C39-4A69-B0C1-E87B9FA7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3AAD75-F336-4CE0-9510-B3E95B73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455975-CFEB-4BAF-BEC8-7B9BF54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23B6E0-A442-4A7B-8EDE-97E8886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CED46A-8423-46B6-9B26-ABEF3B12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63EBC3-D6CE-499E-8CCA-F5053BA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C4DDAF-6540-4A50-9F10-A23652B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26F305-3911-47C2-ABBF-F2B5E29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1EB2-9EB1-447A-BF20-0CBA0126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670EAB-B6BD-4199-8FA4-FFCB143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BAD953-AC42-4C7C-8363-F7FCDCD7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9C7854-56EF-4236-92B1-6A9AFCB3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2C0110-52E4-40F4-B18F-99A769B0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64DCF1-6DDC-4F01-B0B2-008EE6B2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08A290-7482-4B6E-84B5-03BE3BAB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1B7A72-3C23-4CCC-B420-C15A4E3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A2E59A-9094-4E5E-98A6-5BB60CAC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0CB176-80A7-4D5D-B9D1-F51B1B59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30CA1E-B812-4649-9251-C6831C9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9B14-C493-4481-BE6D-5F0CDE52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F7BAA9-1F12-47D5-B4A3-17E45AE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14D4F9-F152-48B4-9D37-49032D1E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E4ABC4-7083-47A2-97E2-9C36BEC1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2E82EB-F2B3-4E66-923C-28DC77D4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43AE06-4D3A-4614-842B-8FF9418B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9BEE94-5AFA-41B3-A360-194908AD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613A1E-DE33-4925-A752-D099C346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D5FC8A-42F9-41BD-A8FF-AEFCBC68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8423A7-963C-49E0-B905-6EEDBDE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28426D-6DAB-4302-9EA2-E63B352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9D7B-5035-45FC-8C3B-4979FC6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690966-CA1E-4F9C-8A3B-1A05A275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0BCA9B-663E-459F-8372-5910B8F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D4E8D0-6ED2-45DB-AED5-97F7AEB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DB95E7-A575-4477-B229-47641C6A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6BF00F-20F7-4B54-90C2-ABEE0BB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27DF37-26D5-4311-9C34-1AF61ADB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AB32E4-B44E-4CAE-82D6-250896F4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610430-8C43-4CC6-9059-CC7B53FD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59FDC8-1125-446C-BD5A-6BB9646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8C3D80-F458-4508-AE65-5CB4512C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477-CC6B-4883-9A5B-0E17DD2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5303-80AA-4F4D-9C58-FF4C310F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543FBB-9979-4E29-AD16-A58874C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9CD9A1-DF34-4F5C-9B45-A996ADF9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064CDD-7A43-498D-A0FF-16237CBC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D5D77C-4C88-4AF8-A8D7-8E0DF25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2D3EEC-8A6A-4DC2-B949-A68D9AA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584BC2-7B2F-4F4E-B59F-2C313697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F49F8A-47D9-4879-8F42-0D3CD9B9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C1F35C-FA73-46B4-862A-85ABBAAB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272B2D-3540-42CB-88A5-794DB26F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5123-D781-4B17-8339-BD0B837C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AA22-A5C1-4977-839E-103AB9B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87E6-78FD-4422-9939-FA4D3F8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2858-417E-4D6A-8078-F73AACBB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4D07-B90A-44BB-AD02-27E77D9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F810-D786-42E3-9AB5-B6447DD4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0C14-65DA-4F17-BEAD-3DCBCE0A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5685-83B4-4EE5-BFC9-EECF6976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CB1A-BCBB-4374-A157-71C147CD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6DC-9262-46F0-97CB-30D7F842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0431-F626-4467-A7A3-395F4131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3E8B-9103-4C3B-8479-6E23D15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8D9A-42CB-4E48-B4E5-DB2BB7C9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D9E3-484E-40A0-A4B8-F3B82244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A154-287D-4ACA-BDB6-02BFB054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DE664-A8A6-4F3D-B438-83C7EF2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D5DD-8437-4703-B5A3-42BCD24F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67F0-CAF6-4A80-A19F-36B2A91C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5D86A-4A16-4FC6-B8DC-6A6A8FCF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69C2-031C-4779-9A73-EA570338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3AE-E8B6-42FF-81A0-50EC746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60B2-7D2B-4B09-AFF7-9F06CD4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A1BE7-220A-4F05-8986-8810C3BC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64C84-D242-4435-97B8-B3E8700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3144-1D99-45B4-BEB9-C058D5A9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9C743-9E80-4BBC-9723-55A4638E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113A7-9475-43BB-9CC0-D8B900FA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ED01B-7D1D-45D6-A0ED-F7E88DEA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85FB0-5FC6-4BD7-B06E-4777522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C4EBC-9617-407F-B5C5-05C8997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E312-98E3-404B-BD09-E51D7F2F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EF6-84F1-4982-B3A8-2C62CF4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44D2-5EB1-4952-96E4-19242E67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E248-C139-46D6-83CA-BEFDD934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DD17-A4E2-4053-96F9-6EE6A5AE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4135A-9DBC-4821-B56C-C65CFA7E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EE43-93E7-4A4B-8986-5F544BD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6FB7-417E-472B-898C-780CB3BC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8D115-6726-4022-8A32-EC8AD785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D5E6-94FC-45B4-BA7C-9C78E9E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D59AE-8C02-48D8-BDCC-9A3A167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9A08-805E-4A8E-BA1A-8640983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968-270C-4E4B-9D54-5060745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BB88E-57B8-46CC-9D76-37A720F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406B9-1B1B-4613-8E12-C4EEF91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ED037-1724-48A1-B132-0ACF85E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88DEC-D382-4EE5-8712-233759BF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75A98-A3D7-495F-8B37-9A0D8AEE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8407B-6880-4317-B9E7-DBC2B50F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9F60-E78C-4D30-9B09-C9A62DAD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DA00E-93C4-470D-9D95-18354E7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02B92-56F5-4A1E-A9A7-F14DDC8F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91E7-1FD7-4B82-AABB-2C7998C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3FE-4517-4735-AB54-9176FA2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A117-0432-4767-A2D7-31F3244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998F-94B1-46AA-B06D-C2565A3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FDD54-1C69-4A41-ACA3-03FB34D2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2049D-A282-4472-9496-DEB90B8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D96A-34B1-46C6-A15E-C079A23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8A06-9313-4FE5-BD1A-E4D05725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6C761-EBED-48ED-95BB-5EDEE9FB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9CD1C-2905-4DD6-AEB0-F5D2077B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7B107-2BB7-49F6-A83B-4131A6F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52957-87F0-4402-9893-1C984C71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B0F0-06B1-4376-934E-87A0D5CCC3B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61D7-8446-448D-A745-238D639B2950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5D55-015B-49AE-8374-ABE0BA42E68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8D68-DEAA-47B0-A1AB-489B66B5F8CD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5EA3-0AC7-48D5-A0F2-EB354BA9925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75B4-7328-4CBA-AEE1-662EE15DDB7C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865B-F4E8-4E2A-AD43-336FDADFB9E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062-310B-4B9B-B1BD-FC57D8A4C07D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7A4-891A-4709-9196-8F803D37320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46D6-DDF4-477A-826C-658C6D59629D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000-18E8-4282-B741-EB25E166F2A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C80-AF03-4E1B-AC77-08BC870D2AB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956B-8C40-4C87-B022-73B9913208A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553C-4199-472C-AB36-7AF4689DB183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AFA-91B9-460D-A1F4-A6610592753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B73C-D5BB-4F37-A5C3-87E85348B695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808-8652-464C-B3F4-6AB90E65725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87A2-EA36-4167-9605-9C6A30372CF2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CB91-2ADE-4712-A3C0-BFFF9DA5B07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46E3-E1BF-4D55-828B-D53CF31C009B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5F05-0FBE-433E-B65B-BA3D0CBDD4A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5AA-B981-4295-A66F-5527E670EB26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2728-E823-4C57-9965-EE966944C37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9A0-E166-4BE2-ADE8-42C1BA63C0FA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A2C-559A-4EEE-8538-41D62000786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8C5D-4680-4864-B827-DF289B1A59B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83A5-DBD9-437E-BD17-8F9D763E8EF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CBF5-467A-4B32-914F-AB240367F5E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FFF-27DE-4EA0-A8EA-264302F2B27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FA32-B42F-40AF-8C48-B726628093B3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0A40-0643-409A-A6F5-866AAC45865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36FA-CE60-4660-BF6D-AE12C63600EE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557-AA17-4DD2-9B79-3CFBA0C3C08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6747-2932-492E-BDA7-724EF3112179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A091-716C-45C3-A6D5-070F2139C6E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890D-E55B-44E6-AE4F-235AF7B12832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8B58-398D-4DF6-8733-537987E1AFB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F62-54FB-4223-B28A-17DE9A6F010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28D4-7068-4D0B-91C4-987CFA754E7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2CA2-423C-455A-A3EA-BF2BCC719573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4DE-100E-4D74-AF5D-56E02E2EA25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A7F0-45FC-4F7F-85CD-BB2F03928F0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FE58-77AA-4643-8C40-CEB258B7908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5CCF-7332-4BE8-893C-536A79B688A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21F-1E74-4B1F-812A-14D0F7DEE59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F58-3961-4017-84FE-57AD313D400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8D8-6275-452C-850A-8639B854F88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CB2-05BE-4AFD-9EF6-AE2BF4A99A07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D638-FF19-42DC-A72D-094140EC6EC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E6A0-B0A0-4E0A-8F04-D5DCEE61F008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C33B-1C5B-4141-B81D-FE1041A4298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1898-0E05-40A0-8943-836684B9A39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A281-B368-4810-B5BA-27CD442D1C7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C043-2095-4C6A-92B0-C2F5C92398D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0445-759E-4A9D-A410-C15648BE571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4A69-9927-4EE4-A477-39A35CE3C027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A5F-244A-4E60-B493-E6D5A25CEE5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6753-B6D5-45D6-9C58-5924CBA570F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17F-B286-4348-A3B0-2C7705A3E53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47A-BD63-4DFD-AFA4-8EA5081C9DC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86F4-E775-40DC-9AA8-0A0ECE83E58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50DA-4809-49D6-9778-DDCCD4ECB56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8179-E993-47FE-9137-6B4F452F506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3977-FD6E-45D8-B6D0-B9C1FD07F0CC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16E-A493-4894-9B99-B317E6B6C3F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937-CD88-4622-AB29-C2303DD033B9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BE9-B9DE-43C3-A302-B73E1F96B6A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9D4F-8F0C-4314-B86B-ABAF3C1B3380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acm.org/" TargetMode="External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computer.org/" TargetMode="External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19076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78dbb"/>
                </a:solidFill>
                <a:latin typeface="Century Gothic"/>
                <a:ea typeface="Tahoma"/>
              </a:rPr>
              <a:t>Information Systems Essentials, Sixth Edition</a:t>
            </a:r>
            <a:endParaRPr b="0" lang="en-US" sz="4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 type="subTitle"/>
          </p:nvPr>
        </p:nvSpPr>
        <p:spPr>
          <a:xfrm>
            <a:off x="3733560" y="44197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r>
              <a:rPr b="0" i="1" lang="en-US" sz="3800" spc="-1" strike="noStrike">
                <a:solidFill>
                  <a:srgbClr val="404040"/>
                </a:solidFill>
                <a:latin typeface="Century Gothic"/>
                <a:ea typeface="Tahoma"/>
              </a:rPr>
              <a:t>Chapter 10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r>
              <a:rPr b="0" i="1" lang="en-US" sz="3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1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B36-ACBF-41DE-9BC5-C8802F6D7A0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189-A94F-4578-8129-45A26EAF864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928880" y="53352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articipants in Systems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057400" y="1631880"/>
            <a:ext cx="944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evelopment tea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es objectives of the information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livers system that meets objectiv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takeholder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eople who ultimately benefit from the system development Proj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Rectangle 1"/>
          <p:cNvSpPr/>
          <p:nvPr/>
        </p:nvSpPr>
        <p:spPr>
          <a:xfrm>
            <a:off x="2023920" y="3573360"/>
            <a:ext cx="87202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Us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eople who will interact with the system regular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fessional who specializes in analyzing and designing business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gramm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sponsible for modifying or developing programs to satisfy user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4C5-76D8-4F64-AE39-F8B5F25FA7E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Slide Number Placeholder 4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E6B7-7C91-407E-8F2D-913CDEB554F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1" name="Picture 7" descr=""/>
          <p:cNvPicPr/>
          <p:nvPr/>
        </p:nvPicPr>
        <p:blipFill>
          <a:blip r:embed="rId1"/>
          <a:stretch/>
        </p:blipFill>
        <p:spPr>
          <a:xfrm>
            <a:off x="1897200" y="838080"/>
            <a:ext cx="6180120" cy="5029200"/>
          </a:xfrm>
          <a:prstGeom prst="rect">
            <a:avLst/>
          </a:prstGeom>
          <a:ln w="0">
            <a:noFill/>
          </a:ln>
        </p:spPr>
      </p:pic>
      <p:pic>
        <p:nvPicPr>
          <p:cNvPr id="2412" name="Picture 7" descr=""/>
          <p:cNvPicPr/>
          <p:nvPr/>
        </p:nvPicPr>
        <p:blipFill>
          <a:blip r:embed="rId2"/>
          <a:stretch/>
        </p:blipFill>
        <p:spPr>
          <a:xfrm>
            <a:off x="8839080" y="1447920"/>
            <a:ext cx="2419560" cy="3565440"/>
          </a:xfrm>
          <a:prstGeom prst="rect">
            <a:avLst/>
          </a:prstGeom>
          <a:ln w="0">
            <a:noFill/>
          </a:ln>
        </p:spPr>
      </p:pic>
      <p:sp>
        <p:nvSpPr>
          <p:cNvPr id="241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14B5-62CF-4C9F-8AF6-466BD08DC0E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9521-482E-4B45-9F11-E4B512A4784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1828800" y="65988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Strategic Plann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1752120" y="18284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dentify what information systems the organization need to achieve its goal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se SWOT approach to identify potential ISs based on: Strength, Weakness, Opportunities and Threa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lect a number of these ISs based on evaluation criter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7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7FA-7F92-4805-BA68-2A74EAE7C46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03AE-2900-43FA-874A-FFC1F8F6D6D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ystems Development Life Cycle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he life of the system continues as it is maintained and reviewe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 new project will be initiated and the cycle will start over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f the system needs significant improvement beyond the scope of maintenan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f it needs to be replaced because of a new generation of technology, o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f the IS needs of the organization change significantly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22F-5455-44CE-B3F3-3F2039BE678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A7D-2090-41DD-9B5B-87A00A3F15A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Traditional Systems Development Life Cycle  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investigation: (What is the problem?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udies existing systems and work processes to identify strengths, weaknesses, opportunities for improvement, and threa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dentifies problems and opportunities and considers them in light of business goal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is: (What is the solution?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e inputs and outpu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e functional and non functional requirements of the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sign: (How does the solution work?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fines how the information system will do what it must do to obtain the problem’s solu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8985-FA5F-4D31-85E6-FA5FF4B6F90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3F3-9029-4198-AE2D-32D6AAB9B9E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Traditional Systems Development Life Cycle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implement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reates or acquires various system components detailed in systems design, assembles them, and places new or modified system into ope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maintenance and review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Ensures the system operates as intend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Modifies the system so that it continues to meet changing business need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D33-5073-4C52-9259-141E01F0788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35F-3E00-4CD7-B2EB-E7A2A2F876C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Approaches for System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raditional Approac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ototyp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apid Application Development (RAD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gi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omputer-Aided Software Engineering (CASE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Object-Oriented Systems Development (OOSD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CE9-7784-4507-BEAB-2492440D633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3C1B-9917-4721-8095-3FFFFC6AC68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Traditional Approach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1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2" name="Picture 7" descr=""/>
          <p:cNvPicPr/>
          <p:nvPr/>
        </p:nvPicPr>
        <p:blipFill>
          <a:blip r:embed="rId1"/>
          <a:stretch/>
        </p:blipFill>
        <p:spPr>
          <a:xfrm>
            <a:off x="3419640" y="1676520"/>
            <a:ext cx="2971800" cy="4373280"/>
          </a:xfrm>
          <a:prstGeom prst="rect">
            <a:avLst/>
          </a:prstGeom>
          <a:ln w="0">
            <a:noFill/>
          </a:ln>
        </p:spPr>
      </p:pic>
      <p:pic>
        <p:nvPicPr>
          <p:cNvPr id="2443" name="Picture 7" descr=""/>
          <p:cNvPicPr/>
          <p:nvPr/>
        </p:nvPicPr>
        <p:blipFill>
          <a:blip r:embed="rId2"/>
          <a:stretch/>
        </p:blipFill>
        <p:spPr>
          <a:xfrm>
            <a:off x="6700680" y="2513160"/>
            <a:ext cx="2246400" cy="1463400"/>
          </a:xfrm>
          <a:prstGeom prst="rect">
            <a:avLst/>
          </a:prstGeom>
          <a:ln w="0">
            <a:noFill/>
          </a:ln>
        </p:spPr>
      </p:pic>
      <p:sp>
        <p:nvSpPr>
          <p:cNvPr id="2444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26C-6987-4441-AE45-4B7BF908FD4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Slide Number Placeholder 4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F342-4BFB-47A3-81A7-BB09AC4ADFD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943280" y="6091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totyp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2045880" y="14475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 iterative approac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uring each iter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quirements and alternative solutions to the problem are identified and analyz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New solutions are designed, and a portion of the system is implement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8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0EEF-916A-499B-A741-FC3ED8C9829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4EB-585C-4110-9E80-40AAE4DEA8F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2057400" y="58860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totyp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52" name="Footer Placeholder 1"/>
          <p:cNvSpPr/>
          <p:nvPr/>
        </p:nvSpPr>
        <p:spPr>
          <a:xfrm>
            <a:off x="2666880" y="650088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3" name="Picture 7" descr=""/>
          <p:cNvPicPr/>
          <p:nvPr/>
        </p:nvPicPr>
        <p:blipFill>
          <a:blip r:embed="rId1"/>
          <a:stretch/>
        </p:blipFill>
        <p:spPr>
          <a:xfrm>
            <a:off x="1735200" y="1593720"/>
            <a:ext cx="4802040" cy="454212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7" descr=""/>
          <p:cNvPicPr/>
          <p:nvPr/>
        </p:nvPicPr>
        <p:blipFill>
          <a:blip r:embed="rId2"/>
          <a:stretch/>
        </p:blipFill>
        <p:spPr>
          <a:xfrm>
            <a:off x="1494000" y="5357880"/>
            <a:ext cx="2346120" cy="109692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7" descr=""/>
          <p:cNvPicPr/>
          <p:nvPr/>
        </p:nvPicPr>
        <p:blipFill>
          <a:blip r:embed="rId3"/>
          <a:stretch/>
        </p:blipFill>
        <p:spPr>
          <a:xfrm>
            <a:off x="6904080" y="1593720"/>
            <a:ext cx="3048120" cy="46134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7" descr=""/>
          <p:cNvPicPr/>
          <p:nvPr/>
        </p:nvPicPr>
        <p:blipFill>
          <a:blip r:embed="rId4"/>
          <a:stretch/>
        </p:blipFill>
        <p:spPr>
          <a:xfrm>
            <a:off x="9980640" y="5311800"/>
            <a:ext cx="2173320" cy="1189080"/>
          </a:xfrm>
          <a:prstGeom prst="rect">
            <a:avLst/>
          </a:prstGeom>
          <a:ln w="0">
            <a:noFill/>
          </a:ln>
        </p:spPr>
      </p:pic>
      <p:sp>
        <p:nvSpPr>
          <p:cNvPr id="2457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C1D1-C8DB-47DE-905D-333E18A923E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Slide Number Placeholder 4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BFC2-F3D0-4C6A-9094-1DE0BFCC3A1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ffective systems development requires a team effort of stakeholders, users, managers, systems development specialists, and various support personnel, and it starts with careful plann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dentify the key participants in the systems development process and discuss their rol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fine the term information systems planning and discuss the importance of planning a proj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6F4D-C1CD-4370-9B0D-2AE473E7D23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3E48-050B-4217-A53C-404248CAA97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1. Systems Investig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primary problems might a new or enhanced system solv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opportunities might a new or enhanced system provid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new hardware, software, databases, telecommunications, personnel, or procedures will improve an existing system or are required in a new syste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are the potential costs (variable and fixed)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are the associated risk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28C5-FDE6-4F61-862C-5BD38D0716F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50F-6200-4AAA-BA7D-027B432DD270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nitiating Systems Investig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request for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Filled out by someone who wants IS department to initiate systems investig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formation included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Problems in or opportunities for system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Objectives of systems investigation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Overview of proposed system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Expected costs and benefits of proposed system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4DB3-3516-46FA-A0AC-2C88D3915FB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DD5B-BE2E-4D5B-891A-18B63480F98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Feasibility Analysi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ssesses (evaluate)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echnical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Economic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Legal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Operational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chedule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9C3D-E045-4650-A56F-279E8835DB8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210-F37D-40EE-B55E-6F1FDC7D9870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5" name="Picture 7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3809880" cy="4754520"/>
          </a:xfrm>
          <a:prstGeom prst="rect">
            <a:avLst/>
          </a:prstGeom>
          <a:ln w="0">
            <a:noFill/>
          </a:ln>
        </p:spPr>
      </p:pic>
      <p:pic>
        <p:nvPicPr>
          <p:cNvPr id="2476" name="Picture 7" descr=""/>
          <p:cNvPicPr/>
          <p:nvPr/>
        </p:nvPicPr>
        <p:blipFill>
          <a:blip r:embed="rId2"/>
          <a:stretch/>
        </p:blipFill>
        <p:spPr>
          <a:xfrm>
            <a:off x="7696080" y="3200400"/>
            <a:ext cx="2292480" cy="1096920"/>
          </a:xfrm>
          <a:prstGeom prst="rect">
            <a:avLst/>
          </a:prstGeom>
          <a:ln w="0">
            <a:noFill/>
          </a:ln>
        </p:spPr>
      </p:pic>
      <p:sp>
        <p:nvSpPr>
          <p:cNvPr id="247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414-A183-481C-B26D-9EAAAC79036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DB8-DB5A-45A4-90A4-CDE6E12B0F4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Systems Investigation Repor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ummarizes results of systems investig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ummarizes the process of feasibility analysi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commends a course of ac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ntinue on into systems analysi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Modify the project in some manne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rop the proj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viewed by steering committe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BA3-D2AA-433A-B746-3BEB764942A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E01-8DBC-4FC2-BE52-F1A9CA22815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5" name="Picture 7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4741920" cy="4846680"/>
          </a:xfrm>
          <a:prstGeom prst="rect">
            <a:avLst/>
          </a:prstGeom>
          <a:ln w="0">
            <a:noFill/>
          </a:ln>
        </p:spPr>
      </p:pic>
      <p:pic>
        <p:nvPicPr>
          <p:cNvPr id="2486" name="Picture 7" descr=""/>
          <p:cNvPicPr/>
          <p:nvPr/>
        </p:nvPicPr>
        <p:blipFill>
          <a:blip r:embed="rId2"/>
          <a:stretch/>
        </p:blipFill>
        <p:spPr>
          <a:xfrm>
            <a:off x="7848720" y="4343400"/>
            <a:ext cx="2041560" cy="822240"/>
          </a:xfrm>
          <a:prstGeom prst="rect">
            <a:avLst/>
          </a:prstGeom>
          <a:ln w="0">
            <a:noFill/>
          </a:ln>
        </p:spPr>
      </p:pic>
      <p:sp>
        <p:nvSpPr>
          <p:cNvPr id="248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686-0633-4F75-AA55-7751451101A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5BC-6116-4984-9D46-F1A97347D59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2. Systems Analysi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Overall emphasis of analys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Gathering data on existing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ing requirements for new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nsidering alternativ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ng feasibility of solution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imary outcome of systems analys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ioritized list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requiremen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A4D6-2921-4C58-AAEA-DD6A11AFB01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9F6A-43E0-4BC6-95E9-6BDC515CEEB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Use Case diagra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5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D747-CD85-4BC2-92A8-BB003F97CDE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3DC-0B72-4F63-812F-328B6E6BD80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8" name="Picture 7" descr=""/>
          <p:cNvPicPr/>
          <p:nvPr/>
        </p:nvPicPr>
        <p:blipFill>
          <a:blip r:embed="rId1"/>
          <a:stretch/>
        </p:blipFill>
        <p:spPr>
          <a:xfrm>
            <a:off x="2286000" y="1665360"/>
            <a:ext cx="7273800" cy="402264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7" descr=""/>
          <p:cNvPicPr/>
          <p:nvPr/>
        </p:nvPicPr>
        <p:blipFill>
          <a:blip r:embed="rId2"/>
          <a:stretch/>
        </p:blipFill>
        <p:spPr>
          <a:xfrm>
            <a:off x="4800600" y="5791320"/>
            <a:ext cx="235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943280" y="5727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Sequence Diagra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01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8A7-482B-4779-9897-B4D46B521AE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1DD-4A0E-44E9-9101-39C1CBE9107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4" name="Picture 7" descr=""/>
          <p:cNvPicPr/>
          <p:nvPr/>
        </p:nvPicPr>
        <p:blipFill>
          <a:blip r:embed="rId1"/>
          <a:stretch/>
        </p:blipFill>
        <p:spPr>
          <a:xfrm>
            <a:off x="1941480" y="1523880"/>
            <a:ext cx="4915080" cy="4551480"/>
          </a:xfrm>
          <a:prstGeom prst="rect">
            <a:avLst/>
          </a:prstGeom>
          <a:ln w="0">
            <a:noFill/>
          </a:ln>
        </p:spPr>
      </p:pic>
      <p:pic>
        <p:nvPicPr>
          <p:cNvPr id="2505" name="Picture 2" descr=""/>
          <p:cNvPicPr/>
          <p:nvPr/>
        </p:nvPicPr>
        <p:blipFill>
          <a:blip r:embed="rId2"/>
          <a:stretch/>
        </p:blipFill>
        <p:spPr>
          <a:xfrm>
            <a:off x="7391520" y="4038480"/>
            <a:ext cx="234792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Data Collec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dentifying sources of data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ternal and external sour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ollecting data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terview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rect observ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Questionnair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8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CFF-B210-4634-B2CE-628CCCCAA37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982-F0B9-433B-B659-0673D6B8591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often uses different approaches and tools such as traditional development, prototyping, rapid application development, end-user development, computer-aided software engineering, and object-oriented development to select, implement, and monitor projec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key features, advantages, and disadvantages of the traditional, prototyping, rapid application development, and end-user systems development life cycl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A648-AC31-443C-B336-1DDB496D86A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2727-F709-47DD-9AD9-3923B210D33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2" name="Picture 7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619600" cy="5238720"/>
          </a:xfrm>
          <a:prstGeom prst="rect">
            <a:avLst/>
          </a:prstGeom>
          <a:ln w="0">
            <a:noFill/>
          </a:ln>
        </p:spPr>
      </p:pic>
      <p:pic>
        <p:nvPicPr>
          <p:cNvPr id="2513" name="Picture 7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1932120" cy="731880"/>
          </a:xfrm>
          <a:prstGeom prst="rect">
            <a:avLst/>
          </a:prstGeom>
          <a:ln w="0">
            <a:noFill/>
          </a:ln>
        </p:spPr>
      </p:pic>
      <p:sp>
        <p:nvSpPr>
          <p:cNvPr id="251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3960-8D04-454A-805F-73D66D74838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33A-183B-45EB-8D66-7B69F28499D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7" name="Picture 7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5100480" cy="466380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7" descr=""/>
          <p:cNvPicPr/>
          <p:nvPr/>
        </p:nvPicPr>
        <p:blipFill>
          <a:blip r:embed="rId2"/>
          <a:stretch/>
        </p:blipFill>
        <p:spPr>
          <a:xfrm>
            <a:off x="7696080" y="2895480"/>
            <a:ext cx="2301840" cy="639720"/>
          </a:xfrm>
          <a:prstGeom prst="rect">
            <a:avLst/>
          </a:prstGeom>
          <a:ln w="0">
            <a:noFill/>
          </a:ln>
        </p:spPr>
      </p:pic>
      <p:sp>
        <p:nvSpPr>
          <p:cNvPr id="251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CBD-626E-4131-A70A-68BB7627552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0620-5400-438E-B758-5BE576FAFC1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Data Analysis (Modeling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990720" y="1801440"/>
            <a:ext cx="6780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ata model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ccomplished through the use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entity-relationship (ER) diagra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ctivity model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ccomplished through the use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ata-flow diagrams (DFD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FDs: Describe the activities that fulfill a business relationship or accomplish a business task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3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323-9E6F-40F1-AC26-29238B350B2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D8A4-1CE1-47EF-BD68-3FC575333E5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6" name="Picture 2" descr=""/>
          <p:cNvPicPr/>
          <p:nvPr/>
        </p:nvPicPr>
        <p:blipFill>
          <a:blip r:embed="rId1"/>
          <a:stretch/>
        </p:blipFill>
        <p:spPr>
          <a:xfrm>
            <a:off x="7916760" y="1801800"/>
            <a:ext cx="38862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Requirements Analysi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19810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urpose is to determine user, stakeholder, and organizational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need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echniques used to capture systems requirement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sking direct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ritical success factors (CSFs):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ctivities required for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ensuring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 the success of an organiz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he IS pla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quirements analysis tool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9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096E-99C5-4BA8-872D-3BD961A8941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3586-6D7D-4653-9F3D-743809F9306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752120" y="62028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Requirements Analysi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3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Rectangle 2"/>
          <p:cNvSpPr/>
          <p:nvPr/>
        </p:nvSpPr>
        <p:spPr>
          <a:xfrm>
            <a:off x="20574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5" name="Picture 7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8972640" cy="2011320"/>
          </a:xfrm>
          <a:prstGeom prst="rect">
            <a:avLst/>
          </a:prstGeom>
          <a:ln w="0">
            <a:noFill/>
          </a:ln>
        </p:spPr>
      </p:pic>
      <p:pic>
        <p:nvPicPr>
          <p:cNvPr id="2536" name="Picture 7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2441520" cy="1096920"/>
          </a:xfrm>
          <a:prstGeom prst="rect">
            <a:avLst/>
          </a:prstGeom>
          <a:ln w="0">
            <a:noFill/>
          </a:ln>
        </p:spPr>
      </p:pic>
      <p:sp>
        <p:nvSpPr>
          <p:cNvPr id="253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30E-8A81-4590-B31D-ABF312DC1B9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1CFE-50E9-430E-8A2B-A421E413389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Systems Analysis Repor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40" name=""/>
          <p:cNvSpPr txBox="1"/>
          <p:nvPr/>
        </p:nvSpPr>
        <p:spPr>
          <a:xfrm>
            <a:off x="243792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lement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rengths and weaknesses of existing system from a stakeholder’s perspectiv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ser/stakeholder requirements for new system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Organizational requirements for new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scription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what new information system should do to solve the probl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0969-55EB-4B0C-AA3D-615BA252C15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5B1E-4A8E-4AB0-BED8-0B67BBAAA56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5" name="Picture 7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681800" cy="4846680"/>
          </a:xfrm>
          <a:prstGeom prst="rect">
            <a:avLst/>
          </a:prstGeom>
          <a:ln w="0">
            <a:noFill/>
          </a:ln>
        </p:spPr>
      </p:pic>
      <p:pic>
        <p:nvPicPr>
          <p:cNvPr id="2546" name="Picture 7" descr=""/>
          <p:cNvPicPr/>
          <p:nvPr/>
        </p:nvPicPr>
        <p:blipFill>
          <a:blip r:embed="rId2"/>
          <a:stretch/>
        </p:blipFill>
        <p:spPr>
          <a:xfrm>
            <a:off x="7467480" y="4191120"/>
            <a:ext cx="2559240" cy="1006200"/>
          </a:xfrm>
          <a:prstGeom prst="rect">
            <a:avLst/>
          </a:prstGeom>
          <a:ln w="0">
            <a:noFill/>
          </a:ln>
        </p:spPr>
      </p:pic>
      <p:sp>
        <p:nvSpPr>
          <p:cNvPr id="254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6DF0-77FA-4AD1-A0AA-3E0AE9377D1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1E5E-2979-4EF9-8BC4-27203CF6F22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3. Systems Desig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swers the ques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How will the information system solve a problem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sults in a technical design that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ails system outputs, inputs, and user interfa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pecifies hardware, software, databases, telecommunications, personnel, and procedur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hows how these components are relat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3FE8-E8C6-438C-B5E6-D7CB8268F74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12F1-7D6D-4EFE-BF93-288A9244021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Logical and Physical Desig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Logic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scribes functional requirements of a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hysic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pecifies the characteristics of the system components necessary to put the logical design into action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39C-BCE3-483E-A5BD-DB5A14516B5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CD70-9C4C-47CB-9D12-69CBF57E3A1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2028960" y="787320"/>
            <a:ext cx="891216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ass Diagra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60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B7E-C8A1-4185-AB08-3F6517A7B2F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024-4B91-4653-995E-F383AE16A52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3" name="Picture 7" descr=""/>
          <p:cNvPicPr/>
          <p:nvPr/>
        </p:nvPicPr>
        <p:blipFill>
          <a:blip r:embed="rId1"/>
          <a:stretch/>
        </p:blipFill>
        <p:spPr>
          <a:xfrm>
            <a:off x="2589120" y="1752480"/>
            <a:ext cx="5473800" cy="4480200"/>
          </a:xfrm>
          <a:prstGeom prst="rect">
            <a:avLst/>
          </a:prstGeom>
          <a:ln w="0">
            <a:noFill/>
          </a:ln>
        </p:spPr>
      </p:pic>
      <p:pic>
        <p:nvPicPr>
          <p:cNvPr id="2564" name="Picture 7" descr=""/>
          <p:cNvPicPr/>
          <p:nvPr/>
        </p:nvPicPr>
        <p:blipFill>
          <a:blip r:embed="rId2"/>
          <a:stretch/>
        </p:blipFill>
        <p:spPr>
          <a:xfrm>
            <a:off x="8839080" y="4495680"/>
            <a:ext cx="2465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use of computer-aided software engineering (CASE) tools and the object-oriented approach to 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starts with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on and analysi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 of existing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investig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importance of performance and cost objectiv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analysis and discuss some of the tools and techniques used in this phase of systems develop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90F1-4A3F-47ED-A69C-63050E88938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6FAD-A5B7-4935-BD8D-674380A3AF1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828800" y="62820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Environmental Design Consideration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194112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vironment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lso called </a:t>
            </a:r>
            <a:r>
              <a:rPr b="0" i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green desig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olves systems development efforts that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duce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ower consumption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, require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less physical space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, and result in systems that can be disposed of in a way that doesn’t negatively affect the environ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F2C-F73D-4183-8AAA-28DA7F5C7F9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3F81-00E0-4EF8-943D-5BFA651CC0E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Design Repor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imary result of systems desig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flects decisions made and prepares the way for systems implement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DCAA-E09D-4FF6-BA23-5523D1FAAFA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3A3-8574-4E83-8A71-1931614CCDCE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6" name="Picture 7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4467240" cy="5553360"/>
          </a:xfrm>
          <a:prstGeom prst="rect">
            <a:avLst/>
          </a:prstGeom>
          <a:ln w="0">
            <a:noFill/>
          </a:ln>
        </p:spPr>
      </p:pic>
      <p:pic>
        <p:nvPicPr>
          <p:cNvPr id="2577" name="Picture 2" descr=""/>
          <p:cNvPicPr/>
          <p:nvPr/>
        </p:nvPicPr>
        <p:blipFill>
          <a:blip r:embed="rId2"/>
          <a:stretch/>
        </p:blipFill>
        <p:spPr>
          <a:xfrm>
            <a:off x="7315200" y="3429000"/>
            <a:ext cx="2473200" cy="914400"/>
          </a:xfrm>
          <a:prstGeom prst="rect">
            <a:avLst/>
          </a:prstGeom>
          <a:ln w="0">
            <a:noFill/>
          </a:ln>
        </p:spPr>
      </p:pic>
      <p:sp>
        <p:nvSpPr>
          <p:cNvPr id="257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8F2D-9F4E-4890-8820-B76A18E4243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CED-C3BB-4919-B5CE-D28123465F1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2022480" y="740880"/>
            <a:ext cx="891216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4. Systems Implement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8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clude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Hardware acquisi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gramming and software acquisition or develop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ser prepa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Hiring and training of personn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ite and data prepa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stallation, testing, start-up, and user acceptan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2871-B676-472F-9FD7-C5EB77F9433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C2A0-33A1-49DD-8E21-E556C8CD386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cquiring Hardware from an IS Vendor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S vendo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mpany that offers hardware, software, telecommunications systems, databases, IS personnel, or other computer-related resour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ypes of IS vendors includ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General computer manufacturer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mall computer manufacturers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eripheral equipment manufacturers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4793-D26C-4BCC-8090-515B0E239B7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29F7-ACB4-4FEF-A944-7D68B0F4DC8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cquiring Software: Make or Buy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Make-or-buy decis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Whether to obtain software from external or internal sour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xternally acquired software and Software as a Service (SaaS)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oftware as a Service (SaaS)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llows businesses to subscribe to Web-delivered application software by paying a monthly service charg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BCA-732B-4375-8CCF-3614E2C8DCA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0077-4523-40F1-9208-EC52D94A0C8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cquiring Database and Telecommunications System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atabases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 blend of hardware and softwar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Virtual databases and database as a service (DaaS)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opular ways to acquire database capabiliti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7F3B-AC3F-47F8-99BD-D4397015E81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2D91-4A0C-4FAA-B111-EB442AF6821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User Prepar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adying managers, decision makers, employees, other users, and stakeholders for new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mportant but often ignored area of systems implement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1947-9C24-40B6-9D74-97C155D71AE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93B-A419-4911-A0E2-711CB08FD12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S Personnel: Hiring and Train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 organization might have to hire and, in some cases, train new IS personn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ersonnel that might be needed for the new or modified syste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n IS manage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mputer programmer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ata entry operator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0A1-2557-4989-A756-BBC52478075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68A2-51CB-4814-9F4E-3B4CC17AA7EE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943280" y="512280"/>
            <a:ext cx="891216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ite Prepar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1" name=""/>
          <p:cNvSpPr txBox="1"/>
          <p:nvPr/>
        </p:nvSpPr>
        <p:spPr>
          <a:xfrm>
            <a:off x="20570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eparing the location of a new syste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eveloping IS sites that are energy efficient is importa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ecurity is also important for site prepar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480-BE77-48A3-ABB6-42732663957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F6FD-BDEB-4739-9FDC-11429AC1713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esigning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 new systems or modifying existing ones should always be aimed at helping an organization achieve its goal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design and discuss the differences between logical and physical systems desig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use of environmental design in the systems development proces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E33-BB37-452D-9924-4D560D55845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E4F-96C6-4083-AC5C-723C672EACA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Data Prepar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201888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lso called data convers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suring all files and databases are ready to be used with new computer software and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6F3-60B2-4456-873E-F0AC83E46F9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4BA-DEE9-4722-95AA-650E56B4943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nstall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cess of physically placing computer equipment on the site and making it operation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Normally, manufacturer is responsible for installing computer equi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omeone from the organization (usually IS manager) should oversee the proces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A24-C624-4340-92C4-6AFF9EC16C4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3A14-91BD-4598-938E-AA10A1891C6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est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258876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orms of test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nit testing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 testing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Volume testing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tegration testing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cceptance testing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A43-A571-4AE6-947D-24106B65E48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EDBE-2F67-47F4-B9C1-2D8B679809A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User Acceptanc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3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ormal agreement signed by user that states that a phase of installation or the complete system is approve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Legal document that removes or reduces IS vendor’s liabil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75B1-AA95-46A3-910A-72DDF268715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8100-2ED0-4F13-97A6-F9DF72DCEA4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942920" y="632880"/>
            <a:ext cx="9334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5. Systems Operation and Maintenanc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oper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se of a new or modified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maintenanc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hecking, changing, and enhancing the system to make it more useful in achieving user and organizational goal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36B3-B6DD-4E95-A721-24FC5E9AE2C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C5CF-2D3D-49A2-AADC-266C5236D6E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ystems Review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inal step of 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alyzes systems to make sure that they are operating as intende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an be performed during 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373-9864-46C2-B2BF-8669DD63740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4A29-F033-4C05-8181-B33EFB574F30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 </a:t>
            </a: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ystem Performance Measure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6" name=""/>
          <p:cNvSpPr txBox="1"/>
          <p:nvPr/>
        </p:nvSpPr>
        <p:spPr>
          <a:xfrm>
            <a:off x="2285640" y="19047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Monitoring the syste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Number of errors encounter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mount of memory requir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mount of processing or CPU time need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Other problem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 performance product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oftware that measures all components of the  information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F6FE-2522-45E3-951D-F226F50681F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77C0-2B4B-404B-83E2-A88E998825D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752120" y="58212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Continuous professional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Information Technology (IT) is changing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w technical skills of IS professionals become old so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IS professionals need to be aware and up-to-date of the latest technologies and innovations in the IS and IT field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ed for professional ethics and continuous professional development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113D-1359-4871-BB63-38AC5FC06C0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99C-5C07-4D50-94DD-53A43B90224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981080" y="623520"/>
            <a:ext cx="9523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8dbb"/>
                </a:solidFill>
                <a:latin typeface="Century Gothic"/>
                <a:ea typeface="Tahoma"/>
              </a:rPr>
              <a:t>Continuous Professional Development (Cont.)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55" name=""/>
          <p:cNvSpPr txBox="1"/>
          <p:nvPr/>
        </p:nvSpPr>
        <p:spPr>
          <a:xfrm>
            <a:off x="2133360" y="1523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Industry and government devote significant resources to the training of software engine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The ACM and IEEE-CS promote and support professional development through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Publica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Conferen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Workshop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Tutorial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6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17E-5B20-4F00-B268-490B54724BC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275-E7A0-471C-B897-CE1573405DD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mprove Yourself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59" name=""/>
          <p:cNvSpPr txBox="1"/>
          <p:nvPr/>
        </p:nvSpPr>
        <p:spPr>
          <a:xfrm>
            <a:off x="2619000" y="16761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ocus on professional development Opportuniti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nferences, training, certification, degre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uccessful people never stop learning about profession, industry, career pat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t minimum read industry trade journals and book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 in yoursel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0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DC3-172A-4F7A-A9BF-3DBD06D9910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DCF-A7A9-4510-A46B-500A16054E3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he primary emphasis of systems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mplementation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s to make sure that the right information is delivered to the right person in the right format at the right tim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implementation and discuss the various activities associated with this phase of systems develop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F23A-2C74-4749-B07D-5769E0E467C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E75-14EA-4D2A-9FCC-6AF8FBAB9CC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Be Prepared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258876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Never stop growing/expanding your networ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Update your resum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tay active outside of work – volunteer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Gain additional work experie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EEC-A074-4D37-85F3-E10D8912678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556-C34B-45B0-A471-C97EFF05FC5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2039760" y="632880"/>
            <a:ext cx="8910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fessional Societie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069640" y="1523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  <a:ea typeface="Tahoma"/>
              </a:rPr>
              <a:t>Two very active societies provide mature support for the Information Systems profession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Association for Computing Machinery (ACM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IEEE Computer Society (IEEE-CS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8978-EB5B-4A01-B49F-B2F98EB38AE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BCD1-3039-41B0-BBB9-B5AF89A8300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2163240" y="60912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AC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73" name=""/>
          <p:cNvSpPr txBox="1"/>
          <p:nvPr/>
        </p:nvSpPr>
        <p:spPr>
          <a:xfrm>
            <a:off x="1752120" y="1599840"/>
            <a:ext cx="99061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Association for Computing Machinery (ACM) (</a:t>
            </a:r>
            <a:r>
              <a:rPr b="0" lang="en-US" sz="2800" spc="-1" strike="noStrike" u="sng">
                <a:solidFill>
                  <a:srgbClr val="2da0f1"/>
                </a:solidFill>
                <a:uFillTx/>
                <a:latin typeface="Century Gothic"/>
                <a:ea typeface="Tahoma"/>
                <a:hlinkClick r:id="rId1"/>
              </a:rPr>
              <a:t>http://www.acm.org/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Founded in 1947, ACM has 75, 000 members and has the objective of advancing the skills of computing professionals and students worldwide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The ACM has 34 “special interest groups” (SIGs). The Special Interest Group on Management Information Systems (SIGMIS) promotes best-practice and research in the management of information systems and technologies and the use of these systems and technologies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85CD-8AFF-4CF4-8B58-19FB6BE3600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FF13-57EE-4B18-A7BC-B3F43F1D93D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1986120" y="64152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IEE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78" name=""/>
          <p:cNvSpPr txBox="1"/>
          <p:nvPr/>
        </p:nvSpPr>
        <p:spPr>
          <a:xfrm>
            <a:off x="1904760" y="1447560"/>
            <a:ext cx="96771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  <a:ea typeface="Tahoma"/>
              </a:rPr>
              <a:t>IEEE Computer Society (IEEE-CS) (</a:t>
            </a:r>
            <a:r>
              <a:rPr b="0" lang="en-US" sz="3200" spc="-1" strike="noStrike" u="sng">
                <a:solidFill>
                  <a:srgbClr val="2da0f1"/>
                </a:solidFill>
                <a:uFillTx/>
                <a:latin typeface="Century Gothic"/>
                <a:ea typeface="Tahoma"/>
                <a:hlinkClick r:id="rId1"/>
              </a:rPr>
              <a:t>http://computer.org/</a:t>
            </a:r>
            <a:r>
              <a:rPr b="0" lang="en-US" sz="3200" spc="-1" strike="noStrike">
                <a:solidFill>
                  <a:srgbClr val="404040"/>
                </a:solidFill>
                <a:latin typeface="Century Gothic"/>
                <a:ea typeface="Tahoma"/>
              </a:rPr>
              <a:t>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05600" indent="-271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Founded in 1946, with nearly 100,000 members, it is the largest of the 36 societies of the Institute of Electrical and Electronics Engineers (IEEE)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05600" indent="-271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The Computer Society's vision is to be the leading provider of technical information and services to the world's computing professional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664-5E0A-49EB-8EF7-19162486854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46EB-3520-42EB-8B83-5A97286495B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Certific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1699920" y="1600200"/>
            <a:ext cx="972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Certification is a voluntary process administered by a profession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Why certification is an asset for Information Systems related career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A student having a certification is more marketable and earn higher salarie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ertification give employers a criterion for selecting the most capable employee to recrui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Employees who update their knowledge and skills through certification are more valuable employees because of the strength they bring to the job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ACF7-8602-4BEA-8072-4724E9F4631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875-1B31-422F-8751-052E6ECB6840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Certification program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88" name=""/>
          <p:cNvSpPr txBox="1"/>
          <p:nvPr/>
        </p:nvSpPr>
        <p:spPr>
          <a:xfrm>
            <a:off x="1980720" y="1523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Currently there are many certification programs for various computing technologies in software, hardware, networking, system analysis and design. Most of the certifications are brand name certifications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Oracl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SAP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isc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Java/Su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Microsof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Novel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D3F-3EC6-4562-969E-208D202D503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7AFA-7085-4CAE-BB17-A06B8465FB7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846440" y="6091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Licens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Licensing is a process administered by a governmental authority to allow IS professionals to practice in their fields. Licensing requires in general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mpetency in IS Body Of Knowledg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mpetency in professional issues related to  I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de of ethic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Adhere to risk management guideline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Personal and professional responsibility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mmitment to professional ongoing developmen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9145-839A-4DBA-8290-D0147220D2A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59F-5BE4-4D0B-BA7E-556CD9DF15A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fessional Conduc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8" name=""/>
          <p:cNvSpPr txBox="1"/>
          <p:nvPr/>
        </p:nvSpPr>
        <p:spPr>
          <a:xfrm>
            <a:off x="2209680" y="1752120"/>
            <a:ext cx="9601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entury Gothic"/>
              </a:rPr>
              <a:t>Professional competence and integr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entury Gothic"/>
              </a:rPr>
              <a:t>Social implicatio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entury Gothic"/>
              </a:rPr>
              <a:t>Organization and leadership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4D17-6E19-4091-9951-552884A73D6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F72D-AFE1-4631-98A1-E421AC4EDF4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1733400" y="700200"/>
            <a:ext cx="1017288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Professional Competence and Integrity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1752120" y="1828800"/>
            <a:ext cx="982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Microsoft JhengHei"/>
              </a:rPr>
              <a:t>Continue to upgrade my professional knowledge and skills, and shall maintain awareness of technological developments, procedures and standards, which are relevant to my field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Microsoft JhengHei"/>
              </a:rPr>
              <a:t>Only offer to do work or provide a service within my professional competence and shall not claim any level of competence that I do not possess; any professional opinion which I am asked to give shall be objective and reliable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4" name="Rectangle 4"/>
          <p:cNvSpPr/>
          <p:nvPr/>
        </p:nvSpPr>
        <p:spPr>
          <a:xfrm>
            <a:off x="1638360" y="1523880"/>
            <a:ext cx="885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4097-128F-4348-8ABD-FC7EB37B467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3D8A-0006-427F-A8CC-904EF2EF79B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Social Implication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09" name=""/>
          <p:cNvSpPr txBox="1"/>
          <p:nvPr/>
        </p:nvSpPr>
        <p:spPr>
          <a:xfrm>
            <a:off x="2437920" y="1901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crease my awareness of issues affecting the IT profession and its relationship with the commun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sure that within my chosen fields, I have knowledge and understanding of relevant legislation, regulations and standards and that I comply with such requiremen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0" name="Rectangle 4"/>
          <p:cNvSpPr/>
          <p:nvPr/>
        </p:nvSpPr>
        <p:spPr>
          <a:xfrm>
            <a:off x="1638360" y="1523880"/>
            <a:ext cx="885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2958-0898-4C17-A04E-C42B7919B15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CD0-3409-49B2-8AAB-013BB877599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Maintenance and review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dd to the useful life of a system but can consume large amounts of resources, so they benefit from the same rigorous methods and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ject management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echniques applied to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importance of systems and software maintenance and discuss the activities involv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scribe the systems review proces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E36D-6FB3-4B17-B6BE-82479287070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7DF4-E645-4B95-849C-18B73B412D8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Organisation and</a:t>
            </a: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Leadership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228564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Keep myself and subordinates informed of new technologies, practices, legal requirements and standards as are relevant to my du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Encourage my colleagues, employees and students to continue their own professional development, and ensure that subordinates are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rained in order to be effective in their duti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o qualify for increased responsibilities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6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01B7-7734-473D-A278-DA16E00C49B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F0D7-2174-461F-AC72-F6D47FEDAF2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Organisation &amp;</a:t>
            </a: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Leadership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20" name=""/>
          <p:cNvSpPr txBox="1"/>
          <p:nvPr/>
        </p:nvSpPr>
        <p:spPr>
          <a:xfrm>
            <a:off x="2322360" y="1888920"/>
            <a:ext cx="8955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reate opportunities for members of the organization to learn the principles and limitations of IT and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ccept professional responsibility for my work and for the work of my subordinates and associates under my direc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1" name="Rectangle 4"/>
          <p:cNvSpPr/>
          <p:nvPr/>
        </p:nvSpPr>
        <p:spPr>
          <a:xfrm>
            <a:off x="1638360" y="1523880"/>
            <a:ext cx="885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27F-6E8F-4068-B3B2-7A5648104FF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2607-AC7D-4737-928A-91082FC7F68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tea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keholders, users, managers, systems development specialists, and various support personn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ive phases of the traditional SDLC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on, analysis, design, implementation, and maintenance and review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totyp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n iterative development approach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8369-FF1D-4CD9-AE20-52C855EDFD5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F0A0-89ED-40DD-B7FF-8E55136978F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 (cont.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2590560" y="16761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on proces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itiated by a systems request for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he examination of existing system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urpose of systems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o prepare the detailed design needs for a new system or modifications to an existing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vironment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olves systems development efforts that slash power consumption and take less physical spa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3AB0-41F0-4EEC-8B81-45A4B68CA1E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B989-9F4C-442C-9663-C9F6C18ED75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 (cont.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urpose of systems implement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o install a system and make everything, including users, ready for its ope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oftwar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an be purchased from external vendors or developed in hous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oper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he use of a new or modified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1A1-EA5F-4D65-AAD7-E55D04947AE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CBD7-3A25-4DAB-970B-55EBD605D7F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2022480" y="74304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 (cont.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204120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Continuous Professional Development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Professional Societie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Certification and licensing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Professional conduct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58DD-DD2B-488A-A117-125479F14FC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2E7C-CC70-4F46-9FE9-02D10198BE30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Why Learn About Systems Development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 this chapter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You will see how you can initiate the systems development process and analyze your needs with the help of IS personn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You will learn how your project can be planned, aligned with corporate goals, and rapidly develop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857-72DD-4FE8-B1E4-811F4B0405B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135B-22D8-466C-A94A-DD9AF087F50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n Overview of Systems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361960" y="16761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 today’s businesse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Managers and employees in all functional areas work together and use business information system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his chapter will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vide you with a deeper appreciation of the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cess for individuals and organization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972-D175-41C2-8301-A3869BAD995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9CD6-EB6E-4895-9372-54A8F160712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/>
  <dc:description/>
  <cp:keywords/>
  <dc:language>en-US</dc:language>
  <cp:lastModifiedBy>Ahmed E Youssef</cp:lastModifiedBy>
  <dcterms:modified xsi:type="dcterms:W3CDTF">2016-12-20T05:44:09Z</dcterms:modified>
  <cp:revision>531</cp:revision>
  <dc:subject/>
  <dc:title> Principles of Information Systems, Ninth Edition</dc:title>
</cp:coreProperties>
</file>