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2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notesMasterIdLst>
    <p:notesMasterId r:id="rId36"/>
  </p:notesMasterIdLst>
  <p:sldIdLst>
    <p:sldId id="256" r:id="rId37"/>
    <p:sldId id="257" r:id="rId38"/>
    <p:sldId id="258" r:id="rId39"/>
    <p:sldId id="259" r:id="rId40"/>
    <p:sldId id="260" r:id="rId41"/>
    <p:sldId id="261" r:id="rId42"/>
    <p:sldId id="262" r:id="rId43"/>
    <p:sldId id="263" r:id="rId44"/>
    <p:sldId id="264" r:id="rId45"/>
    <p:sldId id="265" r:id="rId46"/>
    <p:sldId id="266" r:id="rId47"/>
    <p:sldId id="267" r:id="rId48"/>
    <p:sldId id="268" r:id="rId49"/>
    <p:sldId id="269" r:id="rId50"/>
    <p:sldId id="270" r:id="rId51"/>
    <p:sldId id="271" r:id="rId52"/>
    <p:sldId id="272" r:id="rId53"/>
    <p:sldId id="273" r:id="rId54"/>
    <p:sldId id="274" r:id="rId55"/>
    <p:sldId id="275" r:id="rId56"/>
    <p:sldId id="276" r:id="rId57"/>
    <p:sldId id="277" r:id="rId58"/>
    <p:sldId id="278" r:id="rId59"/>
    <p:sldId id="279" r:id="rId60"/>
    <p:sldId id="280" r:id="rId61"/>
    <p:sldId id="281" r:id="rId62"/>
    <p:sldId id="282" r:id="rId63"/>
    <p:sldId id="283" r:id="rId64"/>
    <p:sldId id="284" r:id="rId65"/>
    <p:sldId id="285" r:id="rId66"/>
    <p:sldId id="286" r:id="rId67"/>
    <p:sldId id="287" r:id="rId68"/>
    <p:sldId id="288" r:id="rId69"/>
    <p:sldId id="289" r:id="rId70"/>
    <p:sldId id="290" r:id="rId71"/>
    <p:sldId id="291" r:id="rId72"/>
    <p:sldId id="292" r:id="rId73"/>
    <p:sldId id="293" r:id="rId74"/>
    <p:sldId id="294" r:id="rId75"/>
    <p:sldId id="295" r:id="rId76"/>
    <p:sldId id="296" r:id="rId77"/>
    <p:sldId id="297" r:id="rId78"/>
    <p:sldId id="298" r:id="rId79"/>
    <p:sldId id="299" r:id="rId80"/>
    <p:sldId id="300" r:id="rId81"/>
    <p:sldId id="301" r:id="rId82"/>
    <p:sldId id="302" r:id="rId83"/>
    <p:sldId id="303" r:id="rId84"/>
    <p:sldId id="304" r:id="rId85"/>
    <p:sldId id="305" r:id="rId86"/>
    <p:sldId id="306" r:id="rId87"/>
    <p:sldId id="307" r:id="rId88"/>
    <p:sldId id="308" r:id="rId89"/>
    <p:sldId id="309" r:id="rId90"/>
    <p:sldId id="310" r:id="rId91"/>
    <p:sldId id="311" r:id="rId92"/>
    <p:sldId id="312" r:id="rId93"/>
    <p:sldId id="313" r:id="rId94"/>
    <p:sldId id="314" r:id="rId95"/>
    <p:sldId id="315" r:id="rId96"/>
    <p:sldId id="316" r:id="rId97"/>
    <p:sldId id="317" r:id="rId98"/>
    <p:sldId id="318" r:id="rId99"/>
    <p:sldId id="319" r:id="rId100"/>
    <p:sldId id="320" r:id="rId101"/>
    <p:sldId id="321" r:id="rId102"/>
    <p:sldId id="322" r:id="rId103"/>
    <p:sldId id="323" r:id="rId104"/>
    <p:sldId id="324" r:id="rId105"/>
    <p:sldId id="325" r:id="rId106"/>
    <p:sldId id="326" r:id="rId107"/>
    <p:sldId id="327" r:id="rId108"/>
    <p:sldId id="328" r:id="rId109"/>
    <p:sldId id="329" r:id="rId110"/>
    <p:sldId id="330" r:id="rId1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notesMaster" Target="notesMasters/notesMaster1.xml"/><Relationship Id="rId37" Type="http://schemas.openxmlformats.org/officeDocument/2006/relationships/slide" Target="slides/slide1.xml"/><Relationship Id="rId38" Type="http://schemas.openxmlformats.org/officeDocument/2006/relationships/slide" Target="slides/slide2.xml"/><Relationship Id="rId39" Type="http://schemas.openxmlformats.org/officeDocument/2006/relationships/slide" Target="slides/slide3.xml"/><Relationship Id="rId40" Type="http://schemas.openxmlformats.org/officeDocument/2006/relationships/slide" Target="slides/slide4.xml"/><Relationship Id="rId41" Type="http://schemas.openxmlformats.org/officeDocument/2006/relationships/slide" Target="slides/slide5.xml"/><Relationship Id="rId42" Type="http://schemas.openxmlformats.org/officeDocument/2006/relationships/slide" Target="slides/slide6.xml"/><Relationship Id="rId43" Type="http://schemas.openxmlformats.org/officeDocument/2006/relationships/slide" Target="slides/slide7.xml"/><Relationship Id="rId44" Type="http://schemas.openxmlformats.org/officeDocument/2006/relationships/slide" Target="slides/slide8.xml"/><Relationship Id="rId45" Type="http://schemas.openxmlformats.org/officeDocument/2006/relationships/slide" Target="slides/slide9.xml"/><Relationship Id="rId46" Type="http://schemas.openxmlformats.org/officeDocument/2006/relationships/slide" Target="slides/slide10.xml"/><Relationship Id="rId47" Type="http://schemas.openxmlformats.org/officeDocument/2006/relationships/slide" Target="slides/slide11.xml"/><Relationship Id="rId48" Type="http://schemas.openxmlformats.org/officeDocument/2006/relationships/slide" Target="slides/slide12.xml"/><Relationship Id="rId49" Type="http://schemas.openxmlformats.org/officeDocument/2006/relationships/slide" Target="slides/slide13.xml"/><Relationship Id="rId50" Type="http://schemas.openxmlformats.org/officeDocument/2006/relationships/slide" Target="slides/slide14.xml"/><Relationship Id="rId51" Type="http://schemas.openxmlformats.org/officeDocument/2006/relationships/slide" Target="slides/slide15.xml"/><Relationship Id="rId52" Type="http://schemas.openxmlformats.org/officeDocument/2006/relationships/slide" Target="slides/slide16.xml"/><Relationship Id="rId53" Type="http://schemas.openxmlformats.org/officeDocument/2006/relationships/slide" Target="slides/slide17.xml"/><Relationship Id="rId54" Type="http://schemas.openxmlformats.org/officeDocument/2006/relationships/slide" Target="slides/slide18.xml"/><Relationship Id="rId55" Type="http://schemas.openxmlformats.org/officeDocument/2006/relationships/slide" Target="slides/slide19.xml"/><Relationship Id="rId56" Type="http://schemas.openxmlformats.org/officeDocument/2006/relationships/slide" Target="slides/slide20.xml"/><Relationship Id="rId57" Type="http://schemas.openxmlformats.org/officeDocument/2006/relationships/slide" Target="slides/slide21.xml"/><Relationship Id="rId58" Type="http://schemas.openxmlformats.org/officeDocument/2006/relationships/slide" Target="slides/slide22.xml"/><Relationship Id="rId59" Type="http://schemas.openxmlformats.org/officeDocument/2006/relationships/slide" Target="slides/slide23.xml"/><Relationship Id="rId60" Type="http://schemas.openxmlformats.org/officeDocument/2006/relationships/slide" Target="slides/slide24.xml"/><Relationship Id="rId61" Type="http://schemas.openxmlformats.org/officeDocument/2006/relationships/slide" Target="slides/slide25.xml"/><Relationship Id="rId62" Type="http://schemas.openxmlformats.org/officeDocument/2006/relationships/slide" Target="slides/slide26.xml"/><Relationship Id="rId63" Type="http://schemas.openxmlformats.org/officeDocument/2006/relationships/slide" Target="slides/slide27.xml"/><Relationship Id="rId64" Type="http://schemas.openxmlformats.org/officeDocument/2006/relationships/slide" Target="slides/slide28.xml"/><Relationship Id="rId65" Type="http://schemas.openxmlformats.org/officeDocument/2006/relationships/slide" Target="slides/slide29.xml"/><Relationship Id="rId66" Type="http://schemas.openxmlformats.org/officeDocument/2006/relationships/slide" Target="slides/slide30.xml"/><Relationship Id="rId67" Type="http://schemas.openxmlformats.org/officeDocument/2006/relationships/slide" Target="slides/slide31.xml"/><Relationship Id="rId68" Type="http://schemas.openxmlformats.org/officeDocument/2006/relationships/slide" Target="slides/slide32.xml"/><Relationship Id="rId69" Type="http://schemas.openxmlformats.org/officeDocument/2006/relationships/slide" Target="slides/slide33.xml"/><Relationship Id="rId70" Type="http://schemas.openxmlformats.org/officeDocument/2006/relationships/slide" Target="slides/slide34.xml"/><Relationship Id="rId71" Type="http://schemas.openxmlformats.org/officeDocument/2006/relationships/slide" Target="slides/slide35.xml"/><Relationship Id="rId72" Type="http://schemas.openxmlformats.org/officeDocument/2006/relationships/slide" Target="slides/slide36.xml"/><Relationship Id="rId73" Type="http://schemas.openxmlformats.org/officeDocument/2006/relationships/slide" Target="slides/slide37.xml"/><Relationship Id="rId74" Type="http://schemas.openxmlformats.org/officeDocument/2006/relationships/slide" Target="slides/slide38.xml"/><Relationship Id="rId75" Type="http://schemas.openxmlformats.org/officeDocument/2006/relationships/slide" Target="slides/slide39.xml"/><Relationship Id="rId76" Type="http://schemas.openxmlformats.org/officeDocument/2006/relationships/slide" Target="slides/slide40.xml"/><Relationship Id="rId77" Type="http://schemas.openxmlformats.org/officeDocument/2006/relationships/slide" Target="slides/slide41.xml"/><Relationship Id="rId78" Type="http://schemas.openxmlformats.org/officeDocument/2006/relationships/slide" Target="slides/slide42.xml"/><Relationship Id="rId79" Type="http://schemas.openxmlformats.org/officeDocument/2006/relationships/slide" Target="slides/slide43.xml"/><Relationship Id="rId80" Type="http://schemas.openxmlformats.org/officeDocument/2006/relationships/slide" Target="slides/slide44.xml"/><Relationship Id="rId81" Type="http://schemas.openxmlformats.org/officeDocument/2006/relationships/slide" Target="slides/slide45.xml"/><Relationship Id="rId82" Type="http://schemas.openxmlformats.org/officeDocument/2006/relationships/slide" Target="slides/slide46.xml"/><Relationship Id="rId83" Type="http://schemas.openxmlformats.org/officeDocument/2006/relationships/slide" Target="slides/slide47.xml"/><Relationship Id="rId84" Type="http://schemas.openxmlformats.org/officeDocument/2006/relationships/slide" Target="slides/slide48.xml"/><Relationship Id="rId85" Type="http://schemas.openxmlformats.org/officeDocument/2006/relationships/slide" Target="slides/slide49.xml"/><Relationship Id="rId86" Type="http://schemas.openxmlformats.org/officeDocument/2006/relationships/slide" Target="slides/slide50.xml"/><Relationship Id="rId87" Type="http://schemas.openxmlformats.org/officeDocument/2006/relationships/slide" Target="slides/slide51.xml"/><Relationship Id="rId88" Type="http://schemas.openxmlformats.org/officeDocument/2006/relationships/slide" Target="slides/slide52.xml"/><Relationship Id="rId89" Type="http://schemas.openxmlformats.org/officeDocument/2006/relationships/slide" Target="slides/slide53.xml"/><Relationship Id="rId90" Type="http://schemas.openxmlformats.org/officeDocument/2006/relationships/slide" Target="slides/slide54.xml"/><Relationship Id="rId91" Type="http://schemas.openxmlformats.org/officeDocument/2006/relationships/slide" Target="slides/slide55.xml"/><Relationship Id="rId92" Type="http://schemas.openxmlformats.org/officeDocument/2006/relationships/slide" Target="slides/slide56.xml"/><Relationship Id="rId93" Type="http://schemas.openxmlformats.org/officeDocument/2006/relationships/slide" Target="slides/slide57.xml"/><Relationship Id="rId94" Type="http://schemas.openxmlformats.org/officeDocument/2006/relationships/slide" Target="slides/slide58.xml"/><Relationship Id="rId95" Type="http://schemas.openxmlformats.org/officeDocument/2006/relationships/slide" Target="slides/slide59.xml"/><Relationship Id="rId96" Type="http://schemas.openxmlformats.org/officeDocument/2006/relationships/slide" Target="slides/slide60.xml"/><Relationship Id="rId97" Type="http://schemas.openxmlformats.org/officeDocument/2006/relationships/slide" Target="slides/slide61.xml"/><Relationship Id="rId98" Type="http://schemas.openxmlformats.org/officeDocument/2006/relationships/slide" Target="slides/slide62.xml"/><Relationship Id="rId99" Type="http://schemas.openxmlformats.org/officeDocument/2006/relationships/slide" Target="slides/slide63.xml"/><Relationship Id="rId100" Type="http://schemas.openxmlformats.org/officeDocument/2006/relationships/slide" Target="slides/slide64.xml"/><Relationship Id="rId101" Type="http://schemas.openxmlformats.org/officeDocument/2006/relationships/slide" Target="slides/slide65.xml"/><Relationship Id="rId102" Type="http://schemas.openxmlformats.org/officeDocument/2006/relationships/slide" Target="slides/slide66.xml"/><Relationship Id="rId103" Type="http://schemas.openxmlformats.org/officeDocument/2006/relationships/slide" Target="slides/slide67.xml"/><Relationship Id="rId104" Type="http://schemas.openxmlformats.org/officeDocument/2006/relationships/slide" Target="slides/slide68.xml"/><Relationship Id="rId105" Type="http://schemas.openxmlformats.org/officeDocument/2006/relationships/slide" Target="slides/slide69.xml"/><Relationship Id="rId106" Type="http://schemas.openxmlformats.org/officeDocument/2006/relationships/slide" Target="slides/slide70.xml"/><Relationship Id="rId107" Type="http://schemas.openxmlformats.org/officeDocument/2006/relationships/slide" Target="slides/slide71.xml"/><Relationship Id="rId108" Type="http://schemas.openxmlformats.org/officeDocument/2006/relationships/slide" Target="slides/slide72.xml"/><Relationship Id="rId109" Type="http://schemas.openxmlformats.org/officeDocument/2006/relationships/slide" Target="slides/slide73.xml"/><Relationship Id="rId110" Type="http://schemas.openxmlformats.org/officeDocument/2006/relationships/slide" Target="slides/slide74.xml"/><Relationship Id="rId111" Type="http://schemas.openxmlformats.org/officeDocument/2006/relationships/slide" Target="slides/slide75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 type="dt" idx="10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5"/>
          <p:cNvSpPr>
            <a:spLocks noGrp="1"/>
          </p:cNvSpPr>
          <p:nvPr>
            <p:ph type="ftr" idx="10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PlaceHolder 6"/>
          <p:cNvSpPr>
            <a:spLocks noGrp="1"/>
          </p:cNvSpPr>
          <p:nvPr>
            <p:ph type="sldNum" idx="10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3428-D8F8-45E3-9303-7D5DE941B8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1787-F498-4CA9-BFC0-A7B2E0B4A2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0E60-45BD-40DB-BDE0-9BD0B17AF58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C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91A1-D9F0-4551-ACE8-A854162B45D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612A-A6A9-4A58-A380-DCAC96D4753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056B-C39C-4025-824A-C98F3D6139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4C63-6EF6-49FA-911F-D617A528F0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8BC2-A95C-4F98-9284-EA705935F2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F610-04D9-4E76-A0C6-F09986D930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AB25-7984-4306-8F3F-67EDC0CAB2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2E9C-8E4C-420A-973D-84CF85262F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F1FE-DF69-4CA1-8E9C-CB014F740F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783C-69DF-44FD-9C6C-D332E7F65B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D90D1-E17A-40A3-B510-F182F5B12A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7EDF-7BC4-4AB7-9665-25A8DEC73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D046-B2E2-460F-8E1A-3C5955C2B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2C42-DC1A-4EB4-B12F-5058DC21EDE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59F9-5883-47D7-8F82-75E8EC8BC0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CEC5-E28A-4ADD-91D3-53C7E7A0D7E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9259-6B76-42FC-8773-22B59F74AE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88F5-B079-46C7-935A-87DE3C60EEF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9216-B19E-401A-AA21-7928B1663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87A8-EAFA-4F7A-8E0F-B70E1C828C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AB41-F33D-4D87-925A-084DB8B78D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821D-8474-4565-92C9-97B6BE47A7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00E-EEC7-4E34-8392-7B1ED73F27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99E8-DB6E-4651-A098-4B06436129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9943-1128-498F-80BD-BD06146D78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0DEA-BE4D-426D-AAB8-C382FF1066C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EB0C-1B0A-45C3-AEC4-F8F2159F64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B930-AC07-40DE-B9CF-E02BAF43E5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2AE5-650E-404F-9B37-106E60F1CB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8C48-BD74-400E-84B7-052777C59C4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8D93-E20D-420F-BF61-4DCED9A0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ADA-B6E6-4138-AE92-CF9C468F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D0E69-7AD1-4FB0-8D05-647B7153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9EBAA-F73C-41CD-A6D8-481F3EAC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D56A-8E2B-4BA8-852B-BF121CA9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727AD-1F4C-4DEF-A6EC-B1D0D4EC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A7AD-18FA-4320-B8B2-180512C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5C44E-04D2-4460-B70E-81122CEF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64B33-B376-4B6B-8553-F0AB11E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7032B-DD54-4520-83C8-C3C8FC45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B8C81-B5C2-471A-B9CF-CAB5E9BD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16305-F056-484B-87D1-F7FF4C7E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FB0-70DC-4E68-8AE9-1088C167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49B45-B00A-4F3A-8B86-2E6E4D7D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2D55D-1D33-4179-9645-5F711552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8792A-C007-415B-A714-78E5FB9C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84603-F84A-4DE1-87FD-704903EB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99A98-3F25-46B0-8A82-BBF05871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2FDD9-BC9C-4BF5-8644-270AF102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E2195-9639-4E15-BA5D-4008AB1E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69A43-96C5-4933-B08A-1D4AFF9E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CF25A7-33B4-4B00-86F6-8F4C2D3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70A4D-ABEE-4E7F-9B10-79AC35B8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14FB-A25B-45F9-8194-9D569F35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7D53D-80A5-409F-88E8-C452295DD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6DC16-BDB0-413A-9989-55C360B42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19058-7A39-4696-B7C1-5C681395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2D9D3-DE3E-4FED-AB65-8F68BC97A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5B918-D5E2-453B-9C66-5B1E7E7D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1FFFD-90E9-4F71-876F-DA62C9C4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9F8F-27B5-41D7-ABA3-43B8A7444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565A22-791E-485A-A8F9-CD6E12DF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8D774-DB37-4B3E-A762-8C61D5D1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6C4C-3740-4624-9A1A-E3E5F5C9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D469-22E6-4A41-A56B-F7383E90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F6C48-06B1-4405-8321-5C1835A9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E67AF-86C7-4A1F-913B-8C7B9059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BF5C13-4575-4C76-8A51-D841D0F1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32E4F8-2340-48B4-83F9-D33F0609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68E9B-A852-41C9-8BD2-AFCC3FE4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986FC-BD7F-4103-9FD9-E716492B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6C5B3-AC47-4B6C-9BB5-08E57B0C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80665-6E9D-481F-B4E7-D2144938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919DA-16CB-43CC-BB8C-18070C3E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A086B-F47C-4DAC-A5CA-D1C92F64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AD81-5164-47FC-A10D-159F96DC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0ADFAB-0E2D-425D-9C5B-E323DC7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F75F1-E64F-471F-8891-8CF9B3AE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04B6E-8264-4E95-A347-11A9025C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D6E3C5-B480-40D5-B9E9-A0A77A6F6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1513A-BBE6-4C5A-9CDB-A289BB43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48B26-D5D0-42E8-9046-2003E47F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9C171-71A9-4333-A0BA-B496EA01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A89B41-DDCF-4E5B-91EA-D60444F0E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CAE095-CEFB-40CE-8D85-3711234E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870A05-03E2-4D73-BB36-0756590B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B38C-3BC2-41E3-B49D-BDE6E925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A654F-78F4-4CC5-9B17-7D244104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3B09EA-05B5-421C-B5F9-DC264621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67740-61A7-4D59-8208-5FF827B9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9E8E8-21ED-4ECB-A42C-0509FF16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7741E-F05E-459A-91B8-1316661FD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200EA9-0CD8-4241-A570-AEDD4344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9D1E8-9CA3-493E-9876-080E3912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A09FE-055A-4AC8-8015-D03A4F49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40C9B-CAE8-483A-98A8-5EACE910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7762D-AE33-4AC2-968B-27B94630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96413-58BA-4081-9296-9036CDBD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15E28-3271-4188-B3FC-8E8BE42D0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D5A8E8-5419-4759-A891-BD96D3FB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20868E-9540-4897-98E8-B6F2F153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EDB22-F6D9-48F3-8922-CF087080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FF8736-FAB9-42E0-821A-69D93D74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508C2-32EE-4B37-8AEC-BCEDCC13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7D649-CC22-4078-8369-F4FC428F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7463B-E2CB-48B5-9BCA-BA3C25F0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58D85F-8903-4FEF-91D6-B66AC3D8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137809-B7B0-4E12-BF52-E81A771D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0A3A-5E54-414F-BDC9-587149BD1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913FB-A002-4E2C-B6E9-88993AB81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47996-324D-48B0-99DB-1E00E15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907918-F051-4CCE-9A0F-A0610C8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DCD690-A19F-4741-91CE-DF56061A2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A77A0-E946-41FF-BABB-148F4FAF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3F1B2-1206-4BA9-978A-C8B33842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89B1A-B354-4728-AC72-17D1A784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6CAE6-783B-4332-AF96-723F9198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A2CCE9-6FC2-4DA6-BD78-3DDE35E4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1B0714-3EB3-4635-B9FC-569FD9CCE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4B84-D4AA-45EF-AA07-52968D48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66AD2-1983-4F0B-B975-CDE1DE25F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164168-8AD9-426C-8802-0E6A96B0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2EADF3-4C42-4E9F-AFFD-E62306C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A624E-54AC-4135-825C-94E864754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A9B82C-38DB-44A4-B793-9D4C6A56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9E30C0-C544-449E-980C-6566C6FF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74AA19-0359-4707-B102-5A363118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6B5AAE-33A1-4EE1-B256-A8C7FC29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8BD7C7-52B3-432B-9FB4-BDF716C9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6CCA7-A01D-4930-B1FA-36010020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BBB-E874-4546-A51B-53404F28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74991-C7AB-4466-8761-D73FFD17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1A5F7-0F5E-415B-96CB-E8D702DC9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C3639C-2D74-438F-A1A0-0FC7299E6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39423-4A54-422C-8BCB-E82A5173E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B9CAE0-1FFF-4943-B6B3-FC6AD37D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909CEF-B9CF-4C81-A449-F236850B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966A94-965F-49C6-81C8-4D4D5F73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7CD4BF-9237-409C-9A0F-611C42E4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C16907-F010-48DA-A230-70847886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A7766-499D-428A-8D64-AAC53E2A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43D-0882-42F4-8DDF-5010B6217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596E-D69E-48EF-B144-1BDE2EB1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4DEFD-4660-420B-ACEE-DEFBEE5C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D118C-A8D7-4065-94A0-5763AA6E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4902A5-2A9C-42A1-A83B-DBCC71DD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EB938A-1614-46F4-ABE5-4F6EDD1F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C70AB8-367C-4682-A75E-7BA1E8C5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B80FCB-E380-417C-93FA-FDBD937C6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64D38-72E3-4142-A0FF-B4591243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597F2F-080C-47AD-AB02-5529DA3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670F48-8305-4F09-9619-5B6186F8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51ABA-EFB0-4B47-B0D4-0950360F3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F540D-7955-4B3F-82E8-C13CB2FC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3919F6-5CA9-4A21-8843-65C257AB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88F0B5-7DA7-4220-A718-B4454DBF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883F0D-FE27-4342-8D30-E89B4D3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B36B4-2EB8-41B4-94E0-BCFC3DD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2A4483-3C70-4C95-8A16-7EDEE39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310C96-EEFB-4BAA-8E24-ACCD6D600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1382C9-E036-4DBD-BB46-6499A385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64CA8-31C7-42D1-95C5-32F44D8D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2FE35-F9C9-418E-B064-3059EF15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3677B0-7207-4B1E-8421-0547CFCE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DB243-D7B6-43AF-8681-A73DB8B7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558DCF-265E-4406-B0A3-3793C9C4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9D9765-3742-4E6B-931A-DA928DE4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19BDD-D82D-4D73-93EF-8A64E1FC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A69FAB-F8FA-4263-991A-1FAA56A0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E88BB7-1CE9-4DEC-BC2C-7832EBC2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BE68C3-3165-40EF-92A1-1F42ED8C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F9EEE-4315-4EF4-B58A-FCB2952B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537814-470A-4BE1-BF91-1E2E1A4E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8DE7BB-7E24-43BE-8B14-626B3E4FB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A96346-68F7-4DD4-B5C3-43174246F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E768-2A27-482F-8FD7-C8D5F980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EC6421-BC7A-4676-BAAC-05BC32E5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F35C13-F34E-42A8-B00E-DC30531E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44F19B-0D31-439A-9A55-A85EF12C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8B1AB-DADA-406D-8094-A5991FBB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BCC01-89C5-4020-BE8E-75FC86D2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CDC80B-5DC0-4287-A024-41DA3232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B77454-8417-4FE1-8DD9-2B8F702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394DAC-935C-4D71-84F5-F60841BB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5A6D3-53B4-49E8-9E59-C30D6430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F61552-BA1A-4833-9F78-517F330B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1CAB4-3292-4385-A1DC-95CE7238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B30AD-ADCD-49ED-9B74-85B7E322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4747FC-3679-442E-B0B8-03BDEF5E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D98ED9-54ED-4B42-92CD-C176583A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8E7AC8-0D28-4C4E-A9FF-A93E2EAE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6F0388-EA78-40AB-81F9-66C0A569F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F449BE-C5F9-4B45-B345-E02C3B1B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10C71-6D11-4AA7-8EEA-EE2B3AE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80A9B0-A984-4200-BA2D-99EABFA3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CC2A4C-D74A-4533-AE96-12B449D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B12DAA-C579-4574-AD17-B2AEF06C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DC5E1-7706-468B-A8C4-E07A4663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BA54FF-006C-4121-9350-A07CA6A5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927E9-CC67-4DC8-931D-2D40F958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D71527-605C-4D62-BC1E-4E58DFF5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EE3C41-5949-4177-AC0F-B5A11AC5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BB46F4-BD50-413F-82A1-01E84496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88C9ED-CFAB-4FE8-912A-AFB065F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ED97C8-00FB-49E1-AA9A-A570C14F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BD6CB-41A7-4B4D-8221-BB39F9AB8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EFDF77-70B8-44E3-82CE-C8ECA413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315986-62F3-41D0-95DB-C78264CF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DA382-81CB-4623-9312-AD3D46AF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6C3E7-C854-447F-AB3E-8756BDC9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9E495F-2FD3-4A94-8489-E95C01C3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929AB5-6556-4F53-84A7-25985D5C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4A7717-95DD-497A-93AB-7414D8C4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1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BEF43C-7EF6-4082-8B4D-054AC8C3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80DE3C-1DD6-47C9-A784-354749F53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F9B577-2DCD-43AA-8312-5B95698B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430E64-5015-43EE-886B-8C0BA0F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008DCC-12C6-4B7B-B149-F4F0BD9C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7524BF-9DD8-476B-B495-E87C3130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3D7C5-D405-4AB6-8830-CB01F97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84FDB4-ACD3-4EE0-93AD-756CFD5A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22BDB8-4188-4D15-BC99-5CFE14F5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0C6A82-DFB2-4DD5-B5B1-7A649AA2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FBDCEC-CC43-49AA-89C4-AA882274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37F03A-084D-468E-8D7F-CE440644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D2D0B-9F24-4B62-8C8A-447FD03D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FE794F-3816-4F4B-BC54-AF56945B8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CA29BF-BAD9-4637-B9FF-A09C792B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12141E-F384-4713-A461-9085CFCE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A1BF62C-E23C-4CC4-906A-18DBCBF9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2E5AC-BBEE-4AE7-AB23-0740ED89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682BD8-837D-4F35-8861-4B74D07F0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CAF962-8C5D-4CB9-9CA3-A6EBD884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2492F1-3FE4-4E5B-AD98-51914B7D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F27F2F0-EC93-4400-A2D2-ACCBFB0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406291-D2F7-4007-8D0D-E78EA26F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3E2BAA-E071-41DA-8373-EFD6C92E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12640D-3105-41CC-919A-23C61077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0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46542C-B12C-4940-A78F-16F64389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6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57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522BE1-635E-4E38-B8FF-C1EECA6E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ED99B9-DA25-4AAA-94BC-5F8DD7F56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C7A9E-F863-4A11-849A-DF858759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F851CC-36C2-4AFB-ADB7-747FF267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3E84094-BCA9-4A9B-8196-FDB50E3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6024B2B-4334-49DB-9DB7-63158679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ECC13A-023C-4623-966F-76653840C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AB70BE-EEA8-4921-BCA1-E37CC7A6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905EF8-E9BE-49B6-978A-B62A8D4F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A678B7-79F5-4541-835A-6C14E101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420B54-45D8-481A-9125-08F4EA50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8E46AA-8EE2-4F91-AF51-4AC9CBB2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854472-0B70-43F2-8589-741DCBC8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5617-1D91-4706-8942-774725ED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9465-B5B9-474B-AE04-ECFB61C95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75407B-AE5A-40AC-9399-85A805F1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2D2CD5-05C6-4C83-B2E7-4A5BE5A2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5AB9F4-5FEF-4B3E-8F5D-EA7D8E96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6AD46E-4B50-4F91-9811-96B77984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0FC90F-1BE3-440E-87E5-9B30F219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004AC3-D702-481C-9D59-CEB9253D7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35EF61-2187-4C66-A35A-34AA95FA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7305FE8-EEF0-4325-8229-5A0736B6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44CD39-24E0-49AA-AA2C-186B9872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1C5599-6B21-45C2-AB78-CC9634C6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57D6DC-BA72-4890-B83D-33DEE912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1FE3AC8-1DE5-427E-81CF-98F07E49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14C542-221A-48F1-BC50-91AAAAC0C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4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95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B4DEC87-BB67-4D84-B418-DA9535B6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47F698-81A3-4612-B9A3-CFD46B48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028540-AC3C-442B-A982-50594F5C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841586-8DA9-41C7-AA6E-15CBEF7EC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2ACF87-47F5-4A07-98FF-3DB9273F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25CC70-087A-4EBA-9A6F-FBB5440E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6884D5-8507-468E-992B-35D2BE7F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4CB366-41D7-4B1F-8B2B-870F734F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51A7-2C73-4A6D-A3D4-3403BD363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8711F7-38D4-4B1E-AE82-BBD8D5EE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809C91-2816-42E4-91AA-DFB715BF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F230D8-E622-4A27-9032-097E045A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FAE3B9-61F0-47B7-9324-55EC75642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FF1F6A-7605-4F74-944C-7DC59190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F60223-905C-47E2-A711-4EF1A226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2C2693-5955-4D70-9AD0-AE59C86D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51802D-7BEE-4402-BC7E-E5A0963D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FBEE72-AFBD-48AE-BA1A-8463FCE3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ECCBC9-AA08-4276-A105-63222547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11432-9782-4F04-9345-45E4E80F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03A410-1E5B-4A8C-8E0A-9D763132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1DFDE2-BBFA-4DB8-A9EF-8062FD4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32FCDB-F050-4548-9F20-8721C17E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8E689A1-0DFC-4835-8557-5735CB59C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1FF0DD-57B9-4375-A992-D579770E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B0D88F7-26BE-4517-B180-66F7CFCF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B53986-1066-4F1E-8303-0073268F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F4936A-9168-42BC-A6AB-2461FFF0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2609E5-7B29-4736-99D7-E2E29E50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3A5C7D-47FE-465B-B867-5D0CB7F3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ED50-E404-4F68-8EE6-1FACBEA3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4F0B9F-91F1-4242-AC98-BEE2067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151577-BFE4-408D-8FA4-BEC487AB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C0203E-1057-4848-967D-70429838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2C24F4-7FC8-4B0D-9C7A-01117F63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C11BE0-40FA-48FC-B0CE-77FBE1C8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44F677-3082-482E-9896-75850E2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ACC3EE-7FB1-4635-BB93-10D2507A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E5AF05-4B84-423E-9ACF-910F20F7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828A90-EEDC-4CB9-B2B0-60A67CD83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D8DD38-0D80-4898-A7D5-F460575F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01D1-F47B-45E6-B84C-05BA8132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BA636A-BCF4-4FD2-AEE0-FF0FCEF7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7702376-9726-46DA-8E09-9EDF986BE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0B8510-7315-4CCC-BA6B-F077C82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39E962-A181-4892-B35F-641E4D1F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643EEF-D84A-4147-B510-E6C9EE0A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93B541-8EEE-41CF-B0B6-C338C6A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B73757-A422-4BA2-9D66-D186568F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B35B88-B11E-4C07-B057-E647395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E581A4-B724-43FF-8C01-4DEB3912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205551-0332-4352-A201-24B85FE1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7657-A76E-4ADD-A236-C4FBC6DB1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53AAAA-804B-43AF-9821-FE678C8B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678A12-FC5C-4CDE-827F-17C8F0778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CDE968-4414-4C38-8A26-2E403F1B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13A98E-9F38-4EDA-A05B-7E1A0021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5E779A-8355-42B5-8E37-FC9B659E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146A2B-02ED-4E0C-8166-BBFFA358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E2C76A-91BC-49BE-8030-5BBA9104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946CB0-990F-4EEF-A2BA-9C5D47A4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6D7A1E-95A0-43DA-8B16-C2C45354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65CF523-F9E5-4783-8B5D-6C30B7C4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6D0B7-E2CB-4126-8AB7-3F05D612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8C8F601-3F2E-4EAF-9A74-2850522C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B778CC-5D50-4A43-B26A-43F1C0E3C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0B6368-5683-4CCD-AABD-0ABA1131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2F1DC1-5EE7-4D76-BB20-C32BDCF2F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D1EC19-6F1A-413A-B986-D9AB5B68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E3D3498-C789-481B-9A03-B014E603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C8886F-594C-488B-90DD-018187C9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23C11E8-249B-4B06-BBAE-BE42B7AE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7F2196-53DB-4A89-A93A-25AF89F7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7E6EE5-44A7-426F-89E2-E3D6B847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4F488-73FD-4D1F-A379-540F4F20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148E047-3151-4684-9ACD-6C5357E3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5899E7-2A62-4921-B950-53F7297A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53DD1E6-2FF7-4D2B-8940-2B8900A3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311DF7-3157-4FC1-950C-9AB1D6D6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1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8E86E6-7A8A-4924-A5A6-0AD7C850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6495C4-59DF-4967-8FF8-25C44D7E3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9C5DA64-6C11-4FF9-8313-F6C42D3C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152CB0B-02FF-463B-89C5-3C6E5DCF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69964E-F04F-48A6-81EB-DB3624EF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467BDB3-B6AA-458D-BDF8-AF39368A5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EB5D0-5F94-435D-8DAD-98ABECDE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069F5D3-33E9-4B95-B6D1-0BA21A50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5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1357AE-4587-4A13-8095-7D2BE08E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25CB825-E9EB-4031-914E-F0A74B8A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EF0E46-B04F-4788-835E-F7385F55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695F4C-7C2A-4A04-B843-C93EA9E4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4756419-DB37-435E-9424-0A754029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8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8F6D28-39FD-40F7-BDF3-62B9614C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A653A9-98D5-4F8C-82F8-8384D4E1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E2ECD9-D05C-4B63-9030-3B7C845A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987FA6E-5C31-4A70-9935-DA75CDBF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43AC-CB64-4678-A755-B1C35CA1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CE5D-7DB3-4AF2-B322-E27FD683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D093E34-2DB2-4D9B-916B-1E6382A1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0799B71-0928-4244-B9AF-466FD7426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B7515DD-A14E-4985-A70B-59B4A35C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2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2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026FFE-D0E2-44C7-99C0-66907AD2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3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691EF24-7B3E-4BC6-AAF2-6536A04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CF6D12-DD68-4132-8B19-11FD9C1E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3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3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ECE077-7CC0-4915-B9B3-109E08F8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75A64A4-8298-40C4-A8C5-1FEA874FC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4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9C46D1-6676-42CB-9D58-130FC0017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65172-82E5-46E2-B4C2-9795724F9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293B8-9FA6-46D9-BE00-87DD7ED2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7242-3B2B-4100-A69D-6DA5E4A6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AEE66-767E-4154-96B4-9973A5AE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28EEC-C1E8-486D-8EF9-E6DA876A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0155C-DF0E-4371-BF00-BC3EE060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78510-92FB-4E2C-BE8B-C863766F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F5495-A257-4A73-9058-5580918C2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BEE27-4BDE-41F3-A07E-94D011BB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EBD2-2811-4A23-AFF1-B996B495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47BF1-8084-4ED7-BCC8-D518671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0ACEC-80A2-4567-BDB9-0054DA76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A1F00-F6C0-4497-9CE3-255DC032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A3861-02DE-459D-A410-EC800FBA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62BC-7E07-4AED-9CE8-78C759C3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3D8FE-D05D-472F-932E-EAA12EE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C55EF-619D-4255-98E0-2B911C91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C42E6-2ABD-4B49-A5D4-FF47C58C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DE9F2-A979-4EBB-9BDA-3FF62EE8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271A-A1FC-49E2-8C0A-46901C8F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99EA-5862-4621-947F-BC0B08418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E45B-32D6-4727-A492-64487EDA0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8D605-4218-4874-8D2C-573CF86C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1E75-1C79-45CB-88A7-1E301C3F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4B37F-CCD7-4531-9926-FC329666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AEDF5-1CDA-48F8-885B-AF715AFFB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0C63-5329-418F-8E32-8DEF42FA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B8BC2-B4B2-48CC-A974-4181BE0D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3BC61-E8C2-43BC-B229-BD0484AC9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B0223-9716-4DE3-8002-2A408EDA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1376E-93E9-4FB0-9FA4-41255C10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AA2C-B241-4020-A871-B49B25FF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F8E60-AFE0-49ED-88EB-AF6FC444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EC64-838E-4F50-A1AE-3AA14981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26DB2-F55D-4773-9BDA-FBF7DFFE2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1933E-3586-494A-802B-CF196A7AF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F80A9-2096-418B-BF56-F54FF1295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2BF41-63F6-4127-9293-35E67388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72BE6-4971-470A-A9BD-DDC534CC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B80F84-78FE-4C5C-8C08-530A75B4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26472-DEAA-482D-9D8F-C83EE5B7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011B3-4134-47AA-A553-EC3D949F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1003-0510-4DA8-BA54-78730BB8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9669B-D1D3-48E8-B320-442701B2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18397-AEC8-45B0-B8A6-926960B3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71394-244B-42D6-AB71-539346A3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99F4A-B605-4CFA-81BD-708B40009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95F79-A9F7-417F-AC4C-3A62EB8B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F7344-F8B0-4B56-84EF-58E7AA96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F1D4-273A-40F6-960D-5A82ED06E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4454-000C-4323-8478-744A831D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3162A3-2319-4E98-A5D5-5934AEBB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28D6C-F130-422A-A0E5-623E0C6A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552B-63E8-4FB1-B33B-D9EE835D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2592360" y="623520"/>
            <a:ext cx="891216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6E14A-7A08-4EBC-A228-A1D9623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4F51C3-D16E-4F97-AEF8-C6D774AD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D8395-34F2-4FDD-BD51-9027C6CF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0560E-9454-4A4B-8CE0-DEE4A15B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2588760" y="416340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81F83-D6E8-4F02-AA10-64246A0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7157160" y="21333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25887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7157160" y="416340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0D2F7-2174-4823-A571-8B327B63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60340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8618040" y="21333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258876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560340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8618040" y="416340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B28F-BEBB-4E57-93C5-795818FFD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9C7CC3-D80F-48BD-8C8D-0EB603C9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E435A-1F13-48A6-BB13-E26AF99F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5D7DD-69A2-421F-8E6E-681C2644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5586-3E22-43E8-8981-049B2C5727B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0440-5B04-40D2-ADCC-E5CC5A455B7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2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63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2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DBC4-905B-4189-B7E7-3DD5E799E47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2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3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2C53-731D-4A93-9AB4-E107407D8692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8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0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3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42B9-3418-44BD-B7DD-71EA2250428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3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3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E988-0C77-4087-A6DE-06546C777E7F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75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7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77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dt" idx="3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F355-531B-4196-8117-3042FF1F9CB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ftr" idx="3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sldNum" idx="36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A21B-0D80-44D8-ADE3-BEB6886756B9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2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4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3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2B7C-7A60-4225-B2F8-A7F7BFBAB7C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39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6B2-CFEC-4F7B-A67F-BE1603692B2B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89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1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2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dt" idx="4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F454-04C1-43A8-A66C-00E656655B7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ftr" idx="4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 type="sldNum" idx="42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7426-9183-455B-932A-596E373CE7E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96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98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E1F8-7E3F-48D5-AAAD-E9B3A5A83B8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5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E570-6A20-4C55-8104-2E1D0F6FC81C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03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05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6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4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618B-E195-4CA0-88C9-FD3B2529F5F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4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48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D82D3-19E8-454A-8518-93D4F85ADAA8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0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2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4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E849-61DD-403D-8675-5625B1E445B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5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5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243D-0A8A-46DC-AA75-8C33D0B0C635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17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18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562B-229B-4C1C-AE29-6C4838B453C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E89C-DDCF-424E-802E-CD8508908C5D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24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25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 type="dt" idx="5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0234-ECC3-4A8D-A5DF-BB771DE84F0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 type="ftr" idx="5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 type="sldNum" idx="57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7E0A-4970-411C-A147-1139AB762F95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8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539C-EC50-4614-806E-D9FF102513A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1DCB-9B47-4922-802A-BF6D4B3BFB15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1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2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5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9FDA-678C-41FA-9D4F-4F12AB7F4FA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5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60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9261-271D-4B08-A62E-770A2A98B4DC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8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9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39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0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6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D508-3CD9-4A22-9C07-0608F3B24CE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6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63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01C4-BE53-4A19-A92E-F1414D6AB5A0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45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46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 type="dt" idx="6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FA2E-35DC-42ED-9A81-F6A902EF975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 type="ftr" idx="6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 type="sldNum" idx="66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BBF7-1C2F-4353-8D7F-9C05D674C0AF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2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3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6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9952-3837-48BA-B455-247740E96B4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6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6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7066-BFFF-422E-8F3F-FC29C0E5A97A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9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590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3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4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5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6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7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8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9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0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1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2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03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4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5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6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7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8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15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 type="dt" idx="7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61FF0-A704-47CF-9DD0-A7D9C979D7E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 type="ftr" idx="7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PlaceHolder 5"/>
          <p:cNvSpPr>
            <a:spLocks noGrp="1"/>
          </p:cNvSpPr>
          <p:nvPr>
            <p:ph type="sldNum" idx="7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6667-5F27-410D-A125-B8520D488F52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8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659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1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2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3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4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5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6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7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8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9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0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1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672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3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4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4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7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F37F-F5EB-4E4C-BD4A-AE751996631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7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75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B37-E249-45E8-8B83-CCFE9969A025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7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28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9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1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2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5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6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7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8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9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0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741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2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3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4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5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6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7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8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9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0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1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2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3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57" name="PlaceHolder 3"/>
          <p:cNvSpPr>
            <a:spLocks noGrp="1"/>
          </p:cNvSpPr>
          <p:nvPr>
            <p:ph type="dt" idx="7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861B-6695-4886-82E5-36DA4D45C5E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4"/>
          <p:cNvSpPr>
            <a:spLocks noGrp="1"/>
          </p:cNvSpPr>
          <p:nvPr>
            <p:ph type="ftr" idx="7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PlaceHolder 5"/>
          <p:cNvSpPr>
            <a:spLocks noGrp="1"/>
          </p:cNvSpPr>
          <p:nvPr>
            <p:ph type="sldNum" idx="7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16E2-CE0C-4680-A62D-CB3A83A568D6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79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1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7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DF4-D9C9-463D-9680-FD025A0D68D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8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81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8C35-B0CD-4810-9AF7-619ED524AFA9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86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87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 type="dt" idx="8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9F16-441E-4954-A903-6E64657D5B6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PlaceHolder 4"/>
          <p:cNvSpPr>
            <a:spLocks noGrp="1"/>
          </p:cNvSpPr>
          <p:nvPr>
            <p:ph type="ftr" idx="8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PlaceHolder 5"/>
          <p:cNvSpPr>
            <a:spLocks noGrp="1"/>
          </p:cNvSpPr>
          <p:nvPr>
            <p:ph type="sldNum" idx="84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7735-B3D7-4885-9B7C-D61442755A1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93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94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6" name="PlaceHolder 3"/>
          <p:cNvSpPr>
            <a:spLocks noGrp="1"/>
          </p:cNvSpPr>
          <p:nvPr>
            <p:ph type="dt" idx="8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8ED-6918-4EA3-AD63-56AE11CB27A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PlaceHolder 4"/>
          <p:cNvSpPr>
            <a:spLocks noGrp="1"/>
          </p:cNvSpPr>
          <p:nvPr>
            <p:ph type="ftr" idx="8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5"/>
          <p:cNvSpPr>
            <a:spLocks noGrp="1"/>
          </p:cNvSpPr>
          <p:nvPr>
            <p:ph type="sldNum" idx="87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D8CCB-F919-42B9-9D23-56263BECB8CD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137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150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2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Freeform 35"/>
          <p:cNvSpPr/>
          <p:nvPr/>
        </p:nvSpPr>
        <p:spPr>
          <a:xfrm>
            <a:off x="0" y="4324320"/>
            <a:ext cx="1744560" cy="777960"/>
          </a:xfrm>
          <a:custGeom>
            <a:avLst/>
            <a:gdLst/>
            <a:ahLst/>
            <a:rect l="l" t="t" r="r" b="b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73783-9971-4435-8398-FA9354A4173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9"/>
          </p:nvPr>
        </p:nvSpPr>
        <p:spPr>
          <a:xfrm>
            <a:off x="531360" y="452916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B5E3-17F4-43A0-96F7-1E1F77A35983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1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 type="dt" idx="88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5CF-5F0C-480D-9B50-7544F9C43E3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 type="ftr" idx="89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PlaceHolder 5"/>
          <p:cNvSpPr>
            <a:spLocks noGrp="1"/>
          </p:cNvSpPr>
          <p:nvPr>
            <p:ph type="sldNum" idx="90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23D6-EA15-4D2F-9832-B40D7D38EFD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08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TextBox 36"/>
          <p:cNvSpPr/>
          <p:nvPr/>
        </p:nvSpPr>
        <p:spPr>
          <a:xfrm>
            <a:off x="2467080" y="647640"/>
            <a:ext cx="609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TextBox 37"/>
          <p:cNvSpPr/>
          <p:nvPr/>
        </p:nvSpPr>
        <p:spPr>
          <a:xfrm>
            <a:off x="11113920" y="2905200"/>
            <a:ext cx="6098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5353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91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B5CA-1692-46A2-AD28-07C9940E697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92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93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6391-17E6-4AD9-A6AF-90FAA5A62CD5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14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5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Freeform 11"/>
          <p:cNvSpPr/>
          <p:nvPr/>
        </p:nvSpPr>
        <p:spPr>
          <a:xfrm flipV="1">
            <a:off x="-4320" y="491112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17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5" name="PlaceHolder 3"/>
          <p:cNvSpPr>
            <a:spLocks noGrp="1"/>
          </p:cNvSpPr>
          <p:nvPr>
            <p:ph type="dt" idx="94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93DC-42A0-4E43-8395-B8A069DDBE9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PlaceHolder 4"/>
          <p:cNvSpPr>
            <a:spLocks noGrp="1"/>
          </p:cNvSpPr>
          <p:nvPr>
            <p:ph type="ftr" idx="95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PlaceHolder 5"/>
          <p:cNvSpPr>
            <a:spLocks noGrp="1"/>
          </p:cNvSpPr>
          <p:nvPr>
            <p:ph type="sldNum" idx="96"/>
          </p:nvPr>
        </p:nvSpPr>
        <p:spPr>
          <a:xfrm>
            <a:off x="531360" y="49831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1E52-AD3F-4604-9E8E-CB745A361DB1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1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2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 type="dt" idx="97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21BD-046C-4F15-8C5F-925532EEF55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 type="ftr" idx="98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 type="sldNum" idx="99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3924-F73D-45CE-BA91-951A4910C813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28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9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29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 type="dt" idx="10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EA77-B7D2-49F9-9FD2-2AD54CEE431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PlaceHolder 4"/>
          <p:cNvSpPr>
            <a:spLocks noGrp="1"/>
          </p:cNvSpPr>
          <p:nvPr>
            <p:ph type="ftr" idx="10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PlaceHolder 5"/>
          <p:cNvSpPr>
            <a:spLocks noGrp="1"/>
          </p:cNvSpPr>
          <p:nvPr>
            <p:ph type="sldNum" idx="10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B249-AD15-404D-B1DE-2C962CC671B7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06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19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0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D3BC-883A-4855-80AC-B21F8AF3DD6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1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2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F2194-C4FE-44E9-BC0A-0B6AF2C5E28C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275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288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Freeform 11"/>
          <p:cNvSpPr/>
          <p:nvPr/>
        </p:nvSpPr>
        <p:spPr>
          <a:xfrm flipV="1">
            <a:off x="-4320" y="31773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3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BE56-E3E2-4EFB-861C-440F4B8A7E4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4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5"/>
          </p:nvPr>
        </p:nvSpPr>
        <p:spPr>
          <a:xfrm>
            <a:off x="531360" y="3244320"/>
            <a:ext cx="779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0AC-0457-4B05-AFA0-B8CAD8D207E8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344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357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16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2B21-ECD8-4D30-BCF8-50E1D365EF1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17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18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7EB5-91F8-4A4E-83F4-6F2091205FBA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13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5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26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8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Freeform 35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DDE3-1540-464A-A13E-7C032861F80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0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21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473E-A0B5-4950-ACDE-81E3A68807EB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482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4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495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7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2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F228-51DE-49CC-A2DB-41E308C5E80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3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24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A42A-8511-4201-A8F6-5F95B30D3D89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5de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Group 22"/>
          <p:cNvGrpSpPr/>
          <p:nvPr/>
        </p:nvGrpSpPr>
        <p:grpSpPr>
          <a:xfrm>
            <a:off x="0" y="228600"/>
            <a:ext cx="2851200" cy="6638760"/>
            <a:chOff x="0" y="228600"/>
            <a:chExt cx="2851200" cy="6638760"/>
          </a:xfrm>
        </p:grpSpPr>
        <p:sp>
          <p:nvSpPr>
            <p:cNvPr id="551" name="Freeform 11"/>
            <p:cNvSpPr/>
            <p:nvPr/>
          </p:nvSpPr>
          <p:spPr>
            <a:xfrm>
              <a:off x="0" y="2575080"/>
              <a:ext cx="1004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Freeform 12"/>
            <p:cNvSpPr/>
            <p:nvPr/>
          </p:nvSpPr>
          <p:spPr>
            <a:xfrm>
              <a:off x="128520" y="3156480"/>
              <a:ext cx="64656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Freeform 13"/>
            <p:cNvSpPr/>
            <p:nvPr/>
          </p:nvSpPr>
          <p:spPr>
            <a:xfrm>
              <a:off x="806760" y="5447160"/>
              <a:ext cx="60912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Freeform 14"/>
            <p:cNvSpPr/>
            <p:nvPr/>
          </p:nvSpPr>
          <p:spPr>
            <a:xfrm>
              <a:off x="959760" y="6504120"/>
              <a:ext cx="17136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Freeform 15"/>
            <p:cNvSpPr/>
            <p:nvPr/>
          </p:nvSpPr>
          <p:spPr>
            <a:xfrm>
              <a:off x="100440" y="3201120"/>
              <a:ext cx="82188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Freeform 16"/>
            <p:cNvSpPr/>
            <p:nvPr/>
          </p:nvSpPr>
          <p:spPr>
            <a:xfrm>
              <a:off x="22320" y="228600"/>
              <a:ext cx="1062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Freeform 17"/>
            <p:cNvSpPr/>
            <p:nvPr/>
          </p:nvSpPr>
          <p:spPr>
            <a:xfrm>
              <a:off x="78120" y="2944080"/>
              <a:ext cx="7812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Freeform 18"/>
            <p:cNvSpPr/>
            <p:nvPr/>
          </p:nvSpPr>
          <p:spPr>
            <a:xfrm>
              <a:off x="769680" y="5478840"/>
              <a:ext cx="19008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775080" y="1398960"/>
              <a:ext cx="20761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922320" y="6530040"/>
              <a:ext cx="16200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769680" y="5359680"/>
              <a:ext cx="3708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>
              <a:off x="849600" y="6244920"/>
              <a:ext cx="23832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2e536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3" name="Group 9"/>
          <p:cNvGrpSpPr/>
          <p:nvPr/>
        </p:nvGrpSpPr>
        <p:grpSpPr>
          <a:xfrm>
            <a:off x="27000" y="0"/>
            <a:ext cx="2357280" cy="6853320"/>
            <a:chOff x="27000" y="0"/>
            <a:chExt cx="2357280" cy="6853320"/>
          </a:xfrm>
        </p:grpSpPr>
        <p:sp>
          <p:nvSpPr>
            <p:cNvPr id="564" name="Freeform 27"/>
            <p:cNvSpPr/>
            <p:nvPr/>
          </p:nvSpPr>
          <p:spPr>
            <a:xfrm>
              <a:off x="27000" y="0"/>
              <a:ext cx="49428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>
              <a:off x="550080" y="4316400"/>
              <a:ext cx="42336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>
              <a:off x="1006200" y="5862960"/>
              <a:ext cx="4309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>
              <a:off x="521280" y="4364280"/>
              <a:ext cx="55188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>
              <a:off x="467640" y="1288800"/>
              <a:ext cx="17424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>
              <a:off x="1111680" y="6571800"/>
              <a:ext cx="13392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>
              <a:off x="502200" y="4107600"/>
              <a:ext cx="8208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>
              <a:off x="973800" y="3145680"/>
              <a:ext cx="141048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1073520" y="6600600"/>
              <a:ext cx="12060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973800" y="5897160"/>
              <a:ext cx="13788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973800" y="5772960"/>
              <a:ext cx="3816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1006200" y="6322680"/>
              <a:ext cx="210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2e53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6" name="Rectangle 6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2e53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Freeform 11"/>
          <p:cNvSpPr/>
          <p:nvPr/>
        </p:nvSpPr>
        <p:spPr>
          <a:xfrm flipV="1">
            <a:off x="-4320" y="713160"/>
            <a:ext cx="1589040" cy="507960"/>
          </a:xfrm>
          <a:custGeom>
            <a:avLst/>
            <a:gdLst/>
            <a:ahLst/>
            <a:rect l="l" t="t" r="r" b="b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rgbClr val="3535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2588760" y="21333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 type="dt" idx="25"/>
          </p:nvPr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4B23-D340-4C27-B8E4-1FEA15CF04F5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 type="ftr" idx="26"/>
          </p:nvPr>
        </p:nvSpPr>
        <p:spPr>
          <a:xfrm>
            <a:off x="258876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 type="sldNum" idx="27"/>
          </p:nvPr>
        </p:nvSpPr>
        <p:spPr>
          <a:xfrm>
            <a:off x="531360" y="787320"/>
            <a:ext cx="779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04BB-F09C-41CE-8321-90E33F7FCBE4}" type="slidenum">
              <a:rPr b="0" lang="en-US" sz="24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www.acm.org/" TargetMode="External"/><Relationship Id="rId2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computer.org/" TargetMode="External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419076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178dbb"/>
                </a:solidFill>
                <a:latin typeface="Century Gothic"/>
                <a:ea typeface="Tahoma"/>
              </a:rPr>
              <a:t>Information Systems Essentials, Sixth Edition</a:t>
            </a:r>
            <a:endParaRPr b="0" lang="en-US" sz="44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 type="subTitle"/>
          </p:nvPr>
        </p:nvSpPr>
        <p:spPr>
          <a:xfrm>
            <a:off x="3733560" y="44197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0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r>
              <a:rPr b="0" i="1" lang="en-US" sz="3800" spc="-1" strike="noStrike">
                <a:solidFill>
                  <a:srgbClr val="404040"/>
                </a:solidFill>
                <a:latin typeface="Century Gothic"/>
                <a:ea typeface="Tahoma"/>
              </a:rPr>
              <a:t>Chapter 10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8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r>
              <a:rPr b="0" i="1" lang="en-US" sz="3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</a:t>
            </a:r>
            <a:endParaRPr b="0" lang="en-US" sz="3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1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95287-B4E8-44ED-B742-73466C1133A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2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8374-C151-4F0E-B906-4BA82C472A6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PlaceHolder 1"/>
          <p:cNvSpPr>
            <a:spLocks noGrp="1"/>
          </p:cNvSpPr>
          <p:nvPr>
            <p:ph type="title"/>
          </p:nvPr>
        </p:nvSpPr>
        <p:spPr>
          <a:xfrm>
            <a:off x="1928880" y="533520"/>
            <a:ext cx="891072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articipants in Systems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5" name=""/>
          <p:cNvSpPr txBox="1"/>
          <p:nvPr/>
        </p:nvSpPr>
        <p:spPr>
          <a:xfrm>
            <a:off x="2057400" y="1631880"/>
            <a:ext cx="9447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evelopment tea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es objectives of the information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livers system that meets objectiv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takeholder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eople who ultimately benefit from the system development Proj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7" name="Rectangle 1"/>
          <p:cNvSpPr/>
          <p:nvPr/>
        </p:nvSpPr>
        <p:spPr>
          <a:xfrm>
            <a:off x="2023920" y="3573360"/>
            <a:ext cx="8720280" cy="22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Us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eople who will interact with the system regular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fessional who specializes in analyzing and designing business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gramm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sponsible for modifying or developing programs to satisfy user require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8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C851-2643-4F85-AC4E-32B8EDC886B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9" name="Slide Number Placeholder 4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B4E7-25FD-401D-83B9-1ED20A57E21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1" name="Picture 7" descr=""/>
          <p:cNvPicPr/>
          <p:nvPr/>
        </p:nvPicPr>
        <p:blipFill>
          <a:blip r:embed="rId1"/>
          <a:stretch/>
        </p:blipFill>
        <p:spPr>
          <a:xfrm>
            <a:off x="1897200" y="838080"/>
            <a:ext cx="6180120" cy="5029200"/>
          </a:xfrm>
          <a:prstGeom prst="rect">
            <a:avLst/>
          </a:prstGeom>
          <a:ln w="0">
            <a:noFill/>
          </a:ln>
        </p:spPr>
      </p:pic>
      <p:pic>
        <p:nvPicPr>
          <p:cNvPr id="2412" name="Picture 7" descr=""/>
          <p:cNvPicPr/>
          <p:nvPr/>
        </p:nvPicPr>
        <p:blipFill>
          <a:blip r:embed="rId2"/>
          <a:stretch/>
        </p:blipFill>
        <p:spPr>
          <a:xfrm>
            <a:off x="8839080" y="1447920"/>
            <a:ext cx="2419560" cy="3565440"/>
          </a:xfrm>
          <a:prstGeom prst="rect">
            <a:avLst/>
          </a:prstGeom>
          <a:ln w="0">
            <a:noFill/>
          </a:ln>
        </p:spPr>
      </p:pic>
      <p:sp>
        <p:nvSpPr>
          <p:cNvPr id="241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858-BA6C-43C3-8AB2-5D3631B0D59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3517-26EA-48D4-815B-5AF1C6A97D1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1828800" y="65988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Strategic Plann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16" name=""/>
          <p:cNvSpPr txBox="1"/>
          <p:nvPr/>
        </p:nvSpPr>
        <p:spPr>
          <a:xfrm>
            <a:off x="1752120" y="18284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identify what information systems the organization need to achieve its goal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Use SWOT approach to identify potential ISs based on: Strength, Weakness, Opportunities and Threa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lect a number of these ISs based on evaluation criteria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17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8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BBC6-7A27-499D-B75B-260C2150835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9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984B-59CB-49C0-BCA9-766D1492E7A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ystems Development Life Cycle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he life of the system continues as it is maintained and reviewe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 new project will be initiated and the cycle will start over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f the system needs significant improvement beyond the scope of maintenan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f it needs to be replaced because of a new generation of technology, o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f the IS needs of the organization change significantly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A5BF-B49E-4235-ADB0-EB408261F43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1CF6-EBCB-4ABA-8F12-39ADEDB4834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Traditional Systems Development Life Cycle  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investigation: (What is the problem?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udies existing systems and work processes to identify strengths, weaknesses, opportunities for improvement, and threa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dentifies problems and opportunities and considers them in light of business goal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is: (What is the solution?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e inputs and outpu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e functional and non functional requirements of the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sign: (How does the solution work?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fines how the information system will do what it must do to obtain the problem’s solu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2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8319-A9D8-4B83-B5DE-67A404E8EE2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EC21F-F75E-433B-B065-65599AF0BF6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Traditional Systems Development Life Cycle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3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implement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reates or acquires various system components detailed in systems design, assembles them, and places new or modified system into ope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maintenance and review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Ensures the system operates as intend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Modifies the system so that it continues to meet changing business need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CFA8-683F-433C-A4EB-DEB1BEA3F72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FDF3-BAE6-44E9-BD7A-9649488F305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Approaches for System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raditional Approac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Prototyp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apid Application Development (RAD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gil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omputer-Aided Software Engineering (CASE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Object-Oriented Systems Development (OOSD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3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9BE1-C1BF-44F1-AD78-4D9C33EB623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3701-A402-4560-B3F4-F8E4A9DC5CA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Traditional Approach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1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42" name="Picture 7" descr=""/>
          <p:cNvPicPr/>
          <p:nvPr/>
        </p:nvPicPr>
        <p:blipFill>
          <a:blip r:embed="rId1"/>
          <a:stretch/>
        </p:blipFill>
        <p:spPr>
          <a:xfrm>
            <a:off x="3419640" y="1676520"/>
            <a:ext cx="2971800" cy="4373280"/>
          </a:xfrm>
          <a:prstGeom prst="rect">
            <a:avLst/>
          </a:prstGeom>
          <a:ln w="0">
            <a:noFill/>
          </a:ln>
        </p:spPr>
      </p:pic>
      <p:pic>
        <p:nvPicPr>
          <p:cNvPr id="2443" name="Picture 7" descr=""/>
          <p:cNvPicPr/>
          <p:nvPr/>
        </p:nvPicPr>
        <p:blipFill>
          <a:blip r:embed="rId2"/>
          <a:stretch/>
        </p:blipFill>
        <p:spPr>
          <a:xfrm>
            <a:off x="6700680" y="2513160"/>
            <a:ext cx="2246400" cy="1463400"/>
          </a:xfrm>
          <a:prstGeom prst="rect">
            <a:avLst/>
          </a:prstGeom>
          <a:ln w="0">
            <a:noFill/>
          </a:ln>
        </p:spPr>
      </p:pic>
      <p:sp>
        <p:nvSpPr>
          <p:cNvPr id="2444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932F-46CC-4443-B8EE-FD87FB1BA7C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Slide Number Placeholder 4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5185-616E-40FA-9578-AE4339A4F43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1943280" y="6091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totyp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2045880" y="14475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 iterative approac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uring each iter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quirements and alternative solutions to the problem are identified and analyz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New solutions are designed, and a portion of the system is implement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48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79E8-F720-406F-91C2-D23D0CA1A69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58F7-8BDD-43D0-A179-68077F07E09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2057400" y="58860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totyp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52" name="Footer Placeholder 1"/>
          <p:cNvSpPr/>
          <p:nvPr/>
        </p:nvSpPr>
        <p:spPr>
          <a:xfrm>
            <a:off x="2666880" y="650088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3" name="Picture 7" descr=""/>
          <p:cNvPicPr/>
          <p:nvPr/>
        </p:nvPicPr>
        <p:blipFill>
          <a:blip r:embed="rId1"/>
          <a:stretch/>
        </p:blipFill>
        <p:spPr>
          <a:xfrm>
            <a:off x="1735200" y="1593720"/>
            <a:ext cx="4802040" cy="4542120"/>
          </a:xfrm>
          <a:prstGeom prst="rect">
            <a:avLst/>
          </a:prstGeom>
          <a:ln w="0">
            <a:noFill/>
          </a:ln>
        </p:spPr>
      </p:pic>
      <p:pic>
        <p:nvPicPr>
          <p:cNvPr id="2454" name="Picture 7" descr=""/>
          <p:cNvPicPr/>
          <p:nvPr/>
        </p:nvPicPr>
        <p:blipFill>
          <a:blip r:embed="rId2"/>
          <a:stretch/>
        </p:blipFill>
        <p:spPr>
          <a:xfrm>
            <a:off x="1494000" y="5357880"/>
            <a:ext cx="2346120" cy="1096920"/>
          </a:xfrm>
          <a:prstGeom prst="rect">
            <a:avLst/>
          </a:prstGeom>
          <a:ln w="0">
            <a:noFill/>
          </a:ln>
        </p:spPr>
      </p:pic>
      <p:pic>
        <p:nvPicPr>
          <p:cNvPr id="2455" name="Picture 7" descr=""/>
          <p:cNvPicPr/>
          <p:nvPr/>
        </p:nvPicPr>
        <p:blipFill>
          <a:blip r:embed="rId3"/>
          <a:stretch/>
        </p:blipFill>
        <p:spPr>
          <a:xfrm>
            <a:off x="6904080" y="1593720"/>
            <a:ext cx="3048120" cy="4613400"/>
          </a:xfrm>
          <a:prstGeom prst="rect">
            <a:avLst/>
          </a:prstGeom>
          <a:ln w="0">
            <a:noFill/>
          </a:ln>
        </p:spPr>
      </p:pic>
      <p:pic>
        <p:nvPicPr>
          <p:cNvPr id="2456" name="Picture 7" descr=""/>
          <p:cNvPicPr/>
          <p:nvPr/>
        </p:nvPicPr>
        <p:blipFill>
          <a:blip r:embed="rId4"/>
          <a:stretch/>
        </p:blipFill>
        <p:spPr>
          <a:xfrm>
            <a:off x="9980640" y="5311800"/>
            <a:ext cx="2173320" cy="1189080"/>
          </a:xfrm>
          <a:prstGeom prst="rect">
            <a:avLst/>
          </a:prstGeom>
          <a:ln w="0">
            <a:noFill/>
          </a:ln>
        </p:spPr>
      </p:pic>
      <p:sp>
        <p:nvSpPr>
          <p:cNvPr id="2457" name="Date Placeholder 2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6228-E2D2-44C1-BB8A-DF691B65903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Slide Number Placeholder 4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CD54-E648-4E97-8FE3-1A2BBB912F6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ffective systems development requires a team effort of stakeholders, users, managers, systems development specialists, and various support personnel, and it starts with careful plann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dentify the key participants in the systems development process and discuss their rol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fine the term information systems planning and discuss the importance of planning a proj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BC37-6045-4C31-A756-7E4E3D551E4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AED64-3994-49B9-9F62-F63259DDF4C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1. Systems Investig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6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primary problems might a new or enhanced system solv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opportunities might a new or enhanced system provide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new hardware, software, databases, telecommunications, personnel, or procedures will improve an existing system or are required in a new system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are the potential costs (variable and fixed)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What are the associated risks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BC35F-4CA6-49B5-B342-E3376BAC8E8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0576-A7C5-4B48-A956-AD4BA432086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nitiating Systems Investig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request for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Filled out by someone who wants IS department to initiate systems investig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formation included: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Problems in or opportunities for system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Objectives of systems investigation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Overview of proposed system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entury Gothic"/>
                <a:ea typeface="Tahoma"/>
              </a:rPr>
              <a:t>Expected costs and benefits of proposed system</a:t>
            </a:r>
            <a:endParaRPr b="0" lang="en-US" sz="1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6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970D-198A-4257-A7B2-69B5919DB5D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723B-0D38-4B40-8595-C3EB2B6DB96E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Feasibility Analysi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ssesses (evaluate)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echnical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Economic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Legal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Operational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chedule feasibilit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F7E8-7AF2-45C1-B815-FE35FD1D18C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F54A-51DD-4757-854E-3E848C49E9B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5" name="Picture 7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3809880" cy="4754520"/>
          </a:xfrm>
          <a:prstGeom prst="rect">
            <a:avLst/>
          </a:prstGeom>
          <a:ln w="0">
            <a:noFill/>
          </a:ln>
        </p:spPr>
      </p:pic>
      <p:pic>
        <p:nvPicPr>
          <p:cNvPr id="2476" name="Picture 7" descr=""/>
          <p:cNvPicPr/>
          <p:nvPr/>
        </p:nvPicPr>
        <p:blipFill>
          <a:blip r:embed="rId2"/>
          <a:stretch/>
        </p:blipFill>
        <p:spPr>
          <a:xfrm>
            <a:off x="7696080" y="3200400"/>
            <a:ext cx="2292480" cy="1096920"/>
          </a:xfrm>
          <a:prstGeom prst="rect">
            <a:avLst/>
          </a:prstGeom>
          <a:ln w="0">
            <a:noFill/>
          </a:ln>
        </p:spPr>
      </p:pic>
      <p:sp>
        <p:nvSpPr>
          <p:cNvPr id="247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7C2B-DFF8-4FBB-80C6-C68F6A619F2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D6DFB-6714-4A73-A093-298AB91622A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Systems Investigation Repor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ummarizes results of systems investig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ummarizes the process of feasibility analysi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commends a course of ac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ntinue on into systems analysi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Modify the project in some manne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rop the projec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viewed by steering committe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8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B524-15A5-4E81-9499-223AC2CE1A0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24A0-8AA1-4AFF-8A81-EA4748BDD27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5" name="Picture 7" descr=""/>
          <p:cNvPicPr/>
          <p:nvPr/>
        </p:nvPicPr>
        <p:blipFill>
          <a:blip r:embed="rId1"/>
          <a:stretch/>
        </p:blipFill>
        <p:spPr>
          <a:xfrm>
            <a:off x="2666880" y="1143000"/>
            <a:ext cx="4741920" cy="4846680"/>
          </a:xfrm>
          <a:prstGeom prst="rect">
            <a:avLst/>
          </a:prstGeom>
          <a:ln w="0">
            <a:noFill/>
          </a:ln>
        </p:spPr>
      </p:pic>
      <p:pic>
        <p:nvPicPr>
          <p:cNvPr id="2486" name="Picture 7" descr=""/>
          <p:cNvPicPr/>
          <p:nvPr/>
        </p:nvPicPr>
        <p:blipFill>
          <a:blip r:embed="rId2"/>
          <a:stretch/>
        </p:blipFill>
        <p:spPr>
          <a:xfrm>
            <a:off x="7848720" y="4343400"/>
            <a:ext cx="2041560" cy="822240"/>
          </a:xfrm>
          <a:prstGeom prst="rect">
            <a:avLst/>
          </a:prstGeom>
          <a:ln w="0">
            <a:noFill/>
          </a:ln>
        </p:spPr>
      </p:pic>
      <p:sp>
        <p:nvSpPr>
          <p:cNvPr id="248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D164-55DB-4BAA-8F8E-603DD6C38EC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2BDB-ACFC-4366-9FC7-0E87E436215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2. Systems Analysi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Overall emphasis of analys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Gathering data on existing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ermining requirements for new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nsidering alternativ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ng feasibility of solution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imary outcome of systems analys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ioritized list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requiremen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9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BBA02-C179-496C-BA66-D6C22A5DA9A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AEA6-3DBF-4C12-B972-B6AED5C4381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Use Case diagra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95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2E3E-9454-4631-AF7C-B729D68B02D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3C02-ADBC-4DEC-AC3F-6FFD776F88A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8" name="Picture 7" descr=""/>
          <p:cNvPicPr/>
          <p:nvPr/>
        </p:nvPicPr>
        <p:blipFill>
          <a:blip r:embed="rId1"/>
          <a:stretch/>
        </p:blipFill>
        <p:spPr>
          <a:xfrm>
            <a:off x="2286000" y="1665360"/>
            <a:ext cx="7273800" cy="4022640"/>
          </a:xfrm>
          <a:prstGeom prst="rect">
            <a:avLst/>
          </a:prstGeom>
          <a:ln w="0">
            <a:noFill/>
          </a:ln>
        </p:spPr>
      </p:pic>
      <p:pic>
        <p:nvPicPr>
          <p:cNvPr id="2499" name="Picture 7" descr=""/>
          <p:cNvPicPr/>
          <p:nvPr/>
        </p:nvPicPr>
        <p:blipFill>
          <a:blip r:embed="rId2"/>
          <a:stretch/>
        </p:blipFill>
        <p:spPr>
          <a:xfrm>
            <a:off x="4800600" y="5791320"/>
            <a:ext cx="235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1943280" y="57276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Sequence Diagra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01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1F9B-98DE-41B3-92EB-F97E6E43C58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DB9C-31EF-40CA-A4A6-91DC2C3D5B0E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4" name="Picture 7" descr=""/>
          <p:cNvPicPr/>
          <p:nvPr/>
        </p:nvPicPr>
        <p:blipFill>
          <a:blip r:embed="rId1"/>
          <a:stretch/>
        </p:blipFill>
        <p:spPr>
          <a:xfrm>
            <a:off x="1941480" y="1523880"/>
            <a:ext cx="4915080" cy="4551480"/>
          </a:xfrm>
          <a:prstGeom prst="rect">
            <a:avLst/>
          </a:prstGeom>
          <a:ln w="0">
            <a:noFill/>
          </a:ln>
        </p:spPr>
      </p:pic>
      <p:pic>
        <p:nvPicPr>
          <p:cNvPr id="2505" name="Picture 2" descr=""/>
          <p:cNvPicPr/>
          <p:nvPr/>
        </p:nvPicPr>
        <p:blipFill>
          <a:blip r:embed="rId2"/>
          <a:stretch/>
        </p:blipFill>
        <p:spPr>
          <a:xfrm>
            <a:off x="7391520" y="4038480"/>
            <a:ext cx="234792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Data Collec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dentifying sources of data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ternal and external sour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ollecting data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terview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rect observ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Questionnair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8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134A-90A2-4644-91A1-A157B097AF9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0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FB3C-AAD6-43C8-A99C-3855FE9B3B8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often uses different approaches and tools such as traditional development, prototyping, rapid application development, end-user development, computer-aided software engineering, and object-oriented development to select, implement, and monitor project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key features, advantages, and disadvantages of the traditional, prototyping, rapid application development, and end-user systems development life cycl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CEF8-C52A-49C5-BAA5-8388ADF019E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7F81-EE83-40BC-9794-3DAA1F563B2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2" name="Picture 7" descr=""/>
          <p:cNvPicPr/>
          <p:nvPr/>
        </p:nvPicPr>
        <p:blipFill>
          <a:blip r:embed="rId1"/>
          <a:stretch/>
        </p:blipFill>
        <p:spPr>
          <a:xfrm>
            <a:off x="2057400" y="914400"/>
            <a:ext cx="5619600" cy="5238720"/>
          </a:xfrm>
          <a:prstGeom prst="rect">
            <a:avLst/>
          </a:prstGeom>
          <a:ln w="0">
            <a:noFill/>
          </a:ln>
        </p:spPr>
      </p:pic>
      <p:pic>
        <p:nvPicPr>
          <p:cNvPr id="2513" name="Picture 7" descr=""/>
          <p:cNvPicPr/>
          <p:nvPr/>
        </p:nvPicPr>
        <p:blipFill>
          <a:blip r:embed="rId2"/>
          <a:stretch/>
        </p:blipFill>
        <p:spPr>
          <a:xfrm>
            <a:off x="8001000" y="3581280"/>
            <a:ext cx="1932120" cy="731880"/>
          </a:xfrm>
          <a:prstGeom prst="rect">
            <a:avLst/>
          </a:prstGeom>
          <a:ln w="0">
            <a:noFill/>
          </a:ln>
        </p:spPr>
      </p:pic>
      <p:sp>
        <p:nvSpPr>
          <p:cNvPr id="251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F890-2C00-48A4-AB3C-C5D11B8683F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7E85-04BD-49C0-85E9-DA855DDCDD2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7" name="Picture 7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5100480" cy="4663800"/>
          </a:xfrm>
          <a:prstGeom prst="rect">
            <a:avLst/>
          </a:prstGeom>
          <a:ln w="0">
            <a:noFill/>
          </a:ln>
        </p:spPr>
      </p:pic>
      <p:pic>
        <p:nvPicPr>
          <p:cNvPr id="2518" name="Picture 7" descr=""/>
          <p:cNvPicPr/>
          <p:nvPr/>
        </p:nvPicPr>
        <p:blipFill>
          <a:blip r:embed="rId2"/>
          <a:stretch/>
        </p:blipFill>
        <p:spPr>
          <a:xfrm>
            <a:off x="7696080" y="2895480"/>
            <a:ext cx="2301840" cy="639720"/>
          </a:xfrm>
          <a:prstGeom prst="rect">
            <a:avLst/>
          </a:prstGeom>
          <a:ln w="0">
            <a:noFill/>
          </a:ln>
        </p:spPr>
      </p:pic>
      <p:sp>
        <p:nvSpPr>
          <p:cNvPr id="251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6B26-1DEA-453C-84AF-140215E2133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16C2-95AA-466E-A048-2D47F44CDEB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Data Analysis (Modeling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22" name=""/>
          <p:cNvSpPr txBox="1"/>
          <p:nvPr/>
        </p:nvSpPr>
        <p:spPr>
          <a:xfrm>
            <a:off x="990720" y="1801440"/>
            <a:ext cx="6780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ata model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ccomplished through the use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entity-relationship (ER) diagra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ctivity model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ccomplished through the use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ata-flow diagrams (DFD)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FDs: Describe the activities that fulfill a business relationship or accomplish a business task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3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FC1C-DCAF-4CB4-AD17-FB3E5C26D9E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C904-E45C-40B2-B1C9-91FA9B22A6F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6" name="Picture 2" descr=""/>
          <p:cNvPicPr/>
          <p:nvPr/>
        </p:nvPicPr>
        <p:blipFill>
          <a:blip r:embed="rId1"/>
          <a:stretch/>
        </p:blipFill>
        <p:spPr>
          <a:xfrm>
            <a:off x="7916760" y="1801800"/>
            <a:ext cx="38862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7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Requirements Analysi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28" name=""/>
          <p:cNvSpPr txBox="1"/>
          <p:nvPr/>
        </p:nvSpPr>
        <p:spPr>
          <a:xfrm>
            <a:off x="19810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urpose is to determine user, stakeholder, and organizational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need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echniques used to capture systems requirement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sking direct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ritical success factors (CSFs):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ctivities required for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ensuring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 the success of an organiz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he IS pla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quirements analysis tool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9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8094-83D1-41BF-8034-840DC100BD1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1E55-1F4B-4A73-B8EC-C20A6D31D9D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752120" y="62028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Requirements Analysi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33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Rectangle 2"/>
          <p:cNvSpPr/>
          <p:nvPr/>
        </p:nvSpPr>
        <p:spPr>
          <a:xfrm>
            <a:off x="2057400" y="3808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35" name="Picture 7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8972640" cy="2011320"/>
          </a:xfrm>
          <a:prstGeom prst="rect">
            <a:avLst/>
          </a:prstGeom>
          <a:ln w="0">
            <a:noFill/>
          </a:ln>
        </p:spPr>
      </p:pic>
      <p:pic>
        <p:nvPicPr>
          <p:cNvPr id="2536" name="Picture 7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2441520" cy="1096920"/>
          </a:xfrm>
          <a:prstGeom prst="rect">
            <a:avLst/>
          </a:prstGeom>
          <a:ln w="0">
            <a:noFill/>
          </a:ln>
        </p:spPr>
      </p:pic>
      <p:sp>
        <p:nvSpPr>
          <p:cNvPr id="253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501B-C31C-4EF0-8414-E7C61B49F25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3E13-68C1-4A1D-838F-C8B26E458A6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Systems Analysis Repor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40" name=""/>
          <p:cNvSpPr txBox="1"/>
          <p:nvPr/>
        </p:nvSpPr>
        <p:spPr>
          <a:xfrm>
            <a:off x="243792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lement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rengths and weaknesses of existing system from a stakeholder’s perspectiv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ser/stakeholder requirements for new system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Organizational requirements for new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scription of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what new information system should do to solve the probl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8991-6F85-4A0E-8C28-843D65B4D6D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A25E-45C8-46C1-B4F0-46E1931B2B8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5" name="Picture 7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681800" cy="4846680"/>
          </a:xfrm>
          <a:prstGeom prst="rect">
            <a:avLst/>
          </a:prstGeom>
          <a:ln w="0">
            <a:noFill/>
          </a:ln>
        </p:spPr>
      </p:pic>
      <p:pic>
        <p:nvPicPr>
          <p:cNvPr id="2546" name="Picture 7" descr=""/>
          <p:cNvPicPr/>
          <p:nvPr/>
        </p:nvPicPr>
        <p:blipFill>
          <a:blip r:embed="rId2"/>
          <a:stretch/>
        </p:blipFill>
        <p:spPr>
          <a:xfrm>
            <a:off x="7467480" y="4191120"/>
            <a:ext cx="2559240" cy="1006200"/>
          </a:xfrm>
          <a:prstGeom prst="rect">
            <a:avLst/>
          </a:prstGeom>
          <a:ln w="0">
            <a:noFill/>
          </a:ln>
        </p:spPr>
      </p:pic>
      <p:sp>
        <p:nvSpPr>
          <p:cNvPr id="254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E57-5865-4DD8-8350-F25ADA183A4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DAB0-7EE6-435B-9D46-E1091DB6B43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3. Systems Desig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swers the ques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How will the information system solve a problem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sults in a technical design that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tails system outputs, inputs, and user interfa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pecifies hardware, software, databases, telecommunications, personnel, and procedur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hows how these components are relat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CD69-E0E4-4123-9F8A-6C1E2BC9B3A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50B4-CAE0-4A70-B02F-2543B29D77A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Logical and Physical Desig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Logic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scribes functional requirements of a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hysic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pecifies the characteristics of the system components necessary to put the logical design into action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4C1-7697-49FF-A6A9-F4B21115A0F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5D16-B201-431D-ABCE-349ACEF29DC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title"/>
          </p:nvPr>
        </p:nvSpPr>
        <p:spPr>
          <a:xfrm>
            <a:off x="2028960" y="787320"/>
            <a:ext cx="8912160" cy="10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Class Diagra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60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D290-A403-43CB-8CE5-70A5FB7E050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6EA-1D06-46CD-9956-F09000B5F5B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3" name="Picture 7" descr=""/>
          <p:cNvPicPr/>
          <p:nvPr/>
        </p:nvPicPr>
        <p:blipFill>
          <a:blip r:embed="rId1"/>
          <a:stretch/>
        </p:blipFill>
        <p:spPr>
          <a:xfrm>
            <a:off x="2589120" y="1752480"/>
            <a:ext cx="5473800" cy="4480200"/>
          </a:xfrm>
          <a:prstGeom prst="rect">
            <a:avLst/>
          </a:prstGeom>
          <a:ln w="0">
            <a:noFill/>
          </a:ln>
        </p:spPr>
      </p:pic>
      <p:pic>
        <p:nvPicPr>
          <p:cNvPr id="2564" name="Picture 7" descr=""/>
          <p:cNvPicPr/>
          <p:nvPr/>
        </p:nvPicPr>
        <p:blipFill>
          <a:blip r:embed="rId2"/>
          <a:stretch/>
        </p:blipFill>
        <p:spPr>
          <a:xfrm>
            <a:off x="8839080" y="4495680"/>
            <a:ext cx="24656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use of computer-aided software engineering (CASE) tools and the object-oriented approach to 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starts with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on and analysis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 of existing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investig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importance of performance and cost objectiv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analysis and discuss some of the tools and techniques used in this phase of systems develop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A46F-6BBA-43BD-B261-9579D53F4BD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4D3BF-C1D6-4C2D-AB88-5FDD44377A0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1828800" y="62820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Environmental Design Consideration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66" name=""/>
          <p:cNvSpPr txBox="1"/>
          <p:nvPr/>
        </p:nvSpPr>
        <p:spPr>
          <a:xfrm>
            <a:off x="194112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vironment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lso called </a:t>
            </a:r>
            <a:r>
              <a:rPr b="0" i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green desig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olves systems development efforts that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reduce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ower consumption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, require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less physical space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, and result in systems that can be disposed of in a way that doesn’t negatively affect the environ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BAC4-DD28-4E1B-9E93-A703FE751F3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C84F-C85E-4930-9C22-EAD4BAAD3B4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Design Repor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imary result of systems desig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flects decisions made and prepares the way for systems implement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7478-16C7-428A-84EC-739B59D3095A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EAC3-B5BE-4B05-97EC-9602D71F0AC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Footer Placeholder 1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6" name="Picture 7" descr=""/>
          <p:cNvPicPr/>
          <p:nvPr/>
        </p:nvPicPr>
        <p:blipFill>
          <a:blip r:embed="rId1"/>
          <a:stretch/>
        </p:blipFill>
        <p:spPr>
          <a:xfrm>
            <a:off x="2743200" y="609480"/>
            <a:ext cx="4467240" cy="5553360"/>
          </a:xfrm>
          <a:prstGeom prst="rect">
            <a:avLst/>
          </a:prstGeom>
          <a:ln w="0">
            <a:noFill/>
          </a:ln>
        </p:spPr>
      </p:pic>
      <p:pic>
        <p:nvPicPr>
          <p:cNvPr id="2577" name="Picture 2" descr=""/>
          <p:cNvPicPr/>
          <p:nvPr/>
        </p:nvPicPr>
        <p:blipFill>
          <a:blip r:embed="rId2"/>
          <a:stretch/>
        </p:blipFill>
        <p:spPr>
          <a:xfrm>
            <a:off x="7315200" y="3429000"/>
            <a:ext cx="2473200" cy="914400"/>
          </a:xfrm>
          <a:prstGeom prst="rect">
            <a:avLst/>
          </a:prstGeom>
          <a:ln w="0">
            <a:noFill/>
          </a:ln>
        </p:spPr>
      </p:pic>
      <p:sp>
        <p:nvSpPr>
          <p:cNvPr id="257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2557-A8E1-4930-8801-A78FEEB30A8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7079-B6DD-4A0E-A4E8-A9FD358DB49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2022480" y="740880"/>
            <a:ext cx="891216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4. Systems Implement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8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clude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Hardware acquisi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gramming and software acquisition or develop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ser prepa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Hiring and training of personn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ite and data prepa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stallation, testing, start-up, and user acceptan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977C-9211-4BFD-9E15-96CDAB2CA61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6F6F-4C4B-4332-AE6B-1CCEF600012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cquiring Hardware from an IS Vendor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8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S vendor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mpany that offers hardware, software, telecommunications systems, databases, IS personnel, or other computer-related resour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ypes of IS vendors includ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General computer manufacturer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mall computer manufacturers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eripheral equipment manufacturers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9C9A-0394-4FF9-8544-953A2FCE882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8123-128B-4E3A-8B27-7D0B97151C1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cquiring Software: Make or Buy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9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Make-or-buy decis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Whether to obtain software from external or internal sourc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xternally acquired software and Software as a Service (SaaS)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oftware as a Service (SaaS)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llows businesses to subscribe to Web-delivered application software by paying a monthly service charg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5AFA-584A-489C-A346-2CD05E3E095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01C-6475-4758-A484-F82997C3FFE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cquiring Database and Telecommunications System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atabases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 blend of hardware and softwar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Virtual databases and database as a service (DaaS)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opular ways to acquire database capabilitie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25E8-1DDC-48CC-A48E-4A4E7F0E66A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331F-DCB8-4F36-8D30-E6608FD1432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User Prepar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0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Readying managers, decision makers, employees, other users, and stakeholders for new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mportant but often ignored area of systems implement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DEC4-58ED-44AF-9A7C-B23C00F5F22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C095-1392-42EF-8E00-0899847F19E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S Personnel: Hiring and Train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0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 organization might have to hire and, in some cases, train new IS personn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ersonnel that might be needed for the new or modified syste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n IS manager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t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mputer programmer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ata entry operator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EAF7-D68B-4A19-B758-F7CA2D99C39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48162-9C98-4B09-B23F-9F882353ED92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1943280" y="512280"/>
            <a:ext cx="891216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ite Prepar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1" name=""/>
          <p:cNvSpPr txBox="1"/>
          <p:nvPr/>
        </p:nvSpPr>
        <p:spPr>
          <a:xfrm>
            <a:off x="205704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eparing the location of a new system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eveloping IS sites that are energy efficient is importa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ecurity is also important for site prepara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A6A5-0AD5-486E-A4F1-CF3F5CD7E0E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CFE4-49A6-40AC-A281-97AC89E154C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8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Designing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 new systems or modifying existing ones should always be aimed at helping an organization achieve its goal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design and discuss the differences between logical and physical systems desig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iscuss the use of environmental design in the systems development proces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D3B7-6A50-4326-84A9-4E6DF16B266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6543-CAD7-48E0-9E66-26E94B2DD2A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Data Prepar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16" name=""/>
          <p:cNvSpPr txBox="1"/>
          <p:nvPr/>
        </p:nvSpPr>
        <p:spPr>
          <a:xfrm>
            <a:off x="201888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lso called data convers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suring all files and databases are ready to be used with new computer software and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B3A-D11B-4281-A4C1-C66AECCD4F5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BA7C-392A-4226-8136-AF04B4E4620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nstall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2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cess of physically placing computer equipment on the site and making it operationa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Normally, manufacturer is responsible for installing computer equi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omeone from the organization (usually IS manager) should oversee the proces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89BC-DCB8-4F1C-8CD4-A9BF0DCF7CA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A97A-9872-4D81-8035-9CE5AE96C3E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est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26" name=""/>
          <p:cNvSpPr txBox="1"/>
          <p:nvPr/>
        </p:nvSpPr>
        <p:spPr>
          <a:xfrm>
            <a:off x="258876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orms of test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nit testing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 testing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Volume testing 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tegration testing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cceptance testing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F3F3-1033-4B2C-835B-6FB8E185C46E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5D96-CD89-4350-9575-2C4A5A2F6258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User Acceptanc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3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ormal agreement signed by user that states that a phase of installation or the complete system is approved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Legal document that removes or reduces IS vendor’s liabil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FEF5-146D-486D-A86B-661B7C91411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3367-0A79-4AA9-B45B-BFFE70B989D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title"/>
          </p:nvPr>
        </p:nvSpPr>
        <p:spPr>
          <a:xfrm>
            <a:off x="1942920" y="632880"/>
            <a:ext cx="9334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5. Systems Operation and Maintenanc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oper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Use of a new or modified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maintenanc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hecking, changing, and enhancing the system to make it more useful in achieving user and organizational goal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3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8167-28F6-459D-9814-34923018EE0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F7A4-ED06-41E2-9C47-28F968BE9C5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ystems Review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1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inal step of 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nalyzes systems to make sure that they are operating as intended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an be performed during 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686-B2E0-40BA-BEE5-32E0D001778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8855-08E6-4B6E-B59D-CF538605879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 </a:t>
            </a: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ystem Performance Measure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46" name=""/>
          <p:cNvSpPr txBox="1"/>
          <p:nvPr/>
        </p:nvSpPr>
        <p:spPr>
          <a:xfrm>
            <a:off x="2285640" y="19047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Monitoring the syste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Number of errors encounter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mount of memory requir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mount of processing or CPU time need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Other problem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 performance product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oftware that measures all components of the  information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77D0D-131A-4C82-830E-6D4646CB3AF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559EC-B2F3-4B9C-98D6-A1E5FB4D62F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1752120" y="58212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Continuous professional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228564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Information Technology (IT) is changing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w technical skills of IS professionals become old so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IS professionals need to be aware and up-to-date of the latest technologies and innovations in the IS and IT field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Need for professional ethics and continuous professional development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E619-7ACF-407E-9B53-8C186B94B71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42E2-05DE-47A1-8DC1-C5EEE5C09C4E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1981080" y="623520"/>
            <a:ext cx="952344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78dbb"/>
                </a:solidFill>
                <a:latin typeface="Century Gothic"/>
                <a:ea typeface="Tahoma"/>
              </a:rPr>
              <a:t>Continuous Professional Development (Cont.)</a:t>
            </a:r>
            <a:endParaRPr b="0" lang="en-US" sz="32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55" name=""/>
          <p:cNvSpPr txBox="1"/>
          <p:nvPr/>
        </p:nvSpPr>
        <p:spPr>
          <a:xfrm>
            <a:off x="2133360" y="1523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Industry and government devote significant resources to the training of software engine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The ACM and IEEE-CS promote and support professional development through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Publica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Conferen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Workshop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0720" indent="-2772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Tutorial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2640" indent="-3326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6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7817-375E-4A9E-B2CC-F5BEC5FDC3DF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7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915C-EC96-4534-A61D-6DD0BA8880D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Improve Yourself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59" name=""/>
          <p:cNvSpPr txBox="1"/>
          <p:nvPr/>
        </p:nvSpPr>
        <p:spPr>
          <a:xfrm>
            <a:off x="2619000" y="16761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ocus on professional development Opportunitie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onferences, training, certification, degre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uccessful people never stop learning about profession, industry, career path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t minimum read industry trade journals and book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 in yoursel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0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BFB6-9540-4972-B6A1-5174FEBA151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1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06AA-C99B-4B73-A7DE-C41B9AB335A5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8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he primary emphasis of systems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mplementation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s to make sure that the right information is delivered to the right person in the right format at the right tim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purpose of systems implementation and discuss the various activities associated with this phase of systems development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5368-454A-4541-809C-032A7FB750B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B2C5-1F8E-4C5F-BD77-21C2323E290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Be Prepared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63" name=""/>
          <p:cNvSpPr txBox="1"/>
          <p:nvPr/>
        </p:nvSpPr>
        <p:spPr>
          <a:xfrm>
            <a:off x="258876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Never stop growing/expanding your network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Update your resum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tay active outside of work – volunteering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Gain additional work experience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DE939-AE51-470E-95B2-F7590102D0E2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6440-8A74-4998-96B3-F71F4FA67E1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7" name="PlaceHolder 1"/>
          <p:cNvSpPr>
            <a:spLocks noGrp="1"/>
          </p:cNvSpPr>
          <p:nvPr>
            <p:ph type="title"/>
          </p:nvPr>
        </p:nvSpPr>
        <p:spPr>
          <a:xfrm>
            <a:off x="2039760" y="632880"/>
            <a:ext cx="89107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fessional Societie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68" name="PlaceHolder 2"/>
          <p:cNvSpPr>
            <a:spLocks noGrp="1"/>
          </p:cNvSpPr>
          <p:nvPr>
            <p:ph/>
          </p:nvPr>
        </p:nvSpPr>
        <p:spPr>
          <a:xfrm>
            <a:off x="2069640" y="1523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  <a:ea typeface="Tahoma"/>
              </a:rPr>
              <a:t>Two very active societies provide mature support for the Information Systems profession: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Association for Computing Machinery (ACM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IEEE Computer Society (IEEE-CS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C491-1223-4905-924F-6D3145EC7DC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58B5-E674-4C3C-BF0B-FCD47CE43F8B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2163240" y="60912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ACM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73" name=""/>
          <p:cNvSpPr txBox="1"/>
          <p:nvPr/>
        </p:nvSpPr>
        <p:spPr>
          <a:xfrm>
            <a:off x="1752120" y="1599840"/>
            <a:ext cx="99061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Association for Computing Machinery (ACM) (</a:t>
            </a:r>
            <a:r>
              <a:rPr b="0" lang="en-US" sz="2800" spc="-1" strike="noStrike" u="sng">
                <a:solidFill>
                  <a:srgbClr val="2da0f1"/>
                </a:solidFill>
                <a:uFillTx/>
                <a:latin typeface="Century Gothic"/>
                <a:ea typeface="Tahoma"/>
                <a:hlinkClick r:id="rId1"/>
              </a:rPr>
              <a:t>http://www.acm.org/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Founded in 1947, ACM has 75, 000 members and has the objective of advancing the skills of computing professionals and students worldwide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The ACM has 34 “special interest groups” (SIGs). The Special Interest Group on Management Information Systems (SIGMIS) promotes best-practice and research in the management of information systems and technologies and the use of these systems and technologies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4DB2-A01A-4872-8B80-5B0C1C0A593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40B2-75AC-458B-ACBD-B87D51C4A63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1986120" y="64152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The IEEE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78" name=""/>
          <p:cNvSpPr txBox="1"/>
          <p:nvPr/>
        </p:nvSpPr>
        <p:spPr>
          <a:xfrm>
            <a:off x="1904760" y="1447560"/>
            <a:ext cx="967716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entury Gothic"/>
                <a:ea typeface="Tahoma"/>
              </a:rPr>
              <a:t>IEEE Computer Society (IEEE-CS) (</a:t>
            </a:r>
            <a:r>
              <a:rPr b="0" lang="en-US" sz="3200" spc="-1" strike="noStrike" u="sng">
                <a:solidFill>
                  <a:srgbClr val="2da0f1"/>
                </a:solidFill>
                <a:uFillTx/>
                <a:latin typeface="Century Gothic"/>
                <a:ea typeface="Tahoma"/>
                <a:hlinkClick r:id="rId1"/>
              </a:rPr>
              <a:t>http://computer.org/</a:t>
            </a:r>
            <a:r>
              <a:rPr b="0" lang="en-US" sz="3200" spc="-1" strike="noStrike">
                <a:solidFill>
                  <a:srgbClr val="404040"/>
                </a:solidFill>
                <a:latin typeface="Century Gothic"/>
                <a:ea typeface="Tahoma"/>
              </a:rPr>
              <a:t>)</a:t>
            </a:r>
            <a:endParaRPr b="0" lang="en-US" sz="3200" spc="-1" strike="noStrike">
              <a:solidFill>
                <a:srgbClr val="404040"/>
              </a:solidFill>
              <a:latin typeface="Century Gothic"/>
            </a:endParaRPr>
          </a:p>
          <a:p>
            <a:pPr lvl="1" marL="705600" indent="-271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Founded in 1946, with nearly 100,000 members, it is the largest of the 36 societies of the Institute of Electrical and Electronics Engineers (IEEE)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705600" indent="-2714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The Computer Society's vision is to be the leading provider of technical information and services to the world's computing professional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51AD-DD0B-42DE-A314-45C231F1CA1B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CEAE-BA11-4FF3-89EF-E0E282FE6289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Certification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83" name="PlaceHolder 2"/>
          <p:cNvSpPr>
            <a:spLocks noGrp="1"/>
          </p:cNvSpPr>
          <p:nvPr>
            <p:ph/>
          </p:nvPr>
        </p:nvSpPr>
        <p:spPr>
          <a:xfrm>
            <a:off x="1699920" y="1600200"/>
            <a:ext cx="972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Certification is a voluntary process administered by a profession.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Why certification is an asset for Information Systems related career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A student having a certification is more marketable and earn higher salarie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ertification give employers a criterion for selecting the most capable employee to recrui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Employees who update their knowledge and skills through certification are more valuable employees because of the strength they bring to the job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9AFB-5DA2-479B-B4E7-EAA2F6BD729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05E4-2F4A-45FE-A925-1F93A2328C3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PlaceHolder 1"/>
          <p:cNvSpPr>
            <a:spLocks noGrp="1"/>
          </p:cNvSpPr>
          <p:nvPr>
            <p:ph type="title"/>
          </p:nvPr>
        </p:nvSpPr>
        <p:spPr>
          <a:xfrm>
            <a:off x="1980720" y="685440"/>
            <a:ext cx="891252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Certification program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88" name=""/>
          <p:cNvSpPr txBox="1"/>
          <p:nvPr/>
        </p:nvSpPr>
        <p:spPr>
          <a:xfrm>
            <a:off x="1980720" y="1523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Currently there are many certification programs for various computing technologies in software, hardware, networking, system analysis and design. Most of the certifications are brand name certifications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Oracl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SAP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isco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Java/Sun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Microsof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Novell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31A2-51FC-48CC-A308-84E5C8817A3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1F6-2929-43F7-B1DD-ABBA15E21CD6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1846440" y="6091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Licensing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1828440" y="14475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Licensing is a process administered by a governmental authority to allow IS professionals to practice in their fields. Licensing requires in general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mpetency in IS Body Of Knowledge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mpetency in professional issues related to  I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de of ethic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Adhere to risk management guidelines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Personal and professional responsibility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lvl="1" marL="735480" indent="-28296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entury Gothic"/>
                <a:ea typeface="Tahoma"/>
              </a:rPr>
              <a:t>Commitment to professional ongoing development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4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F09A-86A9-4DC3-BDAC-40A1BD0DD72D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5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6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7A59-0F86-4BC9-A9C4-68ED754AE22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ofessional Conduc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698" name=""/>
          <p:cNvSpPr txBox="1"/>
          <p:nvPr/>
        </p:nvSpPr>
        <p:spPr>
          <a:xfrm>
            <a:off x="2209680" y="1752120"/>
            <a:ext cx="96012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entury Gothic"/>
              </a:rPr>
              <a:t>Professional competence and integr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entury Gothic"/>
              </a:rPr>
              <a:t>Social implication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404040"/>
                </a:solidFill>
                <a:latin typeface="Century Gothic"/>
              </a:rPr>
              <a:t>Organization and leadership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9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7825-D457-4FD3-BFE7-3DFF4E59F64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7E94-96F4-46F0-8B6D-CEF707AE4F7F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1733400" y="700200"/>
            <a:ext cx="10172880" cy="9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Professional Competence and Integrity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03" name=""/>
          <p:cNvSpPr txBox="1"/>
          <p:nvPr/>
        </p:nvSpPr>
        <p:spPr>
          <a:xfrm>
            <a:off x="1752120" y="1828800"/>
            <a:ext cx="9829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Microsoft JhengHei"/>
              </a:rPr>
              <a:t>Continue to upgrade my professional knowledge and skills, and shall maintain awareness of technological developments, procedures and standards, which are relevant to my field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Microsoft JhengHei"/>
              </a:rPr>
              <a:t>Only offer to do work or provide a service within my professional competence and shall not claim any level of competence that I do not possess; any professional opinion which I am asked to give shall be objective and reliable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4" name="Rectangle 4"/>
          <p:cNvSpPr/>
          <p:nvPr/>
        </p:nvSpPr>
        <p:spPr>
          <a:xfrm>
            <a:off x="1638360" y="1523880"/>
            <a:ext cx="885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24F3-B461-493F-AE4A-9105FC5C610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7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71042-7E9C-4700-A774-73F1A3C76D97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Social Implications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09" name=""/>
          <p:cNvSpPr txBox="1"/>
          <p:nvPr/>
        </p:nvSpPr>
        <p:spPr>
          <a:xfrm>
            <a:off x="2437920" y="19015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crease my awareness of issues affecting the IT profession and its relationship with the community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sure that within my chosen fields, I have knowledge and understanding of relevant legislation, regulations and standards and that I comply with such requirements.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0" name="Rectangle 4"/>
          <p:cNvSpPr/>
          <p:nvPr/>
        </p:nvSpPr>
        <p:spPr>
          <a:xfrm>
            <a:off x="1638360" y="1523880"/>
            <a:ext cx="885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1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0BBC-2849-4860-8641-25A0ED265FC8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2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3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79A3-FF04-4319-99A9-3FBD6DFB715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Principles and Learning Objectives (continued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90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Maintenance and review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dd to the useful life of a system but can consume large amounts of resources, so they benefit from the same rigorous methods and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ject management 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echniques applied to </a:t>
            </a:r>
            <a:r>
              <a:rPr b="1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te the importance of systems and software maintenance and discuss the activities involv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Describe the systems review proces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EB18-894C-46F9-8054-47BF01B434F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DC52-4E34-44CB-8B34-DC3B094AE76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Organisation and</a:t>
            </a: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Leadership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15" name=""/>
          <p:cNvSpPr txBox="1"/>
          <p:nvPr/>
        </p:nvSpPr>
        <p:spPr>
          <a:xfrm>
            <a:off x="2285640" y="159984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Keep myself and subordinates informed of new technologies, practices, legal requirements and standards as are relevant to my du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  <a:ea typeface="Tahoma"/>
              </a:rPr>
              <a:t>Encourage my colleagues, employees and students to continue their own professional development, and ensure that subordinates are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rained in order to be effective in their duties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o qualify for increased responsibilities.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6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730E-B495-47D7-8A97-92AA9B219D57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7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8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53AC5-3FFA-4528-B5D0-11B62C7094C1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Organisation &amp;</a:t>
            </a:r>
            <a:r>
              <a:rPr b="0" lang="en-US" sz="3600" spc="-1" strike="noStrike">
                <a:solidFill>
                  <a:srgbClr val="178dbb"/>
                </a:solidFill>
                <a:latin typeface="Century Gothic"/>
              </a:rPr>
              <a:t> </a:t>
            </a:r>
            <a:r>
              <a:rPr b="0" lang="en-GB" sz="3600" spc="-1" strike="noStrike">
                <a:solidFill>
                  <a:srgbClr val="178dbb"/>
                </a:solidFill>
                <a:latin typeface="Century Gothic"/>
              </a:rPr>
              <a:t>Leadership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20" name=""/>
          <p:cNvSpPr txBox="1"/>
          <p:nvPr/>
        </p:nvSpPr>
        <p:spPr>
          <a:xfrm>
            <a:off x="2322360" y="1888920"/>
            <a:ext cx="89553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Create opportunities for members of the organization to learn the principles and limitations of IT and systems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Accept professional responsibility for my work and for the work of my subordinates and associates under my direction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1" name="Rectangle 4"/>
          <p:cNvSpPr/>
          <p:nvPr/>
        </p:nvSpPr>
        <p:spPr>
          <a:xfrm>
            <a:off x="1638360" y="1523880"/>
            <a:ext cx="8859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57B3-22CA-4290-A1E0-2F29AE3480A3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3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4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E418-477D-4C6C-B1DA-00DD3C9BAFCC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2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team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takeholders, users, managers, systems development specialists, and various support personn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Five phases of the traditional SDLC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on, analysis, design, implementation, and maintenance and review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rototyping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An iterative development approach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6D3A-BE89-4AF8-A277-353D1D53F630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8752-0354-4B71-A4C3-78D9262FD1B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 (cont.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31" name=""/>
          <p:cNvSpPr txBox="1"/>
          <p:nvPr/>
        </p:nvSpPr>
        <p:spPr>
          <a:xfrm>
            <a:off x="2590560" y="16761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vestigation proces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itiated by a systems request for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analysi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he examination of existing system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urpose of systems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o prepare the detailed design needs for a new system or modifications to an existing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Environmental desig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Involves systems development efforts that slash power consumption and take less physical spac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2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3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5548D-6147-48DB-9268-656F02223A59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4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B836-1930-48F6-A24D-A926025BE8AD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 (cont.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36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Purpose of systems implement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o install a system and make everything, including users, ready for its operat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oftware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Can be purchased from external vendors or developed in house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operatio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The use of a new or modified system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7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8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B5CE-DF74-427F-9CF8-F2CD98C634D6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9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6CFC-293B-47A1-9DD8-082C43770DE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2022480" y="743040"/>
            <a:ext cx="891216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Summary (cont.)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2041200" y="175212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Continuous Professional Development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Professional Societie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  <a:ea typeface="Tahoma"/>
              </a:rPr>
              <a:t>Certification and licensing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Professional conduct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C145-4802-423C-A6E5-1B30AB6C1F8C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3" name="Footer Placeholder 2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4" name="Slide Number Placeholder 3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FE9A-ACD4-412B-ABA0-67ED2A48F253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Why Learn About Systems Development?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2588760" y="21333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 this chapter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You will see how you can initiate the systems development process and analyze your needs with the help of IS personnel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You will learn how your project can be planned, aligned with corporate goals, and rapidly developed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96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335C-5A96-4E53-9F97-501452BDDDD1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A3DB-30B1-4B70-A570-86C8DD495AE4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PlaceHolder 1"/>
          <p:cNvSpPr>
            <a:spLocks noGrp="1"/>
          </p:cNvSpPr>
          <p:nvPr>
            <p:ph type="title"/>
          </p:nvPr>
        </p:nvSpPr>
        <p:spPr>
          <a:xfrm>
            <a:off x="2592360" y="623520"/>
            <a:ext cx="891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8dbb"/>
                </a:solidFill>
                <a:latin typeface="Century Gothic"/>
                <a:ea typeface="Tahoma"/>
              </a:rPr>
              <a:t>An Overview of Systems Development</a:t>
            </a:r>
            <a:endParaRPr b="0" lang="en-US" sz="3600" spc="-1" strike="noStrike">
              <a:solidFill>
                <a:srgbClr val="178dbb"/>
              </a:solidFill>
              <a:latin typeface="Century Gothic"/>
            </a:endParaRPr>
          </a:p>
        </p:txBody>
      </p:sp>
      <p:sp>
        <p:nvSpPr>
          <p:cNvPr id="2400" name=""/>
          <p:cNvSpPr txBox="1"/>
          <p:nvPr/>
        </p:nvSpPr>
        <p:spPr>
          <a:xfrm>
            <a:off x="2361960" y="1676160"/>
            <a:ext cx="891540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In today’s businesses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Managers and employees in all functional areas work together and use business information system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  <a:ea typeface="Tahoma"/>
              </a:rPr>
              <a:t>This chapter will: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vide you with a deeper appreciation of the </a:t>
            </a:r>
            <a:r>
              <a:rPr b="1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systems development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  <a:ea typeface="Tahoma"/>
              </a:rPr>
              <a:t>process for individuals and organizations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35353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01" name="Footer Placeholder 3"/>
          <p:cNvSpPr/>
          <p:nvPr/>
        </p:nvSpPr>
        <p:spPr>
          <a:xfrm>
            <a:off x="2589120" y="6135840"/>
            <a:ext cx="762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Chapter 1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Date Placeholder 1"/>
          <p:cNvSpPr/>
          <p:nvPr/>
        </p:nvSpPr>
        <p:spPr>
          <a:xfrm>
            <a:off x="10361520" y="6130800"/>
            <a:ext cx="1146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EF5D-4DB2-4E83-8AAF-B25CC4E96BE4}" type="datetime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3" name="Slide Number Placeholder 2"/>
          <p:cNvSpPr/>
          <p:nvPr/>
        </p:nvSpPr>
        <p:spPr>
          <a:xfrm>
            <a:off x="531720" y="787320"/>
            <a:ext cx="779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0162-09DB-44A8-82BF-7BFBB6B0432A}" type="slidenum">
              <a:rPr b="0" lang="en-US" sz="2000" spc="-1" strike="noStrike">
                <a:solidFill>
                  <a:srgbClr val="feffff"/>
                </a:solidFill>
                <a:latin typeface="Times New Roman"/>
                <a:ea typeface="Tahoma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15:56:32Z</dcterms:created>
  <dc:creator/>
  <dc:description/>
  <cp:keywords/>
  <dc:language>en-US</dc:language>
  <cp:lastModifiedBy>Ahmed E Youssef</cp:lastModifiedBy>
  <dcterms:modified xsi:type="dcterms:W3CDTF">2016-12-20T05:44:09Z</dcterms:modified>
  <cp:revision>531</cp:revision>
  <dc:subject/>
  <dc:title> Principles of Information Systems, Ninth Edition</dc:title>
</cp:coreProperties>
</file>