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54A25-E5E8-40D2-B24A-E9CA0120F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2D911-3B25-490F-B843-1FD3A339B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C6B3F-8F24-488A-8B80-131F3F09E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D7467-70DF-4CA2-B2B6-E24BA8073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679B5-6D8B-45CD-A480-5C17AD8EA3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3E33E-A3B4-4661-8438-F669C7138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080B6-06ED-4EA8-962C-FD562F475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023D6-A3B9-44EB-935A-C13997C52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CE5AE-80AE-4725-9EE4-61EE8C67D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D112B-BC42-4E18-B416-6D792D3B4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33DA8-59F6-4929-AD5A-3EB25EADD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3A43D-750C-4AD1-86DE-B71963307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E55EA-52EA-4031-9512-2FCA0D5C0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5705D-C277-488A-823C-6EE124E4A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D9D37-9C9A-47AC-906C-A18398E95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46F396-46F4-4106-B907-F9CAF1222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75AA1-CD27-4512-9841-763E68992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054E50A-3BC0-43A9-8E4D-FD88FE8D9D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39D8A7-AC18-4979-9C62-57C9E3CD4F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C0AD5FA-8101-4710-A7E6-37E7FC2FCA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E4865BA-4A42-42B1-AC64-BD794F497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1F9A848-FAF5-4839-945E-656F6FBD4F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3110E-E013-4CCC-A9F1-175A6E969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3CC7AE8-B673-4050-A970-7226D26494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5708A06-06AE-4DD7-8EDD-27F0C206C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D386FBC-8B13-47E3-8B6B-85AB87137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C995A7-98D7-451B-8999-15E5643838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D7780CA-5BF6-4291-B523-F26EDD7A4D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317BCA2-1E85-45CA-8E9A-D71D3F0BC0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1600099-9CC4-472B-8D5D-49CE585DB2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F814DE8-03C9-4F42-B703-11205E36D3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D921F47-6D43-4FAC-BAD9-8A01A810B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A2DC613-71DE-4DAC-9BAC-D5A9607357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10DED-113D-4A70-B86F-C589F58BA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FB4B1D-89BC-43DF-90CC-6ACE2B8FEF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4F25A8E-711E-4140-ACF9-261B3F1DDF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A9A9AF6-B2AE-4B45-97D3-151B132DD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573EB1-B8AA-42A9-A0B8-7ABF4699F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438516-DA56-4F86-9400-53A418FD4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2FEF57-D71D-4DA9-95DA-3D2D3E96CE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8A6F065-2EEB-4052-A0B0-088EB4AB6F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927F576-E385-4708-AF2F-AA5FB5EFA1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D7ACE39-EFA7-42D9-A2ED-81D5368744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62FADB0-DC0D-4106-A85D-6D49E21311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4EB8C-DBDE-4F15-83AE-DCBB19C03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BBA2436-52CD-4449-9A7A-CB5247BF2A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3B9AAA-7677-45FC-8657-C7102B75BF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EDCBB0-AC30-4740-8AA8-B516C489B1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C5610FA-EB8A-47C0-A5AD-C049E0F43F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53E5C6A-1A76-486A-B845-05386AB9BE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47CF02-BD71-4CD9-A0CB-BC101E5E29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57AB74-747B-424E-AECD-0DE80ECBBF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A78A54-C6BF-4C20-888F-E4B0FE9C6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D41C75C-00AC-4652-9B19-DAE8B253CE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7556C4A-B997-4C2C-AB62-AB7C95F991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E2982-8758-4CF0-9A66-84A89520F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9BA5405-36BE-4062-8FAD-4D3EA3CB4F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DDFD06-01E4-42BC-82A6-59B2F300C7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6AD79E-E1D8-459C-BC1E-2DA018EC54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64642E-7D5B-4C14-AC57-F10459EB6F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6ACE2D-E192-4C7B-84BE-18480F7DFE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59F67A-2F43-4437-8441-57BC83EEDA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4A1CCE-B9B8-498D-88BA-6B98C9AFE8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05B3FE-5443-4BB0-9BF5-AFAD132CE3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DDE2C-77FF-4795-BBCA-8EA7A16B38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4DB467-AC6D-4084-A4E5-2E4B2F730B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FB3FC-4664-416A-B5E0-E42FD46EB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B0034C-C775-445E-B090-D6A7A64601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29CF99-F6F5-41CF-8574-120EE774AE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253458-5C6A-4CD5-B1E0-435726EE40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05E6270-5860-4746-B365-ABCB594953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0AC3BC5-250B-4502-AE79-46E2867EE6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DB6B9C9-EA17-4B60-BAB8-32A33D7CAA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2483413-96C2-47A3-A611-1EF4FAB283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56D306B-0755-4667-BF6A-45F953F5D6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7D0CB27-826B-4EA0-9E1E-6D4D1EA13F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25986F6-721F-4CB3-9C18-4168A24728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72A35-B5DB-46E7-931B-B26923C7E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DBC748D-6DBE-469F-9507-C8FB0CBBD7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84F47C9-E778-4978-961F-9B07F78D2B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A26E611-4276-445B-AC97-2C749A4433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4057F8D-403B-402D-9E86-3DD1D92C36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C247FE0-18E6-4239-83C9-8B13C561E1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8FE375-C5FE-4B79-87B8-5D13B9801B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86EA4C-0E4D-4E81-A952-B2CFA5AF4F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5D787C-196D-4D8A-A206-8F06F6D74E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DA1CFA-3139-4CFA-8A2C-83E3516C13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2F1AB2-0CCA-4D7D-A242-5FAC5A95CC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E0700-BA35-4C7A-B88C-D53864FCA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435B0D-A754-4789-956E-926328DCB5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FC6DD6-4A1E-4BCF-A230-4AF9DA519E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8FB56B-8EF1-42F0-9C3E-B6A7D8E539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EF8D22-E5E5-485F-98C6-7C68CEA933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C8E6A2-F394-45EB-A246-CF4AE846DE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581135-BDFE-46B7-AC7D-C23EED3FE4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D248E5-83CF-4680-BC71-C1A71DB159C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Garamond"/>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640C-911F-40B3-A5D4-816319695B64}" type="slidenum">
              <a:rPr b="1" lang="ar-SA" sz="1400" spc="-1" strike="noStrike">
                <a:solidFill>
                  <a:srgbClr val="ffffff"/>
                </a:solidFill>
                <a:latin typeface="Garamond"/>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ebddc3"/>
                </a:solidFill>
                <a:latin typeface="Garamond"/>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9B24F-E90D-460D-8BE4-4F273909CAA5}" type="slidenum">
              <a:rPr b="1" lang="ar-SA" sz="1400" spc="-1" strike="noStrike">
                <a:solidFill>
                  <a:srgbClr val="ebddc3"/>
                </a:solidFill>
                <a:latin typeface="Garamond"/>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Garamond"/>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DD80-2EE9-4F84-A207-4D451967545D}" type="slidenum">
              <a:rPr b="1" lang="ar-SA" sz="2400" spc="-1" strike="noStrike">
                <a:solidFill>
                  <a:srgbClr val="ffffff"/>
                </a:solidFill>
                <a:latin typeface="Garamond"/>
              </a:rPr>
              <a:t>&lt;number&gt;</a:t>
            </a:fld>
            <a:endParaRPr b="0" lang="en-US" sz="2400" spc="-1" strike="noStrike">
              <a:solidFill>
                <a:srgbClr val="000000"/>
              </a:solidFill>
              <a:latin typeface="Garamond"/>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Garamond"/>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732B-6244-438A-981F-1CA582A125D9}" type="slidenum">
              <a:rPr b="1" lang="ar-SA" sz="1400" spc="-1" strike="noStrike">
                <a:solidFill>
                  <a:srgbClr val="ffffff"/>
                </a:solidFill>
                <a:latin typeface="Garamond"/>
              </a:rPr>
              <a:t>&lt;number&gt;</a:t>
            </a:fld>
            <a:endParaRPr b="0" lang="en-US" sz="1400" spc="-1" strike="noStrike">
              <a:solidFill>
                <a:srgbClr val="000000"/>
              </a:solidFill>
              <a:latin typeface="Garamond"/>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Garamond"/>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3264-AA39-40DC-805F-2BD54133A4E6}" type="slidenum">
              <a:rPr b="1" lang="ar-SA" sz="1400" spc="-1" strike="noStrike">
                <a:solidFill>
                  <a:srgbClr val="ffffff"/>
                </a:solidFill>
                <a:latin typeface="Garamond"/>
              </a:rPr>
              <a:t>&lt;number&gt;</a:t>
            </a:fld>
            <a:endParaRPr b="0" lang="en-US" sz="1400" spc="-1" strike="noStrike">
              <a:solidFill>
                <a:srgbClr val="000000"/>
              </a:solidFill>
              <a:latin typeface="Garamond"/>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775f55"/>
                </a:solidFill>
                <a:latin typeface="Garamond"/>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CD82-F741-467B-8E30-09D1A65C89B9}" type="slidenum">
              <a:rPr b="1" lang="ar-SA" sz="1400" spc="-1" strike="noStrike">
                <a:solidFill>
                  <a:srgbClr val="775f55"/>
                </a:solidFill>
                <a:latin typeface="Garamond"/>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Garamond"/>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1A19-3016-45B4-A740-46560BCB1AB3}" type="slidenum">
              <a:rPr b="1" lang="ar-SA" sz="2800" spc="-1" strike="noStrike">
                <a:solidFill>
                  <a:srgbClr val="ffffff"/>
                </a:solidFill>
                <a:latin typeface="Garamond"/>
              </a:rPr>
              <a:t>&lt;number&gt;</a:t>
            </a:fld>
            <a:endParaRPr b="0" lang="en-US" sz="2800" spc="-1" strike="noStrike">
              <a:solidFill>
                <a:srgbClr val="000000"/>
              </a:solidFill>
              <a:latin typeface="Garamond"/>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Garamond"/>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C6A8-BE53-43CC-9E75-216BBB61039A}" type="slidenum">
              <a:rPr b="1" lang="ar-SA" sz="1400" spc="-1" strike="noStrike">
                <a:solidFill>
                  <a:srgbClr val="ffffff"/>
                </a:solidFill>
                <a:latin typeface="Garamond"/>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775f55"/>
                </a:solidFill>
                <a:latin typeface="Tw Cen MT"/>
              </a:rPr>
              <a:t>مبادئ إدارة المحاصيل والتربة</a:t>
            </a:r>
            <a:br>
              <a:rPr sz="2900"/>
            </a:br>
            <a:r>
              <a:rPr b="1" lang="ar-SA" sz="2900" spc="-1" strike="noStrike">
                <a:solidFill>
                  <a:srgbClr val="775f55"/>
                </a:solidFill>
                <a:latin typeface="Tw Cen MT"/>
              </a:rPr>
              <a:t>  </a:t>
            </a:r>
            <a:r>
              <a:rPr b="1" i="1" lang="en-US" sz="2900" spc="-1" strike="noStrike">
                <a:solidFill>
                  <a:srgbClr val="775f55"/>
                </a:solidFill>
                <a:latin typeface="Tw Cen MT"/>
              </a:rPr>
              <a:t>Crops &amp;Soil Management</a:t>
            </a:r>
            <a:endParaRPr b="0" lang="en-US" sz="2900" spc="-1" strike="noStrike">
              <a:solidFill>
                <a:srgbClr val="775f55"/>
              </a:solidFill>
              <a:latin typeface="Tw Cen MT"/>
            </a:endParaRPr>
          </a:p>
        </p:txBody>
      </p:sp>
      <p:sp>
        <p:nvSpPr>
          <p:cNvPr id="351" name=""/>
          <p:cNvSpPr txBox="1"/>
          <p:nvPr/>
        </p:nvSpPr>
        <p:spPr>
          <a:xfrm>
            <a:off x="151920" y="1599840"/>
            <a:ext cx="8534520" cy="5257800"/>
          </a:xfrm>
          <a:prstGeom prst="rect">
            <a:avLst/>
          </a:prstGeom>
          <a:noFill/>
          <a:ln w="0">
            <a:noFill/>
          </a:ln>
        </p:spPr>
        <p:txBody>
          <a:bodyPr lIns="90000" rIns="90000" tIns="46800" bIns="46800" anchor="t">
            <a:normAutofit fontScale="94000"/>
          </a:bodyPr>
          <a:p>
            <a:pPr marL="299520" indent="-29952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سيتم هنا تحديد أساليب إدارة التربة </a:t>
            </a:r>
            <a:r>
              <a:rPr b="0" i="1" lang="en-US" sz="2000" spc="-1" strike="noStrike">
                <a:solidFill>
                  <a:srgbClr val="000000"/>
                </a:solidFill>
                <a:latin typeface="Tw Cen MT"/>
              </a:rPr>
              <a:t>Soil Management</a:t>
            </a:r>
            <a:r>
              <a:rPr b="0" lang="en-US" sz="2000" spc="-1" strike="noStrike">
                <a:solidFill>
                  <a:srgbClr val="000000"/>
                </a:solidFill>
                <a:latin typeface="Tw Cen MT"/>
              </a:rPr>
              <a:t> </a:t>
            </a:r>
            <a:r>
              <a:rPr b="0" lang="ar-SA" sz="2000" spc="-1" strike="noStrike">
                <a:solidFill>
                  <a:srgbClr val="000000"/>
                </a:solidFill>
                <a:latin typeface="Tw Cen MT"/>
              </a:rPr>
              <a:t>والمحاصيل ضمن واجبات الإدارة المزرعية للوصول إلى تحقيق أهداف المزرعة وبالتالي ضمان نجاح قطاع الزراعة والذي يعتبر من أهم القطاعات الإقتصادية. ومن ضمن أولويات الإدارة المزرعية تحديد أصناف المحاصيل </a:t>
            </a:r>
            <a:r>
              <a:rPr b="0" i="1" lang="en-US" sz="2000" spc="-1" strike="noStrike">
                <a:solidFill>
                  <a:srgbClr val="000000"/>
                </a:solidFill>
                <a:latin typeface="Tw Cen MT"/>
              </a:rPr>
              <a:t>Crops</a:t>
            </a:r>
            <a:r>
              <a:rPr b="0" lang="en-US" sz="2000" spc="-1" strike="noStrike">
                <a:solidFill>
                  <a:srgbClr val="000000"/>
                </a:solidFill>
                <a:latin typeface="Tw Cen MT"/>
              </a:rPr>
              <a:t> </a:t>
            </a:r>
            <a:r>
              <a:rPr b="0" lang="ar-SA" sz="2000" spc="-1" strike="noStrike">
                <a:solidFill>
                  <a:srgbClr val="000000"/>
                </a:solidFill>
                <a:latin typeface="Tw Cen MT"/>
              </a:rPr>
              <a:t>وأساليب إدارة التربة  </a:t>
            </a:r>
            <a:r>
              <a:rPr b="0" i="1" lang="en-US" sz="2000" spc="-1" strike="noStrike">
                <a:solidFill>
                  <a:srgbClr val="000000"/>
                </a:solidFill>
                <a:latin typeface="Tw Cen MT"/>
              </a:rPr>
              <a:t>Soil Management</a:t>
            </a:r>
            <a:r>
              <a:rPr b="0" lang="ar-SA" sz="2000" spc="-1" strike="noStrike">
                <a:solidFill>
                  <a:srgbClr val="000000"/>
                </a:solidFill>
                <a:latin typeface="Tw Cen MT"/>
              </a:rPr>
              <a:t> وإضافة الأسمدة </a:t>
            </a:r>
            <a:r>
              <a:rPr b="0" i="1" lang="en-US" sz="2000" spc="-1" strike="noStrike">
                <a:solidFill>
                  <a:srgbClr val="000000"/>
                </a:solidFill>
                <a:latin typeface="Tw Cen MT"/>
              </a:rPr>
              <a:t>Fertilizers</a:t>
            </a:r>
            <a:r>
              <a:rPr b="0" lang="en-US" sz="2000" spc="-1" strike="noStrike">
                <a:solidFill>
                  <a:srgbClr val="000000"/>
                </a:solidFill>
                <a:latin typeface="Tw Cen MT"/>
              </a:rPr>
              <a:t> </a:t>
            </a:r>
            <a:r>
              <a:rPr b="0" lang="ar-SA" sz="2000" spc="-1" strike="noStrike">
                <a:solidFill>
                  <a:srgbClr val="000000"/>
                </a:solidFill>
                <a:latin typeface="Tw Cen MT"/>
              </a:rPr>
              <a:t> الطبيعية والكيماويات وعلاقة ذلك بالدورة الزراعية. كما يكون هناك قرارات مزرعية تدرس تأثير إدارة التربة على الإنتاج المزرعي وكمية البذور المستخدمة ومقاومة الآفات الزراعية على العائد المالي </a:t>
            </a:r>
            <a:r>
              <a:rPr b="0" i="1" lang="en-US" sz="2000" spc="-1" strike="noStrike">
                <a:solidFill>
                  <a:srgbClr val="000000"/>
                </a:solidFill>
                <a:latin typeface="Tw Cen MT"/>
              </a:rPr>
              <a:t>Net Return</a:t>
            </a:r>
            <a:r>
              <a:rPr b="0" lang="en-US" sz="2000" spc="-1" strike="noStrike">
                <a:solidFill>
                  <a:srgbClr val="000000"/>
                </a:solidFill>
                <a:latin typeface="Tw Cen MT"/>
              </a:rPr>
              <a:t> </a:t>
            </a:r>
            <a:r>
              <a:rPr b="0" lang="ar-SA" sz="2000" spc="-1" strike="noStrike">
                <a:solidFill>
                  <a:srgbClr val="000000"/>
                </a:solidFill>
                <a:latin typeface="Tw Cen MT"/>
              </a:rPr>
              <a:t>للمزرعة من مختلف القرارات المتعلقة بالمحاصيل وإدارة التربة والتسميد.</a:t>
            </a:r>
            <a:endParaRPr b="0" lang="en-US" sz="2000" spc="-1" strike="noStrike">
              <a:solidFill>
                <a:srgbClr val="000000"/>
              </a:solidFill>
              <a:latin typeface="Tw Cen MT"/>
            </a:endParaRPr>
          </a:p>
          <a:p>
            <a:pPr marL="299520" indent="-2995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إدارة المحـاصيل </a:t>
            </a:r>
            <a:r>
              <a:rPr b="1" i="1" lang="en-US" sz="2400" spc="-1" strike="noStrike">
                <a:solidFill>
                  <a:srgbClr val="c00000"/>
                </a:solidFill>
                <a:latin typeface="Tw Cen MT"/>
              </a:rPr>
              <a:t>Crops Management</a:t>
            </a:r>
            <a:endParaRPr b="0" lang="en-US" sz="2400" spc="-1" strike="noStrike">
              <a:solidFill>
                <a:srgbClr val="000000"/>
              </a:solidFill>
              <a:latin typeface="Tw Cen MT"/>
            </a:endParaRPr>
          </a:p>
          <a:p>
            <a:pPr marL="299520" indent="-29952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ن أهم المتغيرات في الزراعة هو توفر بذور </a:t>
            </a:r>
            <a:r>
              <a:rPr b="0" i="1" lang="en-US" sz="2000" spc="-1" strike="noStrike">
                <a:solidFill>
                  <a:srgbClr val="000000"/>
                </a:solidFill>
                <a:latin typeface="Tw Cen MT"/>
              </a:rPr>
              <a:t>Seeds</a:t>
            </a:r>
            <a:r>
              <a:rPr b="0" lang="en-US" sz="2000" spc="-1" strike="noStrike">
                <a:solidFill>
                  <a:srgbClr val="000000"/>
                </a:solidFill>
                <a:latin typeface="Tw Cen MT"/>
              </a:rPr>
              <a:t> </a:t>
            </a:r>
            <a:r>
              <a:rPr b="0" lang="ar-SA" sz="2000" spc="-1" strike="noStrike">
                <a:solidFill>
                  <a:srgbClr val="000000"/>
                </a:solidFill>
                <a:latin typeface="Tw Cen MT"/>
              </a:rPr>
              <a:t>محسنة ذات إنتاجية عالية جداً بالمقارنة بالبذور التقليدية المستخدمة، وبذلك تكون الإستثمارات في الحصول على البذور المحسنة عالية العائد لهذه الأسباب.</a:t>
            </a:r>
            <a:endParaRPr b="0" lang="en-US" sz="2000" spc="-1" strike="noStrike">
              <a:solidFill>
                <a:srgbClr val="000000"/>
              </a:solidFill>
              <a:latin typeface="Tw Cen MT"/>
            </a:endParaRPr>
          </a:p>
          <a:p>
            <a:pPr marL="299520" indent="-29952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بالنسبة للتكاليف </a:t>
            </a:r>
            <a:r>
              <a:rPr b="0" i="1" lang="en-US" sz="2000" spc="-1" strike="noStrike">
                <a:solidFill>
                  <a:srgbClr val="000000"/>
                </a:solidFill>
                <a:latin typeface="Tw Cen MT"/>
              </a:rPr>
              <a:t>Costs</a:t>
            </a:r>
            <a:r>
              <a:rPr b="0" lang="ar-SA" sz="2000" spc="-1" strike="noStrike">
                <a:solidFill>
                  <a:srgbClr val="000000"/>
                </a:solidFill>
                <a:latin typeface="Tw Cen MT"/>
              </a:rPr>
              <a:t> الزراعية المتعلقة بالمحصول تبقى كما هي بغض النظر على نوعية البذور المستخدمة ويمكن معاملة التكاليف الاخرى كتكاليف ثابتة </a:t>
            </a:r>
            <a:r>
              <a:rPr b="0" i="1" lang="en-US" sz="2000" spc="-1" strike="noStrike">
                <a:solidFill>
                  <a:srgbClr val="000000"/>
                </a:solidFill>
                <a:latin typeface="Tw Cen MT"/>
              </a:rPr>
              <a:t>Fixed</a:t>
            </a:r>
            <a:r>
              <a:rPr b="0" lang="en-US" sz="2000" spc="-1" strike="noStrike">
                <a:solidFill>
                  <a:srgbClr val="000000"/>
                </a:solidFill>
                <a:latin typeface="Tw Cen MT"/>
              </a:rPr>
              <a:t> </a:t>
            </a:r>
            <a:r>
              <a:rPr b="0" i="1" lang="en-US" sz="2000" spc="-1" strike="noStrike">
                <a:solidFill>
                  <a:srgbClr val="000000"/>
                </a:solidFill>
                <a:latin typeface="Tw Cen MT"/>
              </a:rPr>
              <a:t>Cost</a:t>
            </a:r>
            <a:r>
              <a:rPr b="0" lang="ar-SA" sz="2000" spc="-1" strike="noStrike">
                <a:solidFill>
                  <a:srgbClr val="000000"/>
                </a:solidFill>
                <a:latin typeface="Tw Cen MT"/>
              </a:rPr>
              <a:t> وأن التكلفة المضافة للحصول على الإنتاجية العالية هي التكلفة الإضافية لإقتناء البذور المحسنة المستخدمة في الإنتاج. ومن العمليات التي تتغير ويكون لها علاقة بكمية الإنتاج هي تكلفة الحصاد اليدوي التي تزيد لوحدة المساحة في حالة إستخدام البذور المحسنة. أما الحصاد الآلي فتبقى ثابتة ولا يتأثر بزيادة الإنتاج المتوقع من البذور المحسنة. ومن المعروف مثلاً أن الذرة الهجين تكلف </a:t>
            </a:r>
            <a:r>
              <a:rPr b="0" lang="ar-SA" sz="2000" spc="-1" strike="noStrike">
                <a:solidFill>
                  <a:srgbClr val="000000"/>
                </a:solidFill>
                <a:latin typeface="Tw Cen MT"/>
              </a:rPr>
              <a:t>16</a:t>
            </a:r>
            <a:r>
              <a:rPr b="0" lang="ar-SA" sz="2000" spc="-1" strike="noStrike">
                <a:solidFill>
                  <a:srgbClr val="000000"/>
                </a:solidFill>
                <a:latin typeface="Tw Cen MT"/>
              </a:rPr>
              <a:t> مرة أكثر من البذور العادية ولكن إذا أخذنا في زيادة الإنتاجية المتوقعة من استعمال البذور الهجين، تصبح إضافة البذور الهجين مربحة جداً للمزارع بالمقارنة ببذور الذرة الشامية غير المهجنة.</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88000"/>
          </a:bodyPr>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Tw Cen MT"/>
              </a:rPr>
              <a:t>الــــــــــتــســمـــيـد</a:t>
            </a:r>
            <a:endParaRPr b="0" lang="en-US" sz="2900" spc="-1" strike="noStrike">
              <a:solidFill>
                <a:srgbClr val="000000"/>
              </a:solidFill>
              <a:latin typeface="Tw Cen MT"/>
            </a:endParaRPr>
          </a:p>
          <a:p>
            <a:pPr marL="536040" indent="-53604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يعد التسميد من العمليات الزراعية البسيطة ومن العمليات المهمة في التربة. وهي عملية بسيطة في كونها لاتحتاج إلى إعادة تنظيم كاملة للموارد الموجودة بكامل المزرعة. وهي من العمليات التي تضيف إضافة مهمة للعائد الإنتاجي من المحاصيل سواء كان المالك هو المزارع أو أن المزارع يؤجر المزرعة لعقد طويل المدى </a:t>
            </a:r>
            <a:r>
              <a:rPr b="0" lang="en-US" sz="2900" spc="-1" strike="noStrike">
                <a:solidFill>
                  <a:srgbClr val="000000"/>
                </a:solidFill>
                <a:latin typeface="Tw Cen MT"/>
              </a:rPr>
              <a:t>Longe</a:t>
            </a:r>
            <a:r>
              <a:rPr b="0" lang="ar-SA" sz="2900" spc="-1" strike="noStrike">
                <a:solidFill>
                  <a:srgbClr val="000000"/>
                </a:solidFill>
                <a:latin typeface="Tw Cen MT"/>
              </a:rPr>
              <a:t> أو قصير </a:t>
            </a:r>
            <a:r>
              <a:rPr b="0" lang="en-US" sz="2900" spc="-1" strike="noStrike">
                <a:solidFill>
                  <a:srgbClr val="000000"/>
                </a:solidFill>
                <a:latin typeface="Tw Cen MT"/>
              </a:rPr>
              <a:t>Short</a:t>
            </a:r>
            <a:r>
              <a:rPr b="0" lang="en-US" sz="2900" spc="-1" strike="noStrike">
                <a:solidFill>
                  <a:srgbClr val="000000"/>
                </a:solidFill>
                <a:latin typeface="Tw Cen MT"/>
              </a:rPr>
              <a:t> </a:t>
            </a:r>
            <a:r>
              <a:rPr b="0" lang="ar-SA" sz="2900" spc="-1" strike="noStrike">
                <a:solidFill>
                  <a:srgbClr val="000000"/>
                </a:solidFill>
                <a:latin typeface="Tw Cen MT"/>
              </a:rPr>
              <a:t>المدى (سنة).</a:t>
            </a:r>
            <a:endParaRPr b="0" lang="en-US" sz="2900" spc="-1" strike="noStrike">
              <a:solidFill>
                <a:srgbClr val="000000"/>
              </a:solidFill>
              <a:latin typeface="Tw Cen MT"/>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Tw Cen MT"/>
              </a:rPr>
              <a:t>ويـختلف الـتسميد عـن العـمليات الـزراعية الأخـرى مـن حـيث:</a:t>
            </a:r>
            <a:endParaRPr b="0" lang="en-US" sz="2900" spc="-1" strike="noStrike">
              <a:solidFill>
                <a:srgbClr val="000000"/>
              </a:solidFill>
              <a:latin typeface="Tw Cen MT"/>
            </a:endParaRPr>
          </a:p>
          <a:p>
            <a:pPr marL="536040" indent="-536040" algn="r" rtl="1">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يمكن إضافته بكميات مختلفة على عكس نوعية البذور المحسنة والبذور العادية التي من الممكن أن يضاف هذا النوع من البذور أو لايضاف.</a:t>
            </a:r>
            <a:endParaRPr b="0" lang="en-US" sz="2900" spc="-1" strike="noStrike">
              <a:solidFill>
                <a:srgbClr val="000000"/>
              </a:solidFill>
              <a:latin typeface="Tw Cen MT"/>
            </a:endParaRPr>
          </a:p>
          <a:p>
            <a:pPr marL="536040" indent="-536040" algn="r" rtl="1">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يشكل السماد جزء مهم من التكاليف الإنتاجية بخلاف بعض العمليات الزراعية الأخرى ويجب إتخاذ القرار الخاص بالسماد بدراسة وتعمق.</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304560" y="457200"/>
            <a:ext cx="8305560" cy="5943600"/>
          </a:xfrm>
          <a:prstGeom prst="rect">
            <a:avLst/>
          </a:prstGeom>
          <a:noFill/>
          <a:ln w="0">
            <a:noFill/>
          </a:ln>
        </p:spPr>
        <p:txBody>
          <a:bodyPr lIns="90000" rIns="90000" tIns="46800" bIns="46800" anchor="t">
            <a:normAutofit fontScale="95000"/>
          </a:bodyPr>
          <a:p>
            <a:pPr marL="36180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يوجد ثلاثة مبادئ مهمة لتقرير متى يضاف وكمية السماد التي تضاف:</a:t>
            </a:r>
            <a:endParaRPr b="0" lang="en-US" sz="2800" spc="-1" strike="noStrike">
              <a:solidFill>
                <a:srgbClr val="000000"/>
              </a:solidFill>
              <a:latin typeface="Tw Cen MT"/>
            </a:endParaRPr>
          </a:p>
          <a:p>
            <a:pPr marL="361800" indent="-361800" algn="r" rtl="1">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بدأ "المضاف للعائد والمضاف للتكاليف" ومبدأ "تكلفة الفرصة البديلة" في حالة وجود رأسمال كافي عند المزراع لاستخدامه لاغراض التسميد وهذا يحدد كمية السماد المضاف للمحاصيل المختلفة.</a:t>
            </a:r>
            <a:endParaRPr b="0" lang="en-US" sz="2000" spc="-1" strike="noStrike">
              <a:solidFill>
                <a:srgbClr val="000000"/>
              </a:solidFill>
              <a:latin typeface="Tw Cen MT"/>
            </a:endParaRPr>
          </a:p>
          <a:p>
            <a:pPr marL="361800" indent="-361800" algn="r" rtl="1">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بدأ "الفرصة البديلة" في إتخاذ القرار بخصوص إستثمار رأسمال المزراع في السماد أو في إستخدامات بديلة أخرى تعطي أكبر عائد.</a:t>
            </a:r>
            <a:endParaRPr b="0" lang="en-US" sz="2000" spc="-1" strike="noStrike">
              <a:solidFill>
                <a:srgbClr val="000000"/>
              </a:solidFill>
              <a:latin typeface="Tw Cen MT"/>
            </a:endParaRPr>
          </a:p>
          <a:p>
            <a:pPr marL="361800" indent="-361800" algn="r" rtl="1">
              <a:lnSpc>
                <a:spcPct val="7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بدأ " الإحلال "في تحديد العناصر السمادية وكميتها التي تضاف للمحاصيل والبدائل المتاحة للحصول على هذه العناصر من مصادرها المختلفة.</a:t>
            </a:r>
            <a:endParaRPr b="0" lang="en-US" sz="2000" spc="-1" strike="noStrike">
              <a:solidFill>
                <a:srgbClr val="000000"/>
              </a:solidFill>
              <a:latin typeface="Tw Cen MT"/>
            </a:endParaRPr>
          </a:p>
          <a:p>
            <a:pPr marL="361800" indent="-36180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ومن أمثلة ذلك إحلال السماد العضوي محل السماد الكيماوي وإحلال البقوليات في الدورة الزراعية محل إضافة النيتروجين في صورة المختلفة إلى التربة.</a:t>
            </a:r>
            <a:endParaRPr b="0" lang="en-US" sz="2000" spc="-1" strike="noStrike">
              <a:solidFill>
                <a:srgbClr val="000000"/>
              </a:solidFill>
              <a:latin typeface="Tw Cen MT"/>
            </a:endParaRPr>
          </a:p>
          <a:p>
            <a:pPr marL="361800" indent="-36180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بالإضافة إلى ماسبق فالمزارع يحتاج إلى معالجة موضوع المخاطرة واللايقين في كمية وقيمة الإنتاج المتوقع من إضافة الأسمدة في المقارنة بين التكلفة المضافة وقيمة العائد المضاف من إضافة الأسمدة لمختلف المحاصيل.</a:t>
            </a:r>
            <a:endParaRPr b="0" lang="en-US" sz="2000" spc="-1" strike="noStrike">
              <a:solidFill>
                <a:srgbClr val="000000"/>
              </a:solidFill>
              <a:latin typeface="Tw Cen MT"/>
            </a:endParaRPr>
          </a:p>
          <a:p>
            <a:pPr marL="361800" indent="-36180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لتحديد الامكانيات الممكنة لزيادة الإنتاجية من إضافة الاسمدة يمكن للمزارع أن يستعين بتجارب محطات البحوث وكليات الزرعية وكذلك بالسجلات الزراعية الاخرى. وعلي العموم فالعائد من السماد كالعائد من العمليات الزراعية الاخرى ليس أمراً مطلقاً ولكن يعتمد على الموارد الزراعية الأخرى المتوفرة للإستعمال معه، مثل نوعية المحصول ونوعية البذور وتوفر الآلات الزراعية والعمالة والرطوبة وغيرها. ولايمكن معاملة الناتج من إضافة الأسمدة بمعزل عن المتوفر من هذه الموارد. وعلى العموم تختلف الإحتياجات السمادية باختلاف نوعية التربة ونوعية المحصول والرطوبة المتوفرة وكمية البذور وغيرها وهو ما يعرف بالإستجابة المحصولية للسماد تحت الظروف المختلفة والتي يجب أخذها في الإعتبار عند تحديد كمية السماد ونوعيته ومواعيد إضافته وطرقها لمختلف المحاصيل الزراعية.</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457200" y="380520"/>
            <a:ext cx="8305920" cy="6248520"/>
          </a:xfrm>
          <a:prstGeom prst="rect">
            <a:avLst/>
          </a:prstGeom>
          <a:noFill/>
          <a:ln w="0">
            <a:noFill/>
          </a:ln>
        </p:spPr>
        <p:txBody>
          <a:bodyPr lIns="90000" rIns="90000" tIns="46800" bIns="46800" anchor="t">
            <a:normAutofit fontScale="94000"/>
          </a:bodyPr>
          <a:p>
            <a:pPr marL="42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مواعيد التسميد وإحتياجات التربة</a:t>
            </a:r>
            <a:endParaRPr b="0" lang="en-US" sz="2800" spc="-1" strike="noStrike">
              <a:solidFill>
                <a:srgbClr val="000000"/>
              </a:solidFill>
              <a:latin typeface="Tw Cen MT"/>
            </a:endParaRPr>
          </a:p>
          <a:p>
            <a:pPr marL="429480" indent="-429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قاعدة العامة هي أن يضاف السماد طالما أن ذلك مربح للمزراع ويكون إضافة السماد مربح في الحالات التالية:</a:t>
            </a:r>
            <a:endParaRPr b="0" lang="en-US" sz="2000" spc="-1" strike="noStrike">
              <a:solidFill>
                <a:srgbClr val="000000"/>
              </a:solidFill>
              <a:latin typeface="Tw Cen MT"/>
            </a:endParaRPr>
          </a:p>
          <a:p>
            <a:pPr marL="429480" indent="-429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عندما تكون الزيادة للعائد أكبر من الزيادة للتكاليف وذلك للمزارع الذي لايعاني من نقص في رأس المال اللازم للزراعة.</a:t>
            </a:r>
            <a:endParaRPr b="0" lang="en-US" sz="2000" spc="-1" strike="noStrike">
              <a:solidFill>
                <a:srgbClr val="000000"/>
              </a:solidFill>
              <a:latin typeface="Tw Cen MT"/>
            </a:endParaRPr>
          </a:p>
          <a:p>
            <a:pPr marL="429480" indent="-429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عندما يضيف الريال الذي يصرف على شراء الأسمدة عائداً اقتصادياً أكبر من إستخدامه في أي مجال آخر. وهو ما يناسب المزارع بميزانية وموارد إنتاجية رأسمالية محدودة.</a:t>
            </a:r>
            <a:endParaRPr b="0" lang="en-US" sz="2000" spc="-1" strike="noStrike">
              <a:solidFill>
                <a:srgbClr val="000000"/>
              </a:solidFill>
              <a:latin typeface="Tw Cen MT"/>
            </a:endParaRPr>
          </a:p>
          <a:p>
            <a:pPr marL="429480" indent="-429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بالإضافة إلى ماسبق يحتاج المزارع إلى المقارنة بإضافة الأسمدة للمزارعين المجاورين ولظروف مشابهة أو إلى إتّباع التوصيات من المراكز البحثية والمراكز الإرشادية للإسترشاد بها، ولكنه وحده الذي يقرر كمية السماد ونوعيته والحد الذي عنده يكون العائد أكبر من التكاليف تحت ظروفه المزرعية.</a:t>
            </a:r>
            <a:endParaRPr b="0" lang="en-US" sz="2000" spc="-1" strike="noStrike">
              <a:solidFill>
                <a:srgbClr val="000000"/>
              </a:solidFill>
              <a:latin typeface="Tw Cen MT"/>
            </a:endParaRPr>
          </a:p>
          <a:p>
            <a:pPr marL="429480" indent="-429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هناك بعض الملاحظات المهمة بخصوص الأسمدة ومنها أنه ستكون إضافة الأسمدة مربحة إذا كانت التربة قد سبق زراعتها لعدة سنوات لمحاصيل عشبية (قمح أو شعير) أو بخضروات أو بطاطس ماعدا الحالات التي تحد فيها كمية الرطوبة من إضافة الأسمدة. كما أن الشكل العام للمحصول سوف يقرر مدى الإحتياج لنوع معين من السماد ومحدودية الإنتاج نتيجة لنقص بعض العناصر السمادية التي يستطيع المزارع أن يتعرف عليها من الخبرة السابقة (علامات حادة تظهر على النبات مصاحبة لنقص عناصر معينة في التربة).</a:t>
            </a:r>
            <a:endParaRPr b="0" lang="en-US" sz="2000" spc="-1" strike="noStrike">
              <a:solidFill>
                <a:srgbClr val="000000"/>
              </a:solidFill>
              <a:latin typeface="Tw Cen MT"/>
            </a:endParaRPr>
          </a:p>
          <a:p>
            <a:pPr marL="429480" indent="-429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كما أنه يمكن معرفة نقص العناصر في التربة عن طريق أخذ العينات وتحليلها في المختبر في المزرعة أو في المراكز البحثية في أوقات محددة من عمر المحصول كبداية الإستزراع وبعد مدة من وجود المحصول في التربة أو عند ظهور بعض الأعراض لوجود نقص عناصر سمادية (نيتروجين، فسفور، بوتاسيوم... إلخ).</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533160" y="228600"/>
            <a:ext cx="8381880" cy="5897520"/>
          </a:xfrm>
          <a:prstGeom prst="rect">
            <a:avLst/>
          </a:prstGeom>
          <a:noFill/>
          <a:ln w="0">
            <a:noFill/>
          </a:ln>
        </p:spPr>
        <p:txBody>
          <a:bodyPr lIns="90000" rIns="90000" tIns="46800" bIns="46800" anchor="t">
            <a:normAutofit fontScale="88000"/>
          </a:bodyPr>
          <a:p>
            <a:pPr marL="280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توزيع الأسمدة المحددة لتناقـص العائد</a:t>
            </a:r>
            <a:endParaRPr b="0" lang="en-US" sz="2800" spc="-1" strike="noStrike">
              <a:solidFill>
                <a:srgbClr val="000000"/>
              </a:solidFill>
              <a:latin typeface="Tw Cen MT"/>
            </a:endParaRPr>
          </a:p>
          <a:p>
            <a:pPr marL="280440" indent="-2804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من الأمثلة الواضحة في الزراعة لتناقص العائد أو الغلة هو إضافة الأسمدة للمحاصيل المختلفة في مساحات محدودة. وهذا هو ما يـحد من التوسع في إضافة الأسمدة بعد حد معين بما يسبب ذلك من إنخفاض الإنتاج الإجمالي أو من الإنتاجية الحدّية السالبة من الوحدات المتتالية من الأسمدة  بعد ذلك المستوى المعين من الإضافة.</a:t>
            </a:r>
            <a:endParaRPr b="0" lang="en-US" sz="2800" spc="-1" strike="noStrike">
              <a:solidFill>
                <a:srgbClr val="000000"/>
              </a:solidFill>
              <a:latin typeface="Tw Cen MT"/>
            </a:endParaRPr>
          </a:p>
          <a:p>
            <a:pPr marL="280440" indent="-2804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وكما سبق شرحه فإن الوحدات الأولى من الأسمدة سوف تضيف إلى الإنتاج الكلي كميات أكبر من الوحدات السمادية التي تليها وذلك لوجود ظاهرة تناقص الإنتاجية وإذا أستمر المزارع في إضافة الأسمدة قد يصل إلى العائد السلبي أو المرحلة التي تكون فيها الإنتاجية الحدية سالبة نتيجة إضافة وحدات سماد إضافية. وبذلك تضاف الأسمدة إلى المحاصيل المتنافسة عليه وفق القاعدة " تضاف الوحدات المحدودة من السماد إلى المحاصيل التي تعطي أكبر قيمة للإنتاجية الحدية".</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304560" y="380520"/>
            <a:ext cx="8458200" cy="5745240"/>
          </a:xfrm>
          <a:prstGeom prst="rect">
            <a:avLst/>
          </a:prstGeom>
          <a:noFill/>
          <a:ln w="0">
            <a:noFill/>
          </a:ln>
        </p:spPr>
        <p:txBody>
          <a:bodyPr lIns="90000" rIns="90000" tIns="46800" bIns="46800" anchor="t">
            <a:normAutofit fontScale="93000"/>
          </a:bodyPr>
          <a:p>
            <a:pPr marL="2962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حسابات التكاليف في إضافة الأسمدة</a:t>
            </a:r>
            <a:endParaRPr b="0" lang="en-US" sz="2400" spc="-1" strike="noStrike">
              <a:solidFill>
                <a:srgbClr val="000000"/>
              </a:solidFill>
              <a:latin typeface="Tw Cen MT"/>
            </a:endParaRPr>
          </a:p>
          <a:p>
            <a:pPr marL="296280" indent="-29628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تكلفة المباشرة لإضافة الأسمدة هي تكلفة الطن أو الوحدة من السماد غير أن هناك تكاليف أخرى يجب حسابها عند إضافة الأسمدة وهي تكاليف العمالة والآلات الزراعية لإضافة السماد (جرارات .. إلخ) وكذلك تكلفة حصاد الإنتاج ومناولته الذي سيزيد نتيجة لإضافة الأسمدة. والقاعدة العامة هي أن تضاف كل التكاليف المتعلقة بها بينما لاتضاف التكاليف الأخرى في حالة إضافة الأسمدة مع الإستزراع وذلك لأن التكاليف الأخرى تحمّل مرة واحدة أثناء عملية الإستزراع.</a:t>
            </a:r>
            <a:endParaRPr b="0" lang="en-US" sz="2400" spc="-1" strike="noStrike">
              <a:solidFill>
                <a:srgbClr val="000000"/>
              </a:solidFill>
              <a:latin typeface="Tw Cen MT"/>
            </a:endParaRPr>
          </a:p>
          <a:p>
            <a:pPr marL="2962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إضافة الأسمدة في حالة محدودية رأس المال</a:t>
            </a:r>
            <a:endParaRPr b="0" lang="en-US" sz="2400" spc="-1" strike="noStrike">
              <a:solidFill>
                <a:srgbClr val="000000"/>
              </a:solidFill>
              <a:latin typeface="Tw Cen MT"/>
            </a:endParaRPr>
          </a:p>
          <a:p>
            <a:pPr marL="296280" indent="-29628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سبق أن شرحنا عملية توزيع الأسمدة المحدودة على الإستعمالات الزراعية التي تتنافس عليها مثل الخضر والفاكهة والأعلاف والمحاصيل الحقلية. ووفق هذه القاعدة تضاف الوحدات المحدودة للإستعمالات التي تعطي أعلى قيمة للإنتاجية الحدية.</a:t>
            </a:r>
            <a:endParaRPr b="0" lang="en-US" sz="2400" spc="-1" strike="noStrike">
              <a:solidFill>
                <a:srgbClr val="000000"/>
              </a:solidFill>
              <a:latin typeface="Tw Cen MT"/>
            </a:endParaRPr>
          </a:p>
          <a:p>
            <a:pPr marL="296280" indent="-29628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هناك حالات أخرى وهي حالات تنافس إستعمالات أخرى غير الإنتاج النباتي على الأموال المتوفرة لدى المزارع مثل إستثمارها في إضافة الأسمدة للمحاصيل أو شراء العلف للدواجن والأغنام أو في الإستعمالات الأخرى. والقاعدة المتبعة هي أن يتم الإستثمار وفق قاعدة تكلفة الفرصة البديلة لرأسـمال المزارع. أي أن الكمية الكلية من السماد تتحدد وفق العائد الحدي من رأس المال في الإستعمالات المختلفة التي تتنافس على الريال لدى المزارع. ويتم الإستثمار وفق أكبر فرصة بديلة متوفرة وذلك بخلاف الحالات التي يتوفر فيها رأسـمال لإضافة الكميات المثلى من السماد حسب الإحتياجات النباتية.</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457200" y="380520"/>
            <a:ext cx="8305920" cy="5745240"/>
          </a:xfrm>
          <a:prstGeom prst="rect">
            <a:avLst/>
          </a:prstGeom>
          <a:noFill/>
          <a:ln w="0">
            <a:noFill/>
          </a:ln>
        </p:spPr>
        <p:txBody>
          <a:bodyPr lIns="90000" rIns="90000" tIns="46800" bIns="46800" anchor="t">
            <a:normAutofit fontScale="91000"/>
          </a:bodyPr>
          <a:p>
            <a:pPr marL="2901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العوائـد المتبقية من إضافة الأسمدة</a:t>
            </a:r>
            <a:endParaRPr b="0" lang="en-US" sz="2800" spc="-1" strike="noStrike">
              <a:solidFill>
                <a:srgbClr val="000000"/>
              </a:solidFill>
              <a:latin typeface="Tw Cen MT"/>
            </a:endParaRPr>
          </a:p>
          <a:p>
            <a:pPr marL="290160" indent="-2901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كميات السماد التي يتم اضافتها عادة لايتم إستهلاكها بالكامل وعند حساب إضافة الاسمدة وفق قاعدة المضاف للتكاليف والمضاف للعائد عادة ما يتم إهمال العوائد الناتجة من الاسمدة المتبقية في التربة للسنوات أو المواسم القادمة وهي عوائد يجب تقديرها واضافتها الى القيمة المضافة للعائد عند تحديد أربحية اضافة الاسمدة في العمليات الزراعية.</a:t>
            </a:r>
            <a:endParaRPr b="0" lang="en-US" sz="2800" spc="-1" strike="noStrike">
              <a:solidFill>
                <a:srgbClr val="000000"/>
              </a:solidFill>
              <a:latin typeface="Tw Cen MT"/>
            </a:endParaRPr>
          </a:p>
          <a:p>
            <a:pPr marL="290160" indent="-2901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من الملاحظات المهمة الاخرى التي يجب مراعاتها عند اضافة الاسمدة هي أن النصائح الفنية تعطي عادة إستجابة المحاصيل للتسميد عند معدلات محدودة من السماد (</a:t>
            </a:r>
            <a:r>
              <a:rPr b="0" lang="ar-SA" sz="2800" spc="-1" strike="noStrike">
                <a:solidFill>
                  <a:srgbClr val="000000"/>
                </a:solidFill>
                <a:latin typeface="Tw Cen MT"/>
              </a:rPr>
              <a:t>100</a:t>
            </a:r>
            <a:r>
              <a:rPr b="0" lang="ar-SA" sz="2800" spc="-1" strike="noStrike">
                <a:solidFill>
                  <a:srgbClr val="000000"/>
                </a:solidFill>
                <a:latin typeface="Tw Cen MT"/>
              </a:rPr>
              <a:t> كلجم، </a:t>
            </a:r>
            <a:r>
              <a:rPr b="0" lang="ar-SA" sz="2800" spc="-1" strike="noStrike">
                <a:solidFill>
                  <a:srgbClr val="000000"/>
                </a:solidFill>
                <a:latin typeface="Tw Cen MT"/>
              </a:rPr>
              <a:t>200</a:t>
            </a:r>
            <a:r>
              <a:rPr b="0" lang="ar-SA" sz="2800" spc="-1" strike="noStrike">
                <a:solidFill>
                  <a:srgbClr val="000000"/>
                </a:solidFill>
                <a:latin typeface="Tw Cen MT"/>
              </a:rPr>
              <a:t> كلجم، </a:t>
            </a:r>
            <a:r>
              <a:rPr b="0" lang="ar-SA" sz="2800" spc="-1" strike="noStrike">
                <a:solidFill>
                  <a:srgbClr val="000000"/>
                </a:solidFill>
                <a:latin typeface="Tw Cen MT"/>
              </a:rPr>
              <a:t>300</a:t>
            </a:r>
            <a:r>
              <a:rPr b="0" lang="ar-SA" sz="2800" spc="-1" strike="noStrike">
                <a:solidFill>
                  <a:srgbClr val="000000"/>
                </a:solidFill>
                <a:latin typeface="Tw Cen MT"/>
              </a:rPr>
              <a:t> كلجم .. إلخ) ولكن المزارع الذي لا يتوفر لدية الكمية المثلى الموصى بها يمكنه أن يستعمل كمية أقل من المتوفر لديه ويحصل على نسبة من الاستجابة الكاملة وتتمثل هذه النسبة في الزيادة في الإنتاج المتحقق من إضافة الجزء المتوفر من الاسمدة.</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457200" y="456840"/>
            <a:ext cx="8305920" cy="6172200"/>
          </a:xfrm>
          <a:prstGeom prst="rect">
            <a:avLst/>
          </a:prstGeom>
          <a:noFill/>
          <a:ln w="0">
            <a:noFill/>
          </a:ln>
        </p:spPr>
        <p:txBody>
          <a:bodyPr lIns="90000" rIns="90000" tIns="46800" bIns="46800" anchor="t">
            <a:normAutofit fontScale="91000"/>
          </a:bodyPr>
          <a:p>
            <a:pPr marL="29016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Tw Cen MT"/>
              </a:rPr>
              <a:t>إضـــــــــافـة الأســـــمـدة لـــــــمـعـالجة الـــــــمـشاكل الـــــــخـاصة بالــــــتربة</a:t>
            </a:r>
            <a:endParaRPr b="0" lang="en-US" sz="2600" spc="-1" strike="noStrike">
              <a:solidFill>
                <a:srgbClr val="000000"/>
              </a:solidFill>
              <a:latin typeface="Tw Cen MT"/>
            </a:endParaRPr>
          </a:p>
          <a:p>
            <a:pPr marL="290160" indent="-29016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في بعض الحالات يحتاج المزارع إلى إضافة الأسمدة الخاصة مثل العناصر النادرة الحديد، الماغنسيوم،  أو إضافة الجير لمعالجة بعض المشاكل في التربة الحمضية لزراعة البقوليات وغيرها. فمن المعلوم أن نقص هذه العناصر يؤثر تأثير سلبي على إنتاجية العديد من المحاصيل الزراعية وتختلف هذه الاحتياجات بمختلف المناطق ومختلف أنواع التربة وهناك حاجة إلى إضافة هذه الانواع من الاسمدة القاعدة الإقتصادية العامة وهي أن تضاف تلك العناصر طالما الاضافة الى العائد الناتج من الزيادة في الإنتاج أكبر من الزيادة للتكاليف المتعلقة بإضافة هذا النوع من الاسمدة. وقاعدةو تكلفة الفرصة البديلة لاضافة الاسمدة في حالة محدودية الموارد لدى المزارع.</a:t>
            </a:r>
            <a:endParaRPr b="0" lang="en-US" sz="2600" spc="-1" strike="noStrike">
              <a:solidFill>
                <a:srgbClr val="000000"/>
              </a:solidFill>
              <a:latin typeface="Tw Cen MT"/>
            </a:endParaRPr>
          </a:p>
          <a:p>
            <a:pPr marL="29016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Tw Cen MT"/>
              </a:rPr>
              <a:t>إضــــــافة الأســـــــمـدة ونــــــــظـام مــــــــلـكـية الــــــمزارع</a:t>
            </a:r>
            <a:endParaRPr b="0" lang="en-US" sz="2600" spc="-1" strike="noStrike">
              <a:solidFill>
                <a:srgbClr val="000000"/>
              </a:solidFill>
              <a:latin typeface="Tw Cen MT"/>
            </a:endParaRPr>
          </a:p>
          <a:p>
            <a:pPr marL="290160" indent="-290160" algn="r" rtl="1">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ن المعلوم أن الكميات المثلى من الأسمدة لن تضاف في حالة تحمل المؤجر للمزرعة وحدة التكاليف للأسمدة ويقتسم الإنتاج بين المالك والمؤجر بنسبة معينة. الحالة الوحيدة التي تضاف فيها الكمية المثلى من السماد هل الحالة التي يتم فيها مقاسمة التكاليف ومقاسمة الإنتاج في الوقت نفسه، أما في الحالات التي تنص فيها المشاركة على إتفاق لمدة زمنية قصيرة فإن المؤجر لايحتسب أي قيمة للأسمدة المتبقية في التربة والتي تساهم في زيادة الإنتاج في موسم أو مواسم قادمة.</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80880" y="304920"/>
            <a:ext cx="8229600" cy="6248160"/>
          </a:xfrm>
          <a:prstGeom prst="rect">
            <a:avLst/>
          </a:prstGeom>
          <a:noFill/>
          <a:ln w="0">
            <a:noFill/>
          </a:ln>
        </p:spPr>
        <p:txBody>
          <a:bodyPr lIns="90000" rIns="90000" tIns="46800" bIns="46800" anchor="t">
            <a:normAutofit fontScale="88000"/>
          </a:bodyPr>
          <a:p>
            <a:pPr marL="280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Tw Cen MT"/>
              </a:rPr>
              <a:t>أوقــــــــــــات إضـــــــافـة الأســـــــــمـدة وطــــــــرقـها</a:t>
            </a:r>
            <a:endParaRPr b="0" lang="en-US" sz="2900" spc="-1" strike="noStrike">
              <a:solidFill>
                <a:srgbClr val="000000"/>
              </a:solidFill>
              <a:latin typeface="Tw Cen MT"/>
            </a:endParaRPr>
          </a:p>
          <a:p>
            <a:pPr marL="280440" indent="-2804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يمكن إضافة الأسـمدة في عدة أوقات من عمر النبات وبعدة طرق فيمكن إضافة الأسـمدة عن طريق النثر والحرث ويمكن أضافتها عن طريق البذارة ويمكن إضافته مع نظام الري وعن طريق الرش على الأوراق وغيرها من الطرق المستخدمة. والمهم بالنسبة للمزارع هي أضافته بالطرق التي تعطي أكبر عائد (أقل فاقد) وأقل تكلفة ممكنة. وهناك ملاحظات عامة يجب استخدامها في اختيار الطريقة المثلى لاضافة الاسمدة وهي كما يلي:</a:t>
            </a:r>
            <a:endParaRPr b="0" lang="en-US" sz="2900" spc="-1" strike="noStrike">
              <a:solidFill>
                <a:srgbClr val="000000"/>
              </a:solidFill>
              <a:latin typeface="Tw Cen MT"/>
            </a:endParaRPr>
          </a:p>
          <a:p>
            <a:pPr marL="280440" indent="-2804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إذا كان الإنتاج لايتاثر تحت الأنظمة المختلفة للإضافة (يجب مقارنة التكاليف واختيار النظام الذي له أقل تكلفة).</a:t>
            </a:r>
            <a:endParaRPr b="0" lang="en-US" sz="2900" spc="-1" strike="noStrike">
              <a:solidFill>
                <a:srgbClr val="000000"/>
              </a:solidFill>
              <a:latin typeface="Tw Cen MT"/>
            </a:endParaRPr>
          </a:p>
          <a:p>
            <a:pPr marL="280440" indent="-2804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إذا كانت التكلفة متساوية يختار النظام الذي يعطي أكبر إنتاج. وهذه القواعد يجب مراعاتها عند إختيار الوقت والطريقة التي تضاف بها الاسمدة للمحاصيل المختلفة.</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775f55"/>
                </a:solidFill>
                <a:latin typeface="Tw Cen MT"/>
              </a:rPr>
              <a:t>الري </a:t>
            </a:r>
            <a:r>
              <a:rPr b="1" i="1" lang="en-US" sz="4400" spc="-1" strike="noStrike">
                <a:solidFill>
                  <a:srgbClr val="775f55"/>
                </a:solidFill>
                <a:latin typeface="Tw Cen MT"/>
              </a:rPr>
              <a:t>Irrigation</a:t>
            </a:r>
            <a:endParaRPr b="0" lang="en-US" sz="4400" spc="-1" strike="noStrike">
              <a:solidFill>
                <a:srgbClr val="775f55"/>
              </a:solidFill>
              <a:latin typeface="Tw Cen MT"/>
            </a:endParaRPr>
          </a:p>
        </p:txBody>
      </p:sp>
      <p:sp>
        <p:nvSpPr>
          <p:cNvPr id="370" name=""/>
          <p:cNvSpPr txBox="1"/>
          <p:nvPr/>
        </p:nvSpPr>
        <p:spPr>
          <a:xfrm>
            <a:off x="457200" y="1752480"/>
            <a:ext cx="8305920" cy="4648320"/>
          </a:xfrm>
          <a:prstGeom prst="rect">
            <a:avLst/>
          </a:prstGeom>
          <a:noFill/>
          <a:ln w="0">
            <a:noFill/>
          </a:ln>
        </p:spPr>
        <p:txBody>
          <a:bodyPr lIns="90000" rIns="90000" tIns="46800" bIns="46800" anchor="t">
            <a:normAutofit fontScale="86000"/>
          </a:bodyPr>
          <a:p>
            <a:pPr marL="273960" indent="-2739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ري من العمليات الزراعية المهمة التي لاتختلف عن العمليات الزراعية الاخرى من حيث المبدأ مثل إضافة الاسمدة والبذور والمبيدات والري بإضافته الى عناصر ثابتة مثل الارض بنوعيات وكميات متفاوتة فإنه يتبع قانون تناقص الغلة أو الإنتاجية.</a:t>
            </a:r>
            <a:endParaRPr b="0" lang="en-US" sz="2600" spc="-1" strike="noStrike">
              <a:solidFill>
                <a:srgbClr val="000000"/>
              </a:solidFill>
              <a:latin typeface="Tw Cen MT"/>
            </a:endParaRPr>
          </a:p>
          <a:p>
            <a:pPr marL="273960" indent="-2739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لذلك فالقاعدة المتبعة من الناحية الإنتاجية هي الزيادة للعائد والزيادة للتكاليف المحدودة بكمية ومستوى إضافة المياه للمحاصيل المختلفة في حالات عدم محدودية مورد المياه.</a:t>
            </a:r>
            <a:endParaRPr b="0" lang="en-US" sz="2600" spc="-1" strike="noStrike">
              <a:solidFill>
                <a:srgbClr val="000000"/>
              </a:solidFill>
              <a:latin typeface="Tw Cen MT"/>
            </a:endParaRPr>
          </a:p>
          <a:p>
            <a:pPr marL="273960" indent="-2739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بينما يكون مبدأ الفرصة البديلة هو الذي سيستخدم في استثمار المياه في حالة محدودية الموارد المائية. كما أن القاعدة في توزيع المورد المحدود حسب أعلى قيمة للإنتاجية الحدية للمياه في استخداماتها المختلفة.</a:t>
            </a:r>
            <a:endParaRPr b="0" lang="en-US" sz="2600" spc="-1" strike="noStrike">
              <a:solidFill>
                <a:srgbClr val="000000"/>
              </a:solidFill>
              <a:latin typeface="Tw Cen MT"/>
            </a:endParaRPr>
          </a:p>
          <a:p>
            <a:pPr marL="273960" indent="-2739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وعلى نفس النسق يمكن استخدام كل من مبادئ الإدارة المزرعية ومبادئ الاقتصاد في تحليل استثمار الموارد المائية في الإنتاج الزراعي.</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762120" y="533160"/>
            <a:ext cx="8076960" cy="6172200"/>
          </a:xfrm>
          <a:prstGeom prst="rect">
            <a:avLst/>
          </a:prstGeom>
          <a:noFill/>
          <a:ln w="0">
            <a:noFill/>
          </a:ln>
        </p:spPr>
        <p:txBody>
          <a:bodyPr lIns="90000" rIns="90000" tIns="46800" bIns="46800" anchor="t">
            <a:normAutofit fontScale="92000"/>
          </a:bodyPr>
          <a:p>
            <a:pPr marL="293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Tw Cen MT"/>
              </a:rPr>
              <a:t>إقتصاديات طرق الري</a:t>
            </a:r>
            <a:endParaRPr b="0" lang="en-US" sz="2900" spc="-1" strike="noStrike">
              <a:solidFill>
                <a:srgbClr val="000000"/>
              </a:solidFill>
              <a:latin typeface="Tw Cen MT"/>
            </a:endParaRPr>
          </a:p>
          <a:p>
            <a:pPr marL="293400" indent="-29340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طرق الري لها علاقة مهمة بمصادر المياه، قد تكون مصادر المياه محدودة بكمية محجوزة في السدود أو على مجاري طبيعية وفي هذه الاحوال يكون للمزارع حق في التصرف في كمية محدودة ومتجددة. وققبل الاستثمار في نظام للري يجب معرفة مصادر المياه التي بتعامل معها المزارع.</a:t>
            </a:r>
            <a:endParaRPr b="0" lang="en-US" sz="2900" spc="-1" strike="noStrike">
              <a:solidFill>
                <a:srgbClr val="000000"/>
              </a:solidFill>
              <a:latin typeface="Tw Cen MT"/>
            </a:endParaRPr>
          </a:p>
          <a:p>
            <a:pPr marL="293400" indent="-29340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معظم مصادر الري في المملكة من المياه الجوفية المحدودة الكمية والعمر الاقتصادي ومتجددة بنسب متفاوتة معتمدة على سقوط الامطار في بعض المناطق ومن المعروف أن للإدارة المزرعية أحداث توزان دقيق بين المتوفر من المياه والانظمة النباتية والحيوانية والبيئئية وذلك لهدف الاستمرار في الاستثمار في هذه الموارد المائية الى اطول مدة ممكنة دون حدوث أي تغيرات بيئية وأقتصادية وإجتماعية تؤثر سلباً على أداء القطاع في السنوات القادمة.</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04560" y="304560"/>
            <a:ext cx="8381880" cy="6172200"/>
          </a:xfrm>
          <a:prstGeom prst="rect">
            <a:avLst/>
          </a:prstGeom>
          <a:noFill/>
          <a:ln w="0">
            <a:noFill/>
          </a:ln>
        </p:spPr>
        <p:txBody>
          <a:bodyPr lIns="90000" rIns="90000" tIns="46800" bIns="46800" anchor="t">
            <a:normAutofit fontScale="90000"/>
          </a:bodyPr>
          <a:p>
            <a:pPr marL="411480" indent="-411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فيما يخص إنتاج البطاطس وتقاوي البطاطس والملائمة من حيث الموقع الجغرافي والأصناف المبكرة في الإنتاج، قد تكون تكلفتها مرتفعة ولكن العبرة تكون دائماً بالزيادة في قيمة الإنتاج بالمقارنة بالزيادة في تكلفة التقاوي المحسنة والمناسبة للإنتاج بالمنطقة. إن المدير المزرعي الناجح يجب أن لايعتمد دائماً على الدعاية التجارية في التأكد من أن الأصناف المعلنة تؤدي فعلاً إلى الزيادة في الإنتاج بل عليه دائماً الإتصال بالمراكز والمحطات البحثية التي قد تكون جربت بالفعل إنتاجية هذه الأصناف تحت الظروف المزرعية المشابهة.</a:t>
            </a:r>
            <a:endParaRPr b="0" lang="en-US" sz="2200" spc="-1" strike="noStrike">
              <a:solidFill>
                <a:srgbClr val="000000"/>
              </a:solidFill>
              <a:latin typeface="Tw Cen MT"/>
            </a:endParaRPr>
          </a:p>
          <a:p>
            <a:pPr marL="411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مقاومة الأمراض والحشـرات</a:t>
            </a:r>
            <a:endParaRPr b="0" lang="en-US" sz="2800" spc="-1" strike="noStrike">
              <a:solidFill>
                <a:srgbClr val="000000"/>
              </a:solidFill>
              <a:latin typeface="Tw Cen MT"/>
            </a:endParaRPr>
          </a:p>
          <a:p>
            <a:pPr marL="411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يحكم إضافة المبيدات للأمراض والحشرات والحشائش والقواعد العامة التالية:</a:t>
            </a:r>
            <a:endParaRPr b="0" lang="en-US" sz="2200" spc="-1" strike="noStrike">
              <a:solidFill>
                <a:srgbClr val="000000"/>
              </a:solidFill>
              <a:latin typeface="Tw Cen MT"/>
            </a:endParaRPr>
          </a:p>
          <a:p>
            <a:pPr marL="411480" indent="-411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تضاف المعاملات ضد الأمراض والحشرات بناءً على الأربحية الناتجة من الإضافة، أي أن تكلفة الإضافة أقل من القيمة المضافة للإنتاج الناتجة من المعاملات.</a:t>
            </a:r>
            <a:endParaRPr b="0" lang="en-US" sz="2200" spc="-1" strike="noStrike">
              <a:solidFill>
                <a:srgbClr val="000000"/>
              </a:solidFill>
              <a:latin typeface="Tw Cen MT"/>
            </a:endParaRPr>
          </a:p>
          <a:p>
            <a:pPr marL="411480" indent="-411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لابد من إضافة الكمية الموصي بها دون زيادة أو نقص أي أن تكلفة الإضافات لاتتم وفق أسعار تلك المبيدات. وأن القاعدة هي أن تضيف الكمية المثلى أو لاتضيف على الإطلاق لأن الجرعات محددة وفق التوصيات الفنية.</a:t>
            </a:r>
            <a:endParaRPr b="0" lang="en-US" sz="2200" spc="-1" strike="noStrike">
              <a:solidFill>
                <a:srgbClr val="000000"/>
              </a:solidFill>
              <a:latin typeface="Tw Cen MT"/>
            </a:endParaRPr>
          </a:p>
          <a:p>
            <a:pPr marL="411480" indent="-411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هناك بعض المحاصيل لايمكن زراعتها دون تأمين المقاومة للآفات والأمراض مثل أمراض الدخان وأمراض الصوبات الزجاجية والبلاستيكية والقرار بزراعتها يجب أن يأخذ في الإعتبار تكاليف الوقاية من الآفات والحشرات والأمراض التي تصيب تلك المحاصيل.</a:t>
            </a:r>
            <a:endParaRPr b="0" lang="en-US" sz="2200" spc="-1" strike="noStrike">
              <a:solidFill>
                <a:srgbClr val="000000"/>
              </a:solidFill>
              <a:latin typeface="Tw Cen MT"/>
            </a:endParaRPr>
          </a:p>
          <a:p>
            <a:pPr marL="411480" indent="-411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في كثير من الأحوال العلاج من الأمراض الرئيسية سوف يزيد من قيمة الإنتاج بأكثر من إضافته للتكاليف ولذا يكون العلاج هو الحل الوحيد المتوفر أمام المزارع.</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533520" y="228240"/>
            <a:ext cx="8076960" cy="6248520"/>
          </a:xfrm>
          <a:prstGeom prst="rect">
            <a:avLst/>
          </a:prstGeom>
          <a:noFill/>
          <a:ln w="0">
            <a:noFill/>
          </a:ln>
        </p:spPr>
        <p:txBody>
          <a:bodyPr lIns="90000" rIns="90000" tIns="46800" bIns="46800" anchor="t">
            <a:normAutofit fontScale="91000"/>
          </a:bodyPr>
          <a:p>
            <a:pPr marL="290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العـلاقة بين نوعـية المياه والإنتاج الزراعي</a:t>
            </a:r>
            <a:endParaRPr b="0" lang="en-US" sz="2800" spc="-1" strike="noStrike">
              <a:solidFill>
                <a:srgbClr val="000000"/>
              </a:solidFill>
              <a:latin typeface="Tw Cen MT"/>
            </a:endParaRPr>
          </a:p>
          <a:p>
            <a:pPr marL="290160" indent="-2901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ن العلاقات المهمة في الإنتاج الزراعي هي العلاقة بين نوعية المياه مقاسة بدرجة الملوحة والاملاح الذائبة والإنتاج الزراعي الممكن تحقيقه. من المعروف أن تحمل النباتات للملوحة تختلف إختلافاً متبايناً وفق عوامل طبيعية ووراثية فبعض النباتات تقاوم وتتأقلم مع مدى عالي من الملوحة والبعض الاخر حساس للملوحة ولا يعطي إنتاج يذكر في حالة ري هذه المحاصيل بالمياه المالحة.</a:t>
            </a:r>
            <a:endParaRPr b="0" lang="en-US" sz="2600" spc="-1" strike="noStrike">
              <a:solidFill>
                <a:srgbClr val="000000"/>
              </a:solidFill>
              <a:latin typeface="Tw Cen MT"/>
            </a:endParaRPr>
          </a:p>
          <a:p>
            <a:pPr marL="290160" indent="-2901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يوجد في كل الاحوال تناقص في الإنتاج بزيادة درجة الملوحة في النباتات التي تقاوم الملوحة ولكن النقص في الإنتاج يختلف باختلاف نوع المحصول. كما أن هناك تجارباً علمية تفيد بأن الحساسية لملوحة مياه الري ترتبط بمرحلة نمو النبات فبعض النباتات حساسة فقط في مرحلة النمو الاولى للبذرة ثم بعد ذلك تقل الحساسية. </a:t>
            </a:r>
            <a:endParaRPr b="0" lang="en-US" sz="2600" spc="-1" strike="noStrike">
              <a:solidFill>
                <a:srgbClr val="000000"/>
              </a:solidFill>
              <a:latin typeface="Tw Cen MT"/>
            </a:endParaRPr>
          </a:p>
          <a:p>
            <a:pPr marL="290160" indent="-2901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يمكن إستغلال هذه المحاصيل في إستخدام المياه ذات الملوحة العالية في ري المحاصيل بعد مرحلة النمو الأولية ويوفر هذا كميات عالية من المياه العذبة ذات الملوحة المنخفضة. ولنوعية المياه علاقة بنوعية التربة ودرجة التملح بها مما يزيد من أحتياجات المحاصيل لغسل التربة بمياه عذبة لتقليل الملوحة وحفظها عن منطقة الجذور وإستخدام نظام ري وصرف جيد.</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685440" y="609480"/>
            <a:ext cx="7924680" cy="5516640"/>
          </a:xfrm>
          <a:prstGeom prst="rect">
            <a:avLst/>
          </a:prstGeom>
          <a:noFill/>
          <a:ln w="0">
            <a:noFill/>
          </a:ln>
        </p:spPr>
        <p:txBody>
          <a:bodyPr lIns="90000" rIns="90000" tIns="46800" bIns="46800" anchor="t">
            <a:normAutofit fontScale="91000"/>
          </a:bodyPr>
          <a:p>
            <a:pPr marL="290160" indent="-2901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Tw Cen MT"/>
              </a:rPr>
              <a:t>مـعـدلات الـــــــري</a:t>
            </a:r>
            <a:endParaRPr b="0" lang="en-US" sz="2900" spc="-1" strike="noStrike">
              <a:solidFill>
                <a:srgbClr val="000000"/>
              </a:solidFill>
              <a:latin typeface="Tw Cen MT"/>
            </a:endParaRPr>
          </a:p>
          <a:p>
            <a:pPr marL="290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إن أنسب معدلات للري المحصولي تعتمد على عدة عوامل منها:</a:t>
            </a:r>
            <a:endParaRPr b="0" lang="en-US" sz="2900" spc="-1" strike="noStrike">
              <a:solidFill>
                <a:srgbClr val="000000"/>
              </a:solidFill>
              <a:latin typeface="Tw Cen MT"/>
            </a:endParaRPr>
          </a:p>
          <a:p>
            <a:pPr lvl="1" marL="58212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rPr>
              <a:t>أ - ملوحة التربة ونوعية التربة:</a:t>
            </a:r>
            <a:endParaRPr b="0" lang="en-US" sz="2600" spc="-1" strike="noStrike">
              <a:solidFill>
                <a:srgbClr val="000000"/>
              </a:solidFill>
              <a:latin typeface="Tw Cen MT"/>
            </a:endParaRPr>
          </a:p>
          <a:p>
            <a:pPr lvl="1" marL="582120" indent="-248040" algn="r" rtl="1">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حيث أن التربة الرملية تحتاج الى معدلات أعلى من التربة الطينية والتربة غير المستوية تحتاج ألى كميات أكبر من الاراضي المستوية.</a:t>
            </a:r>
            <a:endParaRPr b="0" lang="en-US" sz="2600" spc="-1" strike="noStrike">
              <a:solidFill>
                <a:srgbClr val="000000"/>
              </a:solidFill>
              <a:latin typeface="Tw Cen MT"/>
            </a:endParaRPr>
          </a:p>
          <a:p>
            <a:pPr lvl="1" marL="58212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rPr>
              <a:t>ب - نوعية المحصول: </a:t>
            </a:r>
            <a:endParaRPr b="0" lang="en-US" sz="2600" spc="-1" strike="noStrike">
              <a:solidFill>
                <a:srgbClr val="000000"/>
              </a:solidFill>
              <a:latin typeface="Tw Cen MT"/>
            </a:endParaRPr>
          </a:p>
          <a:p>
            <a:pPr lvl="1" marL="582120" indent="-248040" algn="r" rtl="1">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حيث يؤثر حجم المجموع الخضري في أحتياجات الآرواء.</a:t>
            </a:r>
            <a:endParaRPr b="0" lang="en-US" sz="2600" spc="-1" strike="noStrike">
              <a:solidFill>
                <a:srgbClr val="000000"/>
              </a:solidFill>
              <a:latin typeface="Tw Cen MT"/>
            </a:endParaRPr>
          </a:p>
          <a:p>
            <a:pPr lvl="1" marL="58212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w Cen MT"/>
              </a:rPr>
              <a:t>ج- نوعية نظام الري:</a:t>
            </a:r>
            <a:endParaRPr b="0" lang="en-US" sz="2600" spc="-1" strike="noStrike">
              <a:solidFill>
                <a:srgbClr val="000000"/>
              </a:solidFill>
              <a:latin typeface="Tw Cen MT"/>
            </a:endParaRPr>
          </a:p>
          <a:p>
            <a:pPr lvl="1" marL="582120" indent="-248040" algn="r" rtl="1">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حيث الري بالغمر يحتاج الى كميات أعلى من الري الرشاش أو الري المحوري حيث تقل نسبة الفاقد بالتبخر وغيره بتحسن نوعية نظام الري. ويتبع اضافة المياه قانون تناقص الغلة في العلاقة بين الإنتاج وكمية المياه والإنتاجية الحدية المتناقصة للمياه وبالتالي فالقاعدة المتبعة هي القاعدة نفسها المتبعة في التعامل مع الموارد الزراعية المحدودة.</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533520" y="228600"/>
            <a:ext cx="8229600" cy="5897520"/>
          </a:xfrm>
          <a:prstGeom prst="rect">
            <a:avLst/>
          </a:prstGeom>
          <a:noFill/>
          <a:ln w="0">
            <a:noFill/>
          </a:ln>
        </p:spPr>
        <p:txBody>
          <a:bodyPr lIns="90000" rIns="90000" tIns="46800" bIns="46800" anchor="t">
            <a:normAutofit fontScale="95000"/>
          </a:bodyPr>
          <a:p>
            <a:pPr marL="30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Tw Cen MT"/>
              </a:rPr>
              <a:t>الإستثمار في تطوير أنظمة الري</a:t>
            </a:r>
            <a:endParaRPr b="0" lang="en-US" sz="29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ن القرارات المهمة في الإدارة المزرعية القرارات المتعلقة بالاستثمار في تطوير أنطمة الري والقاعدة الإقتصادية في التعامل مع هذا القرار في حالات عدم محدودية رأس المال هو مقارنة العائد بالتكاليف لهذا الاستثمار. </a:t>
            </a:r>
            <a:endParaRPr b="0" lang="en-US" sz="29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نظراً لان الاستثمار في نظام الري هو للمدى الطويل فإن كل من التكاليف والعوائد يجب أن تأخذ في الاعتبار عنصر الزمن واستخدام تكلفة مناسبة لراس المال المستثمر مقارب لما هو معمول به في المصارف مثلاً.</a:t>
            </a:r>
            <a:endParaRPr b="0" lang="en-US" sz="2900" spc="-1" strike="noStrike">
              <a:solidFill>
                <a:srgbClr val="000000"/>
              </a:solidFill>
              <a:latin typeface="Tw Cen MT"/>
            </a:endParaRPr>
          </a:p>
          <a:p>
            <a:pPr marL="302760" indent="-3027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في الحالات التي يكون فيها رأسمال المزارع محدود فإنه يحتاج الى استخدام مبدأ تكلفة الفرصة البديلة في تقويم الاستثمار في البدائل المتاحة له.</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533520" y="380520"/>
            <a:ext cx="8153280" cy="5745240"/>
          </a:xfrm>
          <a:prstGeom prst="rect">
            <a:avLst/>
          </a:prstGeom>
          <a:noFill/>
          <a:ln w="0">
            <a:noFill/>
          </a:ln>
        </p:spPr>
        <p:txBody>
          <a:bodyPr lIns="90000" rIns="90000" tIns="46800" bIns="46800" anchor="t">
            <a:normAutofit fontScale="91000"/>
          </a:bodyPr>
          <a:p>
            <a:pPr marL="290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Tw Cen MT"/>
              </a:rPr>
              <a:t>الـتغـير فـي أنــماط الإنتاج واخـتيار نـظام الـــري</a:t>
            </a:r>
            <a:endParaRPr b="0" lang="en-US" sz="2900" spc="-1" strike="noStrike">
              <a:solidFill>
                <a:srgbClr val="000000"/>
              </a:solidFill>
              <a:latin typeface="Tw Cen MT"/>
            </a:endParaRPr>
          </a:p>
          <a:p>
            <a:pPr marL="290160" indent="-2901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يساعد الري في زراعة عدد كبير من المحاصيل الزراعية والخطط المزرعية التي يتم إتباعها في غياب الاستثمار في نظام الري يجب مراجعتها مراجعة تامة ليمكن للمزارع من استغلال موارده المتاحة الاستغلال الامثل. الخطط المزرعية المعدة لمنظور مستقبلي والتي تسمح بتقويم عدد كبير من البدائل من وجه نظر الاربحية المتمثلة في الدخل المزرعي الصافي تساهم في إتاحة الفرصة أمام المزارع لاتخاذ القرار المناسب من حيث التركيبة المحصولية ونمط الإنتاج الزراعي. وفقط عن طريق أعداد خطة مزرعية متكاملة سوف يتجنب المزارع إتخاذ قرارات عشوائية بخصوص عائد الاستثمار في نظان الري.</a:t>
            </a: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380880" y="456840"/>
            <a:ext cx="8382240" cy="5668920"/>
          </a:xfrm>
          <a:prstGeom prst="rect">
            <a:avLst/>
          </a:prstGeom>
          <a:noFill/>
          <a:ln w="0">
            <a:noFill/>
          </a:ln>
        </p:spPr>
        <p:txBody>
          <a:bodyPr lIns="90000" rIns="90000" tIns="46800" bIns="46800" anchor="t">
            <a:normAutofit fontScale="91000"/>
          </a:bodyPr>
          <a:p>
            <a:pPr marL="290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الـــري التـكـمـيـلـي لـبـعـض الـمـحـاصـيل</a:t>
            </a:r>
            <a:endParaRPr b="0" lang="en-US" sz="2800" spc="-1" strike="noStrike">
              <a:solidFill>
                <a:srgbClr val="000000"/>
              </a:solidFill>
              <a:latin typeface="Tw Cen MT"/>
            </a:endParaRPr>
          </a:p>
          <a:p>
            <a:pPr marL="290160" indent="-2901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مكن استخدام نظام الري لتكميل احتياجات النيات من المياه التي تزيد عن كمية الامطارفي بعض المناطق. ويمكن من الناحية الإقتصادية إتباع نظام الري التكميلي بعد إجراء الحسابات اللازمة لمقارنة تكلفة الاستثمار في نظام الري الثابت أو المتحرك أو الزيادة في قيمة العائد الناتج مع توفير المياه في الفترات الحرجة من عمر المحصول.</a:t>
            </a:r>
            <a:endParaRPr b="0" lang="en-US" sz="2800" spc="-1" strike="noStrike">
              <a:solidFill>
                <a:srgbClr val="000000"/>
              </a:solidFill>
              <a:latin typeface="Tw Cen MT"/>
            </a:endParaRPr>
          </a:p>
          <a:p>
            <a:pPr marL="290160" indent="-2901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وحيث ان كمية الامطار غير ثابتة في بعض المناطق فيمكن استخدام نظرية الاحتمالات في معرفة البيانات اللازمة عن معدلات سقوط الامطار في المنطقة، تغطي عدد كبير من السنوات (من بيانات الارصاد الجوية) واستخدام هذه المعلومات في تحديد القيمة المتوقعة للزيادة في العائد الإنتاجي الناتج من توفير المعدلات المناسبة من الرطوبة للمحاصيل الزراعية تحت نظام الري التكميلي.</a:t>
            </a:r>
            <a:endParaRPr b="0" lang="en-US" sz="2800" spc="-1" strike="noStrike">
              <a:solidFill>
                <a:srgbClr val="000000"/>
              </a:solidFill>
              <a:latin typeface="Tw Cen MT"/>
            </a:endParaRPr>
          </a:p>
          <a:p>
            <a:pPr marL="290160" indent="-2901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تفيد الدراسات ومراكز البحوث في التعريف بامكانيات زيادة من المحاصيل الحقلية بتوفير الاستثمارات اللازمة في أنظمة الري التي تستخدم في الري التكميلي.</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457200" y="304920"/>
            <a:ext cx="8305920" cy="5821200"/>
          </a:xfrm>
          <a:prstGeom prst="rect">
            <a:avLst/>
          </a:prstGeom>
          <a:noFill/>
          <a:ln w="0">
            <a:noFill/>
          </a:ln>
        </p:spPr>
        <p:txBody>
          <a:bodyPr lIns="90000" rIns="90000" tIns="46800" bIns="46800" anchor="t">
            <a:normAutofit fontScale="82000"/>
          </a:bodyPr>
          <a:p>
            <a:pPr marL="261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الـعـائـد مـن أنـظمة الـري وتكـلـفـة الـفـرصة الـبديلـة وقرارات الإسـتثمـار</a:t>
            </a:r>
            <a:endParaRPr b="0" lang="en-US" sz="2400" spc="-1" strike="noStrike">
              <a:solidFill>
                <a:srgbClr val="000000"/>
              </a:solidFill>
              <a:latin typeface="Tw Cen MT"/>
            </a:endParaRPr>
          </a:p>
          <a:p>
            <a:pPr marL="261360" indent="-2613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ليس من المهم في الادراة إذا كان نظام الري التكميلي أو أي نظام للري سوف يكون مربحاً في سنة من السنوات ولكن المهم أن يكون للاستثمار في المدى الطويل عائداً اقتصادياً أكبر من أي عائد من الاستثمار في أي نشاط آخر.</a:t>
            </a:r>
            <a:endParaRPr b="0" lang="en-US" sz="2400" spc="-1" strike="noStrike">
              <a:solidFill>
                <a:srgbClr val="000000"/>
              </a:solidFill>
              <a:latin typeface="Tw Cen MT"/>
            </a:endParaRPr>
          </a:p>
          <a:p>
            <a:pPr marL="261360" indent="-2613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قد لا يعطي الاستثمار عائداً أو يغطي تكاليفه في سنة ما ولكن العائد في المدى الطويل يكون أكبر من تكلفة الاستثمار في نظام الري.</a:t>
            </a:r>
            <a:endParaRPr b="0" lang="en-US" sz="2400" spc="-1" strike="noStrike">
              <a:solidFill>
                <a:srgbClr val="000000"/>
              </a:solidFill>
              <a:latin typeface="Tw Cen MT"/>
            </a:endParaRPr>
          </a:p>
          <a:p>
            <a:pPr marL="261360" indent="-2613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نظمة الري من الاستثمارات الثابتة المهمة في المزرعة وتخصيص تكلفة الري لوحدة المساحة يتطلب استثمارها في مساحة كبيرة لبنخفض بذلك متوسط التكلفة الثابتة لوحدة المساحة. ولذلك يجب تقويم نظام الري في ظروف مساحة المزرعة ونوعية المحاصيل ونوعية التربة وتكلفة مصادر المياه... غلخ وهي من العوامل المهمة في تحديد تكلفة الاستثمار في أنظمة الري وتكلفة الفرصة البديلة.</a:t>
            </a:r>
            <a:endParaRPr b="0" lang="en-US" sz="2400" spc="-1" strike="noStrike">
              <a:solidFill>
                <a:srgbClr val="000000"/>
              </a:solidFill>
              <a:latin typeface="Tw Cen MT"/>
            </a:endParaRPr>
          </a:p>
          <a:p>
            <a:pPr marL="261360" indent="-2613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فيما يخص الري التكميلي يجب على المزارع الذي يتوفر لديه مصدر للري أن يقوم بتقويم العائد من زيادة الرطوبة بتوفير المياه في الاوقات الحرجة وترجمة الإنتاج الى عوائد نقدية ومقارنة ذلك بقيمة الاستثمار أو تكلفة الاستثمار في انظمة الري والفرصة البديلة للاستثمار المتاحة للمزارع في انشطة أخرى قبل إتخاذ القرار بشأن إستخدام الري التكميلي في المحاصيل الحقلية.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775f55"/>
                </a:solidFill>
                <a:latin typeface="Tw Cen MT"/>
              </a:rPr>
              <a:t>الإستزراع والعناية وقانون تناقص الغلة </a:t>
            </a:r>
            <a:br>
              <a:rPr sz="2900"/>
            </a:br>
            <a:r>
              <a:rPr b="1" i="1" lang="en-US" sz="2900" spc="-1" strike="noStrike">
                <a:solidFill>
                  <a:srgbClr val="775f55"/>
                </a:solidFill>
                <a:latin typeface="Tw Cen MT"/>
              </a:rPr>
              <a:t>Low of Diminishing Return</a:t>
            </a:r>
            <a:endParaRPr b="0" lang="en-US" sz="2900" spc="-1" strike="noStrike">
              <a:solidFill>
                <a:srgbClr val="775f55"/>
              </a:solidFill>
              <a:latin typeface="Tw Cen MT"/>
            </a:endParaRPr>
          </a:p>
        </p:txBody>
      </p:sp>
      <p:sp>
        <p:nvSpPr>
          <p:cNvPr id="354" name=""/>
          <p:cNvSpPr txBox="1"/>
          <p:nvPr/>
        </p:nvSpPr>
        <p:spPr>
          <a:xfrm>
            <a:off x="457200" y="1600200"/>
            <a:ext cx="8229600" cy="5029200"/>
          </a:xfrm>
          <a:prstGeom prst="rect">
            <a:avLst/>
          </a:prstGeom>
          <a:noFill/>
          <a:ln w="0">
            <a:noFill/>
          </a:ln>
        </p:spPr>
        <p:txBody>
          <a:bodyPr lIns="90000" rIns="90000" tIns="46800" bIns="46800" anchor="t">
            <a:normAutofit fontScale="97000"/>
          </a:bodyPr>
          <a:p>
            <a:pPr marL="309240" indent="-3092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9240" indent="-3092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ن العمليات الزراعية المهمة التي يمكن القيام بها دون أي زيادة في تكاليف الإنتاج هي الزراعة بالعمق المناسب الذي يحقق أعلى إنتاج لوحدة المساحة والعمليات المشابهة التي يمكن أن تؤدي إلى زيادة في الإنتاج بالمستوى نفسه من التكاليف. </a:t>
            </a:r>
            <a:endParaRPr b="0" lang="en-US" sz="2900" spc="-1" strike="noStrike">
              <a:solidFill>
                <a:srgbClr val="000000"/>
              </a:solidFill>
              <a:latin typeface="Tw Cen MT"/>
            </a:endParaRPr>
          </a:p>
          <a:p>
            <a:pPr marL="309240" indent="-30924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إن الزراعة بالعمق يجب معرفتها والتركيز عليها كعمليات تزيد في أربحية النشاط الإنتاجي وفي كل الأحوال يجب على المدير المزرعي أن يتقيد بتوصيات الخبراء في مثل هذه العمليات الزراعية وينفذها ليجني العائد منه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304560" y="228600"/>
            <a:ext cx="8381880" cy="5897520"/>
          </a:xfrm>
          <a:prstGeom prst="rect">
            <a:avLst/>
          </a:prstGeom>
          <a:noFill/>
          <a:ln w="0">
            <a:noFill/>
          </a:ln>
        </p:spPr>
        <p:txBody>
          <a:bodyPr lIns="90000" rIns="90000" tIns="46800" bIns="46800" anchor="t">
            <a:normAutofit fontScale="91000"/>
          </a:bodyPr>
          <a:p>
            <a:pPr marL="2901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مــــــــواعـيد الـــــــــزراعـة</a:t>
            </a:r>
            <a:endParaRPr b="0" lang="en-US" sz="2800" spc="-1" strike="noStrike">
              <a:solidFill>
                <a:srgbClr val="000000"/>
              </a:solidFill>
              <a:latin typeface="Tw Cen MT"/>
            </a:endParaRPr>
          </a:p>
          <a:p>
            <a:pPr marL="290160" indent="-2901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للعلاقة الموجودة بين وقت الزراعة والمخاطرة واللايقين في الإنتاج الزراعي أهمية كبيرة يجب مراعاتها. ففي نفس الوقت الذي يسمح فيه طول موسم النمو بالحصول على المعدلات المثلى من الإنتاج في بعض المناطق لايسمح فيها الوقت بالحصول على الإنتاج على اللإطلاق في المناطق الأخرى التي تعاني من إنخفاض درجات الحرارة أو إرتفعها أو سقوط الثلوج وغيرها من العوامل الطبيعية والمناخية التي تحد من وجود الوقت المناسب والكافي للإنتاج. </a:t>
            </a:r>
            <a:endParaRPr b="0" lang="en-US" sz="2800" spc="-1" strike="noStrike">
              <a:solidFill>
                <a:srgbClr val="000000"/>
              </a:solidFill>
              <a:latin typeface="Tw Cen MT"/>
            </a:endParaRPr>
          </a:p>
          <a:p>
            <a:pPr marL="290160" indent="-29016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عامل المحدد لإنجاز العمليات الزراعية في الوقت المحدد هو الإستثمارات المزرعية في الآلات الزراعية من جرارات وبذرات وغيرها وإمكانية وجود مصادر للحصول على خدماتها. فالمزارع يحتاج إلى توفر عدد كافي من الآلات الزراعية التي تمكنه من إتمام الاستزراع في الوقت المناسب الذي يعطي أعلى إنتاجية ممكنة وبدونها سيصاحب عملية الإستزراع قدر كبير من المخاطرة واللايقين.</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1000"/>
          </a:bodyPr>
          <a:p>
            <a:pPr marL="41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Tw Cen MT"/>
              </a:rPr>
              <a:t>عدم إختيار الوقـت المناسب للاستزراع ينتج عنه:</a:t>
            </a:r>
            <a:endParaRPr b="0" lang="en-US" sz="2200" spc="-1" strike="noStrike">
              <a:solidFill>
                <a:srgbClr val="000000"/>
              </a:solidFill>
              <a:latin typeface="Tw Cen MT"/>
            </a:endParaRPr>
          </a:p>
          <a:p>
            <a:pPr marL="415800" indent="-41580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تأثير على كمية الإنتاج المحقق.</a:t>
            </a:r>
            <a:endParaRPr b="0" lang="en-US" sz="2200" spc="-1" strike="noStrike">
              <a:solidFill>
                <a:srgbClr val="000000"/>
              </a:solidFill>
              <a:latin typeface="Tw Cen MT"/>
            </a:endParaRPr>
          </a:p>
          <a:p>
            <a:pPr marL="415800" indent="-41580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زيادة الفاقد في المحصول الإنتاجي.</a:t>
            </a:r>
            <a:endParaRPr b="0" lang="en-US" sz="2200" spc="-1" strike="noStrike">
              <a:solidFill>
                <a:srgbClr val="000000"/>
              </a:solidFill>
              <a:latin typeface="Tw Cen MT"/>
            </a:endParaRPr>
          </a:p>
          <a:p>
            <a:pPr marL="415800" indent="-41580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تكاليف عالية للآلات الزراعية المطلوبة للقيام بالعمليات الزراعية في أوقاتها لبعض أنواع المحاصيل الحساسة لمواعيد الإستزراع والحصاد.</a:t>
            </a:r>
            <a:endParaRPr b="0" lang="en-US" sz="2200" spc="-1" strike="noStrike">
              <a:solidFill>
                <a:srgbClr val="000000"/>
              </a:solidFill>
              <a:latin typeface="Tw Cen MT"/>
            </a:endParaRPr>
          </a:p>
          <a:p>
            <a:pPr marL="41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Tw Cen MT"/>
              </a:rPr>
              <a:t>مــــــــعدلات الــــــــــبذار</a:t>
            </a:r>
            <a:endParaRPr b="0" lang="en-US" sz="2200" spc="-1" strike="noStrike">
              <a:solidFill>
                <a:srgbClr val="000000"/>
              </a:solidFill>
              <a:latin typeface="Tw Cen MT"/>
            </a:endParaRPr>
          </a:p>
          <a:p>
            <a:pPr marL="415800" indent="-41580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تعد معدلات البذار من العمليات الزراعية المهمة التي لها علاقة مباشرة بالإنتاجية المحققة من المحاصيل المختلفة مع غيرها من العوامل الأخرى. وتشير الدراسات المتوفرة من المراكز البحثية إلى زيادة في إنتاج الذرة الشامية والقمح باستخدام معدلات مناسبة من البذار، وكان هذا التأثير على الإنتاج ناتج من الآتي:</a:t>
            </a:r>
            <a:endParaRPr b="0" lang="en-US" sz="2200" spc="-1" strike="noStrike">
              <a:solidFill>
                <a:srgbClr val="000000"/>
              </a:solidFill>
              <a:latin typeface="Tw Cen MT"/>
            </a:endParaRPr>
          </a:p>
          <a:p>
            <a:pPr marL="415800" indent="-41580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زيادة عدد النباتات لوحدة المساحة،</a:t>
            </a:r>
            <a:endParaRPr b="0" lang="en-US" sz="2200" spc="-1" strike="noStrike">
              <a:solidFill>
                <a:srgbClr val="000000"/>
              </a:solidFill>
              <a:latin typeface="Tw Cen MT"/>
            </a:endParaRPr>
          </a:p>
          <a:p>
            <a:pPr marL="415800" indent="-41580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زيادة تنافس النباتات مع الأعشاب والحشائش المصاحبة للنباتات وبذلك أعطيت للنبات فرصة للإستفادة من كل العناصر الغذائية والرطوبة المتوفرة للتربة.</a:t>
            </a:r>
            <a:endParaRPr b="0" lang="en-US" sz="2200" spc="-1" strike="noStrike">
              <a:solidFill>
                <a:srgbClr val="000000"/>
              </a:solidFill>
              <a:latin typeface="Tw Cen MT"/>
            </a:endParaRPr>
          </a:p>
          <a:p>
            <a:pPr marL="41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w Cen MT"/>
              </a:rPr>
              <a:t>والسـؤال هـنا، إلى أي مدى يمـكن زيادة كثـافة البـذور والـنباتات لوحـدة الـمساحة؟</a:t>
            </a:r>
            <a:endParaRPr b="0" lang="en-US" sz="2200" spc="-1" strike="noStrike">
              <a:solidFill>
                <a:srgbClr val="000000"/>
              </a:solidFill>
              <a:latin typeface="Tw Cen MT"/>
            </a:endParaRPr>
          </a:p>
          <a:p>
            <a:pPr marL="41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والإجابة على هذا السؤال يمكن تلخيصها في القاعدة الإقتصادية التالية:</a:t>
            </a:r>
            <a:endParaRPr b="0" lang="en-US" sz="2200" spc="-1" strike="noStrike">
              <a:solidFill>
                <a:srgbClr val="000000"/>
              </a:solidFill>
              <a:latin typeface="Tw Cen MT"/>
            </a:endParaRPr>
          </a:p>
          <a:p>
            <a:pPr marL="41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 مقارنة الزيادة في قيمة العائد </a:t>
            </a:r>
            <a:r>
              <a:rPr b="0" i="1" lang="en-US" sz="2200" spc="-1" strike="noStrike">
                <a:solidFill>
                  <a:srgbClr val="000000"/>
                </a:solidFill>
                <a:latin typeface="Tw Cen MT"/>
              </a:rPr>
              <a:t>Value of Return</a:t>
            </a:r>
            <a:r>
              <a:rPr b="0" lang="en-US" sz="2200" spc="-1" strike="noStrike">
                <a:solidFill>
                  <a:srgbClr val="000000"/>
                </a:solidFill>
                <a:latin typeface="Tw Cen MT"/>
              </a:rPr>
              <a:t> </a:t>
            </a:r>
            <a:r>
              <a:rPr b="0" lang="ar-SA" sz="2200" spc="-1" strike="noStrike">
                <a:solidFill>
                  <a:srgbClr val="000000"/>
                </a:solidFill>
                <a:latin typeface="Tw Cen MT"/>
              </a:rPr>
              <a:t>بالزيادة في قيمة التكاليف </a:t>
            </a:r>
            <a:r>
              <a:rPr b="0" i="1" lang="en-US" sz="2200" spc="-1" strike="noStrike">
                <a:solidFill>
                  <a:srgbClr val="000000"/>
                </a:solidFill>
                <a:latin typeface="Tw Cen MT"/>
              </a:rPr>
              <a:t>Value of Costs</a:t>
            </a:r>
            <a:r>
              <a:rPr b="0" lang="ar-SA" sz="2200" spc="-1" strike="noStrike">
                <a:solidFill>
                  <a:srgbClr val="000000"/>
                </a:solidFill>
                <a:latin typeface="Tw Cen MT"/>
              </a:rPr>
              <a:t> "</a:t>
            </a:r>
            <a:r>
              <a:rPr b="0" lang="en-US" sz="2200" spc="-1" strike="noStrike">
                <a:solidFill>
                  <a:srgbClr val="000000"/>
                </a:solidFill>
                <a:latin typeface="Tw Cen MT"/>
              </a:rPr>
              <a: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380520" y="152280"/>
            <a:ext cx="8534520" cy="5973840"/>
          </a:xfrm>
          <a:prstGeom prst="rect">
            <a:avLst/>
          </a:prstGeom>
          <a:noFill/>
          <a:ln w="0">
            <a:noFill/>
          </a:ln>
        </p:spPr>
        <p:txBody>
          <a:bodyPr lIns="90000" rIns="90000" tIns="46800" bIns="46800" anchor="t">
            <a:normAutofit fontScale="94000"/>
          </a:bodyPr>
          <a:p>
            <a:pPr marL="42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w Cen MT"/>
              </a:rPr>
              <a:t>وتتلخص قيمة التكاليف في:</a:t>
            </a:r>
            <a:endParaRPr b="0" lang="en-US" sz="2800" spc="-1" strike="noStrike">
              <a:solidFill>
                <a:srgbClr val="000000"/>
              </a:solidFill>
              <a:latin typeface="Tw Cen MT"/>
            </a:endParaRPr>
          </a:p>
          <a:p>
            <a:pPr marL="429480" indent="-429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زيادة في تكلفة البذور،</a:t>
            </a:r>
            <a:endParaRPr b="0" lang="en-US" sz="2400" spc="-1" strike="noStrike">
              <a:solidFill>
                <a:srgbClr val="000000"/>
              </a:solidFill>
              <a:latin typeface="Tw Cen MT"/>
            </a:endParaRPr>
          </a:p>
          <a:p>
            <a:pPr marL="429480" indent="-429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زيادة في تكلفة الحصاد </a:t>
            </a:r>
            <a:r>
              <a:rPr b="0" i="1" lang="en-US" sz="2400" spc="-1" strike="noStrike">
                <a:solidFill>
                  <a:srgbClr val="000000"/>
                </a:solidFill>
                <a:latin typeface="Tw Cen MT"/>
              </a:rPr>
              <a:t>Harfest</a:t>
            </a:r>
            <a:r>
              <a:rPr b="0" lang="ar-SA" sz="2400" spc="-1" strike="noStrike">
                <a:solidFill>
                  <a:srgbClr val="000000"/>
                </a:solidFill>
                <a:latin typeface="Tw Cen MT"/>
              </a:rPr>
              <a:t>،</a:t>
            </a:r>
            <a:endParaRPr b="0" lang="en-US" sz="2400" spc="-1" strike="noStrike">
              <a:solidFill>
                <a:srgbClr val="000000"/>
              </a:solidFill>
              <a:latin typeface="Tw Cen MT"/>
            </a:endParaRPr>
          </a:p>
          <a:p>
            <a:pPr marL="429480" indent="-429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زيادة في تكلفة النقل   </a:t>
            </a:r>
            <a:r>
              <a:rPr b="0" i="1" lang="en-US" sz="2400" spc="-1" strike="noStrike">
                <a:solidFill>
                  <a:srgbClr val="000000"/>
                </a:solidFill>
                <a:latin typeface="Tw Cen MT"/>
              </a:rPr>
              <a:t>Transportation</a:t>
            </a:r>
            <a:r>
              <a:rPr b="0" lang="en-US" sz="2400" spc="-1" strike="noStrike">
                <a:solidFill>
                  <a:srgbClr val="000000"/>
                </a:solidFill>
                <a:latin typeface="Tw Cen MT"/>
              </a:rPr>
              <a:t> </a:t>
            </a:r>
            <a:r>
              <a:rPr b="0" lang="ar-SA" sz="2400" spc="-1" strike="noStrike">
                <a:solidFill>
                  <a:srgbClr val="000000"/>
                </a:solidFill>
                <a:latin typeface="Tw Cen MT"/>
              </a:rPr>
              <a:t>والمناولة </a:t>
            </a:r>
            <a:r>
              <a:rPr b="0" i="1" lang="en-US" sz="2400" spc="-1" strike="noStrike">
                <a:solidFill>
                  <a:srgbClr val="000000"/>
                </a:solidFill>
                <a:latin typeface="Tw Cen MT"/>
              </a:rPr>
              <a:t>Handling</a:t>
            </a:r>
            <a:r>
              <a:rPr b="0" lang="en-US" sz="2400" spc="-1" strike="noStrike">
                <a:solidFill>
                  <a:srgbClr val="000000"/>
                </a:solidFill>
                <a:latin typeface="Tw Cen MT"/>
              </a:rPr>
              <a:t> </a:t>
            </a:r>
            <a:r>
              <a:rPr b="0" lang="ar-SA" sz="2400" spc="-1" strike="noStrike">
                <a:solidFill>
                  <a:srgbClr val="000000"/>
                </a:solidFill>
                <a:latin typeface="Tw Cen MT"/>
              </a:rPr>
              <a:t>،</a:t>
            </a:r>
            <a:endParaRPr b="0" lang="en-US" sz="2400" spc="-1" strike="noStrike">
              <a:solidFill>
                <a:srgbClr val="000000"/>
              </a:solidFill>
              <a:latin typeface="Tw Cen MT"/>
            </a:endParaRPr>
          </a:p>
          <a:p>
            <a:pPr marL="42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حيث إن تكلفة الآلات الزراعية... إلخ، تعد تكاليف ثابتة أما الزيادة في قيمة الإنتاج فتتمثل في المساهمة في كمية الإنتاج لوحدة المساحة الناتج من إضافة معدلات أعلى من البذار. وعلى العموم تكلفة النباتات في حساسيتها لكمية البذور المستخدمة بدرجة مهمة، مثلاً في حالات الذرة والقمح والشعير إلا أنها أقل أهمية في المحاصيل التي تستطيع أن تمد في المساحة حتى يحصل التوازن المطلوب مثل بعض الاعلاف والمحاصيل صغيرة الحبوب. </a:t>
            </a:r>
            <a:endParaRPr b="0" lang="en-US" sz="2400" spc="-1" strike="noStrike">
              <a:solidFill>
                <a:srgbClr val="000000"/>
              </a:solidFill>
              <a:latin typeface="Tw Cen MT"/>
            </a:endParaRPr>
          </a:p>
          <a:p>
            <a:pPr marL="429480" indent="-42948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من العوامل المهمة الأخرى التي يجب مراعاتها في زيادة معدلات البذور هي:</a:t>
            </a:r>
            <a:endParaRPr b="0" lang="en-US" sz="2400" spc="-1" strike="noStrike">
              <a:solidFill>
                <a:srgbClr val="000000"/>
              </a:solidFill>
              <a:latin typeface="Tw Cen MT"/>
            </a:endParaRPr>
          </a:p>
          <a:p>
            <a:pPr marL="429480" indent="-429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توفر الأسمدة </a:t>
            </a:r>
            <a:r>
              <a:rPr b="0" i="1" lang="en-US" sz="2400" spc="-1" strike="noStrike">
                <a:solidFill>
                  <a:srgbClr val="000000"/>
                </a:solidFill>
                <a:latin typeface="Tw Cen MT"/>
              </a:rPr>
              <a:t>Fertilizers</a:t>
            </a:r>
            <a:r>
              <a:rPr b="0" lang="en-US" sz="2400" spc="-1" strike="noStrike">
                <a:solidFill>
                  <a:srgbClr val="000000"/>
                </a:solidFill>
                <a:latin typeface="Tw Cen MT"/>
              </a:rPr>
              <a:t> </a:t>
            </a:r>
            <a:r>
              <a:rPr b="0" lang="ar-SA" sz="2400" spc="-1" strike="noStrike">
                <a:solidFill>
                  <a:srgbClr val="000000"/>
                </a:solidFill>
                <a:latin typeface="Tw Cen MT"/>
              </a:rPr>
              <a:t> اللازمة للمحاصيل.</a:t>
            </a:r>
            <a:endParaRPr b="0" lang="en-US" sz="2400" spc="-1" strike="noStrike">
              <a:solidFill>
                <a:srgbClr val="000000"/>
              </a:solidFill>
              <a:latin typeface="Tw Cen MT"/>
            </a:endParaRPr>
          </a:p>
          <a:p>
            <a:pPr marL="429480" indent="-429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توفر الرطوبة </a:t>
            </a:r>
            <a:r>
              <a:rPr b="0" i="1" lang="en-US" sz="2400" spc="-1" strike="noStrike">
                <a:solidFill>
                  <a:srgbClr val="000000"/>
                </a:solidFill>
                <a:latin typeface="Tw Cen MT"/>
              </a:rPr>
              <a:t>Humidity</a:t>
            </a:r>
            <a:r>
              <a:rPr b="0" lang="en-US" sz="2400" spc="-1" strike="noStrike">
                <a:solidFill>
                  <a:srgbClr val="000000"/>
                </a:solidFill>
                <a:latin typeface="Tw Cen MT"/>
              </a:rPr>
              <a:t> </a:t>
            </a:r>
            <a:r>
              <a:rPr b="0" lang="ar-SA" sz="2400" spc="-1" strike="noStrike">
                <a:solidFill>
                  <a:srgbClr val="000000"/>
                </a:solidFill>
                <a:latin typeface="Tw Cen MT"/>
              </a:rPr>
              <a:t>اللازمة لإنجاح المحصول وخاصة في الأوقات الحرجة مثل أوقات تكوين البذور والثمار وغيرها مع مراعاة أهمية قانون تناقض الإنتاجية بعد مستوى معين من البذور المستخدمة.</a:t>
            </a:r>
            <a:endParaRPr b="0" lang="en-US" sz="2400" spc="-1" strike="noStrike">
              <a:solidFill>
                <a:srgbClr val="000000"/>
              </a:solidFill>
              <a:latin typeface="Tw Cen MT"/>
            </a:endParaRPr>
          </a:p>
          <a:p>
            <a:pPr marL="429480" indent="-429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نسبة حيوية البذور المحسنة.</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3160" y="304920"/>
            <a:ext cx="8305560" cy="5821200"/>
          </a:xfrm>
          <a:prstGeom prst="rect">
            <a:avLst/>
          </a:prstGeom>
          <a:noFill/>
          <a:ln w="0">
            <a:noFill/>
          </a:ln>
        </p:spPr>
        <p:txBody>
          <a:bodyPr lIns="90000" rIns="90000" tIns="46800" bIns="46800" anchor="t">
            <a:normAutofit fontScale="88000"/>
          </a:bodyPr>
          <a:p>
            <a:pPr marL="280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w Cen MT"/>
              </a:rPr>
              <a:t>عمليات التعـشيب</a:t>
            </a:r>
            <a:endParaRPr b="0" lang="en-US" sz="2800" spc="-1" strike="noStrike">
              <a:solidFill>
                <a:srgbClr val="000000"/>
              </a:solidFill>
              <a:latin typeface="Tw Cen MT"/>
            </a:endParaRPr>
          </a:p>
          <a:p>
            <a:pPr marL="280440" indent="-28044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تشير الدراسات المتوفرة إلى وجود علاقة مهمة بين الإنتاجية لمختلف المحاصيل ومكافحة الحشائش والتعشيب. حيث تشير بعض التجارب إلى إمكانية زيادة الإنتاجية بنسبة </a:t>
            </a:r>
            <a:r>
              <a:rPr b="0" lang="ar-SA" sz="2800" spc="-1" strike="noStrike">
                <a:solidFill>
                  <a:srgbClr val="000000"/>
                </a:solidFill>
                <a:latin typeface="Tw Cen MT"/>
              </a:rPr>
              <a:t>30</a:t>
            </a:r>
            <a:r>
              <a:rPr b="0" lang="ar-SA" sz="2800" spc="-1" strike="noStrike">
                <a:solidFill>
                  <a:srgbClr val="000000"/>
                </a:solidFill>
                <a:latin typeface="Tw Cen MT"/>
              </a:rPr>
              <a:t>% بإزالة الحشائش من محصول الذرة والقمح، وتتّبع مرات التعشيب قانون تناقص الغلة حيث أن هناك معـدلات مثلى للتعشـيب لمختلف المحاصيل. والقاعدة الإقتصادية المستخدمة في تحديد عدد مرات التـعشيب لمختلف المحاصيل هي " النقطة تتساوى فيها التكلفة الحدية </a:t>
            </a:r>
            <a:r>
              <a:rPr b="0" i="1" lang="en-US" sz="2800" spc="-1" strike="noStrike">
                <a:solidFill>
                  <a:srgbClr val="000000"/>
                </a:solidFill>
                <a:latin typeface="Tw Cen MT"/>
              </a:rPr>
              <a:t>Marginal Cost</a:t>
            </a:r>
            <a:r>
              <a:rPr b="0" lang="en-US" sz="2800" spc="-1" strike="noStrike">
                <a:solidFill>
                  <a:srgbClr val="000000"/>
                </a:solidFill>
                <a:latin typeface="Tw Cen MT"/>
              </a:rPr>
              <a:t> </a:t>
            </a:r>
            <a:r>
              <a:rPr b="0" lang="ar-SA" sz="2800" spc="-1" strike="noStrike">
                <a:solidFill>
                  <a:srgbClr val="000000"/>
                </a:solidFill>
                <a:latin typeface="Tw Cen MT"/>
              </a:rPr>
              <a:t>للتعشيب من العائد الحدي </a:t>
            </a:r>
            <a:r>
              <a:rPr b="0" i="1" lang="en-US" sz="2800" spc="-1" strike="noStrike">
                <a:solidFill>
                  <a:srgbClr val="000000"/>
                </a:solidFill>
                <a:latin typeface="Tw Cen MT"/>
              </a:rPr>
              <a:t>Marginal Revenue</a:t>
            </a:r>
            <a:r>
              <a:rPr b="0" lang="en-US" sz="2800" spc="-1" strike="noStrike">
                <a:solidFill>
                  <a:srgbClr val="000000"/>
                </a:solidFill>
                <a:latin typeface="Tw Cen MT"/>
              </a:rPr>
              <a:t> </a:t>
            </a:r>
            <a:r>
              <a:rPr b="0" lang="ar-SA" sz="2800" spc="-1" strike="noStrike">
                <a:solidFill>
                  <a:srgbClr val="000000"/>
                </a:solidFill>
                <a:latin typeface="Tw Cen MT"/>
              </a:rPr>
              <a:t>الناتج من التعشيب " وفي هذه النقطة تتحدد المعدلات المثلى لمرات التعشيب لمختلف المحاصيل.</a:t>
            </a:r>
            <a:endParaRPr b="0" lang="en-US" sz="2800" spc="-1" strike="noStrike">
              <a:solidFill>
                <a:srgbClr val="000000"/>
              </a:solidFill>
              <a:latin typeface="Tw Cen MT"/>
            </a:endParaRPr>
          </a:p>
          <a:p>
            <a:pPr marL="280440" indent="-280440" algn="r"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كما توجد بدائل للتعشيب اليدوي والميكانيكي باستخدام المبيدات العشبية ويمكن أستخدام أي من الطرق والبدائل بمقارنة التكاليف لأي من البدائل وإختيار البديل الذي يحقق الهدف بأقل تكلفة ممكنة من بين البدائل المتاحة لمقاومة الاعشاب في مختلف المحاصيل</a:t>
            </a:r>
            <a:r>
              <a:rPr b="0" lang="en-US" sz="2800" spc="-1" strike="noStrike">
                <a:solidFill>
                  <a:srgbClr val="000000"/>
                </a:solidFill>
                <a:latin typeface="Tw Cen MT"/>
              </a:rPr>
              <a:t>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380520" y="228240"/>
            <a:ext cx="8153640" cy="6629400"/>
          </a:xfrm>
          <a:prstGeom prst="rect">
            <a:avLst/>
          </a:prstGeom>
          <a:noFill/>
          <a:ln w="0">
            <a:noFill/>
          </a:ln>
        </p:spPr>
        <p:txBody>
          <a:bodyPr lIns="90000" rIns="90000" tIns="46800" bIns="46800" anchor="t">
            <a:normAutofit fontScale="88000"/>
          </a:bodyPr>
          <a:p>
            <a:pPr marL="280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عـمق الـحرث والـعمليات الـزراعية الأخـرى ومـبدأ تـكلفة الـفرصة الـبديلة </a:t>
            </a:r>
            <a:endParaRPr b="0" lang="en-US" sz="2400" spc="-1" strike="noStrike">
              <a:solidFill>
                <a:srgbClr val="000000"/>
              </a:solidFill>
              <a:latin typeface="Tw Cen MT"/>
            </a:endParaRPr>
          </a:p>
          <a:p>
            <a:pPr marL="280440" indent="-28044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يمكن حساب العائد الإقتصادي من القيام بالحرث والعمليات الزراعية الأخرى بالطرق السابقة نفسها. حيث تجري مقارنة القيمة المضافة </a:t>
            </a:r>
            <a:r>
              <a:rPr b="0" lang="en-US" sz="2400" spc="-1" strike="noStrike">
                <a:solidFill>
                  <a:srgbClr val="000000"/>
                </a:solidFill>
                <a:latin typeface="Tw Cen MT"/>
              </a:rPr>
              <a:t>Value Add</a:t>
            </a:r>
            <a:r>
              <a:rPr b="0" lang="en-US" sz="2400" spc="-1" strike="noStrike">
                <a:solidFill>
                  <a:srgbClr val="000000"/>
                </a:solidFill>
                <a:latin typeface="Tw Cen MT"/>
              </a:rPr>
              <a:t> </a:t>
            </a:r>
            <a:r>
              <a:rPr b="0" lang="ar-SA" sz="2400" spc="-1" strike="noStrike">
                <a:solidFill>
                  <a:srgbClr val="000000"/>
                </a:solidFill>
                <a:latin typeface="Tw Cen MT"/>
              </a:rPr>
              <a:t>للتكاليف أو التكلفة الحدية بالقيمة المضافة للعائد او العائد الحدي. مع الملاحظة أن العمالة المؤجرة تعد جزء من التكاليف المضافة بهذا الإعتبار وبمعدلات إنتاج وأسعار محددة قد يكون من المفيد إقتصادياً مكافحة الحشائش </a:t>
            </a:r>
            <a:r>
              <a:rPr b="0" lang="ar-SA" sz="2400" spc="-1" strike="noStrike">
                <a:solidFill>
                  <a:srgbClr val="000000"/>
                </a:solidFill>
                <a:latin typeface="Tw Cen MT"/>
              </a:rPr>
              <a:t>3</a:t>
            </a:r>
            <a:r>
              <a:rPr b="0" lang="ar-SA" sz="2400" spc="-1" strike="noStrike">
                <a:solidFill>
                  <a:srgbClr val="000000"/>
                </a:solidFill>
                <a:latin typeface="Tw Cen MT"/>
              </a:rPr>
              <a:t> أو </a:t>
            </a:r>
            <a:r>
              <a:rPr b="0" lang="ar-SA" sz="2400" spc="-1" strike="noStrike">
                <a:solidFill>
                  <a:srgbClr val="000000"/>
                </a:solidFill>
                <a:latin typeface="Tw Cen MT"/>
              </a:rPr>
              <a:t>4</a:t>
            </a:r>
            <a:r>
              <a:rPr b="0" lang="ar-SA" sz="2400" spc="-1" strike="noStrike">
                <a:solidFill>
                  <a:srgbClr val="000000"/>
                </a:solidFill>
                <a:latin typeface="Tw Cen MT"/>
              </a:rPr>
              <a:t> مرات في موسم النمو للحصول على أعلى عائد. وفي سنوات أخرى قد يكتفي بمكافحة الحشائش مرة واحدة لمضاعفة العائد الصافي. وفي بعض الحالات وكما تشير الدراسات يؤثر إعداد مهد جيد للبذور على إنتاجية المحاصيل لوحدة المساحة وهناك معدلات مثلى من الجهد المبذول لإعداد المهد الجيد للبذور ولايجب تجاوزه لأن بعده تكون تكاليف الحرث والآلات الزراعية المستخدمة في التمهيد والتسوية أعلى من العائد المضاف من الزيادة في الإنتاجية نتيجة لهذه العملية. </a:t>
            </a:r>
            <a:endParaRPr b="0" lang="en-US" sz="2400" spc="-1" strike="noStrike">
              <a:solidFill>
                <a:srgbClr val="000000"/>
              </a:solidFill>
              <a:latin typeface="Tw Cen MT"/>
            </a:endParaRPr>
          </a:p>
          <a:p>
            <a:pPr marL="280440" indent="-28044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بالإضافة الى مبدأ "الإضافة للتكاليف </a:t>
            </a:r>
            <a:r>
              <a:rPr b="0" i="1" lang="en-US" sz="2400" spc="-1" strike="noStrike">
                <a:solidFill>
                  <a:srgbClr val="000000"/>
                </a:solidFill>
                <a:latin typeface="Tw Cen MT"/>
              </a:rPr>
              <a:t>Costs</a:t>
            </a:r>
            <a:r>
              <a:rPr b="0" lang="ar-SA" sz="2400" spc="-1" strike="noStrike">
                <a:solidFill>
                  <a:srgbClr val="000000"/>
                </a:solidFill>
                <a:latin typeface="Tw Cen MT"/>
              </a:rPr>
              <a:t> والإضافة للعائد</a:t>
            </a:r>
            <a:r>
              <a:rPr b="0" i="1" lang="en-US" sz="2400" spc="-1" strike="noStrike">
                <a:solidFill>
                  <a:srgbClr val="000000"/>
                </a:solidFill>
                <a:latin typeface="Tw Cen MT"/>
              </a:rPr>
              <a:t>Revenue</a:t>
            </a:r>
            <a:r>
              <a:rPr b="0" lang="en-US" sz="2400" spc="-1" strike="noStrike">
                <a:solidFill>
                  <a:srgbClr val="000000"/>
                </a:solidFill>
                <a:latin typeface="Tw Cen MT"/>
              </a:rPr>
              <a:t> </a:t>
            </a:r>
            <a:r>
              <a:rPr b="0" lang="ar-SA" sz="2400" spc="-1" strike="noStrike">
                <a:solidFill>
                  <a:srgbClr val="000000"/>
                </a:solidFill>
                <a:latin typeface="Tw Cen MT"/>
              </a:rPr>
              <a:t>" فإن بعض المزارعين يتوجب عليهم بمبدأ "تكلفة الفرصة البديلة" للموارد المتاحة للمزارع المستخدمة في العمليات الزراعية من عمالة ورأسمال وآلات زراعية وغيرها من الخيارات المتاحة أمام المزارع لاستثمارها في أنشطة زراعية أخرى.</a:t>
            </a:r>
            <a:endParaRPr b="0" lang="en-US" sz="2400" spc="-1" strike="noStrike">
              <a:solidFill>
                <a:srgbClr val="000000"/>
              </a:solidFill>
              <a:latin typeface="Tw Cen MT"/>
            </a:endParaRPr>
          </a:p>
          <a:p>
            <a:pPr marL="280440" indent="-28044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يجب ملاحظة الإهتمام بالقيام بالعمليات الزراعية ونوعية ودرجة الإهتمام بهذه العمليات تختلف من المزارع المالك والمزارع المؤجر للاراضي الزراعية حيث تسمح بذلك التشريعات من منطقة تكون الفرصة البديلة والزمن المتاح للاستفادة من العوائد المؤجلة لبعض العمليات الزراعية.</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80520" y="228600"/>
            <a:ext cx="8458200" cy="6324480"/>
          </a:xfrm>
          <a:prstGeom prst="rect">
            <a:avLst/>
          </a:prstGeom>
          <a:noFill/>
          <a:ln w="0">
            <a:noFill/>
          </a:ln>
        </p:spPr>
        <p:txBody>
          <a:bodyPr lIns="90000" rIns="90000" tIns="46800" bIns="46800" anchor="t">
            <a:normAutofit fontScale="89000"/>
          </a:bodyPr>
          <a:p>
            <a:pPr marL="3387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Tw Cen MT"/>
              </a:rPr>
              <a:t>الـقاعدة الـعامة بـخصوص الـقيام بالـعمليات الـزراعية هـي بـمقارنة:</a:t>
            </a:r>
            <a:endParaRPr b="0" lang="en-US" sz="2200" spc="-1" strike="noStrike">
              <a:solidFill>
                <a:srgbClr val="000000"/>
              </a:solidFill>
              <a:latin typeface="Tw Cen MT"/>
            </a:endParaRPr>
          </a:p>
          <a:p>
            <a:pPr marL="338760" indent="-3387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الزيادة في التكاليف من العملية الزراعية (بواسطة ميزات جزئية).</a:t>
            </a:r>
            <a:endParaRPr b="0" lang="en-US" sz="2200" spc="-1" strike="noStrike">
              <a:solidFill>
                <a:srgbClr val="000000"/>
              </a:solidFill>
              <a:latin typeface="Tw Cen MT"/>
            </a:endParaRPr>
          </a:p>
          <a:p>
            <a:pPr marL="338760" indent="-3387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الزيادة في العائد من الزيادة المحققة أو المتوقعة للإنتاج.</a:t>
            </a:r>
            <a:endParaRPr b="0" lang="en-US" sz="2200" spc="-1" strike="noStrike">
              <a:solidFill>
                <a:srgbClr val="000000"/>
              </a:solidFill>
              <a:latin typeface="Tw Cen MT"/>
            </a:endParaRPr>
          </a:p>
          <a:p>
            <a:pPr marL="338760" indent="-3387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يقوم المزارع بالعملية الزراعية إذا كانت الزيادة للتكاليف أقل من الزيادة للعائد أو الزيادة للتكاليف قليلة ولكن ينتج عنها زيادة كبيرة في الإنتاج مستقبلاً نتيجة للمحافظة على خصوبة التربة أو بعض الموارد الزراعية. وعلى عكس ذلك يمتنع المزارع عن القيام بالعملية الزراعية إذا كانت تضيف للتكاليف أضعاف ماتضيفة للعائد أو تسبب نقص في العائد أو عندما لايكون للمزارع الفرصة للإستفادة المستقبلية من العائد المتوقع من العملية الزراعية (المزارع المؤجر بعقود قصيرة المدى).</a:t>
            </a:r>
            <a:endParaRPr b="0" lang="en-US" sz="2200" spc="-1" strike="noStrike">
              <a:solidFill>
                <a:srgbClr val="000000"/>
              </a:solidFill>
              <a:latin typeface="Tw Cen MT"/>
            </a:endParaRPr>
          </a:p>
          <a:p>
            <a:pPr marL="3387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Tw Cen MT"/>
              </a:rPr>
              <a:t>عــــــــــمليات الــــــــتسميد وإدارة الــــــــــتربة</a:t>
            </a:r>
            <a:endParaRPr b="0" lang="en-US" sz="2200" spc="-1" strike="noStrike">
              <a:solidFill>
                <a:srgbClr val="000000"/>
              </a:solidFill>
              <a:latin typeface="Tw Cen MT"/>
            </a:endParaRPr>
          </a:p>
          <a:p>
            <a:pPr marL="338760" indent="-3387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يشمل هذا الجزء التحليل الإقتصادي </a:t>
            </a:r>
            <a:r>
              <a:rPr b="0" i="1" lang="en-US" sz="2200" spc="-1" strike="noStrike">
                <a:solidFill>
                  <a:srgbClr val="000000"/>
                </a:solidFill>
                <a:latin typeface="Tw Cen MT"/>
              </a:rPr>
              <a:t>Economic Analysis</a:t>
            </a:r>
            <a:r>
              <a:rPr b="0" lang="en-US" sz="2200" spc="-1" strike="noStrike">
                <a:solidFill>
                  <a:srgbClr val="000000"/>
                </a:solidFill>
                <a:latin typeface="Tw Cen MT"/>
              </a:rPr>
              <a:t> </a:t>
            </a:r>
            <a:r>
              <a:rPr b="0" lang="ar-SA" sz="2200" spc="-1" strike="noStrike">
                <a:solidFill>
                  <a:srgbClr val="000000"/>
                </a:solidFill>
                <a:latin typeface="Tw Cen MT"/>
              </a:rPr>
              <a:t>لإدارة التربة مع أننا سوف نناقش عدد من العمليات تحت إدارة التربة إلا أنها لا تنفصل عن إدارة المحاصيل </a:t>
            </a:r>
            <a:r>
              <a:rPr b="0" i="1" lang="en-US" sz="2200" spc="-1" strike="noStrike">
                <a:solidFill>
                  <a:srgbClr val="000000"/>
                </a:solidFill>
                <a:latin typeface="Tw Cen MT"/>
              </a:rPr>
              <a:t>Crops Managment</a:t>
            </a:r>
            <a:r>
              <a:rPr b="0" lang="ar-SA" sz="2200" spc="-1" strike="noStrike">
                <a:solidFill>
                  <a:srgbClr val="000000"/>
                </a:solidFill>
                <a:latin typeface="Tw Cen MT"/>
              </a:rPr>
              <a:t>، الري </a:t>
            </a:r>
            <a:r>
              <a:rPr b="0" i="1" lang="en-US" sz="2200" spc="-1" strike="noStrike">
                <a:solidFill>
                  <a:srgbClr val="000000"/>
                </a:solidFill>
                <a:latin typeface="Tw Cen MT"/>
              </a:rPr>
              <a:t>Irregation</a:t>
            </a:r>
            <a:r>
              <a:rPr b="0" lang="en-US" sz="2200" spc="-1" strike="noStrike">
                <a:solidFill>
                  <a:srgbClr val="000000"/>
                </a:solidFill>
                <a:latin typeface="Tw Cen MT"/>
              </a:rPr>
              <a:t> </a:t>
            </a:r>
            <a:r>
              <a:rPr b="0" lang="ar-SA" sz="2200" spc="-1" strike="noStrike">
                <a:solidFill>
                  <a:srgbClr val="000000"/>
                </a:solidFill>
                <a:latin typeface="Tw Cen MT"/>
              </a:rPr>
              <a:t>، المحافظة على التربة والبيئة.</a:t>
            </a:r>
            <a:endParaRPr b="0" lang="en-US" sz="2200" spc="-1" strike="noStrike">
              <a:solidFill>
                <a:srgbClr val="000000"/>
              </a:solidFill>
              <a:latin typeface="Tw Cen MT"/>
            </a:endParaRPr>
          </a:p>
          <a:p>
            <a:pPr marL="338760" indent="-3387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فمثلاً العائد الإقتصادي من إضافة الأسمدة سوف يعتمد على نوعية التربة وغيرها من العوامل. فوجود الإنتاج الحيواني وما يضيفة من سماد عضوي للتربة سوف يؤثر على إقتصاديات إضافة الأسمدة الكيماوية للتربة بطبيعة الحال، وعلى نفس المنوال سوف تؤثر نوعية المحصول على العائد من السماد حتى في نفس النوع من التربة حيث تختلف المحاصيل في درجات إستجابتها للتسميد وكذلك في قيمة العائد الإنتاجي فمثلاً قيمة الخضر والفاكهة أعلى بالمقارنة بالحبوب والأعلاف. فإنتاجية الأسمدة والعائد الإقتصادي من إضافتها يمكن مناقشتها في ظروف المزرعة ككل وليس في معزل على الموارد الإنتاجية الأخرى المستخدمة في الزراعة.</a:t>
            </a:r>
            <a:r>
              <a:rPr b="0" lang="en-US" sz="2200" spc="-1" strike="noStrike">
                <a:solidFill>
                  <a:srgbClr val="000000"/>
                </a:solidFill>
                <a:latin typeface="Tw Cen MT"/>
              </a:rPr>
              <a: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15:14:11Z</dcterms:created>
  <dc:creator>user</dc:creator>
  <dc:description/>
  <dc:language>en-US</dc:language>
  <cp:lastModifiedBy>A.E.C</cp:lastModifiedBy>
  <dcterms:modified xsi:type="dcterms:W3CDTF">2011-02-26T09:09:25Z</dcterms:modified>
  <cp:revision>54</cp:revision>
  <dc:subject/>
  <dc:title>مـحـــــاضـرات  فــي  إقتصــــاديات الإنـتــــــــاج الــــــزراعـي قصر 428</dc:title>
</cp:coreProperties>
</file>