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FC81-264D-42A7-A3D2-2103848F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DCA1-03E3-427F-BFD6-1E4BC838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5936-40BD-44B2-A90E-8AFDFEF1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73CA-B0CA-4060-AEC1-2E3AA368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4082-8CCC-400B-9BFB-B8E6F7DE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D1D2-5B78-4B54-9BD4-F682750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115-8273-4021-9F95-F8E55E7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1FA9-04EA-413A-B39F-0D09EC7C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3D76-B9BB-4D4F-B204-91B0F34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8E4-0D88-4897-9719-ADE26E9B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8AE-5378-4AF0-889D-62984FA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9273-A345-4EAB-8A4C-5D6FECE3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963-72F5-4DC8-922A-E406E6C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3BE8-3E42-4FE9-8A21-05BB841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8580-7F09-42EE-90DF-CB5FD579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34C0-30D9-40CA-B8E4-37926C00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8DE9-933F-4D11-BE57-E7D6A1BF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A94F-72FD-4853-91DE-3B6D4BCD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BCB0-DFD2-40DA-82C0-E8C47DAB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1A80-03CC-48A8-BB3D-50A97567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E702-EF34-4E5E-8FE3-C13258D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EB37-A7E9-46CA-9737-28E4705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2467-F710-4058-9B3B-0C2972A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729C-F730-4613-BE31-B32D4F8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6388-7D8B-43D5-878A-0EEFCB29C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7D7-3C56-4E48-B601-FF442C1DB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terilization and Disinfec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la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4" descr="#22 flame slide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t air ov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 consist of heater, o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sand, powder, metal,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al death point and Thermal death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0C for 6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0C for 3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ine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eating of an objects to heating over 250 until become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for use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ist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8" name="Organization Chart 7"/>
          <p:cNvGrpSpPr/>
          <p:nvPr/>
        </p:nvGrpSpPr>
        <p:grpSpPr>
          <a:xfrm>
            <a:off x="228600" y="1447920"/>
            <a:ext cx="8609760" cy="4951080"/>
            <a:chOff x="228600" y="1447920"/>
            <a:chExt cx="8609760" cy="4951080"/>
          </a:xfrm>
        </p:grpSpPr>
        <p:cxnSp>
          <p:nvCxnSpPr>
            <p:cNvPr id="559" name="_s4100"/>
            <p:cNvCxnSpPr>
              <a:stCxn id="560" idx="0"/>
              <a:endCxn id="561" idx="2"/>
            </p:cNvCxnSpPr>
            <p:nvPr/>
          </p:nvCxnSpPr>
          <p:spPr>
            <a:xfrm flipV="1" rot="16200000">
              <a:off x="5544720" y="2415960"/>
              <a:ext cx="990720" cy="3013920"/>
            </a:xfrm>
            <a:prstGeom prst="bentConnector3">
              <a:avLst>
                <a:gd name="adj1" fmla="val 126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2" name="_s4101"/>
            <p:cNvCxnSpPr>
              <a:stCxn id="563" idx="0"/>
              <a:endCxn id="561" idx="2"/>
            </p:cNvCxnSpPr>
            <p:nvPr/>
          </p:nvCxnSpPr>
          <p:spPr>
            <a:xfrm flipV="1">
              <a:off x="4533120" y="3427920"/>
              <a:ext cx="3240" cy="99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4" name="_s4102"/>
            <p:cNvCxnSpPr>
              <a:stCxn id="565" idx="0"/>
              <a:endCxn id="561" idx="2"/>
            </p:cNvCxnSpPr>
            <p:nvPr/>
          </p:nvCxnSpPr>
          <p:spPr>
            <a:xfrm flipH="1" flipV="1" rot="5400000">
              <a:off x="2531160" y="2416320"/>
              <a:ext cx="990720" cy="3013920"/>
            </a:xfrm>
            <a:prstGeom prst="bentConnector3">
              <a:avLst>
                <a:gd name="adj1" fmla="val 126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_s4103"/>
            <p:cNvSpPr/>
            <p:nvPr/>
          </p:nvSpPr>
          <p:spPr>
            <a:xfrm>
              <a:off x="3241800" y="144792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Moist heat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_s4104"/>
            <p:cNvSpPr/>
            <p:nvPr/>
          </p:nvSpPr>
          <p:spPr>
            <a:xfrm>
              <a:off x="22860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Less than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_s4105"/>
            <p:cNvSpPr/>
            <p:nvPr/>
          </p:nvSpPr>
          <p:spPr>
            <a:xfrm>
              <a:off x="324180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At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_s4106"/>
            <p:cNvSpPr/>
            <p:nvPr/>
          </p:nvSpPr>
          <p:spPr>
            <a:xfrm>
              <a:off x="625536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Above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ss than 100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eurization of mil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 method (65C for 30 m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method (72C for 20 se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 of vacc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heating at 56C for 30-6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t 100 C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m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exposure of the microbe to steam at 100C for 9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water is the most common form of application of moist heat but is not capable of killing endospores or killing all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00º C for 3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oiling plate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6840" y="1600200"/>
            <a:ext cx="48769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ure culture of a single microorganism is grown in a bro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 the plate into 6 parts 0,5,15,30,45,60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lture the org. on 0 p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the culture tube in water bath 100º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5 min culture org. in 5 part, and so on, until you complete 1 h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24 h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486400" y="1600200"/>
            <a:ext cx="3200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6095880" y="2514600"/>
            <a:ext cx="2514600" cy="26668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Straight Connector 5"/>
          <p:cNvSpPr/>
          <p:nvPr/>
        </p:nvSpPr>
        <p:spPr>
          <a:xfrm>
            <a:off x="731520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Straight Connector 7"/>
          <p:cNvSpPr/>
          <p:nvPr/>
        </p:nvSpPr>
        <p:spPr>
          <a:xfrm flipH="1">
            <a:off x="6463800" y="2905200"/>
            <a:ext cx="1778040" cy="18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Straight Connector 9"/>
          <p:cNvSpPr/>
          <p:nvPr/>
        </p:nvSpPr>
        <p:spPr>
          <a:xfrm>
            <a:off x="6464160" y="2905200"/>
            <a:ext cx="1778040" cy="18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74674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67816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2485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67816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74674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79246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ove 100C (Autoclaving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steam and pres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m is a hot air able to penetrate through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will rise the temperature from 100C to 121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st heat is more effective than dry heat at a given temperature or length of exposure. also more penetrating than dry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complete killing of bacteria, their spores, fungi and their spores, parasites and viruses including Envelop and non Envelop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death point and thermal death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1C for 15 - 2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lash autoclaving at 134C for 4-5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clave indica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indic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clave t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’s tube (diack tub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indicator: Spore strip (thermophilic organism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by radiation kills microbes by causing mutation to the cellular protein and disrupting cellular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radi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UV ( not a good sterilizing metho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onizing  , most medical disposables ( syringes, need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ing of an environment from all living microorganisms includes bacteria and their spores, fungi, parasites and vir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zation means germ free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zation occurs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by mechanical removal of pathogenic microorganism by passing through membrane filter. Unable to filter viruses according to their small s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re size is less than 0.45 µm(bacteria size 100-1 µ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sterilization of heat sensitive fluids like serum, glucose, urea, and Amino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isinfe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methods of ster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infe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removing of pathogenic microorganism or reducing their number on the exposed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destroy spores and some could not kill non envelop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sep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chemical agent that is applied to living tissue to kill micro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ctors affects disinfection action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disin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disinfec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micro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micro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expo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henolic group of disinfectant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henol crystal, Dittol, Lysol, Cres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 active, stable and persist for long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against G+ve, G-ve, Mycobacterium &amp;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cohol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: Anti-bacterial, saniti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ble to act and Evaporate, short period of tim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y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 violet and Eosine are very effective antisep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rface active agent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p and other detergent make mechanical remove of microbe by scrubbing of dead tissue so reduce their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C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re culture of a single microorganism is grown in a bro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timicrobial agent is diluted in a number of times, 1:1, through a sterile diluent (usually Mueller-Hinton broth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2 drops of the organism onto the antimicrobial di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ubate 24 hr in the incub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incubation, the dilution observe growth, The last tube in the dilution series that does not demonstrate growth corresponds with the minimum inhibitory concentration (MIC) of the antimicrobial ag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Organization Chart 6"/>
          <p:cNvGrpSpPr/>
          <p:nvPr/>
        </p:nvGrpSpPr>
        <p:grpSpPr>
          <a:xfrm>
            <a:off x="457200" y="380880"/>
            <a:ext cx="8228880" cy="5789520"/>
            <a:chOff x="457200" y="380880"/>
            <a:chExt cx="8228880" cy="5789520"/>
          </a:xfrm>
        </p:grpSpPr>
        <p:cxnSp>
          <p:nvCxnSpPr>
            <p:cNvPr id="518" name="_s1028"/>
            <p:cNvCxnSpPr>
              <a:stCxn id="519" idx="0"/>
              <a:endCxn id="520" idx="2"/>
            </p:cNvCxnSpPr>
            <p:nvPr/>
          </p:nvCxnSpPr>
          <p:spPr>
            <a:xfrm flipV="1" rot="16200000">
              <a:off x="5432400" y="1834920"/>
              <a:ext cx="1158480" cy="28807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1" name="_s1029"/>
            <p:cNvCxnSpPr>
              <a:stCxn id="522" idx="0"/>
              <a:endCxn id="520" idx="2"/>
            </p:cNvCxnSpPr>
            <p:nvPr/>
          </p:nvCxnSpPr>
          <p:spPr>
            <a:xfrm flipV="1">
              <a:off x="4571280" y="2696400"/>
              <a:ext cx="3240" cy="115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3" name="_s1030"/>
            <p:cNvCxnSpPr>
              <a:stCxn id="524" idx="0"/>
              <a:endCxn id="520" idx="2"/>
            </p:cNvCxnSpPr>
            <p:nvPr/>
          </p:nvCxnSpPr>
          <p:spPr>
            <a:xfrm flipH="1" flipV="1" rot="5400000">
              <a:off x="2552040" y="1835280"/>
              <a:ext cx="1158480" cy="28807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_s1031"/>
            <p:cNvSpPr/>
            <p:nvPr/>
          </p:nvSpPr>
          <p:spPr>
            <a:xfrm>
              <a:off x="3337200" y="38088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teriliz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ysical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1032"/>
            <p:cNvSpPr/>
            <p:nvPr/>
          </p:nvSpPr>
          <p:spPr>
            <a:xfrm>
              <a:off x="45720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ea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1033"/>
            <p:cNvSpPr/>
            <p:nvPr/>
          </p:nvSpPr>
          <p:spPr>
            <a:xfrm>
              <a:off x="333720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adi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1034"/>
            <p:cNvSpPr/>
            <p:nvPr/>
          </p:nvSpPr>
          <p:spPr>
            <a:xfrm>
              <a:off x="621756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ilter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9" name="Content Placeholder 5" descr="MIC.gif"/>
          <p:cNvPicPr/>
          <p:nvPr/>
        </p:nvPicPr>
        <p:blipFill>
          <a:blip r:embed="rId1"/>
          <a:stretch/>
        </p:blipFill>
        <p:spPr>
          <a:xfrm>
            <a:off x="1295280" y="1611360"/>
            <a:ext cx="6858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1" name="Content Placeholder 5" descr="Minimum_Inhibito_4d0868517fdca.jpg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hysical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of the objects to heat will kills microbes by coagulation of protein, denaturation of enzymes and oxid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through removing of microbes from fluids by exposing to small size filter. Used for heat sensitive fluids like serum, antibiotic, suger, and u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irradiation causes denaturation of proteins and enzy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rilization by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8" name="Organization Chart 6"/>
          <p:cNvGrpSpPr/>
          <p:nvPr/>
        </p:nvGrpSpPr>
        <p:grpSpPr>
          <a:xfrm>
            <a:off x="457200" y="1619280"/>
            <a:ext cx="8228520" cy="4494600"/>
            <a:chOff x="457200" y="1619280"/>
            <a:chExt cx="8228520" cy="4494600"/>
          </a:xfrm>
        </p:grpSpPr>
        <p:cxnSp>
          <p:nvCxnSpPr>
            <p:cNvPr id="529" name="_s2052"/>
            <p:cNvCxnSpPr>
              <a:stCxn id="530" idx="0"/>
              <a:endCxn id="531" idx="2"/>
            </p:cNvCxnSpPr>
            <p:nvPr/>
          </p:nvCxnSpPr>
          <p:spPr>
            <a:xfrm flipV="1" rot="16200000">
              <a:off x="5229360" y="275832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2" name="_s2053"/>
            <p:cNvCxnSpPr>
              <a:stCxn id="533" idx="0"/>
              <a:endCxn id="531" idx="2"/>
            </p:cNvCxnSpPr>
            <p:nvPr/>
          </p:nvCxnSpPr>
          <p:spPr>
            <a:xfrm flipH="1" flipV="1" rot="5400000">
              <a:off x="3013560" y="275832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1" name="_s2054"/>
            <p:cNvSpPr/>
            <p:nvPr/>
          </p:nvSpPr>
          <p:spPr>
            <a:xfrm>
              <a:off x="2673000" y="161928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dfdef6"/>
                  </a:solidFill>
                  <a:latin typeface="Arial"/>
                </a:rPr>
                <a:t>Heat</a:t>
              </a:r>
              <a:endParaRPr b="0" lang="en-US" sz="6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2055"/>
            <p:cNvSpPr/>
            <p:nvPr/>
          </p:nvSpPr>
          <p:spPr>
            <a:xfrm>
              <a:off x="457200" y="431604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Dry heat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2056"/>
            <p:cNvSpPr/>
            <p:nvPr/>
          </p:nvSpPr>
          <p:spPr>
            <a:xfrm>
              <a:off x="4888080" y="431604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Moist heat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ry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5" name="Organization Chart 6"/>
          <p:cNvGrpSpPr/>
          <p:nvPr/>
        </p:nvGrpSpPr>
        <p:grpSpPr>
          <a:xfrm>
            <a:off x="152280" y="1619280"/>
            <a:ext cx="8762760" cy="4627800"/>
            <a:chOff x="152280" y="1619280"/>
            <a:chExt cx="8762760" cy="4627800"/>
          </a:xfrm>
        </p:grpSpPr>
        <p:cxnSp>
          <p:nvCxnSpPr>
            <p:cNvPr id="536" name="_s3076"/>
            <p:cNvCxnSpPr>
              <a:stCxn id="537" idx="0"/>
              <a:endCxn id="538" idx="2"/>
            </p:cNvCxnSpPr>
            <p:nvPr/>
          </p:nvCxnSpPr>
          <p:spPr>
            <a:xfrm flipV="1" rot="16200000">
              <a:off x="5774040" y="2228760"/>
              <a:ext cx="926280" cy="34081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9" name="_s3077"/>
            <p:cNvCxnSpPr>
              <a:stCxn id="540" idx="0"/>
              <a:endCxn id="538" idx="2"/>
            </p:cNvCxnSpPr>
            <p:nvPr/>
          </p:nvCxnSpPr>
          <p:spPr>
            <a:xfrm flipV="1" rot="16200000">
              <a:off x="4638240" y="3364560"/>
              <a:ext cx="926280" cy="11361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1" name="_s3078"/>
            <p:cNvCxnSpPr>
              <a:stCxn id="542" idx="0"/>
              <a:endCxn id="538" idx="2"/>
            </p:cNvCxnSpPr>
            <p:nvPr/>
          </p:nvCxnSpPr>
          <p:spPr>
            <a:xfrm flipH="1" flipV="1" rot="5400000">
              <a:off x="3502800" y="3364560"/>
              <a:ext cx="926280" cy="113688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3" name="_s3079"/>
            <p:cNvCxnSpPr>
              <a:stCxn id="544" idx="0"/>
              <a:endCxn id="538" idx="2"/>
            </p:cNvCxnSpPr>
            <p:nvPr/>
          </p:nvCxnSpPr>
          <p:spPr>
            <a:xfrm flipH="1" flipV="1" rot="5400000">
              <a:off x="2366640" y="2228760"/>
              <a:ext cx="926280" cy="340848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8" name="_s3080"/>
            <p:cNvSpPr/>
            <p:nvPr/>
          </p:nvSpPr>
          <p:spPr>
            <a:xfrm>
              <a:off x="3560040" y="161928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ry hea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3081"/>
            <p:cNvSpPr/>
            <p:nvPr/>
          </p:nvSpPr>
          <p:spPr>
            <a:xfrm>
              <a:off x="15228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ed ho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3082"/>
            <p:cNvSpPr/>
            <p:nvPr/>
          </p:nvSpPr>
          <p:spPr>
            <a:xfrm>
              <a:off x="242388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lam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3083"/>
            <p:cNvSpPr/>
            <p:nvPr/>
          </p:nvSpPr>
          <p:spPr>
            <a:xfrm>
              <a:off x="469584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ot air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3084"/>
            <p:cNvSpPr/>
            <p:nvPr/>
          </p:nvSpPr>
          <p:spPr>
            <a:xfrm>
              <a:off x="696780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cine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d h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of wires and forceps to the Bunsen flame until it becomes red hot, then cool down and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loop, forceps, and metal r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la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passing of an objects to the Bunsen flame will reduce the number of micro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sterilization of the mouth of bottle, flasks, containers and test tubes, smear slides etc,,,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ola</dc:creator>
  <dc:description/>
  <dc:language>en-US</dc:language>
  <cp:lastModifiedBy>ksu</cp:lastModifiedBy>
  <dcterms:modified xsi:type="dcterms:W3CDTF">2012-03-19T07:50:12Z</dcterms:modified>
  <cp:revision>2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