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B5CD-371F-4D0D-9E78-381A7C16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06D0-AA20-4F13-949D-7D4853A1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0713-8A83-4D3F-9565-D15314A5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1AB7-EFE5-4F3E-9509-AA812729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0D98-2C94-435A-84F1-557C278D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C3F9-88B9-44C7-B11E-1B5C308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260-E1F0-4F6F-A37B-627019B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67F-87CB-49E1-B1C5-3B681F6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E3C0-B64E-4928-A15B-D94034F8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6E28-B6F0-4B5C-B3D6-591371E9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08C4-29B3-453B-932E-9610BE3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67B2-A7FD-4145-AC8D-0856F489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128-9B33-4F8F-94D3-97F2348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B5A-1B39-4AEF-8844-726B03E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C4F-849B-40B5-875F-EC057544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475E-D334-4B9E-85A7-E100158B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3F90-2D5B-4EBE-BF65-16B9869D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16F4-BB3D-43B2-A1BF-5FF6EB6F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131B-89CD-4DAA-A190-DC4F324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2382-5235-45F7-A535-F4F90E2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FFEB-A38B-4E01-9CF9-669286FB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00D5-3E43-4790-BE2C-FA0BCA5E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D84C-28EA-4933-8CCF-5D3047D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9E03-A9A9-490F-9BE9-62278D39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BA9-B1D0-4203-8C47-9320000F9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83BB-9B61-47A3-8F3F-CFF6EB9B5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Sterilization and Disinfec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lam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4" descr="#22 flame slide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t air ove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s consist of heater, o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sand, powder, metal, g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mal death point and Thermal death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0C for 60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0C for 30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cine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eating of an objects to heating over 250 until become bl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for use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ist he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58" name="Organization Chart 7"/>
          <p:cNvGrpSpPr/>
          <p:nvPr/>
        </p:nvGrpSpPr>
        <p:grpSpPr>
          <a:xfrm>
            <a:off x="228600" y="1447920"/>
            <a:ext cx="8609760" cy="4951080"/>
            <a:chOff x="228600" y="1447920"/>
            <a:chExt cx="8609760" cy="4951080"/>
          </a:xfrm>
        </p:grpSpPr>
        <p:cxnSp>
          <p:nvCxnSpPr>
            <p:cNvPr id="559" name="_s4100"/>
            <p:cNvCxnSpPr>
              <a:stCxn id="560" idx="0"/>
              <a:endCxn id="561" idx="2"/>
            </p:cNvCxnSpPr>
            <p:nvPr/>
          </p:nvCxnSpPr>
          <p:spPr>
            <a:xfrm flipV="1" rot="16200000">
              <a:off x="5544720" y="2415960"/>
              <a:ext cx="990720" cy="3013920"/>
            </a:xfrm>
            <a:prstGeom prst="bentConnector3">
              <a:avLst>
                <a:gd name="adj1" fmla="val 126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2" name="_s4101"/>
            <p:cNvCxnSpPr>
              <a:stCxn id="563" idx="0"/>
              <a:endCxn id="561" idx="2"/>
            </p:cNvCxnSpPr>
            <p:nvPr/>
          </p:nvCxnSpPr>
          <p:spPr>
            <a:xfrm flipV="1">
              <a:off x="4533120" y="3427920"/>
              <a:ext cx="3240" cy="990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4" name="_s4102"/>
            <p:cNvCxnSpPr>
              <a:stCxn id="565" idx="0"/>
              <a:endCxn id="561" idx="2"/>
            </p:cNvCxnSpPr>
            <p:nvPr/>
          </p:nvCxnSpPr>
          <p:spPr>
            <a:xfrm flipH="1" flipV="1" rot="5400000">
              <a:off x="2531160" y="2416320"/>
              <a:ext cx="990720" cy="3013920"/>
            </a:xfrm>
            <a:prstGeom prst="bentConnector3">
              <a:avLst>
                <a:gd name="adj1" fmla="val 126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_s4103"/>
            <p:cNvSpPr/>
            <p:nvPr/>
          </p:nvSpPr>
          <p:spPr>
            <a:xfrm>
              <a:off x="3241800" y="144792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ff"/>
                  </a:solidFill>
                  <a:latin typeface="Arial"/>
                </a:rPr>
                <a:t>Moist heat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_s4104"/>
            <p:cNvSpPr/>
            <p:nvPr/>
          </p:nvSpPr>
          <p:spPr>
            <a:xfrm>
              <a:off x="228600" y="441864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Less than 100C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_s4105"/>
            <p:cNvSpPr/>
            <p:nvPr/>
          </p:nvSpPr>
          <p:spPr>
            <a:xfrm>
              <a:off x="3241800" y="441864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At 100C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_s4106"/>
            <p:cNvSpPr/>
            <p:nvPr/>
          </p:nvSpPr>
          <p:spPr>
            <a:xfrm>
              <a:off x="6255360" y="4418640"/>
              <a:ext cx="2583000" cy="1980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Arial"/>
                </a:rPr>
                <a:t>Above 100C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ss than 100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teurization of mil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 method (65C for 30 m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method (72C for 20 se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 of vacc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heating at 56C for 30-60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t 100 C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m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exposure of the microbe to steam at 100C for 9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iling water is the most common form of application of moist heat but is not capable of killing endospores or killing all vir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100º C for 3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oiling plate t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6840" y="1600200"/>
            <a:ext cx="48769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ure culture of a single microorganism is grown in a bro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 the plate into 6 parts 0,5,15,30,45,60 m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lture the org. on 0 p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the culture tube in water bath 100º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5 min culture org. in 5 part, and so on, until you complete 1 h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24 h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486400" y="1600200"/>
            <a:ext cx="3200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3"/>
          <p:cNvSpPr/>
          <p:nvPr/>
        </p:nvSpPr>
        <p:spPr>
          <a:xfrm>
            <a:off x="6095880" y="2514600"/>
            <a:ext cx="2514600" cy="26668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Straight Connector 5"/>
          <p:cNvSpPr/>
          <p:nvPr/>
        </p:nvSpPr>
        <p:spPr>
          <a:xfrm>
            <a:off x="731520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Straight Connector 7"/>
          <p:cNvSpPr/>
          <p:nvPr/>
        </p:nvSpPr>
        <p:spPr>
          <a:xfrm flipH="1">
            <a:off x="6463800" y="2905200"/>
            <a:ext cx="1778040" cy="18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Straight Connector 9"/>
          <p:cNvSpPr/>
          <p:nvPr/>
        </p:nvSpPr>
        <p:spPr>
          <a:xfrm>
            <a:off x="6464160" y="2905200"/>
            <a:ext cx="1778040" cy="18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74674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67816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2485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67816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74674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79246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4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bove 100C (Autoclaving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steam and pres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m is a hot air able to penetrate through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will rise the temperature from 100C to 121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ist heat is more effective than dry heat at a given temperature or length of exposure. also more penetrating than dry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complete killing of bacteria, their spores, fungi and their spores, parasites and viruses including Envelop and non Envelop vir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death point and thermal death t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1C for 15 - 20 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lash autoclaving at 134C for 4-5m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clave indica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indic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clave ta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’s tube (diack tub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 indicator: Spore strip (thermophilic organism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ilization by radiation kills microbes by causing mutation to the cellular protein and disrupting cellular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radi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UV ( not a good sterilizing metho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Ionizing  , most medical disposables ( syringes, need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ing of an environment from all living microorganisms includes bacteria and their spores, fungi, parasites and vir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ilization means germ free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ilization occurs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eth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lt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ilization by mechanical removal of pathogenic microorganism by passing through membrane filter. Unable to filter viruses according to their small s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re size is less than 0.45 µm(bacteria size 100-1 µ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sterilization of heat sensitive fluids like serum, glucose, urea, and Amino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isinfe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methods of ster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infe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removing of pathogenic microorganism or reducing their number on the exposed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destroy spores and some could not kill non envelop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tisep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chemical agent that is applied to living tissue to kill micro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ctors affects disinfection action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disinf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of disinfec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microorga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microorga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of expo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henolic group of disinfectant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: Phenol crystal, Dittol, Lysol, Cres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 active, stable and persist for long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against G+ve, G-ve, Mycobacterium &amp;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lcohol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: Anti-bacterial, sanitiz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ble to act and Evaporate, short period of time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ye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 violet and Eosine are very effective antisep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urface active agent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p and other detergent make mechanical remove of microbe by scrubbing of dead tissue so reduce their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IC t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ure culture of a single microorganism is grown in a bro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timicrobial agent is diluted in a number of times, 1:1, through a sterile diluent (usually Mueller-Hinton broth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2 drops of the organism onto the antimicrobial di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ubate 24 hr in the incub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incubation, the dilution observe growth, The last tube in the dilution series that does not demonstrate growth corresponds with the minimum inhibitory concentration (MIC) of the antimicrobial ag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Organization Chart 6"/>
          <p:cNvGrpSpPr/>
          <p:nvPr/>
        </p:nvGrpSpPr>
        <p:grpSpPr>
          <a:xfrm>
            <a:off x="457200" y="380880"/>
            <a:ext cx="8228880" cy="5789520"/>
            <a:chOff x="457200" y="380880"/>
            <a:chExt cx="8228880" cy="5789520"/>
          </a:xfrm>
        </p:grpSpPr>
        <p:cxnSp>
          <p:nvCxnSpPr>
            <p:cNvPr id="518" name="_s1028"/>
            <p:cNvCxnSpPr>
              <a:stCxn id="519" idx="0"/>
              <a:endCxn id="520" idx="2"/>
            </p:cNvCxnSpPr>
            <p:nvPr/>
          </p:nvCxnSpPr>
          <p:spPr>
            <a:xfrm flipV="1" rot="16200000">
              <a:off x="5432400" y="1834920"/>
              <a:ext cx="1158480" cy="28807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1" name="_s1029"/>
            <p:cNvCxnSpPr>
              <a:stCxn id="522" idx="0"/>
              <a:endCxn id="520" idx="2"/>
            </p:cNvCxnSpPr>
            <p:nvPr/>
          </p:nvCxnSpPr>
          <p:spPr>
            <a:xfrm flipV="1">
              <a:off x="4571280" y="2696400"/>
              <a:ext cx="3240" cy="115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3" name="_s1030"/>
            <p:cNvCxnSpPr>
              <a:stCxn id="524" idx="0"/>
              <a:endCxn id="520" idx="2"/>
            </p:cNvCxnSpPr>
            <p:nvPr/>
          </p:nvCxnSpPr>
          <p:spPr>
            <a:xfrm flipH="1" flipV="1" rot="5400000">
              <a:off x="2552040" y="1835280"/>
              <a:ext cx="1158480" cy="28807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_s1031"/>
            <p:cNvSpPr/>
            <p:nvPr/>
          </p:nvSpPr>
          <p:spPr>
            <a:xfrm>
              <a:off x="3337200" y="38088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teriliz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Physical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ethods</a:t>
              </a: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1032"/>
            <p:cNvSpPr/>
            <p:nvPr/>
          </p:nvSpPr>
          <p:spPr>
            <a:xfrm>
              <a:off x="457200" y="385452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ea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1033"/>
            <p:cNvSpPr/>
            <p:nvPr/>
          </p:nvSpPr>
          <p:spPr>
            <a:xfrm>
              <a:off x="3337200" y="385452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adi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1034"/>
            <p:cNvSpPr/>
            <p:nvPr/>
          </p:nvSpPr>
          <p:spPr>
            <a:xfrm>
              <a:off x="6217560" y="3854520"/>
              <a:ext cx="2468520" cy="2315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ilteratio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9" name="Content Placeholder 5" descr="MIC.gif"/>
          <p:cNvPicPr/>
          <p:nvPr/>
        </p:nvPicPr>
        <p:blipFill>
          <a:blip r:embed="rId1"/>
          <a:stretch/>
        </p:blipFill>
        <p:spPr>
          <a:xfrm>
            <a:off x="1295280" y="1611360"/>
            <a:ext cx="6858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1" name="Content Placeholder 5" descr="Minimum_Inhibito_4d0868517fdca.jpg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hysical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of the objects to heat will kills microbes by coagulation of protein, denaturation of enzymes and oxid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t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ilization through removing of microbes from fluids by exposing to small size filter. Used for heat sensitive fluids like serum, antibiotic, suger, and u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irradiation causes denaturation of proteins and enzy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rilization by he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8" name="Organization Chart 6"/>
          <p:cNvGrpSpPr/>
          <p:nvPr/>
        </p:nvGrpSpPr>
        <p:grpSpPr>
          <a:xfrm>
            <a:off x="457200" y="1619280"/>
            <a:ext cx="8228520" cy="4494600"/>
            <a:chOff x="457200" y="1619280"/>
            <a:chExt cx="8228520" cy="4494600"/>
          </a:xfrm>
        </p:grpSpPr>
        <p:cxnSp>
          <p:nvCxnSpPr>
            <p:cNvPr id="529" name="_s2052"/>
            <p:cNvCxnSpPr>
              <a:stCxn id="530" idx="0"/>
              <a:endCxn id="531" idx="2"/>
            </p:cNvCxnSpPr>
            <p:nvPr/>
          </p:nvCxnSpPr>
          <p:spPr>
            <a:xfrm flipV="1" rot="16200000">
              <a:off x="5229360" y="275832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2" name="_s2053"/>
            <p:cNvCxnSpPr>
              <a:stCxn id="533" idx="0"/>
              <a:endCxn id="531" idx="2"/>
            </p:cNvCxnSpPr>
            <p:nvPr/>
          </p:nvCxnSpPr>
          <p:spPr>
            <a:xfrm flipH="1" flipV="1" rot="5400000">
              <a:off x="3013560" y="275832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1" name="_s2054"/>
            <p:cNvSpPr/>
            <p:nvPr/>
          </p:nvSpPr>
          <p:spPr>
            <a:xfrm>
              <a:off x="2673000" y="161928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900" spc="-1" strike="noStrike">
                  <a:solidFill>
                    <a:srgbClr val="dfdef6"/>
                  </a:solidFill>
                  <a:latin typeface="Arial"/>
                </a:rPr>
                <a:t>Heat</a:t>
              </a:r>
              <a:endParaRPr b="0" lang="en-US" sz="6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2055"/>
            <p:cNvSpPr/>
            <p:nvPr/>
          </p:nvSpPr>
          <p:spPr>
            <a:xfrm>
              <a:off x="457200" y="431604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Dry heat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2056"/>
            <p:cNvSpPr/>
            <p:nvPr/>
          </p:nvSpPr>
          <p:spPr>
            <a:xfrm>
              <a:off x="4888080" y="431604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Moist heat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ry he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5" name="Organization Chart 6"/>
          <p:cNvGrpSpPr/>
          <p:nvPr/>
        </p:nvGrpSpPr>
        <p:grpSpPr>
          <a:xfrm>
            <a:off x="152280" y="1619280"/>
            <a:ext cx="8762760" cy="4627800"/>
            <a:chOff x="152280" y="1619280"/>
            <a:chExt cx="8762760" cy="4627800"/>
          </a:xfrm>
        </p:grpSpPr>
        <p:cxnSp>
          <p:nvCxnSpPr>
            <p:cNvPr id="536" name="_s3076"/>
            <p:cNvCxnSpPr>
              <a:stCxn id="537" idx="0"/>
              <a:endCxn id="538" idx="2"/>
            </p:cNvCxnSpPr>
            <p:nvPr/>
          </p:nvCxnSpPr>
          <p:spPr>
            <a:xfrm flipV="1" rot="16200000">
              <a:off x="5774040" y="2228760"/>
              <a:ext cx="926280" cy="34081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9" name="_s3077"/>
            <p:cNvCxnSpPr>
              <a:stCxn id="540" idx="0"/>
              <a:endCxn id="538" idx="2"/>
            </p:cNvCxnSpPr>
            <p:nvPr/>
          </p:nvCxnSpPr>
          <p:spPr>
            <a:xfrm flipV="1" rot="16200000">
              <a:off x="4638240" y="3364560"/>
              <a:ext cx="926280" cy="113616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1" name="_s3078"/>
            <p:cNvCxnSpPr>
              <a:stCxn id="542" idx="0"/>
              <a:endCxn id="538" idx="2"/>
            </p:cNvCxnSpPr>
            <p:nvPr/>
          </p:nvCxnSpPr>
          <p:spPr>
            <a:xfrm flipH="1" flipV="1" rot="5400000">
              <a:off x="3502800" y="3364560"/>
              <a:ext cx="926280" cy="113688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3" name="_s3079"/>
            <p:cNvCxnSpPr>
              <a:stCxn id="544" idx="0"/>
              <a:endCxn id="538" idx="2"/>
            </p:cNvCxnSpPr>
            <p:nvPr/>
          </p:nvCxnSpPr>
          <p:spPr>
            <a:xfrm flipH="1" flipV="1" rot="5400000">
              <a:off x="2366640" y="2228760"/>
              <a:ext cx="926280" cy="340848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8" name="_s3080"/>
            <p:cNvSpPr/>
            <p:nvPr/>
          </p:nvSpPr>
          <p:spPr>
            <a:xfrm>
              <a:off x="3560040" y="161928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ry hea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3081"/>
            <p:cNvSpPr/>
            <p:nvPr/>
          </p:nvSpPr>
          <p:spPr>
            <a:xfrm>
              <a:off x="15228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Red ho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3082"/>
            <p:cNvSpPr/>
            <p:nvPr/>
          </p:nvSpPr>
          <p:spPr>
            <a:xfrm>
              <a:off x="242388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Flam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3083"/>
            <p:cNvSpPr/>
            <p:nvPr/>
          </p:nvSpPr>
          <p:spPr>
            <a:xfrm>
              <a:off x="469584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Hot air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3084"/>
            <p:cNvSpPr/>
            <p:nvPr/>
          </p:nvSpPr>
          <p:spPr>
            <a:xfrm>
              <a:off x="6967800" y="4395960"/>
              <a:ext cx="1947240" cy="18511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cinera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6" name="Content Placeholder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d ho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ure of wires and forceps to the Bunsen flame until it becomes red hot, then cool down and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loop, forceps, and metal r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lam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ly passing of an objects to the Bunsen flame will reduce the number of microorganis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for sterilization of the mouth of bottle, flasks, containers and test tubes, smear slides etc,,,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ola</dc:creator>
  <dc:description/>
  <dc:language>en-US</dc:language>
  <cp:lastModifiedBy>ksu</cp:lastModifiedBy>
  <dcterms:modified xsi:type="dcterms:W3CDTF">2012-03-19T07:50:12Z</dcterms:modified>
  <cp:revision>2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