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E967-A243-42A5-A08C-B3E982090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CA4E-0154-4544-8D31-5C9FD26B0C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63D-4EDB-4489-94C0-7EF37C46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E67-BF02-4AB7-8B3F-224556B3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505-95C7-4711-82E8-EFB4795F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9B0-A387-48D4-94A8-2E194245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EC39-E4DA-41B6-BBEB-89BE9E42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C73F-71FB-453C-B1D4-C712D130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FE98-FDC6-4848-BE00-E14F4A93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A811-EA6C-47B4-B233-7BA07DEC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9784-5253-4071-BD62-548C6A8C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788E-F296-4E09-A04E-4D9EA50E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1415-9D7E-42C6-B5E1-835B000E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26C-3E74-4622-89BF-CC01577F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3D08-D706-4DB2-ABF7-9272DCCF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247A-B884-48E6-8DC2-7CB0B8AA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25E4-43D9-4FB3-8AE0-9B0568A6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0770-2E7E-4657-9997-254C4BE5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86B9-137B-4F29-9193-0578B7D1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6BFD4-DBC1-4F24-9D92-5DC470F3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B7D3-656F-4E00-9636-C4777F2E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40820-F992-4DA0-B19C-AE5CCC37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22080-3292-4860-A3F3-0A612690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A445-A9FF-4B9A-803A-FCC6AE99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ED61-9314-4D0D-ACDB-0BF2CBD9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1DE75-D8EB-455D-A315-2581D8DE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DC33-7B98-4E3C-9498-94786080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3B98-D789-4BAC-9F3C-1C47652B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54FE-2B8F-4C4B-A842-1D79FA40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A0D17-D4FC-472D-A1D3-A02B348E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699A3-E209-42C2-AB1F-D577113A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772C-D0D8-4B79-97A0-F5590A47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F8995-C9AF-441E-8E94-F528476A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4A8B9-43FD-433C-BC06-28732E6A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2B3A5-59D6-4342-BE62-4A7FDA50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E86-AC68-47A7-9290-DD5ABD70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A4CE8-0878-4D2E-8183-CE8BC3B7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0C80E-5CA3-4402-9ECD-EF0D4E3A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BCAF8-D82C-4FF7-92A2-9745839E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647FC-C862-4661-83FC-5C2AE48A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F5DB0-088B-4C99-908E-ADF3B784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61C87-AF43-43F0-82D7-5D4AEED0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7990-EBA2-4438-AD2E-241EF9F8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7EEBF-A7B9-4562-84B6-DDB8B847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C70E5-8976-4F8C-AA0C-6569F02A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C3647-0F67-4A8C-8B8D-968520E4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6CC-622F-4B71-99A5-45E0A73D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6F820-EEA0-40F8-8711-FB9D4D5C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0D7C8-6E12-49FA-A0F4-7BAC7DC1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694E8-BC21-405F-ADF0-D00BAB48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172A4-2795-4F86-92FC-8C15EB03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A1DE7-6784-4E3A-9CDD-5534A718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92766-A66F-4F56-ABA2-E5184DC6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EF022-FD4A-4BF9-BB2C-C33E81D0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D6123-6CFD-4F46-8CEB-4ABC174B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CEDD0-4239-41AB-98A0-D6CF93FB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698CA-9A32-4080-BFDD-B40FFBC2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5BE-789B-450A-9AB4-2046A1BE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04792-8AEF-4193-8AF8-EE3AC221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CFEE9-2F56-433B-B7BD-496E5BA8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EE9F5-7DD6-4A1F-A8C6-02932354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EBD13-0BBF-4846-AEE7-2F7F67EB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CB952-7C14-4D27-B1E7-387C5FEE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4B694-CCA1-49D1-AD28-CAE3E760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DE0E8-4E98-46E2-BB3C-5A266943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6BF2B-1CCB-4B47-9257-5DA4979F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C81AF-4681-45B5-B3FD-DD3A453D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6B287-2F0F-4394-A7B7-4020ACFF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C2C-F16E-4E03-B942-34E01A19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97350-A5AE-442E-8FFA-2C85C261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F7A58-DD57-4352-9B55-951DCE71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F98B2-5779-4490-A743-364B3941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794CD-2BDA-4CD7-BA05-E3A23F70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591AE-18AB-4848-819A-02BBEB37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D4D25-3989-4E91-B2D7-5BE0D66D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25CE8-2348-4329-9909-FC36BA9C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8BC18-1FB8-4B6F-BB36-A0EDF73F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9790A-E4FD-4CD7-B762-98071E2A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72472-200C-463C-ADEB-51028311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09F-9A39-43EA-AEEA-A093ACE0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F7F5B-4546-4F3C-9552-87D1C3C2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4E26B-8652-4294-8A66-93E0E2BC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A13C4-837F-4AD9-9051-FEBCA56A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79BD0-7530-4D37-BBBB-AFB4A6C6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D4D28-4331-429B-B71B-3A33B00E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692-5AF1-47F4-9459-89CB8E81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07CE-52C9-4F33-BD22-39EFD806D1D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BE4F-29AF-41BC-B502-F10159BC2AD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2AF4-A55F-47D5-9435-CEDF24B4106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657E-0F2F-451B-A95A-D568945DC8D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B082-F6C9-4CF4-927A-828A8395780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0C53-BCCE-4960-9903-713D5E27483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3AD8-FAFE-4A5B-82F4-29C42E60326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3181320"/>
            <a:ext cx="7785360" cy="31464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http://tbn0.google.com/images?q=tbn:aUqZYfHrzTPN8M:http://www.origen.net/Images/DMSO.A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ersonn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Carefully train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Who will prepare? Pharmacist or technici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roper training in aseptic technique and sterile product information is necessa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4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Storage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Will depend on the type of system one chooses to u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alculations involving 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V admixtur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medication order for  a patient weighing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kg calls fo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of amphotericin B per kg of body weight to be added to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of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dextrose injection. If the amphotericin B is to be obtained from a reconstituted injection that contain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p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, how many milliliters should be added to the dextrose injection?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0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48560" y="92160"/>
            <a:ext cx="2597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otal quantity needed for the patient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 x 70 = 17.5 m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Reconstituted solution conta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p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                                            10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                                         X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3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  <p:cxnSp>
        <p:nvCxnSpPr>
          <p:cNvPr id="414" name="Straight Arrow Connector 5"/>
          <p:cNvCxnSpPr/>
          <p:nvPr/>
        </p:nvCxnSpPr>
        <p:spPr>
          <a:xfrm>
            <a:off x="3071880" y="4214880"/>
            <a:ext cx="228672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15" name="Straight Arrow Connector 7"/>
          <p:cNvCxnSpPr/>
          <p:nvPr/>
        </p:nvCxnSpPr>
        <p:spPr>
          <a:xfrm>
            <a:off x="3071880" y="5214960"/>
            <a:ext cx="228672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intravenous infusion is to contai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potassium ion a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sodium ion in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of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dextrose injection. Using an injection of potassium chloride containing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p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a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injection of sodium chloride, how many milliliters of each should be used to supply the required ion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be suppli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suppli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NaC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4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17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g 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18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18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                                             X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59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803320"/>
          </a:xfrm>
          <a:prstGeom prst="rect">
            <a:avLst/>
          </a:prstGeom>
          <a:ln w="0">
            <a:noFill/>
          </a:ln>
        </p:spPr>
      </p:pic>
      <p:cxnSp>
        <p:nvCxnSpPr>
          <p:cNvPr id="422" name="Straight Arrow Connector 6"/>
          <p:cNvCxnSpPr/>
          <p:nvPr/>
        </p:nvCxnSpPr>
        <p:spPr>
          <a:xfrm>
            <a:off x="2642760" y="3929040"/>
            <a:ext cx="214380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3" name="Straight Arrow Connector 7"/>
          <p:cNvCxnSpPr/>
          <p:nvPr/>
        </p:nvCxnSpPr>
        <p:spPr>
          <a:xfrm>
            <a:off x="2642760" y="4428720"/>
            <a:ext cx="214380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mEq of NaCl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8.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NaCl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7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o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7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7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                                     X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426" name="Straight Arrow Connector 4"/>
          <p:cNvCxnSpPr/>
          <p:nvPr/>
        </p:nvCxnSpPr>
        <p:spPr>
          <a:xfrm>
            <a:off x="3071880" y="3785760"/>
            <a:ext cx="171504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7" name="Straight Arrow Connector 7"/>
          <p:cNvCxnSpPr/>
          <p:nvPr/>
        </p:nvCxnSpPr>
        <p:spPr>
          <a:xfrm>
            <a:off x="3071880" y="4285800"/>
            <a:ext cx="171504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pic>
        <p:nvPicPr>
          <p:cNvPr id="42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57176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e following is a formula for a desired TPN solution. Using the source of each drug as indicated, Calculate the amount of each component required in preparing solution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PN solu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rmula                                       Component Source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a) Sodium Chloride 35 mEq                                   Vial, 5 mEq per 2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b) Potassium Acetate 35 mEq                               Vial, 10 mEq pre 5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) Magnesium Sulphate 8 mEq                            Vial, 4 mEq per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d) Calcium Gluconte 9.6 mEq                               Vial, 4.7 mEq per 1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E) Potassium Chloride 5 mEq                               Vial, 40 mEq per 2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f) Folic Acid 1.7 mg                                                    Ampul, 5 mg  per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g) Multple vitamin infusion 10 ml                       Ampul, 1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To be added to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Amino Acid Infusion (8.5 %)                            50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Dextrose injection (50 %)                                 50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7146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c)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14 ml.                                    X= 2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b)                                                  (d)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17.5 ml                                   X= 20.4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f)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2.5 ml                                      X= 0.34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g) 10 ml.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2" descr="http://tbn0.google.com/images?q=tbn:aUqZYfHrzTPN8M:http://www.origen.net/Images/DMSO.All.jpg"/>
          <p:cNvPicPr/>
          <p:nvPr/>
        </p:nvPicPr>
        <p:blipFill>
          <a:blip r:embed="rId1"/>
          <a:stretch/>
        </p:blipFill>
        <p:spPr>
          <a:xfrm>
            <a:off x="6510240" y="92160"/>
            <a:ext cx="2597400" cy="22176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6" name="Picture 1" descr=""/>
          <p:cNvPicPr/>
          <p:nvPr/>
        </p:nvPicPr>
        <p:blipFill>
          <a:blip r:embed="rId2"/>
          <a:stretch/>
        </p:blipFill>
        <p:spPr>
          <a:xfrm>
            <a:off x="1714680" y="2000160"/>
            <a:ext cx="2000160" cy="6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7" name="Rectangle 3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3"/>
          <a:stretch/>
        </p:blipFill>
        <p:spPr>
          <a:xfrm>
            <a:off x="1643040" y="3571920"/>
            <a:ext cx="1895400" cy="60948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1" name="Picture 6" descr=""/>
          <p:cNvPicPr/>
          <p:nvPr/>
        </p:nvPicPr>
        <p:blipFill>
          <a:blip r:embed="rId4"/>
          <a:stretch/>
        </p:blipFill>
        <p:spPr>
          <a:xfrm>
            <a:off x="5357880" y="2071800"/>
            <a:ext cx="1771560" cy="6094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3" name="Picture 8" descr=""/>
          <p:cNvPicPr/>
          <p:nvPr/>
        </p:nvPicPr>
        <p:blipFill>
          <a:blip r:embed="rId5"/>
          <a:stretch/>
        </p:blipFill>
        <p:spPr>
          <a:xfrm>
            <a:off x="5429160" y="3571920"/>
            <a:ext cx="2067120" cy="6094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5" name="Picture 10" descr=""/>
          <p:cNvPicPr/>
          <p:nvPr/>
        </p:nvPicPr>
        <p:blipFill>
          <a:blip r:embed="rId6"/>
          <a:stretch/>
        </p:blipFill>
        <p:spPr>
          <a:xfrm>
            <a:off x="1571760" y="4857840"/>
            <a:ext cx="201924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7" name="Picture 12" descr=""/>
          <p:cNvPicPr/>
          <p:nvPr/>
        </p:nvPicPr>
        <p:blipFill>
          <a:blip r:embed="rId7"/>
          <a:stretch/>
        </p:blipFill>
        <p:spPr>
          <a:xfrm>
            <a:off x="5500800" y="4857840"/>
            <a:ext cx="1942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 medication order calls for 1000 ml of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rbe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 to be administered over an 8-hour period. Using an IV administration set which delivers 10 drops per ml, how many drops per minute should be delivered to the patient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l.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Volume of fluid = 1000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8 hour =  480 minut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000/ 480  = 2.1 ml per mi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2.1 ml/min x 10 (drops per ml) = 21 drops/minut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0" name="Picture 2" descr="http://tbn0.google.com/images?q=tbn:aUqZYfHrzTPN8M:http://www.origen.net/Images/DMSO.All.jpg"/>
          <p:cNvPicPr/>
          <p:nvPr/>
        </p:nvPicPr>
        <p:blipFill>
          <a:blip r:embed="rId1"/>
          <a:stretch/>
        </p:blipFill>
        <p:spPr>
          <a:xfrm>
            <a:off x="6510240" y="92160"/>
            <a:ext cx="2597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roduction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92852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preparation of parenteral admixture usually involves the addition of one or more drugs to large volume solutions such as intravenous and nutrients fluid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3716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End,,,,,,,,,,,,,,,,,,,,,,,,,,,,,,,,,,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roduction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reparation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olici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ersonn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Storage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Admixture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’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reparation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Ideally in separate room in the pharmacy “clean room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Size va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uidelines for preparing parenteral products should be outlines in the pharmacy’s policy and procedure manu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etailed information regarding preparation, labeling, storage and expiration dating of parenteral products should be readily available in the pharmac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se policy help to provide quality control for the parenteral product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tabil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ut in your mind that stability is affected by place, environmental condition, diluent used to administer the product, other drugs that may be mixed wi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bility and sterility! Gives the expiration d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785880"/>
            <a:ext cx="2547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incompatibi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hysical: visible change e.g. precipit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emical: may or not visible change, deterioration or inactivation of an active ingredien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rapeutic: drug-drug or drug-disease interaction that lead to potentiating of drug effect, drug toxicity, deterioratio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Aseptic Techniqu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thod of handling sterile products, a sterile parenteral dosage form is free from living microorganisms, particulate matter, and pyroge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45360" y="158760"/>
            <a:ext cx="24206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Labeling and check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Reviewed against the patient’s current medication profil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4:22:49Z</dcterms:created>
  <dc:creator>FeRaS</dc:creator>
  <dc:description/>
  <dc:language>en-US</dc:language>
  <cp:lastModifiedBy>FeRaS</cp:lastModifiedBy>
  <dcterms:modified xsi:type="dcterms:W3CDTF">2010-05-07T17:13:50Z</dcterms:modified>
  <cp:revision>18</cp:revision>
  <dc:subject/>
  <dc:title>IV Admixture</dc:title>
</cp:coreProperties>
</file>