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3D03-2C9D-4387-887E-FAB8912B6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FEA4-EDA9-4401-B926-07F5047B0E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3E4-C9D7-4A64-AD3C-1B9E7837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D3D-B8D1-4CB2-8293-327D753E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C2F-B8D3-4066-B215-2C480797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C35-FE08-451D-BAC9-21CEB321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F032-BE04-4D2F-B357-77A3EDFD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02F3-8E5B-4C4A-9FA7-925F7646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2AAA-9BE8-4F74-8AED-CF33F9DD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417A-4615-4856-9D16-B1AAB7F1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6FB9-1F3C-493C-9A2E-1AA45C7D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9C1A-0955-46A1-918D-6F1C3291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5D5C-B886-4860-88B9-221FF231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BB1-A604-4D1E-A441-9FEE3101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9486-2788-444A-B6CE-2F42CFE2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9347-0D2D-48C2-91B7-27D893B4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3790-D3C8-4DDF-8D3B-11DDE66B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16DB-6310-4898-9D4F-37D66E55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3A53-36BB-45C8-8328-3009D357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91EA-785B-42C8-BC37-FD4BBBFF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54B12-D172-4479-9CF7-D61B7BA3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81D19-6E4C-4365-A20E-DABFA337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BD2D5-9037-4946-A340-BA03ABD0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AFAB6-23DA-44F6-9E8D-3F5F9853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E5F-B6E0-4E64-872D-2C6863C3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44C5-3891-469D-9E9F-7994D00C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3F466-47BB-4982-88FE-D1288FC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770F9-98B4-4092-8D04-605E607D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92EC6-A8BF-47B3-AB4C-BF0001B4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6267-0183-4BCC-83C9-8F82A4C3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CBB1-AC24-413B-91AA-1AC67070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4D81-CA8D-486F-B8A1-2555BE1B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94137-8A74-4595-BCA6-FEE15F77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9FCB5-D334-4DCB-9188-4DA4CED1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45BE3-960E-46C0-A812-40DAA769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FAD-DED7-4C23-98C1-61D4A48A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CFDA0-F1E1-4500-85A0-7F468A92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47E85-B625-43FC-B7CF-D4DACE51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E4C9D-C0F0-4732-B453-9536CF15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7C44E-557A-492F-AA09-2997B68F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0C51B-ED4E-47E4-B13D-E2FAF68A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33EC2-949E-4939-9BD3-1B5D5DFC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2B9BB-4576-4C22-93E6-3BE1891E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E4674-6E9B-4FD6-98BA-4CB3753E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8456C-9D16-4B2F-BA68-1A444957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6D94E-FE15-4F00-B70F-ACDE0C73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001-7B82-4AE9-9E91-54FD59B4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F9895-E8B7-4B3C-9307-6BFF21B5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2CFCA-9338-48C1-BDF3-5020FCC2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B6E11-E27B-432F-85D8-C3AA9A9A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B4DFF-1501-49C2-A2AB-EFAB6C97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141E0-9FDF-449F-BF3E-1D0D14FA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4C1F1-D959-4CDB-A082-4915E857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5AC22-5E60-4597-AFBD-6C930022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7A520-383E-4621-BA90-1EC10601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EC9BA-E7F5-4190-83C5-4ACF6D0E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D4EA4-E958-4D53-82B6-6D65ECB2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3F2-10E4-4094-A57B-9636A20A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395EA-819E-4FA9-A16E-6593A20F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6E9B8-4B29-485A-87E0-5CA935B4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D3A85-0CD5-4572-A1AD-784B9D3D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1B05B-D102-4732-BE7A-8DE9662F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0FC32-E082-472F-838E-70C99BDF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9EBB3-BE2C-4A79-9078-217C79E6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0A2C7-ADB0-4CC3-AA7A-FB3EE6F6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DE745-22B8-40F1-BC8B-6D37A3F8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EB5D4-7347-4B46-A92B-F74A5764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41509-B8E7-445E-AF21-D849FD26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A14-E7B7-428D-BE5E-7D803275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4ABE8-9542-4094-BBE2-ED99F8E8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7EF90-2E76-41DF-A709-D31E7CD4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62F9-5C3F-4839-B2B5-D5D865C4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C643A-C509-4E17-9D15-4F27657B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86935-5B48-4E9F-9234-DEE596B2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577B1-7AC9-4EF1-9B51-AE315C8A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A0C82-C5F0-4679-A50D-9ABC0225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9DF2B-C9FF-4FB9-B518-AF3ADC6D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99915-8FA1-4959-A81A-680866E1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45C89-A610-4832-BE0E-87688C49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5F9-B27F-469E-B687-86251D2D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0B09E-55CE-4FB5-A1A1-57E88905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69001-C1A4-4CE3-AD41-110C6623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E1D18-4195-4675-B1B9-7C261347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FD23B-B0D9-4150-B0DE-47501026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6CB17-9424-41D5-9F0D-2DBF2F90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A28-4613-4AE3-BA16-B9314AEC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CF54-1539-4636-9E39-08A5E281FA8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7D4D-4FD2-4226-868E-A2DBA8EE6FE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E4AB-F45F-4CED-9F41-34F7E423C94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C687-E707-46C1-B2AE-76642644288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3C3D-5C15-462B-B1D8-A17FE0C76E6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D5A2-A3B0-4E46-9F67-59CB2531B99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AE1E-7120-408C-ADA0-50A6D8F2C8C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3181320"/>
            <a:ext cx="7785360" cy="31464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http://tbn0.google.com/images?q=tbn:aUqZYfHrzTPN8M:http://www.origen.net/Images/DMSO.A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Carefully train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Who will prepare? Pharmacist or technici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roper training in aseptic technique and sterile product information is necessa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4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Will depend on the type of system one chooses to u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lculations involving 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V admixtur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medication order for  a patient weighing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kg calls f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f amphotericin B per kg of body weight to be added to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If the amphotericin B is to be obtained from a reconstituted injection that conta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, how many milliliters should be added to the dextrose injection?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8560" y="92160"/>
            <a:ext cx="2597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otal quantity needed for the patien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 x 70 = 17.5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Reconstituted solution conta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p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   1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X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  <p:cxnSp>
        <p:nvCxnSpPr>
          <p:cNvPr id="414" name="Straight Arrow Connector 5"/>
          <p:cNvCxnSpPr/>
          <p:nvPr/>
        </p:nvCxnSpPr>
        <p:spPr>
          <a:xfrm>
            <a:off x="3071880" y="421488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5" name="Straight Arrow Connector 7"/>
          <p:cNvCxnSpPr/>
          <p:nvPr/>
        </p:nvCxnSpPr>
        <p:spPr>
          <a:xfrm>
            <a:off x="3071880" y="521496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intravenous infusion is to contai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potassium ion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sodium ion 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Using an injection of potassium chloride containing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injection of sodium chloride, how many milliliters of each should be used to supply the required ion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be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4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                                             X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59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  <p:cxnSp>
        <p:nvCxnSpPr>
          <p:cNvPr id="422" name="Straight Arrow Connector 6"/>
          <p:cNvCxnSpPr/>
          <p:nvPr/>
        </p:nvCxnSpPr>
        <p:spPr>
          <a:xfrm>
            <a:off x="2642760" y="3929040"/>
            <a:ext cx="214380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3" name="Straight Arrow Connector 7"/>
          <p:cNvCxnSpPr/>
          <p:nvPr/>
        </p:nvCxnSpPr>
        <p:spPr>
          <a:xfrm>
            <a:off x="2642760" y="4428720"/>
            <a:ext cx="214380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8.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   X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426" name="Straight Arrow Connector 4"/>
          <p:cNvCxnSpPr/>
          <p:nvPr/>
        </p:nvCxnSpPr>
        <p:spPr>
          <a:xfrm>
            <a:off x="3071880" y="378576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7" name="Straight Arrow Connector 7"/>
          <p:cNvCxnSpPr/>
          <p:nvPr/>
        </p:nvCxnSpPr>
        <p:spPr>
          <a:xfrm>
            <a:off x="3071880" y="428580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2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57176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e following is a formula for a desired TPN solution. Using the source of each drug as indicated, Calculate the amount of each component required in preparing solutio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PN solu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rmula                                       Component Source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a) Sodium Chloride 35 mEq                                   Vial, 5 mEq per 2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b) Potassium Acetate 35 mEq                               Vial, 10 mEq pre 5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) Magnesium Sulphate 8 mEq                            Vial, 4 mEq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d) Calcium Gluconte 9.6 mEq                               Vial, 4.7 mEq per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E) Potassium Chloride 5 mEq                               Vial, 40 mEq per 2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f) Folic Acid 1.7 mg                                                    Ampul, 5 mg 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g) Multple vitamin infusion 10 ml                       Ampul,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To be added to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mino Acid Infusion (8.5 %)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Dextrose injection (50 %)     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7146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c)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4 ml.                                    X= 2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b)                                                  (d)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7.5 ml                                   X= 20.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f)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2.5 ml                                      X= 0.3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g) 10 ml.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2176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2"/>
          <a:stretch/>
        </p:blipFill>
        <p:spPr>
          <a:xfrm>
            <a:off x="1714680" y="2000160"/>
            <a:ext cx="2000160" cy="6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Rectangle 3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3"/>
          <a:stretch/>
        </p:blipFill>
        <p:spPr>
          <a:xfrm>
            <a:off x="1643040" y="3571920"/>
            <a:ext cx="1895400" cy="60948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1" name="Picture 6" descr=""/>
          <p:cNvPicPr/>
          <p:nvPr/>
        </p:nvPicPr>
        <p:blipFill>
          <a:blip r:embed="rId4"/>
          <a:stretch/>
        </p:blipFill>
        <p:spPr>
          <a:xfrm>
            <a:off x="5357880" y="2071800"/>
            <a:ext cx="1771560" cy="609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3" name="Picture 8" descr=""/>
          <p:cNvPicPr/>
          <p:nvPr/>
        </p:nvPicPr>
        <p:blipFill>
          <a:blip r:embed="rId5"/>
          <a:stretch/>
        </p:blipFill>
        <p:spPr>
          <a:xfrm>
            <a:off x="5429160" y="3571920"/>
            <a:ext cx="2067120" cy="6094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5" name="Picture 10" descr=""/>
          <p:cNvPicPr/>
          <p:nvPr/>
        </p:nvPicPr>
        <p:blipFill>
          <a:blip r:embed="rId6"/>
          <a:stretch/>
        </p:blipFill>
        <p:spPr>
          <a:xfrm>
            <a:off x="1571760" y="4857840"/>
            <a:ext cx="201924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Picture 12" descr=""/>
          <p:cNvPicPr/>
          <p:nvPr/>
        </p:nvPicPr>
        <p:blipFill>
          <a:blip r:embed="rId7"/>
          <a:stretch/>
        </p:blipFill>
        <p:spPr>
          <a:xfrm>
            <a:off x="5500800" y="4857840"/>
            <a:ext cx="1942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medication order calls for 1000 ml of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rbe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 to be administered over an 8-hour period. Using an IV administration set which delivers 10 drops per ml, how many drops per minute should be delivered to the patien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l.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Volume of fluid = 100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8 hour =  480 minut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00/ 480  = 2.1 ml per mi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2.1 ml/min x 10 (drops per ml) = 21 drops/minut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0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92852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preparation of parenteral admixture usually involves the addition of one or more drugs to large volume solutions such as intravenous and nutrients fluid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3716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End,,,,,,,,,,,,,,,,,,,,,,,,,,,,,,,,,,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olici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Admixture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’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Ideally in separate room in the pharmacy “clean room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Size va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uidelines for preparing parenteral products should be outlines in the pharmacy’s policy and procedure man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ailed information regarding preparation, labeling, storage and expiration dating of parenteral products should be readily available in the pharmac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se policy help to provide quality control for the parenteral product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tabil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ut in your mind that stability is affected by place, environmental condition, diluent used to administer the product, other drugs that may be mixed wi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bility and sterility! Gives the expiration d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785880"/>
            <a:ext cx="2547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incompatibi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hysical: visible change e.g. precipit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emical: may or not visible change, deterioration or inactivation of an active ingredi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apeutic: drug-drug or drug-disease interaction that lead to potentiating of drug effect, drug toxicity, deterioratio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Aseptic Techniqu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thod of handling sterile products, a sterile parenteral dosage form is free from living microorganisms, particulate matter, and pyroge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5360" y="158760"/>
            <a:ext cx="2420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Labeling and check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Reviewed against the patient’s current medication profi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4:22:49Z</dcterms:created>
  <dc:creator>FeRaS</dc:creator>
  <dc:description/>
  <dc:language>en-US</dc:language>
  <cp:lastModifiedBy>FeRaS</cp:lastModifiedBy>
  <dcterms:modified xsi:type="dcterms:W3CDTF">2010-05-07T17:13:50Z</dcterms:modified>
  <cp:revision>18</cp:revision>
  <dc:subject/>
  <dc:title>IV Admixture</dc:title>
</cp:coreProperties>
</file>