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6168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pte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83772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5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tember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6"/>
          </p:nvPr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7"/>
          </p:nvPr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3346-DD83-43BD-AE33-6E1C625BA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Chapter Name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373392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eptember 98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73392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B0AF-5EA9-47D1-AAE9-B190D2D615CE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18A1-20AE-44BF-8568-386338C77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E88E-A4B3-4674-9785-7FD2CA9FA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D701-9B93-4DA5-91C5-E849E0A24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35C6-2F62-4740-8CAE-2E529079C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7E0E-90CE-4C52-9896-E3EEF1B8CF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B850-6945-4AC6-9B99-8916569EAF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C2C2-29EA-4B0E-A61E-D39495B31E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2D70-EF66-4A17-944B-4CBD5BCD73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D8EA-DE68-41B7-A950-0794256CCA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61F0-1B5A-488A-BD22-358613F92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C054-75A0-40A5-B12C-66B7ECF320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0649-D25D-4A0D-81D1-A8E6B8702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89EE-5A5E-4129-B745-8CCB6494E7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1B88-53E1-4EAA-B638-E5DD6FDD50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C5D8-F3D7-43BF-ADAB-A05CF69D90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B516-433E-4731-8772-F0E05379A3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8559-CB7F-4F8A-84A7-4A83600940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601-7056-4C34-9C5E-E39853C1FD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C43-B227-4650-AEF5-F1B4F3F1A1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A58-F34A-4E0F-A093-AE3ECBDD16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305-5FEE-476F-BFF8-192AE47D9D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0A3-61AC-40C5-A43C-3FFFE027E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CC99-B46C-44B9-870C-6F19DDEDAF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57A-0B44-4214-888C-11465CB890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430-6A76-4492-B3BC-2F5C8C3679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A0C-CD2D-4D90-8B92-7F5774F845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6B1-E0EA-422D-99E5-9563307DDC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9DE-D2DB-4E4E-8703-7670DAB076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D6A-140C-4BD2-B0F6-78B0EC3328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720-7DF5-42A0-918B-98DD6C698D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16CBF-E332-4276-8C5C-A11E50F8B3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0DDAE-282D-436B-9A14-21ADFCC424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8916F-71EB-49D7-85D2-EBD70FBE9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FAF9-6ACD-4401-A39A-5C1BF78BE9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BF8F5-3BDC-44C2-840B-69D0C237B6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D1080-64DA-4C11-A73D-40C8E53018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B7221-50BE-4DE6-A10D-5A716CF3BA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F44CD-FED4-4B2C-8952-E4B2BE5992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7A197-615F-4130-9067-D1D19A3215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27A49-1830-40FA-A304-8A972CB75F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005AB-3152-458C-AB9D-FDD3447BB0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B07BE-3C9D-488A-8C0D-0EC532EFC6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307AF-1095-41B1-85B8-2FEA4D91F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2382-C0F6-424C-A765-FF38BF503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7927-159A-41F4-AA28-7479B842A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8D45-627A-4A2D-91E0-E12B0BE3B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AA6B-A709-4DC3-90D1-C9A6BCEC0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D897-0F20-4B90-A4E2-BFE459305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D016-99ED-403E-9ADC-2B5B110A540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65F6-BA6E-4D7C-8C65-9DD500EA06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472B-5535-4217-B2DA-687A8FD2DF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D5E9-4546-44DD-9C49-C405642D2E8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Chapter 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: Data De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3E29-E0A2-4CB9-98D7-2DF5531A7F0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2-Domain Constraints cont.</a:t>
            </a:r>
            <a:r>
              <a:rPr b="1" i="1" lang="en-US" sz="3200" spc="-1" strike="noStrike">
                <a:solidFill>
                  <a:srgbClr val="3a21e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2920" y="1557360"/>
            <a:ext cx="84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2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earchConditio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can involve a table looku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BranchNo AS CHAR(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VALUE IN(SELECT branchN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Branch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2-Domain Constraints cont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840" y="1676160"/>
            <a:ext cx="85489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omains can be removed using DROP DOMAI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 DOMAIN DomainName [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| CASCADE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TRICT, domain must not be used in any existing table, view 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CADE, any column based on the domain is automatically changed to use the underlying data type, column constraint and default clau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FC05-F71D-4EEF-A1E4-30034A3954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F965-6EF5-4B67-9487-43CEC6A0F5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840" y="266400"/>
            <a:ext cx="7939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ntity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040" y="1362240"/>
            <a:ext cx="8539200" cy="45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imary key of a table must contain a unique, non-null value for each r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SO standard supports PRIMARY KEY clause in CREATE and ALTER TABLE statement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IMARY KEY(staff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IMARY KEY(clientNo, property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 only have one PRIMARY KEY clause per tab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 still ensure uniqueness for alternate keys using UNIQUE: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UNIQUE(tel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no  VARCHAR(5) NOT NULL UNIQU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EED-EFCE-40CE-AB85-D36101C5F02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4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- Referential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557000"/>
            <a:ext cx="8477280" cy="41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K is column or set of columns that links each row in child table containing foreign FK to row of parent table containing matching P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ferential integrity means that, if FK contains a value, that value must refer to existing row in parent tab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SO standard supports definition of FKs with FOREIGN KEY clause in CREATE and ALTER TAB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ynta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FK column (,…)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ERENCES  table_name [(CK column (,…))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(bNo) REFERENCES Branch (branch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312F-497A-4BE8-AB68-AE606CCBA5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4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- Referential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796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y INSERT/UPDATE attempting to create FK value in child table without matching CK value in parent is reject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ction taken attempting to update/delete a CK value in parent table with matching rows in child is dependent on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referential actio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pecified using ON UPDATE and ON DELETE subclaus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FK column (,…) 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ERENCES tablename [ ( CK column(,…)) 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[ON UPDATE</a:t>
            </a:r>
            <a:r>
              <a:rPr b="1" lang="en-US" sz="2100" spc="-1" strike="noStrike">
                <a:solidFill>
                  <a:srgbClr val="000066"/>
                </a:solidFill>
                <a:latin typeface="Courier New"/>
              </a:rPr>
              <a:t>[CASCADE|SET NULL|SET DEFAULT|NO ACTION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]]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[ON DELETE</a:t>
            </a:r>
            <a:r>
              <a:rPr b="1" lang="en-US" sz="2100" spc="-1" strike="noStrike">
                <a:solidFill>
                  <a:srgbClr val="000066"/>
                </a:solidFill>
                <a:latin typeface="Courier New"/>
              </a:rPr>
              <a:t>[CASCADE|SET NULL|SET DEFAULT|NO ACTION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]]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E4D4-2A31-493D-9807-CF777A9745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4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- Referential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3840" y="1533240"/>
            <a:ext cx="854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Four options are supported when the user attempt to delete or update a CK, &amp; there are matching FK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CASCADE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automatically delete/update the CK row &amp; all matching (FKs) rows in child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SET NULL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delete/update the CK row &amp; set the FK values to NULL. Valid only if NOT NULL clause is not specified for the F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SET DEFAULT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delete/update the CK row &amp; set the FK values to default. Valid only if DEFAULT clause is specified for the F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  <a:ea typeface="Arial"/>
              </a:rPr>
              <a:t>NO ACTIO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rejects the delete/update op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AC09-4E23-4A18-BB02-8ACF69F32F4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4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- Referential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Example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staffNo) REFERENCES Staff            ON DELETE SET 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ownerNo) REFERENCES Owner       ON UPDATE CASCA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574A-527D-46A6-8FA0-D86387A333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5 -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General Constrain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3840" y="155736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 order to modify or delete an existing constraint, it is necessary that the constraint have a n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ed the constraint by the CONSTRIANT clause then specify a name for the constrai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5 -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General Constrain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9680" y="16765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ept CHAR(4)NOT NULL CONSTRAINT DepNoIn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 Dno IN (SELECT Dept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DEPARTMENT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ample 2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ourier New"/>
                <a:ea typeface="Courier New"/>
              </a:rPr>
              <a:t>StaffNo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Courier New"/>
              </a:rPr>
              <a:t>VARCHAR</a:t>
            </a:r>
            <a:r>
              <a:rPr b="0" lang="en-US" sz="2800" spc="-1" strike="noStrike">
                <a:solidFill>
                  <a:srgbClr val="000066"/>
                </a:solidFill>
                <a:latin typeface="Courier New"/>
                <a:ea typeface="Courier New"/>
              </a:rPr>
              <a:t>(5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05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CONSTRAIN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taffNotHandlingTooMuch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05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CHE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OT EXIST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taffNo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FROM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PropertyForR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GROUP BY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taffNo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HAVING COU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(*) &gt; 100)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D9D2-D13C-47A1-AE01-BC6C45F547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36E1-477D-4A39-92CC-9126ECCD83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Data Defin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776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QL DDL allows database objects such as schemas, domains, tables, views, and indexes to be created and destroy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SQL DDL statements ar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SCHEMA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DOM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/ALTER TABLE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T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VIE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E2E2-870C-41EA-8BBB-0E316CDEF5D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hapter 7 - Objectiv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9120" y="1285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 types supported by SQL standard and Identifi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 of integrity enhancement feature of SQ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w to define integrity constraints using SQ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w to use the integrity enhancement feature in the CREATE and ALTER TABLE statemen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 of vie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w to create and delete views using SQ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nder what conditions views are upda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C0F7-040E-4F9A-BFC8-36CF2C67D1A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a21ef"/>
                </a:solidFill>
                <a:latin typeface="Times New Roman"/>
              </a:rPr>
              <a:t>CREATE SCHEMA-Database-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2920" y="155736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Schema is a named collection of related database objects (tables, views, domains, ...) who belong to the same database applic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SCHEMA[Name|AUTHORIZATION CreatorId 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urier New"/>
                <a:ea typeface="Courier New"/>
              </a:rPr>
              <a:t>CRETAE SCHEMA company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Courier New"/>
                <a:ea typeface="Courier New"/>
              </a:rPr>
              <a:t>CREATE SCHEMA  AUTHORIZATION  Smith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4D75-D0E5-4A2D-8105-4AA042A928B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a21ef"/>
                </a:solidFill>
                <a:latin typeface="Times New Roman"/>
              </a:rPr>
              <a:t>CREATE SCHEMA-Database-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2920" y="155736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SCHEMA Name [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| CASCADE 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RESTRICT (default), schema must be empty or operation fai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CASCADE, operation cascades to drop all objects associated with schema in order defined above. If any of these operations fail, DROP SCHEMA fai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898-10B7-440F-B229-751E65C4357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13840" y="155736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reates a table with one or more columns of the specified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dataTyp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REATE TABLE TableName {(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Name dataType [NOT NULL] [UNIQUE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DEFAULT defaultOption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CHECK searchCondition] [,...]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PRIMARY KEY (listOfColumns),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UNIQUE (listOfColumns),] […,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FOREIGN KEY (listOfFKColum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FERENCES ParentTableName [(listOfCKColumns)]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ON UPDATE referentialAction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ON DELETE referentialAction ]] [,…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CHECK (searchCondition)] [,…] )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E97D-F461-43A1-A05A-52FFC17FCFA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NOT NULL, system rejects any attempt to insert a null in the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 specify a DEFAULT value for the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IMARY KEY clause specify the column(s) that form the table’s P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imary keys should always be specified as NOT NULL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EIGN KEY clause specifies FK along with the referential actio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and relate it to another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lumn-Based CHECK vs. table-Based CHEC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straints may be given names using CONSTRAINT cla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4BEF-9881-4634-9964-28D1CF3AE45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1 - 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OwnerNumber AS VARCHAR(5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99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 (VALUE IN (SELECT ownerNo FROM PrivateOwner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StaffNumber AS VARCHAR(5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99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 (VALUE IN (SELECT staffNo FROM Staff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PNumber AS VARCHAR(5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PRooms AS SMALLIN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99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VALUE BETWEEN 1 AND 15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PRent AS DECIMAL(6,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99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VALUE BETWEEN 0 AND 9999.99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6312-CAA3-42AB-952C-4356BED418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1 - 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TABLE PropertyForRent (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opertyNo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Number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,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oom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oom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EFAULT 4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n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en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,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EFAULT 600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ownerNo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OwnerNumber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taffNo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taffNumber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onstraint StaffNotHandlingTooMuch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branchNo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BranchNumber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IMARY KEY (propertyNo)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staffNo) REFERENCES Staff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ON DELETE SET NULL ON UPDATE CASCADE ….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DE1-EE82-4FBB-B44D-094E9370C282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2 - 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1916280"/>
            <a:ext cx="87631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PARTMENT( Dname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Dnumbe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REATE TABLE  department (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Dnam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CHAR(15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T NULL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number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T NULL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KEY (Dnumber)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UNIQUE (Dname)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HECK  (Dname  NOT LIKE </a:t>
            </a:r>
            <a:r>
              <a:rPr b="0" lang="ja-JP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% Inc.</a:t>
            </a:r>
            <a:r>
              <a:rPr b="0" lang="ja-JP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’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AND Dnumber &gt;70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3766-C2AA-409F-BB32-1EC31ED646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ALTER TABLE</a:t>
            </a: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(Changing a Table Definition 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dd a new table constrai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rop a table constrai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dd a new column to a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rop a column from a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a default for a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rop a default for a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ALTER T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1280" y="1428840"/>
            <a:ext cx="907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Synta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LTER  TABLE  table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D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COLUMN]  ColumnName   dataType  [NOT NULL]  [UNIQUE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DEFAULT  defaultOption]  [CHECK  (search condition)]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DROP[COLUMN]  ColumnName  [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| CASCADE]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ADD [CONSTRAINT  [Constraint Name]] TableConstraint Definition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DROP CONSTRAINT  ConstraintName  [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| CASCADE]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ALTER  ColumnName  SET DEFAULT  DefaultOption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ALTER  ColumnName  DROP DEFAULT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RESTRICT, drop operation is rejected if the column is referenced by another database objec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ASCADE, drop operation drops all column from objects it is referenced by.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3B6D-D13B-4A13-86EE-FF01A09DAD8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7B92-AEAE-4093-9CF1-E3F51AF3B8B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5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ALTER TABLE</a:t>
            </a:r>
            <a:br>
              <a:rPr sz="2900"/>
            </a:br>
            <a:r>
              <a:rPr b="1" lang="en-US" sz="2400" spc="-1" strike="noStrike">
                <a:solidFill>
                  <a:srgbClr val="3a21ef"/>
                </a:solidFill>
                <a:latin typeface="Times New Roman"/>
              </a:rPr>
              <a:t>1-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Add a new table constraint</a:t>
            </a:r>
            <a:br>
              <a:rPr sz="24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2- </a:t>
            </a:r>
            <a:r>
              <a:rPr b="1" lang="en-US" sz="2400" spc="-1" strike="noStrike">
                <a:solidFill>
                  <a:srgbClr val="3a21ef"/>
                </a:solidFill>
                <a:latin typeface="Times New Roman"/>
              </a:rPr>
              <a:t>Drop a table constrai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85480" y="1557360"/>
            <a:ext cx="831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 7.2(b):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ve constraint from PropertyForRent that staff are not allowed to handle more than 100 properties at a tim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PropertyForR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CONSTRAINT StaffNotHandlingTooMuch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hange the staff table by making the salary must be &gt;10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DD CONSTRAINT Staff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 Salary &gt;1000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dentifier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8400" y="1676520"/>
            <a:ext cx="833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sed to identify objects such as table names, view names and colum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y contain A-Z, a-z, 0-9, _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 longer than 128 charact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rt with let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not contain spa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DFD1-16CE-4A5D-BB61-7ED53326E1A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ALTER TABLE</a:t>
            </a:r>
            <a:br>
              <a:rPr sz="24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3- Add a new column to a table </a:t>
            </a:r>
            <a:br>
              <a:rPr sz="24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4- Drop a column from a t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4200" y="167652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dd new column to Client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Cli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DD prefNoRooms PRoom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ve the city attribute from the client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Cli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City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71D7-6AC7-4F78-9553-0C60B3A1C7A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F861-7D38-4ACB-894E-C1950B3F92B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ALTER TABLE</a:t>
            </a:r>
            <a:br>
              <a:rPr sz="29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5-Drop a default for a column</a:t>
            </a:r>
            <a:br>
              <a:rPr sz="24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6-Set a default for a colum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0360" y="1557360"/>
            <a:ext cx="793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 7.2(a)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hange Staff table by removing default of ‘Assistant’ for position column and setting default for sex column to female (‘F’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position DROP DEFAUL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sex SET DEFAULT ‘F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E00F-56CA-45CE-874B-D18F8935B71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DROP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TABLE TableName [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| CASCADE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TABLE PropertyForRen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ves named table and all rows within i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RESTRICT, if any other objects depend for their existence on continued existence of this table, SQL does not allow reque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CASCADE, SQL drops all dependent objects (and objects dependent on these object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F14C-E7E4-48A7-8AA5-28353D8E097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QL - CREATE VIEW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3120" y="1537920"/>
            <a:ext cx="8840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ViewName [ (newColumnName [,...]) 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16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 subselec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16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[WITH [CASCADED | LOCAL] CHECK OPTION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 assign a name to each column in view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list of column names is specified, it must have same number of items as number of columns produced by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ubselect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omitted, each column takes name of corresponding column in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ubselect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ist must be specified if there is any ambiguity in a column n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ubselect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is known as the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defining query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0D6A-48CC-4A38-8C97-A49BED8A68B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7.3 - Create Horizontal View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4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reate view so that manager at branch B003 can only see details for staff who work in his or her offi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Manager3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LECT *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HERE branchNo = ‘B003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1" name="Picture 4" descr="DS3-Table 06-03"/>
          <p:cNvPicPr/>
          <p:nvPr/>
        </p:nvPicPr>
        <p:blipFill>
          <a:blip r:embed="rId1"/>
          <a:stretch/>
        </p:blipFill>
        <p:spPr>
          <a:xfrm>
            <a:off x="1116000" y="4386240"/>
            <a:ext cx="734364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9455-E606-406C-BED8-9409A09C83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7.4 - Create Vertical View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reate view of staff details at branch B003 excluding salar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Staff3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LECT staffNo, fName, lName, position, s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HERE branchNo = ‘B003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5" name="Picture 4" descr="DS3-Table 06-04"/>
          <p:cNvPicPr/>
          <p:nvPr/>
        </p:nvPicPr>
        <p:blipFill>
          <a:blip r:embed="rId1"/>
          <a:stretch/>
        </p:blipFill>
        <p:spPr>
          <a:xfrm>
            <a:off x="990720" y="4419720"/>
            <a:ext cx="4876560" cy="215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B012-42CF-40A1-A2E1-A3BFBF0AC26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7.5 - Grouped and Joined Vie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reate view of staff who manage properties for rent, including branch number they work at, staff number, and number of properties they mana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StaffPropCnt(branchNo, staffNo, cn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 SELECT s.branchNo, s.staffNo, COUNT(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Staff s, PropertyForRent 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HERE s.staffNo = p.staff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GROUP BY s.branchNo, s.staffNo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9" name="Picture 5" descr="DS3-Table 06-05"/>
          <p:cNvPicPr/>
          <p:nvPr/>
        </p:nvPicPr>
        <p:blipFill>
          <a:blip r:embed="rId1"/>
          <a:stretch/>
        </p:blipFill>
        <p:spPr>
          <a:xfrm>
            <a:off x="6143760" y="4071960"/>
            <a:ext cx="3000240" cy="278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F832-A435-4D4F-8914-45BDA77771B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QL - DROP VIEW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123120" indent="-766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uses definition of view to be deleted from 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VIEW ViewName [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| CASCADE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VIEW Manager3Staff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-766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CASCADE, all related dependent objects are deleted; i.e. any views defined on view being dropp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-766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RESTRICT (default), if any other objects depend for their existence on continued existence of view being dropped, command is reject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0603-893A-4D8F-A95A-16365AE7A1C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Restrictions on Vie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31360" indent="-5313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QL imposes several restrictions on creation and use of vie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31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a) If column in view is based on an aggregate fun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4160" indent="-265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umn may appear only in SELECT and ORDER BY clauses of queries that access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4160" indent="-265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umn may not be used in WHERE nor be an argument to an aggregate function in any query based on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31360" indent="-5313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llowing query would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fail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416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222200" indent="-42516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SELECT COUNT(cnt) FROM StaffPropCn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222200" indent="-42516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SELECT * FROM StaffPropC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2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WHERE cnt &gt; 2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3B53-2F22-4395-873E-51C157C40C0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Restrictions on Vie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b) Grouped view may never be joined with a base table or a view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71680" indent="-5716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example, StaffPropCnt view is a grouped view, so any attempt to join this view with another table or view fai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F9EF-8AAF-41A9-AF21-0F86AFF1F1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SO SQL D</a:t>
            </a: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ta Typ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8" name="Picture 5" descr="DS3-Table 06-01"/>
          <p:cNvPicPr/>
          <p:nvPr/>
        </p:nvPicPr>
        <p:blipFill>
          <a:blip r:embed="rId1"/>
          <a:stretch/>
        </p:blipFill>
        <p:spPr>
          <a:xfrm>
            <a:off x="214200" y="1579680"/>
            <a:ext cx="8245440" cy="4421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90F8-5706-477C-82E7-33782E943D4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View Updatabi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ll updates to a base relation are immediately reflected in all views that reference that base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or a view to be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Times New Roman"/>
              </a:rPr>
              <a:t>updatable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, the DBMS must be able to trace any row or column back to its row or column in the source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ll updates to a view will be reflected in the underlying base relation, under the following 6 rul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66FD-92C8-42AF-ABD3-827546ED472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View Updatabi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ISO specifies that a view is updatable if and only if: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INCT is not specifi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very element in SELECT list of defining query is a column name and no column appears more than o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clause specifies only one table, excluding any views based on a join, union, intersection or differ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 nested SELECT referencing outer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 GROUP BY or HAVING clau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lso, every row added through view must not violate integrity constraints of base tab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FE07-BDFF-44FF-B25A-1684F73B624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View Updatabi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wever, consider again view StaffPropC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we tried to insert record showing that at branch B003, SG5 manages 2 properti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INSERT INTO StaffPropC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VALUES (‘B003’, ‘SG5’, 2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ave to insert 2 records into PropertyForRent showing which properties SG5 manages. However, do not know which properties they are; i.e. do not know primary keys!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6B08-F3BC-4567-A6B8-ABD84CD551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View Updatabi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0920" y="1557360"/>
            <a:ext cx="885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 algn="just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f change definition of view and replace count with actual property number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REATE VIEW StaffPropList (branchNo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taffNo, propertyN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S SELECT s.branchNo, s.staffNo, p.property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ROM Staff s, PropertyForRent 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WHERE s.staffNo = p.staffNo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w try to insert the record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SERT INTO StaffPropLi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VALUES (‘B003’, ‘SG5’, ‘PG19’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ill problem, because in PropertyForRent all columns except postcode/staffNo are not allowed null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However, have no way of giving remaining non-null columns valu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F7BA-4070-4F01-A548-4E12E34FACF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WITH CHECK OP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ows exist in a view because they satisfy WHERE condition of defining quer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a row changes and no longer satisfies condition, it disappears from the view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w rows appear within view when insert/update on view cause them to satisfy WHERE condi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ows that enter or leave a view are called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igrating row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CHECK OPTION prohibits a row migrating out of the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2D1-E635-4C83-9008-52922513F1F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7.6 - WITH CHECK OP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Manager3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LECT *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HERE branchNo = ‘B003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ITH CHECK OPTION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not update branch number of row B003 to B002 as this would cause row to migrate from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lso cannot insert a row into view with a branch number that does not equal B003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SO SQL D</a:t>
            </a: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ta Typ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400" y="1676520"/>
            <a:ext cx="833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nd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OOLEA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ranchNo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HAR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dres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ARCHAR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30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itString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I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4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alary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CIMA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7,2)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ich can handle a value up to 99,999.99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iewDat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F8C9-AAD7-4F1D-AFDD-C45A9AF158E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6EBF-BA92-4895-917F-D514052BFCE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sider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ive type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f integrity constraints defined in CREATE &amp; ALTE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quired 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omain constrai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ntity integr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ferential integr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constrain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mposed in order to protect the database from becoming inconsisten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121-EE32-471A-8317-DFD88F37F64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 Required Dat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-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 Required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ull is distinct from blank or zer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olumnName   dataType   [NOT NULL |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]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osition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VARCHAR(10)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2-Domain Constrai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3840" y="1357200"/>
            <a:ext cx="892980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-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Domain Constrai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very column has a domain, in other words a set of legal valu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a) CHE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HECK (search condition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x   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NOT NUL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HECK (sex IN (‘M’, ‘F’))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alary  DECIMAL  NOT NUL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HECK  (salary &gt; 10000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bno   I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HECK (bno IN(SELECT branchno FROM branch)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0520" indent="-416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7286760" y="6500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6598-96A7-4146-8D52-635EC356B9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45BE-8B78-48BC-8CEB-E4BFC63BD0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2-Domain Constraints </a:t>
            </a: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72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b) CREAT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7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DomainName [AS] dataTyp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[DEFAULT defaultOption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[CHECK (searchCondition)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1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SexType AS CH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 (VALUE IN (‘M’, ‘F’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x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xType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M. Connolly and Carolyn E. Begg</dc:creator>
  <dc:description>Transparencies for Chapter 6 of textbook
Database Systems: A Practical Approach to Design, Implementation, and Management</dc:description>
  <dc:language>en-US</dc:language>
  <cp:lastModifiedBy>h</cp:lastModifiedBy>
  <cp:lastPrinted>1998-06-08T15:17:53Z</cp:lastPrinted>
  <dcterms:modified xsi:type="dcterms:W3CDTF">2014-04-02T16:32:26Z</dcterms:modified>
  <cp:revision>222</cp:revision>
  <dc:subject>Database Systems</dc:subject>
  <dc:title>Chapter 6</dc:title>
</cp:coreProperties>
</file>