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6168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pte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83772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5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tember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6"/>
          </p:nvPr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7"/>
          </p:nvPr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B08C-7436-41C5-AE14-80B63C4C45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Chapter Name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373392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eptember 98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73392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E218-A36C-41E7-9A24-E547F6E6B698}" type="slidenum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83808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CFE0-FA4A-4891-8502-77BFDF3A6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E302-7FE2-45BF-83EC-2417B8166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F35F-3A38-4076-BFD1-58E2AE65D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3511-9772-4263-9F54-59694FCF1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75B3-47AB-4F75-9EE8-0B34A2C82B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634A-2D1D-4FA0-9E7E-728B71D273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A44E-B96D-42ED-A2E7-C112E410A3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4729-E962-4442-B182-B33792E158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6DE6-80FE-4AE3-9053-D9FDA71955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D163-CC7B-4DA0-8F8A-581E576D8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1A1C-F9FE-41D5-94EB-D9A2DE5FC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E7F7-55CB-44CD-98E9-1E405A362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C2A5-CBFA-4CA4-9DF3-4D34566F2C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F951-2E83-46C4-8161-27704BA585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0E26-4723-4D09-BF2D-2E6948B2FB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FD11-1806-47DB-BC9D-30FF84B0C1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0276-08A4-4F9F-9DF0-D3F2AD4796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8AE-5203-4E7D-AB62-3A7329865B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F5B-22E0-438F-82CA-2D63504E82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64E-6844-4849-87CE-AAED7C76E0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1AB-D290-4CA1-9522-B9C0C500BA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377-130F-4079-9440-6F52A2B24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EA73-7794-4E60-9F5B-EF562DEFE4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1AC-4516-4F40-8F2F-0154D37FC5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F7A-9F2C-4904-9F59-B43926D0C3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996-8D04-4ABE-AAD0-91F0286489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39D-FB78-452A-B99E-C24E565423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F01-B220-4A65-9E52-50C9133D42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1E7-BBC8-4829-ACFF-5CD5379C01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83A-3312-4E43-A171-2E54F5CBAC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5652A-5744-4617-A63F-2F071EF6E7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A4E19-1946-4428-915B-88827EE60D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EB0A3-1C82-495B-AA8D-124237F1A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FA4E-0E40-4B8F-B92C-4915FBF2E5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E1BEE-B197-4DC7-8A50-41A5B04568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B3051-512E-4FE4-B08C-29811E883D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8D5EB-66CA-4A2D-92AE-12834E86E4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257D2-B878-406D-833B-1630DCE506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4FA09-B260-4B7C-B75F-C6662C0D67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E6C42-D11E-45F4-8F67-2693F81C93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E7552-68C2-436B-B419-D9FC775B16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A5CE4-BF8E-429C-AE2B-3C7DC60AD6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13D9C-723F-410F-BB54-25DF579DD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E382-2184-469D-B667-97ED75665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C4C2-AC3D-455B-854A-DEB3EA4EE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EFDA-5FDB-4FF9-A345-4BDD52165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E07E-5E20-4E7C-8C56-9221F70B1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6506-1BE4-4003-8830-44723F3355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29A2-8F3F-4698-828A-E7CCB444B4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E671-62E1-40A2-9720-CEADAA138A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903C-432D-49EA-8F60-EDF8788D9A9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7AE6-AEFE-4925-84C2-1B70AC046A2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Chapter 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: Data De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93F8-7489-451E-9F48-629EC3EC90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2-Domain Constraints cont.</a:t>
            </a:r>
            <a:r>
              <a:rPr b="1" i="1" lang="en-US" sz="3200" spc="-1" strike="noStrike">
                <a:solidFill>
                  <a:srgbClr val="3a21e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2920" y="1557360"/>
            <a:ext cx="84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2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earchConditio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can involve a table looku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BranchNo AS CHAR(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VALUE IN(SELECT branchN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Branch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2-Domain Constraints cont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840" y="1676160"/>
            <a:ext cx="85489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omains can be removed using DROP DOMAI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 DOMAIN DomainName [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| CASCADE]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TRICT, domain must not be used in any existing table, view 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CADE, any column based on the domain is automatically changed to use the underlying data type, column constraint and default clau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E823-84D5-444E-85C7-4BE45002151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EA89-C680-4F56-99B2-6B4CEE925FB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840" y="266400"/>
            <a:ext cx="7939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3a21ef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ntity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040" y="1362240"/>
            <a:ext cx="8539200" cy="45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imary key of a table must contain a unique, non-null value for each r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SO standard supports PRIMARY KEY clause in CREATE and ALTER TABLE statement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IMARY KEY(staff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IMARY KEY(clientNo, property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4620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 only have one PRIMARY KEY clause per tab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 still ensure uniqueness for alternate keys using UNIQUE: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UNIQUE(tel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no  VARCHAR(5) NOT NULL UNIQU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9F04-0F44-4A8E-B393-EAB473D7BD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4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- Referential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557000"/>
            <a:ext cx="8477280" cy="41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K is column or set of columns that links each row in child table containing foreign FK to row of parent table containing matching P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ferential integrity means that, if FK contains a value, that value must refer to existing row in parent tab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SO standard supports definition of FKs with FOREIGN KEY clause in CREATE and ALTER TAB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ynta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FK column (,…)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ERENCES  table_name [(CK column (,…))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(bNo) REFERENCES Branch (branchN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9B4E-AC70-48EC-9C15-640B9C5B0B1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4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- Referential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796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y INSERT/UPDATE attempting to create FK value in child table without matching CK value in parent is reject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ction taken attempting to update/delete a CK value in parent table with matching rows in child is dependent on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referential actio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pecified using ON UPDATE and ON DELETE subclaus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FK column (,…) 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FERENCES tablename [ ( CK column(,…)) 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[ON UPDATE</a:t>
            </a:r>
            <a:r>
              <a:rPr b="1" lang="en-US" sz="2100" spc="-1" strike="noStrike">
                <a:solidFill>
                  <a:srgbClr val="000066"/>
                </a:solidFill>
                <a:latin typeface="Courier New"/>
              </a:rPr>
              <a:t>[CASCADE|SET NULL|SET DEFAULT|NO ACTION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]]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[ON DELETE</a:t>
            </a:r>
            <a:r>
              <a:rPr b="1" lang="en-US" sz="2100" spc="-1" strike="noStrike">
                <a:solidFill>
                  <a:srgbClr val="000066"/>
                </a:solidFill>
                <a:latin typeface="Courier New"/>
              </a:rPr>
              <a:t>[CASCADE|SET NULL|SET DEFAULT|NO ACTION</a:t>
            </a:r>
            <a:r>
              <a:rPr b="0" lang="en-US" sz="2100" spc="-1" strike="noStrike">
                <a:solidFill>
                  <a:srgbClr val="000066"/>
                </a:solidFill>
                <a:latin typeface="Courier New"/>
              </a:rPr>
              <a:t>]]</a:t>
            </a: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6FE9-697D-468E-A61D-93D993653B3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4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- Referential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3840" y="1533240"/>
            <a:ext cx="854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Four options are supported when the user attempt to delete or update a CK, &amp; there are matching FK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CASCADE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automatically delete/update the CK row &amp; all matching (FKs) rows in child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SET NULL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delete/update the CK row &amp; set the FK values to NULL. Valid only if NOT NULL clause is not specified for the F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SET DEFAULT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delete/update the CK row &amp; set the FK values to default. Valid only if DEFAULT clause is specified for the F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  <a:ea typeface="Arial"/>
              </a:rPr>
              <a:t>NO ACTIO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rejects the delete/update op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A7B8-1B1F-4D7A-8D2A-FC452515D20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4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- Referential Integr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Example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staffNo) REFERENCES Staff            ON DELETE SET 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ownerNo) REFERENCES Owner       ON UPDATE CASCA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F469-B92E-4BAE-9E00-A81500407F7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5 -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General Constrain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3840" y="155736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 order to modify or delete an existing constraint, it is necessary that the constraint have a n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ed the constraint by the CONSTRIANT clause then specify a name for the constrai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 </a:t>
            </a:r>
            <a:br>
              <a:rPr sz="2800"/>
            </a:br>
            <a:r>
              <a:rPr b="1" lang="en-US" sz="2800" spc="-1" strike="noStrike">
                <a:solidFill>
                  <a:srgbClr val="3a21ef"/>
                </a:solidFill>
                <a:latin typeface="Times New Roman"/>
              </a:rPr>
              <a:t>5 - 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General Constraint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9680" y="1676520"/>
            <a:ext cx="826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ept CHAR(4)NOT NULL CONSTRAINT DepNoIn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 Dno IN (SELECT Dept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DEPARTMENT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ample 2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ourier New"/>
                <a:ea typeface="Courier New"/>
              </a:rPr>
              <a:t>StaffNo </a:t>
            </a:r>
            <a:r>
              <a:rPr b="1" lang="en-US" sz="2800" spc="-1" strike="noStrike">
                <a:solidFill>
                  <a:srgbClr val="000066"/>
                </a:solidFill>
                <a:latin typeface="Courier New"/>
                <a:ea typeface="Courier New"/>
              </a:rPr>
              <a:t>VARCHAR</a:t>
            </a:r>
            <a:r>
              <a:rPr b="0" lang="en-US" sz="2800" spc="-1" strike="noStrike">
                <a:solidFill>
                  <a:srgbClr val="000066"/>
                </a:solidFill>
                <a:latin typeface="Courier New"/>
                <a:ea typeface="Courier New"/>
              </a:rPr>
              <a:t>(5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05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CONSTRAIN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taffNotHandlingTooMuch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05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CHECK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NOT EXISTS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ELEC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taffNo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FROM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PropertyForR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GROUP BY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staffNo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HAVING COUNT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Courier New"/>
              </a:rPr>
              <a:t>(*) &gt; 100)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B975-86C7-4674-827F-0DDFE631BCF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A914-25EE-44E1-8A0F-3F3B5A6A9F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Data Defini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776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QL DDL allows database objects such as schemas, domains, tables, views, and indexes to be created and destroy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SQL DDL statements ar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SCHEMA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DOM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/ALTER TABLE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T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VIE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57C0-7AA0-49C1-9027-ABBE4BE575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hapter 7 - Objectiv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9120" y="1285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 types supported by SQL standard and Identifi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 of integrity enhancement feature of SQ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w to define integrity constraints using SQ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w to use the integrity enhancement feature in the CREATE and ALTER TABLE statemen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urpose of vie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w to create and delete views using SQ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nder what conditions views are upda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9FD8-069D-4E8D-B530-848269CBE8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a21ef"/>
                </a:solidFill>
                <a:latin typeface="Times New Roman"/>
              </a:rPr>
              <a:t>CREATE SCHEMA-Database-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2920" y="155736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Schema is a named collection of related database objects (tables, views, domains, ...) who belong to the same database applic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SCHEMA[Name|AUTHORIZATION CreatorId 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urier New"/>
                <a:ea typeface="Courier New"/>
              </a:rPr>
              <a:t>CRETAE SCHEMA company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urier New"/>
                <a:ea typeface="Courier New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Courier New"/>
                <a:ea typeface="Courier New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Courier New"/>
                <a:ea typeface="Courier New"/>
              </a:rPr>
              <a:t>CREATE SCHEMA  AUTHORIZATION  Smith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B5CC-F1F1-4136-B784-0ED2EA46F1F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a21ef"/>
                </a:solidFill>
                <a:latin typeface="Times New Roman"/>
              </a:rPr>
              <a:t>CREATE SCHEMA-Database-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2920" y="155736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SCHEMA Name [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| CASCADE 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RESTRICT (default), schema must be empty or operation fai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CASCADE, operation cascades to drop all objects associated with schema in order defined above. If any of these operations fail, DROP SCHEMA fai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986E-6911-487E-B7CA-6C4B4118F62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13840" y="1557360"/>
            <a:ext cx="854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reates a table with one or more columns of the specified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dataTyp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REATE TABLE TableName {(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olName dataType [NOT NULL] [UNIQUE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DEFAULT defaultOption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CHECK searchCondition] [,...]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PRIMARY KEY (listOfColumns),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UNIQUE (listOfColumns),] […,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FOREIGN KEY (listOfFKColum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REFERENCES ParentTableName [(listOfCKColumns)]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ON UPDATE referentialAction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ON DELETE referentialAction ]] [,…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[CHECK (searchCondition)] [,…] )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F5AF-271F-4CAC-9B8C-11CDFBB6DD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NOT NULL, system rejects any attempt to insert a null in the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 specify a DEFAULT value for the colum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RIMARY KEY clause specify the column(s) that form the table’s P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imary keys should always be specified as NOT NULL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EIGN KEY clause specifies FK along with the referential action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and relate it to another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lumn-Based CHECK vs. table-Based CHEC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straints may be given names using CONSTRAINT cla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6D6-DF1E-4964-AC13-499186D7869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1 - 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OwnerNumber AS VARCHAR(5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99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 (VALUE IN (SELECT ownerNo FROM PrivateOwner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StaffNumber AS VARCHAR(5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99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 (VALUE IN (SELECT staffNo FROM Staff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PNumber AS VARCHAR(5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PRooms AS SMALLIN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99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VALUE BETWEEN 1 AND 15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PRent AS DECIMAL(6,2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99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VALUE BETWEEN 0 AND 9999.99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06D0-0382-460E-AB9A-D232F0CEEC9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1 - 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33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TABLE PropertyForRent (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opertyNo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Number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,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oom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oom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EFAULT 4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ren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en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,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EFAULT 600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ownerNo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OwnerNumber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taffNo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taffNumber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onstraint StaffNotHandlingTooMuch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branchNo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BranchNumber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RIMARY KEY (propertyNo)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OREIGN KEY (staffNo) REFERENCES Staff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  <a:tab algn="l" pos="64263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ON DELETE SET NULL ON UPDATE CASCADE ….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EEC4-E7B3-400D-9592-FB191468639A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2 - CREATE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8600" y="1916280"/>
            <a:ext cx="87631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PARTMENT( Dname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Dnumber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REATE TABLE  department (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Dnam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CHAR(15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T NULL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number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T NULL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KEY (Dnumber)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UNIQUE (Dname)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HECK  (Dname  NOT LIKE </a:t>
            </a:r>
            <a:r>
              <a:rPr b="0" lang="ja-JP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% Inc.</a:t>
            </a:r>
            <a:r>
              <a:rPr b="0" lang="ja-JP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’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	</a:t>
            </a:r>
            <a:r>
              <a:rPr b="0" lang="en-AU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MS PGothic"/>
              </a:rPr>
              <a:t>AND Dnumber &gt;70)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C7C7-B7C5-47CC-B118-66C0ECF1E63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ALTER TABLE</a:t>
            </a: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(Changing a Table Definition 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dd a new table constrai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rop a table constrai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dd a new column to a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rop a column from a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t a default for a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14440" indent="-514440" algn="just">
              <a:spcBef>
                <a:spcPts val="700"/>
              </a:spcBef>
              <a:buClr>
                <a:srgbClr val="cc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rop a default for a colum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ALTER T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1280" y="1428840"/>
            <a:ext cx="907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Synta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LTER  TABLE  table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[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DD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COLUMN]  ColumnName   dataType  [NOT NULL]  [UNIQUE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DEFAULT  defaultOption]  [CHECK  (search condition)]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DROP[COLUMN]  ColumnName  [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 | CASCADE]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ADD [CONSTRAINT  [Constraint Name]] TableConstraint Definition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DROP CONSTRAINT  ConstraintName  [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| CASCADE]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ALTER  ColumnName  SET DEFAULT  DefaultOption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[ALTER  ColumnName  DROP DEFAULT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RESTRICT, drop operation is rejected if the column is referenced by another database objec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94840" indent="-294840">
              <a:spcBef>
                <a:spcPts val="4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ASCADE, drop operation drops all column from objects it is referenced by.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C547-EBFA-427F-9485-055705C14F8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AD6E-3151-4902-BC71-297C7E9CE86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5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ALTER TABLE</a:t>
            </a:r>
            <a:br>
              <a:rPr sz="2900"/>
            </a:br>
            <a:r>
              <a:rPr b="1" lang="en-US" sz="2400" spc="-1" strike="noStrike">
                <a:solidFill>
                  <a:srgbClr val="3a21ef"/>
                </a:solidFill>
                <a:latin typeface="Times New Roman"/>
              </a:rPr>
              <a:t>1-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Add a new table constraint</a:t>
            </a:r>
            <a:br>
              <a:rPr sz="24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2- </a:t>
            </a:r>
            <a:r>
              <a:rPr b="1" lang="en-US" sz="2400" spc="-1" strike="noStrike">
                <a:solidFill>
                  <a:srgbClr val="3a21ef"/>
                </a:solidFill>
                <a:latin typeface="Times New Roman"/>
              </a:rPr>
              <a:t>Drop a table constraint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85480" y="1557360"/>
            <a:ext cx="831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 7.2(b):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ve constraint from PropertyForRent that staff are not allowed to handle more than 100 properties at a tim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PropertyForR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CONSTRAINT StaffNotHandlingTooMuch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hange the staff table by making the salary must be &gt;10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DD CONSTRAINT Staff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( Salary &gt;1000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09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dentifier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8400" y="1676520"/>
            <a:ext cx="833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sed to identify objects such as table names, view names and colum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ay contain A-Z, a-z, 0-9, _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 longer than 128 charact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rt with let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not contain spa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F724-5460-4776-BD8B-E57BAE9D2FF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ALTER TABLE</a:t>
            </a:r>
            <a:br>
              <a:rPr sz="24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3- Add a new column to a table </a:t>
            </a:r>
            <a:br>
              <a:rPr sz="24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4- Drop a column from a tab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4200" y="167652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dd new column to Client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Cli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DD prefNoRooms PRooms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ve the city attribute from the client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Cli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City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3E46-EAB2-46C0-883E-AA2366FA0CA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A50C-1C96-4007-8935-59AC0E00BC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ALTER TABLE</a:t>
            </a:r>
            <a:br>
              <a:rPr sz="29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5-Drop a default for a column</a:t>
            </a:r>
            <a:br>
              <a:rPr sz="2400"/>
            </a:b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6-Set a default for a colum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0360" y="1557360"/>
            <a:ext cx="793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 7.2(a)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hange Staff table by removing default of ‘Assistant’ for position column and setting default for sex column to female (‘F’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position DROP DEFAUL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TABLE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LTER sex SET DEFAULT ‘F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0D54-5678-4303-B4F8-5F81965DFC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DROP TABL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TABLE TableName [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| CASCADE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TABLE PropertyForRent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ves named table and all rows within i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RESTRICT, if any other objects depend for their existence on continued existence of this table, SQL does not allow reque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CASCADE, SQL drops all dependent objects (and objects dependent on these object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30D2-BC33-4BA5-BDB4-6EF21DEFCCD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QL - CREATE VIEW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3120" y="1537920"/>
            <a:ext cx="8840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ViewName [ (newColumnName [,...]) 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16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 subselec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16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[WITH [CASCADED | LOCAL] CHECK OPTION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 algn="just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 assign a name to each column in view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list of column names is specified, it must have same number of items as number of columns produced by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ubselect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omitted, each column takes name of corresponding column in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ubselect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ist must be specified if there is any ambiguity in a column n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ubselect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is known as the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defining query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BC61-2EE9-47EC-948B-6ED109EBECE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7.3 - Create Horizontal View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74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reate view so that manager at branch B003 can only see details for staff who work in his or her offi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Manager3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LECT *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747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HERE branchNo = ‘B003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1" name="Picture 4" descr="DS3-Table 06-03"/>
          <p:cNvPicPr/>
          <p:nvPr/>
        </p:nvPicPr>
        <p:blipFill>
          <a:blip r:embed="rId1"/>
          <a:stretch/>
        </p:blipFill>
        <p:spPr>
          <a:xfrm>
            <a:off x="1116000" y="4386240"/>
            <a:ext cx="734364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33F7-BE1A-4B34-90EB-3D7F5BCA053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7.4 - Create Vertical View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reate view of staff details at branch B003 excluding salar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Staff3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LECT staffNo, fName, lName, position, s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HERE branchNo = ‘B003’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5" name="Picture 4" descr="DS3-Table 06-04"/>
          <p:cNvPicPr/>
          <p:nvPr/>
        </p:nvPicPr>
        <p:blipFill>
          <a:blip r:embed="rId1"/>
          <a:stretch/>
        </p:blipFill>
        <p:spPr>
          <a:xfrm>
            <a:off x="990720" y="4419720"/>
            <a:ext cx="4876560" cy="215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D860-E7E0-4C48-8736-CA68701D9DA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7.5 - Grouped and Joined Vie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reate view of staff who manage properties for rent, including branch number they work at, staff number, and number of properties they mana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StaffPropCnt(branchNo, staffNo, cn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 SELECT s.branchNo, s.staffNo, COUNT(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Staff s, PropertyForRent 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HERE s.staffNo = p.staff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GROUP BY s.branchNo, s.staffNo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9" name="Picture 5" descr="DS3-Table 06-05"/>
          <p:cNvPicPr/>
          <p:nvPr/>
        </p:nvPicPr>
        <p:blipFill>
          <a:blip r:embed="rId1"/>
          <a:stretch/>
        </p:blipFill>
        <p:spPr>
          <a:xfrm>
            <a:off x="6143760" y="4071960"/>
            <a:ext cx="3000240" cy="278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8272-0122-41AF-944F-DF579EAF214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SQL - DROP VIEW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123120" indent="-766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uses definition of view to be deleted from 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VIEW ViewName [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RESTRICT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| CASCADE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DROP VIEW Manager3Staff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-766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CASCADE, all related dependent objects are deleted; i.e. any views defined on view being dropp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3120" indent="-766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RESTRICT (default), if any other objects depend for their existence on continued existence of view being dropped, command is reject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7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B53F-6E28-4ED9-9A72-81599A0750C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Restrictions on Vie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31360" indent="-5313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QL imposes several restrictions on creation and use of vie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31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a) If column in view is based on an aggregate fun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4160" indent="-265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umn may appear only in SELECT and ORDER BY clauses of queries that access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4160" indent="-265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lumn may not be used in WHERE nor be an argument to an aggregate function in any query based on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31360" indent="-5313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llowing query would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fail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974160" indent="0" algn="just">
              <a:lnSpc>
                <a:spcPct val="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222200" indent="-42516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SELECT COUNT(cnt) FROM StaffPropCn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222200" indent="-42516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SELECT * FROM StaffPropC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2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urier New"/>
              </a:rPr>
              <a:t>WHERE cnt &gt; 2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3289-4912-4EE8-ACD9-9E97A0F12AA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Restrictions on View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b) Grouped view may never be joined with a base table or a view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716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571680" indent="-5716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example, StaffPropCnt view is a grouped view, so any attempt to join this view with another table or view fai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1BE0-E70E-49BE-993D-5B53CC15D1D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SO SQL D</a:t>
            </a: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ta Typ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8" name="Picture 5" descr="DS3-Table 06-01"/>
          <p:cNvPicPr/>
          <p:nvPr/>
        </p:nvPicPr>
        <p:blipFill>
          <a:blip r:embed="rId1"/>
          <a:stretch/>
        </p:blipFill>
        <p:spPr>
          <a:xfrm>
            <a:off x="214200" y="1579680"/>
            <a:ext cx="8245440" cy="4421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260E-5EA5-476D-A13B-EF1211C6122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View Updatabi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ll updates to a base relation are immediately reflected in all views that reference that base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For a view to be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Times New Roman"/>
              </a:rPr>
              <a:t>updatable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, the DBMS must be able to trace any row or column back to its row or column in the source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ll updates to a view will be reflected in the underlying base relation, under the following 6 rul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D9A8-732F-4A09-ABB2-A8904E67AE4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View Updatabi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4200" y="135720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ISO specifies that a view is updatable if and only if: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INCT is not specifi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very element in SELECT list of defining query is a column name and no column appears more than o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ROM clause specifies only one table, excluding any views based on a join, union, intersection or differ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 nested SELECT referencing outer ta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 GROUP BY or HAVING clau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lso, every row added through view must not violate integrity constraints of base tab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3BB6-86DE-4620-9050-49FE46F69D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View Updatabi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wever, consider again view StaffPropC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we tried to insert record showing that at branch B003, SG5 manages 2 properti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INSERT INTO StaffPropC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VALUES (‘B003’, ‘SG5’, 2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ave to insert 2 records into PropertyForRent showing which properties SG5 manages. However, do not know which properties they are; i.e. do not know primary keys!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F04A-2C28-49C4-B9FB-5E197174FE0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View Updatability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0920" y="1557360"/>
            <a:ext cx="885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 algn="just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f change definition of view and replace count with actual property number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REATE VIEW StaffPropList (branchNo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taffNo, propertyNo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AS SELECT s.branchNo, s.staffNo, p.property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FROM Staff s, PropertyForRent 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WHERE s.staffNo = p.staffNo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w try to insert the record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INSERT INTO StaffPropLi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VALUES (‘B003’, ‘SG5’, ‘PG19’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ill problem, because in PropertyForRent all columns except postcode/staffNo are not allowed null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4320" indent="-274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However, have no way of giving remaining non-null columns valu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42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E877-0B80-487A-9BB0-1BFEF376BE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WITH CHECK OP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ows exist in a view because they satisfy WHERE condition of defining quer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a row changes and no longer satisfies condition, it disappears from the view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w rows appear within view when insert/update on view cause them to satisfy WHERE condi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ows that enter or leave a view are called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igrating row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ITH CHECK OPTION prohibits a row migrating out of the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3876-1E6C-4FF7-87AF-5596E7B3C02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Example 7.6 - WITH CHECK OPTION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VIEW Manager3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LECT *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FROM Staf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HERE branchNo = ‘B003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WITH CHECK OPTION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not update branch number of row B003 to B002 as this would cause row to migrate from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lso cannot insert a row into view with a branch number that does not equal B003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SO SQL D</a:t>
            </a: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a</a:t>
            </a: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ta Types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400" y="1676520"/>
            <a:ext cx="833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nd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OOLEA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ranchNo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HAR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dres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ARCHAR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30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itString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I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4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alary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ECIMA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7,2)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ich can handle a value up to 99,999.99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iewDat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AT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1702-8E37-49BD-9F67-4556A4B418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BE4B-8159-47E8-B2CA-D5BDD2CE6D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</a:t>
            </a:r>
            <a:endParaRPr b="0" lang="en-US" sz="29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sider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ive types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f integrity constraints defined in CREATE &amp; ALTER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quired 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omain constrai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ntity integr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ferential integr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74440" indent="-462960"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constrain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mposed in order to protect the database from becoming inconsisten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E727-A71C-4783-BEC5-9F840F1424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900" spc="-1" strike="noStrike">
                <a:solidFill>
                  <a:srgbClr val="3a21e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 Required Dat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-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 Required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ull is distinct from blank or zer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olumnName   dataType   [NOT NULL |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]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position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VARCHAR(10)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2-Domain Constrai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3840" y="1357200"/>
            <a:ext cx="8929800" cy="41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-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Domain Constrai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very column has a domain, in other words a set of legal valu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a) CHE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HECK (search condition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ex   CHAR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NOT NUL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HECK (sex IN (‘M’, ‘F’))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salary  DECIMAL  NOT NUL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HECK  (salary &gt; 10000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bno   I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CHECK (bno IN(SELECT branchno FROM branch)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0520" indent="-416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7286760" y="6500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6E4A-0823-4CFB-9F4D-5EF515E98AC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18E5-CC0D-4312-9BE8-6933F6F198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a0aff"/>
                </a:solidFill>
                <a:latin typeface="Times New Roman"/>
              </a:rPr>
              <a:t>Integrity Enhancement Feature</a:t>
            </a:r>
            <a:br>
              <a:rPr sz="2900"/>
            </a:b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2-Domain Constraints </a:t>
            </a: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lvl="1" marL="72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b) CREAT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7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yntax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DomainName [AS] dataTyp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[DEFAULT defaultOption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9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[CHECK (searchCondition)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buClr>
                <a:srgbClr val="cc0000"/>
              </a:buClr>
              <a:buSzPct val="75000"/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1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REATE DOMAIN SexType AS CH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HECK (VALUE IN (‘M’, ‘F’))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x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SexType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NOT NU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M. Connolly and Carolyn E. Begg</dc:creator>
  <dc:description>Transparencies for Chapter 6 of textbook
Database Systems: A Practical Approach to Design, Implementation, and Management</dc:description>
  <dc:language>en-US</dc:language>
  <cp:lastModifiedBy>h</cp:lastModifiedBy>
  <cp:lastPrinted>1998-06-08T15:17:53Z</cp:lastPrinted>
  <dcterms:modified xsi:type="dcterms:W3CDTF">2014-04-02T16:32:26Z</dcterms:modified>
  <cp:revision>222</cp:revision>
  <dc:subject>Database Systems</dc:subject>
  <dc:title>Chapter 6</dc:title>
</cp:coreProperties>
</file>