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A22-1B47-46E3-B734-E2AC9922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92B-97B5-4A90-906A-CBBF3000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1E4-E128-463D-8E4D-78962F2E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6C0-A352-4CBC-B952-E3FA4DF2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A0C-E144-48EC-BEB4-DF767EF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8BC-4DB8-4515-98E0-5E30BDF3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D39-5D40-41C9-9F3C-50412926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B07-867F-4CC7-9930-E54FB1EB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087-A500-45A7-A5DA-B6C25F4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B8E-25C3-4BF5-B901-B8F707F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798-8F1F-48B1-854F-2B02CEE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3C3-75EC-4795-AD74-D11D468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002D-102D-460F-A982-D82F86FFFA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رنامج سبوت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الفرن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231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724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0240" y="609480"/>
            <a:ext cx="896148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90612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4343400" y="-206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8686800" y="-183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343400" y="-206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8686800" y="-183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8686800" y="-11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8686800" y="-11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8686800" y="-87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8686800" y="-87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8686800" y="-598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8686800" y="-598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8686800" y="-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8686800" y="-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8686800" y="22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8686800" y="22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8686800" y="500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8686800" y="500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8686800" y="774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8686800" y="774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8686800" y="1324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8686800" y="1324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868680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>
            <a:off x="868680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8686800" y="1873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8686800" y="1873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>
            <a:off x="8686800" y="214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8686800" y="214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جموعة 33"/>
          <p:cNvGrpSpPr/>
          <p:nvPr/>
        </p:nvGrpSpPr>
        <p:grpSpPr>
          <a:xfrm>
            <a:off x="90360" y="303120"/>
            <a:ext cx="8952120" cy="6249960"/>
            <a:chOff x="90360" y="303120"/>
            <a:chExt cx="8952120" cy="6249960"/>
          </a:xfrm>
        </p:grpSpPr>
        <p:pic>
          <p:nvPicPr>
            <p:cNvPr id="91" name="Picture 28" descr="scan0009"/>
            <p:cNvPicPr/>
            <p:nvPr/>
          </p:nvPicPr>
          <p:blipFill>
            <a:blip r:embed="rId1"/>
            <a:srcRect l="1645" t="0" r="1093" b="0"/>
            <a:stretch/>
          </p:blipFill>
          <p:spPr>
            <a:xfrm>
              <a:off x="90360" y="303120"/>
              <a:ext cx="8952120" cy="624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30" descr=""/>
            <p:cNvPicPr/>
            <p:nvPr/>
          </p:nvPicPr>
          <p:blipFill>
            <a:blip r:embed="rId2"/>
            <a:srcRect l="66814" t="33601" r="30469" b="64094"/>
            <a:stretch/>
          </p:blipFill>
          <p:spPr>
            <a:xfrm>
              <a:off x="1981080" y="4648320"/>
              <a:ext cx="304560" cy="1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0" descr=""/>
            <p:cNvPicPr/>
            <p:nvPr/>
          </p:nvPicPr>
          <p:blipFill>
            <a:blip r:embed="rId3"/>
            <a:srcRect l="66814" t="33601" r="30469" b="64094"/>
            <a:stretch/>
          </p:blipFill>
          <p:spPr>
            <a:xfrm>
              <a:off x="1981080" y="4876920"/>
              <a:ext cx="304560" cy="1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0" descr=""/>
            <p:cNvPicPr/>
            <p:nvPr/>
          </p:nvPicPr>
          <p:blipFill>
            <a:blip r:embed="rId4"/>
            <a:srcRect l="66814" t="33601" r="30469" b="64094"/>
            <a:stretch/>
          </p:blipFill>
          <p:spPr>
            <a:xfrm>
              <a:off x="1981080" y="5147280"/>
              <a:ext cx="304560" cy="18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66680" y="762120"/>
            <a:ext cx="86724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can0010"/>
          <p:cNvPicPr/>
          <p:nvPr/>
        </p:nvPicPr>
        <p:blipFill>
          <a:blip r:embed="rId1"/>
          <a:stretch/>
        </p:blipFill>
        <p:spPr>
          <a:xfrm>
            <a:off x="152280" y="0"/>
            <a:ext cx="59706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اقمار الصناعية الهند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دأت في الفترة ما ب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حمول على القمر الصناعي الهند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2971800"/>
          <a:ext cx="7620120" cy="1828800"/>
        </p:xfrm>
        <a:graphic>
          <a:graphicData uri="http://schemas.openxmlformats.org/drawingml/2006/table">
            <a:tbl>
              <a:tblPr/>
              <a:tblGrid>
                <a:gridCol w="1225440"/>
                <a:gridCol w="2710080"/>
                <a:gridCol w="1779480"/>
                <a:gridCol w="1905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ط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د الطيف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ضوح المكان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ضوح  المكان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زرق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خضر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حمر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حمراء القريب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5</a:t>
                      </a:r>
                      <a:r>
                        <a:rPr b="0" lang="ar-SA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5</a:t>
                      </a:r>
                      <a:r>
                        <a:rPr b="0" lang="ar-S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م اكم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م تطور بعد ذلك بإطلا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s11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حم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-1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-1D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ذي 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كما في النطاق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سابقة ولكن بإضافة نطا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حت الحمراء المتوسطة بطول موج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5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7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 وبوضوح مكان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طلق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يعطي صورة بانكروماتيكية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صو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طاق البانكروماتيك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شعة الزرقاء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خضراء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مراء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 الحمراء القريب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7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ورة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 e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عالية الوضو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47"/>
          <p:cNvSpPr/>
          <p:nvPr/>
        </p:nvSpPr>
        <p:spPr>
          <a:xfrm>
            <a:off x="5311800" y="-29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52"/>
          <p:cNvSpPr/>
          <p:nvPr/>
        </p:nvSpPr>
        <p:spPr>
          <a:xfrm>
            <a:off x="8286840" y="-66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3"/>
          <p:cNvSpPr/>
          <p:nvPr/>
        </p:nvSpPr>
        <p:spPr>
          <a:xfrm>
            <a:off x="5311800" y="-295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0"/>
          <p:cNvSpPr/>
          <p:nvPr/>
        </p:nvSpPr>
        <p:spPr>
          <a:xfrm>
            <a:off x="8286840" y="-66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4"/>
          <p:cNvGrpSpPr/>
          <p:nvPr/>
        </p:nvGrpSpPr>
        <p:grpSpPr>
          <a:xfrm>
            <a:off x="66600" y="228600"/>
            <a:ext cx="9010800" cy="6629400"/>
            <a:chOff x="66600" y="228600"/>
            <a:chExt cx="9010800" cy="6629400"/>
          </a:xfrm>
        </p:grpSpPr>
        <p:pic>
          <p:nvPicPr>
            <p:cNvPr id="48" name="Picture 462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77724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63" descr=""/>
            <p:cNvPicPr/>
            <p:nvPr/>
          </p:nvPicPr>
          <p:blipFill>
            <a:blip r:embed="rId2"/>
            <a:stretch/>
          </p:blipFill>
          <p:spPr>
            <a:xfrm>
              <a:off x="66600" y="1019160"/>
              <a:ext cx="9010800" cy="583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يكنوس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KO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دأ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للنطاق البانكروماتيكي ويمتد طيفيا ما ب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ينما متعددة الاطيا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ها وضوح مكان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ضمن النطاقات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زر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ض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ح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 الحمراء القري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7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ورة عالية الوضوح ايكونو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ويك بيرد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طلق في اكتوب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يعطي صورة بانكروماتيكية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صو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يغطي المنطقة خل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م و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زر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ض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ح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6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 الحمراء القري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7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ينما امتداد طيف البانكروماتيك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هناك العديد من البرامج للأقمار الصن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 Wiv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اطلق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لمراقبة محيطات الارض وصممته ناسا ول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طاق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كذل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View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اطل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تبع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View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اطل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بوضوح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.8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كذلك النطاق البانكروماتيك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4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يكرومتر. وغيرها من الاقمار والبرامج الع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86295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أقمار الصناعية في برنامج سبو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-314280" y="2238480"/>
            <a:ext cx="9610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جهزة الاستشعار عن بعد المحمولة على 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و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و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990800"/>
            <a:ext cx="8961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0104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جهزة الاستشعار عن بعد المحمولة على سبوت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9296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44360" y="441360"/>
            <a:ext cx="869472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جهزة الاستشعار عن بعد المحمولة على سبوت-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-76320" y="1143000"/>
            <a:ext cx="9296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4:27:21Z</dcterms:created>
  <dc:creator>may</dc:creator>
  <dc:description/>
  <dc:language>en-US</dc:language>
  <cp:lastModifiedBy>mey</cp:lastModifiedBy>
  <dcterms:modified xsi:type="dcterms:W3CDTF">2014-05-01T09:03:37Z</dcterms:modified>
  <cp:revision>128</cp:revision>
  <dc:subject/>
  <dc:title>Slide 1</dc:title>
</cp:coreProperties>
</file>