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F64-CF51-41B7-B913-E971C7FC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4CA-F593-4A83-A972-34C1118A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B65-B66F-485F-A80F-15DD489D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B36-6CF9-4F8C-9CF4-6751EDB4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537-7F6C-4DD8-B886-14D978D5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784-DD54-496C-A4EB-042B3703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4B9-D1E2-4301-BBE5-06AFD5F2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858E-AC81-4F81-8932-9BE1F519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E88-7F73-467B-9DCE-C9E2A31B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F6F-35A5-4CE7-BDCC-A580C1A6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772-3724-4734-9F0B-C41729AC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F51-119F-4F07-992F-344DDF89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9C65-0A5E-415A-96E5-CB49966922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برنامج سبوت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الفرنس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7231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7240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30240" y="609480"/>
            <a:ext cx="896148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90612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2"/>
          <p:cNvSpPr/>
          <p:nvPr/>
        </p:nvSpPr>
        <p:spPr>
          <a:xfrm>
            <a:off x="4343400" y="-2062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8686800" y="-183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4343400" y="-2062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8686800" y="-183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8686800" y="-1147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8686800" y="-1147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8686800" y="-87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8686800" y="-87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8686800" y="-598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8686800" y="-598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8686800" y="-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8686800" y="-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8686800" y="22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8686800" y="22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8686800" y="500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>
            <a:off x="8686800" y="500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>
            <a:off x="8686800" y="774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>
            <a:off x="8686800" y="774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>
            <a:off x="8686800" y="1324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>
            <a:off x="8686800" y="1324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2"/>
          <p:cNvSpPr/>
          <p:nvPr/>
        </p:nvSpPr>
        <p:spPr>
          <a:xfrm>
            <a:off x="868680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3"/>
          <p:cNvSpPr/>
          <p:nvPr/>
        </p:nvSpPr>
        <p:spPr>
          <a:xfrm>
            <a:off x="868680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4"/>
          <p:cNvSpPr/>
          <p:nvPr/>
        </p:nvSpPr>
        <p:spPr>
          <a:xfrm>
            <a:off x="8686800" y="1873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8686800" y="1873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6"/>
          <p:cNvSpPr/>
          <p:nvPr/>
        </p:nvSpPr>
        <p:spPr>
          <a:xfrm>
            <a:off x="8686800" y="2147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"/>
          <p:cNvSpPr/>
          <p:nvPr/>
        </p:nvSpPr>
        <p:spPr>
          <a:xfrm>
            <a:off x="8686800" y="2147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مجموعة 33"/>
          <p:cNvGrpSpPr/>
          <p:nvPr/>
        </p:nvGrpSpPr>
        <p:grpSpPr>
          <a:xfrm>
            <a:off x="90360" y="303120"/>
            <a:ext cx="8952120" cy="6249960"/>
            <a:chOff x="90360" y="303120"/>
            <a:chExt cx="8952120" cy="6249960"/>
          </a:xfrm>
        </p:grpSpPr>
        <p:pic>
          <p:nvPicPr>
            <p:cNvPr id="91" name="Picture 28" descr="scan0009"/>
            <p:cNvPicPr/>
            <p:nvPr/>
          </p:nvPicPr>
          <p:blipFill>
            <a:blip r:embed="rId1"/>
            <a:srcRect l="1645" t="0" r="1093" b="0"/>
            <a:stretch/>
          </p:blipFill>
          <p:spPr>
            <a:xfrm>
              <a:off x="90360" y="303120"/>
              <a:ext cx="8952120" cy="624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30" descr=""/>
            <p:cNvPicPr/>
            <p:nvPr/>
          </p:nvPicPr>
          <p:blipFill>
            <a:blip r:embed="rId2"/>
            <a:srcRect l="66814" t="33601" r="30469" b="64094"/>
            <a:stretch/>
          </p:blipFill>
          <p:spPr>
            <a:xfrm>
              <a:off x="1981080" y="4648320"/>
              <a:ext cx="304560" cy="18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30" descr=""/>
            <p:cNvPicPr/>
            <p:nvPr/>
          </p:nvPicPr>
          <p:blipFill>
            <a:blip r:embed="rId3"/>
            <a:srcRect l="66814" t="33601" r="30469" b="64094"/>
            <a:stretch/>
          </p:blipFill>
          <p:spPr>
            <a:xfrm>
              <a:off x="1981080" y="4876920"/>
              <a:ext cx="304560" cy="18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0" descr=""/>
            <p:cNvPicPr/>
            <p:nvPr/>
          </p:nvPicPr>
          <p:blipFill>
            <a:blip r:embed="rId4"/>
            <a:srcRect l="66814" t="33601" r="30469" b="64094"/>
            <a:stretch/>
          </p:blipFill>
          <p:spPr>
            <a:xfrm>
              <a:off x="1981080" y="5147280"/>
              <a:ext cx="304560" cy="18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66680" y="762120"/>
            <a:ext cx="867240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scan0010"/>
          <p:cNvPicPr/>
          <p:nvPr/>
        </p:nvPicPr>
        <p:blipFill>
          <a:blip r:embed="rId1"/>
          <a:stretch/>
        </p:blipFill>
        <p:spPr>
          <a:xfrm>
            <a:off x="152280" y="0"/>
            <a:ext cx="59706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اقمار الصناعية الهند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دأت في الفترة ما ب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حمول على القمر الصناعي الهند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عا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2971800"/>
          <a:ext cx="7620120" cy="1828800"/>
        </p:xfrm>
        <a:graphic>
          <a:graphicData uri="http://schemas.openxmlformats.org/drawingml/2006/table">
            <a:tbl>
              <a:tblPr/>
              <a:tblGrid>
                <a:gridCol w="1225440"/>
                <a:gridCol w="2710080"/>
                <a:gridCol w="1779480"/>
                <a:gridCol w="1905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طا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د الطيف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وضوح المكان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s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وضوح  المكان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s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زرق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خضر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حمر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ت الحمراء القريبة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5</a:t>
                      </a:r>
                      <a:r>
                        <a:rPr b="0" lang="ar-SA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25</a:t>
                      </a:r>
                      <a:r>
                        <a:rPr b="0" lang="ar-S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م اكم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عا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م تطور بعد ذلك بإطلا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s11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حم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-1c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-1D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الذي له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طاقات كما في النطاقات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سابقة ولكن بإضافة نطاق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حت الحمراء المتوسطة بطول موج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.5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.7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 وبوضوح مكان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طلق ف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ويعطي صورة بانكروماتيكية بوضوح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4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صور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وضوح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ه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طاقات 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طاق البانكروماتيك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4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8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شعة الزرقاء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4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خضراء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مراء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ت الحمراء القريب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7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9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صورة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 ey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عالية الوضو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عنصر نائب للمحتوى 3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47"/>
          <p:cNvSpPr/>
          <p:nvPr/>
        </p:nvSpPr>
        <p:spPr>
          <a:xfrm>
            <a:off x="5311800" y="-295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52"/>
          <p:cNvSpPr/>
          <p:nvPr/>
        </p:nvSpPr>
        <p:spPr>
          <a:xfrm>
            <a:off x="8286840" y="-66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53"/>
          <p:cNvSpPr/>
          <p:nvPr/>
        </p:nvSpPr>
        <p:spPr>
          <a:xfrm>
            <a:off x="5311800" y="-295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60"/>
          <p:cNvSpPr/>
          <p:nvPr/>
        </p:nvSpPr>
        <p:spPr>
          <a:xfrm>
            <a:off x="8286840" y="-66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4"/>
          <p:cNvGrpSpPr/>
          <p:nvPr/>
        </p:nvGrpSpPr>
        <p:grpSpPr>
          <a:xfrm>
            <a:off x="66600" y="228600"/>
            <a:ext cx="9010800" cy="6629400"/>
            <a:chOff x="66600" y="228600"/>
            <a:chExt cx="9010800" cy="6629400"/>
          </a:xfrm>
        </p:grpSpPr>
        <p:pic>
          <p:nvPicPr>
            <p:cNvPr id="48" name="Picture 462" descr=""/>
            <p:cNvPicPr/>
            <p:nvPr/>
          </p:nvPicPr>
          <p:blipFill>
            <a:blip r:embed="rId1"/>
            <a:stretch/>
          </p:blipFill>
          <p:spPr>
            <a:xfrm>
              <a:off x="685800" y="228600"/>
              <a:ext cx="777240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63" descr=""/>
            <p:cNvPicPr/>
            <p:nvPr/>
          </p:nvPicPr>
          <p:blipFill>
            <a:blip r:embed="rId2"/>
            <a:stretch/>
          </p:blipFill>
          <p:spPr>
            <a:xfrm>
              <a:off x="66600" y="1019160"/>
              <a:ext cx="9010800" cy="583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يكنوس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KO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دأ عا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وبوضوح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8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للنطاق البانكروماتيكي ويمتد طيفيا ما ب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4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ينما متعددة الاطيا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لها وضوح مكان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ضمن النطاقات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زرق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4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خض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حم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ت الحمراء القريب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7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صورة عالية الوضوح ايكونو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458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كويك بيرد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B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طلق في اكتوب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ويعطي صورة بانكروماتيكية بوضوح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وصور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وضوح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ويغطي المنطقة خلا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وم وله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طاقات 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زرق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4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خض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حم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ت الحمراء القريب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7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ينما امتداد طيف البانكروماتيك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4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وهناك العديد من البرامج للأقمار الصناع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ثل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 Wiv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ذي اطلق عا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لمراقبة محيطات الارض وصممته ناسا وله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طاق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كذل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View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ذي اطلق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وتبع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View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ذي اطلق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بوضوح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.8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كذلك النطاق البانكروماتيك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4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. وغيرها من الاقمار والبرامج العديد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رج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faculty.ksu.edu.sa/geography-alsaleh/default.a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86295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أقمار الصناعية في برنامج سبو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-314280" y="2238480"/>
            <a:ext cx="96105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جهزة الاستشعار عن بعد المحمولة على سبوت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وسبوت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وسبوت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1990800"/>
            <a:ext cx="89614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0104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جهزة الاستشعار عن بعد المحمولة على سبوت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76320" y="1371600"/>
            <a:ext cx="9296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44360" y="441360"/>
            <a:ext cx="869472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جهزة الاستشعار عن بعد المحمولة على سبوت-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-76320" y="1143000"/>
            <a:ext cx="9296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4:27:21Z</dcterms:created>
  <dc:creator>may</dc:creator>
  <dc:description/>
  <dc:language>en-US</dc:language>
  <cp:lastModifiedBy>mey</cp:lastModifiedBy>
  <dcterms:modified xsi:type="dcterms:W3CDTF">2014-05-01T09:03:37Z</dcterms:modified>
  <cp:revision>128</cp:revision>
  <dc:subject/>
  <dc:title>Slide 1</dc:title>
</cp:coreProperties>
</file>