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1.png" ContentType="image/png"/>
  <Override PartName="/ppt/media/image27.gif" ContentType="image/gif"/>
  <Override PartName="/ppt/media/image12.png" ContentType="image/png"/>
  <Override PartName="/ppt/media/image28.gif" ContentType="image/gif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29.gif" ContentType="image/gif"/>
  <Override PartName="/ppt/media/image9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jpeg" ContentType="image/jpeg"/>
  <Override PartName="/ppt/media/image10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A4D-D313-41CA-99EB-86DA7069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1CC-EAC7-4F3F-A978-DBD2CD04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0A8-91EC-47BF-B092-5140330B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2C2-8305-4694-8CBC-463A992A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A9A-3378-4933-804F-80860EE2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F68-3C83-48EB-B678-9B5E1336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D65-4B57-4A9F-8C35-0048F593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F69-06DA-4099-BBDF-66F93773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467-2EFE-44BD-9108-F55C1CFB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66D-43ED-4A69-AE70-DAAE5C9E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C20-E342-464F-ACA3-5A22153F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82B-EE4B-4614-A2C2-1EED48FC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ED3F-EF48-4D99-A3A9-2C62E2591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png"/><Relationship Id="rId2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-MEDIATED I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1752480"/>
            <a:ext cx="4800600" cy="87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tigen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Formation of viral proteins by macroph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Formation of antigen-MHC compl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2819520"/>
            <a:ext cx="48006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cell ac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nding of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 to antigen-MHC compl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lease of cytokines from macroph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ctivation of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 to release cytoki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67080" y="4114800"/>
            <a:ext cx="4800600" cy="93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cell ac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ctivation of virgin and memory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s by cytoki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Promotion of mitosis and differentiation of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22800"/>
            <a:ext cx="4800600" cy="894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ellular de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nding of effector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 to infected body ce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Induction of cell lysis by release of perforin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1295280"/>
          <a:ext cx="388620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38862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28600" y="2590920"/>
          <a:ext cx="388620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90920"/>
                    <a:ext cx="3886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28600" y="4724280"/>
          <a:ext cx="3886200" cy="19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724280"/>
                    <a:ext cx="388620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ncell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90920" y="1981080"/>
            <a:ext cx="3733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omplement fix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adcc" descr=""/>
          <p:cNvPicPr/>
          <p:nvPr/>
        </p:nvPicPr>
        <p:blipFill>
          <a:blip r:embed="rId1"/>
          <a:stretch/>
        </p:blipFill>
        <p:spPr>
          <a:xfrm>
            <a:off x="2666880" y="2806560"/>
            <a:ext cx="3733920" cy="3046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90920" y="2057400"/>
            <a:ext cx="3733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ytotox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u3fg25" descr=""/>
          <p:cNvPicPr/>
          <p:nvPr/>
        </p:nvPicPr>
        <p:blipFill>
          <a:blip r:embed="rId1"/>
          <a:stretch/>
        </p:blipFill>
        <p:spPr>
          <a:xfrm>
            <a:off x="2666880" y="2806560"/>
            <a:ext cx="3733920" cy="3048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666880" y="19810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gglu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685800" y="1689120"/>
          <a:ext cx="7620120" cy="50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89120"/>
                    <a:ext cx="762012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MARY AND SECONDARY IMMUNE RESPON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antibodytiter" descr=""/>
          <p:cNvPicPr/>
          <p:nvPr/>
        </p:nvPicPr>
        <p:blipFill>
          <a:blip r:embed="rId1"/>
          <a:srcRect l="0" t="0" r="0" b="3150"/>
          <a:stretch/>
        </p:blipFill>
        <p:spPr>
          <a:xfrm>
            <a:off x="533520" y="1744560"/>
            <a:ext cx="7772400" cy="491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 VERSUS PASSIVE I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82640" y="1905120"/>
            <a:ext cx="2483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cquired I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38040" y="2743200"/>
            <a:ext cx="20948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Artificial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Ac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3560" y="2743200"/>
            <a:ext cx="1982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Naturally Ac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8" idx="1"/>
            <a:endCxn id="170" idx="0"/>
          </p:cNvCxnSpPr>
          <p:nvPr/>
        </p:nvCxnSpPr>
        <p:spPr>
          <a:xfrm flipV="1" rot="10800000">
            <a:off x="2743920" y="2107800"/>
            <a:ext cx="734400" cy="635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8" idx="3"/>
            <a:endCxn id="169" idx="0"/>
          </p:cNvCxnSpPr>
          <p:nvPr/>
        </p:nvCxnSpPr>
        <p:spPr>
          <a:xfrm>
            <a:off x="5970240" y="2108160"/>
            <a:ext cx="816840" cy="635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73" name=""/>
          <p:cNvGraphicFramePr/>
          <p:nvPr/>
        </p:nvGraphicFramePr>
        <p:xfrm>
          <a:off x="990720" y="3505320"/>
          <a:ext cx="144756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144756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048120" y="3505320"/>
          <a:ext cx="144756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505320"/>
                    <a:ext cx="144756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105520" y="3505320"/>
          <a:ext cx="1447560" cy="28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505320"/>
                    <a:ext cx="144756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7086600" y="3505320"/>
          <a:ext cx="1371600" cy="28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3505320"/>
                    <a:ext cx="137160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81" name=""/>
          <p:cNvCxnSpPr>
            <a:stCxn id="169" idx="1"/>
          </p:cNvCxnSpPr>
          <p:nvPr/>
        </p:nvCxnSpPr>
        <p:spPr>
          <a:xfrm flipH="1" flipV="1" rot="10800000">
            <a:off x="5726520" y="2916000"/>
            <a:ext cx="102600" cy="589680"/>
          </a:xfrm>
          <a:prstGeom prst="bentConnector4">
            <a:avLst>
              <a:gd name="adj1" fmla="val -225000"/>
              <a:gd name="adj2" fmla="val 646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9" idx="3"/>
          </p:cNvCxnSpPr>
          <p:nvPr/>
        </p:nvCxnSpPr>
        <p:spPr>
          <a:xfrm flipH="1">
            <a:off x="7772040" y="2916360"/>
            <a:ext cx="72000" cy="589680"/>
          </a:xfrm>
          <a:prstGeom prst="bentConnector4">
            <a:avLst>
              <a:gd name="adj1" fmla="val -319597"/>
              <a:gd name="adj2" fmla="val 646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0" idx="3"/>
          </p:cNvCxnSpPr>
          <p:nvPr/>
        </p:nvCxnSpPr>
        <p:spPr>
          <a:xfrm flipH="1">
            <a:off x="3657240" y="2916360"/>
            <a:ext cx="87840" cy="513360"/>
          </a:xfrm>
          <a:prstGeom prst="bentConnector4">
            <a:avLst>
              <a:gd name="adj1" fmla="val -262551"/>
              <a:gd name="adj2" fmla="val 66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0" idx="1"/>
          </p:cNvCxnSpPr>
          <p:nvPr/>
        </p:nvCxnSpPr>
        <p:spPr>
          <a:xfrm flipH="1" flipV="1" rot="10800000">
            <a:off x="1743480" y="2916000"/>
            <a:ext cx="237240" cy="513360"/>
          </a:xfrm>
          <a:prstGeom prst="bentConnector4">
            <a:avLst>
              <a:gd name="adj1" fmla="val -96504"/>
              <a:gd name="adj2" fmla="val 66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33520" y="1295280"/>
          <a:ext cx="327636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327636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33520" y="4508640"/>
          <a:ext cx="327636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508640"/>
                    <a:ext cx="327636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UMORAL I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1752480"/>
            <a:ext cx="4953240" cy="87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tigen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Formation of viral proteins by macroph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Formation of antigen-MHC compl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2819520"/>
            <a:ext cx="4953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cell ac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nding of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 to antigen-MHC compl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lease of cytokines from macroph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ctivation of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 to release cytoki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4114800"/>
            <a:ext cx="4953240" cy="839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ell ac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ctivation of virgin and memory B cells by cytoki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Promotion of mitosis and differentiation of B ce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5122800"/>
            <a:ext cx="4953240" cy="87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tibodies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lease of circulating antibodies into the bloodstream      from the plasma ce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CYTOKINES IN ACQUIRED I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4114800"/>
          <a:ext cx="8839440" cy="2052360"/>
        </p:xfrm>
        <a:graphic>
          <a:graphicData uri="http://schemas.openxmlformats.org/drawingml/2006/table">
            <a:tbl>
              <a:tblPr/>
              <a:tblGrid>
                <a:gridCol w="1239840"/>
                <a:gridCol w="1579680"/>
                <a:gridCol w="2209680"/>
                <a:gridCol w="3810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ytok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ite of Rel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timu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ff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ukin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h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-MHC co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of IL-2 release from 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ukin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ic stim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-1 sig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ion of IL-2 receptor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ion of virgin &amp; memory 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B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F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ed 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ed 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toxicity of target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N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ed 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-MHC co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ion of macroph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expression of 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Cytokines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2421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62485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NF-</a:t>
            </a:r>
            <a:r>
              <a:rPr b="1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umor Necrosis Factor </a:t>
            </a:r>
            <a:r>
              <a:rPr b="1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IFN</a:t>
            </a:r>
            <a:r>
              <a:rPr b="1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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Interferon </a:t>
            </a:r>
            <a:r>
              <a:rPr b="1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5320" y="3505320"/>
            <a:ext cx="15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erleuk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3240" y="1752480"/>
            <a:ext cx="15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erleuk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1676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NF-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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N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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343400" y="3038400"/>
          <a:ext cx="205740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38400"/>
                    <a:ext cx="205740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E OF IMMUNOGLOBU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4640" y="49528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040" y="49528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Vari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1120" y="1600200"/>
            <a:ext cx="8532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lycoprotein molecules produced  by plasma cells in response to an ant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95288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v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90920" y="3286080"/>
          <a:ext cx="1592280" cy="16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286080"/>
                    <a:ext cx="15922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280" y="2911320"/>
          <a:ext cx="2286000" cy="20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911320"/>
                    <a:ext cx="22860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07800" y="40132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9520" y="28195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L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31640" y="327672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7339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79480" y="411480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9480" y="455616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8000" y="2895480"/>
            <a:ext cx="43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781680" y="2133720"/>
          <a:ext cx="203364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2133720"/>
                    <a:ext cx="2033640" cy="2057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104160" y="342900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6280" y="64594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magesIgL" descr=""/>
          <p:cNvPicPr/>
          <p:nvPr/>
        </p:nvPicPr>
        <p:blipFill>
          <a:blip r:embed="rId9"/>
          <a:stretch/>
        </p:blipFill>
        <p:spPr>
          <a:xfrm>
            <a:off x="6781680" y="4343400"/>
            <a:ext cx="2057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6629400" y="380988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609588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467480" y="586692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315200" y="35809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ES &amp; FUNCTIONS OF IMMUNOGLOBUL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43280"/>
          <a:ext cx="2895840" cy="14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43280"/>
                    <a:ext cx="289584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143000" y="3733920"/>
          <a:ext cx="128916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12891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819520" y="4038480"/>
          <a:ext cx="1523880" cy="80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038480"/>
                    <a:ext cx="152388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48320" y="1981080"/>
          <a:ext cx="289548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981080"/>
                    <a:ext cx="2895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76920" y="3657600"/>
          <a:ext cx="1447560" cy="143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3657600"/>
                    <a:ext cx="144756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743200" y="232416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314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3314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9760" y="41911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c Pept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7440" y="16225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7320" y="16635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2000" y="5105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4840" y="51055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8680" y="5105520"/>
            <a:ext cx="119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(ab’) 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75840" y="586728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59200" y="586728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8672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&amp; No effecto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295280"/>
          <a:ext cx="792468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924680" cy="32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85800" y="1752480"/>
          <a:ext cx="79246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752480"/>
                    <a:ext cx="7924680" cy="762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5800" y="2666880"/>
          <a:ext cx="7924680" cy="9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666880"/>
                    <a:ext cx="7924680" cy="981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85800" y="3733920"/>
          <a:ext cx="792468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733920"/>
                    <a:ext cx="7924680" cy="871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85800" y="4724280"/>
          <a:ext cx="7913520" cy="78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4724280"/>
                    <a:ext cx="7913520" cy="781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5800" y="5638680"/>
          <a:ext cx="7924680" cy="885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5638680"/>
                    <a:ext cx="7924680" cy="88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895480" y="3733920"/>
          <a:ext cx="121932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37339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895480" y="2666880"/>
          <a:ext cx="1219320" cy="955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95480" y="2666880"/>
                    <a:ext cx="12193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895480" y="1752480"/>
          <a:ext cx="121932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95480" y="1752480"/>
                    <a:ext cx="1219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895480" y="4724280"/>
          <a:ext cx="1219320" cy="762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95480" y="4724280"/>
                    <a:ext cx="1219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895480" y="5638680"/>
          <a:ext cx="1219320" cy="838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95480" y="5638680"/>
                    <a:ext cx="1219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exkill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66880" y="167652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Opson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exo" descr=""/>
          <p:cNvPicPr/>
          <p:nvPr/>
        </p:nvPicPr>
        <p:blipFill>
          <a:blip r:embed="rId1"/>
          <a:stretch/>
        </p:blipFill>
        <p:spPr>
          <a:xfrm>
            <a:off x="2666880" y="24256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90920" y="1816200"/>
            <a:ext cx="3733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Exotoxin Neutr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nvir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90920" y="1905120"/>
            <a:ext cx="3733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Viral Neutr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21:55:59Z</dcterms:created>
  <dc:creator>Helen</dc:creator>
  <dc:description/>
  <dc:language>en-US</dc:language>
  <cp:lastModifiedBy>Helen</cp:lastModifiedBy>
  <dcterms:modified xsi:type="dcterms:W3CDTF">2005-02-23T20:54:44Z</dcterms:modified>
  <cp:revision>40</cp:revision>
  <dc:subject/>
  <dc:title>CELL-MEDIATED IMMUNITY</dc:title>
</cp:coreProperties>
</file>