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753-CCCC-406B-BB3A-C43A775E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21F-C61C-459F-B9A0-3195FE8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062-8F54-4AF1-B79A-19F77480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3AF-1BD3-44E1-9AC6-46F3126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A7AE-9B37-45FE-8701-24304E85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FF4-0AAD-470F-BAC6-073FA0B5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F74D-52A8-43B9-A8EE-FB0496E6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CBF-AB3D-4887-9BC0-B2B005C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4C0-66CE-4D85-926C-435B996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B362-9939-40D7-B353-61DC5C2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891-7BDD-4D2A-B2DA-BAD35CC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B68-42F5-4D26-ADF0-B05F5792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D0A-481F-469D-8566-277119A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11D-8C9D-4169-A679-49A7477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A6C2-D7EE-450D-B850-B0767325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18A1-28F2-4A56-9FA4-E4647CBC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DE4-57BA-4796-A2F2-662524D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F07-C42F-4ABC-8C38-34E9C05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C83-43BB-4796-8ADA-24DAB96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A19-63C8-4343-9EB3-704B929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8D6-D5D4-4407-A52B-FA58ECA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F5C-54DA-47C0-BF2D-C91D79F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154-3A84-424A-A1A3-55793C1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3D7-67BA-4EA9-B661-1873A2D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2DAB-3161-4203-AF21-F51578692A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A99-CA40-4A8E-99E9-FFB5025FF7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209080" cy="2735280"/>
          </a:xfrm>
          <a:prstGeom prst="rect">
            <a:avLst/>
          </a:prstGeom>
          <a:noFill/>
          <a:ln w="7632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600" spc="-1" strike="noStrike">
                <a:solidFill>
                  <a:srgbClr val="f4fa10"/>
                </a:solidFill>
                <a:latin typeface="Garamond"/>
              </a:rPr>
              <a:t>المحاضرة الحادية عشره</a:t>
            </a:r>
            <a:endParaRPr b="0" lang="en-US" sz="8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رس مندل بقية أزواج الصفات المتفارقة وحصل على نفس النتائ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حدد مندل عدد العوامل المسؤولة عن ظهور الصفة من خلال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لقيح الذاتي للـ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من النتائج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لقيحات الاختبار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                                           وجد ان هناك عاملين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                                           يحددان توارث الصف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076360" y="2421000"/>
            <a:ext cx="863640" cy="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92360" y="2349360"/>
            <a:ext cx="1008360" cy="43200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2781360"/>
            <a:ext cx="1800360" cy="287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781360"/>
            <a:ext cx="0" cy="57636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5724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4fa10"/>
                </a:solidFill>
                <a:latin typeface="Garamond"/>
              </a:rPr>
              <a:t>النتائج العامة التي توصل إليها مندل من بعض تجارب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ناك محددات وراثية ذات طبيعة جزيئية هي المسؤولة عن توارث الصفات سماها مندل بالعوامل (الجينات الآن), ومن نتائج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فان العامل (الجين قد يختفي تأثيره إلا أنه لا يحطم (ليس هناك خلط كما كان يعتقد)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بالنسبة لأي صفة وراثية درسها مندل , فإن أفراد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الناتجه من تزاوج فردين يختلفان فيما بينهما في زوج واحد من الصفات المتفارقه, تظهر إحدى الصفتين فقط. سمى مندل هذه الصفة بالصفة السائدة.أما الصفة التي اختفت في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عادة للظهور وبتكرار ¼ في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فسماها مندل بالصفه المتنحي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زاوجات العكسية تعطي نتائج متماثلة- كلا الأبوين يساهم في توارث الصف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الفرد زوجي التركيب العاملي (الأليلي الآن) , أي أن الجينات توجد في أزواج وأن كل زوج مسؤول عن إظهار صفة وراثية معين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”ينعزل فردي أي زوج عاملي (اليلي) عن بعضها البعض عند تكوين الأمشاج ” قانون الانعزال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تحمل المشيجة (الجاميطة) عامل (اليل) واحد فقط للصفة تحت الدراس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عملية إتحاد الأمشاج المذكرة بالأمشاج المؤنثة (عملية الاخصاب) لتكوين اللاقحات عبارة عن عملية عشوائية , وهي المسؤولة عن ظهور النسب التي تحصل عليها مندل ووفق في تفسيرها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44000" cy="86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4fa10"/>
                </a:solidFill>
                <a:latin typeface="Garamond"/>
              </a:rPr>
              <a:t>أساسيات مندل(الوراثة المندلية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الوراثة المندلية: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نمط من أنماط التوارث الذي يختص بطرق التوارث الأساسية في الكائنات الحية التي تتكاثر جنسيا والتي لها أكثر من كرموسوم واحد ( كيفية انتقال الجينات من الاباء الى النسل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وراثة الخلط(المزج)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Btending inh</a:t>
            </a:r>
            <a:r>
              <a:rPr b="1" lang="ar-SA" sz="2800" spc="-1" strike="noStrike">
                <a:solidFill>
                  <a:srgbClr val="ffcc00"/>
                </a:solidFill>
                <a:latin typeface="Verdana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الحيوان المنوي والبويضة يحتويان على جزيئات صغيرة تمثل الأعضاء المختلفة للكائن, وعند الحمل فان هذه الجزيئات تختلط (تمتزج) بطريقة ما لتعطى نمط الفرد الجدي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وراثة الدقائق (الجسيمات)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Particulte inh</a:t>
            </a: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 :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ناك محددات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وراثية تنتقل من جيل لآخر كوحدات متكاملة دون خلط فيما بينها كما كان يعتق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Verdana"/>
              </a:rPr>
              <a:t>مندل :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عالم نمساوي ولد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2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لعائلة فقيرة/ ابو علم الوراثة / توفى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84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/ بدأ تجاربه 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5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على نبتة البسل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sum sativum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65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القى نتائج تجاربه في محاضرتين امام جمعية برون للعلو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86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نشرت ورق عمل مندل في التقرير السنوي للجمعية / لم تلق نتائجه أي انتباه من الهيئة العلمية في ذلك الوقت الى ان اعيد اكتشاف اساسياته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0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على ايدي ثلاثة من (علماء النبات ه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r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هولندي /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ماني  /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chermak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نمساوي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00"/>
                </a:solidFill>
                <a:latin typeface="Verdana"/>
              </a:rPr>
              <a:t>أسباب عدم تقدير العلماء لنتائج التي توصل اليها مندل</a:t>
            </a:r>
            <a:r>
              <a:rPr b="0" lang="ar-SA" sz="2800" spc="-1" strike="noStrike">
                <a:solidFill>
                  <a:srgbClr val="cccc66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نشغال العلماء بايجاد تفسير لشرح آلية توارث الصفات المستمر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لم يكن هناك اية ادلة لوجود عناصر فيزيائية للمحددات التي تكلم عنها مندل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ستعمال مندل للتحليلات الرياضي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لم يكن مندل مشهور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عبي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tic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دخل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6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بواسطة العال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eson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تعبي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دخل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09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 بواسطة العال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annsen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9900"/>
                </a:solidFill>
                <a:latin typeface="Verdana"/>
              </a:rPr>
              <a:t>جوهر تجارب مندل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إجرء تزاوجات بين نباتات تختلف فيما بينها في صفات متقطعة تم مشاهدة نمط توارثها في الأجيال المتتابع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طريقة مندل كانت مثالا ممتازا للطريقة العلمية في البحث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ختار مادة البحث المناسبة لدراسة مشكلة معينة في وقت معين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خطط بدقه متناهية للتجارب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ستعمل التحليل الرياضي واستفاد من اخطاء من سبقوه وعمل على تلافيها, كما ادخل مندل بعض التحسينات التي منها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درس كل صفة على حده واعتبر الصفة لا الفرد هي الوحدة في الوراث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حصر وعد كل فئة من فئات النسل الناتج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حفظ سجلات دقيقة للمعلومات التي تحصل عليها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درك اهمية الحصول على اعداد كبيرة من النس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 algn="r" rtl="1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وضع فرضيات تفسير نتائج تجاربه تم اختبار صحة تلك الفرضيات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27200"/>
            <a:ext cx="8229600" cy="690480"/>
          </a:xfrm>
          <a:prstGeom prst="rect">
            <a:avLst/>
          </a:prstGeom>
          <a:noFill/>
          <a:ln w="5724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fa10"/>
                </a:solidFill>
                <a:latin typeface="Garamond"/>
              </a:rPr>
              <a:t>الاساس الذي اتبعه مندل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ختار عدد من الصفات 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أزواج من الصفات المتفارقة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راجع الشكل رقم(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00000" y="2637000"/>
          <a:ext cx="7290000" cy="3595680"/>
        </p:xfrm>
        <a:graphic>
          <a:graphicData uri="http://schemas.openxmlformats.org/drawingml/2006/table">
            <a:tbl>
              <a:tblPr/>
              <a:tblGrid>
                <a:gridCol w="3646440"/>
                <a:gridCol w="364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4fa10"/>
                          </a:solidFill>
                          <a:latin typeface="Verdana"/>
                        </a:rPr>
                        <a:t>الصفات المتفار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4fa10"/>
                          </a:solidFill>
                          <a:latin typeface="Verdana"/>
                        </a:rPr>
                        <a:t>الصفة الوراث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شكال مختلفة لللصفة الوراث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يزه في الكائن الحي تورث من جيل لاخ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صفر/ اخض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بذور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ستدير/ مجع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شكل البذور الناضج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قرمزي/ اب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ازه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ضر / اص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لون القرون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نتفخ / محز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شكل القرون الناض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طرفي/ ابطى (محوري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وضع القر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طويل/ قص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رتفاع الن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انشاء ما يسمى بالسلالات النقية ( صدق التوالد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” مجموعة من الافراد المتماثلة وراثيا لزوج او اكثر من الجينات والتي تعطى عند تلقيحها الذاتي او تزاوجها فيما بينها نسلا مشابها لها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. درس مندل بعد ذلك السلوك للأزواج السبعة من الصفات المتفارقة كلا على حد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003640" y="333360"/>
            <a:ext cx="30481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طويلة اصيلة الانبات قصيرة اصلية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00360" y="549360"/>
            <a:ext cx="852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والعكس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476280"/>
            <a:ext cx="10144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عكس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981000"/>
            <a:ext cx="0" cy="57636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00720" y="1989000"/>
            <a:ext cx="38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طويلة الساق       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2708280"/>
            <a:ext cx="0" cy="8650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56360" y="2852640"/>
            <a:ext cx="9237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     ذات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052640"/>
            <a:ext cx="287640" cy="122400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3280" y="3068640"/>
            <a:ext cx="1417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فس النتائج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59280" y="4292640"/>
            <a:ext cx="360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87 </a:t>
            </a: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طويلة و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277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قصيرة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2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32000" y="692280"/>
            <a:ext cx="50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باتات مستديرة البذوراصلية× نباتات مجعدة الذور اصلية</a:t>
            </a:r>
            <a:endParaRPr b="0" lang="en-US" sz="16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3640" y="2060640"/>
            <a:ext cx="19242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مستديرة البذور      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F1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19640" y="3429000"/>
            <a:ext cx="1355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تلقيح      ذاتي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56000" y="4797360"/>
            <a:ext cx="307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5474 </a:t>
            </a: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مستديرى و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1850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 مجعده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484280"/>
            <a:ext cx="0" cy="503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84640"/>
            <a:ext cx="0" cy="71892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8920" y="2565360"/>
            <a:ext cx="852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والعكس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4221000"/>
            <a:ext cx="1417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نفس النتائج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213000"/>
            <a:ext cx="0" cy="719280"/>
          </a:xfrm>
          <a:prstGeom prst="line">
            <a:avLst/>
          </a:prstGeom>
          <a:ln w="5724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7:53:41Z</dcterms:created>
  <dc:creator>هلا</dc:creator>
  <dc:description/>
  <dc:language>en-US</dc:language>
  <cp:lastModifiedBy>هلا</cp:lastModifiedBy>
  <dcterms:modified xsi:type="dcterms:W3CDTF">2007-11-24T21:37:07Z</dcterms:modified>
  <cp:revision>3</cp:revision>
  <dc:subject/>
  <dc:title>المحاضرة الحادية عشره</dc:title>
</cp:coreProperties>
</file>