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4565-BBBE-454D-9023-190FA894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BD3-95A1-4059-8058-5010C647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54C-E0DF-4D2F-ACA7-681E9B6A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0A7A-275D-403C-A5B6-25B01D56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FC45-4791-48FC-A42B-5F200485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8C77-4B04-429B-B231-B5BA49DE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A490-1760-407C-81CB-8A133FC6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D360-694A-4429-986A-90D052BC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A829-571E-4763-BC90-67A1EADF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0AB8-8948-45BE-9975-248996E5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A4C3-2063-47B4-94CF-BE4B7CC5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7A9D-6C4D-4A47-BE37-337793B8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8ECC-5DAE-47C6-95C3-67F980B3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33AC-EFFF-47CA-9CEF-185ECA49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3D19-4A6A-4769-847E-0AC17F7C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66CC-55DF-404C-9791-30F84A7F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9389-7B8A-43D4-9CF1-E0BDC20F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DA3A-773D-4191-BEDD-547004E3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582-F952-4AB1-8BF7-5609FA48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B825-0D1D-4DEF-8630-FAA04F45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25BA-7501-41E9-81EA-C6CC35BD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5B5-1D6A-4206-AE92-CF992D8B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F654-88E6-4FED-BEEE-BAB840A6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0C95-B85B-4A7E-863C-ACB13005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5104-5276-40F5-8C32-54896A9C617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82F6-2512-41CF-BD69-7AC50B0BC6E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 rtl="1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 rtl="1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 rtl="1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1628640"/>
            <a:ext cx="8209080" cy="2735280"/>
          </a:xfrm>
          <a:prstGeom prst="rect">
            <a:avLst/>
          </a:prstGeom>
          <a:noFill/>
          <a:ln w="76320">
            <a:solidFill>
              <a:srgbClr val="99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600" spc="-1" strike="noStrike">
                <a:solidFill>
                  <a:srgbClr val="f4fa10"/>
                </a:solidFill>
                <a:latin typeface="Garamond"/>
              </a:rPr>
              <a:t>المحاضرة الحادية عشره</a:t>
            </a:r>
            <a:endParaRPr b="0" lang="en-US" sz="86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درس مندل بقية أزواج الصفات المتفارقة وحصل على نفس النتائج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. حدد مندل عدد العوامل المسؤولة عن ظهور الصفة من خلال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تلقيح الذاتي للـ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ومن النتائج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تلقيحات الاختباري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                                           وجد ان هناك عاملين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                                           يحددان توارث الصف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076360" y="2421000"/>
            <a:ext cx="863640" cy="0"/>
          </a:xfrm>
          <a:prstGeom prst="line">
            <a:avLst/>
          </a:prstGeom>
          <a:ln w="5724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492360" y="2349360"/>
            <a:ext cx="1008360" cy="432000"/>
          </a:xfrm>
          <a:prstGeom prst="line">
            <a:avLst/>
          </a:prstGeom>
          <a:ln w="5724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2781360"/>
            <a:ext cx="1800360" cy="287280"/>
          </a:xfrm>
          <a:prstGeom prst="line">
            <a:avLst/>
          </a:prstGeom>
          <a:ln w="5724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2781360"/>
            <a:ext cx="0" cy="576360"/>
          </a:xfrm>
          <a:prstGeom prst="line">
            <a:avLst/>
          </a:prstGeom>
          <a:ln w="5724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57240">
            <a:solidFill>
              <a:srgbClr val="99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4fa10"/>
                </a:solidFill>
                <a:latin typeface="Garamond"/>
              </a:rPr>
              <a:t>النتائج العامة التي توصل إليها مندل من بعض تجاربه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هناك محددات وراثية ذات طبيعة جزيئية هي المسؤولة عن توارث الصفات سماها مندل بالعوامل (الجينات الآن), ومن نتائج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1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2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فان العامل (الجين قد يختفي تأثيره إلا أنه لا يحطم (ليس هناك خلط كما كان يعتقد)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85000" indent="-585000" algn="r" rtl="1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بالنسبة لأي صفة وراثية درسها مندل , فإن أفراد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الناتجه من تزاوج فردين يختلفان فيما بينهما في زوج واحد من الصفات المتفارقه, تظهر إحدى الصفتين فقط. سمى مندل هذه الصفة بالصفة السائدة.أما الصفة التي اختفت في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1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وعادة للظهور وبتكرار ¼ في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2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فسماها مندل بالصفه المتنحي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تزاوجات العكسية تعطي نتائج متماثلة- كلا الأبوين يساهم في توارث الصف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. الفرد زوجي التركيب العاملي (الأليلي الآن) , أي أن الجينات توجد في أزواج وأن كل زوج مسؤول عن إظهار صفة وراثية معين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. ”ينعزل فردي أي زوج عاملي (اليلي) عن بعضها البعض عند تكوين الأمشاج ” قانون الانعزال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. تحمل المشيجة (الجاميطة) عامل (اليل) واحد فقط للصفة تحت الدراس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. عملية إتحاد الأمشاج المذكرة بالأمشاج المؤنثة (عملية الاخصاب) لتكوين اللاقحات عبارة عن عملية عشوائية , وهي المسؤولة عن ظهور النسب التي تحصل عليها مندل ووفق في تفسيرها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44000" cy="868320"/>
          </a:xfrm>
          <a:prstGeom prst="rect">
            <a:avLst/>
          </a:prstGeom>
          <a:solidFill>
            <a:srgbClr val="ffffff"/>
          </a:solidFill>
          <a:ln w="76320">
            <a:solidFill>
              <a:srgbClr val="99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4fa10"/>
                </a:solidFill>
                <a:latin typeface="Garamond"/>
              </a:rPr>
              <a:t>أساسيات مندل(الوراثة المندلية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5406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Verdana"/>
              </a:rPr>
              <a:t>الوراثة المندلية: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نمط من أنماط التوارث الذي يختص بطرق التوارث الأساسية في الكائنات الحية التي تتكاثر جنسيا والتي لها أكثر من كرموسوم واحد ( كيفية انتقال الجينات من الاباء الى النسل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Verdana"/>
              </a:rPr>
              <a:t>وراثة الخلط(المزج)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Btending inh</a:t>
            </a:r>
            <a:r>
              <a:rPr b="1" lang="ar-SA" sz="2800" spc="-1" strike="noStrike">
                <a:solidFill>
                  <a:srgbClr val="ffcc00"/>
                </a:solidFill>
                <a:latin typeface="Verdana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الحيوان المنوي والبويضة يحتويان على جزيئات صغيرة تمثل الأعضاء المختلفة للكائن, وعند الحمل فان هذه الجزيئات تختلط (تمتزج) بطريقة ما لتعطى نمط الفرد الجدي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00"/>
                </a:solidFill>
                <a:latin typeface="Verdana"/>
              </a:rPr>
              <a:t>وراثة الدقائق (الجسيمات)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Particulte inh</a:t>
            </a:r>
            <a:r>
              <a:rPr b="0" lang="ar-SA" sz="2800" spc="-1" strike="noStrike">
                <a:solidFill>
                  <a:srgbClr val="ffcc00"/>
                </a:solidFill>
                <a:latin typeface="Verdana"/>
              </a:rPr>
              <a:t> :</a:t>
            </a:r>
            <a:r>
              <a:rPr b="0" lang="ar-SA" sz="2800" spc="-1" strike="noStrike">
                <a:solidFill>
                  <a:srgbClr val="cccc66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هناك محددات</a:t>
            </a:r>
            <a:r>
              <a:rPr b="0" lang="ar-SA" sz="2800" spc="-1" strike="noStrike">
                <a:solidFill>
                  <a:srgbClr val="cccc66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وراثية تنتقل من جيل لآخر كوحدات متكاملة دون خلط فيما بينها كما كان يعتق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00"/>
                </a:solidFill>
                <a:latin typeface="Verdana"/>
              </a:rPr>
              <a:t>مندل :</a:t>
            </a:r>
            <a:r>
              <a:rPr b="0" lang="ar-SA" sz="2800" spc="-1" strike="noStrike">
                <a:solidFill>
                  <a:srgbClr val="cccc66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عالم نمساوي ولد عام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1822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 لعائلة فقيرة/ ابو علم الوراثة / توفى عام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1884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 / بدأ تجاربه  عام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1856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 على نبتة البسلة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sum sativum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1865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 القى نتائج تجاربه في محاضرتين امام جمعية برون للعلو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1866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 نشرت ورق عمل مندل في التقرير السنوي للجمعية / لم تلق نتائجه أي انتباه من الهيئة العلمية في ذلك الوقت الى ان اعيد اكتشاف اساسياته عام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1900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 على ايدي ثلاثة من (علماء النبات ه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ri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هولندي /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n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ماني  /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schermak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نمساوي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00"/>
                </a:solidFill>
                <a:latin typeface="Verdana"/>
              </a:rPr>
              <a:t>أسباب عدم تقدير العلماء لنتائج التي توصل اليها مندل</a:t>
            </a:r>
            <a:r>
              <a:rPr b="0" lang="ar-SA" sz="2800" spc="-1" strike="noStrike">
                <a:solidFill>
                  <a:srgbClr val="cccc66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 algn="r" rtl="1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نشغال العلماء بايجاد تفسير لشرح آلية توارث الصفات المستمرة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 algn="r" rtl="1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لم يكن هناك اية ادلة لوجود عناصر فيزيائية للمحددات التي تكلم عنها مندل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 algn="r" rtl="1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ستعمال مندل للتحليلات الرياضي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 algn="r" rtl="1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لم يكن مندل مشهورا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 algn="r" rtl="1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تعبي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tic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دخل عام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1906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 بواسطة العالم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teson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 algn="r" rtl="1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تعبي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دخل عام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1909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 بواسطة العالم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hannsen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33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3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9900"/>
                </a:solidFill>
                <a:latin typeface="Verdana"/>
              </a:rPr>
              <a:t>جوهر تجارب مندل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إجرء تزاوجات بين نباتات تختلف فيما بينها في صفات متقطعة تم مشاهدة نمط توارثها في الأجيال المتتابعة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طريقة مندل كانت مثالا ممتازا للطريقة العلمية في البحث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ختار مادة البحث المناسبة لدراسة مشكلة معينة في وقت معين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خطط بدقه متناهية للتجارب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ستعمل التحليل الرياضي واستفاد من اخطاء من سبقوه وعمل على تلافيها, كما ادخل مندل بعض التحسينات التي منها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درس كل صفة على حده واعتبر الصفة لا الفرد هي الوحدة في الوراثة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حصر وعد كل فئة من فئات النسل الناتج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حفظ سجلات دقيقة للمعلومات التي تحصل عليها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درك اهمية الحصول على اعداد كبيرة من النسل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وضع فرضيات تفسير نتائج تجاربه تم اختبار صحة تلك الفرضيات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27200"/>
            <a:ext cx="8229600" cy="690480"/>
          </a:xfrm>
          <a:prstGeom prst="rect">
            <a:avLst/>
          </a:prstGeom>
          <a:noFill/>
          <a:ln w="57240">
            <a:solidFill>
              <a:srgbClr val="99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fa10"/>
                </a:solidFill>
                <a:latin typeface="Garamond"/>
              </a:rPr>
              <a:t>الاساس الذي اتبعه مندل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8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ختار عدد من الصفات (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 أزواج من الصفات المتفارقة)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راجع الشكل رقم(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00000" y="2637000"/>
          <a:ext cx="7290000" cy="3595680"/>
        </p:xfrm>
        <a:graphic>
          <a:graphicData uri="http://schemas.openxmlformats.org/drawingml/2006/table">
            <a:tbl>
              <a:tblPr/>
              <a:tblGrid>
                <a:gridCol w="3646440"/>
                <a:gridCol w="3643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4fa10"/>
                          </a:solidFill>
                          <a:latin typeface="Verdana"/>
                        </a:rPr>
                        <a:t>الصفات المتفارق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4fa10"/>
                          </a:solidFill>
                          <a:latin typeface="Verdana"/>
                        </a:rPr>
                        <a:t>الصفة الوراثي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شكال مختلفة لللصفة الوراث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ميزه في الكائن الحي تورث من جيل لاخ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صفر/ اخض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لون البذور الناض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مستدير/ مجع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شكل البذور الناضج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قرمزي/ ابي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لون الازه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خضر / اصف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لون القرون الناض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منتفخ / محز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شكل القرون الناض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طرفي/ ابطى (محوري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موضع القرو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طويل/ قص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رتفاع النب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640" y="178416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. انشاء ما يسمى بالسلالات النقية ( صدق التوالد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” مجموعة من الافراد المتماثلة وراثيا لزوج او اكثر من الجينات والتي تعطى عند تلقيحها الذاتي او تزاوجها فيما بينها نسلا مشابها لها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. درس مندل بعد ذلك السلوك للأزواج السبعة من الصفات المتفارقة كلا على حد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003640" y="333360"/>
            <a:ext cx="3048120" cy="5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نباتات طويلة اصيلة الانبات قصيرة اصلية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700360" y="549360"/>
            <a:ext cx="8524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والعكس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640" y="476280"/>
            <a:ext cx="101448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تلقيح عكسي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6588000" y="981000"/>
            <a:ext cx="0" cy="576360"/>
          </a:xfrm>
          <a:prstGeom prst="line">
            <a:avLst/>
          </a:prstGeom>
          <a:ln w="5724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00720" y="1989000"/>
            <a:ext cx="381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نباتات طويلة الساق               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F1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2708280"/>
            <a:ext cx="0" cy="865080"/>
          </a:xfrm>
          <a:prstGeom prst="line">
            <a:avLst/>
          </a:prstGeom>
          <a:ln w="5724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56360" y="2852640"/>
            <a:ext cx="9237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تلقيح      ذاتي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1052640"/>
            <a:ext cx="287640" cy="1224000"/>
          </a:xfrm>
          <a:prstGeom prst="line">
            <a:avLst/>
          </a:prstGeom>
          <a:ln w="5724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03280" y="3068640"/>
            <a:ext cx="14176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نفس النتائج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859280" y="4292640"/>
            <a:ext cx="3600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87 </a:t>
            </a: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طويلة و 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277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 قصيرة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                        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F2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32000" y="692280"/>
            <a:ext cx="5004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نباتات مستديرة البذوراصلية× نباتات مجعدة الذور اصلية</a:t>
            </a:r>
            <a:endParaRPr b="0" lang="en-US" sz="16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03640" y="2060640"/>
            <a:ext cx="19242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مستديرة البذور        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F1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219640" y="3429000"/>
            <a:ext cx="13557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تلقيح      ذاتي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356000" y="4797360"/>
            <a:ext cx="3079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5474 </a:t>
            </a: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مستديرى و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1850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 مجعده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1484280"/>
            <a:ext cx="0" cy="503280"/>
          </a:xfrm>
          <a:prstGeom prst="line">
            <a:avLst/>
          </a:prstGeom>
          <a:ln w="5724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284640"/>
            <a:ext cx="0" cy="718920"/>
          </a:xfrm>
          <a:prstGeom prst="line">
            <a:avLst/>
          </a:prstGeom>
          <a:ln w="5724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58920" y="2565360"/>
            <a:ext cx="8524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والعكس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00000" y="4221000"/>
            <a:ext cx="14176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نفس النتائج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3213000"/>
            <a:ext cx="0" cy="719280"/>
          </a:xfrm>
          <a:prstGeom prst="line">
            <a:avLst/>
          </a:prstGeom>
          <a:ln w="5724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17:53:41Z</dcterms:created>
  <dc:creator>هلا</dc:creator>
  <dc:description/>
  <dc:language>en-US</dc:language>
  <cp:lastModifiedBy>هلا</cp:lastModifiedBy>
  <dcterms:modified xsi:type="dcterms:W3CDTF">2007-11-24T21:37:07Z</dcterms:modified>
  <cp:revision>3</cp:revision>
  <dc:subject/>
  <dc:title>المحاضرة الحادية عشره</dc:title>
</cp:coreProperties>
</file>