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1.png" ContentType="image/png"/>
  <Override PartName="/ppt/media/image19.jpeg" ContentType="image/jpeg"/>
  <Override PartName="/ppt/media/image28.jpeg" ContentType="image/jpeg"/>
  <Override PartName="/ppt/media/image20.png" ContentType="image/png"/>
  <Override PartName="/ppt/media/image36.jpeg" ContentType="image/jpeg"/>
  <Override PartName="/ppt/media/image27.png" ContentType="image/png"/>
  <Override PartName="/ppt/media/image5.jpeg" ContentType="image/jpeg"/>
  <Override PartName="/ppt/media/image35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4.png" ContentType="image/png"/>
  <Override PartName="/ppt/media/image34.png" ContentType="image/png"/>
  <Override PartName="/ppt/media/image12.png" ContentType="image/png"/>
  <Override PartName="/ppt/media/image10.png" ContentType="image/png"/>
  <Override PartName="/ppt/media/image30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6.jpeg" ContentType="image/jpeg"/>
  <Override PartName="/ppt/media/image1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5026-9D2B-40B5-86F1-E91E0B042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C926-1E6F-49CF-A102-3B15076E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12A3-B309-42FB-B933-0B6247343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F1F7-5C97-4FA1-989E-496DDACBC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2145-0237-4183-873B-3DD259FB0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C07D-3275-4665-9AD6-83478970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DAEF-36FD-418B-806C-7C738C7E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F540-D1FD-4162-96C7-E75E156A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0726-CB5D-4312-99EC-1CE64008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65071-2202-49C2-92D7-4725DAA2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C0288-0B5E-4103-A0DB-1A821DCE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C78C-CF52-4F1C-936D-2FCE69FD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48C7E-4998-41D4-AD38-140E55EB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8B1B-B030-416A-8D20-4EC84F87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274A-3124-424B-A07A-7D4F1521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3AF7-4645-42B9-9FDB-3C6555938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8889-DEBE-438A-9A7F-AB4DB5B4A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BD328-B6FF-49AD-8922-59F66ACF0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427B8-2254-4C2B-B5C7-B862BD01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DA986-ED45-4124-849D-31566613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AB272-559B-4011-B20F-7B672E2E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E7C2E-082D-4E08-9EA5-51778A09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70A8-6C1B-4525-9F15-565026B0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C5471-9DB5-41AB-BCCB-3AD7CE65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52DF0-A8AA-463E-BAA9-115798A0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B5E05-9867-4D29-A33F-E03D9277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83FF0-FFE8-4BE5-A819-D4E10CD2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3FF4A-FB4A-41FA-997A-9B65EB67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F3A7A-0AF6-4795-8F94-D068A9DF4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A0B17-8786-4BA3-B559-008969174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B00E5-B6C1-4630-A7F2-AE6F0939A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96611-ED3B-4718-BFDC-65D1DE23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29716-1D82-494E-9111-42C08F0F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2C3E-99EA-42BC-BED4-78C4B126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A5CD7-240E-434F-93E3-ED0996F5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412DC-7EA6-4635-AB3A-98B77B39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F0B66-8247-4516-A5E4-00F2FBB1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D1832-8B02-46B2-9F35-9FA5FC52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7C0FD-79C2-401F-B59D-69901C8D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86DD4-79A6-4559-A35A-0AD39200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E990D-14E4-4FEB-9CF1-35008401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09A4B-A05C-44B7-A52D-38C8A554E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F1306-9241-49F3-8AF1-9D25D0203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7B180-950A-4F38-B124-E0FA26B55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AA20-C6B1-4F3A-822A-08E75612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6EF9D-339E-4D63-AEB8-AA4524F5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468BE-7137-4EBF-804D-F6F7CF99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5A56A-D4C6-47E1-9668-6D48136A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762DC-1BB2-471A-A080-60ABA4F0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3D7DA-B9D8-44C9-A921-D847934E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1A36B-3728-46E8-9376-36C86B9D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8CC39-C2F1-485E-AFEC-F5B0F416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2EDED-FFF4-4200-971D-1E470245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C6CD3-ED05-4ABD-989C-F0DA2543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892C5-8FEE-440D-8F26-7690B68C8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3DF3-2259-447B-BA8A-9F99A2E2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3286B-87C4-4EE0-8424-B958C2469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F79A2-5012-46EC-8D46-BCF804F29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EE684-76B3-4A1B-B269-2BCCB151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6347C-2107-4FB5-9CD1-FF2782C7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09FD6-FE29-4C4C-AB33-4298FCB0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B4347-354D-4074-B73F-F3738D06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536E2-4AEA-43F3-8E92-D3C73C9E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AEEFC-E7CF-426F-B418-5C0BDB79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C795F-8978-4809-BD2A-07AEA564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5FC95-69CF-44E0-86D8-F02635B3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FBF9-DD65-43E9-9E9F-2DDBA28E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ED133-6A3E-4AEE-8033-1EBF869E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0ED6C-F3A6-4671-A029-03D9ED6EB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5E3A5-3116-4714-8D29-DF9B9CF67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985FB-82A3-4756-9B20-803CE92D5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B9C7C-5961-46F6-8CCC-1E1788CA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972AD-3DF2-4625-85AE-2A27CCA0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39F82-4ABB-4695-A7E6-9133BF77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EEB40-1E3D-471A-99CE-48F03A1A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86ABD-CFBF-40E4-B80B-8A23E200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69750-B3D0-426F-91D1-87A562D1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35B2-47E3-4F51-9A71-8273085B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38D8E-FB74-4B4E-B333-221B3905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81AC1-1FC9-4522-898F-77A4016F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D78CB-3D50-4C81-86D4-251EE0F9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90EE3-61E6-43C6-88D6-B70E2F799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21626-69D9-4E79-AED5-351F9F4B3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C7448-485E-4F4E-9E04-0FFC60DAE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54D60-748F-47F6-8E7D-A5022A6F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0D988-4217-4F1E-9694-E61D010F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13D5A-FAE0-460F-B9EB-37B8AA9F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05AA5-02F7-44B4-B94A-82A6A43E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2B3F-5AD4-4862-B421-89D484DA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5A343-A54A-4627-821A-D4BE7081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E9432-204A-4D77-8B1D-8263325F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4A35C-A9DD-4E1E-968E-B72E835A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1BA3E-81A9-4F65-8FCF-715493C2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5A6F6-3871-42B3-9322-FD62EF60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4BC84-C3EF-4E1B-BD7A-E77230077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87BF7-F295-444C-A803-370B6AA24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B3DC-93CA-4831-B648-604728BC678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A317-9EB0-41C5-99F6-55AF9377EA9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C82C-2966-44B5-BE1D-EBA821EA15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FD97-6522-4071-8A86-A39DA59587A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18A6-D63C-4199-8BD8-112C328E2A3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2CD3-C0BF-42AA-8BB0-6380B9EA5E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517D-BB76-4551-9B60-18A01E832BE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826C-4F2D-4EBB-B812-686E707C1C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1066680" y="993600"/>
            <a:ext cx="7315200" cy="19814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hr.gif"/>
          <p:cNvPicPr/>
          <p:nvPr/>
        </p:nvPicPr>
        <p:blipFill>
          <a:blip r:embed="rId2"/>
          <a:stretch/>
        </p:blipFill>
        <p:spPr>
          <a:xfrm>
            <a:off x="0" y="152280"/>
            <a:ext cx="243828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0000"/>
                </a:solidFill>
                <a:latin typeface="Lucida Sans Unicode"/>
                <a:cs typeface="Arial"/>
              </a:rPr>
              <a:t>في حالة الفائض</a:t>
            </a:r>
            <a:r>
              <a:rPr b="1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عند ندرة سوق العمل (الحل هو اعادة التدريب والتأهيل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ما وفرة سوق العمل (فالحل هو تبني سياسة الاستغناء)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0000"/>
                </a:solidFill>
                <a:latin typeface="Lucida Sans Unicode"/>
                <a:cs typeface="Arial"/>
              </a:rPr>
              <a:t>في حالة العجز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1</a:t>
            </a: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/عند ندرة سوق العمل مثل : تنشيط الاستقطاب ، التساهل في معايير الاختيار ،تكثيف التدريب رفع مستوى الأجور والمكافآت .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2</a:t>
            </a: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/ اما عند وفرة سوق العمل: التعيين باعتبارات متشدد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676160"/>
            <a:ext cx="82296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      هو الإلمام الشامل بتفاصيل كل وظيفة عن طريق الدراسة العلمية لكل منها على حدة ، وملاحظة وتسجيل الحقائق التي توضح واجباتها ومسؤولياتها والظروف المحيطة بها والشروط الواجب توافرها في من يشغلها ، على أن تفرغ هذه المعلومات في كشوف تحليل الوظيفة تمهيدا لتوصيفها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" descr="25494.jpg"/>
          <p:cNvPicPr/>
          <p:nvPr/>
        </p:nvPicPr>
        <p:blipFill>
          <a:blip r:embed="rId2"/>
          <a:stretch/>
        </p:blipFill>
        <p:spPr>
          <a:xfrm>
            <a:off x="0" y="0"/>
            <a:ext cx="13510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165160"/>
                </a:solidFill>
                <a:latin typeface="Lucida Sans Unicode"/>
                <a:cs typeface="Arial"/>
              </a:rPr>
              <a:t>يعني التسجيل المنظم لأبعاد الوظيفة ومكوناتها الأساسية والعوامل المحيطة بها في بطاقة أو كشف خاص لوصف الوظيفة كمستند لتعريف الوظيفة بحيث يعكس: عوامل التقييم الداخلة في تكوين الوظيفة ، ومهامها و واجباتها و مسؤولياتها والحد الأدنى من مطالب التأهيل اللازمة لشغلها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اختيار والتعيين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ترقية والنقل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people_puzzle_md_wm.jpg"/>
          <p:cNvPicPr/>
          <p:nvPr/>
        </p:nvPicPr>
        <p:blipFill>
          <a:blip r:embed="rId2"/>
          <a:stretch/>
        </p:blipFill>
        <p:spPr>
          <a:xfrm>
            <a:off x="-68400" y="3021120"/>
            <a:ext cx="9144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يقصد بهم النشاط الإداري الذي يتعلق بالبحث عن المهارات المطلوبة للمنشأة ، وحث الأفراد الذين تتوافر لديهم الاشتراطات للتقدم للوظائف الشاغرة تمهيدا لاختيار أفضل المهارات للعمل بالمنشأة المعنية 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0000"/>
                </a:solidFill>
                <a:latin typeface="Lucida Sans Unicode"/>
                <a:cs typeface="Arial"/>
              </a:rPr>
              <a:t>تعريف الترقية 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هي انتقال العامل من وظيفة إلى وظيفة أخرى ذات مسؤوليات ومهام أعلى وبالتالي ذات راتب أعلى حاليا أو مستقبلا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0000"/>
                </a:solidFill>
                <a:latin typeface="Lucida Sans Unicode"/>
                <a:cs typeface="Arial"/>
              </a:rPr>
              <a:t>أسس الترقية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على أساس الاقدمي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على أساس الكفاء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على أساس الأقدمية والكفاء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يعني تحرك العامل من وظيفة إلى وظيفة أخرى على المستوى الإداري نفسه وبأجر مشابه ، وبأدنى تغير في الواجبات والمسؤوليات ، مع اختلافات في ظروف العمل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* </a:t>
            </a:r>
            <a:r>
              <a:rPr b="0" lang="ar-SA" sz="2700" spc="-1" strike="noStrike">
                <a:solidFill>
                  <a:srgbClr val="ff0000"/>
                </a:solidFill>
                <a:latin typeface="Lucida Sans Unicode"/>
                <a:cs typeface="Arial"/>
              </a:rPr>
              <a:t>التنزيل الوظيفي: </a:t>
            </a: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هو النقل إلى وظيفة أقل مسؤولية وراتب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Job-Transfer.jpg"/>
          <p:cNvPicPr/>
          <p:nvPr/>
        </p:nvPicPr>
        <p:blipFill>
          <a:blip r:embed="rId2"/>
          <a:stretch/>
        </p:blipFill>
        <p:spPr>
          <a:xfrm>
            <a:off x="1752480" y="4495680"/>
            <a:ext cx="5715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هي البرامج الرسمية التي تستخدمها المنشاة لأجل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مساعدة العاملين على كسب الفاعلية والكفاء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 للقيام بأعمالهم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training.gif"/>
          <p:cNvPicPr/>
          <p:nvPr/>
        </p:nvPicPr>
        <p:blipFill>
          <a:blip r:embed="rId2"/>
          <a:stretch/>
        </p:blipFill>
        <p:spPr>
          <a:xfrm>
            <a:off x="0" y="1905120"/>
            <a:ext cx="373392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هو عبارة عن التقييم الدوري لأداء الفرد لوظيفته ومدى اتجاه قدراته وامكانياته نحو التقدم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0000"/>
                </a:solidFill>
                <a:latin typeface="Lucida Sans Unicode"/>
                <a:cs typeface="Arial"/>
              </a:rPr>
              <a:t>ويفيد تقييم الأداء في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كتشاف الحاجات التدريبي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حكم على فعالية سياسة الاختيار والتعيين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وفير معلومات عن العاملين تساعد في تخطيط القوى العامل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منح العلاوات والترقية وتنمية الموظف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" descr="866529_feedback_form_excellent.jpg"/>
          <p:cNvPicPr/>
          <p:nvPr/>
        </p:nvPicPr>
        <p:blipFill>
          <a:blip r:embed="rId2"/>
          <a:stretch/>
        </p:blipFill>
        <p:spPr>
          <a:xfrm>
            <a:off x="0" y="2666880"/>
            <a:ext cx="1447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53352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 rtl="1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 u="sng">
                <a:solidFill>
                  <a:srgbClr val="ff0000"/>
                </a:solidFill>
                <a:uFillTx/>
                <a:latin typeface="Lucida Sans Unicode"/>
                <a:cs typeface="Arial"/>
              </a:rPr>
              <a:t>وظيفة الموارد البشرية</a:t>
            </a:r>
            <a:r>
              <a:rPr b="0" lang="ar-SA" sz="2700" spc="-1" strike="noStrike">
                <a:solidFill>
                  <a:srgbClr val="ff0000"/>
                </a:solidFill>
                <a:latin typeface="Lucida Sans Unicode"/>
                <a:ea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هي الأنشطة المختلفة التي تمارسها الوحدة التنظيمية المسؤولة عن تدبير القوى العاملة اللازمة للمنظمة ، كما ونوعا وتوقيتا والمحافظة عليها وتعويضها وتنميتها وتحفيزها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 u="sng">
                <a:solidFill>
                  <a:srgbClr val="ff0000"/>
                </a:solidFill>
                <a:uFillTx/>
                <a:latin typeface="Lucida Sans Unicode"/>
                <a:cs typeface="Arial"/>
              </a:rPr>
              <a:t>إدارة الموارد البشرية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2b4a76"/>
                </a:solidFill>
                <a:latin typeface="Lucida Sans Unicode"/>
                <a:cs typeface="Arial"/>
              </a:rPr>
              <a:t>هي الكيفية التي يتعامل بها كل مدير مع مرؤوسيه ليصل بهم إلى تحقيق الأهداف المراد تحقيقها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خطيط الموارد البشري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حليل وتصميم الوظائف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استقطاب والاختيار والتعيين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تدريب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قييم الأداء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تعويضات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صحة والسلام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goals.jpg"/>
          <p:cNvPicPr/>
          <p:nvPr/>
        </p:nvPicPr>
        <p:blipFill>
          <a:blip r:embed="rId2"/>
          <a:stretch/>
        </p:blipFill>
        <p:spPr>
          <a:xfrm>
            <a:off x="0" y="1676520"/>
            <a:ext cx="4267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0000"/>
                </a:solidFill>
                <a:latin typeface="Lucida Sans Unicode"/>
                <a:cs typeface="Arial"/>
              </a:rPr>
              <a:t>تعريف تخطيط الموارد البشرية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   هي تقدير احتياجات المنشأة من الأفراد كما ونوعا خلال المدة القادمة مع تحديد الوظائف التي يشغلونها ، والمؤهلات المطلوب توافرها فيمن يشغلها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" descr="untitledhrr.bmp"/>
          <p:cNvPicPr/>
          <p:nvPr/>
        </p:nvPicPr>
        <p:blipFill>
          <a:blip r:embed="rId2"/>
          <a:stretch/>
        </p:blipFill>
        <p:spPr>
          <a:xfrm>
            <a:off x="304920" y="4267080"/>
            <a:ext cx="68580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دراسة أهداف التنظي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قدير الطلب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تنبؤ العرض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حديد الفائض أو العجز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ستراتيجيات مواجهة الفائض والعجز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536400" y="249120"/>
            <a:ext cx="8229600" cy="11415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child-development-baby-milk.jpg"/>
          <p:cNvPicPr/>
          <p:nvPr/>
        </p:nvPicPr>
        <p:blipFill>
          <a:blip r:embed="rId2"/>
          <a:stretch/>
        </p:blipFill>
        <p:spPr>
          <a:xfrm>
            <a:off x="152280" y="1371600"/>
            <a:ext cx="33530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Content Placeholder 3" descr="HRJigsaw.gif"/>
          <p:cNvPicPr/>
          <p:nvPr/>
        </p:nvPicPr>
        <p:blipFill>
          <a:blip r:embed="rId1"/>
          <a:stretch/>
        </p:blipFill>
        <p:spPr>
          <a:xfrm>
            <a:off x="1542960" y="2104920"/>
            <a:ext cx="6058080" cy="3381480"/>
          </a:xfrm>
          <a:prstGeom prst="rect">
            <a:avLst/>
          </a:prstGeom>
          <a:ln w="0">
            <a:noFill/>
          </a:ln>
        </p:spPr>
      </p:pic>
      <p:pic>
        <p:nvPicPr>
          <p:cNvPr id="384" name="Title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حديد </a:t>
            </a:r>
            <a:r>
              <a:rPr b="0" lang="ar-SA" sz="2700" spc="-1" strike="noStrike">
                <a:solidFill>
                  <a:srgbClr val="ff0000"/>
                </a:solidFill>
                <a:latin typeface="Lucida Sans Unicode"/>
                <a:cs typeface="Arial"/>
              </a:rPr>
              <a:t>نوعية</a:t>
            </a: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 الأفراد المطلوبين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حديد</a:t>
            </a:r>
            <a:r>
              <a:rPr b="0" lang="ar-SA" sz="2700" spc="-1" strike="noStrike">
                <a:solidFill>
                  <a:srgbClr val="ff0000"/>
                </a:solidFill>
                <a:latin typeface="Lucida Sans Unicode"/>
                <a:ea typeface="Arial"/>
              </a:rPr>
              <a:t> عدد </a:t>
            </a: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أفراد المطلوبين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من أجل اختيار الفرد المناسب وتعيينه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project_management3.jpg"/>
          <p:cNvPicPr/>
          <p:nvPr/>
        </p:nvPicPr>
        <p:blipFill>
          <a:blip r:embed="rId2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53535"/>
                </a:solidFill>
                <a:latin typeface="Lucida Sans Unicode"/>
                <a:cs typeface="Arial"/>
              </a:rPr>
              <a:t>تحليل البيئة الخارجية المؤثرة على العمال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53535"/>
                </a:solidFill>
                <a:latin typeface="Lucida Sans Unicode"/>
                <a:cs typeface="Arial"/>
              </a:rPr>
              <a:t>تحليل العمالة الحالي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53535"/>
                </a:solidFill>
                <a:latin typeface="Lucida Sans Unicode"/>
                <a:cs typeface="Arial"/>
              </a:rPr>
              <a:t>تحليل العمالة في فئات العمر المختلف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53535"/>
                </a:solidFill>
                <a:latin typeface="Lucida Sans Unicode"/>
                <a:cs typeface="Arial"/>
              </a:rPr>
              <a:t>تحليل سياسة الترقية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53535"/>
                </a:solidFill>
                <a:latin typeface="Lucida Sans Unicode"/>
                <a:cs typeface="Arial"/>
              </a:rPr>
              <a:t>تحليل ظاهر الغياب ودوران العمل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من خلال مقارنة الطلب بالعرض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نوعي والكمي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" descr="1292650059_140404567_1-Pictures-of--Sahara-HR-Consultants-Contact-us-for-all-kind-of-Jobs-in-Shimoga-404026.jpg"/>
          <p:cNvPicPr/>
          <p:nvPr/>
        </p:nvPicPr>
        <p:blipFill>
          <a:blip r:embed="rId2"/>
          <a:stretch/>
        </p:blipFill>
        <p:spPr>
          <a:xfrm>
            <a:off x="0" y="1219320"/>
            <a:ext cx="3429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20:45:50Z</dcterms:created>
  <dc:creator>Dell</dc:creator>
  <dc:description/>
  <dc:language>en-US</dc:language>
  <cp:lastModifiedBy>Mashael Al-mugairen</cp:lastModifiedBy>
  <dcterms:modified xsi:type="dcterms:W3CDTF">2017-11-14T16:38:35Z</dcterms:modified>
  <cp:revision>69</cp:revision>
  <dc:subject/>
  <dc:title>الموارد البشرية</dc:title>
</cp:coreProperties>
</file>