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1.png" ContentType="image/png"/>
  <Override PartName="/ppt/media/image19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824-7825-44A3-8BB2-041306DF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9E7-DD30-4B8C-B442-1E12CB80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42DA-3E37-4AE7-88E1-F388AE7E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910-F677-49D4-8C21-C41D911F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65A-7C53-49F6-99A5-298D5162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1882-A9DC-4B6E-AC42-8CDC8A2F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76AF-3911-4C1C-86E1-F8FE5D9E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D907-F10B-4DE2-B822-358813E6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62B2-598F-44BE-9382-48DAD6E9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1A90-E028-4774-9993-E2A842E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3B39-2423-4798-866B-F1473B86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DD5B-4FC0-4D5D-9D5D-0BFDC7E2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D81-C73E-4F1B-A24B-17157E8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7FF0-F83A-4902-9137-334E9D3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E8D3-0DFB-4F95-A392-91A41149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EB5F-47FE-4F1A-A7B0-6AC905A4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2C0F-C4CF-442A-AED2-9E0CD017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0AAB-EBAC-4502-87EE-EDA6E9CF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E81D2-06B7-45F3-BD3F-3AC1EE39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C281-E8C9-4A4A-9F62-E745E7D7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A6E4B-DC41-4F68-9F3A-3862B810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6335-F133-400F-A096-E49A7DFE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08F-9604-446C-BAB8-23539E13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D484-6982-4929-A490-37ABFF76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F20D5-CAA0-4988-B6EF-2897BFCE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422E5-D8DD-4C61-84D7-8D6DBE89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8AD6-1980-4F42-B5FB-930D42F1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7233-EFC5-49B2-A73B-F3EC4F4D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4CE6-1E44-42D4-833C-84CA28F7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02751-173D-4A5A-8803-431163A0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C598-3190-4F1F-99AD-6B09FB2E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73942-3D8F-4E0F-9AFD-4BFD60DF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CE65B-271C-499B-8855-EE94A47F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9C25-BCF3-4670-A724-25049E7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7099-3641-468B-A7ED-8AF54179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EC3D-7903-43A0-82AB-FA1BDCD1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E81B-F038-4DD2-9FCD-72016FE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822C-B638-41E9-B85C-91F2C739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93F3-AC21-4AFE-B078-3F205A6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92CE-94CF-4978-B271-64D76D8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7BC70-19DE-4551-ACB1-3C253752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2281-5AD1-4B5F-B002-40DA2337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0364A-8DDC-4156-BA4E-45807B57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C95E8-A2B6-4104-B878-88892FF7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443-1BC6-42B3-9F89-A2E6A212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81D75-989B-419E-90F7-8F56D42F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96774-F2CE-48FD-8511-AFEE0ED7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20DE1-BB4C-4A2A-8B31-2CE8E00F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5F7F1-AF32-4BB3-8C12-E6096A1D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94D4-0D64-4ECF-9569-49636032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001E8-277B-4C10-8F01-796F4AF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F33F3-E621-473A-B1A8-598CD381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7B14-BB1F-4BEA-9E4C-A808F5C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90769-BB2C-4785-9EF5-BF9F1A7A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CA55-172F-4ACF-B3E6-E35679D7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7DB-09AE-46D8-A1BF-A44F7EB1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E7EBD-3529-422D-A4CD-9610362D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CF177-B97A-4556-97FB-13C63565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29912-1130-4044-B037-D03B2B38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9C342-D4BE-4DAC-8A52-34D9C226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320F-B140-4B7F-9899-A0048C1A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C6941-6132-4657-9D22-626205F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1C16C-30C9-4763-8E0F-380F0488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21040-9BC0-4A5F-BB00-D052B68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15FB-2E4B-4758-9A54-877B289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2F02-3CA1-4F88-9664-DBEAC604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640-9A4D-4748-BADD-38239AE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8E34F-415C-4280-92F2-75B9E6D8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5E925-6AEF-44DA-B2E4-B769C196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A1375-7A4C-4C65-AF4D-D7949FDAF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09855-3C3C-48CC-9621-5227AE9F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E19BC-2084-422A-AB89-EC906E8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99C9-9BB6-4F76-95A0-2ABF3175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3FDE-5C7A-423F-AFF7-B97D680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66278-E411-46FB-9BFA-31ECC0B3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E007E-4DB3-4358-BDDE-6A946DF7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2513-7701-48AF-AFA8-E74833C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731-E467-4456-B1A1-B8C81777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6FCD8-0CA1-4BE0-AC93-3D478590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836F5-20E7-4DAC-B9DF-D9958CEE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778AD-7936-4545-93CF-0F98A969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255A5-94F2-458E-952E-7D0E05F3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A674-7080-4CED-972D-8C59E360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7FF5B-2926-44C3-8F44-C255AE16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C4DCC-1048-43EF-8E6A-9599F079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62622-39FF-4EE2-B4E3-7A875143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D4CE3-A9B9-45EE-87DD-6AB1B1AF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E0938-C9A1-4963-B446-D1CFD086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493-D8E4-45D6-9B98-F4C1B9F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E397-0A75-4011-BB04-C157C2A9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2B34D-DDD0-4651-9CCD-F5DBAC06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152D9-30E9-42E4-8513-AE38B77E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8B3C-4B4D-455E-9637-83395A07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63B61-D41F-42FD-8F4A-5552980B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9240C-AF6D-467A-A29C-93A0B1F8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0576-F2F6-44AC-BFCA-FBD0D6CE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16EC-A54F-4DB0-B6E8-DA8B4FA3C2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7AE4-3725-49CA-AC8F-D32D76F5AF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E300-A873-4784-ABFA-1B098E928C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5E78-8813-47FB-ACED-20022DDBEE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E038-E20B-4B3D-8BED-DF9B091D29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870-9E0D-4E0F-A28D-F233A075F0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0BE-0D02-42EB-9315-82BD6CE419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54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0ED2-7052-4A95-B992-664DE6694A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1066680" y="993600"/>
            <a:ext cx="7315200" cy="1981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hr.gif"/>
          <p:cNvPicPr/>
          <p:nvPr/>
        </p:nvPicPr>
        <p:blipFill>
          <a:blip r:embed="rId2"/>
          <a:stretch/>
        </p:blipFill>
        <p:spPr>
          <a:xfrm>
            <a:off x="0" y="152280"/>
            <a:ext cx="243828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فائض</a:t>
            </a:r>
            <a:r>
              <a:rPr b="1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ند ندرة سوق العمل (الحل هو اعادة التدريب والتأهيل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ما وفرة سوق العمل (فالحل هو تبني سياسة الاستغناء)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في حالة العج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عند ندرة سوق العمل مثل : تنشيط الاستقطاب ، التساهل في معايير الاختيار ،تكثيف التدريب رفع مستوى الأجور والمكافآت .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/ اما عند وفرة سوق العمل: التعيين باعتبارات متشد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هو الإلمام الشامل بتفاصيل كل وظيفة عن طريق الدراسة العلمية لكل منها على حدة ، وملاحظة وتسجيل الحقائق التي توضح واجباتها ومسؤولياتها والظروف المحيطة بها والشروط الواجب توافرها في من يشغلها ، على أن تفرغ هذه المعلومات في كشوف تحليل الوظيفة تمهيدا لتوصيف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25494.jpg"/>
          <p:cNvPicPr/>
          <p:nvPr/>
        </p:nvPicPr>
        <p:blipFill>
          <a:blip r:embed="rId2"/>
          <a:stretch/>
        </p:blipFill>
        <p:spPr>
          <a:xfrm>
            <a:off x="0" y="0"/>
            <a:ext cx="135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165160"/>
                </a:solidFill>
                <a:latin typeface="Lucida Sans Unicode"/>
                <a:cs typeface="Arial"/>
              </a:rPr>
              <a:t>يعني التسجيل المنظم لأبعاد الوظيفة ومكوناتها الأساسية والعوامل المحيطة بها في بطاقة أو كشف خاص لوصف الوظيفة كمستند لتعريف الوظيفة بحيث يعكس: عوامل التقييم الداخلة في تكوين الوظيفة ، ومهامها و واجباتها و مسؤولياتها والحد الأدنى من مطالب التأهيل اللازمة لشغلها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رقية والنق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people_puzzle_md_wm.jpg"/>
          <p:cNvPicPr/>
          <p:nvPr/>
        </p:nvPicPr>
        <p:blipFill>
          <a:blip r:embed="rId2"/>
          <a:stretch/>
        </p:blipFill>
        <p:spPr>
          <a:xfrm>
            <a:off x="-68400" y="3021120"/>
            <a:ext cx="914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قصد بهم النشاط الإداري الذي يتعلق بالبحث عن المهارات المطلوبة للمنشأة ، وحث الأفراد الذين تتوافر لديهم الاشتراطات للتقدم للوظائف الشاغرة تمهيدا لاختيار أفضل المهارات للعمل بالمنشأة المعنية 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الترقية 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نتقال العامل من وظيفة إلى وظيفة أخرى ذات مسؤوليات ومهام أعلى وبالتالي ذات راتب أعلى حاليا أو مستقبل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أسس الترقية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اقدم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على أساس الأقدم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يعني تحرك العامل من وظيفة إلى وظيفة أخرى على المستوى الإداري نفسه وبأجر مشابه ، وبأدنى تغير في الواجبات والمسؤوليات ، مع اختلافات في ظروف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*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التنزيل الوظيفي: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النقل إلى وظيفة أقل مسؤولية وراتب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Job-Transfer.jpg"/>
          <p:cNvPicPr/>
          <p:nvPr/>
        </p:nvPicPr>
        <p:blipFill>
          <a:blip r:embed="rId2"/>
          <a:stretch/>
        </p:blipFill>
        <p:spPr>
          <a:xfrm>
            <a:off x="1752480" y="4495680"/>
            <a:ext cx="5715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برامج الرسمية التي تستخدمها المنشاة لأجل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ساعدة العاملين على كسب الفاعلية والكفاء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للقيام بأعماله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training.gif"/>
          <p:cNvPicPr/>
          <p:nvPr/>
        </p:nvPicPr>
        <p:blipFill>
          <a:blip r:embed="rId2"/>
          <a:stretch/>
        </p:blipFill>
        <p:spPr>
          <a:xfrm>
            <a:off x="0" y="1905120"/>
            <a:ext cx="37339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و عبارة عن التقييم الدوري لأداء الفرد لوظيفته ومدى اتجاه قدراته وامكانياته نحو التقدم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ويفيد تقييم الأداء في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كتشاف الحاجات التدريب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حكم على فعالية سياسة الاختيار والتعي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وفير معلومات عن العاملين تساعد في تخطيط القوى العام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ح العلاوات والترقية وتنمية الموظ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866529_feedback_form_excellent.jpg"/>
          <p:cNvPicPr/>
          <p:nvPr/>
        </p:nvPicPr>
        <p:blipFill>
          <a:blip r:embed="rId2"/>
          <a:stretch/>
        </p:blipFill>
        <p:spPr>
          <a:xfrm>
            <a:off x="0" y="2666880"/>
            <a:ext cx="1447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53352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وظيفة الموارد البشرية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هي الأنشطة المختلفة التي تمارسها الوحدة التنظيمية المسؤولة عن تدبير القوى العاملة اللازمة للمنظمة ، كما ونوعا وتوقيتا والمحافظة عليها وتعويضها وتنميتها وتحفيز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 u="sng">
                <a:solidFill>
                  <a:srgbClr val="ff0000"/>
                </a:solidFill>
                <a:uFillTx/>
                <a:latin typeface="Lucida Sans Unicode"/>
                <a:cs typeface="Arial"/>
              </a:rPr>
              <a:t>إدارة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2b4a76"/>
                </a:solidFill>
                <a:latin typeface="Lucida Sans Unicode"/>
                <a:cs typeface="Arial"/>
              </a:rPr>
              <a:t>هي الكيفية التي يتعامل بها كل مدير مع مرؤوسيه ليصل بهم إلى تحقيق الأهداف المراد تحقيقها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خطيط الموارد البشري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ليل وتصميم الوظائ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استقطاب والاختيار والتعي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دريب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ييم الأداء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عويضات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صحة والسلام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goals.jpg"/>
          <p:cNvPicPr/>
          <p:nvPr/>
        </p:nvPicPr>
        <p:blipFill>
          <a:blip r:embed="rId2"/>
          <a:stretch/>
        </p:blipFill>
        <p:spPr>
          <a:xfrm>
            <a:off x="0" y="1676520"/>
            <a:ext cx="42670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تعريف تخطيط الموارد البشرية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هي تقدير احتياجات المنشأة من الأفراد كما ونوعا خلال المدة القادمة مع تحديد الوظائف التي يشغلونها ، والمؤهلات المطلوب توافرها فيمن يشغلها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untitledhrr.bmp"/>
          <p:cNvPicPr/>
          <p:nvPr/>
        </p:nvPicPr>
        <p:blipFill>
          <a:blip r:embed="rId2"/>
          <a:stretch/>
        </p:blipFill>
        <p:spPr>
          <a:xfrm>
            <a:off x="304920" y="4267080"/>
            <a:ext cx="6858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دراسة أهداف التنظي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قدير الطلب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تنبؤ العر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الفائض أو 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ستراتيجيات مواجهة الفائض والعج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536400" y="249120"/>
            <a:ext cx="8229600" cy="114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child-development-baby-milk.jpg"/>
          <p:cNvPicPr/>
          <p:nvPr/>
        </p:nvPicPr>
        <p:blipFill>
          <a:blip r:embed="rId2"/>
          <a:stretch/>
        </p:blipFill>
        <p:spPr>
          <a:xfrm>
            <a:off x="152280" y="1371600"/>
            <a:ext cx="3353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HRJigsaw.gif"/>
          <p:cNvPicPr/>
          <p:nvPr/>
        </p:nvPicPr>
        <p:blipFill>
          <a:blip r:embed="rId1"/>
          <a:stretch/>
        </p:blipFill>
        <p:spPr>
          <a:xfrm>
            <a:off x="1542960" y="2104920"/>
            <a:ext cx="6058080" cy="3381480"/>
          </a:xfrm>
          <a:prstGeom prst="rect">
            <a:avLst/>
          </a:prstGeom>
          <a:ln w="0">
            <a:noFill/>
          </a:ln>
        </p:spPr>
      </p:pic>
      <p:pic>
        <p:nvPicPr>
          <p:cNvPr id="384" name="Title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 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cs typeface="Arial"/>
              </a:rPr>
              <a:t>نوعية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تحديد</a:t>
            </a:r>
            <a:r>
              <a:rPr b="0" lang="ar-SA" sz="2700" spc="-1" strike="noStrike">
                <a:solidFill>
                  <a:srgbClr val="ff0000"/>
                </a:solidFill>
                <a:latin typeface="Lucida Sans Unicode"/>
                <a:ea typeface="Arial"/>
              </a:rPr>
              <a:t> عدد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أفراد المطلوبين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أجل اختيار الفرد المناسب وتعيين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project_management3.jpg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بيئة الخارجية المؤثرة على العمال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الحالي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العمالة في فئات العمر المختلفة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سياسة الترقية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53535"/>
                </a:solidFill>
                <a:latin typeface="Lucida Sans Unicode"/>
                <a:cs typeface="Arial"/>
              </a:rPr>
              <a:t>تحليل ظاهر الغياب ودوران العمل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من خلال مقارنة الطلب بالعرض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Arial"/>
              </a:rPr>
              <a:t>النوعي والكمي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1292650059_140404567_1-Pictures-of--Sahara-HR-Consultants-Contact-us-for-all-kind-of-Jobs-in-Shimoga-404026.jpg"/>
          <p:cNvPicPr/>
          <p:nvPr/>
        </p:nvPicPr>
        <p:blipFill>
          <a:blip r:embed="rId2"/>
          <a:stretch/>
        </p:blipFill>
        <p:spPr>
          <a:xfrm>
            <a:off x="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20:45:50Z</dcterms:created>
  <dc:creator>Dell</dc:creator>
  <dc:description/>
  <dc:language>en-US</dc:language>
  <cp:lastModifiedBy>Mashael Al-mugairen</cp:lastModifiedBy>
  <dcterms:modified xsi:type="dcterms:W3CDTF">2017-11-14T16:38:35Z</dcterms:modified>
  <cp:revision>69</cp:revision>
  <dc:subject/>
  <dc:title>الموارد البشرية</dc:title>
</cp:coreProperties>
</file>