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BF98-9904-4881-B79B-0DCEF194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F86B-0AE5-4592-8AE9-FEB041C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AB09-D21F-4482-AF02-D1065D7F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EE84-A08D-46CF-AC72-AD6E039E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89F-05AC-4A35-9E39-51C7BA9E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2913-38BB-496A-BC00-8CA95D3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3DD-180B-4824-8BA8-64C365C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E8D5-C2D9-4A07-AAF5-EE332DD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9D62-23EA-4012-8193-A18E8C19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B3E9-DD1F-4819-8030-921769A2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502-585A-4F45-8294-9EE38CC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3CE2-56D4-4559-963B-0134C40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6489-367E-4213-9F8C-3BBCE75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032-9C1B-4DDC-AB37-2E5FA86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E134-E3FF-4D7D-9DCF-BCD1DCD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9859-B2C9-4CCF-96CE-D83AFF06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FF4B-9CA1-4C7E-BC19-EA15664F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5EA7-D9B1-4DE4-AC9B-9AC3BE4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A77D-AF77-42EC-B3D1-AEEF7764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2C44-C9BA-4484-9069-607EFC4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F9D5-CC08-498C-9A63-96EDF1A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313C-ACC2-4033-94E6-3895A1AF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9379-1E3A-4648-9330-C103CB4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1BC7-D922-4A0E-9A2B-DB633BA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3AD0-8347-4AF9-8E1A-3A70DE093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9DD3-DEB1-41C6-9CA5-5AB079B4E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mplementing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l approach: develop architecture based on a known style, select technologies that provide implementation support for each architectural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B905-52C6-48D2-B8CB-810AC3D15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loud"/>
          <p:cNvSpPr/>
          <p:nvPr/>
        </p:nvSpPr>
        <p:spPr>
          <a:xfrm>
            <a:off x="2209680" y="411480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324480" y="5410080"/>
            <a:ext cx="1752840" cy="1143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324480" y="4114800"/>
            <a:ext cx="1676520" cy="1066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400800" y="28195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400800" y="32004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4008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4800600" y="34286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480060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800600" y="5029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rarely easy or 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programming languages have explicit support for architecture-level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infrastructure (libraries, operating systems, etc.) also has its own sets of concepts, metaphors, and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itigate these mismatches, we leverage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e implementation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8591-2CB7-4228-B627-44F819130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800"/>
            <a:ext cx="82296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rchitecture implementation framewor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piece of software that acts as a bridge between a particular architectural style and a set of implementation technologies. It provides key elements of the architectural sty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a way that assists developers in implementing systems that conform to the prescriptions and constraints of the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FEC-A66E-4495-8538-A5819A66A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844720" y="4038480"/>
            <a:ext cx="3936960" cy="2508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4800600" y="4191120"/>
            <a:ext cx="304920" cy="2209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nonical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I/O (‘stdio’) framework in UNIX and other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haps the most prevalent framework in use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 supported: pipe-and-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technologies supported: concurrent process-oriented operating system, (generally) non-concurrent language like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AF01-9FF9-4465-BCBE-5537E2616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pipeFilter_Use"/>
          <p:cNvPicPr/>
          <p:nvPr/>
        </p:nvPicPr>
        <p:blipFill>
          <a:blip r:embed="rId1"/>
          <a:stretch/>
        </p:blipFill>
        <p:spPr>
          <a:xfrm>
            <a:off x="914400" y="4875120"/>
            <a:ext cx="7278840" cy="1144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-423720" y="6629400"/>
            <a:ext cx="100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re 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are meant to assist developers in following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generally do no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t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elopers from violating a style if they really wa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ing applications in a target style does no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qui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f you follow good software engineering practices, you’ll probably end up developing one any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are generally considered as underlying infrastructure or substrates from an architectural persp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on’t usually see the framework show up in an architectural model, e.g., as a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CB07-3F63-4F2E-ADD4-A59B3EFA1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me Style, Different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style, there is no one perfect architecture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arget implementation technologies induce differen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o vs. iostream vs. java.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n the same (style/target technology) groupings, different frameworks exist due to different qualitative properties of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.io vs. java.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C2-style frameworks in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BFD-C66C-487C-AEAB-2D905AC75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draw out some of the qualitative properties just mentio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language, operating system, other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style-specific support is provided by the frame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frameworks are more general than one target style or focus on a subset of the style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enforcement is provi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9B08-E84B-46D3-A1C1-3B0864116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s impose constraints on the target architecture/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can induce constraints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up order, communication patterns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what extent does the framework make too many (or too few) assump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pervade target applications and can potentially get involved in any inte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what extent does the framework limit its slowdown and provide help to improve efficiency if possible (consider buffering in stdio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029A-6488-4952-838E-CFC8AEA3B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quality consid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arly every other software quality can affect framework evaluation and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 of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maintainability and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5BD-3DF0-44F7-AC45-F446FB9A8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all sound similar to various kinds of middleware/componen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, COM/DCOM, JavaBeans, .NET, Java Message Service (JMS)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clos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rovide developers with services not available in the underlying OS/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 provides well-defined interfaces, portability, remote procedure cal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Beans provides a standardized packaging framework (the bean) with new kinds of introspection and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5DBB-36A7-4143-9BE8-D279DB20F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as a mapping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implementation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ing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ationships between middleware, frameworks, componen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ding new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cy and generative technolog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ing architecture-to-implementation consis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frameworks for pipe-and-fil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frameworks for the C2 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571A-DE3B-4349-90A0-B3B409F6FD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ed, architecture implementation framework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s of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’s a subtle difference in how they emerge and deve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ware generally evolves based on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he developers want to hav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RBA: Support for language heterogeneity, network transparency, por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works generally evolve based on a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developers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7E2-5D1A-4818-9576-2C8D06621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focusing 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middleware developers often make other decisions that substantially impact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n supporting network transparency and language heterogeneity, CORBA uses 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s RPC necessary for these services or is it just an enabling techniqu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very real way, middleware induces an architectural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BA induces the ‘distributed objects’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S induces a distributed implicit invocation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ing these implications is essential for not having major problems when the tail wags the do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025B-4925-47FE-A8BD-2701F9AD4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ing Mismatch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tyle is chosen first, but the middleware selected for implementation does not support (or contradicts) that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iddleware is chosen first (or independently) and has undue influence on the architectural styl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or adapt the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the middleware sel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glu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parts of the middlew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gnore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de the middleware in components/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2239-04A5-4BA4-84DE-1AE69E52F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410080" y="43434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13560" y="4419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iddlew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asi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ding Middleware in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869-A64A-42F1-B9B4-BFB076F53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144792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33520" y="563868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600200" y="2209680"/>
            <a:ext cx="380880" cy="380880"/>
            <a:chOff x="1600200" y="2209680"/>
            <a:chExt cx="380880" cy="380880"/>
          </a:xfrm>
        </p:grpSpPr>
        <p:sp>
          <p:nvSpPr>
            <p:cNvPr id="183" name="Rectangle 8"/>
            <p:cNvSpPr/>
            <p:nvPr/>
          </p:nvSpPr>
          <p:spPr>
            <a:xfrm>
              <a:off x="1600200" y="22096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 flipV="1">
              <a:off x="1676520" y="2285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0"/>
          <p:cNvGrpSpPr/>
          <p:nvPr/>
        </p:nvGrpSpPr>
        <p:grpSpPr>
          <a:xfrm>
            <a:off x="1600200" y="5410080"/>
            <a:ext cx="380880" cy="380880"/>
            <a:chOff x="1600200" y="5410080"/>
            <a:chExt cx="380880" cy="380880"/>
          </a:xfrm>
        </p:grpSpPr>
        <p:sp>
          <p:nvSpPr>
            <p:cNvPr id="186" name="Rectangle 21"/>
            <p:cNvSpPr/>
            <p:nvPr/>
          </p:nvSpPr>
          <p:spPr>
            <a:xfrm>
              <a:off x="1600200" y="54100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2"/>
            <p:cNvSpPr/>
            <p:nvPr/>
          </p:nvSpPr>
          <p:spPr>
            <a:xfrm flipV="1">
              <a:off x="1676520" y="5485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8" name="AutoShape 27"/>
          <p:cNvCxnSpPr>
            <a:stCxn id="186" idx="0"/>
            <a:endCxn id="189" idx="2"/>
          </p:cNvCxnSpPr>
          <p:nvPr/>
        </p:nvCxnSpPr>
        <p:spPr>
          <a:xfrm flipV="1">
            <a:off x="1790280" y="44953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28"/>
          <p:cNvCxnSpPr>
            <a:stCxn id="191" idx="0"/>
            <a:endCxn id="183" idx="2"/>
          </p:cNvCxnSpPr>
          <p:nvPr/>
        </p:nvCxnSpPr>
        <p:spPr>
          <a:xfrm flipV="1">
            <a:off x="1790280" y="259056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AutoShape 29"/>
          <p:cNvSpPr/>
          <p:nvPr/>
        </p:nvSpPr>
        <p:spPr>
          <a:xfrm>
            <a:off x="457200" y="373392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1600200" y="3429000"/>
            <a:ext cx="380880" cy="380880"/>
            <a:chOff x="1600200" y="3429000"/>
            <a:chExt cx="380880" cy="380880"/>
          </a:xfrm>
        </p:grpSpPr>
        <p:sp>
          <p:nvSpPr>
            <p:cNvPr id="191" name="Rectangle 15"/>
            <p:cNvSpPr/>
            <p:nvPr/>
          </p:nvSpPr>
          <p:spPr>
            <a:xfrm>
              <a:off x="1600200" y="3429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 flipV="1">
              <a:off x="1676520" y="35046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1600200" y="4114800"/>
            <a:ext cx="380880" cy="380880"/>
            <a:chOff x="1600200" y="4114800"/>
            <a:chExt cx="380880" cy="380880"/>
          </a:xfrm>
        </p:grpSpPr>
        <p:sp>
          <p:nvSpPr>
            <p:cNvPr id="189" name="Rectangle 18"/>
            <p:cNvSpPr/>
            <p:nvPr/>
          </p:nvSpPr>
          <p:spPr>
            <a:xfrm>
              <a:off x="1600200" y="41148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 flipV="1">
              <a:off x="1676520" y="41904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30"/>
          <p:cNvSpPr/>
          <p:nvPr/>
        </p:nvSpPr>
        <p:spPr>
          <a:xfrm>
            <a:off x="5562720" y="137160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5562720" y="556272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32"/>
          <p:cNvGrpSpPr/>
          <p:nvPr/>
        </p:nvGrpSpPr>
        <p:grpSpPr>
          <a:xfrm>
            <a:off x="6629400" y="2133720"/>
            <a:ext cx="380880" cy="380880"/>
            <a:chOff x="6629400" y="2133720"/>
            <a:chExt cx="380880" cy="380880"/>
          </a:xfrm>
        </p:grpSpPr>
        <p:sp>
          <p:nvSpPr>
            <p:cNvPr id="200" name="Rectangle 33"/>
            <p:cNvSpPr/>
            <p:nvPr/>
          </p:nvSpPr>
          <p:spPr>
            <a:xfrm>
              <a:off x="6629400" y="21337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34"/>
            <p:cNvSpPr/>
            <p:nvPr/>
          </p:nvSpPr>
          <p:spPr>
            <a:xfrm flipV="1">
              <a:off x="6705720" y="22093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35"/>
          <p:cNvGrpSpPr/>
          <p:nvPr/>
        </p:nvGrpSpPr>
        <p:grpSpPr>
          <a:xfrm>
            <a:off x="6629400" y="5334120"/>
            <a:ext cx="380880" cy="380880"/>
            <a:chOff x="6629400" y="5334120"/>
            <a:chExt cx="380880" cy="380880"/>
          </a:xfrm>
        </p:grpSpPr>
        <p:sp>
          <p:nvSpPr>
            <p:cNvPr id="203" name="Rectangle 36"/>
            <p:cNvSpPr/>
            <p:nvPr/>
          </p:nvSpPr>
          <p:spPr>
            <a:xfrm>
              <a:off x="6629400" y="5334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V="1">
              <a:off x="6705720" y="5409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AutoShape 38"/>
          <p:cNvCxnSpPr>
            <a:stCxn id="203" idx="0"/>
            <a:endCxn id="206" idx="2"/>
          </p:cNvCxnSpPr>
          <p:nvPr/>
        </p:nvCxnSpPr>
        <p:spPr>
          <a:xfrm flipV="1">
            <a:off x="6819480" y="51048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AutoShape 39"/>
          <p:cNvCxnSpPr>
            <a:stCxn id="208" idx="0"/>
            <a:endCxn id="200" idx="2"/>
          </p:cNvCxnSpPr>
          <p:nvPr/>
        </p:nvCxnSpPr>
        <p:spPr>
          <a:xfrm flipV="1">
            <a:off x="6819480" y="25138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AutoShape 40"/>
          <p:cNvSpPr/>
          <p:nvPr/>
        </p:nvSpPr>
        <p:spPr>
          <a:xfrm>
            <a:off x="5486400" y="2971800"/>
            <a:ext cx="2666880" cy="1905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1"/>
          <p:cNvGrpSpPr/>
          <p:nvPr/>
        </p:nvGrpSpPr>
        <p:grpSpPr>
          <a:xfrm>
            <a:off x="6629400" y="2743200"/>
            <a:ext cx="380880" cy="380880"/>
            <a:chOff x="6629400" y="2743200"/>
            <a:chExt cx="380880" cy="380880"/>
          </a:xfrm>
        </p:grpSpPr>
        <p:sp>
          <p:nvSpPr>
            <p:cNvPr id="208" name="Rectangle 42"/>
            <p:cNvSpPr/>
            <p:nvPr/>
          </p:nvSpPr>
          <p:spPr>
            <a:xfrm>
              <a:off x="6629400" y="2743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3"/>
            <p:cNvSpPr/>
            <p:nvPr/>
          </p:nvSpPr>
          <p:spPr>
            <a:xfrm flipV="1">
              <a:off x="6705720" y="28188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44"/>
          <p:cNvGrpSpPr/>
          <p:nvPr/>
        </p:nvGrpSpPr>
        <p:grpSpPr>
          <a:xfrm>
            <a:off x="6629400" y="4724280"/>
            <a:ext cx="380880" cy="380880"/>
            <a:chOff x="6629400" y="4724280"/>
            <a:chExt cx="380880" cy="380880"/>
          </a:xfrm>
        </p:grpSpPr>
        <p:sp>
          <p:nvSpPr>
            <p:cNvPr id="206" name="Rectangle 45"/>
            <p:cNvSpPr/>
            <p:nvPr/>
          </p:nvSpPr>
          <p:spPr>
            <a:xfrm>
              <a:off x="6629400" y="47242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46"/>
            <p:cNvSpPr/>
            <p:nvPr/>
          </p:nvSpPr>
          <p:spPr>
            <a:xfrm flipV="1">
              <a:off x="6705720" y="47998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Rectangle 47"/>
          <p:cNvSpPr/>
          <p:nvPr/>
        </p:nvSpPr>
        <p:spPr>
          <a:xfrm>
            <a:off x="5334120" y="3657600"/>
            <a:ext cx="2971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9"/>
          <p:cNvSpPr/>
          <p:nvPr/>
        </p:nvSpPr>
        <p:spPr>
          <a:xfrm>
            <a:off x="5486400" y="3657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0"/>
          <p:cNvSpPr/>
          <p:nvPr/>
        </p:nvSpPr>
        <p:spPr>
          <a:xfrm>
            <a:off x="5486400" y="4191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1"/>
          <p:cNvSpPr/>
          <p:nvPr/>
        </p:nvSpPr>
        <p:spPr>
          <a:xfrm>
            <a:off x="6629400" y="36576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4"/>
          <p:cNvGrpSpPr/>
          <p:nvPr/>
        </p:nvGrpSpPr>
        <p:grpSpPr>
          <a:xfrm>
            <a:off x="7543800" y="3123720"/>
            <a:ext cx="456840" cy="457560"/>
            <a:chOff x="7543800" y="3123720"/>
            <a:chExt cx="456840" cy="457560"/>
          </a:xfrm>
        </p:grpSpPr>
        <p:sp>
          <p:nvSpPr>
            <p:cNvPr id="219" name="AutoShape 52"/>
            <p:cNvSpPr/>
            <p:nvPr/>
          </p:nvSpPr>
          <p:spPr>
            <a:xfrm>
              <a:off x="7543800" y="3200400"/>
              <a:ext cx="228600" cy="38088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 rot="10800000">
              <a:off x="7772040" y="3123720"/>
              <a:ext cx="228600" cy="3812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1240"/>
                <a:gd name="textAreaBottom" fmla="*/ 276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 Box 55"/>
          <p:cNvSpPr/>
          <p:nvPr/>
        </p:nvSpPr>
        <p:spPr>
          <a:xfrm>
            <a:off x="6704640" y="32767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6"/>
          <p:cNvGrpSpPr/>
          <p:nvPr/>
        </p:nvGrpSpPr>
        <p:grpSpPr>
          <a:xfrm>
            <a:off x="7620120" y="4190760"/>
            <a:ext cx="456840" cy="457560"/>
            <a:chOff x="7620120" y="4190760"/>
            <a:chExt cx="456840" cy="457560"/>
          </a:xfrm>
        </p:grpSpPr>
        <p:sp>
          <p:nvSpPr>
            <p:cNvPr id="223" name="AutoShape 57"/>
            <p:cNvSpPr/>
            <p:nvPr/>
          </p:nvSpPr>
          <p:spPr>
            <a:xfrm>
              <a:off x="7620120" y="4267440"/>
              <a:ext cx="228600" cy="38088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58"/>
            <p:cNvSpPr/>
            <p:nvPr/>
          </p:nvSpPr>
          <p:spPr>
            <a:xfrm rot="10800000">
              <a:off x="7848360" y="4190760"/>
              <a:ext cx="228600" cy="3812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1240"/>
                <a:gd name="textAreaBottom" fmla="*/ 276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6780600" y="4343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3354840" y="16765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1"/>
          <p:cNvSpPr/>
          <p:nvPr/>
        </p:nvSpPr>
        <p:spPr>
          <a:xfrm flipH="1">
            <a:off x="335268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2"/>
          <p:cNvSpPr/>
          <p:nvPr/>
        </p:nvSpPr>
        <p:spPr>
          <a:xfrm>
            <a:off x="3203280" y="49528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3"/>
          <p:cNvSpPr/>
          <p:nvPr/>
        </p:nvSpPr>
        <p:spPr>
          <a:xfrm>
            <a:off x="342900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uilding a New Framewor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ccasionally, you need a new frame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n use is nov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s not novel but it is being implemented on a platform for which no framework exis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s not novel and frameworks exist for the target platform, but the existing frameworks are inadequa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2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od framework development is extremely difficul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rameworks pervade nearly every aspect of your sys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king changes to frameworks often means changing the entire sys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task for experienced developers/architec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09D-4C76-49F5-A0A3-6CA2F725A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urr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cy is one of the most difficult concerns to address in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of subtle bugs: deadlock, race condition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topic on which there are entire books writ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cy is often an architecture-level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s can be made at the architectural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e carefully, much concurrency management can be embedded into the architecture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our earlier example, or how pipe-and-filter architectures are made concurrent without direct user invol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0D9-F425-44AE-8AD0-B10A55D0B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tive Technolo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sufficiently detailed architectural model, various implementation artifacts can be gen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extremely detailed models including behavior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easible in domain-specific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letons o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etailed structure and interfac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s (e.g., glue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sufficient data about bindings between two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2102-55D2-4F10-B8D4-AA82356F1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intaining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ategies for maintaining one-way or round-trip mappin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d maintain traceability links from architectural implementation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links in a database, in architectural models, in code comments can all help with consistency 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the architectural model part of th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he model changes, the implementation adapts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 involve “internal generation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 some or all of the implementation from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EE59-BCDF-4295-BACA-AC142E1C3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all Pipe-and-Filt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(‘filters’) organized linearly, communicate through character-stream ‘pipes,’ which are th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 may run concurrently on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all input comes in through the left and all output exits from the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4FEF-1821-491C-94D7-F4310ACDB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pipeFilter_Use"/>
          <p:cNvPicPr/>
          <p:nvPr/>
        </p:nvPicPr>
        <p:blipFill>
          <a:blip r:embed="rId1"/>
          <a:stretch/>
        </p:blipFill>
        <p:spPr>
          <a:xfrm>
            <a:off x="914400" y="1828800"/>
            <a:ext cx="7278840" cy="11444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-38016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amework #1: st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/O framework used in C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rocess is a fil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s input from standard input (aka ‘stdin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output to standard output (aka ‘stdout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a third, unbuffered output stream called standard error (‘stderr’) not considered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and high leve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move one charact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move and format entire 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mplementations may vary in details (buffering strategy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1B3-8B5E-4A97-A1A6-9AFCCC54E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Mapping Probl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is the one phase of software engineering that is not op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-based development provides a unique twist on the classic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becomes, in large measure,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pp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ing mapping means ensuring that our architectural intent is reflected in our constructed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145C-D2F1-4630-8476-E4D54A6FF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loud"/>
          <p:cNvSpPr/>
          <p:nvPr/>
        </p:nvSpPr>
        <p:spPr>
          <a:xfrm>
            <a:off x="1066680" y="365760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loud"/>
          <p:cNvSpPr/>
          <p:nvPr/>
        </p:nvSpPr>
        <p:spPr>
          <a:xfrm>
            <a:off x="4648320" y="3657600"/>
            <a:ext cx="373356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276720" y="388620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124080" y="4343400"/>
            <a:ext cx="1752840" cy="380880"/>
          </a:xfrm>
          <a:prstGeom prst="leftArrow">
            <a:avLst>
              <a:gd name="adj1" fmla="val 50000"/>
              <a:gd name="adj2" fmla="val 115052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le with most, if not all, implementations of C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es somewhat differently on OSes with no concurrency (e.g., MS-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upport for developing P&amp;F applications, but no restriction that apps have to use this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16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are processes and pipes are implicit. In-process P&amp;F applications might require modif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ther filters make maximal use of concurrency is partially up to filter implementations and partially up to the 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CBA3-C10C-4C01-A57C-B22E24434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amework #2: java.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/O framework used in Java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for in-process or inter-process P&amp;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ream classes derive from InputStream or 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ed objects (System.in and System.out) for writing to process’ standard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apabilities (formatting, buffering) provided by creating composite streams (e.g., a Formatting-Buffered-InputStre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B4C3-435D-4084-845F-95F93C6F5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java.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le with all Java implementations on many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form-specific differences abstracted a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upport for developing P&amp;F applications, but no restriction that apps have to use this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723920" y="12189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construct intra- and inter-process P&amp;F appl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cy can be an issue; many calls are b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rs have fine-grained control over, e.g., buff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efficiency mechanisms (memory mapped I/O, channels) not available (but are in java.ni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7FC-9637-4B7B-A9AF-EFE8D2F52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n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s of application computation and communication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, packages, libraries, classes, explicit components/connectors in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-language level interfaces (e.g., APIs/function or method signatures) are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machines or protocols are harder to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14E6-8BA6-4AC1-B2A3-6D6ADF5D9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s, references, or dependencies between functional part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icit in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externally specified through a MIL and enabled through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use of 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rat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does not appear directly in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ned in comments and other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A0D8-AEAC-4107-B93E-A4D876E1F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roperties (e.g., behavi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translate to algorithms of some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strategy depends on how the behaviors are specified and what translation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behavioral specifications are more useful for generating analyses or testing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emely difficult to do since non-functional properties are abstract and implementations are concr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d through a combination of human-centric strategies like inspections, reviews, focus groups, user studies, beta testing, and so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11E4-E69C-4E35-BF0E-6C519FD0C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s inevitably change after implementation beg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aintenance 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of time pres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of new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s can be a source of new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learn more about the feasibility of our designs when we i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lso learn how to optimize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EFB-31D2-4A3A-AB41-803A0F286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1295280" y="487692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loud"/>
          <p:cNvSpPr/>
          <p:nvPr/>
        </p:nvSpPr>
        <p:spPr>
          <a:xfrm>
            <a:off x="4876920" y="4876920"/>
            <a:ext cx="373356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429000" y="4952880"/>
            <a:ext cx="1905120" cy="38124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 flipH="1">
            <a:off x="3352680" y="5638680"/>
            <a:ext cx="1905120" cy="38124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ing the two in sync is a difficult technical and manageri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s where strong mappings are not present are often the first to diver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way mappings are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understand impact on implementation for an architectural design decision or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way mappings require more ins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how a change in the implementation impacts architecture-level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AE05-7DEF-4806-8FC2-95477B8A8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strategy: limit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ystem changes must be done to the architecture first, only one-way mappings are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 very well if many generative technologie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hard to control in practice; introduces process delays and limits implementer free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e: allow changes in either architecture or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round-trip mappings and maintenance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assisted (to a point) with automate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2403-6860-4873-9859-FAB03F952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2:34:27Z</dcterms:modified>
  <cp:revision>37</cp:revision>
  <dc:subject>Software Architecture: Foundations, Theory, and Practice</dc:subject>
  <dc:title>Implementing Architectures</dc:title>
</cp:coreProperties>
</file>