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C45F-6B51-4571-9E0D-D4593138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5667-B6E6-422E-B69D-7BD9EB7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173BA-C504-4000-8322-D4091E35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39C3-C482-4D29-A5D4-186C1272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820D-01DA-4F9A-B14A-50D5A3EEB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858-87CC-40E5-9757-5A7C6F97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B89-B958-4A80-9853-EFA8A86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5B66-5933-42CE-BDCB-86A4EEC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539C-317B-40E4-BDD8-990A9B80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723B-7DC1-4D20-A3E3-49C6B6CA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127-A97F-4F75-85D4-9E155ED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893E-BCA0-46F6-9EBA-E52FB84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7779-7EDD-4A46-A264-1DDEEF5F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522-E261-468C-8372-A88A514A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AB32-6BB9-4F88-98BC-040FAFD6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6DD-036A-4C0C-A50E-536FD7E6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2876-AF77-4EF9-BDB1-BCCF07B5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71D3E-A7E6-4552-97EE-B5D0D914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514EC-FFB6-42EA-974C-384BB351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CF1E-5881-4085-BD4D-03242F95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7CA2-9B30-407F-BA63-98BA023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23BA-CCA4-4BD0-99D8-77D09564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FB30-2A07-417A-98BF-3519CD0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6F11-A3DA-493D-B307-2AF712CE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E70-24EE-4C83-B3B2-9230F553A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C74F-FD7E-435D-BAD7-5D066EBCBA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mplementing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al approach: develop architecture based on a known style, select technologies that provide implementation support for each architectural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AAA4-EA19-4F08-B2C4-0CA9A5AFF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loud"/>
          <p:cNvSpPr/>
          <p:nvPr/>
        </p:nvSpPr>
        <p:spPr>
          <a:xfrm>
            <a:off x="2209680" y="411480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6324480" y="5410080"/>
            <a:ext cx="1752840" cy="11430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6324480" y="4114800"/>
            <a:ext cx="1676520" cy="10666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400800" y="281952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400800" y="3200400"/>
            <a:ext cx="1600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400800" y="3581280"/>
            <a:ext cx="1600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4800600" y="3428640"/>
            <a:ext cx="1295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480060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800600" y="502920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rarely easy or triv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programming languages have explicit support for architecture-level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infrastructure (libraries, operating systems, etc.) also has its own sets of concepts, metaphors, and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itigate these mismatches, we leverage 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e implementation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F669-45DC-4699-8C48-E2AE79319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mplementati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828800"/>
            <a:ext cx="822960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rchitecture implementation framewor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piece of software that acts as a bridge between a particular architectural style and a set of implementation technologies. It provides key elements of the architectural sty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a way that assists developers in implementing systems that conform to the prescriptions and constraints of the sty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CCB7-D42F-455F-A455-F15C80A67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844720" y="4038480"/>
            <a:ext cx="3936960" cy="25084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4800600" y="4191120"/>
            <a:ext cx="304920" cy="2209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nonical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I/O (‘stdio’) framework in UNIX and other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haps the most prevalent framework in use to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 supported: pipe-and-fil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 technologies supported: concurrent process-oriented operating system, (generally) non-concurrent language like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466C-6487-4E05-9206-0F2DB6DD2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pipeFilter_Use"/>
          <p:cNvPicPr/>
          <p:nvPr/>
        </p:nvPicPr>
        <p:blipFill>
          <a:blip r:embed="rId1"/>
          <a:stretch/>
        </p:blipFill>
        <p:spPr>
          <a:xfrm>
            <a:off x="914400" y="4875120"/>
            <a:ext cx="7278840" cy="1144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-423720" y="6629400"/>
            <a:ext cx="100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re on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are meant to assist developers in following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generally do no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st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velopers from violating a style if they really want 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ing applications in a target style does no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qui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f you follow good software engineering practices, you’ll probably end up developing one any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are generally considered as underlying infrastructure or substrates from an architectural persp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on’t usually see the framework show up in an architectural model, e.g., as a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C6D-0CEF-42B0-9EA9-4A244988D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ame Style, Different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given style, there is no one perfect architecture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arget implementation technologies induce differen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dio vs. iostream vs. java.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n the same (style/target technology) groupings, different frameworks exist due to different qualitative properties of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.io vs. java.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C2-style frameworks in 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D2D-1754-482C-A8F7-E91E99738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draw out some of the qualitative properties just mentio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language, operating system, other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style-specific support is provided by the frame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frameworks are more general than one target style or focus on a subset of the style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enforcement is provi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7E9-12AD-4B4C-ACAE-AB0FC72792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s impose constraints on the target architecture/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can induce constraints as 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up order, communication patterns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what extent does the framework make too many (or too few) assumption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meworks pervade target applications and can potentially get involved in any inter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what extent does the framework limit its slowdown and provide help to improve efficiency if possible (consider buffering in stdio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372C-85DC-46CC-8061-AA1B1F8AB0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Framework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quality consid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arly every other software quality can affect framework evaluation and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ility of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maintainability and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918-6845-44DC-BAE0-9895929B1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all sound similar to various kinds of middleware/component 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, COM/DCOM, JavaBeans, .NET, Java Message Service (JMS)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re clos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rovide developers with services not available in the underlying OS/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 provides well-defined interfaces, portability, remote procedure call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Beans provides a standardized packaging framework (the bean) with new kinds of introspection and bi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FED6-DAED-4A83-A638-9436B7B865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as a mapping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implementation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aluating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lationships between middleware, frameworks, componen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ilding new framewor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cy and generative technolog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suring architecture-to-implementation consistenc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frameworks for pipe-and-fil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frameworks for the C2 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A02-1775-4DCE-8907-12C36171C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ed, architecture implementation framework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s of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’s a subtle difference in how they emerge and devel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ware generally evolves based on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he developers want to hav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RBA: Support for language heterogeneity, network transparency, por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works generally evolve based on a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sty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developers want to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his importa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5529-6391-41BF-8CF9-7264B8753B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ddleware and Component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focusing 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erv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middleware developers often make other decisions that substantially impact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n supporting network transparency and language heterogeneity, CORBA uses R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s RPC necessary for these services or is it just an enabling techniqu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 very real way, middleware induces an architectural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BA induces the ‘distributed objects’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MS induces a distributed implicit invocation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ing these implications is essential for not having major problems when the tail wags the do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404-3005-440F-A5AB-3C9B5FE1B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ing Mismatch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tyle is chosen first, but the middleware selected for implementation does not support (or contradicts) that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middleware is chosen first (or independently) and has undue influence on the architectural style u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or adapt the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 the middleware sel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glue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rage parts of the middlew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gnore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de the middleware in components/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4D2A-0E53-4029-A168-62603D3100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410080" y="434340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13560" y="4419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iddlew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basis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ding Middleware in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F757-D14F-4696-9A94-A575F68E1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533520" y="144792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33520" y="563868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1"/>
          <p:cNvGrpSpPr/>
          <p:nvPr/>
        </p:nvGrpSpPr>
        <p:grpSpPr>
          <a:xfrm>
            <a:off x="1600200" y="2209680"/>
            <a:ext cx="380880" cy="380880"/>
            <a:chOff x="1600200" y="2209680"/>
            <a:chExt cx="380880" cy="380880"/>
          </a:xfrm>
        </p:grpSpPr>
        <p:sp>
          <p:nvSpPr>
            <p:cNvPr id="183" name="Rectangle 8"/>
            <p:cNvSpPr/>
            <p:nvPr/>
          </p:nvSpPr>
          <p:spPr>
            <a:xfrm>
              <a:off x="1600200" y="22096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9"/>
            <p:cNvSpPr/>
            <p:nvPr/>
          </p:nvSpPr>
          <p:spPr>
            <a:xfrm flipV="1">
              <a:off x="1676520" y="2285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0"/>
          <p:cNvGrpSpPr/>
          <p:nvPr/>
        </p:nvGrpSpPr>
        <p:grpSpPr>
          <a:xfrm>
            <a:off x="1600200" y="5410080"/>
            <a:ext cx="380880" cy="380880"/>
            <a:chOff x="1600200" y="5410080"/>
            <a:chExt cx="380880" cy="380880"/>
          </a:xfrm>
        </p:grpSpPr>
        <p:sp>
          <p:nvSpPr>
            <p:cNvPr id="186" name="Rectangle 21"/>
            <p:cNvSpPr/>
            <p:nvPr/>
          </p:nvSpPr>
          <p:spPr>
            <a:xfrm>
              <a:off x="1600200" y="54100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22"/>
            <p:cNvSpPr/>
            <p:nvPr/>
          </p:nvSpPr>
          <p:spPr>
            <a:xfrm flipV="1">
              <a:off x="1676520" y="54856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8" name="AutoShape 27"/>
          <p:cNvCxnSpPr>
            <a:stCxn id="186" idx="0"/>
            <a:endCxn id="189" idx="2"/>
          </p:cNvCxnSpPr>
          <p:nvPr/>
        </p:nvCxnSpPr>
        <p:spPr>
          <a:xfrm flipV="1">
            <a:off x="1790280" y="44953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28"/>
          <p:cNvCxnSpPr>
            <a:stCxn id="191" idx="0"/>
            <a:endCxn id="183" idx="2"/>
          </p:cNvCxnSpPr>
          <p:nvPr/>
        </p:nvCxnSpPr>
        <p:spPr>
          <a:xfrm flipV="1">
            <a:off x="1790280" y="259056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" name="AutoShape 29"/>
          <p:cNvSpPr/>
          <p:nvPr/>
        </p:nvSpPr>
        <p:spPr>
          <a:xfrm>
            <a:off x="457200" y="3733920"/>
            <a:ext cx="2666880" cy="5331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14"/>
          <p:cNvGrpSpPr/>
          <p:nvPr/>
        </p:nvGrpSpPr>
        <p:grpSpPr>
          <a:xfrm>
            <a:off x="1600200" y="3429000"/>
            <a:ext cx="380880" cy="380880"/>
            <a:chOff x="1600200" y="3429000"/>
            <a:chExt cx="380880" cy="380880"/>
          </a:xfrm>
        </p:grpSpPr>
        <p:sp>
          <p:nvSpPr>
            <p:cNvPr id="191" name="Rectangle 15"/>
            <p:cNvSpPr/>
            <p:nvPr/>
          </p:nvSpPr>
          <p:spPr>
            <a:xfrm>
              <a:off x="1600200" y="34290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AutoShape 16"/>
            <p:cNvSpPr/>
            <p:nvPr/>
          </p:nvSpPr>
          <p:spPr>
            <a:xfrm flipV="1">
              <a:off x="1676520" y="35046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Group 17"/>
          <p:cNvGrpSpPr/>
          <p:nvPr/>
        </p:nvGrpSpPr>
        <p:grpSpPr>
          <a:xfrm>
            <a:off x="1600200" y="4114800"/>
            <a:ext cx="380880" cy="380880"/>
            <a:chOff x="1600200" y="4114800"/>
            <a:chExt cx="380880" cy="380880"/>
          </a:xfrm>
        </p:grpSpPr>
        <p:sp>
          <p:nvSpPr>
            <p:cNvPr id="189" name="Rectangle 18"/>
            <p:cNvSpPr/>
            <p:nvPr/>
          </p:nvSpPr>
          <p:spPr>
            <a:xfrm>
              <a:off x="1600200" y="41148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AutoShape 19"/>
            <p:cNvSpPr/>
            <p:nvPr/>
          </p:nvSpPr>
          <p:spPr>
            <a:xfrm flipV="1">
              <a:off x="1676520" y="41904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30"/>
          <p:cNvSpPr/>
          <p:nvPr/>
        </p:nvSpPr>
        <p:spPr>
          <a:xfrm>
            <a:off x="5562720" y="137160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5562720" y="5562720"/>
            <a:ext cx="2514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32"/>
          <p:cNvGrpSpPr/>
          <p:nvPr/>
        </p:nvGrpSpPr>
        <p:grpSpPr>
          <a:xfrm>
            <a:off x="6629400" y="2133720"/>
            <a:ext cx="380880" cy="380880"/>
            <a:chOff x="6629400" y="2133720"/>
            <a:chExt cx="380880" cy="380880"/>
          </a:xfrm>
        </p:grpSpPr>
        <p:sp>
          <p:nvSpPr>
            <p:cNvPr id="200" name="Rectangle 33"/>
            <p:cNvSpPr/>
            <p:nvPr/>
          </p:nvSpPr>
          <p:spPr>
            <a:xfrm>
              <a:off x="6629400" y="21337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AutoShape 34"/>
            <p:cNvSpPr/>
            <p:nvPr/>
          </p:nvSpPr>
          <p:spPr>
            <a:xfrm flipV="1">
              <a:off x="6705720" y="22093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35"/>
          <p:cNvGrpSpPr/>
          <p:nvPr/>
        </p:nvGrpSpPr>
        <p:grpSpPr>
          <a:xfrm>
            <a:off x="6629400" y="5334120"/>
            <a:ext cx="380880" cy="380880"/>
            <a:chOff x="6629400" y="5334120"/>
            <a:chExt cx="380880" cy="380880"/>
          </a:xfrm>
        </p:grpSpPr>
        <p:sp>
          <p:nvSpPr>
            <p:cNvPr id="203" name="Rectangle 36"/>
            <p:cNvSpPr/>
            <p:nvPr/>
          </p:nvSpPr>
          <p:spPr>
            <a:xfrm>
              <a:off x="6629400" y="5334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V="1">
              <a:off x="6705720" y="54097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AutoShape 38"/>
          <p:cNvCxnSpPr>
            <a:stCxn id="203" idx="0"/>
            <a:endCxn id="206" idx="2"/>
          </p:cNvCxnSpPr>
          <p:nvPr/>
        </p:nvCxnSpPr>
        <p:spPr>
          <a:xfrm flipV="1">
            <a:off x="6819480" y="51048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" name="AutoShape 39"/>
          <p:cNvCxnSpPr>
            <a:stCxn id="208" idx="0"/>
            <a:endCxn id="200" idx="2"/>
          </p:cNvCxnSpPr>
          <p:nvPr/>
        </p:nvCxnSpPr>
        <p:spPr>
          <a:xfrm flipV="1">
            <a:off x="6819480" y="25138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AutoShape 40"/>
          <p:cNvSpPr/>
          <p:nvPr/>
        </p:nvSpPr>
        <p:spPr>
          <a:xfrm>
            <a:off x="5486400" y="2971800"/>
            <a:ext cx="2666880" cy="1905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1"/>
          <p:cNvGrpSpPr/>
          <p:nvPr/>
        </p:nvGrpSpPr>
        <p:grpSpPr>
          <a:xfrm>
            <a:off x="6629400" y="2743200"/>
            <a:ext cx="380880" cy="380880"/>
            <a:chOff x="6629400" y="2743200"/>
            <a:chExt cx="380880" cy="380880"/>
          </a:xfrm>
        </p:grpSpPr>
        <p:sp>
          <p:nvSpPr>
            <p:cNvPr id="208" name="Rectangle 42"/>
            <p:cNvSpPr/>
            <p:nvPr/>
          </p:nvSpPr>
          <p:spPr>
            <a:xfrm>
              <a:off x="6629400" y="27432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3"/>
            <p:cNvSpPr/>
            <p:nvPr/>
          </p:nvSpPr>
          <p:spPr>
            <a:xfrm flipV="1">
              <a:off x="6705720" y="281880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Group 44"/>
          <p:cNvGrpSpPr/>
          <p:nvPr/>
        </p:nvGrpSpPr>
        <p:grpSpPr>
          <a:xfrm>
            <a:off x="6629400" y="4724280"/>
            <a:ext cx="380880" cy="380880"/>
            <a:chOff x="6629400" y="4724280"/>
            <a:chExt cx="380880" cy="380880"/>
          </a:xfrm>
        </p:grpSpPr>
        <p:sp>
          <p:nvSpPr>
            <p:cNvPr id="206" name="Rectangle 45"/>
            <p:cNvSpPr/>
            <p:nvPr/>
          </p:nvSpPr>
          <p:spPr>
            <a:xfrm>
              <a:off x="6629400" y="472428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AutoShape 46"/>
            <p:cNvSpPr/>
            <p:nvPr/>
          </p:nvSpPr>
          <p:spPr>
            <a:xfrm flipV="1">
              <a:off x="6705720" y="47998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Rectangle 47"/>
          <p:cNvSpPr/>
          <p:nvPr/>
        </p:nvSpPr>
        <p:spPr>
          <a:xfrm>
            <a:off x="5334120" y="3657600"/>
            <a:ext cx="2971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9"/>
          <p:cNvSpPr/>
          <p:nvPr/>
        </p:nvSpPr>
        <p:spPr>
          <a:xfrm>
            <a:off x="5486400" y="3657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0"/>
          <p:cNvSpPr/>
          <p:nvPr/>
        </p:nvSpPr>
        <p:spPr>
          <a:xfrm>
            <a:off x="5486400" y="4191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1"/>
          <p:cNvSpPr/>
          <p:nvPr/>
        </p:nvSpPr>
        <p:spPr>
          <a:xfrm>
            <a:off x="6629400" y="36576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c0c0c0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Group 54"/>
          <p:cNvGrpSpPr/>
          <p:nvPr/>
        </p:nvGrpSpPr>
        <p:grpSpPr>
          <a:xfrm>
            <a:off x="7543800" y="3123720"/>
            <a:ext cx="456840" cy="457560"/>
            <a:chOff x="7543800" y="3123720"/>
            <a:chExt cx="456840" cy="457560"/>
          </a:xfrm>
        </p:grpSpPr>
        <p:sp>
          <p:nvSpPr>
            <p:cNvPr id="219" name="AutoShape 52"/>
            <p:cNvSpPr/>
            <p:nvPr/>
          </p:nvSpPr>
          <p:spPr>
            <a:xfrm>
              <a:off x="7543800" y="3200400"/>
              <a:ext cx="228600" cy="38088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53"/>
            <p:cNvSpPr/>
            <p:nvPr/>
          </p:nvSpPr>
          <p:spPr>
            <a:xfrm rot="10800000">
              <a:off x="7772040" y="3123720"/>
              <a:ext cx="228600" cy="3812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1240"/>
                <a:gd name="textAreaBottom" fmla="*/ 276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 Box 55"/>
          <p:cNvSpPr/>
          <p:nvPr/>
        </p:nvSpPr>
        <p:spPr>
          <a:xfrm>
            <a:off x="6704640" y="327672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56"/>
          <p:cNvGrpSpPr/>
          <p:nvPr/>
        </p:nvGrpSpPr>
        <p:grpSpPr>
          <a:xfrm>
            <a:off x="7620120" y="4190760"/>
            <a:ext cx="456840" cy="457560"/>
            <a:chOff x="7620120" y="4190760"/>
            <a:chExt cx="456840" cy="457560"/>
          </a:xfrm>
        </p:grpSpPr>
        <p:sp>
          <p:nvSpPr>
            <p:cNvPr id="223" name="AutoShape 57"/>
            <p:cNvSpPr/>
            <p:nvPr/>
          </p:nvSpPr>
          <p:spPr>
            <a:xfrm>
              <a:off x="7620120" y="4267440"/>
              <a:ext cx="228600" cy="38088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0880"/>
                <a:gd name="textAreaBottom" fmla="*/ 276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AutoShape 58"/>
            <p:cNvSpPr/>
            <p:nvPr/>
          </p:nvSpPr>
          <p:spPr>
            <a:xfrm rot="10800000">
              <a:off x="7848360" y="4190760"/>
              <a:ext cx="228600" cy="38124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66600 h 381240"/>
                <a:gd name="textAreaBottom" fmla="*/ 2764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59"/>
          <p:cNvSpPr/>
          <p:nvPr/>
        </p:nvSpPr>
        <p:spPr>
          <a:xfrm>
            <a:off x="6780600" y="434340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rea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3354840" y="16765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1"/>
          <p:cNvSpPr/>
          <p:nvPr/>
        </p:nvSpPr>
        <p:spPr>
          <a:xfrm flipH="1">
            <a:off x="3352680" y="22096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2"/>
          <p:cNvSpPr/>
          <p:nvPr/>
        </p:nvSpPr>
        <p:spPr>
          <a:xfrm>
            <a:off x="3203280" y="49528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3"/>
          <p:cNvSpPr/>
          <p:nvPr/>
        </p:nvSpPr>
        <p:spPr>
          <a:xfrm>
            <a:off x="342900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uilding a New Framework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Occasionally, you need a new framework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n use is novel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s not novel but it is being implemented on a platform for which no framework exis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The architectural style is not novel and frameworks exist for the target platform, but the existing frameworks are inadequate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2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Good framework development is extremely difficult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Frameworks pervade nearly every aspect of your sys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king changes to frameworks often means changing the entire sys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task for experienced developers/architects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6822-5201-4E56-B46C-E4480AA89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curr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cy is one of the most difficult concerns to address in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oduction of subtle bugs: deadlock, race conditions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topic on which there are entire books writ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urrency is often an architecture-level conc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sions can be made at the architectural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ne carefully, much concurrency management can be embedded into the architecture frame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our earlier example, or how pipe-and-filter architectures are made concurrent without direct user invol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7561-F8BB-45F8-BA60-0CA4D10DF2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tive Technolo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sufficiently detailed architectural model, various implementation artifacts can be gen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extremely detailed models including behavior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easible in domain-specific contex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letons o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etailed structure and interfac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s (e.g., glue 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sufficient data about bindings between two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A879-B72D-4C26-AB40-16A4A82FE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intaining Consist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ategies for maintaining one-way or round-trip mappin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d maintain traceability links from architectural implementation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links in a database, in architectural models, in code comments can all help with consistency 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the architectural model part of the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he model changes, the implementation adapts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 involve “internal generation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te some or all of the implementation from the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1F40-A0D6-4A42-9DD9-0D47197B8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all Pipe-and-Filt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(‘filters’) organized linearly, communicate through character-stream ‘pipes,’ which are th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 may run concurrently on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all input comes in through the left and all output exits from the 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7DD6-01A5-4307-ACB3-9A93B850B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4" descr="pipeFilter_Use"/>
          <p:cNvPicPr/>
          <p:nvPr/>
        </p:nvPicPr>
        <p:blipFill>
          <a:blip r:embed="rId1"/>
          <a:stretch/>
        </p:blipFill>
        <p:spPr>
          <a:xfrm>
            <a:off x="914400" y="1828800"/>
            <a:ext cx="7278840" cy="11444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-38016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amework #1: st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/O framework used in C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process is a fil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s input from standard input (aka ‘stdin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output to standard output (aka ‘stdout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so a third, unbuffered output stream called standard error (‘stderr’) not considered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and high level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move one character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…) move and format entire strin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implementations may vary in details (buffering strategy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3F5B-D0DC-499C-B3C3-C88A77374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Mapping Probl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is the one phase of software engineering that is not op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-based development provides a unique twist on the classic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becomes, in large measure,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pp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ing mapping means ensuring that our architectural intent is reflected in our constructed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A7F-4FE1-43AB-9ED9-D8190F1A9D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Cloud"/>
          <p:cNvSpPr/>
          <p:nvPr/>
        </p:nvSpPr>
        <p:spPr>
          <a:xfrm>
            <a:off x="1066680" y="365760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loud"/>
          <p:cNvSpPr/>
          <p:nvPr/>
        </p:nvSpPr>
        <p:spPr>
          <a:xfrm>
            <a:off x="4648320" y="3657600"/>
            <a:ext cx="373356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276720" y="3886200"/>
            <a:ext cx="1752480" cy="457200"/>
          </a:xfrm>
          <a:prstGeom prst="rightArrow">
            <a:avLst>
              <a:gd name="adj1" fmla="val 50000"/>
              <a:gd name="adj2" fmla="val 958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3124080" y="4343400"/>
            <a:ext cx="1752840" cy="380880"/>
          </a:xfrm>
          <a:prstGeom prst="leftArrow">
            <a:avLst>
              <a:gd name="adj1" fmla="val 50000"/>
              <a:gd name="adj2" fmla="val 115052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d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le with most, if not all, implementations of C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es somewhat differently on OSes with no concurrency (e.g., MS-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upport for developing P&amp;F applications, but no restriction that apps have to use this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16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are processes and pipes are implicit. In-process P&amp;F applications might require modif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ther filters make maximal use of concurrency is partially up to filter implementations and partially up to the 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0DF9-EE64-4676-B5D3-679A6D9E39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amework #2: java.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/O framework used in Java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for in-process or inter-process P&amp;F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ream classes derive from InputStream or 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ed objects (System.in and System.out) for writing to process’ standard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apabilities (formatting, buffering) provided by creating composite streams (e.g., a Formatting-Buffered-InputStre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145-BF18-4279-A76F-E3F29A56F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java.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4038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 suppo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ailable with all Java implementations on many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form-specific differences abstracted aw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upport for developing P&amp;F applications, but no restriction that apps have to use this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723920" y="12189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tching assum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sy to construct intra- and inter-process P&amp;F appl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urrency can be an issue; many calls are blo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rs have fine-grained control over, e.g., buff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high efficiency mechanisms (memory mapped I/O, channels) not available (but are in java.nio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A73D-B3DD-47F2-BB40-982197D51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n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s of application computation and communication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, packages, libraries, classes, explicit components/connectors in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-language level interfaces (e.g., APIs/function or method signatures) are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machines or protocols are harder to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111D-5455-41CB-8AD7-86F73370A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s, references, or dependencies between functional part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icit in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externally specified through a MIL and enabled through 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use of 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ratio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does not appear directly in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ained in comments and other 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3A5A-16AE-4289-A1DF-534ADFACA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on Element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roperties (e.g., behavi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translate to algorithms of some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strategy depends on how the behaviors are specified and what translation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behavioral specifications are more useful for generating analyses or testing pl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emely difficult to do since non-functional properties are abstract and implementations are concr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ieved through a combination of human-centric strategies like inspections, reviews, focus groups, user studies, beta testing, and so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5BD3-CDB2-42F5-A29A-F6F26A9B5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s inevitably change after implementation beg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aintenance purpo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of time press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cause of new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s can be a source of new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learn more about the feasibility of our designs when we imp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lso learn how to optimize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EB4-2A2B-462D-A503-89D5E9E8C8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loud"/>
          <p:cNvSpPr/>
          <p:nvPr/>
        </p:nvSpPr>
        <p:spPr>
          <a:xfrm>
            <a:off x="1295280" y="4876920"/>
            <a:ext cx="236232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loud"/>
          <p:cNvSpPr/>
          <p:nvPr/>
        </p:nvSpPr>
        <p:spPr>
          <a:xfrm>
            <a:off x="4876920" y="4876920"/>
            <a:ext cx="3733560" cy="1395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i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3429000" y="4952880"/>
            <a:ext cx="1905120" cy="38124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"/>
          <p:cNvSpPr/>
          <p:nvPr/>
        </p:nvSpPr>
        <p:spPr>
          <a:xfrm flipH="1">
            <a:off x="3352680" y="5638680"/>
            <a:ext cx="1905120" cy="38124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ing the two in sync is a difficult technical and manageri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s where strong mappings are not present are often the first to diver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-way mappings are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understand impact on implementation for an architectural design decision or 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way mappings require more ins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understand how a change in the implementation impacts architecture-level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753D-4274-440E-9491-53C4429B8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e-Way vs. Round Trip Mapping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strategy: limit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ystem changes must be done to the architecture first, only one-way mappings are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 very well if many generative technologie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hard to control in practice; introduces process delays and limits implementer freed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ternative: allow changes in either architecture or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ires round-trip mappings and maintenance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be assisted (to a point) with automated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FBE7-D95A-414E-99ED-712360AAC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2:34:27Z</dcterms:modified>
  <cp:revision>37</cp:revision>
  <dc:subject>Software Architecture: Foundations, Theory, and Practice</dc:subject>
  <dc:title>Implementing Architectures</dc:title>
</cp:coreProperties>
</file>