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17836-E300-4CD9-8CA6-E5DA1AFB1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7208-36DC-4D8E-9FD3-A39F0A42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53F8E-6388-4244-A54B-9EF0BF570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17B51-465F-4E90-BF63-58082D814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6FE5B-F8B8-4562-AB8E-900C4D4AF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7B6B1-3BCF-4F90-AC66-9B4B09FB9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C5CD6-DE27-4221-85F3-DFE2BCE07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BBF41-0597-44D5-AF93-C86AFEE90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E3B46-93EA-4AFC-8AB7-5F2EC61CB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C9387-7174-4CCF-B131-6D05F1998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AEDB1-CE54-4268-9E59-01F420BA2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F697B-185C-4BB4-ACB9-38FF664A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2A3D-F622-41ED-B0C2-1FFC56F33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8E890-4F24-4301-85F4-4B0D1E3C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0ECD6-8036-4F06-BB70-09BD23B7C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EB04E-E200-416B-85CD-6DE379935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35132-162E-4E11-9E2F-178356CC3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6E97B-28EB-414F-B04C-EE2C2FC14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8A0AB-F077-4098-8C49-D5570688B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95A57-D2D7-431E-BD77-700BD006D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435CA-695D-48A4-BEE0-40B5DD289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A1DB3-5D48-4958-A43F-58259651D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87D9-58CD-4C67-8F47-563C4963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47950-2868-4A8C-9DA9-9E48EF9DE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77DF2-F25A-4DFF-A207-986487D1A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4D863-19F7-4B8F-B209-5821FEEB0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AA28F-49D3-4999-9C50-FA48FABAD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89197-40AC-4D72-96E4-935F549C7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97824-A122-40BF-9027-6B42A35D8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8DF3CF-037B-4BCD-972C-7CC7A044A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8D71CB-E7A8-40CE-BC8F-977E53FEC8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7A188-BE17-4190-9366-1CD724C5B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6D8C6-A131-4193-9E5D-3F312500B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3C26-8666-47DA-9422-42F8A1136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FB790-A89F-443E-9B83-B77AB9F2C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71D1D-B282-456A-BE56-A969D81B8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F3D02-9C53-4FBA-B23D-BEAE58D1F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5968B-21B8-498C-A2D8-A42946CDA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E70C8-1F68-4F43-AAAB-666610EA6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139D7-502A-4686-8E4C-9E84D8AC6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F5160-EAC8-4266-B76A-BEEB85AEA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13823-CFAD-442E-AA75-9003974CE7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170B6C-2A0E-4F25-922D-C13B55F235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A2D353-F36F-4CE7-8537-F9B107CDE5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6EE8-411D-48B0-B23E-9CC25E2E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5CBA7-6907-4B47-BBCA-E4FD61D2B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EEC97-6A2C-42E6-A078-D1EFBB87D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F3275E-9FEA-4822-A762-AADD7F1CA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A3FFE-2ED6-4F2E-977F-D00F7FBA9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9CE0F-8B1F-448C-9020-45015ADE4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75618-6DE2-4846-880F-39304EF27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7B67B-AD3D-4475-B4D2-7C6A1A674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2C64E-382F-48D1-88A5-F2128FDC0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B86ED-1FB3-455F-8169-403BDA509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D1F4E4-79BE-4D92-A2D4-C91EBD616F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3535-1A8A-41FB-9504-7684AA03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65090-F9EC-4D3A-9C98-B552467D1F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9318F-AD21-4718-9296-93494257D6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C0F4E-AA0B-443B-8877-D5B3CF6F26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1E478-E632-41FA-83C9-38719E9AE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3F6F7-687F-42D1-AB0F-CCEBC0276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28EE2-551B-43FD-A5A2-7FC0A4426D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61A14-2CD0-40AB-AEA5-D2F5B1067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C6F3E-D340-4591-A890-A837603C1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AB043-6B41-404B-8327-C1BB5689C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95716-4092-4428-BEE3-CCA3928F6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1710-ADC0-42F4-872F-A404E52B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2136F-8AA8-411C-A60C-06A677917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EFE94-7637-482B-BCF4-D55F6B43EB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E75AA0-00CB-4FE4-813B-21452228FA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D68578-5EE0-44FB-9507-80FFFBB3FB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497DF-5E9B-488E-AA2E-271FD95DD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C61F3-B325-49A4-80CA-20BD598EB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29ED5-4A01-4E7B-8FD2-DE72FBA2F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FFA72A-5C87-4A0B-9907-8016040D0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9E02E-3A8C-400D-B5CE-C80317D57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108B1-AE10-4D68-A14B-05949C8DC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A700-9CC0-41FD-9E5F-1BCA353E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1A29A-8E16-406E-A3FA-41CF9B964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38F17-D864-4C6B-8E0D-994BCE2EB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F49A3-9E76-4A37-893C-BE4C82ED1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90035-2A35-4DBB-9C77-3BA69DA12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006C9D-1366-4493-8999-CB6C41F5E1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A0D5-6F8C-42B6-BA28-C28D42CCB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4B1C-03DA-43DA-B2C9-6A772DF40B57}"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0517-3F59-4EBF-B571-1DD63B5C4F5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F610-0EA3-4EA2-B9EE-B1BD1CFFA06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0D80-07B3-4FB5-A335-CB9B26796D65}"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EDBA-6656-4789-B0E2-2B18679BF62C}"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11DD-A722-48D0-A953-CB7863BFCA51}"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DA75-B7F7-4BD3-99F1-E226A32EA4C4}"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4" descr=""/>
          <p:cNvPicPr/>
          <p:nvPr/>
        </p:nvPicPr>
        <p:blipFill>
          <a:blip r:embed="rId1"/>
          <a:stretch/>
        </p:blipFill>
        <p:spPr>
          <a:xfrm>
            <a:off x="450720" y="152280"/>
            <a:ext cx="8444160" cy="1262160"/>
          </a:xfrm>
          <a:prstGeom prst="rect">
            <a:avLst/>
          </a:prstGeom>
          <a:ln w="0">
            <a:noFill/>
          </a:ln>
        </p:spPr>
      </p:pic>
      <p:sp>
        <p:nvSpPr>
          <p:cNvPr id="304" name=""/>
          <p:cNvSpPr txBox="1"/>
          <p:nvPr/>
        </p:nvSpPr>
        <p:spPr>
          <a:xfrm>
            <a:off x="457200" y="1600200"/>
            <a:ext cx="8229600" cy="5105520"/>
          </a:xfrm>
          <a:prstGeom prst="rect">
            <a:avLst/>
          </a:prstGeom>
          <a:noFill/>
          <a:ln w="0">
            <a:noFill/>
          </a:ln>
        </p:spPr>
        <p:txBody>
          <a:bodyPr lIns="54720" rIns="90000" tIns="91440" bIns="46800" anchor="t">
            <a:normAutofit fontScale="85000"/>
          </a:bodyPr>
          <a:p>
            <a:pPr marL="372240" indent="-2710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القرارات المهمة فيما يخص الإنتاج الحيواني مسالة اختيار نشاط الإنتاج الحيواني الممكن ضمن البدائل المتاحة أمام المزارع </a:t>
            </a:r>
            <a:r>
              <a:rPr b="0" lang="ar-SA" sz="2400" spc="-1" strike="noStrike">
                <a:solidFill>
                  <a:srgbClr val="000000"/>
                </a:solidFill>
                <a:latin typeface="Corbel"/>
                <a:ea typeface="Akhbar MT"/>
              </a:rPr>
              <a:t>0</a:t>
            </a:r>
            <a:r>
              <a:rPr b="0" lang="ar-SA" sz="2400" spc="-1" strike="noStrike">
                <a:solidFill>
                  <a:srgbClr val="000000"/>
                </a:solidFill>
                <a:latin typeface="Corbel"/>
                <a:cs typeface="Akhbar MT"/>
              </a:rPr>
              <a:t>من البدائل المتاحة في ليبيا تربية الاغنام والماعز والابقار والابل ودواجن البيض واللحم) ومع اختيار نوع النشاط ياتي القرار بخصوص حجم النشاط من حيث العدد والاستثمارات المطلوبة وكذلك نظام التربية والإدارة للمشروع الذي يتم اختياره.</a:t>
            </a:r>
            <a:endParaRPr b="0" lang="en-US" sz="2400" spc="-1" strike="noStrike">
              <a:solidFill>
                <a:srgbClr val="000000"/>
              </a:solidFill>
              <a:latin typeface="Corbel"/>
            </a:endParaRPr>
          </a:p>
          <a:p>
            <a:pPr marL="372240" indent="-2710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ومن الاسباب التي تدعو المزارع الى الانشغال بانشطة الإنتاج الحيواني مايلي:</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زيادة الدخل واربحية النشاط المزرعي كسبب مباشر لممارسة المزارع نشاط تربية الحيواني بالمزرعة أو المشروع.</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ثمار وقت المزارع الاستثمار الامثل خارج أوقات الاحتياج الاقصى في الإنتاج الزراعي (استثمار فائض العمالة).</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خدام مخلفات الزراعة من المواد المستخدمة كعلف حيواني وغير قابلة للتسويق المباشر كمخلفات الزراعة مابعد الحصاد وبقايا البقوليات وغيرها.</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حصول على مصدر رخيص للاسمدة بالمزروعة وربما تخفيض تكلفة اضافة الاسمدة للحقول وتحسين خواص التربة ببعض المناطق.</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نظيم الدخل المزرعي عن طريق تحويل وحدات العلف الى وحدات لحوم والبان التي تعطي عائداً أكبر للمزارع وتزيد من كفاءة استثمار راس المال.</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80520" y="380520"/>
            <a:ext cx="8458200" cy="5745240"/>
          </a:xfrm>
          <a:prstGeom prst="rect">
            <a:avLst/>
          </a:prstGeom>
          <a:noFill/>
          <a:ln w="0">
            <a:noFill/>
          </a:ln>
        </p:spPr>
        <p:txBody>
          <a:bodyPr lIns="54720" rIns="90000" tIns="91440" bIns="46800" anchor="t">
            <a:normAutofit fontScale="92000"/>
          </a:bodyPr>
          <a:p>
            <a:pPr marL="402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ـــــــــعوائد الــــــــنسبية للـــــــــموارد</a:t>
            </a:r>
            <a:endParaRPr b="0" lang="en-US" sz="2800" spc="-1" strike="noStrike">
              <a:solidFill>
                <a:srgbClr val="000000"/>
              </a:solidFill>
              <a:latin typeface="Corbel"/>
            </a:endParaRPr>
          </a:p>
          <a:p>
            <a:pPr marL="402840" indent="-2934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المهم جداً أن نلاحظ أن تكلفة الفرصة البديلة من المبادئ المهمة المستخدمة في تحديد انشطة الإنتاج الحيواني من البدائل المتاحة. ويستعمل وفق ذلك مصطلح الموارد المطلوبة في الاستخدامات التي تعطي اكبر عائد ممكن ومن وجهة نظر المزراع تكون المسألة في اختيار النشاط الذي يعطي اكبر عائد أو مردود للموارد المحدود والنادر لدى المزارع.</a:t>
            </a:r>
            <a:endParaRPr b="0" lang="en-US" sz="2400" spc="-1" strike="noStrike">
              <a:solidFill>
                <a:srgbClr val="000000"/>
              </a:solidFill>
              <a:latin typeface="Corbel"/>
            </a:endParaRPr>
          </a:p>
          <a:p>
            <a:pPr marL="402840" indent="-2934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بعض المزارعين يتوفر لديهم الوقت وعنصر العمل والارض ولكنهم في حاجة الى راسمال للاستثمار في الإنتاج الحيواني ويعد رأس المال هو المورد المحدد جداً لدى المزارع وبالتالي يرغب المزارع في اختيار نوع النشاط الإنتاجي الذي يعطي اكبر عائد للمورد المحدد وهو راس المال وربما في بعض الحالات يستطيع المزارع ان يوفر او يقترض أي راسمال يحتاجه وتكون الارض هي العامل المحدد او المورد النادر فتكون المسالة في هي اختيار النشاط الإنتاجي الذي يعطي اكبر عائد من استثمار الموارد والارضية المحددة وفي اغلب الاحيان يكون لدى المزارع مورد أو أكثر محدد ويقارن بين عائد المورد المحدد من الاستثمار في بدائل الإنتاج الحيواني المتاحة (أبقار، اغنام، دواجن... إلخ) ويختار النشاط الذي يعظم العائد بالنسبة للمورد المحدود.</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380520" y="609480"/>
            <a:ext cx="8458200" cy="5516640"/>
          </a:xfrm>
          <a:prstGeom prst="rect">
            <a:avLst/>
          </a:prstGeom>
          <a:noFill/>
          <a:ln w="0">
            <a:noFill/>
          </a:ln>
        </p:spPr>
        <p:txBody>
          <a:bodyPr lIns="54720" rIns="90000" tIns="91440" bIns="46800" anchor="t">
            <a:normAutofit fontScale="86000"/>
          </a:bodyPr>
          <a:p>
            <a:pPr marL="37656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مبدا تكلفة الفرصة البديلة واستخدام عنصر إنتاجي واحد</a:t>
            </a:r>
            <a:endParaRPr b="0" lang="en-US" sz="2800" spc="-1" strike="noStrike">
              <a:solidFill>
                <a:srgbClr val="000000"/>
              </a:solidFill>
              <a:latin typeface="Corbel"/>
            </a:endParaRPr>
          </a:p>
          <a:p>
            <a:pPr marL="376560" indent="-2739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جب ملاحظة ان مبدا الفرصة البديلة يعني استخدام كل وحدة من الموارد المحددة بحيث تخصص تلك الوحدة للاستعمال الذي يعطي اكبر عائد حدي ممكن ويجب استخدامه في التعامل مع كل الموارد المزرعية. واستعمالات هذه المبادي هي التي خلقت الاختلاف في أن يخصص مزارع ما موارده الارضية والبشرية وراسمالية في إنتاج ابقار الحليب بينما يخصص مزارع آخر الموارد نفسها لإنتاج الاغنام أو الدواجن.</a:t>
            </a:r>
            <a:endParaRPr b="0" lang="en-US" sz="2800" spc="-1" strike="noStrike">
              <a:solidFill>
                <a:srgbClr val="000000"/>
              </a:solidFill>
              <a:latin typeface="Corbel"/>
            </a:endParaRPr>
          </a:p>
          <a:p>
            <a:pPr marL="376560" indent="-2739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يمكن استخدام المورد الإنتاجي الواحد وفق مبدأ الفرصة البديلة في تحديد استعمالات المورد (مثل الاعلاف) في الاستخدامات التي تتنافس عليها مثل الدواجن والابقار والاغنام وتوزع الموارد على الاستعمالات التي تعطي أكبر قيمة للإنتاجية الحدية أو العائد الحدي في الاستخدامات المختلفة. وبالمثل يمكن استخدام المبدا نفسه في توزيع ما يتوفر من راسمال على الاستخدامات المختلفة لبدائل الاستثمار بحيث يعطي أكبر عائد حدي وأكبر قيمة مضافة لدخل المزارع.</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6840" y="304920"/>
            <a:ext cx="8534520" cy="5821200"/>
          </a:xfrm>
          <a:prstGeom prst="rect">
            <a:avLst/>
          </a:prstGeom>
          <a:noFill/>
          <a:ln w="0">
            <a:noFill/>
          </a:ln>
        </p:spPr>
        <p:txBody>
          <a:bodyPr lIns="54720" rIns="90000" tIns="91440" bIns="46800" anchor="t">
            <a:normAutofit fontScale="82000"/>
          </a:bodyPr>
          <a:p>
            <a:pPr marL="3589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عـــــــنصر الــــــمخاطرة في الإنتاج الـــــحيواني</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ختلف المخاطرة في بدائل الإنتاج الحيواني وتعد مهمة وخاصة في ظروف محدودية الموارد والتي من اهمها رأس المال الاستثماري وعنصر المخاطرة في الإنتاج الحيواني يأتي من: الإنتاج المحقق وذبذبات الإنتاج نتيجة للعوامل الطبيعية والوارثية والاصابة بالامراض وغيرها مثل:</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ذبذب اسعار منتجات الحيواني وتاثيرها على الدخل من النشاط الإنتاجي.</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ذبذب اسعار مدخلات الإنتاج مثل الاعلاف والعمالة وغيرها</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كل هذه العوامل تسبب مخاطرة في مشروعات الإنتاج الحيواني وتعتمد على عدة عوامل منها مقدرة المزارع على تحمل المخاطرة من حيث وفرة الموارد وراس المال وقلة الالتزامات العائلية وغيرها. حيث يتحدد بموجبها اختيار النشاط الإنتاجي المناسب من المعروف مثلا ان مشروعات الدواجن والابقار اكثر مخاطرة من مشروعات الابل والاغنام وقدرة المزارع على تحمل المخاطرة تحدد نوع النشاط الإنتاجي المناسب لمزرعته.</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28600" y="228600"/>
            <a:ext cx="8763120" cy="5897520"/>
          </a:xfrm>
          <a:prstGeom prst="rect">
            <a:avLst/>
          </a:prstGeom>
          <a:noFill/>
          <a:ln w="0">
            <a:noFill/>
          </a:ln>
        </p:spPr>
        <p:txBody>
          <a:bodyPr lIns="54720" rIns="90000" tIns="91440" bIns="46800" anchor="t">
            <a:normAutofit fontScale="87000"/>
          </a:bodyPr>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تــــــنويع مــــــشروعات الإنتاج الـــــــحيواني لـــــــمجابهة الـــــــمخاطرة</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يمكن الجمع بين المشروعات كوقاية من المخاطرة (كعملية الجمع بين مشروع ذو مخاطرة عالية مع مشروع توجد به مخاطرة قليلة أو لاتوجد به مخاطرة).</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هذا الجمع يؤمل المزارع ان يغطي الخسائر التي يمكن ان تحدث في مشروع ما من ارباح مؤكدة تحقيقها من نشاط آخر. وكل ذلك بهدف الاستمرار في الحصول على حد أدنى من الدخل لمقابلة الالتزامات مهما كانت الظروف التي تواجة النشاط الإنتاجي في أي سنة من السنوات.</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يجب عند تنويع انشطة الإنتاج الحيواني مراعاة العلاقات الفنية بين تلك الانشطة بحيث تكون في مستوى العلاقات التكاملية أو المدعمة ويبتعد المزارع على جمع الانشطة المتنافسة او المتعارضة.</a:t>
            </a:r>
            <a:endParaRPr b="0" lang="en-US" sz="2400" spc="-1" strike="noStrike">
              <a:solidFill>
                <a:srgbClr val="000000"/>
              </a:solidFill>
              <a:latin typeface="Corbel"/>
            </a:endParaRPr>
          </a:p>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اســــــتخدام انــــــشطة الإنتاج الــــــــحيواني لــــتقليل الــــمخاطرة في الــــمحاصيل</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في نظام الزراعة للمناطق الجافة من المهم الجمع بين انشطة الإنتاج النباتي والإنتاج الحيواني مثل الابل والماعز وذلك لغرض تخفيض المخاطرة الناتجة من عدم سقوط كميات مهمة من الامطار وبتنويع مناسب تؤمن الإنتاج الزراعي. وهذا النظان الذي يجمع بين انشطة الإنتاج النباتي والحيواني تحت الزراعة المطرية موصى به في العديد من الدراسات لتؤمن دخل مناسب للمزارع في ظروف المخاطرة واللايقين في الإنتاج الزراعي المطري.</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80880" y="304920"/>
            <a:ext cx="8305920" cy="6248160"/>
          </a:xfrm>
          <a:prstGeom prst="rect">
            <a:avLst/>
          </a:prstGeom>
          <a:noFill/>
          <a:ln w="0">
            <a:noFill/>
          </a:ln>
        </p:spPr>
        <p:txBody>
          <a:bodyPr lIns="54720" rIns="90000" tIns="91440" bIns="46800" anchor="t">
            <a:normAutofit fontScale="79000"/>
          </a:bodyPr>
          <a:p>
            <a:pPr marL="345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إنتاج الحيواني وبرامج العمالة:</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زيد برامج الإنتاج الحيواني من عائد العمالة الزراعية وخاصة عندما تكون العلاقة متكاملة  وتمكن انشطة الإنتاج الحيواني دون المستوى التنافسي من زيادة كفاءة العمالة باستغلال الوقت المتوفر للمزارع واسرته في الاوقات التي تم استثمارها بالكامل في الاستزراع او الحصاد أو توفير الخدمات الزراعية لانشطة الإنتاج النباتي فمن المعروف ان انشطة الإنتاج النباتي موسمية وان الاحتياج لوقت المزارع في انشطة الإنتاج الحيواني لايتعارض مع موسمية الإنتاج النباتي بل يكمل كل نشاط النشاط الاخر.</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وفر انشطة الإنتاج الحيواني الفرصة للمزارع لاستثمار وقته الاستثمار الامثل.</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جب ملاحظة أن الجمع بين الانتجة للاستفادة من وقت المزارع والعمالةالاسرية يخضع لحساب وتقديرات دقيقة حتى لاتتحول العلاقة التكاملية تنافسية وتؤدي الى خفض العائد بدلاً من زيادة الكفاءة ويتاتي ذلك بتفريغ هذه الاحتياجات من ساعات العمل زمنياً وفق الانتجة النباتية والحيوانية وتحديد اوقات العجز والوفرة وبرمجة امكانية استثمار العمالة المزرعية بدرجة تؤدي الى زيادة الكفاءة والعائد لعنصر العمل.</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04920" y="380520"/>
            <a:ext cx="8610480" cy="6172200"/>
          </a:xfrm>
          <a:prstGeom prst="rect">
            <a:avLst/>
          </a:prstGeom>
          <a:noFill/>
          <a:ln w="0">
            <a:noFill/>
          </a:ln>
        </p:spPr>
        <p:txBody>
          <a:bodyPr lIns="54720" rIns="90000" tIns="91440" bIns="46800" anchor="t">
            <a:normAutofit fontScale="79000"/>
          </a:bodyPr>
          <a:p>
            <a:pPr marL="345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نــــــسبة انــــــقلاب راس الــــمال واســـــترداده في مــــشروعات الإنتاج الــــحيواني</a:t>
            </a:r>
            <a:endParaRPr b="0" lang="en-US" sz="2800" spc="-1" strike="noStrike">
              <a:solidFill>
                <a:srgbClr val="000000"/>
              </a:solidFill>
              <a:latin typeface="Corbel"/>
            </a:endParaRPr>
          </a:p>
          <a:p>
            <a:pPr marL="345960" indent="-2516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فضل المزارع المحدود المورد وخاصة راس المال بالاضافة الى الربح اختيار مشروع الإنتاج الحيواني الذي يعطي العائد السريع وبالتالي يفضل المشروع الذي يعطي اكبر عائد في اقصر مدة ممكنة وتمكن من اعادة الاستثمار في مدة قصيرة تمكن من اعادة توظيفه في نشاطات إنتاجية اخرى وبالتالي عملية ربط راس المال في استثمارات طويلة المدى (اكثر من خمس سنوات) غير مفضلة بالنسبة للمزارع محدود راس المال والذي يفضل الاستثمار في دورة دواجن اقل من سته اشهر أو دورة تسمين اغنام وابقار تعطي عائد سريع نسبياً.</a:t>
            </a:r>
            <a:endParaRPr b="0" lang="en-US" sz="2800" spc="-1" strike="noStrike">
              <a:solidFill>
                <a:srgbClr val="000000"/>
              </a:solidFill>
              <a:latin typeface="Corbel"/>
            </a:endParaRPr>
          </a:p>
          <a:p>
            <a:pPr marL="345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اهـــــــــداف الــــــمتبعة في تــــــقييم انـــــــشطة الإنتاج الــــــحيواني</a:t>
            </a:r>
            <a:endParaRPr b="0" lang="en-US" sz="2800" spc="-1" strike="noStrike">
              <a:solidFill>
                <a:srgbClr val="000000"/>
              </a:solidFill>
              <a:latin typeface="Corbel"/>
            </a:endParaRPr>
          </a:p>
          <a:p>
            <a:pPr marL="345960" indent="-2516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ختلف انشطة الإنتاج الحيواني اختلافاً مهماً في الاعداد والإنتاج والموارد اللزراعية المستعملة فيها وتعطي الانواع المختلفة من الانشطة انتجة متباينة ويتحمل المزارع في إنتاجها تكاليف مختلفة في بعض الاحيان يكون هدف المزارع هو الحصول على إنتاج ممكن من الحليب من كل بقرة في القطيع أو اكبر زيادة في وزن الحيوان غير ان الزيادة في الحليب او الوزن ليست الهدف المتبع فالاربحية المتمثلة في الفارق بين قيمة العائد وقيمة التكاليف لكل حيوان على وحدة أو للمزرعة ككل (الدخل المزرعي) هو العامل المستخدم في قياس الوصول الى هدف المزارع من النشاط الإنتاجي ولتقييم انشطة الإنتاج الحيواني نحتاج الى طرح عدد من الاسئلة التي تفيد في التقويم منها:</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04920" y="228600"/>
            <a:ext cx="8534160" cy="5897520"/>
          </a:xfrm>
          <a:prstGeom prst="rect">
            <a:avLst/>
          </a:prstGeom>
          <a:noFill/>
          <a:ln w="0">
            <a:noFill/>
          </a:ln>
        </p:spPr>
        <p:txBody>
          <a:bodyPr lIns="54720" rIns="90000" tIns="91440" bIns="46800" anchor="t">
            <a:normAutofit fontScale="92000"/>
          </a:bodyPr>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يضيف المشروع الى العوائد اكثر من الاضافة الى التكاليف؟</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الاستثمار الحالي في المشروع يعطي اكثر أو أقل من الاستثمار في مجال آخر؟</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حجم المشروع يتمشى مع مقدرة المزارع على تحمل المخاطر؟</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النسبة التي عندها يتم الاحلال بينها وبين الاعلاف وأية موارد أخرى عالية بالمقارنة بنسبة الأسعار والتكاليف؟</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من خلال الاجابات على هذه الاسئلة يمكن استنتاج المبادئ الإدارية المهمة التالية:</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أ تناقص العائد</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ا الفرصة البديلة</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أ الاحلال بين الانتجة وبين موارد الإنتاج</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من المشكلات الإدارية المهمة في الإنتاج الحيواني الممكن حلها بهذه المبادئ ما يلي:</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تربية والتلقيح</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وقاية والتغذية</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تحصين وصحة الحيوان</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ستغلال الالات والمباني</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إنتاج والتسويق</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بالرغم من الاختلاف في طبيعة مشروعات الإنتاج الحيواني الا أنها تتشابه في المبادئ العامة للتعامل معها.</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0720" y="152280"/>
            <a:ext cx="8474040" cy="1262160"/>
          </a:xfrm>
          <a:prstGeom prst="rect">
            <a:avLst/>
          </a:prstGeom>
          <a:ln w="0">
            <a:noFill/>
          </a:ln>
        </p:spPr>
      </p:pic>
      <p:sp>
        <p:nvSpPr>
          <p:cNvPr id="324" name=""/>
          <p:cNvSpPr txBox="1"/>
          <p:nvPr/>
        </p:nvSpPr>
        <p:spPr>
          <a:xfrm>
            <a:off x="304560" y="1600200"/>
            <a:ext cx="8381880" cy="4572000"/>
          </a:xfrm>
          <a:prstGeom prst="rect">
            <a:avLst/>
          </a:prstGeom>
          <a:noFill/>
          <a:ln w="0">
            <a:noFill/>
          </a:ln>
        </p:spPr>
        <p:txBody>
          <a:bodyPr lIns="54720" rIns="90000" tIns="91440" bIns="46800" anchor="t">
            <a:normAutofit fontScale="89000"/>
          </a:bodyPr>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ربية من اهم العمليات الإنتاجية التي تعطي عائداً جيداً في مشروعات ابقار اللبن ويجب الاستمرار في هذا العمل الى درجة ما تحددها المعايير الإقتصادية والتغذية جزء مهم من التربية ويجب ملاحظة ان جزء من التغذية يذهب الى الحفظ بغض النظر عن الإنتاج وهي كمية ثابتة الى حد ما في الابقار.</a:t>
            </a:r>
            <a:endParaRPr b="0" lang="en-US" sz="2400" spc="-1" strike="noStrike">
              <a:solidFill>
                <a:srgbClr val="000000"/>
              </a:solidFill>
              <a:latin typeface="Corbel"/>
            </a:endParaRPr>
          </a:p>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ناك ملاحظة مهمة يعمل بها في الاقتصاد الزراعي وتشير الى ان إنتاجية أي مورد (اعلاف، عمالة، ..إلخ) تعتمد على العناصر الاخرى من حيث الكمية والنوعية المشتركة معها في عملة الإنتاج وتطبيقات ذلك في ادراة مشروعات الإنتاج الحيواني هي في إنتاجية الاعلاف من اللحم والحليب تعتمد على خصائص الابقار الوراثية وغيرها.</a:t>
            </a:r>
            <a:endParaRPr b="0" lang="en-US" sz="2400" spc="-1" strike="noStrike">
              <a:solidFill>
                <a:srgbClr val="000000"/>
              </a:solidFill>
              <a:latin typeface="Corbel"/>
            </a:endParaRPr>
          </a:p>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أي أن الخصائص الوراثية والتربيوية في الابقار تحدد إنتاجية الاعلاف والعمالة وغيرها من العناصر الإنتاجية الى درجة كبيرة ومما لاشك فيه أن مقدرة المزارع على الاستثمار في الابقار المحسنة واسعار الابقار والحليب والدخل المحتمل من النشاط عوامل مهمة في تحديد الإنتاجية للموارد المستخدمة في الإنتاج.</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456840"/>
            <a:ext cx="8229600" cy="5668920"/>
          </a:xfrm>
          <a:prstGeom prst="rect">
            <a:avLst/>
          </a:prstGeom>
          <a:noFill/>
          <a:ln w="0">
            <a:noFill/>
          </a:ln>
        </p:spPr>
        <p:txBody>
          <a:bodyPr lIns="54720" rIns="90000" tIns="91440" bIns="46800" anchor="t">
            <a:normAutofit fontScale="78000"/>
          </a:bodyPr>
          <a:p>
            <a:pPr marL="3416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rbel"/>
                <a:cs typeface="Akhbar MT"/>
              </a:rPr>
              <a:t>بدائــــــل الـــــــــتلقيح فـــــــــي ابـــــــــقار اللـــــــــــــبن</a:t>
            </a:r>
            <a:endParaRPr b="0" lang="en-US" sz="3200" spc="-1" strike="noStrike">
              <a:solidFill>
                <a:srgbClr val="000000"/>
              </a:solidFill>
              <a:latin typeface="Corbel"/>
            </a:endParaRPr>
          </a:p>
          <a:p>
            <a:pPr marL="341640" indent="-2487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لاشك ان المزارع يواجه امكانية شراء ثيران التلقيح او استخدام التلقيح الصناعي كبديل يحتاج الى اتخاذ قررا ومن المعروف وراثياً أن للذكور اهمية في الصفات الوراثية للقطيع المنتج ومقدرة المزارع على شراء ثيران وتربيتها بخواص وراثية عالية تختلف من مزارع الى اخر بالاضافة الى الكفاءة التي تتم بها عملية التلقيح من ناحية الوقت. ويتضح أن المزارع باعداد محدودة من الابقار تكون تكلفة التلقيح الصناعي اقل من التلقيح بامتلاك ثيران بينما عند مستوى معين من الاعداد تكون فيها تكلفة امتلاك ثيران التلقيح واستخدامها اقل من تكاليف التلقيح باستخدام التلقيح الصناعي ومن المهم جداً في هذا الموضوع حساب تكلفة امتلاك الثور من عمالة واعلاف واهلاكات وغيرها ومقارنة ذلك بتكلفة التلقيح الصناعي واختيار البديل الذي يقابل اقل تكلفة عند تساوي العوامل الاخرى.</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80880" y="228240"/>
            <a:ext cx="8382240" cy="5638680"/>
          </a:xfrm>
          <a:prstGeom prst="rect">
            <a:avLst/>
          </a:prstGeom>
          <a:noFill/>
          <a:ln w="0">
            <a:noFill/>
          </a:ln>
        </p:spPr>
        <p:txBody>
          <a:bodyPr lIns="54720" rIns="90000" tIns="91440" bIns="46800" anchor="t">
            <a:normAutofit fontScale="85000"/>
          </a:bodyPr>
          <a:p>
            <a:pPr marL="37224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شـــــــراء أو تـــــــــــربية الإحــــــــلال او الـــــــــبدائل في الــــــــــقطيع</a:t>
            </a:r>
            <a:endParaRPr b="0" lang="en-US" sz="28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من الاسئلة المهمة في إدارة ابقار اللبن للمزارع محدود الموارد مسالة تربية العجول الصغيرة والاحتفاظ بها كبدائل لابقار مسنة تخرج من برنامج الإنتاج أو شراء بدائل ابقار جاهزة كلما دعت الحاجة كبدائل في سنة أو مرحلة معينة وللاجابة على السؤال المتعلق باختيار أنسب الطرق يتطلب حساب أربحية كل طريقة على وحدة واختيار الطريقة التي توافق أعلى أربحية أو عائد صافي وهناك عوامل أخرى يجب مراعاتها وهي:</a:t>
            </a:r>
            <a:endParaRPr b="0" lang="en-US" sz="28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ثقة في البدائل المشتراة من السوق من حيث الصفات الوراثية</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مكانية الاصابة بالامراض ونقلها الى داخل القطيع</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أقلم مع الظروف المساندة في المزرعة</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ذبذب السنوي في اسعار السوق فيما يخص البدائل.</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على المزارع أن يزن بوضوح كل هذه العوامل في اتخاذ القرار بخصوص الطريقة المناسبة لمزرعته وعلى العموم سوف يجد المزارع الذي يتوفر لديه العمالة العائليةوالموارد الاخرى تربية البدائل أو العجول الصغيرة دون مرحلة الادرار والاحتفاظ بها الى مرحلة الإنتاج أقل تكلفة من شراء العجول البديلة من الاسواق.</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09480" y="304920"/>
            <a:ext cx="7925040" cy="6324480"/>
          </a:xfrm>
          <a:prstGeom prst="rect">
            <a:avLst/>
          </a:prstGeom>
          <a:noFill/>
          <a:ln w="0">
            <a:noFill/>
          </a:ln>
        </p:spPr>
        <p:txBody>
          <a:bodyPr lIns="54720" rIns="90000" tIns="91440" bIns="46800" anchor="t">
            <a:normAutofit fontScale="86000"/>
          </a:bodyPr>
          <a:p>
            <a:pPr marL="327240" indent="-3272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orbel"/>
                <a:cs typeface="Akhbar MT"/>
              </a:rPr>
              <a:t>توجد بعض المبادئ والمعايير التي يمكن استخدامها في تحديد نوع نشاط الحيوان وحجمه من أهمها.</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سعار الإنتاج الحيواني ومنتجاته بالمقارنه بالمنتجات الزراعية الاخرى وتكلفة الموارد المستخدمة في الإنتاج الحيواني والنباتي </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عدلات تحويل العلف الى منتجات حيوانية بمعنى كفاءة للإنتاج الحيواني والتي تختلف باختلاف قدرة المزارع وامكانياته.</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طبيعة نشاط الإنتاج الحيواني.</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ظروف الجوية والطبيعية وطبيعة الإنتاج الحيواني والمنتج في المزارع المجاورة والتي من الممكن استخدامها أو استخدام مخلفاتها كعلف حيواني.</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توفر الموارد ورأس المال لدى المزارع وقدرته على الاقتراض وتسديد القروض وحاجته السريعة الى استرداد الاموال المستثمرة.</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مزارع او المشروع من حيث المساحة والموارد والاستثمارات.</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ملكية المزرعية والانتفاع من حيث المدة المتاحة للإنتاج او التخطيط.</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قدرة المزارع على تحمل المخاطرة والتي يمكن قيامها من حيث العمر، صحة المزارع، التعليم، الالتزامات العائلية والوضع المالي للمزارع.</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اختيارات والتفصيل الشخصي للمزارع ومقدرته على الإدارة واتخاذ القرارات.</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عمالة العائلية المتوفرة وامكانيات توفر العمالة من المصادر المختلفة.</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انشاءات والمباني المزرعية المتوفرة وخاصة تحت ظروف عدم توفر الاموال الكافية للاستثمار في هذه الانشاءات الجديدة.</a:t>
            </a:r>
            <a:endParaRPr b="0" lang="en-US" sz="2200" spc="-1" strike="noStrike">
              <a:solidFill>
                <a:srgbClr val="000000"/>
              </a:solidFill>
              <a:latin typeface="Corbel"/>
            </a:endParaRPr>
          </a:p>
          <a:p>
            <a:pPr marL="327240" indent="-3272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ومن استعراض كافة العوامل السابقة يمكن للمزارع ان يتعرف على طبيعة مشروع الإنتاج الحيواني الملائم والمناسب له ولمزرعته ولاتتساوى كل تلك العوامل في الاهمية ويمكن للمزارع استخدام خبراته في تحديد العوامل التي تعطي أكثر وزن في اتخاذ القرار المزرعي بشأن مشروعات الإنتاج الحيواني.</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6840" y="380520"/>
            <a:ext cx="8381880" cy="5745240"/>
          </a:xfrm>
          <a:prstGeom prst="rect">
            <a:avLst/>
          </a:prstGeom>
          <a:noFill/>
          <a:ln w="0">
            <a:noFill/>
          </a:ln>
        </p:spPr>
        <p:txBody>
          <a:bodyPr lIns="54720" rIns="90000" tIns="91440" bIns="46800" anchor="t">
            <a:normAutofit fontScale="84000"/>
          </a:bodyPr>
          <a:p>
            <a:pPr marL="36792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ختيار العلائق ومستوى التغذية لتحقيق أكبر عائد</a:t>
            </a:r>
            <a:endParaRPr b="0" lang="en-US" sz="2800" spc="-1" strike="noStrike">
              <a:solidFill>
                <a:srgbClr val="000000"/>
              </a:solidFill>
              <a:latin typeface="Corbel"/>
            </a:endParaRPr>
          </a:p>
          <a:p>
            <a:pPr marL="367920" indent="-2678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rbel"/>
                <a:cs typeface="Akhbar MT"/>
              </a:rPr>
              <a:t>من مسائل اختيار العلائق في تربية ابقار اللبن ما يلي:</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حديد نسب خلط كل من الحبوب والاعلاف والالبان والبروتين في العليقة.</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حديد مستويات التغذية للابقار وكذلك مستهدفات الإنتاج من الحليب المقابل لمستويات التغذية.</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كل مثل هذه المسائل تعتمد على اسعار العلف والحلييب وكذلك على الصفات الوراثية لابقار ويعتمد الحل على وضع المزارع من ناحية توفر راس المال ونوعية المادة المسوقة (الحليب، الاجبان،..إلخ).</a:t>
            </a:r>
            <a:endParaRPr b="0" lang="en-US" sz="2800" spc="-1" strike="noStrike">
              <a:solidFill>
                <a:srgbClr val="000000"/>
              </a:solidFill>
              <a:latin typeface="Corbel"/>
            </a:endParaRPr>
          </a:p>
          <a:p>
            <a:pPr lvl="1" marL="613080" indent="-228960" algn="r" rtl="1">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ففي حالة توفر راس المال فالمزارع سوف يغذي الابقار الى المرحلة التي يتحصل فيها على اكبر ربح من كل </a:t>
            </a:r>
            <a:r>
              <a:rPr b="0" lang="ar-SA" sz="2400" spc="-1" strike="noStrike">
                <a:solidFill>
                  <a:srgbClr val="000000"/>
                </a:solidFill>
                <a:latin typeface="Corbel"/>
                <a:cs typeface="Akhbar MT"/>
              </a:rPr>
              <a:t>بقرة في القطيع وبالتالي اكبر ربح أو عائد صافي من المزرعة ككل. اما المزارع المحدود في راس المال فسوف ينظر الى البدائل المتاحة لاستعمال العلف في تغذية حيوانات اخرى متنافسة بحيث يتحصل على اكبر مردود من موارده المحدودية في الاستخدامات المختلفة.</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80520" y="228600"/>
            <a:ext cx="8534520" cy="5897520"/>
          </a:xfrm>
          <a:prstGeom prst="rect">
            <a:avLst/>
          </a:prstGeom>
          <a:noFill/>
          <a:ln w="0">
            <a:noFill/>
          </a:ln>
        </p:spPr>
        <p:txBody>
          <a:bodyPr lIns="54720" rIns="90000" tIns="91440" bIns="46800" anchor="t">
            <a:normAutofit fontScale="88000"/>
          </a:bodyPr>
          <a:p>
            <a:pPr marL="38520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تنسيق بين الإنتاج النباتي ومشروعات الإنتاج الحيواني</a:t>
            </a:r>
            <a:endParaRPr b="0" lang="en-US" sz="2800" spc="-1" strike="noStrike">
              <a:solidFill>
                <a:srgbClr val="000000"/>
              </a:solidFill>
              <a:latin typeface="Corbel"/>
            </a:endParaRPr>
          </a:p>
          <a:p>
            <a:pPr marL="385200" indent="-2804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في الكثير من الاحيان تؤثر نوعية التربة وملائمة المحاصيل لها في تحديد نوعية الإنتاج الحيواني التي يمكن تربيتها في المزرعة. وتحتاج مشاريع الإنتاج الحيواني الى تنسيق بين انشطة الإنتاج الحيواني والنباتي وقد يكون من الممكن في بعض الاحيان عكس العملية بحيث يتم اختيار نشاط الإنتاج الحيواني أولاً ثم ياتي بعد ذلك اختيار المحاصيل التي تصلح كاعلاف للإنتاج الحيواني الذي يتم اختياره.</a:t>
            </a:r>
            <a:endParaRPr b="0" lang="en-US" sz="2800" spc="-1" strike="noStrike">
              <a:solidFill>
                <a:srgbClr val="000000"/>
              </a:solidFill>
              <a:latin typeface="Corbel"/>
            </a:endParaRPr>
          </a:p>
          <a:p>
            <a:pPr marL="38520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تكامل إنتاج المحاصيل مع نشاط الإنتاج الحيواني:</a:t>
            </a:r>
            <a:endParaRPr b="0" lang="en-US" sz="2800" spc="-1" strike="noStrike">
              <a:solidFill>
                <a:srgbClr val="000000"/>
              </a:solidFill>
              <a:latin typeface="Corbel"/>
            </a:endParaRPr>
          </a:p>
          <a:p>
            <a:pPr marL="385200" indent="-2804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من امثلة التكامل في هذا الاطار مشاريع إنتاج الحليب وتربية الابقار حيث تعد الاعلاف (بنوعية وكمية محددة) من أهم محددات إنتاج الحليب. ويتم في هذا التكامل تحديد المدى الذي يتم فيه احلال العلف الخشن محل العلف المركز كذلك احلال الحبوب المختلفة في عليقة الحيوان لتخفيض تكاليف الإنتاج وتوفير الاحتياجات الغذائية للابقارلتتمكن من تعظيم العائد من إنتاج الحليب.</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3160" y="228600"/>
            <a:ext cx="8381880" cy="6324480"/>
          </a:xfrm>
          <a:prstGeom prst="rect">
            <a:avLst/>
          </a:prstGeom>
          <a:noFill/>
          <a:ln w="0">
            <a:noFill/>
          </a:ln>
        </p:spPr>
        <p:txBody>
          <a:bodyPr lIns="54720" rIns="90000" tIns="91440" bIns="46800" anchor="t">
            <a:normAutofit fontScale="85000"/>
          </a:bodyPr>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جري التحويل في نشاطات الإنتاج النباتي من حبوب واعلاف خضراء وغيرها لتتمشى مع برامج التغذية المقترحة للإنتاج الحيواني. كما ان برامج المحاصيل الذي يعطي اعلى إنتاج من الإنتاج الحيواني يمكن الوصول اليه عندما تكون نسبة احلال المحاصيل مع بعضها مساوية لنسبة احلالها أو استبدالها في عليقة الحيوان.</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وضح الشكل العلاقة بين منحنى امكانية الإنتاج للحبوب والالبان ومنحنى الإنتاج المتماثل لإنتاج كميات محددة من الحليب بتربية عدد محدد من ابقار الحليب. </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ن الشكل يمكن ملاحظة أنه في المنطقة التي يتزايد فيها منحنى امكانية الإنتاج تعني أن العلاقة بين الحبوب والاعلاف والخضراء علاقة تكاملية وفي المنطقة التي ينخفض فيها منحنى امكانية الإنتاج تتحول هذه العلاقة الى علاقة تنافسية والتكامل الامثل بين الإنتاج الحيواني والإنتاج النباتي تكون في المنطقة التي يتلامس فيها منحنى الإنتاج المتماثل من الالبان مع منحنى امكانية الإنتاج للحبوب والاعلاف الخضراء.</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مكن توسيع هذا الاطار النظري ليشمل عدد اكبر من منحنيات الإنتاج المتماثل وامكانيات إنتاج المحاصيل الحقلية للوصول الى مستويات عالية من التكامل بين إنتاج المحاصيل الحقلية للوصول الى مستويات عالية من التكامل بين الحيوان والنبات في البرنامج الزراعي.</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بخصوص المناطق التي لاتتوفر فيها امكانيات الاعتماد على دورة زراعية لمحاصيل زراعية تتكامل مع مشروعات الإنتاج الحيواني فيمكن تربية الحيوانات على الرعي المباشر في المراعي الطبيعية على النباتات والزروعات الصحراوية والتي تتحمل الجفاف ولاتحتاج الى موارد مائية عالية أو استثمارات عالية في الانشاءات وغيرها.</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بقى اختيار الحيوانات في تلك المناطق مبنى على طبيعة الحيوانات الى ان تتمكن من الاستفادة من تحويل نوعية الاعلاف المتوفرة وتحتاج الى اقل كمية من العلف التكميلي في بعض أوقات السنة لتعطي أكبر دخل للمزارع ومن ضمن البدائل تربية الابل والاغنام ولاتكون هناك امكانية لتربية ابقار الحليب أو اللحم أو الدواجن لاحتياجاتها العلفية النوعية والكمية العالية.</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ea typeface="Akhbar MT"/>
              </a:rPr>
              <a:t> ويلاحظ من خلال الشكل ان منحنى إمكانية الإنتاج (</a:t>
            </a:r>
            <a:r>
              <a:rPr b="0" i="1" lang="en-US" sz="2200" spc="-1" strike="noStrike">
                <a:solidFill>
                  <a:srgbClr val="000000"/>
                </a:solidFill>
                <a:latin typeface="Corbel"/>
                <a:ea typeface="Akhbar MT"/>
              </a:rPr>
              <a:t>Production Possibility curve</a:t>
            </a:r>
            <a:r>
              <a:rPr b="0" lang="ar-SA" sz="2200" spc="-1" strike="noStrike">
                <a:solidFill>
                  <a:srgbClr val="000000"/>
                </a:solidFill>
                <a:latin typeface="Corbel"/>
                <a:ea typeface="Akhbar MT"/>
              </a:rPr>
              <a:t>) يمثل الكميات المحتمل إنتاجها من الأعلاف الخضراء (ص</a:t>
            </a:r>
            <a:r>
              <a:rPr b="0" lang="ar-SA" sz="2200" spc="-1" strike="noStrike">
                <a:solidFill>
                  <a:srgbClr val="000000"/>
                </a:solidFill>
                <a:latin typeface="Corbel"/>
                <a:ea typeface="Akhbar MT"/>
              </a:rPr>
              <a:t>1</a:t>
            </a:r>
            <a:r>
              <a:rPr b="0" lang="ar-SA" sz="2200" spc="-1" strike="noStrike">
                <a:solidFill>
                  <a:srgbClr val="000000"/>
                </a:solidFill>
                <a:latin typeface="Corbel"/>
                <a:ea typeface="Akhbar MT"/>
              </a:rPr>
              <a:t>) والاعلاف المركزة (ص</a:t>
            </a:r>
            <a:r>
              <a:rPr b="0" lang="ar-SA" sz="2200" spc="-1" strike="noStrike">
                <a:solidFill>
                  <a:srgbClr val="000000"/>
                </a:solidFill>
                <a:latin typeface="Corbel"/>
                <a:ea typeface="Akhbar MT"/>
              </a:rPr>
              <a:t>2</a:t>
            </a:r>
            <a:r>
              <a:rPr b="0" lang="ar-SA" sz="2200" spc="-1" strike="noStrike">
                <a:solidFill>
                  <a:srgbClr val="000000"/>
                </a:solidFill>
                <a:latin typeface="Corbel"/>
                <a:ea typeface="Akhbar MT"/>
              </a:rPr>
              <a:t>) والتي يمكن إنتاجها بحزمة محددة من الموارد (الارض، مياه، موارد راسمالية، عمالة) وان كل نقطة على هذا المنحنى تمثل الخلطة المناسبة من (ص</a:t>
            </a:r>
            <a:r>
              <a:rPr b="0" lang="ar-SA" sz="2200" spc="-1" strike="noStrike">
                <a:solidFill>
                  <a:srgbClr val="000000"/>
                </a:solidFill>
                <a:latin typeface="Corbel"/>
                <a:ea typeface="Akhbar MT"/>
              </a:rPr>
              <a:t>1</a:t>
            </a:r>
            <a:r>
              <a:rPr b="0" lang="ar-SA" sz="2200" spc="-1" strike="noStrike">
                <a:solidFill>
                  <a:srgbClr val="000000"/>
                </a:solidFill>
                <a:latin typeface="Corbel"/>
                <a:cs typeface="Akhbar MT"/>
              </a:rPr>
              <a:t>، ص</a:t>
            </a:r>
            <a:r>
              <a:rPr b="0" lang="ar-SA" sz="2200" spc="-1" strike="noStrike">
                <a:solidFill>
                  <a:srgbClr val="000000"/>
                </a:solidFill>
                <a:latin typeface="Corbel"/>
                <a:ea typeface="Akhbar MT"/>
              </a:rPr>
              <a:t>2</a:t>
            </a:r>
            <a:r>
              <a:rPr b="0" lang="ar-SA" sz="2200" spc="-1" strike="noStrike">
                <a:solidFill>
                  <a:srgbClr val="000000"/>
                </a:solidFill>
                <a:latin typeface="Corbel"/>
                <a:ea typeface="Akhbar MT"/>
              </a:rPr>
              <a:t>) التي يمكن إنتاجها بنفس حزمة الموارد.</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 name="Object 4"/>
          <p:cNvGraphicFramePr/>
          <p:nvPr/>
        </p:nvGraphicFramePr>
        <p:xfrm>
          <a:off x="385920" y="457200"/>
          <a:ext cx="8186760" cy="6072120"/>
        </p:xfrm>
        <a:graphic>
          <a:graphicData uri="http://schemas.openxmlformats.org/presentationml/2006/ole">
            <p:oleObj progId="Word.Document.12" r:id="rId1" spid="">
              <p:embed/>
              <p:pic>
                <p:nvPicPr>
                  <p:cNvPr id="310" name="Object 4" descr=""/>
                  <p:cNvPicPr/>
                  <p:nvPr/>
                </p:nvPicPr>
                <p:blipFill>
                  <a:blip r:embed="rId2"/>
                  <a:stretch/>
                </p:blipFill>
                <p:spPr>
                  <a:xfrm>
                    <a:off x="385920" y="457200"/>
                    <a:ext cx="8186760" cy="6072120"/>
                  </a:xfrm>
                  <a:prstGeom prst="rect">
                    <a:avLst/>
                  </a:prstGeom>
                  <a:ln w="0">
                    <a:noFill/>
                  </a:ln>
                </p:spPr>
              </p:pic>
            </p:oleObj>
          </a:graphicData>
        </a:graphic>
      </p:graphicFrame>
      <p:sp>
        <p:nvSpPr>
          <p:cNvPr id="311" name="Rectangle 6"/>
          <p:cNvSpPr/>
          <p:nvPr/>
        </p:nvSpPr>
        <p:spPr>
          <a:xfrm>
            <a:off x="0" y="4010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80880" y="304920"/>
            <a:ext cx="8229600" cy="5821200"/>
          </a:xfrm>
          <a:prstGeom prst="rect">
            <a:avLst/>
          </a:prstGeom>
          <a:noFill/>
          <a:ln w="0">
            <a:noFill/>
          </a:ln>
        </p:spPr>
        <p:txBody>
          <a:bodyPr lIns="54720" rIns="90000" tIns="91440" bIns="46800" anchor="t">
            <a:normAutofit fontScale="82000"/>
          </a:bodyPr>
          <a:p>
            <a:pPr marL="358920" indent="-2613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لاحظ من الشكل بأن منحنى المكانية الإنتاج في منطقة م وتمثل العلاقة التكاملية بين الاعلاف المركزة والخضراء كما أن المنطقة م وتمثل العلاقة التنافسية بينمها كما يوضح الشكل (  )بأن التماس بين منحنى السواء الإنتاجي ومنحنى امكانية الإنتاج في المنطقة التنافسية هو المحدد للكمية المثلى من الاعلاف الخضراء والمركزة التي يتعطينا اعلى كمية البان يمكن إنتاجها بنفس حزمة الموارد كما ان تقاطع منحنى السواء الإنتاجي ن</a:t>
            </a:r>
            <a:r>
              <a:rPr b="0" lang="ar-SA" sz="2800" spc="-1" strike="noStrike">
                <a:solidFill>
                  <a:srgbClr val="000000"/>
                </a:solidFill>
                <a:latin typeface="Corbel"/>
                <a:ea typeface="Akhbar MT"/>
              </a:rPr>
              <a:t>1</a:t>
            </a:r>
            <a:r>
              <a:rPr b="0" lang="ar-SA" sz="2800" spc="-1" strike="noStrike">
                <a:solidFill>
                  <a:srgbClr val="000000"/>
                </a:solidFill>
                <a:latin typeface="Corbel"/>
                <a:ea typeface="Akhbar MT"/>
              </a:rPr>
              <a:t> مع منحنى امكانية الإنتاج في المنطقة التنافسية هو المحدد للكمية المثلى من الاعلاف الخضراء والمركزة التي تعطينا اعلى كمية البان يمكن إنتاجها ن</a:t>
            </a:r>
            <a:r>
              <a:rPr b="0" lang="ar-SA" sz="2800" spc="-1" strike="noStrike">
                <a:solidFill>
                  <a:srgbClr val="000000"/>
                </a:solidFill>
                <a:latin typeface="Corbel"/>
                <a:ea typeface="Akhbar MT"/>
              </a:rPr>
              <a:t>1</a:t>
            </a:r>
            <a:r>
              <a:rPr b="0" lang="ar-SA" sz="2800" spc="-1" strike="noStrike">
                <a:solidFill>
                  <a:srgbClr val="000000"/>
                </a:solidFill>
                <a:latin typeface="Corbel"/>
                <a:ea typeface="Akhbar MT"/>
              </a:rPr>
              <a:t> مع منحنى امكانية الإنتاج  فيالمنطقة التكاملية لاتعد حلاً أفضلاً لانه بالامكان لوصول الى إنتاج اعلى من الالبان بالانتقال الى منحنى السواء الإنتاجي (ن</a:t>
            </a:r>
            <a:r>
              <a:rPr b="0" lang="ar-SA" sz="2800" spc="-1" strike="noStrike">
                <a:solidFill>
                  <a:srgbClr val="000000"/>
                </a:solidFill>
                <a:latin typeface="Corbel"/>
                <a:ea typeface="Akhbar MT"/>
              </a:rPr>
              <a:t>2</a:t>
            </a:r>
            <a:r>
              <a:rPr b="0" lang="ar-SA" sz="2800" spc="-1" strike="noStrike">
                <a:solidFill>
                  <a:srgbClr val="000000"/>
                </a:solidFill>
                <a:latin typeface="Corbel"/>
                <a:ea typeface="Akhbar MT"/>
              </a:rPr>
              <a:t>) وذلك دون الزيادة في الموارد الإنتاجية المستخدمة (أي الانتقال الى مستوى أعلى من الكفاءة الإقتصادية وفق تعريب الكفاءة الذي سبق التعرض له في هذه الكتاب).</a:t>
            </a:r>
            <a:endParaRPr b="0" lang="en-US" sz="2800" spc="-1" strike="noStrike">
              <a:solidFill>
                <a:srgbClr val="000000"/>
              </a:solidFill>
              <a:latin typeface="Corbel"/>
            </a:endParaRPr>
          </a:p>
          <a:p>
            <a:pPr marL="358920" indent="-2613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مما سبق يتضح بأن الكمية (ص</a:t>
            </a:r>
            <a:r>
              <a:rPr b="0" lang="ar-SA" sz="2800" spc="-1" strike="noStrike">
                <a:solidFill>
                  <a:srgbClr val="000000"/>
                </a:solidFill>
                <a:latin typeface="Corbel"/>
                <a:ea typeface="Akhbar MT"/>
              </a:rPr>
              <a:t>1</a:t>
            </a:r>
            <a:r>
              <a:rPr b="0" lang="ar-SA" sz="2800" spc="-1" strike="noStrike">
                <a:solidFill>
                  <a:srgbClr val="000000"/>
                </a:solidFill>
                <a:latin typeface="Corbel"/>
                <a:cs typeface="Akhbar MT"/>
              </a:rPr>
              <a:t>، ص</a:t>
            </a:r>
            <a:r>
              <a:rPr b="0" lang="ar-SA" sz="2800" spc="-1" strike="noStrike">
                <a:solidFill>
                  <a:srgbClr val="000000"/>
                </a:solidFill>
                <a:latin typeface="Corbel"/>
                <a:ea typeface="Akhbar MT"/>
              </a:rPr>
              <a:t>2</a:t>
            </a:r>
            <a:r>
              <a:rPr b="0" lang="ar-SA" sz="2800" spc="-1" strike="noStrike">
                <a:solidFill>
                  <a:srgbClr val="000000"/>
                </a:solidFill>
                <a:latin typeface="Corbel"/>
                <a:ea typeface="Akhbar MT"/>
              </a:rPr>
              <a:t>) تعد الكميات المثلى من الاعلاف المركزة والخضراء التي يمكن إنتاجها من خلال الموارد المزرعية المتوفرة.</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304920" y="380520"/>
            <a:ext cx="8686800" cy="6248520"/>
          </a:xfrm>
          <a:prstGeom prst="rect">
            <a:avLst/>
          </a:prstGeom>
          <a:noFill/>
          <a:ln w="0">
            <a:noFill/>
          </a:ln>
        </p:spPr>
        <p:txBody>
          <a:bodyPr lIns="54720" rIns="90000" tIns="91440" bIns="46800" anchor="t">
            <a:normAutofit fontScale="87000"/>
          </a:bodyPr>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علاقة بين المشروعات الإنتاجية والأسعار</a:t>
            </a:r>
            <a:endParaRPr b="0" lang="en-US" sz="28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لعب الأسعار الحالية وتوقعاتها المستقبلية لكل من الإنتاج الحيواني والنباتي دور مهم في القرار المتعلق بنوعية وكمية وحجم مشروعات الإنتاج الحيواني بالمزرعة وذلك لتأثيرها المباشر على اربحية تلك المشروعات والدخل المزرعي المحقق.</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ولايمكن في الوقت القصير تغير نمط الإنتاج الحيواني من ابقار اللحم أو الاغنام أو ابقار اللبن والدواجن عندما يتم اتخاذ القرار بنوعية معينة من نشاط الإنتاج الحيواني ولذلك من المهم جداً استخدام تنبؤات الأسعار والإنتاج والظروف المزرعية وتحليلها بأسلوب علمي للوصول الى القرار المناسب.</a:t>
            </a:r>
            <a:endParaRPr b="0" lang="en-US" sz="2400" spc="-1" strike="noStrike">
              <a:solidFill>
                <a:srgbClr val="000000"/>
              </a:solidFill>
              <a:latin typeface="Corbel"/>
            </a:endParaRPr>
          </a:p>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ميزة النسبية في الإنتاج الحيواني:</a:t>
            </a:r>
            <a:endParaRPr b="0" lang="en-US" sz="28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خدام الميزة النسبية في الإنتاج الحيواني تعني ان يستخدم المزارعون مواردهم في الإنتاج الحيواني الذي يعطي أكبر دخل نسبي وذلك من خلال الأسعار بينما تقرر الاعلاف والمحاصيل والظروف الجوية بطريقة غير مباشرة أربحية الإنتاج الحيواني وتعني الميزة النسبية أن بعض المناطق التي تتوفر فيها مصادر رخيصة للاعلاف ويوجد فيها سوق لاستهلاك الالبان توجدبها ميزة نسبية لإنتاج الالبان بالمقارنة بالمناطق التي لاتوجد بها ميزة لتربية الاغنام والابل مثلاً.</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وهكذا يفيد قانون الميزة النسبية في مساعدة  المزارع في اتخاذ القرار بشأن التخصص في نوعية محددة من الإنتاج الحيواني توجد به أعلى ميزة نسبية.</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304920"/>
            <a:ext cx="8077320" cy="5821200"/>
          </a:xfrm>
          <a:prstGeom prst="rect">
            <a:avLst/>
          </a:prstGeom>
          <a:noFill/>
          <a:ln w="0">
            <a:noFill/>
          </a:ln>
        </p:spPr>
        <p:txBody>
          <a:bodyPr lIns="54720" rIns="90000" tIns="91440" bIns="46800" anchor="t">
            <a:normAutofit fontScale="89000"/>
          </a:bodyPr>
          <a:p>
            <a:pPr marL="3898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rbel"/>
                <a:cs typeface="Akhbar MT"/>
              </a:rPr>
              <a:t>الأسعار النسبية أو نسبة اسعار العلف الى اسعار الإنتاج</a:t>
            </a:r>
            <a:endParaRPr b="0" lang="en-US" sz="3200" spc="-1" strike="noStrike">
              <a:solidFill>
                <a:srgbClr val="000000"/>
              </a:solidFill>
              <a:latin typeface="Corbel"/>
            </a:endParaRPr>
          </a:p>
          <a:p>
            <a:pPr marL="389880" indent="-2836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من المهم ان نتذكر ان الأسعار النسبية وليست الأسعار المطلقة تعد مهمة في اتخاذ القرار بشأن الإنتاج الحيواني وتحدد النوع والكمية وطريقة الإنتاج التي تتبع ونعني بالأسعار النسبية مقارنة اسعار منتجات الحيوان مع اسعار العلف والموارد الزراعية الاخرى المستخدمة في الإنتاج.</a:t>
            </a:r>
            <a:endParaRPr b="0" lang="en-US" sz="3200" spc="-1" strike="noStrike">
              <a:solidFill>
                <a:srgbClr val="000000"/>
              </a:solidFill>
              <a:latin typeface="Corbel"/>
            </a:endParaRPr>
          </a:p>
          <a:p>
            <a:pPr marL="389880" indent="-2836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الأسعار النسبية للالبان والاعلاف مثلاً أو اللحوم والاعلاف وغيرها من مدخلات الإنتاج وتوقعاتها المستقبلية وهي العوامل المهمة التي يتحدد بمقتضاها مع العوامل الاخرى نمط الإنتاج وكميته ونوعه.</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228600" y="456840"/>
            <a:ext cx="8686800" cy="5668920"/>
          </a:xfrm>
          <a:prstGeom prst="rect">
            <a:avLst/>
          </a:prstGeom>
          <a:noFill/>
          <a:ln w="0">
            <a:noFill/>
          </a:ln>
        </p:spPr>
        <p:txBody>
          <a:bodyPr lIns="54720" rIns="90000" tIns="91440" bIns="46800" anchor="t">
            <a:normAutofit fontScale="88000"/>
          </a:bodyPr>
          <a:p>
            <a:pPr marL="38520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نــــــسبة الإنتاج واحـــــــتياجات الــــــــموارد</a:t>
            </a:r>
            <a:endParaRPr b="0" lang="en-US" sz="28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ناك ثلاثة عوامل متجمعة تقرر العائد الاكبر من الإنتاج الحيواني الذي يمكن تحقيقه من خلالها ما يتوفر لدى المزارع من موارد وهذه العوامل هي: </a:t>
            </a:r>
            <a:endParaRPr b="0" lang="en-US" sz="24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الأسعار،</a:t>
            </a:r>
            <a:endParaRPr b="0" lang="en-US" sz="20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طبيعة العلاقة بين المشروع والانشطة الاخرى،</a:t>
            </a:r>
            <a:endParaRPr b="0" lang="en-US" sz="20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حجم الإنتاج من انشطة الإنتاج الحيواني.</a:t>
            </a:r>
            <a:endParaRPr b="0" lang="en-US" sz="20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دراسة العلاقة بين قيمة الإنتاج المحقق من بيع منتجات الالبان وقيمة وتكلفة الموارد المستخدمة في الإنتاج من علف وعمالة والات واستهلاك مباني وتكاليف تسويق وغيرها تمكن المزارع من المقارنة بين البدائل المتاحة لانشطة الإنتاج الحيواني وتحدد أي من الانشطة يحقق اكبر دخل مزرعي بالموارد الزراعية المتاحة للمزارع.</a:t>
            </a:r>
            <a:endParaRPr b="0" lang="en-US" sz="2400" spc="-1" strike="noStrike">
              <a:solidFill>
                <a:srgbClr val="000000"/>
              </a:solidFill>
              <a:latin typeface="Corbel"/>
            </a:endParaRPr>
          </a:p>
          <a:p>
            <a:pPr marL="38520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عــــــــلاقة الأســـــــعار بالـــــــــتكاليف</a:t>
            </a:r>
            <a:endParaRPr b="0" lang="en-US" sz="28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كلفة العمالة، الاعلاف، اهلاكات المباني، اهلاكات كل الاصول الثابتة بما في ذلك اهلاكات القطيع (تكلفة تربية البدائل) وتكلفة الادوية البيطرية والخدمات البيطرية، الضرائب الرسوم وغيرها من التكاليف يجب حسابها عند تقرير تكاليف الإنتاج لمشروعات الإنتاج الحيواني. ويمكن بواسطة تقدير التكاليف ايجاد الأسعار التي عندها يكون الإنتاج مربح. ويستمر الى النقطة التي يغطي فيها السعر التكاليف المتغيرة. وتشكل تكلفة الاعلاف نسبة </a:t>
            </a:r>
            <a:r>
              <a:rPr b="0" lang="ar-SA" sz="2400" spc="-1" strike="noStrike">
                <a:solidFill>
                  <a:srgbClr val="000000"/>
                </a:solidFill>
                <a:latin typeface="Corbel"/>
                <a:ea typeface="Akhbar MT"/>
              </a:rPr>
              <a:t>60</a:t>
            </a:r>
            <a:r>
              <a:rPr b="0" lang="ar-SA" sz="2400" spc="-1" strike="noStrike">
                <a:solidFill>
                  <a:srgbClr val="000000"/>
                </a:solidFill>
                <a:latin typeface="Corbel"/>
                <a:ea typeface="Akhbar MT"/>
              </a:rPr>
              <a:t>-</a:t>
            </a:r>
            <a:r>
              <a:rPr b="0" lang="ar-SA" sz="2400" spc="-1" strike="noStrike">
                <a:solidFill>
                  <a:srgbClr val="000000"/>
                </a:solidFill>
                <a:latin typeface="Corbel"/>
                <a:ea typeface="Akhbar MT"/>
              </a:rPr>
              <a:t>70</a:t>
            </a:r>
            <a:r>
              <a:rPr b="0" lang="ar-SA" sz="2400" spc="-1" strike="noStrike">
                <a:solidFill>
                  <a:srgbClr val="000000"/>
                </a:solidFill>
                <a:latin typeface="Corbel"/>
                <a:ea typeface="Akhbar MT"/>
              </a:rPr>
              <a:t>% من اجمالي التكاليف المتغيرة وهي من أهم بنود تكلفة الإنتاج المحددة للاسعار.</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9:28:03Z</dcterms:modified>
  <cp:revision>56</cp:revision>
  <dc:subject/>
  <dc:title>مـحـــــاضـرات  فــي  إقتصــــاديات الإنـتــــــــاج الــــــزراعـي قصر 428</dc:title>
</cp:coreProperties>
</file>