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6658-12C2-4803-87E3-85472C45ED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566E-AD07-40CD-AB75-17A9B7A748C7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420-2721-4C73-A055-8855195F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479-F971-4F99-90B5-1F309272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CD6-38BB-4B2F-ADE0-9ECD80A1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696-B08C-48CF-AC86-2700A8E1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CCA8-13A1-4E9F-8569-D222C15E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4806-7338-4445-92C5-D33FC000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CDCF-D763-4661-A9A8-6021A03A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41BD-3633-4C80-A0DA-F0D1AFD0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0B91-883F-466C-BB96-AEAACC72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279D-9DCF-4ADE-87B6-C192B57B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62F9-4C94-4DD5-8AD8-ED812C93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4AD-B8C7-4CA3-9673-80B2B28A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EF64-DE15-4EFE-B86B-C2655263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BD06-E459-421C-80BC-88F4DC6A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A11E-40E9-425A-90EE-5E1D7B5C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48D5-90C0-436F-B065-C353237B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37D5-2E95-4A17-8E53-A00904B4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C866-F52D-4B0D-A13B-A6B7D64F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9052-8340-41F8-AFF9-CE1AE58D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0151F-9978-4160-9C82-FADFF601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F3A0-3776-4D86-A4FB-6F601ED4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AB79-6A51-4230-A185-462077F0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325-0EBC-4EEA-98B4-961A51A2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7D717-A18F-4229-95F0-AE8B8938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24640-4382-4B93-AFB7-F340DF1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5B4A-6486-4E9C-9BFA-CB13CBE7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A6EF-4FEB-47C4-8CE0-A0F87761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BAA6-5EA5-4A5B-A99E-8F4D0E88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36B1-A506-46D4-AFE3-8C28B6BB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DA62-8C15-4485-B256-8E2A109E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6A5-1DF6-47E7-AC95-ADA7C938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656-A63E-4FA0-8F5C-A2E3C0A0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138-9375-4937-8FE7-F4D2E0E1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D29-FD91-425B-B399-CF49E7FF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7A1-9A8B-4C2E-847D-5A5A04FE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642-AB48-4D05-A6EE-5AD712D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5E3C-4A38-4CFF-8494-9794108012A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B58E-BB27-4D6F-851D-E878C0EC9F1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1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4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4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6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4FA8-7A59-44AC-8BC8-2D2B9FF086E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cecff"/>
                </a:solidFill>
                <a:latin typeface="Times New Roman"/>
              </a:rPr>
              <a:t>شيستوسوما (البلهارسيا) </a:t>
            </a:r>
            <a:br>
              <a:rPr sz="4800"/>
            </a:br>
            <a:r>
              <a:rPr b="0" lang="en-GB" sz="4800" spc="-1" strike="noStrike">
                <a:solidFill>
                  <a:srgbClr val="ccecff"/>
                </a:solidFill>
                <a:latin typeface="Times New Roman"/>
              </a:rPr>
              <a:t>Schistosoma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68360" y="220500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 algn="r" rtl="1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ديدان ثنائية العائل، تسمى ديدان الدم لانها تعيش في الاوعية الدموية للطيور و الثدييات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 algn="r" rtl="1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جنسين فيها منفصلان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 algn="r" rtl="1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سميت شيستوسوما (ذوات الجسم المشقوق) لانها تتميز بوجود تجويف على السطح البطني للذكور لحمل الاناث وقت التزاوج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تنفس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ليس لها جهاز خاص بالتنفس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معظمها يتنفس لا هوائيا في الطور الياف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اطوار المبكرة اثناء هجرتها عبر رئة الانسان تتنفس هوائيا بتبادل الغازات بين سطح الجسم للدودة الصغيرة و دم العائل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0" algn="r" rtl="1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اجهزة الاخراجية و العصبية و العضلي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تركيب التشريحي لهذه الاجهزة يماثل تلك الموجودة في الفاشيول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44280"/>
            <a:ext cx="822960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جهاز التناسلي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ff"/>
                </a:solidFill>
                <a:latin typeface="Times New Roman"/>
              </a:rPr>
              <a:t>الذكر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قع 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خصيات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testes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خلف الممص البطني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عدد الخصيات يختلف في الانواع المختلفة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23880" indent="-23976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مانسوناي عددها غالبا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3880" indent="-23976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هيماتوبيم عددها غالبا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او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خرج من الخصيات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وعية صادرة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vasa efferentia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قصيرة جدا تتحد مع بعضها لتكون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وعاء ناقل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vas deferns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واحد قصير يؤدي الى الحويصلة المنو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فتح الحويصلة المنوية على سطح الجسم بالثقب التناسلي الذكر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لا توجد ذؤاب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23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Schist-1"/>
          <p:cNvPicPr/>
          <p:nvPr/>
        </p:nvPicPr>
        <p:blipFill>
          <a:blip r:embed="rId1"/>
          <a:stretch/>
        </p:blipFill>
        <p:spPr>
          <a:xfrm>
            <a:off x="2965320" y="620640"/>
            <a:ext cx="39070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ff"/>
                </a:solidFill>
                <a:latin typeface="Times New Roman"/>
              </a:rPr>
              <a:t>الانثى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شبه مثيله في الفاشيول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وجد المبيض امام مكان اتحاد ردبي الامعاء مباشرة لذا يختلف مكانه في ش.مانسوني عنه في ش.هيماتوبيو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رحم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ش.مانسوني قصير و يحتوي على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من البيض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ش. هيماتوبيوم طويل و يحتوي على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30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بيض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لا توجد قناة لاورر في شيستوسوم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Schist-7"/>
          <p:cNvPicPr/>
          <p:nvPr/>
        </p:nvPicPr>
        <p:blipFill>
          <a:blip r:embed="rId1"/>
          <a:srcRect l="0" t="0" r="0" b="21395"/>
          <a:stretch/>
        </p:blipFill>
        <p:spPr>
          <a:xfrm>
            <a:off x="2235240" y="692280"/>
            <a:ext cx="46418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تكاث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نضج الذكر اولا ثم يحمل الانثى في قناة الاحتضان حيث ينضج جهازها التناسل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خرج الحيوانات المنوية من الثقب التناسلي الذكري لتنساب في قناة الاحتضان الى الثقب التناسلي الانثو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م اخصاب البويضات في مكان اعداد البيض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حاط البويضة المخصبة بالخلايا المحية ثم تغلف بالقشر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مر البيض الى الرحم و منه الى الخارج عن طريق الثقب التناسلي الانثو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ضع ش.هيماتوبيوم حوال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0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بيضة في اليوم، بينما تضع ش.مانسوني حوال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20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بيضة في اليوم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Schist-4"/>
          <p:cNvPicPr/>
          <p:nvPr/>
        </p:nvPicPr>
        <p:blipFill>
          <a:blip r:embed="rId1"/>
          <a:stretch/>
        </p:blipFill>
        <p:spPr>
          <a:xfrm>
            <a:off x="1941480" y="1197000"/>
            <a:ext cx="56548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دورة الحيا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مكان وضع البيض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تضع ش. هيماتوبيوم البيض في الاوردة الصغيرة في جدار المثان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تضع ش.مانسوناي البيض في الاوردة الصغيرة في المساريقا حول جدار الامعاء الغليظ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طريقة وضع البيض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تمد الانثى مقدمة جسمها و هي في قناة الاحتضان لتضع البيض واحدة تلو الاخرى حيث ترتد قليلا الى الخلف بعد وضع كل بيض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780000" y="259920"/>
            <a:ext cx="49752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طريق مرور البيضة الى الخارج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فرز الميراسيديوم داخل البيضة مواد تذيب الانسجة لتساعد البيضة على اختراق جدار الاوعية الدموية في جدار المثانة او الامعاء الغليظ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تصل بذلك البيضة الى تجاويف تلك الاعضاء لتخرج الى خارج الجسم مع البول او البرا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تمييز البيضة في النوعين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بيضة ش.هيماتوبيوم لها شوكة طرفية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terminal sp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بيضة ش.مانسوناي لها شوكة جانبية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lateral sp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7" name="Picture 4" descr="Schist-5"/>
          <p:cNvPicPr/>
          <p:nvPr/>
        </p:nvPicPr>
        <p:blipFill>
          <a:blip r:embed="rId1"/>
          <a:srcRect l="49008" t="54087" r="7907" b="7718"/>
          <a:stretch/>
        </p:blipFill>
        <p:spPr>
          <a:xfrm>
            <a:off x="250920" y="260280"/>
            <a:ext cx="367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فقس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عند خروج البيضة من الجسم تكون محتوية على ميراسيديوم كامل النمو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فقس البيض فور وصوله الى الماء العذب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تحكم بعملية الفقس عدة عوامل اهمها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درجة الحرارة: المثلى هي 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°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م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الضو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سبح الميراسيديوم في الماء باحثا عن العائل المتوسط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5400" y="5875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عندما يصاب الانسان بهذه الديدان تسبب له الاصابة بمرض البلهارسيا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bilharziasis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عدد المصابين به في العالم اكثر من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200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مليون نسم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نتشر في المناطق الاستوائية و شبه الاستوائي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قدر عدد المصابين به في مصر بنحو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مليون مصري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995280" y="63180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ميراسيديوم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شبه مثيله في الديدان الكبدية الا انه اصغر قليلا و ليس له بقعتان عينيتان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عيش في الماء لفترة بين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24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36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ساعة يموت بعدها ان لم يعثر على القوقع المناسب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Picture 4" descr="Schist-5"/>
          <p:cNvPicPr/>
          <p:nvPr/>
        </p:nvPicPr>
        <p:blipFill>
          <a:blip r:embed="rId1"/>
          <a:srcRect l="53933" t="22274" r="0" b="47493"/>
          <a:stretch/>
        </p:blipFill>
        <p:spPr>
          <a:xfrm>
            <a:off x="395280" y="631800"/>
            <a:ext cx="367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2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عائل المتوسط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وجد نوعان من العوائل المتوسطة لشيستوسوما في مصر من قواقع الماء العذب عديمة الاغطية هما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ش. هيماتوبيوم: بولينس ترنكاتس </a:t>
            </a:r>
            <a:r>
              <a:rPr b="0" i="1" lang="en-GB" sz="2800" spc="-1" strike="noStrike">
                <a:solidFill>
                  <a:srgbClr val="eaeaea"/>
                </a:solidFill>
                <a:latin typeface="Times New Roman"/>
              </a:rPr>
              <a:t>Bulinus truncat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له صدفة كروية، يسارية الالتفاف يزيد ارتفاعها عن عرضه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ش.مانسوني: بيومفلاريا الكسندرينا</a:t>
            </a:r>
            <a:r>
              <a:rPr b="0" i="1" lang="ar-SA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eaeaea"/>
                </a:solidFill>
                <a:latin typeface="Times New Roman"/>
              </a:rPr>
              <a:t>Biomphalaria alexandr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له صدفة قرصية يمينية الالتفاف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2" name="Picture 4" descr="Schist-7"/>
          <p:cNvPicPr/>
          <p:nvPr/>
        </p:nvPicPr>
        <p:blipFill>
          <a:blip r:embed="rId1"/>
          <a:srcRect l="0" t="76994" r="0" b="0"/>
          <a:stretch/>
        </p:blipFill>
        <p:spPr>
          <a:xfrm>
            <a:off x="3056040" y="4541760"/>
            <a:ext cx="37432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780000" y="260280"/>
            <a:ext cx="5046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عندما يعثر الميراسيديوم على القوقع المناسب يخترق انسجته و يفقد اهدابه و يحول الى كيس بوغي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sporocyst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كيس البوغ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sporocyst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تتكاثر الخلايا المنبتة فيه لا جنسيا لتعطي جيلا آخر من الاكياس البوغية تعرف بالاكياس البوغية البنوية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daughter sporocysts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4" name="Picture 4" descr="Schist-6"/>
          <p:cNvPicPr/>
          <p:nvPr/>
        </p:nvPicPr>
        <p:blipFill>
          <a:blip r:embed="rId1"/>
          <a:stretch/>
        </p:blipFill>
        <p:spPr>
          <a:xfrm>
            <a:off x="611280" y="476280"/>
            <a:ext cx="3173400" cy="294156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7"/>
          <p:cNvSpPr/>
          <p:nvPr/>
        </p:nvSpPr>
        <p:spPr>
          <a:xfrm>
            <a:off x="395280" y="5013360"/>
            <a:ext cx="8353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Arial"/>
              </a:rPr>
              <a:t>الاكياس البوغية البنوية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daughter sporocysts</a:t>
            </a:r>
            <a:r>
              <a:rPr b="1" lang="ar-SA" sz="28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3240" indent="-188640" algn="r" rtl="1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Arial"/>
              </a:rPr>
              <a:t> تخرج عن طريق ثقب الولادة لتهاجر الى الغدة الهضمية للقوق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3240" indent="-188640" algn="r" rtl="1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Arial"/>
              </a:rPr>
              <a:t> تتكاثر الخلايا المنبتة فيها لا جنسيا لتعطي السركاريا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4960" indent="-264960" algn="r" rtl="1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السركاريا </a:t>
            </a:r>
            <a:r>
              <a:rPr b="0" lang="en-GB" sz="3600" spc="-1" strike="noStrike">
                <a:solidFill>
                  <a:srgbClr val="00ff00"/>
                </a:solidFill>
                <a:latin typeface="Times New Roman"/>
              </a:rPr>
              <a:t>Cercaria</a:t>
            </a: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عتقد ان الميراسيديوم الواحد ينتج ما يزيد عن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00،00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سركاريا في القوق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وقت الذي يستغرقه تكوين السركاريا منذ اختراق الميراسيديوم لانسجة القوقع حوال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اسابي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درجة الحرارة المثلى لتكوين السركاريا ه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26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28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°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ركيب السركاريا يشبه مثيله في سركاريا الفاشيولا فيما عدا انها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لها ذيل مشقو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لها اربعة ازواج من الخلايا اللهبية تفتح كل منها في انيبيبة اخراجية اولي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211280" y="404640"/>
            <a:ext cx="46148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متد من المثانة قناة اخراجية في الذيل لتفتح الى الخارج بفتحتين اخراجيتيتن عند نهايتي شعبتي الذيل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لها خمسة ازواج من الغدد الثاقبة تصب افرازاتها على حافة الممص الفمي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بمجرد خروج السركاريا الى الماء تسبح الى الاعلى و الاسفل حتى تجد العائل النهائي و هو الانسان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عيش السركاريا لفترة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36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48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ساعة تموت بعدها اذا لم تعثر على العائل النهائ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8" name="Picture 4" descr="Schist-5"/>
          <p:cNvPicPr/>
          <p:nvPr/>
        </p:nvPicPr>
        <p:blipFill>
          <a:blip r:embed="rId1"/>
          <a:srcRect l="0" t="10172" r="44298" b="0"/>
          <a:stretch/>
        </p:blipFill>
        <p:spPr>
          <a:xfrm>
            <a:off x="539640" y="189000"/>
            <a:ext cx="3673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80316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لصق السركاريا نفسها ببشرة جلد الانسان (في الاجزاء الرخوة من جسمه) و تذيب انسجة طبقات الجلد بفعل الانزيمات الهاضمة التي تفرزها غددها حتى تصل الى طبقة الادم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ستغرق عملية الاختراق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دقيق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عندما تخترق جلد العائل، فان السركاريا تترك ذيلها خارج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سمى الدودة الصغيرة الشيستوسوميولا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schistosomula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الشيستوسوميولا </a:t>
            </a:r>
            <a:r>
              <a:rPr b="0" lang="en-GB" sz="3600" spc="-1" strike="noStrike">
                <a:solidFill>
                  <a:srgbClr val="00ff00"/>
                </a:solidFill>
                <a:latin typeface="Times New Roman"/>
              </a:rPr>
              <a:t>schistosomula</a:t>
            </a: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خترق الدودة الادمة لتصل الى الاوعية اللمفاوية و الاوعية الدموية ثم القلب فالرئتين خلال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ايا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بعد بضعة ايام تصل الديدان الصغيرة الى الكبد بعد اختراقها لانسجة الرئة الى التجويف البللوري ثم اختراق الحجاب الحاجز لتصل الى الاوعية الدموية بالكبد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م النضج الجنسي بعد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اسابي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الديدان البالغة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لا تنضج الانثى الا بعد ان تصل الى قناة الاحتضان في الذكر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رك الذكر و الانثى الكبد و يتحركان معا ضد تيار الدم حتى يصلا الى الاوردة المساريقية او اوردة الضفيرة المثانية تبعا للنو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صل المدة بين دخول الشيستوسوميولا لجسم العائل حتى بداية ظهور البيض في البول او البراز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4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6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يو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تضح ظاهرة تعاقب الاجيال في دورة حياة الشيستوسوم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Schist-3"/>
          <p:cNvPicPr/>
          <p:nvPr/>
        </p:nvPicPr>
        <p:blipFill>
          <a:blip r:embed="rId1"/>
          <a:stretch/>
        </p:blipFill>
        <p:spPr>
          <a:xfrm>
            <a:off x="2590920" y="620640"/>
            <a:ext cx="441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وجد اربعة انواع من ديدان شيستوسوما التي تصيب الانسان اهمها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imes New Roman"/>
              </a:rPr>
              <a:t>شيستوسوما هيماتوبيوم </a:t>
            </a:r>
            <a:r>
              <a:rPr b="0" i="1" lang="en-GB" sz="2800" spc="-1" strike="noStrike">
                <a:solidFill>
                  <a:srgbClr val="00ff00"/>
                </a:solidFill>
                <a:latin typeface="Times New Roman"/>
              </a:rPr>
              <a:t>Schistosoma haematobiu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تعيش في الاوردة المثانية و تسبب مرض ”بلهارسيا المجاري البولية“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imes New Roman"/>
              </a:rPr>
              <a:t>شيستوسوما مانسوناي </a:t>
            </a:r>
            <a:r>
              <a:rPr b="0" i="1" lang="en-GB" sz="2800" spc="-1" strike="noStrike">
                <a:solidFill>
                  <a:srgbClr val="00ff00"/>
                </a:solidFill>
                <a:latin typeface="Times New Roman"/>
              </a:rPr>
              <a:t>Schistosoma manson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imes New Roman"/>
              </a:rPr>
              <a:t>شيستوسوما جابونيكم </a:t>
            </a:r>
            <a:r>
              <a:rPr b="0" lang="en-GB" sz="2800" spc="-1" strike="noStrike">
                <a:solidFill>
                  <a:srgbClr val="00ff00"/>
                </a:solidFill>
                <a:latin typeface="Times New Roman"/>
              </a:rPr>
              <a:t>Schistosoma japonicu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يعيش النوعان الاخيران في الاوردة المساريقية فيسببان ”البلهارسيا المعوية“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ife cycl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dult worm passing eg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gg into fresh water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ercaria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iracidia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enetrate into the body of the sn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(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ermediate host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)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fe0404"/>
                </a:solidFill>
                <a:latin typeface="Times New Roman"/>
              </a:rPr>
              <a:t>oncomelania</a:t>
            </a:r>
            <a:r>
              <a:rPr b="1" lang="en-US" sz="2800" spc="-1" strike="noStrike">
                <a:solidFill>
                  <a:srgbClr val="fe0404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6095880" y="2590920"/>
            <a:ext cx="1143000" cy="457200"/>
          </a:xfrm>
          <a:prstGeom prst="line">
            <a:avLst/>
          </a:prstGeom>
          <a:ln w="76320">
            <a:solidFill>
              <a:srgbClr val="fe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 flipV="1">
            <a:off x="2057400" y="2590920"/>
            <a:ext cx="1219320" cy="838080"/>
          </a:xfrm>
          <a:prstGeom prst="line">
            <a:avLst/>
          </a:prstGeom>
          <a:ln w="76320">
            <a:solidFill>
              <a:srgbClr val="fe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 flipH="1">
            <a:off x="6171840" y="4419720"/>
            <a:ext cx="1066680" cy="533160"/>
          </a:xfrm>
          <a:prstGeom prst="line">
            <a:avLst/>
          </a:prstGeom>
          <a:ln w="76320">
            <a:solidFill>
              <a:srgbClr val="fe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6781680" y="3429000"/>
            <a:ext cx="0" cy="685800"/>
          </a:xfrm>
          <a:prstGeom prst="line">
            <a:avLst/>
          </a:prstGeom>
          <a:ln w="76320">
            <a:solidFill>
              <a:srgbClr val="fe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 flipH="1" flipV="1">
            <a:off x="2057400" y="3962160"/>
            <a:ext cx="990720" cy="990360"/>
          </a:xfrm>
          <a:prstGeom prst="line">
            <a:avLst/>
          </a:prstGeom>
          <a:ln w="76320">
            <a:solidFill>
              <a:srgbClr val="fe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علاقة بين العائل و الطفيلي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-464040" algn="r" rtl="1">
              <a:spcBef>
                <a:spcPts val="901"/>
              </a:spcBef>
              <a:buClr>
                <a:srgbClr val="ff0066"/>
              </a:buClr>
              <a:buSzPct val="11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ff"/>
                </a:solidFill>
                <a:latin typeface="Times New Roman"/>
              </a:rPr>
              <a:t>تأثير البلهارسيا على العائل المتوسط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-464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نتج الميراسيديوم الواحد حوال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00،00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سركاريا حيث يؤثر هذا العدد الهائل من الاطوار اليرقية على حيوية القوقع و قدرته على التكاثر و بالتالي على حياته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-464040" algn="r" rtl="1">
              <a:spcBef>
                <a:spcPts val="901"/>
              </a:spcBef>
              <a:buClr>
                <a:srgbClr val="ccecff"/>
              </a:buClr>
              <a:buSzPct val="115000"/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ff"/>
                </a:solidFill>
                <a:latin typeface="Times New Roman"/>
              </a:rPr>
              <a:t>تأثير البلهارسيا على العائل النهائي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-464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ستغرق مرض البلهارسيا وقتا طويلا قبل ان تظهر اعراضه على العائل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-464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توقف التغيرات المرضية المصاحبة للمرض على كثافة الاصابة و عمرها و نوع الطفيل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آثار المرضية المصاحبة للمرض في مراحله المختلفه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imes New Roman"/>
              </a:rPr>
              <a:t>مرحلة اختراق الجلد و نضج الديدان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تشمل الفترة منذ اختراق السركاريا لجلد الانسان حتى وصول الديدان الصغيرة الى الكبد و نضجها الجنسي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imes New Roman"/>
              </a:rPr>
              <a:t>مرحلة الاصابة المستقرة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تبدأ بوضع البيض و خروجه من الجسم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تتميز المرحلتان بـ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التفاعلات النسيجية و تكوين صبغ البلهارسيا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النزف الموضعي في الانسجة التي يمر خلالها البيض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just" rtl="1">
              <a:spcBef>
                <a:spcPts val="799"/>
              </a:spcBef>
              <a:buClr>
                <a:srgbClr val="00ff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مرحلة الاصابة المزمنة (التغيرات غير المنعكسة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just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تكوين انسجة ليفية حول البيض في انسجة الاعضاء البولية التناسلية او الامعاء او في الكبد و الرئتين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just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التأثيرات الضارة في حالة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905120" indent="-533520" algn="just" rtl="1">
              <a:spcBef>
                <a:spcPts val="601"/>
              </a:spcBef>
              <a:buClr>
                <a:srgbClr val="00ff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66"/>
                </a:solidFill>
                <a:latin typeface="Times New Roman"/>
              </a:rPr>
              <a:t>ش.مانسوني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: تتركز في الامعاء و الكبد و الطحال و الرئتين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905120" indent="-533520" algn="just" rtl="1">
              <a:spcBef>
                <a:spcPts val="601"/>
              </a:spcBef>
              <a:buClr>
                <a:srgbClr val="00ff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66"/>
                </a:solidFill>
                <a:latin typeface="Times New Roman"/>
              </a:rPr>
              <a:t>ش.هيماتوبيوم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: تتركز في المثانة البولية و الحالبين و الكليتين و الاعضاء التناسلية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928440"/>
            <a:ext cx="6540480" cy="64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Life Cycle of </a:t>
            </a:r>
            <a:r>
              <a:rPr b="0" i="1" lang="en-US" sz="3600" spc="-1" strike="noStrike">
                <a:solidFill>
                  <a:srgbClr val="ccecff"/>
                </a:solidFill>
                <a:latin typeface="Times New Roman"/>
              </a:rPr>
              <a:t>Schistosoma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spp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7" name="Picture 4" descr="schistosoma_lifecycle"/>
          <p:cNvPicPr/>
          <p:nvPr/>
        </p:nvPicPr>
        <p:blipFill>
          <a:blip r:embed="rId1"/>
          <a:stretch/>
        </p:blipFill>
        <p:spPr>
          <a:xfrm>
            <a:off x="1371600" y="0"/>
            <a:ext cx="6777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5"/>
          <p:cNvSpPr/>
          <p:nvPr/>
        </p:nvSpPr>
        <p:spPr>
          <a:xfrm>
            <a:off x="3635280" y="515772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5</a:t>
            </a:r>
            <a:r>
              <a:rPr b="0" lang="zh-CN" sz="1000" spc="-1" strike="noStrike">
                <a:solidFill>
                  <a:srgbClr val="eaeaea"/>
                </a:solidFill>
                <a:latin typeface="Arial"/>
              </a:rPr>
              <a:t>－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30</a:t>
            </a:r>
            <a:r>
              <a:rPr b="0" lang="en-US" sz="1000" spc="-1" strike="noStrike">
                <a:solidFill>
                  <a:srgbClr val="eaeaea"/>
                </a:solidFill>
                <a:latin typeface="SimSun"/>
              </a:rPr>
              <a:t>℃</a:t>
            </a:r>
            <a:r>
              <a:rPr b="0" lang="zh-CN" sz="1000" spc="-1" strike="noStrike">
                <a:solidFill>
                  <a:srgbClr val="eaeaea"/>
                </a:solidFill>
                <a:latin typeface="SimSun"/>
              </a:rPr>
              <a:t>毛蚴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6516720" y="472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eaeaea"/>
                </a:solidFill>
                <a:latin typeface="Arial"/>
              </a:rPr>
              <a:t>－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8</a:t>
            </a:r>
            <a:r>
              <a:rPr b="0" lang="zh-CN" sz="1000" spc="-1" strike="noStrike">
                <a:solidFill>
                  <a:srgbClr val="eaeaea"/>
                </a:solidFill>
                <a:latin typeface="Arial"/>
              </a:rPr>
              <a:t>周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4" name="Picture 4" descr="Schistosoma life cycle"/>
          <p:cNvPicPr/>
          <p:nvPr/>
        </p:nvPicPr>
        <p:blipFill>
          <a:blip r:embed="rId1"/>
          <a:stretch/>
        </p:blipFill>
        <p:spPr>
          <a:xfrm>
            <a:off x="1523880" y="0"/>
            <a:ext cx="636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90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6212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</a:rPr>
              <a:t>شيستوسوما هيماتوبيوم و شيستوسوما مانسوناي </a:t>
            </a:r>
            <a:r>
              <a:rPr b="1" i="1" lang="en-GB" sz="3600" spc="-1" strike="noStrike">
                <a:solidFill>
                  <a:srgbClr val="ccecff"/>
                </a:solidFill>
                <a:latin typeface="Times New Roman"/>
              </a:rPr>
              <a:t>Schistosoma haematobium and S.mansoni</a:t>
            </a:r>
            <a:r>
              <a:rPr b="1" i="1" lang="en-GB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01880" y="1620720"/>
            <a:ext cx="73864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نتشر النوعان في مصر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شكل الخارجي: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الذكر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ff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قصير مفلطح طوله بين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م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ff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نثني جانبا الجسم تجاه الناحية البطنية خلف الممص البطني لتكوين قناة الاحتضان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gynaecophoric canal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ff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وجد على جسمه العديد من الدرنات الصغيرة التي تحمل حلمات حس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Schist-2"/>
          <p:cNvPicPr/>
          <p:nvPr/>
        </p:nvPicPr>
        <p:blipFill>
          <a:blip r:embed="rId1"/>
          <a:stretch/>
        </p:blipFill>
        <p:spPr>
          <a:xfrm>
            <a:off x="2050920" y="1268280"/>
            <a:ext cx="4992840" cy="3834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"/>
          <p:cNvSpPr/>
          <p:nvPr/>
        </p:nvSpPr>
        <p:spPr>
          <a:xfrm>
            <a:off x="684360" y="19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ffff"/>
                </a:solidFill>
                <a:latin typeface="Times New Roman"/>
                <a:cs typeface="Times New Roman"/>
              </a:rPr>
              <a:t>دودة البلهارسيا (شيستوسوما هيماتوبيوم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الانثى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ff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طول من الذكر (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8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مم)، جسمها اسطواني رفيع املس لا توجد عليه درنات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وجد في الجزء الامامي ممصان هما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فمي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oral sucker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و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بطني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ventral sucker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(الاكبر) و هذه الممصات اقوى في الذكر عنها في الانثى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وجد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فتحات على جسم الدودة هي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الفم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mouth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عند الطرف الامامي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الفتحة التناسلية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genital opening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خلف الممص البطني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الثقب الاخراجي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excretory pore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عند النهاية الخلفية للجس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جهاز الهضمي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ؤدي فتحة الفم الى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مرئ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oesophagaus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و لا يوجد بلعو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حاط المرئ بخلايا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غدة المريئية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oesophageal gland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فرع المرئ امام الممص البطني الى ردبين معويين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intestinal caeca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حد الردبين المعويين بالقرب من الطرف الخلفي لتكوين ردب معوي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intestinal caecum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واحد ينتهي مسدودا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23880" indent="-239760" algn="r" rtl="1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شيستوسوما مانسوناي يتحد الردبان المعويان عند نهاية الثلث الامامي من الجس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3880" indent="-239760" algn="r" rtl="1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شيستوسوما هيماتوبيوم يتحد الردبان المعويان عند نهاية الثلث الاوسط من الجس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Schist-1"/>
          <p:cNvPicPr/>
          <p:nvPr/>
        </p:nvPicPr>
        <p:blipFill>
          <a:blip r:embed="rId1"/>
          <a:stretch/>
        </p:blipFill>
        <p:spPr>
          <a:xfrm>
            <a:off x="2916360" y="981000"/>
            <a:ext cx="3957480" cy="55771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7"/>
          <p:cNvSpPr/>
          <p:nvPr/>
        </p:nvSpPr>
        <p:spPr>
          <a:xfrm>
            <a:off x="755640" y="135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ffff"/>
                </a:solidFill>
                <a:latin typeface="Times New Roman"/>
                <a:cs typeface="Times New Roman"/>
              </a:rPr>
              <a:t>مكان اتحاد الردبين االمعويين في شيستوسوما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اغتذاء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بتلع شيستوسوما دم العائل الغني بالاحماض الامينية و الكربوهيدرات البسيطة عن طريق الف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هضم الدم في الامعاء و يمتص كما يحدث في فاشيول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خلف عن الهيوغلوبين غير في الامعاء مواد بنية داكنة تعرف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بصبغ البلهارسيا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bilharzia pigments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التي تطرد من الفم الى الد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تغذى الديدان على بعض الاحماض الامينية و السكريات الموجودة في الدم ايضا عن طريق الرشف خلال طبقة الاهاب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18:01:45Z</dcterms:created>
  <dc:creator>hp</dc:creator>
  <dc:description/>
  <dc:language>en-US</dc:language>
  <cp:lastModifiedBy>hp</cp:lastModifiedBy>
  <dcterms:modified xsi:type="dcterms:W3CDTF">2012-11-06T00:53:04Z</dcterms:modified>
  <cp:revision>11</cp:revision>
  <dc:subject/>
  <dc:title>شيستوسوما (البلهارسيا)  Schistosoma</dc:title>
</cp:coreProperties>
</file>