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514-B0D4-442E-8540-75C639C4C7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3D1-5372-468B-9D91-25F4981CC5A8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F17-DBD3-46D8-B4D9-4C0A9EB9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DDE-1B38-478E-955A-D26C662E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04B-4FB0-4D49-85A5-7CFBF9BC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664-47EB-419B-9BF9-04C718E9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EAC6-F90C-4173-8530-6388C40E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5BD7-51C4-42BF-8574-25218FBE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E83B-98C6-485D-944C-C4164E28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8220-0B02-40A7-ABD4-8393292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AD2C-8715-4DC7-AA12-840A776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0AAF-183B-4F6F-BEB7-A1C77868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E00-A213-4BDB-9061-F964395A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A60-B055-4DA7-9A8A-61EE85F1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92E-B76C-4AD6-B0B8-D3E718B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8E5C-6F7D-4A26-8A26-C7FC8A24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1A61-7AD9-4D5B-ACBF-66206691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04F-8488-4371-92CE-126F80BE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AFF8-041D-4329-AA54-746D5A0E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293D-6D9E-4319-B649-786C076B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08CE-0C32-42D4-A751-56B2C932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FFC8-C077-4815-A9CF-06D95C5F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FF0B-6559-48CC-801B-E55470C6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61DF-3AD8-4649-ABC8-BC9306D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2CE-7178-42C8-AD9E-63BF0DDA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AC02-6C11-4DB1-A61D-A98D511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FDFC-27E7-4FDB-B351-B4251AD7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110D-60DC-4558-9F68-374C282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0CD9-2A6A-4FED-9F12-A70101B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B832-B3EF-40AB-BA3A-60AD13B2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0EFE-8790-437F-B8AE-1A64EAAD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22E5-CA28-4AB2-B07B-6E675C24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6C6-B5F7-46CC-94F7-138271BB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B36-D2F0-41CF-8607-79D2C889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C95-2415-4F5A-98B7-F0EAB68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5F0-7A80-41B9-AB9E-61071CB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C79-E70D-478B-B651-DA916E9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6B3-7FA4-48FB-A828-05C7B74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A66-B9B9-4335-A234-6F7C18A5E7D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BC70-6711-4B05-B68D-5D07E40D915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EBBE-B2B8-4C22-B3EB-1164251ACB8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ecff"/>
                </a:solidFill>
                <a:latin typeface="Times New Roman"/>
              </a:rPr>
              <a:t>شيستوسوما (البلهارسيا) </a:t>
            </a:r>
            <a:br>
              <a:rPr sz="4800"/>
            </a:br>
            <a:r>
              <a:rPr b="0" lang="en-GB" sz="4800" spc="-1" strike="noStrike">
                <a:solidFill>
                  <a:srgbClr val="ccecff"/>
                </a:solidFill>
                <a:latin typeface="Times New Roman"/>
              </a:rPr>
              <a:t>Schistosoma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 algn="r" rtl="1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ديدان ثنائية العائل، تسمى ديدان الدم لانها تعيش في الاوعية الدموية للطيور و الثدييات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 algn="r" rtl="1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جنسين فيها منفصلا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 algn="r" rtl="1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سميت شيستوسوما (ذوات الجسم المشقوق) لانها تتميز بوجود تجويف على السطح البطني للذكور لحمل الاناث وقت التزاوج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تنفس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ليس لها جهاز خاص بالتنفس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معظمها يتنفس لا هوائيا في الطور الياف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اطوار المبكرة اثناء هجرتها عبر رئة الانسان تتنفس هوائيا بتبادل الغازات بين سطح الجسم للدودة الصغيرة و دم العائل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r" rtl="1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اجهزة الاخراجية و العصبية و العضل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تركيب التشريحي لهذه الاجهزة يماثل تلك الموجودة في الفاشيول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4428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جهاز التناسلي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الذكر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قع 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خصيات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teste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خلف الممص البطني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عدد الخصيات يختلف في الانواع المختلفة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مانسوناي عددها غالبا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هيماتوبيم عددها غالبا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او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خرج من الخصيات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وعية صادرة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vasa efferentia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قصيرة جدا تتحد مع بعضها لتكون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وعاء ناقل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vas defern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احد قصير يؤدي الى الحويصلة المنو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فتح الحويصلة المنوية على سطح الجسم بالثقب التناسلي الذكر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لا توجد ذؤاب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Schist-1"/>
          <p:cNvPicPr/>
          <p:nvPr/>
        </p:nvPicPr>
        <p:blipFill>
          <a:blip r:embed="rId1"/>
          <a:stretch/>
        </p:blipFill>
        <p:spPr>
          <a:xfrm>
            <a:off x="2965320" y="620640"/>
            <a:ext cx="39070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الانثى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شبه مثيله في الفاشيول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وجد المبيض امام مكان اتحاد ردبي الامعاء مباشرة لذا يختلف مكانه في ش.مانسوني عنه في ش.هيماتوبيو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رحم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.مانسوني قصير و يحتوي على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من البيض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. هيماتوبيوم طويل و يحتوي على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3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بيض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لا توجد قناة لاورر في شيستوسوم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Schist-7"/>
          <p:cNvPicPr/>
          <p:nvPr/>
        </p:nvPicPr>
        <p:blipFill>
          <a:blip r:embed="rId1"/>
          <a:srcRect l="0" t="0" r="0" b="21395"/>
          <a:stretch/>
        </p:blipFill>
        <p:spPr>
          <a:xfrm>
            <a:off x="2235240" y="692280"/>
            <a:ext cx="46418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تكاث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ضج الذكر اولا ثم يحمل الانثى في قناة الاحتضان حيث ينضج جهازها التناسل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خرج الحيوانات المنوية من الثقب التناسلي الذكري لتنساب في قناة الاحتضان الى الثقب التناسلي الانثو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م اخصاب البويضات في مكان اعداد البيض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حاط البويضة المخصبة بالخلايا المحية ثم تغلف بالقشر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مر البيض الى الرحم و منه الى الخارج عن طريق الثقب التناسلي الانثو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ضع ش.هيماتوبيوم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بيضة في اليوم، بينما تضع ش.مانسوني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2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بيضة في اليوم.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chist-4"/>
          <p:cNvPicPr/>
          <p:nvPr/>
        </p:nvPicPr>
        <p:blipFill>
          <a:blip r:embed="rId1"/>
          <a:stretch/>
        </p:blipFill>
        <p:spPr>
          <a:xfrm>
            <a:off x="1941480" y="1197000"/>
            <a:ext cx="5654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دورة الحيا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مكان وضع البيض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ضع ش. هيماتوبيوم البيض في الاوردة الصغيرة في جدار المثان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تضع ش.مانسوناي البيض في الاوردة الصغيرة في المساريقا حول جدار الامعاء الغليظ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طريقة وضع البيض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مد الانثى مقدمة جسمها و هي في قناة الاحتضان لتضع البيض واحدة تلو الاخرى حيث ترتد قليلا الى الخلف بعد وضع كل بيض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780000" y="259920"/>
            <a:ext cx="49752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طريق مرور البيضة الى الخارج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فرز الميراسيديوم داخل البيضة مواد تذيب الانسجة لتساعد البيضة على اختراق جدار الاوعية الدموية في جدار المثانة او الامعاء الغليظ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صل بذلك البيضة الى تجاويف تلك الاعضاء لتخرج الى خارج الجسم مع البول او البرا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تمييز البيضة في النوعي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بيضة ش.هيماتوبيوم لها شوكة طرف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terminal sp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بيضة ش.مانسوناي لها شوكة جانب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lateral sp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7" name="Picture 4" descr="Schist-5"/>
          <p:cNvPicPr/>
          <p:nvPr/>
        </p:nvPicPr>
        <p:blipFill>
          <a:blip r:embed="rId1"/>
          <a:srcRect l="49008" t="54087" r="7907" b="7718"/>
          <a:stretch/>
        </p:blipFill>
        <p:spPr>
          <a:xfrm>
            <a:off x="250920" y="26028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فقس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عند خروج البيضة من الجسم تكون محتوية على ميراسيديوم كامل النمو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فقس البيض فور وصوله الى الماء العذب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تحكم بعملية الفقس عدة عوامل اهمها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درجة الحرارة: المثلى هي 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°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ضو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سبح الميراسيديوم في الماء باحثا عن العائل المتوسط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5400" y="5875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عندما يصاب الانسان بهذه الديدان تسبب له الاصابة بمرض البلهارسيا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bilharziasi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عدد المصابين به في العالم اكثر من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0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مليون نسم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نتشر في المناطق الاستوائية و شبه الاستوائي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قدر عدد المصابين به في مصر بنحو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مليون مصر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995280" y="6318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ميراسيديوم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شبه مثيله في الديدان الكبدية الا انه اصغر قليلا و ليس له بقعتان عينيتان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عيش في الماء لفترة بين 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24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36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ساعة يموت بعدها ان لم يعثر على القوقع المناسب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4" descr="Schist-5"/>
          <p:cNvPicPr/>
          <p:nvPr/>
        </p:nvPicPr>
        <p:blipFill>
          <a:blip r:embed="rId1"/>
          <a:srcRect l="53933" t="22274" r="0" b="47493"/>
          <a:stretch/>
        </p:blipFill>
        <p:spPr>
          <a:xfrm>
            <a:off x="395280" y="63180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2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عائل المتوسط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وجد نوعان من العوائل المتوسطة لشيستوسوما في مصر من قواقع الماء العذب عديمة الاغطية هما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ش. هيماتوبيوم: بولينس ترنكاتس </a:t>
            </a:r>
            <a:r>
              <a:rPr b="0" i="1" lang="en-GB" sz="2800" spc="-1" strike="noStrike">
                <a:solidFill>
                  <a:srgbClr val="eaeaea"/>
                </a:solidFill>
                <a:latin typeface="Times New Roman"/>
              </a:rPr>
              <a:t>Bulinus truncat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 صدفة كروية، يسارية الالتفاف يزيد ارتفاعها عن عرضه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ش.مانسوني: بيومفلاريا الكسندرينا</a:t>
            </a:r>
            <a:r>
              <a:rPr b="0" i="1" lang="ar-SA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eaeaea"/>
                </a:solidFill>
                <a:latin typeface="Times New Roman"/>
              </a:rPr>
              <a:t>Biomphalaria alexandr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 صدفة قرصية يمينية الالتفاف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2" name="Picture 4" descr="Schist-7"/>
          <p:cNvPicPr/>
          <p:nvPr/>
        </p:nvPicPr>
        <p:blipFill>
          <a:blip r:embed="rId1"/>
          <a:srcRect l="0" t="76994" r="0" b="0"/>
          <a:stretch/>
        </p:blipFill>
        <p:spPr>
          <a:xfrm>
            <a:off x="3056040" y="4541760"/>
            <a:ext cx="37432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780000" y="260280"/>
            <a:ext cx="5046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عندما يعثر الميراسيديوم على القوقع المناسب يخترق انسجته و يفقد اهدابه و يحول الى كيس بوغي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porocyst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كيس البوغ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sporocyst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تكاثر الخلايا المنبتة فيه لا جنسيا لتعطي جيلا آخر من الاكياس البوغية تعرف بالاكياس البوغية البنو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aughter sporocysts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4" descr="Schist-6"/>
          <p:cNvPicPr/>
          <p:nvPr/>
        </p:nvPicPr>
        <p:blipFill>
          <a:blip r:embed="rId1"/>
          <a:stretch/>
        </p:blipFill>
        <p:spPr>
          <a:xfrm>
            <a:off x="611280" y="476280"/>
            <a:ext cx="3173400" cy="29415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7"/>
          <p:cNvSpPr/>
          <p:nvPr/>
        </p:nvSpPr>
        <p:spPr>
          <a:xfrm>
            <a:off x="395280" y="5013360"/>
            <a:ext cx="8353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</a:rPr>
              <a:t>الاكياس البوغية البنوية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daughter sporocysts</a:t>
            </a:r>
            <a:r>
              <a:rPr b="1" lang="ar-SA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3240" indent="-188640" algn="r" rtl="1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Arial"/>
              </a:rPr>
              <a:t> تخرج عن طريق ثقب الولادة لتهاجر الى الغدة الهضمية للقوق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3240" indent="-188640" algn="r" rtl="1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Arial"/>
              </a:rPr>
              <a:t> تتكاثر الخلايا المنبتة فيها لا جنسيا لتعطي السركاريا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64960" indent="-264960" algn="r" rtl="1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سركاريا </a:t>
            </a:r>
            <a:r>
              <a:rPr b="0" lang="en-GB" sz="3600" spc="-1" strike="noStrike">
                <a:solidFill>
                  <a:srgbClr val="00ff00"/>
                </a:solidFill>
                <a:latin typeface="Times New Roman"/>
              </a:rPr>
              <a:t>Cercaria</a:t>
            </a: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عتقد ان الميراسيديوم الواحد ينتج ما يزيد عن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0،0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سركاريا في القوق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وقت الذي يستغرقه تكوين السركاريا منذ اختراق الميراسيديوم لانسجة القوقع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سابي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درجة الحرارة المثلى لتكوين السركاريا ه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26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°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ركيب السركاريا يشبه مثيله في سركاريا الفاشيولا فيما عدا انها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ا ذيل مشقو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ا اربعة ازواج من الخلايا اللهبية تفتح كل منها في انيبيبة اخراجية اولية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211280" y="404640"/>
            <a:ext cx="4614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يمتد من المثانة قناة اخراجية في الذيل لتفتح الى الخارج بفتحتين اخراجيتيتن عند نهايتي شعبتي الذيل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لها خمسة ازواج من الغدد الثاقبة تصب افرازاتها على حافة الممص الفم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بمجرد خروج السركاريا الى الماء تسبح الى الاعلى و الاسفل حتى تجد العائل النهائي و هو الانسا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عيش السركاريا لفترة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36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8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ساعة تموت بعدها اذا لم تعثر على العائل النهائ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4" descr="Schist-5"/>
          <p:cNvPicPr/>
          <p:nvPr/>
        </p:nvPicPr>
        <p:blipFill>
          <a:blip r:embed="rId1"/>
          <a:srcRect l="0" t="10172" r="44298" b="0"/>
          <a:stretch/>
        </p:blipFill>
        <p:spPr>
          <a:xfrm>
            <a:off x="539640" y="189000"/>
            <a:ext cx="3673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80316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لصق السركاريا نفسها ببشرة جلد الانسان (في الاجزاء الرخوة من جسمه) و تذيب انسجة طبقات الجلد بفعل الانزيمات الهاضمة التي تفرزها غددها حتى تصل الى طبقة الادم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ستغرق عملية الاختراق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دقيق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عندما تخترق جلد العائل، فان السركاريا تترك ذيلها خارج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سمى الدودة الصغيرة الشيستوسوميولا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chistosomula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شيستوسوميولا </a:t>
            </a:r>
            <a:r>
              <a:rPr b="0" lang="en-GB" sz="3600" spc="-1" strike="noStrike">
                <a:solidFill>
                  <a:srgbClr val="00ff00"/>
                </a:solidFill>
                <a:latin typeface="Times New Roman"/>
              </a:rPr>
              <a:t>schistosomula</a:t>
            </a: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خترق الدودة الادمة لتصل الى الاوعية اللمفاوية و الاوعية الدموية ثم القلب فالرئتين خلال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يا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بعد بضعة ايام تصل الديدان الصغيرة الى الكبد بعد اختراقها لانسجة الرئة الى التجويف البللوري ثم اختراق الحجاب الحاجز لتصل الى الاوعية الدموية بالكبد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م النضج الجنسي بعد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سابي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ديدان البالغة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لا تنضج الانثى الا بعد ان تصل الى قناة الاحتضان في الذكر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رك الذكر و الانثى الكبد و يتحركان معا ضد تيار الدم حتى يصلا الى الاوردة المساريقية او اوردة الضفيرة المثانية تبعا للنو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صل المدة بين دخول الشيستوسوميولا لجسم العائل حتى بداية ظهور البيض في البول او البراز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4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6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يو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تضح ظاهرة تعاقب الاجيال في دورة حياة الشيستوسوم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Schist-3"/>
          <p:cNvPicPr/>
          <p:nvPr/>
        </p:nvPicPr>
        <p:blipFill>
          <a:blip r:embed="rId1"/>
          <a:stretch/>
        </p:blipFill>
        <p:spPr>
          <a:xfrm>
            <a:off x="2590920" y="620640"/>
            <a:ext cx="441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وجد اربعة انواع من ديدان شيستوسوما التي تصيب الانسان اهمها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شيستوسوما هيماتوبيوم </a:t>
            </a:r>
            <a:r>
              <a:rPr b="0" i="1" lang="en-GB" sz="2800" spc="-1" strike="noStrike">
                <a:solidFill>
                  <a:srgbClr val="00ff00"/>
                </a:solidFill>
                <a:latin typeface="Times New Roman"/>
              </a:rPr>
              <a:t>Schistosoma haematobi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عيش في الاوردة المثانية و تسبب مرض ”بلهارسيا المجاري البولية“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شيستوسوما مانسوناي </a:t>
            </a:r>
            <a:r>
              <a:rPr b="0" i="1" lang="en-GB" sz="2800" spc="-1" strike="noStrike">
                <a:solidFill>
                  <a:srgbClr val="00ff00"/>
                </a:solidFill>
                <a:latin typeface="Times New Roman"/>
              </a:rPr>
              <a:t>Schistosoma manson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شيستوسوما جابونيكم </a:t>
            </a:r>
            <a:r>
              <a:rPr b="0" lang="en-GB" sz="2800" spc="-1" strike="noStrike">
                <a:solidFill>
                  <a:srgbClr val="00ff00"/>
                </a:solidFill>
                <a:latin typeface="Times New Roman"/>
              </a:rPr>
              <a:t>Schistosoma japonicu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يعيش النوعان الاخيران في الاوردة المساريقية فيسببان ”البلهارسيا المعوية“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ife cycl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dult worm passing eg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gg into fresh water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rcaria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miracidia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enetrate into the body of the sn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(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ntermediate host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)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fe0404"/>
                </a:solidFill>
                <a:latin typeface="Times New Roman"/>
              </a:rPr>
              <a:t>oncomelania</a:t>
            </a:r>
            <a:r>
              <a:rPr b="1" lang="en-US" sz="2800" spc="-1" strike="noStrike">
                <a:solidFill>
                  <a:srgbClr val="fe0404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6095880" y="2590920"/>
            <a:ext cx="1143000" cy="45720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 flipV="1">
            <a:off x="2057400" y="2590920"/>
            <a:ext cx="1219320" cy="83808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 flipH="1">
            <a:off x="6171840" y="4419720"/>
            <a:ext cx="1066680" cy="53316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6781680" y="3429000"/>
            <a:ext cx="0" cy="68580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 flipH="1" flipV="1">
            <a:off x="2057400" y="3962160"/>
            <a:ext cx="990720" cy="990360"/>
          </a:xfrm>
          <a:prstGeom prst="line">
            <a:avLst/>
          </a:prstGeom>
          <a:ln w="76320">
            <a:solidFill>
              <a:srgbClr val="fe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علاقة بين العائل و الطفيلي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901"/>
              </a:spcBef>
              <a:buClr>
                <a:srgbClr val="ff0066"/>
              </a:buClr>
              <a:buSzPct val="115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تأثير البلهارسيا على العائل المتوسط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تج الميراسيديوم الواحد حوالي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00،000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سركاريا حيث يؤثر هذا العدد الهائل من الاطوار اليرقية على حيوية القوقع و قدرته على التكاثر و بالتالي على حياته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901"/>
              </a:spcBef>
              <a:buClr>
                <a:srgbClr val="ccecff"/>
              </a:buClr>
              <a:buSzPct val="115000"/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ff"/>
                </a:solidFill>
                <a:latin typeface="Times New Roman"/>
              </a:rPr>
              <a:t>تأثير البلهارسيا على العائل النهائي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ستغرق مرض البلهارسيا وقتا طويلا قبل ان تظهر اعراضه على العائل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64040" indent="-464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توقف التغيرات المرضية المصاحبة للمرض على كثافة الاصابة و عمرها و نوع الطفيلي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لآثار المرضية المصاحبة للمرض في مراحله المختلفه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مرحلة اختراق الجلد و نضج الديدان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شمل الفترة منذ اختراق السركاريا لجلد الانسان حتى وصول الديدان الصغيرة الى الكبد و نضجها الجنسي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imes New Roman"/>
              </a:rPr>
              <a:t>مرحلة الاصابة المستقرة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بدأ بوضع البيض و خروجه من الجسم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تتميز المرحلتان بـ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تفاعلات النسيجية و تكوين صبغ البلهارسيا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r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نزف الموضعي في الانسجة التي يمر خلالها البيض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just" rtl="1">
              <a:spcBef>
                <a:spcPts val="799"/>
              </a:spcBef>
              <a:buClr>
                <a:srgbClr val="00ff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مرحلة الاصابة المزمنة (التغيرات غير المنعكسة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just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تكوين انسجة ليفية حول البيض في انسجة الاعضاء البولية التناسلية او الامعاء او في الكبد و الرئتين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447920" indent="-533520" algn="just" rtl="1">
              <a:spcBef>
                <a:spcPts val="601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التأثيرات الضارة في حالة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905120" indent="-533520" algn="just" rtl="1"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66"/>
                </a:solidFill>
                <a:latin typeface="Times New Roman"/>
              </a:rPr>
              <a:t>ش.مانسوني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: تتركز في الامعاء و الكبد و الطحال و الرئتين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905120" indent="-533520" algn="just" rtl="1">
              <a:spcBef>
                <a:spcPts val="601"/>
              </a:spcBef>
              <a:buClr>
                <a:srgbClr val="00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66"/>
                </a:solidFill>
                <a:latin typeface="Times New Roman"/>
              </a:rPr>
              <a:t>ش.هيماتوبيوم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</a:rPr>
              <a:t>: تتركز في المثانة البولية و الحالبين و الكليتين و الاعضاء التناسلية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928440"/>
            <a:ext cx="6540480" cy="64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Life Cycle of </a:t>
            </a:r>
            <a:r>
              <a:rPr b="0" i="1" lang="en-US" sz="3600" spc="-1" strike="noStrike">
                <a:solidFill>
                  <a:srgbClr val="ccecff"/>
                </a:solidFill>
                <a:latin typeface="Times New Roman"/>
              </a:rPr>
              <a:t>Schistosoma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spp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4" descr="schistosoma_lifecycle"/>
          <p:cNvPicPr/>
          <p:nvPr/>
        </p:nvPicPr>
        <p:blipFill>
          <a:blip r:embed="rId1"/>
          <a:stretch/>
        </p:blipFill>
        <p:spPr>
          <a:xfrm>
            <a:off x="1371600" y="0"/>
            <a:ext cx="6777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3635280" y="5157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5</a:t>
            </a: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－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30</a:t>
            </a:r>
            <a:r>
              <a:rPr b="0" lang="en-US" sz="1000" spc="-1" strike="noStrike">
                <a:solidFill>
                  <a:srgbClr val="eaeaea"/>
                </a:solidFill>
                <a:latin typeface="SimSun"/>
              </a:rPr>
              <a:t>℃</a:t>
            </a:r>
            <a:r>
              <a:rPr b="0" lang="zh-CN" sz="1000" spc="-1" strike="noStrike">
                <a:solidFill>
                  <a:srgbClr val="eaeaea"/>
                </a:solidFill>
                <a:latin typeface="SimSun"/>
              </a:rPr>
              <a:t>毛蚴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6516720" y="472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－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eaeaea"/>
                </a:solidFill>
                <a:latin typeface="Arial"/>
              </a:rPr>
              <a:t>周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4" descr="Schistosoma life cycle"/>
          <p:cNvPicPr/>
          <p:nvPr/>
        </p:nvPicPr>
        <p:blipFill>
          <a:blip r:embed="rId1"/>
          <a:stretch/>
        </p:blipFill>
        <p:spPr>
          <a:xfrm>
            <a:off x="1523880" y="0"/>
            <a:ext cx="636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90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</a:rPr>
              <a:t>شيستوسوما هيماتوبيوم و شيستوسوما مانسوناي </a:t>
            </a:r>
            <a:r>
              <a:rPr b="1" i="1" lang="en-GB" sz="3600" spc="-1" strike="noStrike">
                <a:solidFill>
                  <a:srgbClr val="ccecff"/>
                </a:solidFill>
                <a:latin typeface="Times New Roman"/>
              </a:rPr>
              <a:t>Schistosoma haematobium and S.mansoni</a:t>
            </a:r>
            <a:r>
              <a:rPr b="1" i="1" lang="en-GB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01880" y="1620720"/>
            <a:ext cx="73864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تشر النوعان في مصر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شكل الخارجي: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ذكر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قصير مفلطح طوله بين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م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نثني جانبا الجسم تجاه الناحية البطنية خلف الممص البطني لتكوين قناة الاحتضان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gynaecophoric canal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وجد على جسمه العديد من الدرنات الصغيرة التي تحمل حلمات حس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Schist-2"/>
          <p:cNvPicPr/>
          <p:nvPr/>
        </p:nvPicPr>
        <p:blipFill>
          <a:blip r:embed="rId1"/>
          <a:stretch/>
        </p:blipFill>
        <p:spPr>
          <a:xfrm>
            <a:off x="2050920" y="1268280"/>
            <a:ext cx="4992840" cy="3834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"/>
          <p:cNvSpPr/>
          <p:nvPr/>
        </p:nvSpPr>
        <p:spPr>
          <a:xfrm>
            <a:off x="684360" y="19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ffff"/>
                </a:solidFill>
                <a:latin typeface="Times New Roman"/>
                <a:cs typeface="Times New Roman"/>
              </a:rPr>
              <a:t>دودة البلهارسيا (شيستوسوما هيماتوبيوم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ff00"/>
                </a:solidFill>
                <a:latin typeface="Times New Roman"/>
              </a:rPr>
              <a:t>الانثى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ff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اطول من الذكر (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18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مم)، جسمها اسطواني رفيع املس لا توجد عليه درنات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وجد في الجزء الامامي ممصان هما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فمي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oral sucker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بطني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ventral sucker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(الاكبر) و هذه الممصات اقوى في الذكر عنها في الانثى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وجد 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فتحات على جسم الدودة هي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الفم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mouth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عند الطرف الامام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الفتحة التناسلية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genital opening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خلف الممص البطني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 algn="r" rtl="1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الثقب الاخراجي 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excretory pore</a:t>
            </a: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 عند النهاية الخلفية للجس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جهاز الهضمي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ؤدي فتحة الفم الى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مرئ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oesophagau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 لا يوجد بلعو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حاط المرئ بخلايا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الغدة المريئية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oesophageal gland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فرع المرئ امام الممص البطني الى ردبين معويين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intestinal caeca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حد الردبين المعويين بالقرب من الطرف الخلفي لتكوين ردب معوي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intestinal caecum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واحد ينتهي مسدودا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يستوسوما مانسوناي يتحد الردبان المعويان عند نهاية الثلث الامامي من الجس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3880" indent="-239760" algn="r" rtl="1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Times New Roman"/>
              </a:rPr>
              <a:t>في شيستوسوما هيماتوبيوم يتحد الردبان المعويان عند نهاية الثلث الاوسط من الجس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Schist-1"/>
          <p:cNvPicPr/>
          <p:nvPr/>
        </p:nvPicPr>
        <p:blipFill>
          <a:blip r:embed="rId1"/>
          <a:stretch/>
        </p:blipFill>
        <p:spPr>
          <a:xfrm>
            <a:off x="2916360" y="981000"/>
            <a:ext cx="3957480" cy="5577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755640" y="13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ffff"/>
                </a:solidFill>
                <a:latin typeface="Times New Roman"/>
                <a:cs typeface="Times New Roman"/>
              </a:rPr>
              <a:t>مكان اتحاد الردبين االمعويين في شيستوسوما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Times New Roman"/>
              </a:rPr>
              <a:t>الاغتذاء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بتلع شيستوسوما دم العائل الغني بالاحماض الامينية و الكربوهيدرات البسيطة عن طريق الف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هضم الدم في الامعاء و يمتص كما يحدث في فاشيول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يتخلف عن الهيوغلوبين غير في الامعاء مواد بنية داكنة تعرف </a:t>
            </a:r>
            <a:r>
              <a:rPr b="0" lang="ar-SA" sz="3200" spc="-1" strike="noStrike">
                <a:solidFill>
                  <a:srgbClr val="00ff00"/>
                </a:solidFill>
                <a:latin typeface="Times New Roman"/>
              </a:rPr>
              <a:t>بصبغ البلهارسيا </a:t>
            </a:r>
            <a:r>
              <a:rPr b="0" lang="en-GB" sz="3200" spc="-1" strike="noStrike">
                <a:solidFill>
                  <a:srgbClr val="00ff00"/>
                </a:solidFill>
                <a:latin typeface="Times New Roman"/>
              </a:rPr>
              <a:t>bilharzia pigments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التي تطرد من الفم الى الد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تتغذى الديدان على بعض الاحماض الامينية و السكريات الموجودة في الدم ايضا عن طريق الرشف خلال طبقة الاهاب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18:01:45Z</dcterms:created>
  <dc:creator>hp</dc:creator>
  <dc:description/>
  <dc:language>en-US</dc:language>
  <cp:lastModifiedBy>hp</cp:lastModifiedBy>
  <dcterms:modified xsi:type="dcterms:W3CDTF">2012-11-06T00:53:04Z</dcterms:modified>
  <cp:revision>11</cp:revision>
  <dc:subject/>
  <dc:title>شيستوسوما (البلهارسيا)  Schistosoma</dc:title>
</cp:coreProperties>
</file>